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04C-2BE5-43FF-ACEA-51F5DB02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E53-399D-4AE4-BC16-E78E3DE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9A4-235C-4CD0-B4F1-3468C26E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B84-7A5B-4B1B-B931-B079BA18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B6F-4F2B-4819-99E5-1332290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563-6EF9-42E7-ADED-0375DB1E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B6E-9B24-44D0-B1A1-989ACA8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DC5-682D-4346-8473-0301FEA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1C0-5C7F-4258-949C-A0F31CD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028-28B1-4C07-8C90-65D9D5E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8B0-E590-46C1-AA12-2E8D8F0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BBB-7F62-47DA-86D5-70C8F0F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pyright Enrique Fowler New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8A9-4398-4368-BCEC-1E76E99FE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E82-0F93-46A9-B2A3-F82483FB530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Arial"/>
              </a:rPr>
              <a:t>Efectos del ajuste por inflación sobre los saldos por </a:t>
            </a:r>
            <a:br>
              <a:rPr sz="4400"/>
            </a:br>
            <a:r>
              <a:rPr b="0" lang="es-ES_tradnl" sz="4400" spc="-1" strike="noStrike">
                <a:solidFill>
                  <a:srgbClr val="ffff66"/>
                </a:solidFill>
                <a:latin typeface="Arial"/>
              </a:rPr>
              <a:t>impuestos difer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Enrique Fowler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9 de agosto d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B57D-28CE-4EF3-8A76-44067F0991F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terminación de activos y pasivos (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Procedimiento general (..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i la base impositiva supera a la medida contable y el efecto financiero es “probabl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e reconoce un activo por impuesto dife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e calcula su importe nominal, aplicando la tasa del impuesto al importe de las diferencias tempor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Puede optarse por su descuento (no admitido por CNV e IG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49F-2CEE-453B-A250-FD8BE66264B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terminación de activos y pasivos (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Excepciones al procedimiento gene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No se reconocen activos y pasivos por “diferencias temporarias” originad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Plusvalías (valores lla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l reconocimiento inicial de activos o pasivos (no incorporados en combinaciones) que a la fecha de la transacción no generan resultados contables ni im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6B77-46B3-4012-ADE4-532D54557AE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 sin ajustes impos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Generan un pasivo por impuesto diferido nacido en hechos ya ocurri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Inflación del pa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ctitud gubernamental, que reduce la base impositiva (en moneda homogéne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ceptación de la actitud gubernam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4DB-FD4B-481C-9D45-47FC0142F7E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8f8f8"/>
                </a:solidFill>
                <a:latin typeface="Arial"/>
              </a:rPr>
              <a:t>Normas </a:t>
            </a: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internacio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a NIC 12 pone el caso entre los ejemplos de orígenes de hechos que causan diferencias temporales imponibles (anexo A, punto 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CF4-7E2E-4AFD-AE28-4DCF6714A16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8f8f8"/>
                </a:solidFill>
                <a:latin typeface="Arial"/>
              </a:rPr>
              <a:t>Normas </a:t>
            </a: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estadouniden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f8f8f8"/>
                </a:solidFill>
                <a:latin typeface="Arial"/>
              </a:rPr>
              <a:t>EITF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 93-9 indica expresamente que las diferencias temporarias deben calcularse entre los importes contables ajustados por inflación y los imposi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E9F-0575-4930-AD15-089D26C35DF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Res. M. D. 11/03 del CPCECA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l efecto de los ajustes sobre las depreciaciones de los </a:t>
            </a:r>
            <a:r>
              <a:rPr b="0" lang="es-ES_tradnl" sz="2800" spc="-1" strike="noStrike" u="sng">
                <a:solidFill>
                  <a:srgbClr val="f8f8f8"/>
                </a:solidFill>
                <a:uFillTx/>
                <a:latin typeface="Arial"/>
              </a:rPr>
              <a:t>bienes de uso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 no es diferencia tempor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¿Y los otros bie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¿Y los bienes de uso que no se depreci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3F3D-FDBF-4038-BF8D-0B14DC0E077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Fundamento” de la res. M. D. 11/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No hay cambio de criterio de medición contable (“valuación”) sino de unidad de me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s irrelevante porque no encuadra en las excepciones previstas por la RT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s inconsistente con los conceptos de </a:t>
            </a:r>
            <a:r>
              <a:rPr b="0" i="1" lang="es-ES_tradnl" sz="2400" spc="-1" strike="noStrike">
                <a:solidFill>
                  <a:srgbClr val="f8f8f8"/>
                </a:solidFill>
                <a:latin typeface="Arial"/>
              </a:rPr>
              <a:t>activo</a:t>
            </a: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f8f8f8"/>
                </a:solidFill>
                <a:latin typeface="Arial"/>
              </a:rPr>
              <a:t>pasivo</a:t>
            </a: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 que contiene el marco concep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A31-24DC-4697-99C7-C8083D18158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Aplicación de la norma del CPCECA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ntes de comparar con las bases impositivas, de las mediciones contables hay que excluir los ajustes por inf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¿También para los bienes adquiridos antes de abril de 1992? (podría dar lugar al registro de 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3A5-A054-413A-B986-44A314A381D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Efectos de la norma del CPCECA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osterga el reconocimiento de resultados devengados, como si se aplicara el MID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fecta comparabilidad entre em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bulta patrimonios y resultados acumul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E420-6CDF-4251-A690-E3D36706BDA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Interpretación 3 ori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Hay una “diferencia temporari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Debe reconocerse un pasivo por impuesto difer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7518-51F9-44F2-91B7-791A227CF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favor, mantener apagados los teléfon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AF33-1B49-4472-942B-334AF1D39BD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Agregado a la interpretación 3 (res. 312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e admite el criterio de omitir el pasivo si ya venía siendo aplicado porque alguna norma contable lo permit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 este caso, informar el pasivo omitido y otr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615-4FD9-4D75-BB32-5410D18AC3E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Res. C. D. 93/05 del CPCECAB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dopta la res.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Vigenc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 general, para ejercicios iniciados desde 2006 (se admite la aplicación anticip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La obligación de informar el pasivo omitido recién tiene vigencia en 2008 (no se prevé la aplicación anticip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F1E2-ED0D-40E9-9F21-F0B21AC1DD5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justes contables de bienes de uso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Res. 487 de la CN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dopta la res.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No permite la omisión de la información sobre el pasivo omit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0A1-4227-46E7-A53E-4EA9F6F9215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Elementos a conside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8195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En la contabil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Deben reconocerse activos y pasivos por impuestos diferidos, empleando el método basado en el estado de situación (</a:t>
            </a:r>
            <a:r>
              <a:rPr b="0" i="1" lang="es-ES_tradnl" sz="2800" spc="-1" strike="noStrike">
                <a:solidFill>
                  <a:srgbClr val="f8f8f8"/>
                </a:solidFill>
                <a:latin typeface="Arial"/>
              </a:rPr>
              <a:t>MIDBES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Deben reconocerse los efectos de la inflación de ciertos perí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45F-FA2B-430A-8EA2-1A7A1D5C2D2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Elementos a conside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Para el impuesto a las gananc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a ley prevé ajustes par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ólo se consideran las variaciones del IPM hasta marzo de 1992 (ley 24.073, 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egún la AFIP, en los ajustes debe eliminarse “el efecto de la inflació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650-E9B6-40E8-82E4-28D9D1CFE75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Elementos a conside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Respuestas de los contribuy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ceptar la situación (supuesto que utilizarem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fectuar presentaciones jud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fectuar algún tipo de ajuste por inf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l de la ley 20.628 u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BF7-A50A-46F0-A9FA-BA2E82B6C85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Situaciones posi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H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justes por inflación contables pero no imposi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justes impositivos pero no con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Ajustes de los dos tipos pero por importes disti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BF1-2FB7-49F5-A4D6-4B236E2598B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terminación de activos y pasivos por impuestos difer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Procedimiento general según el MID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e calculan las bases impositiva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e las compara con sus medidas con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Las diferencias resultantes de la comparación se consideran “temporari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DFE8-9399-4D6C-A2C7-6C3E284036C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terminación de activos y pasivos...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Las diferencias entre las bases impositivas y contables de los activos y pasivos pueden surgir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Diferencias entre resultados impositivos y contables del pa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Otros hechos del pasado con efect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A226-B501-4FEB-8AB7-7DAC0CF4FE0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terminación de activos y pasivos (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Arial"/>
              </a:rPr>
              <a:t>Procedimiento general (..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i la base impositiva es inferior a la medida con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e reconoce un pasivo por impuesto dife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e calcula su importe nominal, aplicando la tasa del impuesto al importe de las diferencias tempor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Puede optarse por su descuento (no admitido por CNV e IG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3:44:13Z</dcterms:created>
  <dc:creator>Enrique Fowler Newton</dc:creator>
  <dc:description/>
  <dc:language>en-US</dc:language>
  <cp:lastModifiedBy>EFN</cp:lastModifiedBy>
  <dcterms:modified xsi:type="dcterms:W3CDTF">2006-07-31T18:36:56Z</dcterms:modified>
  <cp:revision>9</cp:revision>
  <dc:subject/>
  <dc:title>Efectos del ajuste por inflación sobre el método de impuesto diferido</dc:title>
</cp:coreProperties>
</file>