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3523-0387-455D-86FF-2FD404491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D092-8D97-4E1A-B2B0-245AE229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86F5-7937-40CF-A3A7-C82C18429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348F-4FC3-4363-8EBA-787FF9444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243D-5782-4AED-8765-935A03A9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6A8C-129E-49E5-AA0D-2531C7DF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2D0F-F45E-45ED-99E7-2AC7CB83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E370-8883-4331-94F9-22F0ABA9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C528-5D22-4BA9-86B0-E5C96FE4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BB66-8B30-46ED-B2F3-CFEBC46D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3235-CD8F-4DA1-B235-E394B3AD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7EAF-78AF-436C-A12D-91D6746F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7CDC-9E7E-4E95-9396-909323CA5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2637000"/>
            <a:ext cx="822348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La Economía Argentina:</a:t>
            </a:r>
            <a:br>
              <a:rPr sz="4400"/>
            </a:br>
            <a:r>
              <a:rPr b="1" lang="es-MX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Desafíos de Corto y Largo Plazo </a:t>
            </a:r>
            <a:br>
              <a:rPr sz="4400"/>
            </a:br>
            <a:r>
              <a:rPr b="1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osé María Fanelli</a:t>
            </a:r>
            <a:r>
              <a:rPr b="1" lang="es-MX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000"/>
            </a:br>
            <a:r>
              <a:rPr b="1" lang="es-MX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838080" y="228600"/>
            <a:ext cx="80010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533520" y="304920"/>
            <a:ext cx="8001000" cy="6172200"/>
            <a:chOff x="533520" y="304920"/>
            <a:chExt cx="8001000" cy="6172200"/>
          </a:xfrm>
        </p:grpSpPr>
        <p:sp>
          <p:nvSpPr>
            <p:cNvPr id="112" name=""/>
            <p:cNvSpPr/>
            <p:nvPr/>
          </p:nvSpPr>
          <p:spPr>
            <a:xfrm>
              <a:off x="533520" y="304920"/>
              <a:ext cx="8001000" cy="6172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1219320" y="609480"/>
              <a:ext cx="7315200" cy="537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609480" y="457200"/>
            <a:ext cx="8001000" cy="6172200"/>
            <a:chOff x="609480" y="457200"/>
            <a:chExt cx="8001000" cy="6172200"/>
          </a:xfrm>
        </p:grpSpPr>
        <p:sp>
          <p:nvSpPr>
            <p:cNvPr id="115" name=""/>
            <p:cNvSpPr/>
            <p:nvPr/>
          </p:nvSpPr>
          <p:spPr>
            <a:xfrm>
              <a:off x="609480" y="457200"/>
              <a:ext cx="8001000" cy="6172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990720" y="762120"/>
              <a:ext cx="7238880" cy="5592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La Economía después de la Crisis:</a:t>
            </a:r>
            <a:br>
              <a:rPr sz="4400"/>
            </a:br>
            <a:r>
              <a:rPr b="1" lang="es-MX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l Nuevo Régimen de Políticas</a:t>
            </a:r>
            <a:br>
              <a:rPr sz="4400"/>
            </a:br>
            <a:br>
              <a:rPr sz="4000"/>
            </a:br>
            <a:r>
              <a:rPr b="1" lang="es-MX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8674200" cy="61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55640" y="765000"/>
            <a:ext cx="7870680" cy="56674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700360" y="260280"/>
            <a:ext cx="49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igación de la Dominancia Fis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55640" y="620640"/>
            <a:ext cx="7561440" cy="5676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132000" y="260280"/>
            <a:ext cx="49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ÍTICA FlS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55640" y="763560"/>
            <a:ext cx="7488360" cy="5689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700360" y="260280"/>
            <a:ext cx="49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igación de la Dominancia Ext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7507080" cy="55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¿Cómo pensar el largo plazo? </a:t>
            </a:r>
            <a:br>
              <a:rPr sz="4400"/>
            </a:br>
            <a:br>
              <a:rPr sz="4000"/>
            </a:br>
            <a:r>
              <a:rPr b="1" lang="es-MX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685800"/>
            <a:ext cx="83818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5400"/>
            </a:br>
            <a:r>
              <a:rPr b="1" lang="es-MX" sz="4400" spc="-1" strike="noStrike">
                <a:solidFill>
                  <a:srgbClr val="333399"/>
                </a:solidFill>
                <a:latin typeface="Arial"/>
                <a:ea typeface="Times New Roman"/>
              </a:rPr>
              <a:t>Muchas Gracias!!</a:t>
            </a:r>
            <a:br>
              <a:rPr sz="2000"/>
            </a:br>
            <a:br>
              <a:rPr sz="2000"/>
            </a:br>
            <a:r>
              <a:rPr b="1" i="1" lang="es-MX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José María Fanelli</a:t>
            </a:r>
            <a:br>
              <a:rPr sz="2800"/>
            </a:br>
            <a:br>
              <a:rPr sz="2800"/>
            </a:br>
            <a:br>
              <a:rPr sz="3200"/>
            </a:br>
            <a:r>
              <a:rPr b="1" lang="es-MX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4038480"/>
            <a:ext cx="845820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3124080"/>
            <a:ext cx="2133720" cy="12193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re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5181480"/>
            <a:ext cx="1676160" cy="7621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nversión  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apital Fís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5181480"/>
            <a:ext cx="1828800" cy="7621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nversión 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Hum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3505320"/>
            <a:ext cx="2057400" cy="7617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rofund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5181480"/>
            <a:ext cx="1828800" cy="7621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nversión  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onoc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10280" y="3505320"/>
            <a:ext cx="1828800" cy="7617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Est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croeconóm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752480" y="3962520"/>
            <a:ext cx="1905120" cy="1218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72428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5790960" y="3962520"/>
            <a:ext cx="1904760" cy="1218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38862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5791320" y="388620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676520"/>
            <a:ext cx="2057400" cy="76176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rodu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24280" y="24382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9920" y="1523880"/>
            <a:ext cx="2819160" cy="457200"/>
          </a:xfrm>
          <a:custGeom>
            <a:avLst/>
            <a:gdLst>
              <a:gd name="textAreaLeft" fmla="*/ 493200 w 2819160"/>
              <a:gd name="textAreaRight" fmla="*/ 2044080 w 281916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1600200"/>
            <a:ext cx="2819520" cy="380880"/>
          </a:xfrm>
          <a:custGeom>
            <a:avLst/>
            <a:gdLst>
              <a:gd name="textAreaLeft" fmla="*/ 493200 w 2819520"/>
              <a:gd name="textAreaRight" fmla="*/ 2044080 w 281952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1981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serción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Inter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olíticas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  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380880"/>
            <a:ext cx="2057400" cy="762120"/>
          </a:xfrm>
          <a:prstGeom prst="rect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mpeti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724280" y="11430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44197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I       N     S     T     I     T     U     C     I     O     N    E  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1143000"/>
            <a:ext cx="78487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143000"/>
            <a:ext cx="0" cy="419112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458200" y="1143000"/>
            <a:ext cx="0" cy="419112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1143000"/>
            <a:ext cx="0" cy="419112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1143000"/>
            <a:ext cx="0" cy="419112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143000"/>
            <a:ext cx="0" cy="419112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10280" y="1143000"/>
            <a:ext cx="0" cy="419112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57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Regímenes Internacionales e Instituciones de Coord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981080"/>
            <a:ext cx="78487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62920" y="121932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M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1219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utarqu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121932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atrón 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21932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Bretton W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2743200"/>
            <a:ext cx="78487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3581280"/>
            <a:ext cx="78487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5334120"/>
            <a:ext cx="78487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4419720"/>
            <a:ext cx="78487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98560" y="2347920"/>
            <a:ext cx="1235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2819520"/>
            <a:ext cx="165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égi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ambi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2057400"/>
            <a:ext cx="165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ovimi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e Ca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3581280"/>
            <a:ext cx="1652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Evolución d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omercio Intern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41972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ecanismos de Coordinación Intern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83320" y="21574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S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68520" y="215748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44640" y="215748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5320" y="21574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S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29718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Heterodox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29718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Fi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62720" y="297180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Fi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86600" y="281952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Flotación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U. Monetaria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V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38098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Muy Bu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38098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Muy Bu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10280" y="38098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Muy Bu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38098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M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4572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Falla de Coordin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45720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utomá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No Cooper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457200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IFIs-GA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lgo Cooper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34320" y="457200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IFIs-OMC-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lgo Cooper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057400" y="0"/>
            <a:ext cx="487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entine Growth Under Different International Reg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La Economía después de la Crisis:</a:t>
            </a:r>
            <a:br>
              <a:rPr sz="4400"/>
            </a:br>
            <a:r>
              <a:rPr b="1" lang="es-MX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La Recuperación </a:t>
            </a:r>
            <a:br>
              <a:rPr sz="4400"/>
            </a:br>
            <a:br>
              <a:rPr sz="4000"/>
            </a:br>
            <a:r>
              <a:rPr b="1" lang="es-MX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6320" y="304920"/>
            <a:ext cx="87264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79250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do Comercial y Entrada de Capita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9800" y="692280"/>
            <a:ext cx="8674200" cy="59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18:40:49Z</dcterms:created>
  <dc:creator>ralbrieu</dc:creator>
  <dc:description/>
  <dc:language>en-US</dc:language>
  <cp:lastModifiedBy>C.P.C.E.C.A.B.A.</cp:lastModifiedBy>
  <cp:lastPrinted>2006-08-09T19:33:25Z</cp:lastPrinted>
  <dcterms:modified xsi:type="dcterms:W3CDTF">2006-08-09T19:56:58Z</dcterms:modified>
  <cp:revision>132</cp:revision>
  <dc:subject/>
  <dc:title>PRESENTACION</dc:title>
</cp:coreProperties>
</file>