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907588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958B-BFB9-4C5B-82D5-9F0A07658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7280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1A58-DE51-4437-B642-5DBF9738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8740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7280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8740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23DB-B687-49F0-8EB8-D8A5979BB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2004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766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72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2004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766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99B0-A796-4C85-B5A1-DE50D2F45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9835-FE57-43C7-84F8-7E28549EB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81C9-5F64-47BB-A07A-1D28220D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EB75C-312B-4280-993B-11B15E07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8740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BF25-FBF1-4E0C-9C3D-1D1020C7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122B-B51D-4732-A437-5ED8FA6F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72800" y="4568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BE775-722E-411C-818C-6132E84E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8740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7280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91E4-02EF-4E31-97F1-ABB4901F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EDC6-2DB4-428C-A038-72199487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8740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8740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6DC1-7FC9-489A-A0DA-649FBA3D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8740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7280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0B19D-C9D7-4937-ABF7-4477F758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7280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FAACE-A0D2-476E-A4EC-62071E1C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8740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7280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8740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D19A-7FF4-4B59-B0DD-BC2AD1C23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2004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766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72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92004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766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A000-68F7-4786-999F-B32FCFBDC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3CD9-2B24-41F1-87E1-33C38B23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8740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C47B-8A3D-4D93-AFBB-81382394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A087-328E-4573-B9AE-DA251CD0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72800" y="4568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DDAE-C5AC-46E7-AC81-15D2BB18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740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7280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0071-E328-4685-B6EA-1C039AF0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8740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8740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6535-630B-42DA-A347-AFE53445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8740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7280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76F9-4BA7-4A98-89B7-77BC3CA7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612000" cy="6858000"/>
            <a:chOff x="0" y="0"/>
            <a:chExt cx="9612000" cy="6858000"/>
          </a:xfrm>
        </p:grpSpPr>
        <p:sp>
          <p:nvSpPr>
            <p:cNvPr id="1" name=""/>
            <p:cNvSpPr/>
            <p:nvPr/>
          </p:nvSpPr>
          <p:spPr>
            <a:xfrm>
              <a:off x="577800" y="237960"/>
              <a:ext cx="903420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1523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00520" y="1600200"/>
              <a:ext cx="839304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72800" y="60958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714480" y="60958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429680" y="60958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945D-DCE9-4E22-A791-FE84587E85D2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612000" cy="6858000"/>
            <a:chOff x="0" y="0"/>
            <a:chExt cx="9612000" cy="6858000"/>
          </a:xfrm>
        </p:grpSpPr>
        <p:sp>
          <p:nvSpPr>
            <p:cNvPr id="46" name=""/>
            <p:cNvSpPr/>
            <p:nvPr/>
          </p:nvSpPr>
          <p:spPr>
            <a:xfrm>
              <a:off x="577800" y="237960"/>
              <a:ext cx="903420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1523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1925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1042560" y="61009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684600" y="61009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7399440" y="61009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7BDD-D954-4F38-A884-F992579E0821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560" y="1925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6633"/>
                </a:solidFill>
                <a:latin typeface="Times New Roman"/>
              </a:rPr>
              <a:t>NORMAS LEGALES VIGENTES SOBRE REGISTRACION CONTABL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85960" y="37386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08366"/>
                </a:solidFill>
                <a:latin typeface="Times New Roman"/>
              </a:rPr>
              <a:t>RESOLUCION 7/05 IGJ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08366"/>
                </a:solidFill>
                <a:latin typeface="Times New Roman"/>
              </a:rPr>
              <a:t>Jorge R. Escobar                                 Agosto 2006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996633"/>
                </a:solidFill>
                <a:latin typeface="Times New Roman"/>
              </a:rPr>
              <a:t>INSPECCION GENERAL DE JUSTICIA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2000"/>
                </a:solidFill>
                <a:latin typeface="Times New Roman"/>
              </a:rPr>
              <a:t>REFORMAS INTRODUCIDAS POR LA RES. 7/05 (SOBRE LA PRESENTACION DEL SISTEMA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RESOLUCION DEL DIRECTORIO SOBRE LA SOLICITUD DE INSCRIPCION DEL NUEVO SISTEMA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FLUJOGRAMA DEL CIRCUITO ADMINISTRATIVO CONTABL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SISTEMA Y PERIODICIDAD DE LA NUMERACION DE LOS REGISTROS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NOMINA DE LOS LIBROS Y REGISTROS AUTORIZADOS A LA FECHA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MODELOS EN BLANCO POR DUPLICADO Y UNO EJEMPLIFICATIVO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PLAN DE CUENTA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996633"/>
                </a:solidFill>
                <a:latin typeface="Times New Roman"/>
              </a:rPr>
              <a:t>INSPECCION GENERAL DE JUSTICIA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REFORMAS INTRODUCIDAS POR LA RES. 7/05 (SOBRE LA PRESENTACION DE HOJAS MOVILES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2000"/>
                </a:solidFill>
                <a:latin typeface="Times New Roman"/>
              </a:rPr>
              <a:t>LA IMPRESIÓN DEBERA SER NITIDA CON TINTA INDELEBLE Y EN PAPEL CONSISTENT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2000"/>
                </a:solidFill>
                <a:latin typeface="Times New Roman"/>
              </a:rPr>
              <a:t>EN EL ENCABEZAMIENTO DE LAS HOJAS MOVILES DEBERA CONSTAR EL NOMBRE DE LA SOCIEDAD, DEL REGISTRO Y EL PERÍODO QUE CORRESPONDE (NO DICE NADA DEL DOMICILIO LEGAL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2000"/>
                </a:solidFill>
                <a:latin typeface="Times New Roman"/>
              </a:rPr>
              <a:t>LA NUMERACION DE LAS PAGINAS SERÁ DEL 1 EN ADELANTE A PARTIR DEL COMIENZO DEL EJERCICIO Y DEBE ENCUADERNARSE CADA 500 FOLIOS O POR EJERCICIO, LO QUE OCURRA PRIMERO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AR" sz="1600" spc="-1" strike="noStrike">
                <a:solidFill>
                  <a:srgbClr val="402000"/>
                </a:solidFill>
                <a:latin typeface="Times New Roman"/>
              </a:rPr>
              <a:t>EN LA PRIMERA PAGINA DEL ENCUADERNADO FIGURARA: NOMBRE DE LA SOCIEDAD, DEL REGISTRO, PERIODO QUE CORRESPONDE, CANTIDAD DE PAGINAS Y ESTAR FIRMADO POR EL REPRESENTANTE LEGAL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996633"/>
                </a:solidFill>
                <a:latin typeface="Times New Roman"/>
              </a:rPr>
              <a:t>INSPECCION GENERAL DE JUSTICIA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2000"/>
                </a:solidFill>
                <a:latin typeface="Times New Roman"/>
              </a:rPr>
              <a:t>REFORMAS INTRODUCIDAS POR LA RES. 7/05 (SOBRE LA PRESENTACION DE COMPACT Y DISCOS OPTICOS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NUMERAR LOS ELEMENTOS CORRELATIVAMENTE DESDE EL NUMERO 1, POR REGISTRO Y POR EJERCICIO ECONOMIC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402000"/>
                </a:solidFill>
                <a:latin typeface="Times New Roman"/>
              </a:rPr>
              <a:t>LA INFORMACION NO PODRA SER ELIMINADA NI REESCRITA, DEBIENDO PODERSE LEER LA CANTIDAD DE VECES NECESARIAS SIN DETERIORO ALGUNO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402000"/>
                </a:solidFill>
                <a:latin typeface="Times New Roman"/>
              </a:rPr>
              <a:t>LOS MEDIOS DEBEN CUMPLIR CON PATRONES DE CALIDAD QUE IMPIDAN CUALQUIER ALTERACION Y PERMITAN SU CONSERVACION POR EL PERIODO LEGAL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996633"/>
                </a:solidFill>
                <a:latin typeface="Times New Roman"/>
              </a:rPr>
              <a:t>INSPECCION GENERAL DE JUSTICIA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2000"/>
                </a:solidFill>
                <a:latin typeface="Times New Roman"/>
              </a:rPr>
              <a:t>REFORMAS INTRODUCIDAS POR LA RES. 7/05 (SOBRE LA PRESENTACION DE COMPACT Y DISCOS OPTICOS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402000"/>
                </a:solidFill>
                <a:latin typeface="Times New Roman"/>
              </a:rPr>
              <a:t>LA EMISION DEL SOPORTE DEBE SER UNA OPERATORIA HABITUAL, DEBIENDO HABER NORMAS ESCRITAS APROBADAS POR EL DIRECTORIO Y TRANSCRIPTAS EN EL LIBRO INV. Y BALANCES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EL ORGANO DE FISCALIZACION TRIMESTRALMENTE VERIFICARA EL CUMPLIMIENTO DE ESTAS NOMAS Y EMITIRA UN INFORME ESPECIAL QUE SE VOLCARA AL LIBRO INV. Y BALANCE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996633"/>
                </a:solidFill>
                <a:latin typeface="Times New Roman"/>
              </a:rPr>
              <a:t>INSPECCION GENERAL DE JUSTICIA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2000"/>
                </a:solidFill>
                <a:latin typeface="Times New Roman"/>
              </a:rPr>
              <a:t>REFORMAS INTRODUCIDAS POR LA RES. 7/05 (INFORMACION ANUAL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402000"/>
                </a:solidFill>
                <a:latin typeface="Times New Roman"/>
              </a:rPr>
              <a:t>CERTIFICACION ANUAL A PRESENTAR A LA IGJ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402000"/>
                </a:solidFill>
                <a:latin typeface="Times New Roman"/>
              </a:rPr>
              <a:t>SE CERTIFICARA SOBRE EL SISTEMA UTILIZADO Y SU CONCORDANCIA CON EL APROBADO POR LA IGJ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402000"/>
                </a:solidFill>
                <a:latin typeface="Times New Roman"/>
              </a:rPr>
              <a:t>LA CERTIFICACION SE AGREGARA AL LIBRO INV. Y BALANCES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996633"/>
                </a:solidFill>
                <a:latin typeface="Times New Roman"/>
              </a:rPr>
              <a:t>INSPECCION GENERAL DE JUSTICIA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402000"/>
                </a:solidFill>
                <a:latin typeface="Times New Roman"/>
              </a:rPr>
              <a:t>REFORMAS INTRODUCIDAS POR LA RES. 7/05 (INFORMACION ACTUALIZ. TECNICA)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02000"/>
                </a:solidFill>
                <a:latin typeface="Times New Roman"/>
              </a:rPr>
              <a:t>INFORME TECNICO CADA DOS AÑOS SOBRE LA OBSOLESCENCIA DEL SISTEMA UTILIZADO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02000"/>
                </a:solidFill>
                <a:latin typeface="Times New Roman"/>
              </a:rPr>
              <a:t>PROYECTO DE ACTUALIZACION TECNICA EN SU CASO, REQUIRIENDO NUEVA AUTORIZAC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CONCLUSION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PLENA VIGENCIA DE LOS ART. 43, 44, 53, 56, 61 DEL CODIGO DE COMERCI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SEGÚN ART. 61 L.S.C. SE PUEDEN PRESCINDIR DE LAS FORMALIDADES DEL ART. 53 DEL CODIGO DE COMERCIO, SUSTITUYENDOLAS POR ORDENADORES,  MEDIOS MECANICOS , MAGNETICOS U OTROS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SE EXCEPTUA EL LIBRO INVENTARIOS Y BALANCE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POR RES. 7/05 IGJ SE ESTABLECEN LOS REQUISITOS PARA EMITIR LA AUTORIZACION DEL SISTEMA PARA SOCIEDADES, ASOCIACIONES Y FUNDACIONE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POR ULTIMO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LOS MEDIOS NO TRADICIONALES DE REGISTRACION TIENEN SUFICIENTE SUSTENTO LEGAL PARA SU USO INTENSIV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LOS LIBROS RUBRICADOS PUEDEN SER REEMPLAZADOS POR LISTADOS DE COMPUTADOR, MICROFILMS Y SOPORTES MAGNETICOS U OTRO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EXISTE UN VARIADA Y DISPERSA NORMATIVA DE APLICACIÓN NO UNIFORM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HAY UNA NECESIDAD DE UNA LEY NACIONAL DE REGISTRACION CONTABLE, ACORDE CON LA NUEVA TECNOLOGI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6633"/>
                </a:solidFill>
                <a:latin typeface="Times New Roman"/>
              </a:rPr>
              <a:t>REGIMEN NORMATIVO BASICO VIGENTE EN MATERIA DE MEDIOS DE REGISTRACION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ODIGO DE COMERCIO (ART. 43 A 67 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LEY DE SOCIEDADES COMERCIALES (ART. 61 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96633"/>
                </a:solidFill>
                <a:latin typeface="Times New Roman"/>
              </a:rPr>
              <a:t>NORMAS REGLAMENTARIAS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SOCIEDADES: ART. 280 AL 287 DEL TITULO II, LIBRO IV DE LA RES. 7/05 IGJ     ART. 83 Y 84 RES. 6/80 IGJ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96633"/>
                </a:solidFill>
                <a:latin typeface="Times New Roman"/>
              </a:rPr>
              <a:t>CODIGO DE COMERCIO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CARACTERISTICAS MAS SALIENTES DE LA REFORMA DEL AÑO 1963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MANTENER UNA CONTABILIDAD ORGANIZADA Y SOBRE BASES UNIFORMES (ART. 43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LLEVAR UN SISTEMA DE CONTABILIDAD SEGUN LA IMPORTANCIA Y LA NATURALEZA DE SUS ACTIVIDADES (ART. 44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SE REDUCE EL PLAZO DE CONSERVACION DE LOS LIBROS Y DOCUMENTACION A 10 AÑOS (ART.. 67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96633"/>
                </a:solidFill>
                <a:latin typeface="Times New Roman"/>
              </a:rPr>
              <a:t>LEY SE SOCIEDADES COMERCIALES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CARACTERISTICAS ART. 61 LEY 19.550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MEDIOS NO TRADICIONALES DE REGISTRACION (ORDENADORES, MEDIOS MECANICOS, MAGNETICOS U OTROS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AUTORIZACION POR AUTORIDAD OFICIAL DE CONTRO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SOLICITUD DE AUTORIZACION AUTOMATICAMENTE APROBADA EN LOS 30 DIAS DE PRESENTAD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96633"/>
                </a:solidFill>
                <a:latin typeface="Times New Roman"/>
              </a:rPr>
              <a:t>LEY SE SOCIEDADES COMERCIALES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CARACTERISTICAS ART. 61 LEY 19.550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SE PERMITE ASIENTOS GLOBALES NO MAYORES A UN ME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PRESINDENCIA DE TODOS LOS LIBROS SALVO EL DE “INVENTARIOS Y BALANCES”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LA PETICION  INCLUIRA UNA “ADECUADA DESCRIPCION DEL SISTEMA” Y DEBERA TRANSCRIBIRSE  EN EL LIBRO “INVENTARIOS Y BALANCES”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996633"/>
                </a:solidFill>
                <a:latin typeface="Times New Roman"/>
              </a:rPr>
              <a:t>INSPECCION GENERAL DE JUSTICIA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2000"/>
                </a:solidFill>
                <a:latin typeface="Times New Roman"/>
              </a:rPr>
              <a:t>REQUISITOS DE LA PRESENTACION ART. 61 LSC ( Ex ART.83 RG 6/80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EXPOSICION AMPLIA DEL SISTEMA A AUTORIZAR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EXPLICAR MODIFICACION PROPUESTA Y DIFERENCIAS CON EL SISTEMA ANTERIOR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DISIGNACION DEL LIBRO O REGISTRO NUEVO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DEMOSTRACION TECNICA DEL GRADO DE INALTERABILIDAD DE LAS REGISTRACIONES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DEMOSTRACION DE QUE SE PERMITE LA INDIVIDUALIZACION DE OPERACIONES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996633"/>
                </a:solidFill>
                <a:latin typeface="Times New Roman"/>
              </a:rPr>
              <a:t>INSPECCION GENERAL DE JUSTICIA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2000"/>
                </a:solidFill>
                <a:latin typeface="Times New Roman"/>
              </a:rPr>
              <a:t>SISTEMAS ACEPTABLES (Ex ART.84 RG 6/80) - NO ERA REQUERIDO POR LA IGJ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LA INFORMACION SE VUELCA EN PAPEL CONSISTENTE (2O GR.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UTILIZANDO TINTA INDELEBLE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CON PROCEDIMIENTO DE MAQUINAS DE CONTABILIDAD DE REGISTRO DIRECTO, UNITARIO O COMPUTADORAS ELECTRONICAS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LA IGJ HABILITARA LAS HOJAS LUEGO DE PASAR LAS ANOTACIONES.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280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996633"/>
                </a:solidFill>
                <a:latin typeface="Times New Roman"/>
              </a:rPr>
              <a:t>INSPECCION GENERAL DE JUSTICIA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7280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2000"/>
                </a:solidFill>
                <a:latin typeface="Times New Roman"/>
              </a:rPr>
              <a:t>REFORMAS INTRODUCIDAS POR LA RES. 7/05 (DE ORDEN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DEFINE QUE ES UN SISTEMA DE REGISTRO CONTABLE.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DEFINE CON EXACTITUD QUE ELEMENTOS SE TRANSCRIBE EN EL LIBRO INVENTARIOS Y BALANCES.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DETERMINA QUE EL NUEVO SISTEMA NO PUEDE UTILIZARSE ANTES DE SU APROBACION POR IGJ.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7T14:52:33Z</dcterms:created>
  <dc:creator>Iglesias &amp; Asociados</dc:creator>
  <dc:description/>
  <dc:language>en-US</dc:language>
  <cp:lastModifiedBy>Congresos y Eventos</cp:lastModifiedBy>
  <cp:lastPrinted>2001-08-08T22:34:17Z</cp:lastPrinted>
  <dcterms:modified xsi:type="dcterms:W3CDTF">2006-07-26T15:13:10Z</dcterms:modified>
  <cp:revision>46</cp:revision>
  <dc:subject/>
  <dc:title>LOS REGISTROS CONTABLES EN EL PROYECTO DE CODIGO CIVIL UNIFICADO</dc:title>
</cp:coreProperties>
</file>