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4280" y="151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4280" y="1422000"/>
            <a:ext cx="85377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4280" y="3827880"/>
            <a:ext cx="85377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4280" y="151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4280" y="1422000"/>
            <a:ext cx="416628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9360" y="1422000"/>
            <a:ext cx="416628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4280" y="3827880"/>
            <a:ext cx="416628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9360" y="3827880"/>
            <a:ext cx="416628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4280" y="151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4280" y="1422000"/>
            <a:ext cx="27489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1120" y="1422000"/>
            <a:ext cx="27489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87960" y="1422000"/>
            <a:ext cx="27489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4280" y="3827880"/>
            <a:ext cx="27489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1120" y="3827880"/>
            <a:ext cx="27489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87960" y="3827880"/>
            <a:ext cx="27489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4280" y="151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14280" y="1422000"/>
            <a:ext cx="8537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4280" y="151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4280" y="1422000"/>
            <a:ext cx="853776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4280" y="151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14280" y="1422000"/>
            <a:ext cx="416628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9360" y="1422000"/>
            <a:ext cx="416628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4280" y="151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c204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14280" y="151920"/>
            <a:ext cx="8537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4280" y="151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14280" y="1422000"/>
            <a:ext cx="416628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9360" y="1422000"/>
            <a:ext cx="416628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4280" y="3827880"/>
            <a:ext cx="416628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4280" y="151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4280" y="1422000"/>
            <a:ext cx="8537760" cy="460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4280" y="151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14280" y="1422000"/>
            <a:ext cx="416628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9360" y="1422000"/>
            <a:ext cx="416628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9360" y="3827880"/>
            <a:ext cx="416628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4280" y="151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14280" y="1422000"/>
            <a:ext cx="416628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9360" y="1422000"/>
            <a:ext cx="416628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14280" y="3827880"/>
            <a:ext cx="85377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4280" y="151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14280" y="1422000"/>
            <a:ext cx="85377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14280" y="3827880"/>
            <a:ext cx="85377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4280" y="151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14280" y="1422000"/>
            <a:ext cx="416628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9360" y="1422000"/>
            <a:ext cx="416628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14280" y="3827880"/>
            <a:ext cx="416628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9360" y="3827880"/>
            <a:ext cx="416628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4280" y="151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14280" y="1422000"/>
            <a:ext cx="27489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01120" y="1422000"/>
            <a:ext cx="27489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87960" y="1422000"/>
            <a:ext cx="27489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14280" y="3827880"/>
            <a:ext cx="27489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01120" y="3827880"/>
            <a:ext cx="27489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87960" y="3827880"/>
            <a:ext cx="27489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4280" y="151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4280" y="1422000"/>
            <a:ext cx="853776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4280" y="151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4280" y="1422000"/>
            <a:ext cx="416628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9360" y="1422000"/>
            <a:ext cx="416628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4280" y="151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c204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4280" y="151920"/>
            <a:ext cx="8537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4280" y="151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4280" y="1422000"/>
            <a:ext cx="416628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9360" y="1422000"/>
            <a:ext cx="416628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4280" y="3827880"/>
            <a:ext cx="416628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4280" y="151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4280" y="1422000"/>
            <a:ext cx="416628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9360" y="1422000"/>
            <a:ext cx="416628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9360" y="3827880"/>
            <a:ext cx="416628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4280" y="151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4280" y="1422000"/>
            <a:ext cx="416628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9360" y="1422000"/>
            <a:ext cx="416628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4280" y="3827880"/>
            <a:ext cx="8537760" cy="21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b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4280" y="151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c204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4280" y="1422000"/>
            <a:ext cx="853776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fdc2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dc2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058080"/>
            <a:ext cx="9142560" cy="40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55920" y="6105600"/>
            <a:ext cx="615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8FE3A-46DB-477A-A8C7-7636399BAC5C}" type="slidenum">
              <a:rPr b="1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b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rcRect l="0" t="23443" r="0" b="0"/>
          <a:stretch/>
        </p:blipFill>
        <p:spPr>
          <a:xfrm>
            <a:off x="0" y="0"/>
            <a:ext cx="9144000" cy="31114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41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dc204"/>
                </a:solidFill>
                <a:latin typeface="Arial Narrow"/>
              </a:rPr>
              <a:t>Click to edit the title text format</a:t>
            </a:r>
            <a:endParaRPr b="1" lang="en-US" sz="46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dc20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dc204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dc204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b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452760"/>
            <a:ext cx="792504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fdc204"/>
                </a:solidFill>
                <a:latin typeface="Arial Narrow"/>
              </a:rPr>
              <a:t>Implicancias contables y societarias de las últimas </a:t>
            </a:r>
            <a:br>
              <a:rPr sz="4600"/>
            </a:br>
            <a:r>
              <a:rPr b="1" lang="es-ES_tradnl" sz="4600" spc="-1" strike="noStrike">
                <a:solidFill>
                  <a:srgbClr val="fdc204"/>
                </a:solidFill>
                <a:latin typeface="Arial Narrow"/>
              </a:rPr>
              <a:t>normas de la IGJ </a:t>
            </a:r>
            <a:endParaRPr b="1" lang="en-US" sz="46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80" name=""/>
          <p:cNvSpPr/>
          <p:nvPr/>
        </p:nvSpPr>
        <p:spPr>
          <a:xfrm>
            <a:off x="343080" y="5657760"/>
            <a:ext cx="842004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73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Arial Narrow"/>
              </a:rPr>
              <a:t>Oscar Albor                                       Agosto 10, 2006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b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9800" y="306000"/>
            <a:ext cx="818064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dc204"/>
                </a:solidFill>
                <a:latin typeface="Arial Narrow"/>
              </a:rPr>
              <a:t>Aportes irrevocables</a:t>
            </a:r>
            <a:br>
              <a:rPr sz="3200"/>
            </a:br>
            <a:r>
              <a:rPr b="1" lang="es-ES_tradnl" sz="3200" spc="-1" strike="noStrike">
                <a:solidFill>
                  <a:srgbClr val="fdc204"/>
                </a:solidFill>
                <a:latin typeface="Arial Narrow"/>
              </a:rPr>
              <a:t>Requisitos societarios de la IGJ</a:t>
            </a:r>
            <a:endParaRPr b="1" lang="en-US" sz="32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438120" y="1943280"/>
            <a:ext cx="2743200" cy="274320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es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lida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por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rrevoc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1981080"/>
            <a:ext cx="5257800" cy="340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asivo (crédito subordinado) cua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480" indent="-347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se hubiera aprobado el aumento de capital o por cualquier otra causa, 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480" indent="-34776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AutoNum type="alphaLcParenR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ya vencido el plazo para la celebración de la Asamblea que debe tratar el correspondiente aumen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samblea extraordinaria y publicación de  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visos por oposición de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ta a los estados contables cuando la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titución haya quedado exped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b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14280" y="0"/>
            <a:ext cx="85377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dc204"/>
                </a:solidFill>
                <a:latin typeface="Arial Narrow"/>
              </a:rPr>
              <a:t>Aportes irrevocables</a:t>
            </a:r>
            <a:br>
              <a:rPr sz="4000"/>
            </a:br>
            <a:r>
              <a:rPr b="1" lang="es-AR" sz="3600" spc="-1" strike="noStrike">
                <a:solidFill>
                  <a:srgbClr val="fdc204"/>
                </a:solidFill>
                <a:latin typeface="Arial Narrow"/>
              </a:rPr>
              <a:t>Requisitos societarios de la IGJ</a:t>
            </a:r>
            <a:endParaRPr b="1" lang="en-US" sz="36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14280" y="1422000"/>
            <a:ext cx="853776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recisa las estipulaciones mínimas que debe contener el acuerdo escrito entre sociedad y aport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Forman parte del concepto de capital para aplicar arts. 31,  94 y 206 LS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Devolución del ajuste de los aportes irrevocables: poco claro, se desprendería que no está permit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onsideraciones en los casos de no capitalización de los aportes dentro del plazo de 180 dí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b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3920" y="151920"/>
            <a:ext cx="8518680" cy="14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dc204"/>
                </a:solidFill>
                <a:latin typeface="Arial Narrow"/>
              </a:rPr>
              <a:t>Entidades sin fines de lucro</a:t>
            </a:r>
            <a:br>
              <a:rPr sz="3200"/>
            </a:br>
            <a:r>
              <a:rPr b="1" lang="es-AR" sz="3200" spc="-1" strike="noStrike">
                <a:solidFill>
                  <a:srgbClr val="fdc204"/>
                </a:solidFill>
                <a:latin typeface="Arial Narrow"/>
              </a:rPr>
              <a:t>Dispensas en la aplicación de nc profesionales</a:t>
            </a:r>
            <a:endParaRPr b="1" lang="en-US" sz="32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95200" y="3060360"/>
            <a:ext cx="853776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301680">
              <a:lnSpc>
                <a:spcPct val="90000"/>
              </a:lnSpc>
              <a:spcBef>
                <a:spcPts val="601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No será obligatoria la presentación del EOAF ni de los estados contables compara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301680">
              <a:lnSpc>
                <a:spcPct val="90000"/>
              </a:lnSpc>
              <a:spcBef>
                <a:spcPts val="601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Su aplicación implicaría apartamiento de las nc profes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1847880"/>
            <a:ext cx="8458200" cy="127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440" y="1969920"/>
            <a:ext cx="7758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Asociaciones civiles y Fundaciones cuyos activos o recursos no superen $1.000.000 y $500.000, respectiv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b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4280" y="151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dc204"/>
                </a:solidFill>
                <a:latin typeface="Arial Narrow"/>
              </a:rPr>
              <a:t>Otros temas contables</a:t>
            </a:r>
            <a:br>
              <a:rPr sz="4000"/>
            </a:br>
            <a:r>
              <a:rPr b="1" lang="es-AR" sz="4000" spc="-1" strike="noStrike">
                <a:solidFill>
                  <a:srgbClr val="fdc204"/>
                </a:solidFill>
                <a:latin typeface="Arial Narrow"/>
              </a:rPr>
              <a:t>Nuevos revalúos técnicos</a:t>
            </a:r>
            <a:endParaRPr b="1" lang="en-US" sz="40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95200" y="1669680"/>
            <a:ext cx="853776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234720">
              <a:lnSpc>
                <a:spcPct val="80000"/>
              </a:lnSpc>
              <a:spcBef>
                <a:spcPts val="601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rohibición de contabilizar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6560" indent="-234720">
              <a:lnSpc>
                <a:spcPct val="80000"/>
              </a:lnSpc>
              <a:spcBef>
                <a:spcPts val="601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No deben revertirse los saldos de revalúos anteri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6560" indent="-234720">
              <a:lnSpc>
                <a:spcPct val="80000"/>
              </a:lnSpc>
              <a:spcBef>
                <a:spcPts val="601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osibilidad de exponerlos  en nota a los estados contables bajo ciertas condi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6560" indent="-234720">
              <a:lnSpc>
                <a:spcPct val="80000"/>
              </a:lnSpc>
              <a:spcBef>
                <a:spcPts val="601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Desafectación de las reservas por revalúos anteriores en función al consumo de los bienes que le dieron ori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6560" indent="-234720">
              <a:lnSpc>
                <a:spcPct val="80000"/>
              </a:lnSpc>
              <a:spcBef>
                <a:spcPts val="601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osibilidad de absorber pérdidas acumul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b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4280" y="151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dc204"/>
                </a:solidFill>
                <a:latin typeface="Arial Narrow"/>
              </a:rPr>
              <a:t>Vigencia de las normas contables</a:t>
            </a:r>
            <a:endParaRPr b="1" lang="en-US" sz="44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121" name=""/>
          <p:cNvSpPr/>
          <p:nvPr/>
        </p:nvSpPr>
        <p:spPr>
          <a:xfrm>
            <a:off x="787320" y="1866960"/>
            <a:ext cx="2909880" cy="893880"/>
          </a:xfrm>
          <a:prstGeom prst="rect">
            <a:avLst/>
          </a:prstGeom>
          <a:gradFill rotWithShape="0">
            <a:gsLst>
              <a:gs pos="0">
                <a:srgbClr val="657e7e"/>
              </a:gs>
              <a:gs pos="50000">
                <a:srgbClr val="ccffff"/>
              </a:gs>
              <a:gs pos="100000">
                <a:srgbClr val="657e7e"/>
              </a:gs>
            </a:gsLst>
            <a:lin ang="13500000"/>
          </a:gradFill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Narrow"/>
              </a:rPr>
              <a:t>Vigencia General del Texto Orde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43440" y="2087640"/>
            <a:ext cx="652320" cy="523800"/>
          </a:xfrm>
          <a:prstGeom prst="rightArrow">
            <a:avLst>
              <a:gd name="adj1" fmla="val 50000"/>
              <a:gd name="adj2" fmla="val 31146"/>
            </a:avLst>
          </a:prstGeom>
          <a:gradFill rotWithShape="0">
            <a:gsLst>
              <a:gs pos="0">
                <a:srgbClr val="657e7e"/>
              </a:gs>
              <a:gs pos="100000">
                <a:srgbClr val="cc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5240" y="2048040"/>
            <a:ext cx="382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 Narrow"/>
              </a:rPr>
              <a:t>A partir del 21 de febrero de 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6400" y="3733920"/>
            <a:ext cx="2908440" cy="1179360"/>
          </a:xfrm>
          <a:prstGeom prst="rect">
            <a:avLst/>
          </a:prstGeom>
          <a:gradFill rotWithShape="0">
            <a:gsLst>
              <a:gs pos="0">
                <a:srgbClr val="657e7e"/>
              </a:gs>
              <a:gs pos="50000">
                <a:srgbClr val="ccffff"/>
              </a:gs>
              <a:gs pos="100000">
                <a:srgbClr val="657e7e"/>
              </a:gs>
            </a:gsLst>
            <a:lin ang="13500000"/>
          </a:gradFill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Narrow"/>
              </a:rPr>
              <a:t>Vigencia para preparación de estados con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86480" y="4341960"/>
            <a:ext cx="377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080" indent="-1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 Narrow"/>
              </a:rPr>
              <a:t>La establecida por el CPCECABA para cada n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87720" y="3941640"/>
            <a:ext cx="576360" cy="524160"/>
          </a:xfrm>
          <a:prstGeom prst="rightArrow">
            <a:avLst>
              <a:gd name="adj1" fmla="val 50000"/>
              <a:gd name="adj2" fmla="val 27500"/>
            </a:avLst>
          </a:prstGeom>
          <a:gradFill rotWithShape="0">
            <a:gsLst>
              <a:gs pos="0">
                <a:srgbClr val="657e7e"/>
              </a:gs>
              <a:gs pos="100000">
                <a:srgbClr val="cc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98920" y="3867120"/>
            <a:ext cx="3765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648320" y="388620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 u="sng">
                <a:solidFill>
                  <a:srgbClr val="ffffff"/>
                </a:solidFill>
                <a:uFillTx/>
                <a:latin typeface="Arial Narrow"/>
              </a:rPr>
              <a:t>Interpretación</a:t>
            </a:r>
            <a:r>
              <a:rPr b="0" lang="es-AR" sz="2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b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4280" y="151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dc204"/>
                </a:solidFill>
                <a:latin typeface="Arial Narrow"/>
              </a:rPr>
              <a:t>Otros temas contables</a:t>
            </a:r>
            <a:br>
              <a:rPr sz="2800"/>
            </a:br>
            <a:r>
              <a:rPr b="1" lang="es-AR" sz="2800" spc="-1" strike="noStrike">
                <a:solidFill>
                  <a:srgbClr val="fdc204"/>
                </a:solidFill>
                <a:latin typeface="Arial Narrow"/>
              </a:rPr>
              <a:t>Presentación de estados contables y documentación relacionada mediante soportes magnéticos (RG 11/05)</a:t>
            </a:r>
            <a:endParaRPr b="1" lang="en-US" sz="28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95200" y="1669680"/>
            <a:ext cx="853776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234720">
              <a:spcBef>
                <a:spcPts val="499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Alcanza sólo a sociedades por acciones NO comprendidas en el art. 299 L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6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6560" indent="-234720">
              <a:spcBef>
                <a:spcPts val="499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La presentación en papel se reemplaza por “diskettes” o “compact disc” generados mediante el programa aplicativo provisto por la IGJ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6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6560" indent="-234720">
              <a:spcBef>
                <a:spcPts val="499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Debe presentarse declaración jurada de la sociedad y certificación contable sobre dicha inform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6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6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0080" y="4630680"/>
            <a:ext cx="2757600" cy="1217520"/>
          </a:xfrm>
          <a:prstGeom prst="rect">
            <a:avLst/>
          </a:prstGeom>
          <a:gradFill rotWithShape="0">
            <a:gsLst>
              <a:gs pos="0">
                <a:srgbClr val="657e7e"/>
              </a:gs>
              <a:gs pos="50000">
                <a:srgbClr val="ccffff"/>
              </a:gs>
              <a:gs pos="100000">
                <a:srgbClr val="657e7e"/>
              </a:gs>
            </a:gsLst>
            <a:lin ang="13500000"/>
          </a:gradFill>
          <a:ln w="1260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 Narrow"/>
              </a:rPr>
              <a:t>Vig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625920" y="4845960"/>
            <a:ext cx="671400" cy="809640"/>
          </a:xfrm>
          <a:prstGeom prst="rightArrow">
            <a:avLst>
              <a:gd name="adj1" fmla="val 50000"/>
              <a:gd name="adj2" fmla="val 25009"/>
            </a:avLst>
          </a:prstGeom>
          <a:gradFill rotWithShape="0">
            <a:gsLst>
              <a:gs pos="0">
                <a:srgbClr val="657e7e"/>
              </a:gs>
              <a:gs pos="100000">
                <a:srgbClr val="cc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rot="10800000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 rot="10800000">
            <a:off x="4327200" y="4671720"/>
            <a:ext cx="38797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 Narrow"/>
              </a:rPr>
              <a:t>EC cerrados a partir del 31 de mayo de 2006 que se presenten con posterioridad al 30/6/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b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4280" y="151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fdc204"/>
                </a:solidFill>
                <a:latin typeface="Arial Narrow"/>
              </a:rPr>
              <a:t>Cuestiones de auditoría</a:t>
            </a:r>
            <a:endParaRPr b="1" lang="en-US" sz="48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14280" y="1174320"/>
            <a:ext cx="85377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3880" indent="-263880">
              <a:lnSpc>
                <a:spcPct val="80000"/>
              </a:lnSpc>
              <a:spcBef>
                <a:spcPts val="649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La IGJ requiere auditoría de los estados contables de 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dc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Todas las sociedades por ac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dc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SRLs con capital superior a $10.00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dc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Sucursales y representaciones de sociedades extranje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dc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Asociaciones civiles y fund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649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Arial"/>
              </a:rPr>
              <a:t>Refuerza dicho requisito indicando que 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dc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El informe de auditoria debe contener opinión sobre los estados cont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-339480">
              <a:lnSpc>
                <a:spcPct val="80000"/>
              </a:lnSpc>
              <a:spcBef>
                <a:spcPts val="499"/>
              </a:spcBef>
              <a:buClr>
                <a:srgbClr val="fdc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En ningún caso admitirá certificaciones literales sobre estados contables que se presenten al organism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92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b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4280" y="151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fdc204"/>
                </a:solidFill>
                <a:latin typeface="Arial Narrow"/>
              </a:rPr>
              <a:t>Cuestiones de auditoría</a:t>
            </a:r>
            <a:endParaRPr b="1" lang="en-US" sz="48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14280" y="1422000"/>
            <a:ext cx="853776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Los informes de auditoría deben incluir los datos del libro donde se encuentran transcriptos los estados cont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Los informes de graduados en ciencias económicas que se presenten a la IGJ  deben tener su firma legalizada por el CPCECA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Igual recaudo es exigido para los síndicos (sean contadores o abogad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499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No tiene una referencia expresa a la RT 7 pero fija ciertas condiciones de independencia del auditor contempladas en dicha norma profesiona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fdc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No ser socio, asociado, administrador o gerente ni estar en relación de dependencia con el ente emis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b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9440" y="382320"/>
            <a:ext cx="86742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dc204"/>
                </a:solidFill>
                <a:latin typeface="Arial Narrow"/>
              </a:rPr>
              <a:t>Aportes irrevocables</a:t>
            </a:r>
            <a:br>
              <a:rPr sz="3200"/>
            </a:br>
            <a:r>
              <a:rPr b="1" lang="es-ES_tradnl" sz="3200" spc="-1" strike="noStrike">
                <a:solidFill>
                  <a:srgbClr val="fdc204"/>
                </a:solidFill>
                <a:latin typeface="Arial Narrow"/>
              </a:rPr>
              <a:t>Capital social</a:t>
            </a:r>
            <a:endParaRPr b="1" lang="en-US" sz="32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139" name=""/>
          <p:cNvSpPr/>
          <p:nvPr/>
        </p:nvSpPr>
        <p:spPr>
          <a:xfrm>
            <a:off x="419040" y="2060640"/>
            <a:ext cx="3905280" cy="1942920"/>
          </a:xfrm>
          <a:custGeom>
            <a:avLst/>
            <a:gdLst>
              <a:gd name="textAreaLeft" fmla="*/ 0 w 3905280"/>
              <a:gd name="textAreaRight" fmla="*/ 3905640 w 3905280"/>
              <a:gd name="textAreaTop" fmla="*/ 0 h 1942920"/>
              <a:gd name="textAreaBottom" fmla="*/ 1943280 h 19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decuación al objeto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08360" y="2027160"/>
            <a:ext cx="4535640" cy="2082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GJ exigirá un importe superior si advierte que es manifiestamente inadecu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lusión en la Memoria de juicio ponderado sobre la situación de capitalización real de la soci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b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9440" y="382320"/>
            <a:ext cx="86742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dc204"/>
                </a:solidFill>
                <a:latin typeface="Arial Narrow"/>
              </a:rPr>
              <a:t>Cuestiones societarias relacionadas con el PN</a:t>
            </a:r>
            <a:br>
              <a:rPr sz="3200"/>
            </a:br>
            <a:r>
              <a:rPr b="1" lang="es-ES_tradnl" sz="3200" spc="-1" strike="noStrike">
                <a:solidFill>
                  <a:srgbClr val="fdc204"/>
                </a:solidFill>
                <a:latin typeface="Arial Narrow"/>
              </a:rPr>
              <a:t>Conceptos de capital</a:t>
            </a:r>
            <a:endParaRPr b="1" lang="en-US" sz="32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1641600"/>
            <a:ext cx="4343400" cy="1676160"/>
          </a:xfrm>
          <a:custGeom>
            <a:avLst/>
            <a:gdLst>
              <a:gd name="textAreaLeft" fmla="*/ 0 w 4343400"/>
              <a:gd name="textAreaRight" fmla="*/ 4343400 w 434340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iscalización esta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erman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pital superior a $10.000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Art. 299, inc.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9960" y="3660840"/>
            <a:ext cx="4419720" cy="2381040"/>
          </a:xfrm>
          <a:custGeom>
            <a:avLst/>
            <a:gdLst>
              <a:gd name="textAreaLeft" fmla="*/ 0 w 4419720"/>
              <a:gd name="textAreaRight" fmla="*/ 4420080 w 4419720"/>
              <a:gd name="textAreaTop" fmla="*/ 0 h 2381040"/>
              <a:gd name="textAreaBottom" fmla="*/ 2381400 h 238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imitación en la particip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 otras socie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 exceder reservas libres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50% de capital y reserva le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(Art. 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10120" y="2198520"/>
            <a:ext cx="3162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pital nom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33800" y="3790800"/>
            <a:ext cx="4210200" cy="224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pital ampl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pital nominal, Ajuste del capital, primas de emisión, aportes irrevocables y reserva por revalúos téc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b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4280" y="151920"/>
            <a:ext cx="853776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dc204"/>
                </a:solidFill>
                <a:latin typeface="Arial Narrow"/>
              </a:rPr>
              <a:t>Objetivos</a:t>
            </a:r>
            <a:endParaRPr b="1" lang="en-US" sz="40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14280" y="1136160"/>
            <a:ext cx="853776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stablecer el alcance de las normas de contabilidad y auditoría dictadas por la IG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Resumir las principales normas de contabilidad y auditoría incorporadas en el nuevo Texto Orden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Identificar algunas cuestiones societarias relacionadas con el Patrimonio Ne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Efectuar un resumen final de las cuest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b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9440" y="382320"/>
            <a:ext cx="86742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dc204"/>
                </a:solidFill>
                <a:latin typeface="Arial Narrow"/>
              </a:rPr>
              <a:t>Cuestiones societarias relacionadas con el PN</a:t>
            </a:r>
            <a:br>
              <a:rPr sz="3200"/>
            </a:br>
            <a:r>
              <a:rPr b="1" lang="es-ES_tradnl" sz="3200" spc="-1" strike="noStrike">
                <a:solidFill>
                  <a:srgbClr val="fdc204"/>
                </a:solidFill>
                <a:latin typeface="Arial Narrow"/>
              </a:rPr>
              <a:t>Conceptos de capital</a:t>
            </a:r>
            <a:endParaRPr b="1" lang="en-US" sz="32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361800" y="1546200"/>
            <a:ext cx="4934160" cy="1905120"/>
          </a:xfrm>
          <a:custGeom>
            <a:avLst/>
            <a:gdLst>
              <a:gd name="textAreaLeft" fmla="*/ 0 w 4934160"/>
              <a:gd name="textAreaRight" fmla="*/ 4934520 w 493416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usal de disolución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érdida del capital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Art. 94, inc. 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960" y="3660840"/>
            <a:ext cx="4876920" cy="2381040"/>
          </a:xfrm>
          <a:custGeom>
            <a:avLst/>
            <a:gdLst>
              <a:gd name="textAreaLeft" fmla="*/ 0 w 4876920"/>
              <a:gd name="textAreaRight" fmla="*/ 4877280 w 4876920"/>
              <a:gd name="textAreaTop" fmla="*/ 0 h 2381040"/>
              <a:gd name="textAreaBottom" fmla="*/ 2381400 h 238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ducción obligatoria del cap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r pérdidas acumul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s pérdidas insumen las reser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 el 50%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(Art. 20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24560" y="2198520"/>
            <a:ext cx="36194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pital nominal más aportes irrevoc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53200" y="4343400"/>
            <a:ext cx="3790800" cy="116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pital nominal más aportes irrevoc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b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4280" y="26640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dc204"/>
                </a:solidFill>
                <a:latin typeface="Arial Narrow"/>
              </a:rPr>
              <a:t>Cuestiones societarias relacionadas con el PN</a:t>
            </a:r>
            <a:br>
              <a:rPr sz="3600"/>
            </a:br>
            <a:r>
              <a:rPr b="1" lang="es-AR" sz="3600" spc="-1" strike="noStrike">
                <a:solidFill>
                  <a:srgbClr val="fdc204"/>
                </a:solidFill>
                <a:latin typeface="Arial Narrow"/>
              </a:rPr>
              <a:t>Ajuste del capital social</a:t>
            </a:r>
            <a:endParaRPr b="1" lang="en-US" sz="36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14280" y="1422000"/>
            <a:ext cx="853776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apitalización obligatoria previo a aumentos efectiv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ubre todo aumento de capital que implique un aumento del P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La obligación  de capitalizar se extiende también a las reduccione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b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4280" y="151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dc204"/>
                </a:solidFill>
                <a:latin typeface="Arial Narrow"/>
              </a:rPr>
              <a:t>Cuestiones societarias relacionadas con el PN</a:t>
            </a:r>
            <a:br>
              <a:rPr sz="3600"/>
            </a:br>
            <a:r>
              <a:rPr b="1" lang="es-AR" sz="3600" spc="-1" strike="noStrike">
                <a:solidFill>
                  <a:srgbClr val="fdc204"/>
                </a:solidFill>
                <a:latin typeface="Arial Narrow"/>
              </a:rPr>
              <a:t>Resultados no asignados positivos</a:t>
            </a:r>
            <a:endParaRPr b="1" lang="en-US" sz="36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8400" y="1593360"/>
            <a:ext cx="853740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524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Las asambleas de accionistas deberán resolver indefectiblemente  sobre su distribución </a:t>
            </a:r>
            <a:r>
              <a:rPr b="0" lang="es-AR" sz="21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dc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Reserv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dc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Dividendos en efectivo o en ac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dc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Una combinación de las posibilidades anteri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524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ffffff"/>
                </a:solidFill>
                <a:latin typeface="Arial"/>
              </a:rPr>
              <a:t>Requisito no contemplado en la Ley de Sociedades Comercial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524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ffffff"/>
                </a:solidFill>
                <a:latin typeface="Arial"/>
              </a:rPr>
              <a:t>Competencia de una Asamblea Ordinaria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lnSpc>
                <a:spcPct val="80000"/>
              </a:lnSpc>
              <a:spcBef>
                <a:spcPts val="524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100" spc="-1" strike="noStrike">
                <a:solidFill>
                  <a:srgbClr val="ffffff"/>
                </a:solidFill>
                <a:latin typeface="Arial"/>
              </a:rPr>
              <a:t>No podrían mantenerse saldos de resultados no asignados positivos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b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14280" y="-4680"/>
            <a:ext cx="85377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dc204"/>
                </a:solidFill>
                <a:latin typeface="Arial Narrow"/>
              </a:rPr>
              <a:t>Cuestiones societarias relacionadas con el PN</a:t>
            </a:r>
            <a:br>
              <a:rPr sz="2800"/>
            </a:br>
            <a:r>
              <a:rPr b="1" lang="es-AR" sz="2800" spc="-1" strike="noStrike">
                <a:solidFill>
                  <a:srgbClr val="fdc204"/>
                </a:solidFill>
                <a:latin typeface="Arial Narrow"/>
              </a:rPr>
              <a:t>Resultados no asignados negativos</a:t>
            </a:r>
            <a:endParaRPr b="1" lang="en-US" sz="28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36480" y="975960"/>
            <a:ext cx="850752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Las asambleas deben resolver las situaciones 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94840">
              <a:lnSpc>
                <a:spcPct val="80000"/>
              </a:lnSpc>
              <a:spcBef>
                <a:spcPts val="451"/>
              </a:spcBef>
              <a:buClr>
                <a:srgbClr val="fdc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Disolución por pérdida del capital (Art. 94, inc. 5 LS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94840">
              <a:lnSpc>
                <a:spcPct val="80000"/>
              </a:lnSpc>
              <a:spcBef>
                <a:spcPts val="451"/>
              </a:spcBef>
              <a:buClr>
                <a:srgbClr val="fdc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Reducción obligatoria del capital por pérdidas acumuladas (Art. 206 LS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9320" indent="-229320">
              <a:lnSpc>
                <a:spcPct val="80000"/>
              </a:lnSpc>
              <a:spcBef>
                <a:spcPts val="601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osible orden de absorción de pérdidas acumuladas (no previsto en las normas de la IGJ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94840">
              <a:lnSpc>
                <a:spcPct val="80000"/>
              </a:lnSpc>
              <a:spcBef>
                <a:spcPts val="451"/>
              </a:spcBef>
              <a:buClr>
                <a:srgbClr val="fdc20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Ganancias reservadas voluntarias y estatutari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94840">
              <a:lnSpc>
                <a:spcPct val="80000"/>
              </a:lnSpc>
              <a:spcBef>
                <a:spcPts val="451"/>
              </a:spcBef>
              <a:buClr>
                <a:srgbClr val="fdc20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Reserva leg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94840">
              <a:lnSpc>
                <a:spcPct val="80000"/>
              </a:lnSpc>
              <a:spcBef>
                <a:spcPts val="451"/>
              </a:spcBef>
              <a:buClr>
                <a:srgbClr val="fdc20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Primas de emi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94840">
              <a:lnSpc>
                <a:spcPct val="80000"/>
              </a:lnSpc>
              <a:spcBef>
                <a:spcPts val="451"/>
              </a:spcBef>
              <a:buClr>
                <a:srgbClr val="fdc20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Aportes irrevocables, si existe consentimiento del aporta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94840">
              <a:lnSpc>
                <a:spcPct val="80000"/>
              </a:lnSpc>
              <a:spcBef>
                <a:spcPts val="451"/>
              </a:spcBef>
              <a:buClr>
                <a:srgbClr val="fdc20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Ajuste del capital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94840">
              <a:lnSpc>
                <a:spcPct val="80000"/>
              </a:lnSpc>
              <a:spcBef>
                <a:spcPts val="451"/>
              </a:spcBef>
              <a:buClr>
                <a:srgbClr val="fdc204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Arial"/>
              </a:rPr>
              <a:t>Capital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9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9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293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b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4280" y="0"/>
            <a:ext cx="853776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dc204"/>
                </a:solidFill>
                <a:latin typeface="Arial Narrow"/>
              </a:rPr>
              <a:t>Resumen final</a:t>
            </a:r>
            <a:endParaRPr b="1" lang="en-US" sz="40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75920" y="1289160"/>
            <a:ext cx="853740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Facultades de la IGJ para la emisión de nc que deben aplicar los entes fiscaliz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Emisión de las nc de la IGJ basadas en las nc profesionales con algunas salvedades,  básicamente la medición de activos y pasivos por impuesto diferidos, tratamiento de aportes irrevocables y  no presentación de EFE y comparativos en ciertos en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Fijación de ciertos requisitos societarios relacionados con  el PN no contemplados en la LS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Necesidad de clarificaciones en algunas cuestiones societarias (principalmente aportes irrevocables, concepto de capital, absorción de pérdidas y capitalización del ajuste del capital social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b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4280" y="151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dc204"/>
                </a:solidFill>
                <a:latin typeface="Arial Narrow"/>
              </a:rPr>
              <a:t>Entes fiscalizados por la IGJ</a:t>
            </a:r>
            <a:endParaRPr b="1" lang="en-US" sz="40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14280" y="1422000"/>
            <a:ext cx="8537760" cy="46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24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La IGJ es un organismo nacional que fiscaliza a entes domiciliados en Ciudad de Buenos Aires, que sean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fdc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Sociedades por acciones, excepto las controladas por la CN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fdc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Sucursales y representaciones de sociedades extranje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spcBef>
                <a:spcPts val="499"/>
              </a:spcBef>
              <a:buClr>
                <a:srgbClr val="fdc20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Asociaciones civiles y fund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-266760">
              <a:spcBef>
                <a:spcPts val="624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También fiscaliza a entes, cualquiera fuera su domicilio, cuyas actividades sean de capitalización y ahorr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b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4280" y="151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dc204"/>
                </a:solidFill>
                <a:latin typeface="Arial Narrow"/>
              </a:rPr>
              <a:t>Alcance de las normas contables emitidas por la IGJ</a:t>
            </a:r>
            <a:endParaRPr b="1" lang="en-US" sz="40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6120" y="2184120"/>
            <a:ext cx="8537760" cy="36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301680">
              <a:lnSpc>
                <a:spcPct val="90000"/>
              </a:lnSpc>
              <a:spcBef>
                <a:spcPts val="751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Sociedades por accion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33520" indent="-301680">
              <a:lnSpc>
                <a:spcPct val="90000"/>
              </a:lnSpc>
              <a:spcBef>
                <a:spcPts val="751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SRL cuyo capital alcance el importe fijado por el artículo 299, inciso 2 LSC ($10.000.000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9800" y="1887480"/>
            <a:ext cx="83901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Estados contables correspondientes 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ejercicios completos o períodos intermedio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1847880"/>
            <a:ext cx="8458200" cy="1219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b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4280" y="151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dc204"/>
                </a:solidFill>
                <a:latin typeface="Arial Narrow"/>
              </a:rPr>
              <a:t>Emisión de  normas contables por la IGJ</a:t>
            </a:r>
            <a:br>
              <a:rPr sz="3200"/>
            </a:br>
            <a:r>
              <a:rPr b="1" lang="es-AR" sz="3200" spc="-1" strike="noStrike">
                <a:solidFill>
                  <a:srgbClr val="fdc204"/>
                </a:solidFill>
                <a:latin typeface="Arial Narrow"/>
              </a:rPr>
              <a:t>Criterio general</a:t>
            </a:r>
            <a:endParaRPr b="1" lang="en-US" sz="32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4280" y="1479600"/>
            <a:ext cx="853776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234720">
              <a:lnSpc>
                <a:spcPct val="80000"/>
              </a:lnSpc>
              <a:spcBef>
                <a:spcPts val="601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Adopta las RTS de la FACPCE vigentes aprobadas por el CPCECA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6560" indent="-234720">
              <a:lnSpc>
                <a:spcPct val="80000"/>
              </a:lnSpc>
              <a:spcBef>
                <a:spcPts val="601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ondiciona dicha adopción a que no se opongan a normas legales, reglamentarias o a la RG 7/05 de la IG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6560" indent="-234720">
              <a:lnSpc>
                <a:spcPct val="80000"/>
              </a:lnSpc>
              <a:spcBef>
                <a:spcPts val="601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Adopta en forma automática las normas contables que se emitan en el futu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66560" indent="-234720">
              <a:lnSpc>
                <a:spcPct val="80000"/>
              </a:lnSpc>
              <a:spcBef>
                <a:spcPts val="601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Admite que las Entidades Financieras, Cías. de Seguros y otros entes sometidos a control concurrente por otro organismo, presenten sus estados contables de acuerdo con las normas emitidas por dichos organis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b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6120" y="-36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dc204"/>
                </a:solidFill>
                <a:latin typeface="Arial Narrow"/>
              </a:rPr>
              <a:t>Salvedades en la aplicación de las normas contables profesionales</a:t>
            </a:r>
            <a:endParaRPr b="1" lang="en-US" sz="36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4280" y="983880"/>
            <a:ext cx="8537760" cy="48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4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5680" indent="-230040">
              <a:lnSpc>
                <a:spcPct val="80000"/>
              </a:lnSpc>
              <a:spcBef>
                <a:spcPts val="601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No admite activación de costos financieros de terceros con posterioridad a la habilitación total o parcial de grandes obras de infraestructu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50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5680" indent="-230040">
              <a:lnSpc>
                <a:spcPct val="80000"/>
              </a:lnSpc>
              <a:spcBef>
                <a:spcPts val="601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No admite activación de intereses del capital propi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5680" indent="-230040">
              <a:lnSpc>
                <a:spcPct val="80000"/>
              </a:lnSpc>
              <a:spcBef>
                <a:spcPts val="601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Los activos y pasivos por impuestos diferidos deben medirse por su valor nom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5680" indent="-230040">
              <a:lnSpc>
                <a:spcPct val="80000"/>
              </a:lnSpc>
              <a:spcBef>
                <a:spcPts val="601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Los estados contables de controladas, bajo control conjunto, vinculadas y los consolidados, deben contar con informe de auditorí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5680" indent="-230040">
              <a:lnSpc>
                <a:spcPct val="80000"/>
              </a:lnSpc>
              <a:spcBef>
                <a:spcPts val="499"/>
              </a:spcBef>
              <a:buClr>
                <a:srgbClr val="fdc2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Establece requisitos adicionales para aportes irrevocables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b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4280" y="151920"/>
            <a:ext cx="853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dc204"/>
                </a:solidFill>
                <a:latin typeface="Arial Narrow"/>
              </a:rPr>
              <a:t>Condiciones para la Registración de Aportes Irrevocables según las nc profesionales. </a:t>
            </a:r>
            <a:endParaRPr b="1" lang="en-US" sz="32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94" name=""/>
          <p:cNvSpPr/>
          <p:nvPr/>
        </p:nvSpPr>
        <p:spPr>
          <a:xfrm>
            <a:off x="2171880" y="1368360"/>
            <a:ext cx="4647960" cy="1295640"/>
          </a:xfrm>
          <a:prstGeom prst="ellipse">
            <a:avLst/>
          </a:prstGeom>
          <a:solidFill>
            <a:srgbClr val="99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Basarse en realidad económ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20143200">
            <a:off x="5676840" y="2549160"/>
            <a:ext cx="690480" cy="1081080"/>
          </a:xfrm>
          <a:prstGeom prst="downArrow">
            <a:avLst>
              <a:gd name="adj1" fmla="val 50000"/>
              <a:gd name="adj2" fmla="val 39142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5840" y="3559320"/>
            <a:ext cx="4114800" cy="2571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ATRIMONIO NETO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i exis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Integración efe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Acuerdo escrito entre apor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y Direc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Aprobación de la Asamblea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Directorio ad-referéndum de 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3635280"/>
            <a:ext cx="4114800" cy="2457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Arial"/>
              </a:rPr>
              <a:t>PASIVO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Si no se cumplen las condi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mencio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872600">
            <a:off x="2662200" y="2472840"/>
            <a:ext cx="690480" cy="1081080"/>
          </a:xfrm>
          <a:prstGeom prst="downArrow">
            <a:avLst>
              <a:gd name="adj1" fmla="val 50000"/>
              <a:gd name="adj2" fmla="val 39142"/>
            </a:avLst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b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9440" y="382320"/>
            <a:ext cx="86742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dc204"/>
                </a:solidFill>
                <a:latin typeface="Arial Narrow"/>
              </a:rPr>
              <a:t>Aportes irrevocables</a:t>
            </a:r>
            <a:br>
              <a:rPr sz="3200"/>
            </a:br>
            <a:r>
              <a:rPr b="1" lang="es-ES_tradnl" sz="3200" spc="-1" strike="noStrike">
                <a:solidFill>
                  <a:srgbClr val="fdc204"/>
                </a:solidFill>
                <a:latin typeface="Arial Narrow"/>
              </a:rPr>
              <a:t>Diferencias con las normas de la IGJ</a:t>
            </a:r>
            <a:endParaRPr b="1" lang="en-US" sz="32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100" name=""/>
          <p:cNvSpPr/>
          <p:nvPr/>
        </p:nvSpPr>
        <p:spPr>
          <a:xfrm>
            <a:off x="419040" y="2060640"/>
            <a:ext cx="2743200" cy="106668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diciones pa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u regist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040" y="3813120"/>
            <a:ext cx="2743200" cy="106668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lazo para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versión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33600" y="2484360"/>
            <a:ext cx="43452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ben integrarse en efe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14880" y="3981600"/>
            <a:ext cx="52578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80 días desde la aceptación del aporte irrevocable por el Directo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43b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9440" y="1440"/>
            <a:ext cx="867420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dc204"/>
                </a:solidFill>
                <a:latin typeface="Arial Narrow"/>
              </a:rPr>
              <a:t>Aportes irrevocables</a:t>
            </a:r>
            <a:br>
              <a:rPr sz="3200"/>
            </a:br>
            <a:r>
              <a:rPr b="1" lang="es-ES_tradnl" sz="3200" spc="-1" strike="noStrike">
                <a:solidFill>
                  <a:srgbClr val="fdc204"/>
                </a:solidFill>
                <a:latin typeface="Arial Narrow"/>
              </a:rPr>
              <a:t>Requisitos societarios de la IGJ</a:t>
            </a:r>
            <a:endParaRPr b="1" lang="en-US" sz="3200" spc="-1" strike="noStrike">
              <a:solidFill>
                <a:srgbClr val="fdc204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1546200"/>
            <a:ext cx="2819520" cy="190512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1905120"/>
              <a:gd name="textAreaBottom" fmla="*/ 190548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pit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90840" y="2057400"/>
            <a:ext cx="523872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restringe derechos de preferencia y acrecer de lo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4468680"/>
            <a:ext cx="2743200" cy="129564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port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rrevoc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38640" y="4954680"/>
            <a:ext cx="52768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lica plazo de 180 días para su capi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6:27:31Z</dcterms:created>
  <dc:creator>Barbara A. Schaefer</dc:creator>
  <dc:description/>
  <dc:language>en-US</dc:language>
  <cp:lastModifiedBy>Congresos y Eventos</cp:lastModifiedBy>
  <dcterms:modified xsi:type="dcterms:W3CDTF">2006-07-26T13:01:11Z</dcterms:modified>
  <cp:revision>346</cp:revision>
  <dc:subject/>
  <dc:title>Slide 1</dc:title>
</cp:coreProperties>
</file>