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ACE3-A9D8-442D-A43B-89324EEA304F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jemplo de los seg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jemplo de los seg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jemplo de los seg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65000"/>
            <a:ext cx="9144000" cy="14292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5000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57240" y="12600"/>
          <a:ext cx="769680" cy="72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12600"/>
                    <a:ext cx="7696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id@bcba.sba.com.ar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700280"/>
            <a:ext cx="8785440" cy="49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La Bolsa de Comercio de Buenos 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y el Mercado de Carb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c. Irene Wasilevs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sponsable de Investigación y Desarrollo de la BCB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gosto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6920" y="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eterminantes de la oferta y la demand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065240"/>
            <a:ext cx="87854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Comp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bierno de países Anex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resas privadas de países Anex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rios priv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ndos multilat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Determinantes del precio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 de los permisos de la Unión Europea (E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es climá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erta y compromiso de grandes jugadores: China, India, Ru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o del M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Pautas del con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o de avanc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cesidad de 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odología aprob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s de 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 internacional de los certifi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s políticos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26920" y="11592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ituación de la Argentina en el MD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0520" y="1268280"/>
            <a:ext cx="856296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69800" y="1413000"/>
          <a:ext cx="8204400" cy="4279680"/>
        </p:xfrm>
        <a:graphic>
          <a:graphicData uri="http://schemas.openxmlformats.org/drawingml/2006/table">
            <a:tbl>
              <a:tblPr/>
              <a:tblGrid>
                <a:gridCol w="2735280"/>
                <a:gridCol w="2863800"/>
                <a:gridCol w="2605320"/>
              </a:tblGrid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s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s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M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.98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 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3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9.3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826920" y="11592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imensión del mercado mundi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69760" y="90360"/>
            <a:ext cx="65948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mercado de capitales y el M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052640"/>
            <a:ext cx="903600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946680"/>
                <a:tab algn="l" pos="78930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Funciones de la BC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ción de un ámbito de nego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fu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946680"/>
                <a:tab algn="l" pos="78930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Etapas M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mpulso de proy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ón de oferta y demanda: rondas de negocios, reuniones bilat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fusión y acceso a distintos particip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49960" y="90360"/>
            <a:ext cx="4158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ondas de nego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600360" cy="2470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3600360" cy="2584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148360" y="126828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148360" y="4076640"/>
            <a:ext cx="3600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5600" y="115920"/>
            <a:ext cx="734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artes interesadas: empresas y gobi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9036000" cy="52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ino U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nco Mun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e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ap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nad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tsubishi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33440" y="2205000"/>
            <a:ext cx="6477120" cy="25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 algn="ctr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olsa de Comercio de Buenos 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ctr">
              <a:lnSpc>
                <a:spcPct val="11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vestigación y Desarrollo de Mercado de Capit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ctr">
              <a:lnSpc>
                <a:spcPct val="11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d@bcba.sba.com.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ctr">
              <a:lnSpc>
                <a:spcPct val="11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4316-70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ctr">
              <a:lnSpc>
                <a:spcPct val="11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www.bcba.sba.com.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26920" y="73080"/>
            <a:ext cx="79948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1065240"/>
            <a:ext cx="8785440" cy="46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30000"/>
              </a:lnSpc>
              <a:spcBef>
                <a:spcPts val="13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rcado de carb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30000"/>
              </a:lnSpc>
              <a:spcBef>
                <a:spcPts val="13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canismo para un desarrollo limp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30000"/>
              </a:lnSpc>
              <a:spcBef>
                <a:spcPts val="13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 potencial de la Argentina en el nuevo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30000"/>
              </a:lnSpc>
              <a:spcBef>
                <a:spcPts val="13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fras internac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30000"/>
              </a:lnSpc>
              <a:spcBef>
                <a:spcPts val="13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 papel de la Bolsa en el mercado de carb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73080"/>
            <a:ext cx="79948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l mercado de carbono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a oportunidad para las empresas argent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95280" y="981000"/>
            <a:ext cx="6553440" cy="3959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58920" y="4592520"/>
            <a:ext cx="66247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99cc00"/>
                </a:solidFill>
                <a:latin typeface="Arial"/>
              </a:rPr>
              <a:t>Proyectos potenci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Mejoramiento de la eficiencia en el uso final de la energía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Mejoramiento de la eficiencia en la generación de energía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nergías renovable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Rellenos Sanitarios (captación de CH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ustitución de combustibles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Agricultura (reducción de emisiones de CH4 y N2O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rocesos industriales (CO2 de la industria cementera, PFC y SF6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royectos de absorción de emisiones (forestación y reforestació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6920" y="73080"/>
            <a:ext cx="79948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l Mercado de Carbon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280" y="961920"/>
            <a:ext cx="8964720" cy="58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Protocolo de Kioto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Participantes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nexo I: 39 países + economías en trans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No Anexo I: países en vías de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Compromiso de reducción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5,2% de GEI sobre niveles de 1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Período de compromiso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imer período: 2008-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Partes comprometidas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Gobiernos y empresas priv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Forma de reducción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olíticas prop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articipar en proyectos de reducción ex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ompra de excedentes de permi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Mecanismos de flexibilización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Mecanismo para un desarrollo limpio - </a:t>
            </a: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Implementación conjunta - </a:t>
            </a: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E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omercio de emisiones - </a:t>
            </a: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A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Objetivos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ducir las emisiones a nivel global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ducir costos para economías desarroll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recimiento en economías en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Transferencia de tecnologías limp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73080"/>
            <a:ext cx="79948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ases efecto invernadero comprometidos (GE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6407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26920" y="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squema del MD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36000" y="436572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1139760"/>
            <a:ext cx="2195640" cy="580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resa proponente d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00680" y="1125360"/>
            <a:ext cx="2197080" cy="5806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utoridad Nacional Design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0680" y="3592440"/>
            <a:ext cx="2197080" cy="580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ta Ejecutiva del M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0680" y="4826160"/>
            <a:ext cx="2197080" cy="5806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Intermediarios / Brokers / Invers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0680" y="6060960"/>
            <a:ext cx="2197080" cy="580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ís desarrollado Anexo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00680" y="2359080"/>
            <a:ext cx="2197080" cy="580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idad Operacional Design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9280" y="1430280"/>
            <a:ext cx="2741400" cy="0"/>
          </a:xfrm>
          <a:prstGeom prst="line">
            <a:avLst/>
          </a:prstGeom>
          <a:ln w="34920">
            <a:solidFill>
              <a:srgbClr val="666699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2960" y="115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D y 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5080" y="1444680"/>
            <a:ext cx="16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a de aprob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9280" y="2665440"/>
            <a:ext cx="2741400" cy="0"/>
          </a:xfrm>
          <a:prstGeom prst="line">
            <a:avLst/>
          </a:prstGeom>
          <a:ln w="34920">
            <a:solidFill>
              <a:srgbClr val="6666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9280" y="1722600"/>
            <a:ext cx="0" cy="3409920"/>
          </a:xfrm>
          <a:prstGeom prst="line">
            <a:avLst/>
          </a:prstGeom>
          <a:ln w="349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70400" y="2387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D y Carta de aprob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13600" y="3002040"/>
            <a:ext cx="185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e de validación + ver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12160" y="2954160"/>
            <a:ext cx="0" cy="581040"/>
          </a:xfrm>
          <a:prstGeom prst="line">
            <a:avLst/>
          </a:prstGeom>
          <a:ln w="34920">
            <a:solidFill>
              <a:srgbClr val="6666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9280" y="3898800"/>
            <a:ext cx="2741400" cy="0"/>
          </a:xfrm>
          <a:prstGeom prst="line">
            <a:avLst/>
          </a:prstGeom>
          <a:ln w="34920">
            <a:solidFill>
              <a:srgbClr val="666699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70400" y="360684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ión 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9280" y="5132520"/>
            <a:ext cx="2741400" cy="0"/>
          </a:xfrm>
          <a:prstGeom prst="line">
            <a:avLst/>
          </a:prstGeom>
          <a:ln w="34920">
            <a:solidFill>
              <a:srgbClr val="666699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3440" y="484200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US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3440" y="514656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12160" y="5421240"/>
            <a:ext cx="0" cy="581040"/>
          </a:xfrm>
          <a:prstGeom prst="line">
            <a:avLst/>
          </a:prstGeom>
          <a:ln w="34920">
            <a:solidFill>
              <a:srgbClr val="666699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13600" y="5468760"/>
            <a:ext cx="1851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U$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1280" y="4216320"/>
            <a:ext cx="0" cy="581040"/>
          </a:xfrm>
          <a:prstGeom prst="line">
            <a:avLst/>
          </a:prstGeom>
          <a:ln w="34920">
            <a:solidFill>
              <a:srgbClr val="6666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2571840"/>
            <a:ext cx="3564000" cy="39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reparación d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Demostración de adicion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Definición de línea de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lan de monitoreo y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Aprobación por AND (Desarrollo sustent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Validación por EOD Indepen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onsulta 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gistración ante la JE del M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Verificación inicial y anual por E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misión de Cer por la 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565360"/>
            <a:ext cx="349236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36360" y="6524640"/>
            <a:ext cx="349236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l mercado de carbono en la actualida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0760" y="1484280"/>
          <a:ext cx="8526240" cy="50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1484280"/>
                    <a:ext cx="852624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l mercado de carbono en la actualida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55640" y="1353960"/>
            <a:ext cx="7704000" cy="50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l mercado de carbono en la actualida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1143" t="4272" r="3002" b="8912"/>
          <a:stretch/>
        </p:blipFill>
        <p:spPr>
          <a:xfrm>
            <a:off x="826920" y="2060640"/>
            <a:ext cx="7345440" cy="4392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32000" y="119700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ales vendedores de reducciones basadas en proy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2:25:55Z</dcterms:created>
  <dc:creator>IWasilevsky</dc:creator>
  <dc:description/>
  <dc:language>en-US</dc:language>
  <cp:lastModifiedBy>C.P.C.E.C.A.B.A.</cp:lastModifiedBy>
  <dcterms:modified xsi:type="dcterms:W3CDTF">2006-08-28T19:49:03Z</dcterms:modified>
  <cp:revision>64</cp:revision>
  <dc:subject/>
  <dc:title>Diapositiva 1</dc:title>
</cp:coreProperties>
</file>