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8613-1549-4CA9-80F6-3E1CCB5D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94D9-5357-4AA4-8633-3E0F4BCD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C089-B41F-4F10-B0ED-FF2358D7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5AA0-3D7B-4D46-993A-EEC96453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F0CB-E3FC-494C-A3FC-72055759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E236-742A-49C5-B169-14143E77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542B-9BBF-4513-A713-79AC0C66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F2A3-A38B-498F-AF46-DE300E49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B995-4B54-49CB-ACB4-03B1E4D6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4713-EDC4-41F8-9909-221D9AF5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F640-5D5D-43C4-9225-5564B6BD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2943-6EBA-40EF-9B05-7BF64C54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2E31-CF16-46FF-908E-0D1E80BA192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5867280" y="609480"/>
          <a:ext cx="3657600" cy="13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609480"/>
                    <a:ext cx="365760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2895480"/>
            <a:ext cx="99061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f5f5f"/>
                </a:solidFill>
                <a:latin typeface="Verdana"/>
              </a:rPr>
              <a:t>Presentació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f5f5f"/>
                </a:solidFill>
                <a:latin typeface="Verdana"/>
              </a:rPr>
              <a:t>Consejo Profesional de Ciencias Económicas de la Ciudad Autónoma de Buenos Air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686800" y="6248520"/>
            <a:ext cx="685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AB30-2EE5-4C75-9823-95DE81A852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" y="1584360"/>
            <a:ext cx="8974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Verdana"/>
              </a:rPr>
              <a:t>Somos especialistas e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2819520"/>
            <a:ext cx="8305920" cy="31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rédito para 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inanciación de </a:t>
            </a: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xpor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dministración </a:t>
            </a: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iduci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Agente Financiero de grandes proy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C735-BE96-4604-9C64-4C337411CC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66680" y="2286000"/>
            <a:ext cx="7772400" cy="3809880"/>
          </a:xfrm>
          <a:prstGeom prst="rect">
            <a:avLst/>
          </a:prstGeom>
          <a:solidFill>
            <a:srgbClr val="ffffff"/>
          </a:solidFill>
          <a:ln w="0">
            <a:solidFill>
              <a:srgbClr val="808080"/>
            </a:solidFill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371600" y="2286000"/>
            <a:ext cx="746748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3450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Altamente concentrada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720" indent="-457200">
              <a:lnSpc>
                <a:spcPct val="110000"/>
              </a:lnSpc>
              <a:spcBef>
                <a:spcPts val="3450"/>
              </a:spcBef>
              <a:buClr>
                <a:srgbClr val="00a3c9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en Capital Feder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720" indent="-457200">
              <a:lnSpc>
                <a:spcPct val="110000"/>
              </a:lnSpc>
              <a:spcBef>
                <a:spcPts val="3450"/>
              </a:spcBef>
              <a:buClr>
                <a:srgbClr val="00a3c9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financiación directa al</a:t>
            </a: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 Sector Financier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936720" indent="-457200">
              <a:lnSpc>
                <a:spcPct val="110000"/>
              </a:lnSpc>
              <a:spcBef>
                <a:spcPts val="3450"/>
              </a:spcBef>
              <a:buClr>
                <a:srgbClr val="00a3c9"/>
              </a:buClr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en Préstamos Financieros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a grandes empresas a través de entidades financier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1523880"/>
            <a:ext cx="6705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a3c9"/>
                </a:solidFill>
                <a:latin typeface="Verdana"/>
              </a:rPr>
              <a:t>Operatoria anterior al año 200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6353-7DD9-4B5C-9C54-117654393D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66680" y="2209680"/>
            <a:ext cx="7772400" cy="3810240"/>
          </a:xfrm>
          <a:prstGeom prst="rect">
            <a:avLst/>
          </a:prstGeom>
          <a:solidFill>
            <a:srgbClr val="ffffff"/>
          </a:solidFill>
          <a:ln w="0">
            <a:solidFill>
              <a:srgbClr val="808080"/>
            </a:solidFill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71600" y="2209680"/>
            <a:ext cx="746748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3163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Orientado a la Inversión y al Comercio Exterio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163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Presencia en todo el paí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163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Diversificación sectorial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163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Fuerte presencia en Mediana y Pequeñas Empres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163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Plazos, gracia y tasas convenien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1492200"/>
            <a:ext cx="731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a3c9"/>
                </a:solidFill>
                <a:latin typeface="Verdana"/>
              </a:rPr>
              <a:t>Nuevo Perfil desde 2004 en adelan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B829-0AD6-4D7E-8B25-E1143CC918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345280" cy="4724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88880" y="2060640"/>
            <a:ext cx="61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Verdana"/>
              </a:rPr>
              <a:t>Cifras en millones de pe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84280" y="1486080"/>
            <a:ext cx="3063960" cy="38088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Desembol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1523880"/>
            <a:ext cx="4114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00a3c9"/>
                </a:solidFill>
                <a:latin typeface="Verdana"/>
              </a:rPr>
              <a:t>Comparación interanu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56A-5874-40CA-B39A-7F037E482E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95360" y="1523880"/>
            <a:ext cx="520056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Distribución regional del créd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80880" y="1933560"/>
            <a:ext cx="9144000" cy="5762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724280" y="15382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Agosto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A484-2D6C-4587-AE2B-B5F4B54F06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95360" y="1523880"/>
            <a:ext cx="520056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Distribución sectorial del créd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1800" y="1371600"/>
            <a:ext cx="8250120" cy="6640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724280" y="15382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Agosto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E67A-F24C-440B-8102-3C8C56E4FD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22920" y="3071880"/>
            <a:ext cx="4183200" cy="2930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286000" y="3086280"/>
            <a:ext cx="4191120" cy="2933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84280" y="1523880"/>
            <a:ext cx="429264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Desembolsos por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3352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Sector Pú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886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Gra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3875040"/>
            <a:ext cx="8534160" cy="0"/>
          </a:xfrm>
          <a:prstGeom prst="line">
            <a:avLst/>
          </a:prstGeom>
          <a:ln cap="rnd" w="0">
            <a:solidFill>
              <a:srgbClr val="b2b2b2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4572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Medi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5181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Pequeñ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335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3962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2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5257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4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674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67480" y="3962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1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67480" y="4648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2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67480" y="5257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4518000"/>
            <a:ext cx="8534160" cy="0"/>
          </a:xfrm>
          <a:prstGeom prst="line">
            <a:avLst/>
          </a:prstGeom>
          <a:ln cap="rnd" w="0">
            <a:solidFill>
              <a:srgbClr val="b2b2b2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5197320"/>
            <a:ext cx="8534160" cy="0"/>
          </a:xfrm>
          <a:prstGeom prst="line">
            <a:avLst/>
          </a:prstGeom>
          <a:ln cap="rnd" w="0">
            <a:solidFill>
              <a:srgbClr val="b2b2b2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2514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Ca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2438280"/>
            <a:ext cx="2057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Monto </a:t>
            </a:r>
            <a:r>
              <a:rPr b="0" lang="es-AR" sz="1600" spc="-1" strike="noStrike">
                <a:solidFill>
                  <a:srgbClr val="000000"/>
                </a:solidFill>
                <a:latin typeface="Verdana"/>
              </a:rPr>
              <a:t>(millones $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15382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Enero 2004 - Agosto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D073-6B8A-45B0-8E60-B3A13E5779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33520" y="1523880"/>
            <a:ext cx="434340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Linea Pymes tasa fija p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2057400"/>
            <a:ext cx="830592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Línea de crédito por $20 millones destinada a financiar Proyectos de Inversión, para la adquisición de Bienes de Capital de origen nacion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Tasa fija en pesos: 10,5%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Plazo: hasta 5 años y hasta 6 meses de grac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Montos mínimo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- con SGR’s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$150 mi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- sin SGR’s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$250 mi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Monto máximo: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$1,2 millon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A853-7685-4743-8E1E-7DD7CAC839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3520" y="1523880"/>
            <a:ext cx="548640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Sociedades Garantía Recípro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2057400"/>
            <a:ext cx="8305920" cy="43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300" spc="-1" strike="noStrike">
                <a:solidFill>
                  <a:srgbClr val="35476b"/>
                </a:solidFill>
                <a:latin typeface="Tahoma"/>
                <a:ea typeface="Tahoma"/>
              </a:rPr>
              <a:t>Las Sociedades de Garantía Recíproca (SGR) son sociedades comerciales que tienen por objeto facilitar el acceso al crédito de las PyMES a través del otorgamiento de garantías para el cumplimiento de sus obligaciones. </a:t>
            </a:r>
            <a:r>
              <a:rPr b="0" lang="es-AR" sz="2300" spc="-1" strike="noStrike">
                <a:solidFill>
                  <a:srgbClr val="35476b"/>
                </a:solidFill>
                <a:latin typeface="Tahoma"/>
                <a:ea typeface="Tahoma"/>
              </a:rPr>
              <a:t>Permiten implementar </a:t>
            </a:r>
            <a:r>
              <a:rPr b="0" lang="es-ES" sz="2300" spc="-1" strike="noStrike">
                <a:solidFill>
                  <a:srgbClr val="35476b"/>
                </a:solidFill>
                <a:latin typeface="Tahoma"/>
                <a:ea typeface="Tahoma"/>
              </a:rPr>
              <a:t>una estrategia asociativa entre grandes empresas y PyMES</a:t>
            </a:r>
            <a:r>
              <a:rPr b="0" lang="es-AR" sz="2300" spc="-1" strike="noStrike">
                <a:solidFill>
                  <a:srgbClr val="35476b"/>
                </a:solidFill>
                <a:latin typeface="Tahoma"/>
                <a:ea typeface="Tahoma"/>
              </a:rPr>
              <a:t> proveedor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35476b"/>
                </a:solidFill>
                <a:latin typeface="Tahoma"/>
                <a:ea typeface="Tahoma"/>
              </a:rPr>
              <a:t> </a:t>
            </a:r>
            <a:r>
              <a:rPr b="0" lang="es-AR" sz="2300" spc="-1" strike="noStrike">
                <a:solidFill>
                  <a:srgbClr val="35476b"/>
                </a:solidFill>
                <a:latin typeface="Tahoma"/>
                <a:ea typeface="Tahoma"/>
              </a:rPr>
              <a:t>Integradas por: Socios Partícipes (Pymes) y Socios fundadores, que reciben ventajas impositivas por los aportes que realizan al fondo de riesg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00a3c9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35476b"/>
                </a:solidFill>
                <a:latin typeface="Tahoma"/>
                <a:ea typeface="Tahoma"/>
              </a:rPr>
              <a:t> </a:t>
            </a:r>
            <a:r>
              <a:rPr b="0" lang="es-AR" sz="2300" spc="-1" strike="noStrike">
                <a:solidFill>
                  <a:srgbClr val="35476b"/>
                </a:solidFill>
                <a:latin typeface="Tahoma"/>
                <a:ea typeface="Tahoma"/>
              </a:rPr>
              <a:t>El BICE trabaja con las siguientes SGR’s: Garantizar(gtías preferidas “A”), Afianzar, Don Mario, Aval Rural, Acind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6B3C-A740-4219-B18A-4366C80CD2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3520" y="1523880"/>
            <a:ext cx="525780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Operatoria con SSEPyME y SGR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114800" y="2392920"/>
            <a:ext cx="3276720" cy="2895480"/>
          </a:xfrm>
          <a:prstGeom prst="triangle">
            <a:avLst>
              <a:gd name="adj" fmla="val 5000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2394720"/>
            <a:ext cx="160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Empresas cab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4273920"/>
            <a:ext cx="1371600" cy="4057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a3c9"/>
                </a:solidFill>
                <a:latin typeface="Verdana"/>
              </a:rPr>
              <a:t>B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952880" y="3581280"/>
            <a:ext cx="1599840" cy="914400"/>
            <a:chOff x="4952880" y="3581280"/>
            <a:chExt cx="1599840" cy="914400"/>
          </a:xfrm>
        </p:grpSpPr>
        <p:sp>
          <p:nvSpPr>
            <p:cNvPr id="169" name=""/>
            <p:cNvSpPr/>
            <p:nvPr/>
          </p:nvSpPr>
          <p:spPr>
            <a:xfrm>
              <a:off x="4952880" y="3581280"/>
              <a:ext cx="1599840" cy="9144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40800" y="3809880"/>
              <a:ext cx="122364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Verdana"/>
                </a:rPr>
                <a:t>Pyme’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1" name=""/>
          <p:cNvCxnSpPr>
            <a:stCxn id="167" idx="3"/>
            <a:endCxn id="166" idx="2"/>
          </p:cNvCxnSpPr>
          <p:nvPr/>
        </p:nvCxnSpPr>
        <p:spPr>
          <a:xfrm flipV="1">
            <a:off x="4495320" y="2971440"/>
            <a:ext cx="1258200" cy="150552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6934320" y="3941640"/>
            <a:ext cx="2057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Sociedades Garantía Recíproca (SGR’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67" idx="3"/>
            <a:endCxn id="172" idx="1"/>
          </p:cNvCxnSpPr>
          <p:nvPr/>
        </p:nvCxnSpPr>
        <p:spPr>
          <a:xfrm flipV="1">
            <a:off x="4495680" y="4473360"/>
            <a:ext cx="2439000" cy="360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cxnSp>
        <p:nvCxnSpPr>
          <p:cNvPr id="174" name=""/>
          <p:cNvCxnSpPr>
            <a:stCxn id="166" idx="2"/>
            <a:endCxn id="172" idx="1"/>
          </p:cNvCxnSpPr>
          <p:nvPr/>
        </p:nvCxnSpPr>
        <p:spPr>
          <a:xfrm>
            <a:off x="5752800" y="2971800"/>
            <a:ext cx="1181880" cy="1502640"/>
          </a:xfrm>
          <a:prstGeom prst="straightConnector1">
            <a:avLst/>
          </a:prstGeom>
          <a:ln w="12600">
            <a:solidFill>
              <a:srgbClr val="80808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6324480" y="2695680"/>
            <a:ext cx="2286000" cy="429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Agente de retención de las cuo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51560"/>
            <a:ext cx="160020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SEPy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6" idx="3"/>
            <a:endCxn id="167" idx="1"/>
          </p:cNvCxnSpPr>
          <p:nvPr/>
        </p:nvCxnSpPr>
        <p:spPr>
          <a:xfrm>
            <a:off x="2133360" y="3017880"/>
            <a:ext cx="991080" cy="1459440"/>
          </a:xfrm>
          <a:prstGeom prst="straightConnector1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304920" y="3232080"/>
            <a:ext cx="2590560" cy="429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Verdana"/>
              </a:rPr>
              <a:t>Ofrece bonificación de 2,5% en la tasa fija en p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2927520"/>
            <a:ext cx="1295280" cy="477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Cadena de Va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5580000"/>
            <a:ext cx="89154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300" spc="-1" strike="noStrike">
                <a:solidFill>
                  <a:srgbClr val="000000"/>
                </a:solidFill>
                <a:latin typeface="Verdana"/>
              </a:rPr>
              <a:t>El BICE otorgó $26 millones a más de 120 empres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3841920"/>
            <a:ext cx="457200" cy="304560"/>
          </a:xfrm>
          <a:prstGeom prst="downArrow">
            <a:avLst>
              <a:gd name="adj1" fmla="val 56944"/>
              <a:gd name="adj2" fmla="val 4791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223880"/>
            <a:ext cx="26668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Tasa fija en pesos 7,9% máxima y 5,3% mínima, después del subsi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D289-B598-4C60-8A8A-D4F77FB499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2048040"/>
            <a:ext cx="8534520" cy="4429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1371600"/>
            <a:ext cx="897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volución de Depósitos y Préstamos al sector priva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2209680"/>
            <a:ext cx="4343400" cy="7945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a3c9"/>
                </a:solidFill>
                <a:latin typeface="Verdana"/>
              </a:rPr>
              <a:t> </a:t>
            </a:r>
            <a:r>
              <a:rPr b="0" lang="es-ES" sz="2300" spc="-1" strike="noStrike">
                <a:solidFill>
                  <a:srgbClr val="00a3c9"/>
                </a:solidFill>
                <a:latin typeface="Verdana"/>
              </a:rPr>
              <a:t>Volvieron los depósit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a3c9"/>
                </a:solidFill>
                <a:latin typeface="Verdana"/>
              </a:rPr>
              <a:t> </a:t>
            </a:r>
            <a:r>
              <a:rPr b="0" lang="es-ES" sz="2300" spc="-1" strike="noStrike">
                <a:solidFill>
                  <a:srgbClr val="00a3c9"/>
                </a:solidFill>
                <a:latin typeface="Verdana"/>
              </a:rPr>
              <a:t>Renació el crédi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ED3-1764-468A-968A-4F02743D35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0880" y="1523880"/>
            <a:ext cx="514368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Créditos a Entidades Financi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228600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851040" indent="-285840" algn="just">
              <a:lnSpc>
                <a:spcPct val="140000"/>
              </a:lnSpc>
              <a:spcBef>
                <a:spcPts val="2299"/>
              </a:spcBef>
              <a:buClr>
                <a:srgbClr val="00a3c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300" spc="-1" strike="noStrike">
                <a:solidFill>
                  <a:srgbClr val="000000"/>
                </a:solidFill>
                <a:latin typeface="Verdana"/>
                <a:ea typeface="Arial"/>
              </a:rPr>
              <a:t>Líneas de Leas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040" indent="-285840" algn="just">
              <a:lnSpc>
                <a:spcPct val="140000"/>
              </a:lnSpc>
              <a:spcBef>
                <a:spcPts val="2299"/>
              </a:spcBef>
              <a:buClr>
                <a:srgbClr val="00a3c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300" spc="-1" strike="noStrike">
                <a:solidFill>
                  <a:srgbClr val="000000"/>
                </a:solidFill>
                <a:latin typeface="Verdana"/>
                <a:ea typeface="Arial"/>
              </a:rPr>
              <a:t>Cofinanciaciones de inversió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4038480"/>
            <a:ext cx="9068040" cy="19051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175280"/>
            <a:ext cx="89740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Verdana"/>
              </a:rPr>
              <a:t>En los últimos 12 meses el BICE otorgó $73 millones a 184 empresas a través de Nación Leasing, Provincia Leasing, y Bancos Nación, Provincia, Comafi, Credicoop y La Pamp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D6D4-54B3-44B0-B5A2-651CEB6C9C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0880" y="2819520"/>
            <a:ext cx="9068040" cy="24382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2819520"/>
            <a:ext cx="8974080" cy="20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El BICE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 suscribió un contrato de mandato con la Compañía Argentina de Seguros de Crédito a la Exportación S.A., el cual determinó el lanzamiento al mercado local de una póliza global que permite al sector exportador </a:t>
            </a:r>
            <a:r>
              <a:rPr b="0" lang="es-AR" sz="2300" spc="-1" strike="noStrike">
                <a:solidFill>
                  <a:srgbClr val="00a3c9"/>
                </a:solidFill>
                <a:latin typeface="Verdana"/>
                <a:ea typeface="Times New Roman"/>
              </a:rPr>
              <a:t>asegurar todas sus exportaciones hasta un año de plazo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  <a:ea typeface="Times New Roman"/>
              </a:rPr>
              <a:t>, a una prima reducid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84280" y="1523880"/>
            <a:ext cx="391140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Seguros de expor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D654-7E0B-43B7-AF31-248F08890F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838080" y="1238400"/>
            <a:ext cx="8229600" cy="63054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95360" y="1523880"/>
            <a:ext cx="7810560" cy="381240"/>
          </a:xfrm>
          <a:prstGeom prst="rect">
            <a:avLst/>
          </a:prstGeom>
          <a:solidFill>
            <a:srgbClr val="00a3c9"/>
          </a:solidFill>
          <a:ln w="9360">
            <a:solidFill>
              <a:srgbClr val="808080"/>
            </a:solidFill>
            <a:miter/>
          </a:ln>
          <a:effectLst>
            <a:outerShdw dist="71785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El BICE administra Fideicomisos por $8.259 mill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EE78-1B3B-42CE-A697-83F716E553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906120" cy="68454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057720" y="59436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</a:rPr>
              <a:t>Miramos más le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8244-5A87-44CF-93BD-41B6FACF23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" y="2590920"/>
            <a:ext cx="8974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a3c9"/>
                </a:solidFill>
                <a:latin typeface="Verdana"/>
              </a:rPr>
              <a:t>La Hora de la Inversió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97DA-A4E9-450C-B8F9-3AB9F8DC0F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200" y="1371600"/>
            <a:ext cx="897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volución de 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Inversión en relación </a:t>
            </a:r>
            <a:r>
              <a:rPr b="0" lang="es-AR" sz="3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 PB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-228600" y="1685880"/>
            <a:ext cx="10363320" cy="5132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107120" y="6461280"/>
            <a:ext cx="3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Arial"/>
              </a:rPr>
              <a:t>(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D6D9-E3C4-48BD-901C-76C45A3D30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38080" y="3581280"/>
            <a:ext cx="8305920" cy="22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 nivel macroeconómico para sostener el crecimiento del P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buClr>
                <a:srgbClr val="00a3c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 nivel microeconómico para aumentar la capacidad insta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676520"/>
            <a:ext cx="9068040" cy="14475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812960"/>
            <a:ext cx="897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a economía necesita más </a:t>
            </a:r>
            <a:r>
              <a:rPr b="1" lang="es-ES" sz="3000" spc="-1" strike="noStrike">
                <a:solidFill>
                  <a:srgbClr val="00a3c9"/>
                </a:solidFill>
                <a:latin typeface="Verdana"/>
              </a:rPr>
              <a:t>Crédit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, especialmente para </a:t>
            </a:r>
            <a:r>
              <a:rPr b="1" lang="es-ES" sz="3000" spc="-1" strike="noStrike">
                <a:solidFill>
                  <a:srgbClr val="00a3c9"/>
                </a:solidFill>
                <a:latin typeface="Verdana"/>
              </a:rPr>
              <a:t>Invers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4117-EEC5-4DFD-BC67-B796130522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66680" y="1881360"/>
            <a:ext cx="7631280" cy="4595760"/>
          </a:xfrm>
          <a:prstGeom prst="rect">
            <a:avLst/>
          </a:prstGeom>
          <a:solidFill>
            <a:srgbClr val="ffffff"/>
          </a:solidFill>
          <a:ln w="0">
            <a:solidFill>
              <a:srgbClr val="808080"/>
            </a:solidFill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881360"/>
            <a:ext cx="74674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Banca Especializada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de Desarroll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Magnitudes suficien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Infraestructu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Grandes empres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Pequeñas y Medianas empres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Fondeo de largo plazo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Capital propi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Recursos presupuestari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Apalancamie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Cofinanciacion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39800" y="1295280"/>
            <a:ext cx="6705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a3c9"/>
                </a:solidFill>
                <a:latin typeface="Verdana"/>
              </a:rPr>
              <a:t>Del lado de la ofert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3321-227F-4834-98FC-E7A6B3126F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66680" y="1881360"/>
            <a:ext cx="7631280" cy="3071520"/>
          </a:xfrm>
          <a:prstGeom prst="rect">
            <a:avLst/>
          </a:prstGeom>
          <a:solidFill>
            <a:srgbClr val="ffffff"/>
          </a:solidFill>
          <a:ln w="0">
            <a:solidFill>
              <a:srgbClr val="808080"/>
            </a:solidFill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1881360"/>
            <a:ext cx="746748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Plazos adecuad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en función de las características del proyec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AR" sz="2100" spc="-1" strike="noStrike">
                <a:solidFill>
                  <a:srgbClr val="000000"/>
                </a:solidFill>
                <a:latin typeface="Verdana"/>
              </a:rPr>
              <a:t>- períodos de grac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Tasas razonables</a:t>
            </a:r>
            <a:r>
              <a:rPr b="0" lang="es-AR" sz="2300" spc="-1" strike="noStrike">
                <a:solidFill>
                  <a:srgbClr val="000000"/>
                </a:solidFill>
                <a:latin typeface="Verdana"/>
              </a:rPr>
              <a:t> y moneda de acuerdo al proyec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2874"/>
              </a:spcBef>
              <a:buClr>
                <a:srgbClr val="00a3c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Acceso sencill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39800" y="1295280"/>
            <a:ext cx="6705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a3c9"/>
                </a:solidFill>
                <a:latin typeface="Verdana"/>
              </a:rPr>
              <a:t>Del lado de la demand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3009-22FF-4AF4-BDB8-ED1C3F0CCF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2438280"/>
            <a:ext cx="9068040" cy="14479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7200" y="2575080"/>
            <a:ext cx="897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s-ES" sz="3000" spc="-1" strike="noStrike">
                <a:solidFill>
                  <a:srgbClr val="00a3c9"/>
                </a:solidFill>
                <a:latin typeface="Verdana"/>
              </a:rPr>
              <a:t>Banca Públic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debe ser la nave insignia del </a:t>
            </a:r>
            <a:r>
              <a:rPr b="1" lang="es-ES" sz="3000" spc="-1" strike="noStrike">
                <a:solidFill>
                  <a:srgbClr val="00a3c9"/>
                </a:solidFill>
                <a:latin typeface="Verdana"/>
              </a:rPr>
              <a:t>financiamiento del desarrol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1C0F-0A86-4B7E-AF3D-28DB35B21A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0" r="0" b="80015"/>
          <a:stretch/>
        </p:blipFill>
        <p:spPr>
          <a:xfrm>
            <a:off x="0" y="324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" y="2286000"/>
            <a:ext cx="8974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200" spc="-1" strike="noStrike">
                <a:solidFill>
                  <a:srgbClr val="00a3c9"/>
                </a:solidFill>
                <a:latin typeface="Verdana"/>
              </a:rPr>
              <a:t>Qué es el BICE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B877-97C8-4C3C-A9B9-6A3DF4564F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4:59:08Z</dcterms:created>
  <dc:creator>Leonardo Kettmayer</dc:creator>
  <dc:description/>
  <dc:language>en-US</dc:language>
  <cp:lastModifiedBy>C.P.C.E.C.A.B.A.</cp:lastModifiedBy>
  <dcterms:modified xsi:type="dcterms:W3CDTF">2006-09-01T20:32:19Z</dcterms:modified>
  <cp:revision>298</cp:revision>
  <dc:subject/>
  <dc:title>No Slide Title</dc:title>
</cp:coreProperties>
</file>