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883800" y="743040"/>
            <a:ext cx="4900680" cy="36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88480" y="4676760"/>
            <a:ext cx="4884840" cy="38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8480" y="4676760"/>
            <a:ext cx="488484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88480" y="4676760"/>
            <a:ext cx="488484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888480" y="4677840"/>
            <a:ext cx="4884840" cy="33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88480" y="4676760"/>
            <a:ext cx="488484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88480" y="4677840"/>
            <a:ext cx="4884840" cy="33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88480" y="4677840"/>
            <a:ext cx="4884840" cy="33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88480" y="4677840"/>
            <a:ext cx="4884840" cy="33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8416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88480" y="4676760"/>
            <a:ext cx="488484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776760" y="0"/>
            <a:ext cx="288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93376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88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80920" y="74304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677840"/>
            <a:ext cx="4884840" cy="33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193840"/>
            <a:ext cx="78487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3399"/>
                </a:solidFill>
                <a:latin typeface="Times New Roman"/>
              </a:rPr>
              <a:t>Fondos Comunes de Inversió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92640" y="5943600"/>
            <a:ext cx="50799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1 de Agost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79840" y="2732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79840" y="2732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875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124080"/>
            <a:ext cx="754380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° Congreso Nacional e Internacional de Finanzas de la Empresas y Mercados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jo Profesional de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Ciudad Autónoma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mara Argentin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s Comu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03680" y="639432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52280"/>
            <a:ext cx="7620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3399"/>
                </a:solidFill>
                <a:latin typeface="Times New Roman"/>
              </a:rPr>
              <a:t>Cuotapartistas</a:t>
            </a:r>
            <a:r>
              <a:rPr b="1" i="1" lang="es-ES_tradn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Times New Roman"/>
              </a:rPr>
              <a:t>al 31/07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600" y="63752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250200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to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stitucion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,753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1,58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M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dividu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2,185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,08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52280"/>
            <a:ext cx="7620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3399"/>
                </a:solidFill>
                <a:latin typeface="Times New Roman"/>
              </a:rPr>
              <a:t>Dimensiones relativas</a:t>
            </a:r>
            <a:r>
              <a:rPr b="1" i="1" lang="es-ES_tradn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Times New Roman"/>
              </a:rPr>
              <a:t>al 31/07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600" y="63752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62120" y="1905120"/>
            <a:ext cx="7619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CI / M3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FCI / 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EUU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ranci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rasil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62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pañ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8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cidad: Reduce los procesos administr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ilidad: Para cambiar de in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quidez: Inmediata, de acuerdo al tipo de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ción Profesional: Full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horro en Costos: Com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ía de Escala: Mejores pre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ersificación: Reduce ries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o a Mercados: Acciones, Bon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: Amplia gama de Fo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o Regulatorio: Protección al Inver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Venta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680" y="639432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80880"/>
            <a:ext cx="8305560" cy="609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Muchas gracias por su presencia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2514600"/>
            <a:ext cx="7848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. Marcelo Nicol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ww.fondosargentina.org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733920" y="685800"/>
            <a:ext cx="1676160" cy="15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8640" y="2362320"/>
            <a:ext cx="7653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idea es si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s personas confían su dinero a una institución que, mediante administradores profesionales de carteras, invierte en diversos tipos de activos financieros para lograr un objetivo especí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inversor participa proporcionalmente en las ganancias o pérdi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750600"/>
            <a:ext cx="708660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¿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Qué es un Fondo Común </a:t>
            </a:r>
            <a:br>
              <a:rPr sz="3600"/>
            </a:b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e Inversió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840" y="632448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295280" y="2742840"/>
            <a:ext cx="182880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2971800"/>
            <a:ext cx="2108160" cy="134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0800" y="577800"/>
            <a:ext cx="5702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7920" y="3035160"/>
            <a:ext cx="1644480" cy="13017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23232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7160" y="3073320"/>
            <a:ext cx="1720800" cy="7113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23232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88200" y="1747800"/>
            <a:ext cx="416160" cy="439884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87840" y="4576680"/>
            <a:ext cx="1765080" cy="153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23232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960" y="2597040"/>
            <a:ext cx="406440" cy="33210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3280" y="1865160"/>
            <a:ext cx="2195640" cy="1614600"/>
          </a:xfrm>
          <a:prstGeom prst="rect">
            <a:avLst/>
          </a:prstGeom>
          <a:solidFill>
            <a:srgbClr val="feffe0"/>
          </a:solidFill>
          <a:ln w="12600">
            <a:solidFill>
              <a:srgbClr val="23232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1981080"/>
            <a:ext cx="263844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001f"/>
                </a:solidFill>
                <a:latin typeface="Times New Roman"/>
              </a:rPr>
              <a:t>Par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001f"/>
                </a:solidFill>
                <a:latin typeface="Times New Roman"/>
              </a:rPr>
              <a:t>F.C.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001f"/>
                </a:solidFill>
                <a:latin typeface="Times New Roman"/>
              </a:rPr>
              <a:t>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9320" y="2649600"/>
            <a:ext cx="29376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VER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1040" y="4800600"/>
            <a:ext cx="969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2600" y="1809720"/>
            <a:ext cx="4143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UOTAPART I 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5800" y="32004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9640" y="3263760"/>
            <a:ext cx="1729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819600"/>
            <a:ext cx="0" cy="523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" y="63500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01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76280" indent="-4762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Sociedad Ger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ige y administra los Fondos Comunes de In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a el valor de las Cuota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 a los Cuotapartistas y al Fondo en todo acto de administración y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las compras, constitución de certificados de depósitos, traslados de fo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3440" indent="-28584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a los pagos de Resc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040" y="63500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760" y="977760"/>
            <a:ext cx="82454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99"/>
                </a:solidFill>
                <a:latin typeface="Times New Roman"/>
              </a:rPr>
              <a:t>2. Sociedad Deposita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stodia de los valores que componen las carteras de los F.C.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gente de registro escritural de cuota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locación de cuota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bro de suscripciones y pago de los rescates y divide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o Colocador de cuotapartes, analiza el perfil de riesgo asumible y el horizonte de inversión de los cl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gilancia del cumplimiento por la Sociedad Gerente de las disposiciones relacionadas con la Administración de los Fo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000" y="63626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040" y="1596960"/>
            <a:ext cx="779616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3. Reglamento de Gest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ece las relaciones contractuales, obligaciones y de más reglas a observar por ambas sociedades con relación a los Fondos Comunes de Inversión, acordado por ambas sociedades y aprobado por la Comisión Nacional de Valores.  Se entrega sin cargo a los suscriptores de cada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0" y="63626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1720" y="45720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28760" y="1695600"/>
            <a:ext cx="5924520" cy="1923840"/>
          </a:xfrm>
          <a:prstGeom prst="rect">
            <a:avLst/>
          </a:prstGeom>
          <a:solidFill>
            <a:srgbClr val="fe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56880" y="2301840"/>
            <a:ext cx="93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9000" y="6068880"/>
            <a:ext cx="155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160" y="1604880"/>
            <a:ext cx="2201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EXPECTATIVA DE 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619520"/>
            <a:ext cx="5943600" cy="140040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6019920"/>
            <a:ext cx="594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09680" y="1676160"/>
            <a:ext cx="594360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36960" y="5111640"/>
            <a:ext cx="368280" cy="368280"/>
          </a:xfrm>
          <a:prstGeom prst="ellipse">
            <a:avLst/>
          </a:prstGeom>
          <a:solidFill>
            <a:srgbClr val="1f4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994040"/>
            <a:ext cx="368280" cy="368280"/>
          </a:xfrm>
          <a:prstGeom prst="ellipse">
            <a:avLst/>
          </a:prstGeom>
          <a:solidFill>
            <a:srgbClr val="1f4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51520" y="2998800"/>
            <a:ext cx="368280" cy="368280"/>
          </a:xfrm>
          <a:prstGeom prst="ellipse">
            <a:avLst/>
          </a:prstGeom>
          <a:solidFill>
            <a:srgbClr val="1f4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4840" y="5111640"/>
            <a:ext cx="1490400" cy="387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2720" y="5140440"/>
            <a:ext cx="124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IQU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61040" y="2178000"/>
            <a:ext cx="1842840" cy="387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3760" y="2206800"/>
            <a:ext cx="1743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74600" y="3597120"/>
            <a:ext cx="70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18000" y="5369040"/>
            <a:ext cx="1010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z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19800" y="3446640"/>
            <a:ext cx="914400" cy="1201680"/>
            <a:chOff x="7219800" y="3446640"/>
            <a:chExt cx="914400" cy="1201680"/>
          </a:xfrm>
        </p:grpSpPr>
        <p:grpSp>
          <p:nvGrpSpPr>
            <p:cNvPr id="107" name=""/>
            <p:cNvGrpSpPr/>
            <p:nvPr/>
          </p:nvGrpSpPr>
          <p:grpSpPr>
            <a:xfrm>
              <a:off x="7219800" y="3446640"/>
              <a:ext cx="427320" cy="1201680"/>
              <a:chOff x="7219800" y="3446640"/>
              <a:chExt cx="427320" cy="120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721980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8496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5804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4296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50096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7404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4712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707240" y="3446640"/>
              <a:ext cx="426960" cy="1201680"/>
              <a:chOff x="7707240" y="3446640"/>
              <a:chExt cx="426960" cy="1201680"/>
            </a:xfrm>
          </p:grpSpPr>
          <p:sp>
            <p:nvSpPr>
              <p:cNvPr id="116" name=""/>
              <p:cNvSpPr/>
              <p:nvPr/>
            </p:nvSpPr>
            <p:spPr>
              <a:xfrm>
                <a:off x="770724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384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4548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1676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8984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6148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3420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266920" y="3446640"/>
            <a:ext cx="914400" cy="1201680"/>
            <a:chOff x="2266920" y="3446640"/>
            <a:chExt cx="914400" cy="1201680"/>
          </a:xfrm>
        </p:grpSpPr>
        <p:grpSp>
          <p:nvGrpSpPr>
            <p:cNvPr id="124" name=""/>
            <p:cNvGrpSpPr/>
            <p:nvPr/>
          </p:nvGrpSpPr>
          <p:grpSpPr>
            <a:xfrm>
              <a:off x="2266920" y="3446640"/>
              <a:ext cx="426960" cy="1201680"/>
              <a:chOff x="2266920" y="3446640"/>
              <a:chExt cx="426960" cy="1201680"/>
            </a:xfrm>
          </p:grpSpPr>
          <p:sp>
            <p:nvSpPr>
              <p:cNvPr id="125" name=""/>
              <p:cNvSpPr/>
              <p:nvPr/>
            </p:nvSpPr>
            <p:spPr>
              <a:xfrm>
                <a:off x="226692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3208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0516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7644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4808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2080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938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754360" y="3446640"/>
              <a:ext cx="426960" cy="1201680"/>
              <a:chOff x="2754360" y="3446640"/>
              <a:chExt cx="426960" cy="1201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5436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2096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9260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3696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824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8132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257640" y="3446640"/>
            <a:ext cx="914400" cy="1201680"/>
            <a:chOff x="3257640" y="3446640"/>
            <a:chExt cx="914400" cy="1201680"/>
          </a:xfrm>
        </p:grpSpPr>
        <p:grpSp>
          <p:nvGrpSpPr>
            <p:cNvPr id="141" name=""/>
            <p:cNvGrpSpPr/>
            <p:nvPr/>
          </p:nvGrpSpPr>
          <p:grpSpPr>
            <a:xfrm>
              <a:off x="3257640" y="3446640"/>
              <a:ext cx="426960" cy="1201680"/>
              <a:chOff x="3257640" y="3446640"/>
              <a:chExt cx="426960" cy="120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325764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2280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9552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6716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3844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1152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8460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745080" y="3446640"/>
              <a:ext cx="426960" cy="1201680"/>
              <a:chOff x="3745080" y="3446640"/>
              <a:chExt cx="426960" cy="12016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4508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1168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8296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460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732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896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7204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4248000" y="3446640"/>
            <a:ext cx="914400" cy="1201680"/>
            <a:chOff x="4248000" y="3446640"/>
            <a:chExt cx="914400" cy="1201680"/>
          </a:xfrm>
        </p:grpSpPr>
        <p:grpSp>
          <p:nvGrpSpPr>
            <p:cNvPr id="158" name=""/>
            <p:cNvGrpSpPr/>
            <p:nvPr/>
          </p:nvGrpSpPr>
          <p:grpSpPr>
            <a:xfrm>
              <a:off x="4248000" y="3446640"/>
              <a:ext cx="427320" cy="1201680"/>
              <a:chOff x="4248000" y="3446640"/>
              <a:chExt cx="427320" cy="1201680"/>
            </a:xfrm>
          </p:grpSpPr>
          <p:sp>
            <p:nvSpPr>
              <p:cNvPr id="159" name=""/>
              <p:cNvSpPr/>
              <p:nvPr/>
            </p:nvSpPr>
            <p:spPr>
              <a:xfrm>
                <a:off x="424800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1316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8624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578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2916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0224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7532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35440" y="3446640"/>
              <a:ext cx="426960" cy="1201680"/>
              <a:chOff x="4735440" y="3446640"/>
              <a:chExt cx="426960" cy="1201680"/>
            </a:xfrm>
          </p:grpSpPr>
          <p:sp>
            <p:nvSpPr>
              <p:cNvPr id="167" name=""/>
              <p:cNvSpPr/>
              <p:nvPr/>
            </p:nvSpPr>
            <p:spPr>
              <a:xfrm>
                <a:off x="473544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204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7368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4496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1804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8968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6240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5238720" y="3446640"/>
            <a:ext cx="914400" cy="1201680"/>
            <a:chOff x="5238720" y="3446640"/>
            <a:chExt cx="914400" cy="1201680"/>
          </a:xfrm>
        </p:grpSpPr>
        <p:grpSp>
          <p:nvGrpSpPr>
            <p:cNvPr id="175" name=""/>
            <p:cNvGrpSpPr/>
            <p:nvPr/>
          </p:nvGrpSpPr>
          <p:grpSpPr>
            <a:xfrm>
              <a:off x="5238720" y="3446640"/>
              <a:ext cx="426960" cy="1201680"/>
              <a:chOff x="5238720" y="3446640"/>
              <a:chExt cx="426960" cy="1201680"/>
            </a:xfrm>
          </p:grpSpPr>
          <p:sp>
            <p:nvSpPr>
              <p:cNvPr id="176" name=""/>
              <p:cNvSpPr/>
              <p:nvPr/>
            </p:nvSpPr>
            <p:spPr>
              <a:xfrm>
                <a:off x="523872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0388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7696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4824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1988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9260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656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726160" y="3446640"/>
              <a:ext cx="426960" cy="1201680"/>
              <a:chOff x="5726160" y="3446640"/>
              <a:chExt cx="426960" cy="1201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72616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276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440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356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0876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8004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5312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6248520" y="3446640"/>
            <a:ext cx="914400" cy="1201680"/>
            <a:chOff x="6248520" y="3446640"/>
            <a:chExt cx="914400" cy="1201680"/>
          </a:xfrm>
        </p:grpSpPr>
        <p:grpSp>
          <p:nvGrpSpPr>
            <p:cNvPr id="192" name=""/>
            <p:cNvGrpSpPr/>
            <p:nvPr/>
          </p:nvGrpSpPr>
          <p:grpSpPr>
            <a:xfrm>
              <a:off x="6248520" y="3446640"/>
              <a:ext cx="426960" cy="1201680"/>
              <a:chOff x="6248520" y="3446640"/>
              <a:chExt cx="426960" cy="1201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4852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1332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8640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5804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2932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0240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754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735600" y="3446640"/>
              <a:ext cx="427320" cy="1201680"/>
              <a:chOff x="6735600" y="3446640"/>
              <a:chExt cx="427320" cy="1201680"/>
            </a:xfrm>
          </p:grpSpPr>
          <p:sp>
            <p:nvSpPr>
              <p:cNvPr id="201" name=""/>
              <p:cNvSpPr/>
              <p:nvPr/>
            </p:nvSpPr>
            <p:spPr>
              <a:xfrm>
                <a:off x="6735600" y="346248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02560" y="3460680"/>
                <a:ext cx="0" cy="11829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73840" y="34578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4548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18200" y="3446640"/>
                <a:ext cx="0" cy="1184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9840" y="3456000"/>
                <a:ext cx="0" cy="1182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62920" y="3463920"/>
                <a:ext cx="0" cy="1184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5843520" y="3886200"/>
            <a:ext cx="1865520" cy="387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96080" y="388620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4520" y="4038480"/>
            <a:ext cx="368640" cy="368280"/>
          </a:xfrm>
          <a:prstGeom prst="ellipse">
            <a:avLst/>
          </a:prstGeom>
          <a:solidFill>
            <a:srgbClr val="1f4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9800" y="640080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17524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152280"/>
            <a:ext cx="762012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Mercado de Fondos Comu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e Inversión al 31/07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600" y="637524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380880" y="1600200"/>
          <a:ext cx="83822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82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03680" y="6394320"/>
            <a:ext cx="393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mara Argentina de Fondos Comune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3T02:27:28Z</dcterms:created>
  <dc:creator>ALEJANDRO</dc:creator>
  <dc:description/>
  <dc:language>en-US</dc:language>
  <cp:lastModifiedBy>C.P.C.E.C.A.B.A.</cp:lastModifiedBy>
  <cp:lastPrinted>2001-03-23T15:43:01Z</cp:lastPrinted>
  <dcterms:modified xsi:type="dcterms:W3CDTF">2006-08-31T12:12:22Z</dcterms:modified>
  <cp:revision>68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xda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  <property fmtid="{D5CDD505-2E9C-101B-9397-08002B2CF9AE}" pid="22" name="_AdHocReviewCycleID">
    <vt:r8>-1607621076</vt:r8>
  </property>
  <property fmtid="{D5CDD505-2E9C-101B-9397-08002B2CF9AE}" pid="23" name="_AuthorEmail">
    <vt:lpwstr>Marcelo.Nicoletti@itau.com.ar</vt:lpwstr>
  </property>
  <property fmtid="{D5CDD505-2E9C-101B-9397-08002B2CF9AE}" pid="24" name="_AuthorEmailDisplayName">
    <vt:lpwstr>Marcelo Nicoletti</vt:lpwstr>
  </property>
  <property fmtid="{D5CDD505-2E9C-101B-9397-08002B2CF9AE}" pid="25" name="_EmailSubject">
    <vt:lpwstr>PResentación</vt:lpwstr>
  </property>
  <property fmtid="{D5CDD505-2E9C-101B-9397-08002B2CF9AE}" pid="26" name="_ReviewingToolsShownOnce">
    <vt:lpwstr/>
  </property>
</Properties>
</file>