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C8C-C51F-4CA7-8731-767A72C4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05C-35DC-491E-BDA3-901FF5F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14FDC-EFC6-4193-A4CE-22D4AAF3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54C7C-F316-4B14-85CE-E8284B2B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628AA-F9E9-42CD-B55C-2E3EAB20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48F33-8D66-497D-A1EB-B704075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63B6E-F94F-441F-89CC-47B7CCFD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85FD8-D7C5-46B2-AF33-804D6E7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E08EC-C882-4F01-A4DE-C18F205E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E71B4-02FC-4F7F-81D5-C37652B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BE18A-83F2-495B-A5EA-1CE7E9D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5D99A-5DFB-4B54-AD4F-888B3C31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A21-B9ED-44FD-A654-D361C79F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2B1CA-A010-476F-BEAA-1325FCCE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E9D70-D113-409F-B010-D84D526D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0A62-500D-462D-9DB4-5A2CCFB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4D4C5-1B59-4C6F-A579-DDFD189E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DD9D0-04BC-4A14-96AD-37509E9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3CBBB-C68B-4FA9-9CEE-63C14C7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99807-ED66-45E8-85B2-F0159B5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EF345-90B7-44DA-8ADA-3BC93793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2FFB-17A0-4765-B307-A438C9F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3A1E5-F115-4799-AD52-27D0DBC5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5FB-1634-407E-A66A-168D6CFE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9EB9D-5E85-4CF6-B3E4-3A6DEB8F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F90C-EF55-431F-8715-9ACBA947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B3EB-E802-484D-8742-4264D0A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9094C-8FF1-4482-8A77-B31F14B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08DEA-4730-4460-B325-8B80B07F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3D581-FABE-483D-90C0-3424106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2CCD6-9337-47AC-8584-A7D8725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B09DB-AE4A-4920-90DE-C050588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70835-5B15-4B26-AD57-F38EAD85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D574-663E-46FD-8554-EA067FC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DCC-1F1A-4EF9-B125-61E0AF7B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3397C-5E5D-4B05-A837-3851B47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7A99E-33A1-4152-B60D-D7EC3EE8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9CFC6-EFB2-4E23-B664-CEEB3488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16916-50DE-4558-95EA-F1830C4B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5FE64-A131-40DE-A97C-59DEA9E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32704-8851-407E-BBB6-DBF2AA8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3F03-806D-478F-A3BC-B6EC251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274B6-4E67-4222-83BA-3F38F161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B490A-F752-431A-A224-5D300969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895BC-975D-43D6-947A-D331F3D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BB69-A4A6-4B43-9DC2-AE1DD30E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F26CB-AF67-483F-9E64-9D22AE7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A26FD-4B50-4CCD-BB02-5A5A060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0ACDD-AF90-4E15-96F0-E4FDC19C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CC27-042C-4FE2-AE2C-4C18C61E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2A88A-7CF3-47A6-AE6D-A7C8324D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55A3D-09C9-4DB0-A407-CD825A5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58B8A-1027-4478-8B8E-7FEA8D1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E68FA-46E0-4EDB-94F0-063CC2A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58C18-1D02-4447-A4BD-4FB7DC48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DF0F2-A4C5-4C0C-BF7B-B88B816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FCE6-C766-481C-8A4E-2BCFFE8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5631B-AF38-4E29-89A8-D2717F9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2BE76-1014-44EB-BF21-00506D2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BD020-964B-4FF8-BD90-FA8075B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2A455-1174-4348-AFBA-01EEBF37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7111E-023F-4B03-99F2-63AA9D6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2CC4A-18FF-462E-AEFD-165ABC3D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FC718-5636-4EE9-AD78-41103D3D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DC1AC-92A5-4A38-B813-E3AD74A1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3F634-9515-4A48-9EB4-9F6C18B1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EAA74-CAEA-48F2-A7CA-1D0C677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2ACE-4348-42F5-9C52-04566649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09FCF-71A2-413A-83E5-A78618C5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45E98-E95D-4007-A141-9D76F2E0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76C1D-1E23-4A2E-8D26-70F152B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DCA5AE-E70E-4364-BD14-782A8397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FB978-9F24-4507-B521-832950D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F188B-234C-441A-A55A-8E393F9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CAA7A-B097-4DCA-8131-9A04E786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181FA-668E-4311-B9F3-EE0CEA4B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A098D-5561-4B73-928E-83593335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544E0-6F39-49B5-8EAC-6A09BCD0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892-6925-45A5-8823-436017F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75CEA-9CF5-4F04-A902-93567098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88F9F-8750-471F-91FD-C59B5099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7BB3E-35D2-424B-BBB3-C40A760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336B7-9729-4DA8-A025-B1DCC9F7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44524-6989-4CDC-B687-5777C55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AFEAFD-8CD3-4A4D-94DA-7BFB0E0B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F5879-DBDD-45C0-BFF2-AF58185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A9BA4-8CD1-4C4E-94A2-1E678E7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A129C-5A1D-4398-87A3-84177978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4AA7C-311E-4703-8BE1-255F2578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71EC-9C51-4E78-85A6-8D0CE28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119DE-0827-4D0D-B1DA-FDA6B273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DB04A-B240-47F8-B91D-37728945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13052-BDBF-465B-BDD5-5DEF2E2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C333A-2E99-422F-9422-0B53FBD3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EF5F7C-A743-4620-9290-B077515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8E0989-9390-496D-87D5-6B3F273C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F805A-8D8A-466F-B778-191C5C0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92DD2-544C-4EBE-B47C-A8C59B2C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03C14-17CE-4CAF-ACBF-561442C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59E7E-C236-4A23-B21C-050E706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DF9-A0D7-4E6E-997C-A4C47356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10C54-0678-4CB6-B07F-8807937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E796C0-A5EE-4EE8-8201-F6E41921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3B0EC-A006-4371-A51D-41C7AB24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29A06-6DB0-4A3C-A465-85D07988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26C10-22E5-445E-B641-95F329A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60F49-9CD0-4C3D-A180-78C9218A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9E29F-6631-4988-8CC2-D999817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3AD93-09DA-4E3D-A8F2-DE9E414E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D85DC-5647-4FE3-BC86-7E3D5FBF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BDF19-F667-416D-B19F-09821AB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B6B-DD45-449D-917C-9B7B2906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77C-F3B3-492E-BDA8-BBFF5ECA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00151-B040-4233-86D4-ADE18AF1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09E0E-C823-4F89-8CA8-0BB9EFE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4E587-808B-41FE-B59E-2F06AD36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DBA1B-C920-4678-823A-BAB5B4B1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7B2D5-9B6C-405B-A429-56AF6A78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77D75-A029-434B-A1E7-7F1586CA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04F41-0796-4DB0-B28E-D8ADC195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563BA-95C5-4A21-812D-5CB486DE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97361-5EED-4A0F-ADF0-4F04771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50A8D-BBDC-4158-BD5F-83345335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6EC-CE90-4229-B5A7-83E5B8E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99EF6-B75E-4759-BC12-B33188E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BBACC-D7C8-45E5-95D1-D78EAE7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C9893-ECE2-40E1-83A7-1D2253E5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294F1-C855-4D03-8DB1-FF825D78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5971F-B596-4628-9426-84A5EE23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ADFE9-D617-4A5E-AC2A-E488C2A0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84F67-4AF5-405A-A2F2-2FDF3CB6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702DB2-3B50-413A-AFB7-BE4D60AC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C33E8-10C8-451B-B65B-39D84FF6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4352A-125A-4C17-9261-F28C5440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E1B-B740-4A16-80BC-2FE791B0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BC588-BF48-477B-9ACF-03DE4F2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2706B-A804-46EE-B893-F29FFE3A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C1FB0-A883-49E0-9FB7-37A3DAB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88D54-F3E4-4923-A88D-AA24EDA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D10F1-B807-467D-9C85-0846777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C52228-D526-491E-BE63-6984474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D634B-3D2F-4A65-9FFD-F5AD5BB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08BBE1-A22F-4BE1-9BC5-6645585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EDEDC-5073-4A5A-939D-C8D9662B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B4448-EB1C-4B09-B4AF-32D09176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149-96B3-43E5-8225-8F73BE0F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7AB98-EB4E-40C5-85CB-5CEA6D99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8DAF8-31BE-47CD-A9B6-0BB7E35C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478C4A-7530-4494-8ED2-A51E095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5CC95-B125-46A6-B81D-2A8EFF87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A0741-7798-4660-A207-B5CEDAF9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124B48-4FFF-4ADA-A2B8-AD91A44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F8042F-B914-4B4A-8ABD-55B4203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CE990-0746-4F73-9572-A89D381F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4A0D0A-6A9B-4A16-BD4F-63E528FF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DB6D8-2959-4985-B83C-9454D65F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54FE-1790-4C7F-84E5-91F625DE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45568D-02FB-4C0E-A721-012203A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CFDC-3FFF-4718-BA6F-76BE6D64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476B-8A7D-4344-9F35-50CB17F5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D257-A13B-42EC-A355-17B55C9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C50D-030B-49AA-83A9-417A864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CA37-B898-4DC9-A6FC-8A975684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78F-5DCB-4A34-88D8-201BCFD3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6B06-8BB1-4EDB-8DB4-39019D2A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12E2B-C94E-4017-912E-1795DB3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E30F-16E4-43F9-8999-E594A6C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15186-E946-4BF4-AC38-D3E5586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24E32-4E7D-41AE-B258-C29B538F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F87E-57B0-4222-8EE5-05E0F9EC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DB74-4FD6-43A3-95AF-1D24E49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E9DF-A895-4CDC-BF64-1D32F9D2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D107-085D-4C43-860D-5794B81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D311D-612C-42C7-BBEC-FB6FD951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438-6E7E-42D3-91DD-656570D6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A5D3-A3B0-41AA-9104-C022A40D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28DF-4B05-4AFA-84D5-7D2B8CB0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1ABFD-00AC-4EDA-A3F9-CEA16F8F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7CA8-C666-4EA9-AF56-38AE54F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2852-403D-4662-9851-69468F6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C3FE-9B07-474C-987A-1589ED2C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E80C-80F2-4A92-8995-7D10F92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D3D7-9E72-4E3D-AA89-10738AB4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64A6-2C14-43E6-948B-379AAF17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56C7-BBF1-4317-99D1-D454EEA9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8D6-8726-4D90-BD34-B3C391D1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8712-6858-4BA4-A957-770A67F3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AF19-9AD7-4CFC-9840-B6FA5DF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7D86-748C-4894-80F5-2095061D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2E7B-795C-4F69-8571-748A3A98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2D57-D124-439C-ADF1-0CCA55AA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49BA-E09B-4813-87EE-3F2A89D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3B134-9F50-452C-A630-D3DFA5DE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9BE7-A000-4EBA-9B62-DC33D61C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2F9B-99BE-415D-B855-A2FB1CB0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1502-F9D9-4D78-A3C0-7D484A2E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801-FC37-4357-8753-D0CE8EE2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7020-12AF-4952-A257-D31C11D0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4EE7-BFEA-41C5-854A-BAE34884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FC9CF-6572-404F-9F83-5F8940A9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6AAD-169C-4559-B360-63777D0C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AE74-5623-4A67-8672-4D1CB438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10068-8F5A-4C82-9197-C4CDEE53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0523-520B-449F-A3D7-D9081383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6B83-1021-47E1-91ED-95E3F26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F10E1-A135-4762-874A-3A14A60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47A4-DD89-4275-A325-739EAC6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AFD-4FC2-4348-9BBE-49AF39E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7BB32-08CC-41A5-9D0F-CBB4F709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7B27-AC12-4146-AA05-5376D8DE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E736-AB61-45CB-AE33-B24C0832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E292-F42A-4AEB-9134-8861D20C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7EE68-AAE1-4B2B-9976-F6DFADC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FB4A-BCA9-4016-9F24-5B99CCDA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FFD0-3821-4190-8D98-3CB060E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CAFC-C6A3-489C-AB13-4519A640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7F378-C911-4BB8-8077-726055E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52BA-EBF0-4904-B022-4157A7AA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117-5D6F-46EA-88B6-321C4D8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9342-7C3E-45EC-B325-07AD715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1662-D8B9-485A-BE93-74C85A6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16E1A-127C-4628-908A-4B1FB50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00573-E7B9-4E5A-A99E-E9884777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0E58-4BDA-4982-B13C-A774B882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BB8F2-81E1-4659-B5DD-BFFC251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0569A-7A3B-4F9C-8B83-3EF36792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8A893-BCEA-471A-AFA2-2B77C3EF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C879C-D14D-4090-ADC5-5E35E109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ECC34-04CC-460C-AACA-83FC264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1A9-43C8-4BDE-A49F-6FC32DA2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451D-C66E-44CB-AEAA-EF4CAD1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B66B-853D-462A-B22D-4B0DEE6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A5E5-8FCB-484B-ACEB-6854429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72E4-4744-49A3-9484-F9DC484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A5E8-640C-4883-B27D-2CDFABC1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60767-017C-48B1-92B6-2FF43660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F7B6-09C2-4C89-A99D-1B793DB8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4986-588B-4961-BF7A-E8AA69AB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73908-BD99-4C8A-83EF-C80E7123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AD8F-6718-4E45-95C0-1829FFE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5A39-BCA8-4B3E-BE0A-8252490C6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22F0-CD5A-43C2-9D52-16FCADFBAC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BDA-5369-4634-B2B1-479E595F363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1605-AE14-4B00-AAD5-32A70260EF7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9574-DD74-47EE-A9C2-C8485C70E6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695160" y="3105000"/>
            <a:ext cx="105343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54A4-A426-4DCE-90B0-1D85596501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E72E-78D2-49A1-AF7B-A425F19415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757080" y="2565360"/>
            <a:ext cx="105343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AE1-2C7D-4835-BAEA-BDD231B8E0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FD96-41B8-4AB2-820B-772DCBBABE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7005-1165-43CE-88D3-C3CE553504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A6DF-6A00-40DF-B2F3-3F5D43E6E15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1700280"/>
            <a:ext cx="754380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50B5-5285-4169-B5E4-575BBB0F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150-950B-4662-A5BE-0A69F8BEDB1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65C-998A-492A-B5AF-D61ED2B8C5F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64BC-4458-4901-977A-9D91CB85FA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5184-6C69-4EF7-B0D8-8A2C87189E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BAA-3EAE-4F90-B066-1F874CD200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D913-2510-41A0-AA49-2EEE688EDC0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463D-59C7-4828-9DC3-C8E1096C54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66A-9852-47EA-B816-ADDB64AF03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547640" y="476280"/>
            <a:ext cx="59342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ga clic para cambiar el estilo de título</a:t>
            </a: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	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4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760320" y="16905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701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nace la Bolsa de Lond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enzó a cotizar en su propio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reó EDX Londres: área de negocios de derivados internacionales de acciones en sociedad con el OM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Ener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a Deutsche Börse y Euronext lanzaron ofertas para su adquisición, aunque negocia más que la sumatoria de ambos mercados. La idea es que tener un mercado integrado en Europa desincentivaría a las empresas europeas de listar en 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452680" y="1122480"/>
            <a:ext cx="39909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NDON STOCK EXCHANG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848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0, 18 de marz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Fruto de la fusión de las Bolsas de París, Amsterdam y Brusel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se suma la Bolsa de Lisboa. Dio lugar así a la primera plaza integrada en la zona del Euro. Es la segunda en Europa, detrás de la de Lond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n Gran Bretaña  se unió sólo en derivados al adquirir  y formar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Euronext.Liffe.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en sociedad con la Bolsa italiana adquirió una participación importante en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MTS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, el mercado electrónico europeo líder en títulos de renta fija al por may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1: NYSE Group y Euronext firman un acuerdo para fusionarse en la nueva </a:t>
            </a: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YSE Euronext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3708360" y="835200"/>
            <a:ext cx="16002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URONEXT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11280" y="11124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436680" y="1557360"/>
            <a:ext cx="81676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Junio 19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lanza nueva propuesta para fusionarse con Euronext. Crear una nueva compañía que tendrá oficinas para sus ejecutivos principales en Amsterdam, Frankfurt y Par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Deutsche Börse aportará el CEO y Euronext el presidente de la Mesa Superv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publica los estatutos propuestos para la nueva compañía a cre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Agosto 4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el precio propuesto por cada acción VN de Euronext alcanza los EUR 72,17, comparados con los EUR 68,82 ofrecidos por el NYS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916360" y="1052640"/>
            <a:ext cx="26575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UTSCHE BÖRS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2003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: nace de la fusión de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s nórdicas) y </a:t>
            </a:r>
            <a:r>
              <a:rPr b="1" lang="es-MX" sz="3000" spc="-1" strike="noStrike">
                <a:solidFill>
                  <a:srgbClr val="ff0000"/>
                </a:solidFill>
                <a:latin typeface="Times New Roman"/>
              </a:rPr>
              <a:t>HEX</a:t>
            </a: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 (Bolsa de Helsinki) formando el mayor mercado integrado del Norte de Europa  a través de las bolsas de Copenhague (Dinamarca), Estocolmo (Suecia), Helsinki (Noruega), Riga (Letonia), Tallinn (Estonia) y Vilnius (Lituania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imes New Roman"/>
              </a:rPr>
              <a:t>Provee de soluciones tecnológicas para mercados financieros y de energía en todo el mundo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324240" y="1052640"/>
            <a:ext cx="1752480" cy="43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MX GROUP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2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crea la Sociedad Holding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BME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 Forman parte de ella: a) la Bolsa de Madrid, la de Barcelona, la de Bilbao y la de Valencia. b) 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MF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Mercados</a:t>
            </a:r>
            <a:r>
              <a:rPr b="1" lang="es-MX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Financiero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integrado por el mercado de derivados MEFF, de renta fija privada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AIAF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y de renta fija pública SENAF y, c)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IBERCLEAR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ámara de Compensación y Liquidación de Ope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479600" y="1413000"/>
            <a:ext cx="5829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S Y MERCADOS ESPAÑOLES(BM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332000" y="907920"/>
            <a:ext cx="6229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de mercados más cercano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1999, diciembre: se cre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ff0000"/>
                </a:solidFill>
                <a:latin typeface="Times New Roman"/>
              </a:rPr>
              <a:t>LATIBEX: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único mercado internacional de valores latinoamericanos. Canaliza inversiones europeas, negocia en Euros y se apoya en la plataforma de negociación y liquidación de valores de la Bolsa Españ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apitalización de Mercado (al 21.06.06)     222.194,64 millones de E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(aprox. 25% de la Cap. de mercado españ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Número de Compañías de 7 países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en el año 2006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-9,7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ntabilidad desde su inicio en 1999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8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PRINCIPALES PAISES REPRESEN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8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5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4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Times New Roman"/>
              </a:rPr>
              <a:t>Argentina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2 empresas (Banco Río de la Plata y BBVA Banco Franc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386160" y="981000"/>
            <a:ext cx="1257120" cy="358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TIBEX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755640" y="1773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1, julio 3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se integran las bolsas de Bogotá, Medellín y Occidente y nace la Bolsa de Valores de Colo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oy se encuentra consolidada en una sola plataforma y administra los mercados accionarios, de derivados y de renta f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articipan todos los operadores de las antiguas bol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s bolsas originales entraron en un proceso de liquid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2101680" y="1050840"/>
            <a:ext cx="49914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OLSA DE VALORES DE COLOMB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610920" y="19782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Australiana y la Bolsa de Futuros de Sidney han anunciado su intención de asoci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 entre la Bolsa Australiana y el CBOT para facilitar negociación off-shore de productos loc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Bolsa Nacional de India con la de Singapur llegaron a un acuerdo para que se negocien en esta última los Futuros Nifty (Ind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cuerdos similares entre las Bolsas de Singapur, la de Toronto y la de Taiwá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908000" y="1052640"/>
            <a:ext cx="559152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Otros continentes, otros países: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Una misma tendenci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826920" y="2205000"/>
          <a:ext cx="7201080" cy="4346640"/>
        </p:xfrm>
        <a:graphic>
          <a:graphicData uri="http://schemas.openxmlformats.org/drawingml/2006/table">
            <a:tbl>
              <a:tblPr/>
              <a:tblGrid>
                <a:gridCol w="3135600"/>
                <a:gridCol w="1811160"/>
                <a:gridCol w="2254320"/>
              </a:tblGrid>
              <a:tr h="79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PRE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ENOS 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ANT. ACCIONES - VN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R  EQUIV. EN CANT. 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070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30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ETRO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2.936.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0.1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E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1.519.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54.84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L. A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44.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7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NA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5.481.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256.5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RES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5.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9.581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P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6.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764.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ANCO FR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.704.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.301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UPO FINANC. G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4.542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61.602.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CO. MACR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.495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.0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*) 5 ME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"/>
          <p:cNvSpPr txBox="1"/>
          <p:nvPr/>
        </p:nvSpPr>
        <p:spPr>
          <a:xfrm>
            <a:off x="1949400" y="1488960"/>
            <a:ext cx="5143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mpresas argentinas que cotizan ADR: 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N negociados en  el último año (ag-05 / jul-06)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258920" y="193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890640" y="979560"/>
            <a:ext cx="7353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a pérdida de liquidez y la exportación de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0" name=""/>
          <p:cNvGraphicFramePr/>
          <p:nvPr/>
        </p:nvGraphicFramePr>
        <p:xfrm>
          <a:off x="293760" y="1577880"/>
          <a:ext cx="7950240" cy="48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577880"/>
                    <a:ext cx="795024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 txBox="1"/>
          <p:nvPr/>
        </p:nvSpPr>
        <p:spPr>
          <a:xfrm>
            <a:off x="1876320" y="1122480"/>
            <a:ext cx="564840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la BCBA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8920" y="33660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0769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Trading es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Invertir es una actividad global por natural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El avance tecnológico facilita en forma irreversible la globalización</a:t>
            </a: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324080" y="1341360"/>
            <a:ext cx="634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Desafíos de la globalización en los Mercados de Capitales</a:t>
            </a:r>
            <a:endParaRPr b="0" lang="en-US" sz="16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593720" y="333360"/>
            <a:ext cx="6772320" cy="495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539640" y="1628640"/>
          <a:ext cx="73281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73281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 txBox="1"/>
          <p:nvPr/>
        </p:nvSpPr>
        <p:spPr>
          <a:xfrm>
            <a:off x="1984320" y="1197000"/>
            <a:ext cx="546732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olúmenes negociados en el MAE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250920" y="1916280"/>
          <a:ext cx="8555040" cy="42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555040" cy="42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"/>
          <p:cNvSpPr txBox="1"/>
          <p:nvPr/>
        </p:nvSpPr>
        <p:spPr>
          <a:xfrm>
            <a:off x="1476360" y="981000"/>
            <a:ext cx="6210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Instrumentos locales: ON colocada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8920" y="26028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539640" y="1557360"/>
          <a:ext cx="724392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243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 txBox="1"/>
          <p:nvPr/>
        </p:nvSpPr>
        <p:spPr>
          <a:xfrm>
            <a:off x="1692360" y="1197000"/>
            <a:ext cx="606744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ideicomisos Financieros colo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258920" y="3333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747720" y="1700280"/>
          <a:ext cx="785664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00280"/>
                    <a:ext cx="785664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 txBox="1"/>
          <p:nvPr/>
        </p:nvSpPr>
        <p:spPr>
          <a:xfrm>
            <a:off x="2195640" y="1197000"/>
            <a:ext cx="4905360" cy="361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Fondos Comunes de Inversión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1" name=""/>
          <p:cNvGraphicFramePr/>
          <p:nvPr/>
        </p:nvGraphicFramePr>
        <p:xfrm>
          <a:off x="611280" y="1484280"/>
          <a:ext cx="735156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735156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"/>
          <p:cNvSpPr txBox="1"/>
          <p:nvPr/>
        </p:nvSpPr>
        <p:spPr>
          <a:xfrm>
            <a:off x="1908000" y="1125360"/>
            <a:ext cx="52484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volución Patrimonial por tipo de FCI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1293840" y="264960"/>
            <a:ext cx="67341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"/>
          <p:cNvGraphicFramePr/>
          <p:nvPr/>
        </p:nvGraphicFramePr>
        <p:xfrm>
          <a:off x="125280" y="1628640"/>
          <a:ext cx="8694720" cy="46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628640"/>
                    <a:ext cx="869472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7" name=""/>
          <p:cNvSpPr txBox="1"/>
          <p:nvPr/>
        </p:nvSpPr>
        <p:spPr>
          <a:xfrm>
            <a:off x="2627280" y="1268280"/>
            <a:ext cx="423864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heques de Pago Diferido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258920" y="409680"/>
            <a:ext cx="673416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B. LA SITUACIÓN ARGENTINA</a:t>
            </a:r>
            <a:endParaRPr b="0" lang="en-US" sz="32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6248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5293080"/>
            <a:ext cx="333360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arciso Muño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isión Nacional de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ública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ww.cnv.gov.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577800" y="2637000"/>
            <a:ext cx="84582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CAPITAL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A. Situación Internacional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B. Situación Argentina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50200"/>
            <a:ext cx="5638680" cy="1366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a9ac1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º Congreso Nacional e Internacional de Finanzas de la Empresa y Mercado de Capi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CEC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 de agosto al 1º de septiembre 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8" name=""/>
          <p:cNvGraphicFramePr/>
          <p:nvPr/>
        </p:nvGraphicFramePr>
        <p:xfrm>
          <a:off x="831960" y="2043000"/>
          <a:ext cx="7772400" cy="4122720"/>
        </p:xfrm>
        <a:graphic>
          <a:graphicData uri="http://schemas.openxmlformats.org/drawingml/2006/table">
            <a:tbl>
              <a:tblPr/>
              <a:tblGrid>
                <a:gridCol w="2330640"/>
                <a:gridCol w="2049480"/>
                <a:gridCol w="339228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n-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en US$ en el último añ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939.7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540.7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3.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4.7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,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41.8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7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47.42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75.0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71.72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,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11.18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7.70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"/>
          <p:cNvSpPr txBox="1"/>
          <p:nvPr/>
        </p:nvSpPr>
        <p:spPr>
          <a:xfrm>
            <a:off x="2471760" y="1052640"/>
            <a:ext cx="4476600" cy="72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Capitalización de los Mercad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1" name=""/>
          <p:cNvGraphicFramePr/>
          <p:nvPr/>
        </p:nvGraphicFramePr>
        <p:xfrm>
          <a:off x="687240" y="1628640"/>
          <a:ext cx="7772400" cy="4680000"/>
        </p:xfrm>
        <a:graphic>
          <a:graphicData uri="http://schemas.openxmlformats.org/drawingml/2006/table">
            <a:tbl>
              <a:tblPr/>
              <a:tblGrid>
                <a:gridCol w="2490840"/>
                <a:gridCol w="1703520"/>
                <a:gridCol w="1797120"/>
                <a:gridCol w="1780920"/>
              </a:tblGrid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 a junio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loc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añías Extranje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en base a BME no incluye M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2" name=""/>
          <p:cNvSpPr txBox="1"/>
          <p:nvPr/>
        </p:nvSpPr>
        <p:spPr>
          <a:xfrm>
            <a:off x="1863720" y="981000"/>
            <a:ext cx="537228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Empresas cotizant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687240" y="1916280"/>
          <a:ext cx="7772400" cy="4114800"/>
        </p:xfrm>
        <a:graphic>
          <a:graphicData uri="http://schemas.openxmlformats.org/drawingml/2006/table">
            <a:tbl>
              <a:tblPr/>
              <a:tblGrid>
                <a:gridCol w="2509920"/>
                <a:gridCol w="2210040"/>
                <a:gridCol w="305244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er Semestre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% de cambio s/1er. Sem.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Y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17.08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,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SD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8.0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8.89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6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7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1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3.1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-1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49.2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057.9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446.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2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DE ESPA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94.5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90.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5" name=""/>
          <p:cNvSpPr txBox="1"/>
          <p:nvPr/>
        </p:nvSpPr>
        <p:spPr>
          <a:xfrm>
            <a:off x="2116080" y="976320"/>
            <a:ext cx="5048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Valor negociado en accione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(en millones de dólares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687240" y="2178000"/>
          <a:ext cx="7772400" cy="4114800"/>
        </p:xfrm>
        <a:graphic>
          <a:graphicData uri="http://schemas.openxmlformats.org/drawingml/2006/table">
            <a:tbl>
              <a:tblPr/>
              <a:tblGrid>
                <a:gridCol w="2322720"/>
                <a:gridCol w="858600"/>
                <a:gridCol w="1609920"/>
                <a:gridCol w="1747800"/>
                <a:gridCol w="123336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rivada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uda 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 Lo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tranj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BUENOS AI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9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6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MEX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SAN PAB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AL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3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7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 DE LOND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OLSA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URON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8" name=""/>
          <p:cNvSpPr txBox="1"/>
          <p:nvPr/>
        </p:nvSpPr>
        <p:spPr>
          <a:xfrm>
            <a:off x="1908000" y="1058760"/>
            <a:ext cx="5220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l Mercado de Deuda: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úmero de Bonos Listado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2840040" y="1052640"/>
            <a:ext cx="3552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Los Mercados de Futuros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1844640"/>
            <a:ext cx="8076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684360" y="1692360"/>
          <a:ext cx="7991280" cy="5165640"/>
        </p:xfrm>
        <a:graphic>
          <a:graphicData uri="http://schemas.openxmlformats.org/drawingml/2006/table">
            <a:tbl>
              <a:tblPr/>
              <a:tblGrid>
                <a:gridCol w="2230200"/>
                <a:gridCol w="2946600"/>
                <a:gridCol w="2814480"/>
              </a:tblGrid>
              <a:tr h="10508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TRATOS FUTUROS NEGOCIADOS                             1er. SEMESTRE 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NANCI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TU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ROPECU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B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5.630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27.776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1.842.748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1.034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TBA + ROF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659.035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9.149(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828360" y="1990440"/>
            <a:ext cx="7630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Nace en 179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se fusiona con Archipiélag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Se constituye en sociedad con fines de lucro, forma NYSE Group y lista sus 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La función autorregulatoria es conducida independientemente por una organización sin fines de luc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Times New Roman"/>
              </a:rPr>
              <a:t>2006, junio 1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: NYSE Group y Euronext firman un acuerdo para fusionarse en la nueva NYSE Euronext para negociar acciones y derivados. Las acciones de NYSE Euronext cotizarán en NY y en Par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1879560" y="1554120"/>
            <a:ext cx="542916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EW YORK STOCK EXCHANGE (NYSE)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95280" y="11592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042920" y="907920"/>
            <a:ext cx="7334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Ejemplos puntuales de los mercados líderes</a:t>
            </a:r>
            <a:endParaRPr b="0" lang="en-US" sz="24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687240" y="1619280"/>
            <a:ext cx="777240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ercado electrónico de acciones más grande de EEUU tanto en cantidad de empresas (3.200) como en volumen de acciones negoci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5, abril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compra Instinet Group y luego de una serie de reacomodamientos societarios se queda con INET ECN (Electronic Computing Network), mejorando así la plataforma de negocios electrónicos a su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006, mayo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luego de una serie de compras posee aprox. el 25% de las acciones de la London Stock Exchange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3506760" y="1050840"/>
            <a:ext cx="1209600" cy="362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3399"/>
                </a:solidFill>
                <a:latin typeface="Arial Black"/>
              </a:rPr>
              <a:t>NASDAQ</a:t>
            </a:r>
            <a:endParaRPr b="0" lang="en-US" sz="2000" spc="1" strike="noStrike">
              <a:ln w="0">
                <a:noFill/>
              </a:ln>
              <a:solidFill>
                <a:srgbClr val="003399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89000"/>
            <a:ext cx="835344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latin typeface="Arial Black"/>
              </a:rPr>
              <a:t>A. LA SITUACIÓN INTERNACIONAL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1:44:04Z</dcterms:created>
  <dc:creator> </dc:creator>
  <dc:description/>
  <dc:language>en-US</dc:language>
  <cp:lastModifiedBy>Victoria LaFuente</cp:lastModifiedBy>
  <dcterms:modified xsi:type="dcterms:W3CDTF">2006-08-30T19:10:03Z</dcterms:modified>
  <cp:revision>204</cp:revision>
  <dc:subject/>
  <dc:title>ON PYMES: Emisiones</dc:title>
</cp:coreProperties>
</file>