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63360" y="88920"/>
          <a:ext cx="755640" cy="7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88920"/>
                    <a:ext cx="7556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4932360" y="6299280"/>
            <a:ext cx="4178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olsa de Comercio de Buenos 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partamento Py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911920" y="6586560"/>
            <a:ext cx="316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9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99"/>
              </a:buClr>
              <a:buFont typeface="Helvetic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pymes@bcba.sba.com.ar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1447920"/>
            <a:ext cx="71294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800" spc="-1" strike="noStrike">
                <a:solidFill>
                  <a:srgbClr val="ffffff"/>
                </a:solidFill>
                <a:latin typeface="Times New Roman"/>
              </a:rPr>
              <a:t>PyM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AR" sz="4800" spc="-1" strike="noStrike">
                <a:solidFill>
                  <a:srgbClr val="ffffff"/>
                </a:solidFill>
                <a:latin typeface="Times New Roman"/>
              </a:rPr>
              <a:t>Mercado de Capitales</a:t>
            </a: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(Ah, la Bolsa no opera sólo Acciones??)</a:t>
            </a: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36920" y="6172200"/>
            <a:ext cx="45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Jefe Dpto. PyME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Ing. Carlos E. Le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58920" y="18900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Times New Roman"/>
              </a:rPr>
              <a:t>Perspectiv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Cheques de pago diferido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ON PyM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Fideicomisos Financier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Panel de cotización PyM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DEPARTAMENTO PYM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Teléfonos: 4316 – 7161 / 7162  / 7088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E-mail:  </a:t>
            </a:r>
            <a:r>
              <a:rPr b="0" lang="es-AR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ymes@bcba.sba.com.a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Bolsa de Comercio de Buenos Air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189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189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Evolución de ChPD (en U$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915400" cy="5181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58920" y="189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Evolución ONs PyME (en U$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915400" cy="5191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5892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Participación por sectores en ONs P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91540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189000"/>
            <a:ext cx="712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imes New Roman"/>
              </a:rPr>
              <a:t>Evolución de FF realizados por PyMEs (en U$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915400" cy="5158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58920" y="189000"/>
            <a:ext cx="712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imes New Roman"/>
              </a:rPr>
              <a:t>Participación por sectores en 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5280" y="0"/>
            <a:ext cx="712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ff"/>
                </a:solidFill>
                <a:latin typeface="Times New Roman"/>
              </a:rPr>
              <a:t>BALANCE 2002/2006 - TOTAL= U$S 328.967.01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ff"/>
                </a:solidFill>
                <a:latin typeface="Times New Roman"/>
              </a:rPr>
              <a:t>Total PyMEs beneficiadas: 188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915400" cy="5145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5892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Renta Fija y Variable/ PIB per cápita/ PI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(en millones de U$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167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1295280"/>
            <a:ext cx="1600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R.Fija: 7.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R.Var.: 2.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PIB: 102.0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PIB*cap: 27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1295280"/>
            <a:ext cx="1600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R.Fija: 12.6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R.Var.: 4.4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PIB: 129.5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PIB*cap: 34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1295280"/>
            <a:ext cx="1600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R.Fija: 6.0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R.Var.: 5.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PIB: 153.1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PIB*cap: 40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1295280"/>
            <a:ext cx="1600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R.Fija: 8.6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R.Var.: 7.7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PIB: 183.3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PIB*cap: 48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1295280"/>
            <a:ext cx="1600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R.Fija: 6.1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R.Var.: 4.3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PIB: 205.2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PIB*cap: 53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5892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Criterios de e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600" spc="-1" strike="noStrike">
                <a:solidFill>
                  <a:srgbClr val="ffffff"/>
                </a:solidFill>
                <a:latin typeface="Times New Roman"/>
              </a:rPr>
              <a:t>El cheque:</a:t>
            </a: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 capital de trabajo (hasta 360 días)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600" spc="-1" strike="noStrike">
                <a:solidFill>
                  <a:srgbClr val="ffffff"/>
                </a:solidFill>
                <a:latin typeface="Times New Roman"/>
              </a:rPr>
              <a:t>La ON:</a:t>
            </a: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 capital de trabajo o complemento de proyecto de inversión. (hasta 2 años o más)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600" spc="-1" strike="noStrike">
                <a:solidFill>
                  <a:srgbClr val="ffffff"/>
                </a:solidFill>
                <a:latin typeface="Times New Roman"/>
              </a:rPr>
              <a:t>El fideicomiso:</a:t>
            </a: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 capital de trabajo, complemento de proyectos de inversión, construcción, bienes de capital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Wasilevsky</cp:lastModifiedBy>
  <dcterms:modified xsi:type="dcterms:W3CDTF">2006-08-31T18:47:3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