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0EF-68B1-4C83-BF74-2158FF03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31E-517E-477E-B165-222AD431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E52-9526-4DE7-A7D4-22D3E273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C0A-4623-49E3-9965-C55ED19C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3AB-EC91-488F-ACDE-5A6A4B62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8F7-A396-43F6-AEA0-B8CABCC1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444-7E42-4AFA-80CF-0DF782CF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CF4-08FB-46EB-B0F4-D80A65FC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5BA-D0C7-453F-833E-7C756C1E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817-9C5F-4396-BBC4-D6D9101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DAA-6638-4661-BD5A-2E0459F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221-DCAA-448A-B9A3-52E37882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DC34-6A1E-4EC1-B707-D8EA2B91C0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CA2-9983-4092-9E25-BCF3C2D3A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ligacion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ed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otas de fondos cerrados de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71CEC-2237-49CF-B571-79DF0B72E871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990720"/>
            <a:ext cx="51055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315200" cy="2819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no la obligación) a comprar a un lanzador los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activos subyacent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lote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”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 ven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2ADF2-87DD-487A-9669-2C0D043F03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543800" cy="369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25E8C-B9FC-48A2-BDF9-C5E970E7B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4343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v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315200" cy="243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un lanzador los activos subyacentes ( lote)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termi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278E6-C7BF-470A-80EB-A185A849F4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155680"/>
            <a:ext cx="7772400" cy="37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22DE2-F88D-454D-BB79-F6A210D3DF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ones: Principio bá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comp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FEB77-25D8-4FFC-8F16-D06F67CAD1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1051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adquiere el derecho que le otorga la opción y por lo tanto el único que puede ejer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adquirir el derecho paga una p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47489-AE33-40FB-9DAF-45E5142E21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Times New Roman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que paga el titular por el derecho que adqui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valor surge de la oferta/demanda del mercado al igual que la especie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22AC1-0913-43A3-8104-C64F9E95BE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Lanzador cubier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391160" cy="281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obliga a cumplir con el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ndo como garantía el activo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5E8A6-F0F4-47B5-BF7C-2FD5FAB2C8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1722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nzador descubie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oblig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cumplir con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recho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s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r el activo subyac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84F26-9262-41D3-9AA7-55E72B41A1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22096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e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define como serie al conjunto integrado po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activo subyac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condición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 la opción , el precio de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 ejercicio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la 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fecha de venci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Led 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8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9486D-A302-4052-8BC1-5F03CCFAEB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ado liquidación 72 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zo fir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éstam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BFEA3-52F7-4627-937A-850845EF81BF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609480"/>
            <a:ext cx="289584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acto formal por el cual el titular hace uso del derecho adquirido , dando origen a una operación de contado 72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derecho se puede formalizar desde el día en que liquida la prima hasta el día inmediato anterior a la fecha de ven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776E8-B7D6-46B9-8732-7658AB089B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vendi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se la ejerc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vendida</a:t>
            </a:r>
            <a:r>
              <a:rPr b="1" lang="es-AR" sz="2800" spc="-1" strike="noStrike">
                <a:solidFill>
                  <a:srgbClr val="ff0000"/>
                </a:solidFill>
                <a:latin typeface="Frutiger-Light"/>
                <a:ea typeface="Times New Roman"/>
              </a:rPr>
              <a:t>,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si se la ejercen,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E004F-1724-482A-8B4D-E99E53D310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44956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cio de 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29718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por al cual el titular tendrá  el derecho a comprar o vender cada uno de los activos subyacentes  que integran el lote objeto de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C3DAA-2A9B-4D1A-95E4-8CC3CD9231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6386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echa de venc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fecha en la expira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E659B-AF46-44EC-A3A7-68628A9003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133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aldo resultante, en valor nominal, de una o mas opciones sobre la misma serie realizados por un comit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su saldo la posición será titular o lan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1EA9B-D348-48E0-A1F5-B696EC2062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acuerdo a la garantía ser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Des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Opuesta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pciones del mismo tipo(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y de  naturaleza inversa(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)sobre un mis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ruzad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Combinan opciones con operaciones de plazo que impliquen posiciones inversas por similar cantidad y sobre el mi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819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5F26C-2FBC-4C85-BEB1-4A02D9463E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Posición de un clien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tular  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nzador    cruzad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    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Posición 1.000 pc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ompra 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Pc al 30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PC.C2.20oc                  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C.C2.40oc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50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44AE1-C48E-4343-AE75-58E7CD7AA6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one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981080"/>
          <a:ext cx="8458200" cy="4557960"/>
        </p:xfrm>
        <a:graphic>
          <a:graphicData uri="http://schemas.openxmlformats.org/drawingml/2006/table">
            <a:tbl>
              <a:tblPr/>
              <a:tblGrid>
                <a:gridCol w="2011320"/>
                <a:gridCol w="1554120"/>
                <a:gridCol w="1844640"/>
                <a:gridCol w="1447920"/>
                <a:gridCol w="1600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erto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 descu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ue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uz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0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2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,.c2.40o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6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CD5CB-C187-4E2F-8224-545673AA38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28195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ierre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543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ierre de posición es realizar la operación inversa sobre una serie, extinguiendo su posición total o pa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B797A-4958-4AA9-8DA7-1BA5D69D09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acto formal a través del cual un lanzador impide, el ejercicio total o parcial de uno o mas lotes  que integran un reciente cierre de posiciones  no distribuido, debiendo ser informado oportunamente al M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rval 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ún la tabla de horari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ta operación se puede realizar cualquier día  impidiendo  un posible ejercicio anticip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loqueo de Posi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838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98BD8-B21D-4A78-8E7A-A0C6195E07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ón a plazo fi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prador y el vendedor conciertan la operación en una fecha determinada y quedan definitivamente oblig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gula el riesgo mediante sistemas de garantías  y cupos ope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01FD9-6A13-4015-BA0F-62C9C6A2D573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867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los lanz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cubiertos pueden realizarse sobre todas las acciones y sobre todos los títul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descubiertos solo por las acciones seleccionadas por el mercado y de acuerdo a los cupos estable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obligaciones derivadas del lanzamiento se extinguen por el ejercicio de las opciones, por su vencimiento o por cierre de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4C711-190A-415A-A55C-49C67D233B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533412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pos oper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3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cupos son solamente para lanzamientos en descu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por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to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2AA8F-C90A-4388-B35D-6A9F688A32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3657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rant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26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garantía a constituir por el lanzador en descubierto equivale al doble de la prima (valor cierre diario) o el doble de l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 una tabla de garantía con menores exigencias ante grandes variaciones de precio de cada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garantías tienen recalculo diario de acuerdo a los precios de cierre con reposición d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55CFE-AF6C-4AF3-A51D-509084870F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aturaleza de los bienes que integran la garant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ivo pesos o dólares  bil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úblicos nacionales con sus afo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rivados de la misma especie con el aforo de ca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zo fijo en el Banco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garantías a satisfacción del direc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391BF-A2E8-47AE-8603-A6C6371A65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 (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compra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vende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16EE6-D98E-40AA-8CF2-1B20DADBF4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152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ven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( 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vende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compra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BB1C2-EB3A-4D8A-A823-39E25D0840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solo contrato instrumentado en una o mas liquidaciones, que consiste en la compra o venta contado o para un plazo determinado y la simultanea operación inversa de venta o compra, para un mismo comitente y en un vencimiento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permitidos, cupos y  garant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8AF4E-0E31-49E3-8555-5764D7D5D21A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pase en el cual el precio de venta al contado, es inferior al precio de cotización y resulta de la aplicación de aforos y el descuento de la tasa de interés del peri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hay garantías. Existe margen de reposición de márgenes de garant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valores y afo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38C56-4E1B-4FDD-9DF0-977580A670E0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609480"/>
            <a:ext cx="121921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ndice m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ador de rentabilidad de las acciones que toma como base de comparación de una inversión 100 al 30 de junio de 198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participación de la acción en la cartera teórica depende de la representatividad en la operatoria de contado.orden decreciente en la participación hasta computar el 80% del volumen, haber operado el 80% de las rue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ización de la cartera cada tres meses en función de seis m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D3956-7195-4325-BDEA-B9205788DE6D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contrato por medio del cual un agente colocador, se obliga a transferir temporalmente la propiedad de ciertos títulos valores a otro agente tomador quien a su vez se obliga al vencimiento del plazo establecido, a restituir al primero los títulos y el pago de la contraprestación conven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aliza para cubrir operaciones de venta en corto para períodos de hasta un año de pl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02790-B60B-4A15-AE83-5453FC8B5F4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venta a 72hs de títulos valores que no dispongo en cartera y que simultáneamente los alquilo en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05B4F-1685-4590-AFF4-08F4A4648103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280" y="692280"/>
            <a:ext cx="381636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inición de op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contrato por el cual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nzado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vende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una determinada cantidad de dinero denomin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Prima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torga a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comprador) el derech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gir a un lanzador dentro de un periodo de tiem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erminado, la compra o la venta de un  </a:t>
            </a:r>
            <a:r>
              <a:rPr b="0" i="1" lang="es-ES_tradnl" sz="2800" spc="-1" strike="noStrike">
                <a:solidFill>
                  <a:srgbClr val="99cc00"/>
                </a:solidFill>
                <a:latin typeface="Times New Roman"/>
              </a:rPr>
              <a:t>“lote”</a:t>
            </a:r>
            <a:r>
              <a:rPr b="0" i="1" lang="es-ES_tradn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antidad de títulos valores ) a un 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precio   de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Ejercicio”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 precio fijo determin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FDB9F-B723-4541-9DD5-16BE9F58AF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2:30:07Z</dcterms:created>
  <dc:creator>Luis C. Alvarez Nani</dc:creator>
  <dc:description/>
  <dc:language>en-US</dc:language>
  <cp:lastModifiedBy>C.P.C.E.C.A.B.A.</cp:lastModifiedBy>
  <dcterms:modified xsi:type="dcterms:W3CDTF">2006-09-01T20:26:35Z</dcterms:modified>
  <cp:revision>25</cp:revision>
  <dc:subject/>
  <dc:title>Opciones: Definición</dc:title>
</cp:coreProperties>
</file>