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166-9697-4E91-824A-5CDBD496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FF9-75C3-4972-A30C-FD88DD7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DE8-38D3-42B2-9621-7AB1116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1DE-A0AE-4C11-8E87-0C4DEA1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E384-515E-4621-B961-7891D1D9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E55-041D-4341-96DD-DD2A4EA0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AF9E-056C-4D68-B4B6-33E38A0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4C49-4C30-4DEF-9F6A-4851FA5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EF4-5277-4D4C-90F8-A65B1D95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B5CB-6CD8-42E0-96D9-3968206E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DCE-A5B6-448E-8FF3-D5E8C45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533-A794-4ED6-9D48-7C2EDD18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061-06EF-4146-9A27-F4DAFF9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76E-3C04-4A8B-B5CE-2CDEDEE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329A-FE8C-4B46-B08D-9C170203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E2F7-9C81-4792-BC66-4DC1CF7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6B9-A104-403F-8CED-834B7AAC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018-A9D3-437B-B092-B03AC82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798-D344-4C06-85C6-6C4085A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1AF-CA71-42AE-B0F7-8E0B8B9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A16-A423-407F-B180-C107A63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E2E-82E8-48CC-8021-E94C19B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94F-1D6D-425F-A36D-4DE2A0C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3F0-EF34-47B8-8A05-7DED49E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3E5-2EB7-4175-A0AB-C36D435B5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1D0-6EAD-4F87-B722-870EB40B9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Sobre Cri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Mary Te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P Comunicación Proxi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gencia@cpproximity.com.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pleno estado de pánico en las distintas plazas del mundo, … reafirmar la seguridad a la gente es el rol más importante que se puede jugar como comunicador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1389240"/>
            <a:ext cx="4103640" cy="347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00360" y="5157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ndrew Robert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tiempo tormentoso presenta una gran oportunidad para vender paragu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32080" y="1197000"/>
            <a:ext cx="2679840" cy="4021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Quédese al lado del cliente, aunque no esté comprando mucho/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Si lo ayuda, nunca lo olvidará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Si no lo ayuda, tampoco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TO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s un tiempo para lideraz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405" t="945" r="72920" b="23623"/>
          <a:stretch/>
        </p:blipFill>
        <p:spPr>
          <a:xfrm>
            <a:off x="3122640" y="1484280"/>
            <a:ext cx="2962080" cy="3594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51000" y="508464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Pablo Alzuga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No perder el sentido del hum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45260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623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www.belen-for-r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33720" y="981000"/>
            <a:ext cx="3122640" cy="442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7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anuel Sacerd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523880" y="-100080"/>
            <a:ext cx="12191760" cy="762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87640" y="2133720"/>
            <a:ext cx="3313080" cy="2663640"/>
          </a:xfrm>
          <a:prstGeom prst="rect">
            <a:avLst/>
          </a:prstGeom>
          <a:gradFill rotWithShape="0">
            <a:gsLst>
              <a:gs pos="0">
                <a:srgbClr val="00172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24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4560" y="5661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Muchas gracias.  Y mucha sue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6308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bbe0e3"/>
                </a:solidFill>
                <a:latin typeface="Arial"/>
              </a:rPr>
              <a:t>Mary Teahan:     agencia@cpproximity.com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924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plicar la honestidad intele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24000" y="1341360"/>
            <a:ext cx="8569080" cy="2519640"/>
            <a:chOff x="324000" y="1341360"/>
            <a:chExt cx="8569080" cy="2519640"/>
          </a:xfrm>
        </p:grpSpPr>
        <p:cxnSp>
          <p:nvCxnSpPr>
            <p:cNvPr id="88" name="_s5148"/>
            <p:cNvCxnSpPr>
              <a:stCxn id="89" idx="1"/>
              <a:endCxn id="90" idx="2"/>
            </p:cNvCxnSpPr>
            <p:nvPr/>
          </p:nvCxnSpPr>
          <p:spPr>
            <a:xfrm rot="10800000">
              <a:off x="6373080" y="2100960"/>
              <a:ext cx="253080" cy="166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5146"/>
            <p:cNvCxnSpPr>
              <a:stCxn id="92" idx="1"/>
              <a:endCxn id="90" idx="2"/>
            </p:cNvCxnSpPr>
            <p:nvPr/>
          </p:nvCxnSpPr>
          <p:spPr>
            <a:xfrm rot="10800000">
              <a:off x="6373080" y="2100960"/>
              <a:ext cx="253080" cy="99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5144"/>
            <p:cNvCxnSpPr>
              <a:stCxn id="94" idx="1"/>
              <a:endCxn id="90" idx="2"/>
            </p:cNvCxnSpPr>
            <p:nvPr/>
          </p:nvCxnSpPr>
          <p:spPr>
            <a:xfrm rot="10800000">
              <a:off x="6373080" y="2100960"/>
              <a:ext cx="253080" cy="32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5140"/>
            <p:cNvCxnSpPr>
              <a:stCxn id="96" idx="0"/>
              <a:endCxn id="97" idx="2"/>
            </p:cNvCxnSpPr>
            <p:nvPr/>
          </p:nvCxnSpPr>
          <p:spPr>
            <a:xfrm flipV="1" rot="16200000">
              <a:off x="5743440" y="-522360"/>
              <a:ext cx="250200" cy="4537800"/>
            </a:xfrm>
            <a:prstGeom prst="bentConnector3">
              <a:avLst>
                <a:gd name="adj1" fmla="val 45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5138"/>
            <p:cNvCxnSpPr>
              <a:stCxn id="90" idx="0"/>
              <a:endCxn id="97" idx="2"/>
            </p:cNvCxnSpPr>
            <p:nvPr/>
          </p:nvCxnSpPr>
          <p:spPr>
            <a:xfrm flipV="1" rot="16200000">
              <a:off x="4861800" y="359280"/>
              <a:ext cx="250200" cy="2774160"/>
            </a:xfrm>
            <a:prstGeom prst="bentConnector3">
              <a:avLst>
                <a:gd name="adj1" fmla="val 45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5136"/>
            <p:cNvCxnSpPr>
              <a:stCxn id="100" idx="0"/>
              <a:endCxn id="97" idx="2"/>
            </p:cNvCxnSpPr>
            <p:nvPr/>
          </p:nvCxnSpPr>
          <p:spPr>
            <a:xfrm flipV="1" rot="16200000">
              <a:off x="3979800" y="1241280"/>
              <a:ext cx="250200" cy="1010520"/>
            </a:xfrm>
            <a:prstGeom prst="bentConnector3">
              <a:avLst>
                <a:gd name="adj1" fmla="val 45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5131"/>
            <p:cNvCxnSpPr>
              <a:stCxn id="102" idx="0"/>
              <a:endCxn id="97" idx="2"/>
            </p:cNvCxnSpPr>
            <p:nvPr/>
          </p:nvCxnSpPr>
          <p:spPr>
            <a:xfrm flipH="1" flipV="1" rot="5400000">
              <a:off x="3098520" y="1369440"/>
              <a:ext cx="250200" cy="754560"/>
            </a:xfrm>
            <a:prstGeom prst="bentConnector3">
              <a:avLst>
                <a:gd name="adj1" fmla="val 45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130"/>
            <p:cNvCxnSpPr>
              <a:stCxn id="104" idx="0"/>
              <a:endCxn id="97" idx="2"/>
            </p:cNvCxnSpPr>
            <p:nvPr/>
          </p:nvCxnSpPr>
          <p:spPr>
            <a:xfrm flipH="1" flipV="1" rot="5400000">
              <a:off x="2229480" y="473040"/>
              <a:ext cx="222840" cy="2520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5126"/>
            <p:cNvSpPr/>
            <p:nvPr/>
          </p:nvSpPr>
          <p:spPr>
            <a:xfrm>
              <a:off x="1619280" y="1341360"/>
              <a:ext cx="3960720" cy="280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127"/>
            <p:cNvSpPr/>
            <p:nvPr/>
          </p:nvSpPr>
          <p:spPr>
            <a:xfrm>
              <a:off x="324000" y="1844280"/>
              <a:ext cx="1512720" cy="229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128"/>
            <p:cNvSpPr/>
            <p:nvPr/>
          </p:nvSpPr>
          <p:spPr>
            <a:xfrm>
              <a:off x="2089080" y="1872360"/>
              <a:ext cx="1513080" cy="22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35"/>
            <p:cNvSpPr/>
            <p:nvPr/>
          </p:nvSpPr>
          <p:spPr>
            <a:xfrm>
              <a:off x="3854520" y="1872360"/>
              <a:ext cx="1511280" cy="22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5137"/>
            <p:cNvSpPr/>
            <p:nvPr/>
          </p:nvSpPr>
          <p:spPr>
            <a:xfrm>
              <a:off x="5618160" y="1872360"/>
              <a:ext cx="1511280" cy="22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39"/>
            <p:cNvSpPr/>
            <p:nvPr/>
          </p:nvSpPr>
          <p:spPr>
            <a:xfrm>
              <a:off x="7381800" y="1872360"/>
              <a:ext cx="1511280" cy="22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43"/>
            <p:cNvSpPr/>
            <p:nvPr/>
          </p:nvSpPr>
          <p:spPr>
            <a:xfrm>
              <a:off x="6626160" y="2324520"/>
              <a:ext cx="1513080" cy="199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45"/>
            <p:cNvSpPr/>
            <p:nvPr/>
          </p:nvSpPr>
          <p:spPr>
            <a:xfrm>
              <a:off x="6626160" y="2992320"/>
              <a:ext cx="1513080" cy="2001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5147"/>
            <p:cNvSpPr/>
            <p:nvPr/>
          </p:nvSpPr>
          <p:spPr>
            <a:xfrm>
              <a:off x="6626160" y="3660840"/>
              <a:ext cx="1511280" cy="2001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95280" y="3573360"/>
            <a:ext cx="5113440" cy="2664720"/>
            <a:chOff x="395280" y="3573360"/>
            <a:chExt cx="5113440" cy="26647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684360" y="3573360"/>
              <a:ext cx="4824360" cy="26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95280" y="5931000"/>
              <a:ext cx="46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La Nave Estelar Enterp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Xavier Oliver por Vida en Emagister."/>
          <p:cNvPicPr/>
          <p:nvPr/>
        </p:nvPicPr>
        <p:blipFill>
          <a:blip r:embed="rId1"/>
          <a:stretch/>
        </p:blipFill>
        <p:spPr>
          <a:xfrm>
            <a:off x="738360" y="552600"/>
            <a:ext cx="7667280" cy="575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2400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Xavier O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03280" y="2924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shacerse de todo, menos del tal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Sir Martin Sorrell - World Economic Forum Annual Meeting Davos 2007 por World Economic Forum.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645336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ir Martin Sorr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56536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Históricamente, las empresas que más recortaron durante las crisis, más tardaron en recupe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5084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s un error irse de paí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945" b="0"/>
          <a:stretch/>
        </p:blipFill>
        <p:spPr>
          <a:xfrm>
            <a:off x="2666880" y="952560"/>
            <a:ext cx="37735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8292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helly Laz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05Z</dcterms:created>
  <dc:creator>teahanmh</dc:creator>
  <dc:description/>
  <dc:language>en-US</dc:language>
  <cp:lastModifiedBy>Audio</cp:lastModifiedBy>
  <dcterms:modified xsi:type="dcterms:W3CDTF">2008-11-11T14:00:05Z</dcterms:modified>
  <cp:revision>28</cp:revision>
  <dc:subject/>
  <dc:title>Diapositiva 1</dc:title>
</cp:coreProperties>
</file>