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7.wmf" ContentType="image/x-wmf"/>
  <Override PartName="/ppt/media/image3.jpeg" ContentType="image/jpeg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8.wmf" ContentType="image/x-wmf"/>
  <Override PartName="/ppt/media/image107.wmf" ContentType="image/x-wmf"/>
  <Override PartName="/ppt/media/image175.wmf" ContentType="image/x-wmf"/>
  <Override PartName="/ppt/media/image106.wmf" ContentType="image/x-wmf"/>
  <Override PartName="/ppt/media/image174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6.wmf" ContentType="image/x-wmf"/>
  <Override PartName="/ppt/media/image85.wmf" ContentType="image/x-wmf"/>
  <Override PartName="/ppt/media/image84.wmf" ContentType="image/x-wmf"/>
  <Override PartName="/ppt/media/image83.wmf" ContentType="image/x-wmf"/>
  <Override PartName="/ppt/media/image82.wmf" ContentType="image/x-wmf"/>
  <Override PartName="/ppt/media/image81.wmf" ContentType="image/x-wmf"/>
  <Override PartName="/ppt/media/image80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20.jpeg" ContentType="image/jpeg"/>
  <Override PartName="/ppt/media/image182.jpeg" ContentType="image/jpeg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31.wmf" ContentType="image/x-wmf"/>
  <Override PartName="/ppt/media/image128.wmf" ContentType="image/x-wmf"/>
  <Override PartName="/ppt/media/image37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129.wmf" ContentType="image/x-wmf"/>
  <Override PartName="/ppt/media/image32.wmf" ContentType="image/x-wmf"/>
  <Override PartName="/ppt/media/image180.jpeg" ContentType="image/jpeg"/>
  <Override PartName="/ppt/media/image47.wmf" ContentType="image/x-wmf"/>
  <Override PartName="/ppt/media/image133.wmf" ContentType="image/x-wmf"/>
  <Override PartName="/ppt/media/image176.png" ContentType="image/png"/>
  <Override PartName="/ppt/media/image14.png" ContentType="image/png"/>
  <Override PartName="/ppt/media/image134.wmf" ContentType="image/x-wmf"/>
  <Override PartName="/ppt/media/image177.png" ContentType="image/png"/>
  <Override PartName="/ppt/media/image49.wmf" ContentType="image/x-wmf"/>
  <Override PartName="/ppt/media/image100.wmf" ContentType="image/x-wmf"/>
  <Override PartName="/ppt/media/image135.wmf" ContentType="image/x-wmf"/>
  <Override PartName="/ppt/media/image178.png" ContentType="image/png"/>
  <Override PartName="/ppt/media/image136.wmf" ContentType="image/x-wmf"/>
  <Override PartName="/ppt/media/image179.png" ContentType="image/png"/>
  <Override PartName="/ppt/media/image140.wmf" ContentType="image/x-wmf"/>
  <Override PartName="/ppt/media/image183.png" ContentType="image/png"/>
  <Override PartName="/ppt/media/image89.wmf" ContentType="image/x-wmf"/>
  <Override PartName="/ppt/media/image141.wmf" ContentType="image/x-wmf"/>
  <Override PartName="/ppt/media/image161.wmf" ContentType="image/x-wmf"/>
  <Override PartName="/ppt/media/image36.wmf" ContentType="image/x-wmf"/>
  <Override PartName="/ppt/media/image159.wmf" ContentType="image/x-wmf"/>
  <Override PartName="/ppt/media/image162.wmf" ContentType="image/x-wmf"/>
  <Override PartName="/ppt/media/image138.wmf" ContentType="image/x-wmf"/>
  <Override PartName="/ppt/media/image7.png" ContentType="image/png"/>
  <Override PartName="/ppt/media/image41.wmf" ContentType="image/x-wmf"/>
  <Override PartName="/ppt/media/image44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67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3.png" ContentType="image/png"/>
  <Override PartName="/ppt/media/image169.wmf" ContentType="image/x-wmf"/>
  <Override PartName="/ppt/media/image163.wmf" ContentType="image/x-wmf"/>
  <Override PartName="/ppt/media/image139.wmf" ContentType="image/x-wmf"/>
  <Override PartName="/ppt/media/image42.wmf" ContentType="image/x-wmf"/>
  <Override PartName="/ppt/media/image8.png" ContentType="image/png"/>
  <Override PartName="/ppt/media/image164.wmf" ContentType="image/x-wmf"/>
  <Override PartName="/ppt/media/image166.wmf" ContentType="image/x-wmf"/>
  <Override PartName="/ppt/media/image160.wmf" ContentType="image/x-wmf"/>
  <Override PartName="/ppt/media/image158.wmf" ContentType="image/x-wmf"/>
  <Override PartName="/ppt/media/image61.wmf" ContentType="image/x-wmf"/>
  <Override PartName="/ppt/media/image34.wmf" ContentType="image/x-wmf"/>
  <Override PartName="/ppt/media/image157.wmf" ContentType="image/x-wmf"/>
  <Override PartName="/ppt/media/image60.wmf" ContentType="image/x-wmf"/>
  <Override PartName="/ppt/media/image33.wmf" ContentType="image/x-wmf"/>
  <Override PartName="/ppt/media/image156.wmf" ContentType="image/x-wmf"/>
  <Override PartName="/ppt/media/image155.wmf" ContentType="image/x-wmf"/>
  <Override PartName="/ppt/media/image153.wmf" ContentType="image/x-wmf"/>
  <Override PartName="/ppt/media/image152.wmf" ContentType="image/x-wmf"/>
  <Override PartName="/ppt/media/image151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81.jpeg" ContentType="image/jpeg"/>
  <Override PartName="/ppt/media/image57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30.wmf" ContentType="image/x-wmf"/>
  <Override PartName="/ppt/media/image12.png" ContentType="image/png"/>
  <Override PartName="/ppt/media/image19.jpeg" ContentType="image/jpeg"/>
  <Override PartName="/ppt/media/image40.wmf" ContentType="image/x-wmf"/>
  <Override PartName="/ppt/media/image53.wmf" ContentType="image/x-wmf"/>
  <Override PartName="/ppt/media/image50.wmf" ContentType="image/x-wmf"/>
  <Override PartName="/ppt/media/image1.jpeg" ContentType="image/jpeg"/>
  <Override PartName="/ppt/media/image165.wmf" ContentType="image/x-wmf"/>
  <Override PartName="/ppt/media/image10.png" ContentType="image/png"/>
  <Override PartName="/ppt/media/image78.wmf" ContentType="image/x-wmf"/>
  <Override PartName="/ppt/media/image48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38.wmf" ContentType="image/x-wmf"/>
  <Override PartName="/ppt/media/image127.wmf" ContentType="image/x-wmf"/>
  <Override PartName="/ppt/media/image4.jpeg" ContentType="image/jpeg"/>
  <Override PartName="/ppt/media/image105.wmf" ContentType="image/x-wmf"/>
  <Override PartName="/ppt/media/image173.wmf" ContentType="image/x-wmf"/>
  <Override PartName="/ppt/media/image154.wmf" ContentType="image/x-wmf"/>
  <Override PartName="/ppt/media/image2.wmf" ContentType="image/x-wmf"/>
  <Override PartName="/ppt/media/image93.wmf" ContentType="image/x-wmf"/>
  <Override PartName="/ppt/media/image25.wmf" ContentType="image/x-wmf"/>
  <Override PartName="/ppt/media/image54.wmf" ContentType="image/x-wmf"/>
  <Override PartName="/ppt/media/image35.wmf" ContentType="image/x-wmf"/>
  <Override PartName="/ppt/media/image16.jpeg" ContentType="image/jpeg"/>
  <Override PartName="/ppt/media/image77.wmf" ContentType="image/x-wmf"/>
  <Override PartName="/ppt/media/image45.wmf" ContentType="image/x-wmf"/>
  <Override PartName="/ppt/media/image17.jpeg" ContentType="image/jpeg"/>
  <Override PartName="/ppt/media/image87.wmf" ContentType="image/x-wmf"/>
  <Override PartName="/ppt/media/image55.wmf" ContentType="image/x-wmf"/>
  <Override PartName="/ppt/media/image15.png" ContentType="image/png"/>
  <Override PartName="/ppt/media/image150.wmf" ContentType="image/x-wmf"/>
  <Override PartName="/ppt/media/image18.jpeg" ContentType="image/jpeg"/>
  <Override PartName="/ppt/media/image97.wmf" ContentType="image/x-wmf"/>
  <Override PartName="/ppt/media/image29.wmf" ContentType="image/x-wmf"/>
  <Override PartName="/ppt/media/image58.wmf" ContentType="image/x-wmf"/>
  <Override PartName="/ppt/media/image147.wmf" ContentType="image/x-wmf"/>
  <Override PartName="/ppt/media/image6.jpeg" ContentType="image/jpeg"/>
  <Override PartName="/ppt/media/image125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09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9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8959850" cy="6721475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63BF-00FF-4A36-9E9A-CEF5A0193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8400" y="219168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EA01-57BC-4E80-8849-540B84648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712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8292-5622-4924-89D3-516AAB5F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8088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300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840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8088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300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0B9F-12C0-45A1-A70C-A865C79E1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8400" y="1273320"/>
            <a:ext cx="864252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864252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8760" y="235080"/>
            <a:ext cx="7601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8400" y="1273320"/>
            <a:ext cx="864252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2EC7-112A-4FB1-9EE4-9F6E93C22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712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8400" y="219168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8712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8088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03000" y="127332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840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8088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03000" y="2191680"/>
            <a:ext cx="2782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864252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1563-40D0-4A50-AFCA-AF35FB62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F11B-B0EB-4642-AA47-B09F4AF02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CC85-46EF-4D80-ADBD-D061EB224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8760" y="235080"/>
            <a:ext cx="7601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C544-978E-4B91-9F01-559FA9499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FD55-15DE-4BFF-8701-E5C8475B3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7120" y="219168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DC25-FEAC-425E-A25E-49D6383C3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840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7120" y="1273320"/>
            <a:ext cx="4217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8400" y="2191680"/>
            <a:ext cx="86425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88F0-0963-462C-9F75-0496CBEC7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391000"/>
            <a:ext cx="8961480" cy="133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8400" y="1273320"/>
            <a:ext cx="8642520" cy="17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2560" indent="-141480">
              <a:spcBef>
                <a:spcPts val="3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1960" indent="-1472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427320" indent="-133200">
              <a:spcBef>
                <a:spcPts val="34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76360" indent="-147240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576360" indent="-147240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576360" indent="-147240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McK Slide Elements"/>
          <p:cNvGrpSpPr/>
          <p:nvPr/>
        </p:nvGrpSpPr>
        <p:grpSpPr>
          <a:xfrm>
            <a:off x="122400" y="531720"/>
            <a:ext cx="8618400" cy="6162840"/>
            <a:chOff x="122400" y="531720"/>
            <a:chExt cx="8618400" cy="6162840"/>
          </a:xfrm>
        </p:grpSpPr>
        <p:sp>
          <p:nvSpPr>
            <p:cNvPr id="3" name="McK Measure" hidden="1"/>
            <p:cNvSpPr/>
            <p:nvPr/>
          </p:nvSpPr>
          <p:spPr>
            <a:xfrm>
              <a:off x="122400" y="531720"/>
              <a:ext cx="861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McK Footnote" hidden="1"/>
            <p:cNvSpPr/>
            <p:nvPr/>
          </p:nvSpPr>
          <p:spPr>
            <a:xfrm>
              <a:off x="125280" y="6329160"/>
              <a:ext cx="8167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74560" indent="-574560">
                <a:lnSpc>
                  <a:spcPct val="100000"/>
                </a:lnSpc>
                <a:tabLst>
                  <a:tab algn="l" pos="0"/>
                  <a:tab algn="r" pos="5335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4560" indent="-574560">
                <a:lnSpc>
                  <a:spcPct val="100000"/>
                </a:lnSpc>
                <a:tabLst>
                  <a:tab algn="l" pos="0"/>
                  <a:tab algn="r" pos="53352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6870600" y="6395760"/>
            <a:ext cx="18669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510436C-E2B5-4D98-ADB9-7418EACD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TVFootnote_ID_1068" hidden="1"/>
          <p:cNvSpPr/>
          <p:nvPr/>
        </p:nvSpPr>
        <p:spPr>
          <a:xfrm>
            <a:off x="158760" y="6253200"/>
            <a:ext cx="8618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38200" indent="-53820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Footn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TVSubjectTitle_ID_1070" hidden="1"/>
          <p:cNvSpPr/>
          <p:nvPr/>
        </p:nvSpPr>
        <p:spPr>
          <a:xfrm>
            <a:off x="158760" y="965160"/>
            <a:ext cx="58532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864560" y="14292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58760" y="235080"/>
            <a:ext cx="7601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494000" y="1370160"/>
            <a:ext cx="597348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61480" cy="4816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12560" y="3511440"/>
            <a:ext cx="6140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8701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8701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453960"/>
            <a:ext cx="1017720" cy="1017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72280" y="1962000"/>
            <a:ext cx="3376440" cy="1381320"/>
          </a:xfrm>
          <a:custGeom>
            <a:avLst/>
            <a:gdLst/>
            <a:ahLst/>
            <a:rect l="l" t="t" r="r" b="b"/>
            <a:pathLst>
              <a:path w="1599" h="652">
                <a:moveTo>
                  <a:pt x="1307" y="130"/>
                </a:moveTo>
                <a:lnTo>
                  <a:pt x="1411" y="130"/>
                </a:lnTo>
                <a:lnTo>
                  <a:pt x="1538" y="0"/>
                </a:lnTo>
                <a:lnTo>
                  <a:pt x="1397" y="0"/>
                </a:lnTo>
                <a:lnTo>
                  <a:pt x="1307" y="130"/>
                </a:lnTo>
                <a:close/>
                <a:moveTo>
                  <a:pt x="1269" y="161"/>
                </a:moveTo>
                <a:lnTo>
                  <a:pt x="1120" y="161"/>
                </a:lnTo>
                <a:lnTo>
                  <a:pt x="1120" y="440"/>
                </a:lnTo>
                <a:lnTo>
                  <a:pt x="1120" y="454"/>
                </a:lnTo>
                <a:lnTo>
                  <a:pt x="1121" y="466"/>
                </a:lnTo>
                <a:lnTo>
                  <a:pt x="1121" y="480"/>
                </a:lnTo>
                <a:lnTo>
                  <a:pt x="1124" y="492"/>
                </a:lnTo>
                <a:lnTo>
                  <a:pt x="1125" y="503"/>
                </a:lnTo>
                <a:lnTo>
                  <a:pt x="1128" y="515"/>
                </a:lnTo>
                <a:lnTo>
                  <a:pt x="1131" y="526"/>
                </a:lnTo>
                <a:lnTo>
                  <a:pt x="1133" y="537"/>
                </a:lnTo>
                <a:lnTo>
                  <a:pt x="1137" y="547"/>
                </a:lnTo>
                <a:lnTo>
                  <a:pt x="1142" y="556"/>
                </a:lnTo>
                <a:lnTo>
                  <a:pt x="1146" y="566"/>
                </a:lnTo>
                <a:lnTo>
                  <a:pt x="1151" y="574"/>
                </a:lnTo>
                <a:lnTo>
                  <a:pt x="1157" y="582"/>
                </a:lnTo>
                <a:lnTo>
                  <a:pt x="1162" y="590"/>
                </a:lnTo>
                <a:lnTo>
                  <a:pt x="1169" y="598"/>
                </a:lnTo>
                <a:lnTo>
                  <a:pt x="1174" y="605"/>
                </a:lnTo>
                <a:lnTo>
                  <a:pt x="1187" y="616"/>
                </a:lnTo>
                <a:lnTo>
                  <a:pt x="1200" y="626"/>
                </a:lnTo>
                <a:lnTo>
                  <a:pt x="1215" y="634"/>
                </a:lnTo>
                <a:lnTo>
                  <a:pt x="1230" y="641"/>
                </a:lnTo>
                <a:lnTo>
                  <a:pt x="1247" y="645"/>
                </a:lnTo>
                <a:lnTo>
                  <a:pt x="1255" y="648"/>
                </a:lnTo>
                <a:lnTo>
                  <a:pt x="1264" y="649"/>
                </a:lnTo>
                <a:lnTo>
                  <a:pt x="1274" y="650"/>
                </a:lnTo>
                <a:lnTo>
                  <a:pt x="1282" y="650"/>
                </a:lnTo>
                <a:lnTo>
                  <a:pt x="1303" y="652"/>
                </a:lnTo>
                <a:lnTo>
                  <a:pt x="1316" y="652"/>
                </a:lnTo>
                <a:lnTo>
                  <a:pt x="1329" y="650"/>
                </a:lnTo>
                <a:lnTo>
                  <a:pt x="1342" y="649"/>
                </a:lnTo>
                <a:lnTo>
                  <a:pt x="1355" y="646"/>
                </a:lnTo>
                <a:lnTo>
                  <a:pt x="1366" y="644"/>
                </a:lnTo>
                <a:lnTo>
                  <a:pt x="1378" y="639"/>
                </a:lnTo>
                <a:lnTo>
                  <a:pt x="1389" y="635"/>
                </a:lnTo>
                <a:lnTo>
                  <a:pt x="1398" y="630"/>
                </a:lnTo>
                <a:lnTo>
                  <a:pt x="1409" y="623"/>
                </a:lnTo>
                <a:lnTo>
                  <a:pt x="1419" y="618"/>
                </a:lnTo>
                <a:lnTo>
                  <a:pt x="1427" y="611"/>
                </a:lnTo>
                <a:lnTo>
                  <a:pt x="1437" y="603"/>
                </a:lnTo>
                <a:lnTo>
                  <a:pt x="1445" y="594"/>
                </a:lnTo>
                <a:lnTo>
                  <a:pt x="1452" y="585"/>
                </a:lnTo>
                <a:lnTo>
                  <a:pt x="1458" y="575"/>
                </a:lnTo>
                <a:lnTo>
                  <a:pt x="1465" y="564"/>
                </a:lnTo>
                <a:lnTo>
                  <a:pt x="1468" y="564"/>
                </a:lnTo>
                <a:lnTo>
                  <a:pt x="1468" y="641"/>
                </a:lnTo>
                <a:lnTo>
                  <a:pt x="1599" y="641"/>
                </a:lnTo>
                <a:lnTo>
                  <a:pt x="1599" y="161"/>
                </a:lnTo>
                <a:lnTo>
                  <a:pt x="1450" y="161"/>
                </a:lnTo>
                <a:lnTo>
                  <a:pt x="1450" y="441"/>
                </a:lnTo>
                <a:lnTo>
                  <a:pt x="1450" y="451"/>
                </a:lnTo>
                <a:lnTo>
                  <a:pt x="1449" y="459"/>
                </a:lnTo>
                <a:lnTo>
                  <a:pt x="1448" y="466"/>
                </a:lnTo>
                <a:lnTo>
                  <a:pt x="1446" y="471"/>
                </a:lnTo>
                <a:lnTo>
                  <a:pt x="1439" y="485"/>
                </a:lnTo>
                <a:lnTo>
                  <a:pt x="1435" y="492"/>
                </a:lnTo>
                <a:lnTo>
                  <a:pt x="1431" y="497"/>
                </a:lnTo>
                <a:lnTo>
                  <a:pt x="1427" y="503"/>
                </a:lnTo>
                <a:lnTo>
                  <a:pt x="1422" y="508"/>
                </a:lnTo>
                <a:lnTo>
                  <a:pt x="1416" y="512"/>
                </a:lnTo>
                <a:lnTo>
                  <a:pt x="1411" y="516"/>
                </a:lnTo>
                <a:lnTo>
                  <a:pt x="1405" y="521"/>
                </a:lnTo>
                <a:lnTo>
                  <a:pt x="1400" y="523"/>
                </a:lnTo>
                <a:lnTo>
                  <a:pt x="1393" y="526"/>
                </a:lnTo>
                <a:lnTo>
                  <a:pt x="1386" y="529"/>
                </a:lnTo>
                <a:lnTo>
                  <a:pt x="1379" y="530"/>
                </a:lnTo>
                <a:lnTo>
                  <a:pt x="1371" y="532"/>
                </a:lnTo>
                <a:lnTo>
                  <a:pt x="1355" y="533"/>
                </a:lnTo>
                <a:lnTo>
                  <a:pt x="1345" y="533"/>
                </a:lnTo>
                <a:lnTo>
                  <a:pt x="1336" y="530"/>
                </a:lnTo>
                <a:lnTo>
                  <a:pt x="1326" y="529"/>
                </a:lnTo>
                <a:lnTo>
                  <a:pt x="1318" y="525"/>
                </a:lnTo>
                <a:lnTo>
                  <a:pt x="1310" y="521"/>
                </a:lnTo>
                <a:lnTo>
                  <a:pt x="1303" y="515"/>
                </a:lnTo>
                <a:lnTo>
                  <a:pt x="1299" y="512"/>
                </a:lnTo>
                <a:lnTo>
                  <a:pt x="1296" y="510"/>
                </a:lnTo>
                <a:lnTo>
                  <a:pt x="1290" y="503"/>
                </a:lnTo>
                <a:lnTo>
                  <a:pt x="1285" y="495"/>
                </a:lnTo>
                <a:lnTo>
                  <a:pt x="1281" y="486"/>
                </a:lnTo>
                <a:lnTo>
                  <a:pt x="1277" y="477"/>
                </a:lnTo>
                <a:lnTo>
                  <a:pt x="1274" y="466"/>
                </a:lnTo>
                <a:lnTo>
                  <a:pt x="1271" y="454"/>
                </a:lnTo>
                <a:lnTo>
                  <a:pt x="1270" y="441"/>
                </a:lnTo>
                <a:lnTo>
                  <a:pt x="1269" y="428"/>
                </a:lnTo>
                <a:lnTo>
                  <a:pt x="1269" y="414"/>
                </a:lnTo>
                <a:lnTo>
                  <a:pt x="1269" y="161"/>
                </a:lnTo>
                <a:close/>
                <a:moveTo>
                  <a:pt x="886" y="321"/>
                </a:moveTo>
                <a:lnTo>
                  <a:pt x="851" y="321"/>
                </a:lnTo>
                <a:lnTo>
                  <a:pt x="834" y="323"/>
                </a:lnTo>
                <a:lnTo>
                  <a:pt x="818" y="324"/>
                </a:lnTo>
                <a:lnTo>
                  <a:pt x="786" y="327"/>
                </a:lnTo>
                <a:lnTo>
                  <a:pt x="771" y="329"/>
                </a:lnTo>
                <a:lnTo>
                  <a:pt x="758" y="332"/>
                </a:lnTo>
                <a:lnTo>
                  <a:pt x="730" y="339"/>
                </a:lnTo>
                <a:lnTo>
                  <a:pt x="718" y="342"/>
                </a:lnTo>
                <a:lnTo>
                  <a:pt x="706" y="347"/>
                </a:lnTo>
                <a:lnTo>
                  <a:pt x="684" y="357"/>
                </a:lnTo>
                <a:lnTo>
                  <a:pt x="673" y="361"/>
                </a:lnTo>
                <a:lnTo>
                  <a:pt x="664" y="368"/>
                </a:lnTo>
                <a:lnTo>
                  <a:pt x="654" y="373"/>
                </a:lnTo>
                <a:lnTo>
                  <a:pt x="644" y="380"/>
                </a:lnTo>
                <a:lnTo>
                  <a:pt x="636" y="387"/>
                </a:lnTo>
                <a:lnTo>
                  <a:pt x="628" y="394"/>
                </a:lnTo>
                <a:lnTo>
                  <a:pt x="621" y="402"/>
                </a:lnTo>
                <a:lnTo>
                  <a:pt x="614" y="409"/>
                </a:lnTo>
                <a:lnTo>
                  <a:pt x="609" y="418"/>
                </a:lnTo>
                <a:lnTo>
                  <a:pt x="603" y="426"/>
                </a:lnTo>
                <a:lnTo>
                  <a:pt x="598" y="435"/>
                </a:lnTo>
                <a:lnTo>
                  <a:pt x="594" y="444"/>
                </a:lnTo>
                <a:lnTo>
                  <a:pt x="591" y="454"/>
                </a:lnTo>
                <a:lnTo>
                  <a:pt x="588" y="463"/>
                </a:lnTo>
                <a:lnTo>
                  <a:pt x="586" y="474"/>
                </a:lnTo>
                <a:lnTo>
                  <a:pt x="584" y="485"/>
                </a:lnTo>
                <a:lnTo>
                  <a:pt x="583" y="496"/>
                </a:lnTo>
                <a:lnTo>
                  <a:pt x="583" y="507"/>
                </a:lnTo>
                <a:lnTo>
                  <a:pt x="583" y="522"/>
                </a:lnTo>
                <a:lnTo>
                  <a:pt x="584" y="529"/>
                </a:lnTo>
                <a:lnTo>
                  <a:pt x="586" y="536"/>
                </a:lnTo>
                <a:lnTo>
                  <a:pt x="588" y="548"/>
                </a:lnTo>
                <a:lnTo>
                  <a:pt x="594" y="562"/>
                </a:lnTo>
                <a:lnTo>
                  <a:pt x="599" y="574"/>
                </a:lnTo>
                <a:lnTo>
                  <a:pt x="603" y="579"/>
                </a:lnTo>
                <a:lnTo>
                  <a:pt x="608" y="585"/>
                </a:lnTo>
                <a:lnTo>
                  <a:pt x="616" y="596"/>
                </a:lnTo>
                <a:lnTo>
                  <a:pt x="620" y="601"/>
                </a:lnTo>
                <a:lnTo>
                  <a:pt x="625" y="607"/>
                </a:lnTo>
                <a:lnTo>
                  <a:pt x="638" y="618"/>
                </a:lnTo>
                <a:lnTo>
                  <a:pt x="644" y="622"/>
                </a:lnTo>
                <a:lnTo>
                  <a:pt x="651" y="627"/>
                </a:lnTo>
                <a:lnTo>
                  <a:pt x="658" y="630"/>
                </a:lnTo>
                <a:lnTo>
                  <a:pt x="665" y="634"/>
                </a:lnTo>
                <a:lnTo>
                  <a:pt x="672" y="638"/>
                </a:lnTo>
                <a:lnTo>
                  <a:pt x="680" y="641"/>
                </a:lnTo>
                <a:lnTo>
                  <a:pt x="695" y="645"/>
                </a:lnTo>
                <a:lnTo>
                  <a:pt x="711" y="649"/>
                </a:lnTo>
                <a:lnTo>
                  <a:pt x="720" y="650"/>
                </a:lnTo>
                <a:lnTo>
                  <a:pt x="728" y="650"/>
                </a:lnTo>
                <a:lnTo>
                  <a:pt x="747" y="652"/>
                </a:lnTo>
                <a:lnTo>
                  <a:pt x="770" y="650"/>
                </a:lnTo>
                <a:lnTo>
                  <a:pt x="781" y="649"/>
                </a:lnTo>
                <a:lnTo>
                  <a:pt x="792" y="648"/>
                </a:lnTo>
                <a:lnTo>
                  <a:pt x="814" y="642"/>
                </a:lnTo>
                <a:lnTo>
                  <a:pt x="823" y="639"/>
                </a:lnTo>
                <a:lnTo>
                  <a:pt x="833" y="635"/>
                </a:lnTo>
                <a:lnTo>
                  <a:pt x="851" y="627"/>
                </a:lnTo>
                <a:lnTo>
                  <a:pt x="859" y="622"/>
                </a:lnTo>
                <a:lnTo>
                  <a:pt x="867" y="616"/>
                </a:lnTo>
                <a:lnTo>
                  <a:pt x="874" y="611"/>
                </a:lnTo>
                <a:lnTo>
                  <a:pt x="881" y="604"/>
                </a:lnTo>
                <a:lnTo>
                  <a:pt x="888" y="597"/>
                </a:lnTo>
                <a:lnTo>
                  <a:pt x="894" y="590"/>
                </a:lnTo>
                <a:lnTo>
                  <a:pt x="898" y="590"/>
                </a:lnTo>
                <a:lnTo>
                  <a:pt x="898" y="641"/>
                </a:lnTo>
                <a:lnTo>
                  <a:pt x="1035" y="641"/>
                </a:lnTo>
                <a:lnTo>
                  <a:pt x="1035" y="358"/>
                </a:lnTo>
                <a:lnTo>
                  <a:pt x="1034" y="335"/>
                </a:lnTo>
                <a:lnTo>
                  <a:pt x="1031" y="314"/>
                </a:lnTo>
                <a:lnTo>
                  <a:pt x="1028" y="294"/>
                </a:lnTo>
                <a:lnTo>
                  <a:pt x="1023" y="275"/>
                </a:lnTo>
                <a:lnTo>
                  <a:pt x="1016" y="256"/>
                </a:lnTo>
                <a:lnTo>
                  <a:pt x="1012" y="247"/>
                </a:lnTo>
                <a:lnTo>
                  <a:pt x="1006" y="239"/>
                </a:lnTo>
                <a:lnTo>
                  <a:pt x="1002" y="232"/>
                </a:lnTo>
                <a:lnTo>
                  <a:pt x="997" y="224"/>
                </a:lnTo>
                <a:lnTo>
                  <a:pt x="991" y="217"/>
                </a:lnTo>
                <a:lnTo>
                  <a:pt x="986" y="211"/>
                </a:lnTo>
                <a:lnTo>
                  <a:pt x="982" y="206"/>
                </a:lnTo>
                <a:lnTo>
                  <a:pt x="979" y="202"/>
                </a:lnTo>
                <a:lnTo>
                  <a:pt x="971" y="196"/>
                </a:lnTo>
                <a:lnTo>
                  <a:pt x="963" y="190"/>
                </a:lnTo>
                <a:lnTo>
                  <a:pt x="953" y="183"/>
                </a:lnTo>
                <a:lnTo>
                  <a:pt x="945" y="178"/>
                </a:lnTo>
                <a:lnTo>
                  <a:pt x="935" y="172"/>
                </a:lnTo>
                <a:lnTo>
                  <a:pt x="924" y="168"/>
                </a:lnTo>
                <a:lnTo>
                  <a:pt x="915" y="164"/>
                </a:lnTo>
                <a:lnTo>
                  <a:pt x="904" y="160"/>
                </a:lnTo>
                <a:lnTo>
                  <a:pt x="892" y="157"/>
                </a:lnTo>
                <a:lnTo>
                  <a:pt x="881" y="155"/>
                </a:lnTo>
                <a:lnTo>
                  <a:pt x="868" y="153"/>
                </a:lnTo>
                <a:lnTo>
                  <a:pt x="855" y="150"/>
                </a:lnTo>
                <a:lnTo>
                  <a:pt x="842" y="149"/>
                </a:lnTo>
                <a:lnTo>
                  <a:pt x="829" y="149"/>
                </a:lnTo>
                <a:lnTo>
                  <a:pt x="814" y="149"/>
                </a:lnTo>
                <a:lnTo>
                  <a:pt x="785" y="149"/>
                </a:lnTo>
                <a:lnTo>
                  <a:pt x="771" y="150"/>
                </a:lnTo>
                <a:lnTo>
                  <a:pt x="758" y="152"/>
                </a:lnTo>
                <a:lnTo>
                  <a:pt x="732" y="155"/>
                </a:lnTo>
                <a:lnTo>
                  <a:pt x="718" y="157"/>
                </a:lnTo>
                <a:lnTo>
                  <a:pt x="706" y="160"/>
                </a:lnTo>
                <a:lnTo>
                  <a:pt x="683" y="167"/>
                </a:lnTo>
                <a:lnTo>
                  <a:pt x="670" y="171"/>
                </a:lnTo>
                <a:lnTo>
                  <a:pt x="659" y="175"/>
                </a:lnTo>
                <a:lnTo>
                  <a:pt x="639" y="185"/>
                </a:lnTo>
                <a:lnTo>
                  <a:pt x="628" y="190"/>
                </a:lnTo>
                <a:lnTo>
                  <a:pt x="618" y="196"/>
                </a:lnTo>
                <a:lnTo>
                  <a:pt x="646" y="288"/>
                </a:lnTo>
                <a:lnTo>
                  <a:pt x="662" y="280"/>
                </a:lnTo>
                <a:lnTo>
                  <a:pt x="679" y="272"/>
                </a:lnTo>
                <a:lnTo>
                  <a:pt x="696" y="265"/>
                </a:lnTo>
                <a:lnTo>
                  <a:pt x="714" y="260"/>
                </a:lnTo>
                <a:lnTo>
                  <a:pt x="722" y="258"/>
                </a:lnTo>
                <a:lnTo>
                  <a:pt x="732" y="256"/>
                </a:lnTo>
                <a:lnTo>
                  <a:pt x="750" y="253"/>
                </a:lnTo>
                <a:lnTo>
                  <a:pt x="769" y="252"/>
                </a:lnTo>
                <a:lnTo>
                  <a:pt x="789" y="250"/>
                </a:lnTo>
                <a:lnTo>
                  <a:pt x="800" y="250"/>
                </a:lnTo>
                <a:lnTo>
                  <a:pt x="811" y="252"/>
                </a:lnTo>
                <a:lnTo>
                  <a:pt x="822" y="253"/>
                </a:lnTo>
                <a:lnTo>
                  <a:pt x="832" y="254"/>
                </a:lnTo>
                <a:lnTo>
                  <a:pt x="840" y="257"/>
                </a:lnTo>
                <a:lnTo>
                  <a:pt x="848" y="260"/>
                </a:lnTo>
                <a:lnTo>
                  <a:pt x="856" y="262"/>
                </a:lnTo>
                <a:lnTo>
                  <a:pt x="862" y="267"/>
                </a:lnTo>
                <a:lnTo>
                  <a:pt x="868" y="271"/>
                </a:lnTo>
                <a:lnTo>
                  <a:pt x="873" y="276"/>
                </a:lnTo>
                <a:lnTo>
                  <a:pt x="877" y="282"/>
                </a:lnTo>
                <a:lnTo>
                  <a:pt x="881" y="287"/>
                </a:lnTo>
                <a:lnTo>
                  <a:pt x="883" y="294"/>
                </a:lnTo>
                <a:lnTo>
                  <a:pt x="885" y="301"/>
                </a:lnTo>
                <a:lnTo>
                  <a:pt x="885" y="305"/>
                </a:lnTo>
                <a:lnTo>
                  <a:pt x="886" y="308"/>
                </a:lnTo>
                <a:lnTo>
                  <a:pt x="886" y="316"/>
                </a:lnTo>
                <a:lnTo>
                  <a:pt x="886" y="321"/>
                </a:lnTo>
                <a:close/>
                <a:moveTo>
                  <a:pt x="523" y="161"/>
                </a:moveTo>
                <a:lnTo>
                  <a:pt x="433" y="161"/>
                </a:lnTo>
                <a:lnTo>
                  <a:pt x="433" y="0"/>
                </a:lnTo>
                <a:lnTo>
                  <a:pt x="288" y="0"/>
                </a:lnTo>
                <a:lnTo>
                  <a:pt x="288" y="161"/>
                </a:lnTo>
                <a:lnTo>
                  <a:pt x="220" y="161"/>
                </a:lnTo>
                <a:lnTo>
                  <a:pt x="220" y="272"/>
                </a:lnTo>
                <a:lnTo>
                  <a:pt x="288" y="272"/>
                </a:lnTo>
                <a:lnTo>
                  <a:pt x="288" y="465"/>
                </a:lnTo>
                <a:lnTo>
                  <a:pt x="288" y="489"/>
                </a:lnTo>
                <a:lnTo>
                  <a:pt x="291" y="511"/>
                </a:lnTo>
                <a:lnTo>
                  <a:pt x="292" y="522"/>
                </a:lnTo>
                <a:lnTo>
                  <a:pt x="293" y="532"/>
                </a:lnTo>
                <a:lnTo>
                  <a:pt x="298" y="551"/>
                </a:lnTo>
                <a:lnTo>
                  <a:pt x="303" y="567"/>
                </a:lnTo>
                <a:lnTo>
                  <a:pt x="307" y="575"/>
                </a:lnTo>
                <a:lnTo>
                  <a:pt x="310" y="582"/>
                </a:lnTo>
                <a:lnTo>
                  <a:pt x="314" y="589"/>
                </a:lnTo>
                <a:lnTo>
                  <a:pt x="318" y="596"/>
                </a:lnTo>
                <a:lnTo>
                  <a:pt x="323" y="601"/>
                </a:lnTo>
                <a:lnTo>
                  <a:pt x="328" y="607"/>
                </a:lnTo>
                <a:lnTo>
                  <a:pt x="339" y="618"/>
                </a:lnTo>
                <a:lnTo>
                  <a:pt x="345" y="622"/>
                </a:lnTo>
                <a:lnTo>
                  <a:pt x="351" y="627"/>
                </a:lnTo>
                <a:lnTo>
                  <a:pt x="358" y="630"/>
                </a:lnTo>
                <a:lnTo>
                  <a:pt x="364" y="634"/>
                </a:lnTo>
                <a:lnTo>
                  <a:pt x="371" y="638"/>
                </a:lnTo>
                <a:lnTo>
                  <a:pt x="378" y="641"/>
                </a:lnTo>
                <a:lnTo>
                  <a:pt x="393" y="645"/>
                </a:lnTo>
                <a:lnTo>
                  <a:pt x="410" y="649"/>
                </a:lnTo>
                <a:lnTo>
                  <a:pt x="418" y="650"/>
                </a:lnTo>
                <a:lnTo>
                  <a:pt x="427" y="650"/>
                </a:lnTo>
                <a:lnTo>
                  <a:pt x="445" y="652"/>
                </a:lnTo>
                <a:lnTo>
                  <a:pt x="468" y="650"/>
                </a:lnTo>
                <a:lnTo>
                  <a:pt x="489" y="649"/>
                </a:lnTo>
                <a:lnTo>
                  <a:pt x="498" y="646"/>
                </a:lnTo>
                <a:lnTo>
                  <a:pt x="508" y="645"/>
                </a:lnTo>
                <a:lnTo>
                  <a:pt x="526" y="639"/>
                </a:lnTo>
                <a:lnTo>
                  <a:pt x="523" y="526"/>
                </a:lnTo>
                <a:lnTo>
                  <a:pt x="519" y="529"/>
                </a:lnTo>
                <a:lnTo>
                  <a:pt x="513" y="532"/>
                </a:lnTo>
                <a:lnTo>
                  <a:pt x="511" y="532"/>
                </a:lnTo>
                <a:lnTo>
                  <a:pt x="505" y="533"/>
                </a:lnTo>
                <a:lnTo>
                  <a:pt x="496" y="533"/>
                </a:lnTo>
                <a:lnTo>
                  <a:pt x="487" y="533"/>
                </a:lnTo>
                <a:lnTo>
                  <a:pt x="479" y="532"/>
                </a:lnTo>
                <a:lnTo>
                  <a:pt x="472" y="529"/>
                </a:lnTo>
                <a:lnTo>
                  <a:pt x="466" y="526"/>
                </a:lnTo>
                <a:lnTo>
                  <a:pt x="460" y="523"/>
                </a:lnTo>
                <a:lnTo>
                  <a:pt x="455" y="518"/>
                </a:lnTo>
                <a:lnTo>
                  <a:pt x="449" y="514"/>
                </a:lnTo>
                <a:lnTo>
                  <a:pt x="445" y="507"/>
                </a:lnTo>
                <a:lnTo>
                  <a:pt x="442" y="501"/>
                </a:lnTo>
                <a:lnTo>
                  <a:pt x="440" y="496"/>
                </a:lnTo>
                <a:lnTo>
                  <a:pt x="437" y="489"/>
                </a:lnTo>
                <a:lnTo>
                  <a:pt x="435" y="481"/>
                </a:lnTo>
                <a:lnTo>
                  <a:pt x="433" y="463"/>
                </a:lnTo>
                <a:lnTo>
                  <a:pt x="433" y="452"/>
                </a:lnTo>
                <a:lnTo>
                  <a:pt x="433" y="441"/>
                </a:lnTo>
                <a:lnTo>
                  <a:pt x="433" y="272"/>
                </a:lnTo>
                <a:lnTo>
                  <a:pt x="523" y="272"/>
                </a:lnTo>
                <a:lnTo>
                  <a:pt x="523" y="161"/>
                </a:lnTo>
                <a:close/>
                <a:moveTo>
                  <a:pt x="721" y="495"/>
                </a:moveTo>
                <a:lnTo>
                  <a:pt x="721" y="484"/>
                </a:lnTo>
                <a:lnTo>
                  <a:pt x="722" y="480"/>
                </a:lnTo>
                <a:lnTo>
                  <a:pt x="724" y="474"/>
                </a:lnTo>
                <a:lnTo>
                  <a:pt x="726" y="466"/>
                </a:lnTo>
                <a:lnTo>
                  <a:pt x="729" y="462"/>
                </a:lnTo>
                <a:lnTo>
                  <a:pt x="732" y="458"/>
                </a:lnTo>
                <a:lnTo>
                  <a:pt x="735" y="454"/>
                </a:lnTo>
                <a:lnTo>
                  <a:pt x="737" y="450"/>
                </a:lnTo>
                <a:lnTo>
                  <a:pt x="744" y="443"/>
                </a:lnTo>
                <a:lnTo>
                  <a:pt x="754" y="437"/>
                </a:lnTo>
                <a:lnTo>
                  <a:pt x="763" y="432"/>
                </a:lnTo>
                <a:lnTo>
                  <a:pt x="774" y="428"/>
                </a:lnTo>
                <a:lnTo>
                  <a:pt x="788" y="424"/>
                </a:lnTo>
                <a:lnTo>
                  <a:pt x="802" y="420"/>
                </a:lnTo>
                <a:lnTo>
                  <a:pt x="817" y="418"/>
                </a:lnTo>
                <a:lnTo>
                  <a:pt x="833" y="415"/>
                </a:lnTo>
                <a:lnTo>
                  <a:pt x="851" y="414"/>
                </a:lnTo>
                <a:lnTo>
                  <a:pt x="870" y="414"/>
                </a:lnTo>
                <a:lnTo>
                  <a:pt x="890" y="414"/>
                </a:lnTo>
                <a:lnTo>
                  <a:pt x="890" y="465"/>
                </a:lnTo>
                <a:lnTo>
                  <a:pt x="889" y="492"/>
                </a:lnTo>
                <a:lnTo>
                  <a:pt x="886" y="499"/>
                </a:lnTo>
                <a:lnTo>
                  <a:pt x="882" y="506"/>
                </a:lnTo>
                <a:lnTo>
                  <a:pt x="878" y="512"/>
                </a:lnTo>
                <a:lnTo>
                  <a:pt x="874" y="518"/>
                </a:lnTo>
                <a:lnTo>
                  <a:pt x="870" y="523"/>
                </a:lnTo>
                <a:lnTo>
                  <a:pt x="864" y="529"/>
                </a:lnTo>
                <a:lnTo>
                  <a:pt x="859" y="533"/>
                </a:lnTo>
                <a:lnTo>
                  <a:pt x="852" y="537"/>
                </a:lnTo>
                <a:lnTo>
                  <a:pt x="845" y="542"/>
                </a:lnTo>
                <a:lnTo>
                  <a:pt x="838" y="547"/>
                </a:lnTo>
                <a:lnTo>
                  <a:pt x="832" y="551"/>
                </a:lnTo>
                <a:lnTo>
                  <a:pt x="823" y="553"/>
                </a:lnTo>
                <a:lnTo>
                  <a:pt x="817" y="555"/>
                </a:lnTo>
                <a:lnTo>
                  <a:pt x="808" y="557"/>
                </a:lnTo>
                <a:lnTo>
                  <a:pt x="799" y="557"/>
                </a:lnTo>
                <a:lnTo>
                  <a:pt x="791" y="559"/>
                </a:lnTo>
                <a:lnTo>
                  <a:pt x="782" y="557"/>
                </a:lnTo>
                <a:lnTo>
                  <a:pt x="774" y="557"/>
                </a:lnTo>
                <a:lnTo>
                  <a:pt x="767" y="556"/>
                </a:lnTo>
                <a:lnTo>
                  <a:pt x="761" y="555"/>
                </a:lnTo>
                <a:lnTo>
                  <a:pt x="754" y="552"/>
                </a:lnTo>
                <a:lnTo>
                  <a:pt x="748" y="549"/>
                </a:lnTo>
                <a:lnTo>
                  <a:pt x="743" y="547"/>
                </a:lnTo>
                <a:lnTo>
                  <a:pt x="739" y="542"/>
                </a:lnTo>
                <a:lnTo>
                  <a:pt x="735" y="538"/>
                </a:lnTo>
                <a:lnTo>
                  <a:pt x="730" y="533"/>
                </a:lnTo>
                <a:lnTo>
                  <a:pt x="728" y="527"/>
                </a:lnTo>
                <a:lnTo>
                  <a:pt x="725" y="522"/>
                </a:lnTo>
                <a:lnTo>
                  <a:pt x="722" y="510"/>
                </a:lnTo>
                <a:lnTo>
                  <a:pt x="721" y="503"/>
                </a:lnTo>
                <a:lnTo>
                  <a:pt x="721" y="495"/>
                </a:lnTo>
                <a:close/>
                <a:moveTo>
                  <a:pt x="0" y="0"/>
                </a:moveTo>
                <a:lnTo>
                  <a:pt x="0" y="641"/>
                </a:lnTo>
                <a:lnTo>
                  <a:pt x="150" y="641"/>
                </a:lnTo>
                <a:lnTo>
                  <a:pt x="1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71480" y="0"/>
            <a:ext cx="2359080" cy="180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140360" y="0"/>
            <a:ext cx="2355840" cy="180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607080" y="0"/>
            <a:ext cx="2354400" cy="1803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616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algn="ctr">
              <a:spcBef>
                <a:spcPts val="349"/>
              </a:spcBef>
              <a:buClr>
                <a:srgbClr val="000000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33440" algn="ctr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433440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433440"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3.png"/><Relationship Id="rId2" Type="http://schemas.openxmlformats.org/officeDocument/2006/relationships/image" Target="../media/image18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egacycreative.gettyimages.com/source/Search/26&apos;,&apos;26&apos;,&apos;64&apos;,&apos;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legacycreative.gettyimages.com/source/Search/146&apos;,&apos;26&apos;,&apos;64&apos;,&apos;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.ar/imgres?imgurl=http://www.thesykesgrp.com/TSGBlog/media/Happy05.jpg&amp;imgrefurl=http://www.thesykesgrp.com/TSGBlog/archives/cat_1899031628.html&amp;h=2070&amp;w=2738&amp;sz=643&amp;hl=es&amp;start=8&amp;tbnid=2bwBfXmd5ZJFzM:&amp;tbnh=113&amp;tbnw=150&amp;prev=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egacycreative.gettyimages.com/source/Search/26&apos;,&apos;26&apos;,&apos;64&apos;,&apos;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legacycreative.gettyimages.com/source/Search/146&apos;,&apos;26&apos;,&apos;64&apos;,&apos;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3.wmf"/><Relationship Id="rId24" Type="http://schemas.openxmlformats.org/officeDocument/2006/relationships/image" Target="../media/image44.wmf"/><Relationship Id="rId25" Type="http://schemas.openxmlformats.org/officeDocument/2006/relationships/image" Target="../media/image45.wmf"/><Relationship Id="rId26" Type="http://schemas.openxmlformats.org/officeDocument/2006/relationships/image" Target="../media/image46.wmf"/><Relationship Id="rId27" Type="http://schemas.openxmlformats.org/officeDocument/2006/relationships/image" Target="../media/image47.wmf"/><Relationship Id="rId28" Type="http://schemas.openxmlformats.org/officeDocument/2006/relationships/image" Target="../media/image48.wmf"/><Relationship Id="rId29" Type="http://schemas.openxmlformats.org/officeDocument/2006/relationships/image" Target="../media/image49.wmf"/><Relationship Id="rId30" Type="http://schemas.openxmlformats.org/officeDocument/2006/relationships/image" Target="../media/image50.wmf"/><Relationship Id="rId31" Type="http://schemas.openxmlformats.org/officeDocument/2006/relationships/image" Target="../media/image51.wmf"/><Relationship Id="rId32" Type="http://schemas.openxmlformats.org/officeDocument/2006/relationships/image" Target="../media/image52.wmf"/><Relationship Id="rId33" Type="http://schemas.openxmlformats.org/officeDocument/2006/relationships/image" Target="../media/image53.wmf"/><Relationship Id="rId34" Type="http://schemas.openxmlformats.org/officeDocument/2006/relationships/image" Target="../media/image54.wmf"/><Relationship Id="rId35" Type="http://schemas.openxmlformats.org/officeDocument/2006/relationships/image" Target="../media/image55.wmf"/><Relationship Id="rId36" Type="http://schemas.openxmlformats.org/officeDocument/2006/relationships/image" Target="../media/image56.wmf"/><Relationship Id="rId37" Type="http://schemas.openxmlformats.org/officeDocument/2006/relationships/image" Target="../media/image57.wmf"/><Relationship Id="rId38" Type="http://schemas.openxmlformats.org/officeDocument/2006/relationships/image" Target="../media/image58.wmf"/><Relationship Id="rId39" Type="http://schemas.openxmlformats.org/officeDocument/2006/relationships/image" Target="../media/image59.wmf"/><Relationship Id="rId40" Type="http://schemas.openxmlformats.org/officeDocument/2006/relationships/image" Target="../media/image60.wmf"/><Relationship Id="rId41" Type="http://schemas.openxmlformats.org/officeDocument/2006/relationships/image" Target="../media/image61.wmf"/><Relationship Id="rId42" Type="http://schemas.openxmlformats.org/officeDocument/2006/relationships/image" Target="../media/image62.wmf"/><Relationship Id="rId43" Type="http://schemas.openxmlformats.org/officeDocument/2006/relationships/image" Target="../media/image63.wmf"/><Relationship Id="rId44" Type="http://schemas.openxmlformats.org/officeDocument/2006/relationships/image" Target="../media/image64.wmf"/><Relationship Id="rId45" Type="http://schemas.openxmlformats.org/officeDocument/2006/relationships/image" Target="../media/image65.wmf"/><Relationship Id="rId46" Type="http://schemas.openxmlformats.org/officeDocument/2006/relationships/image" Target="../media/image66.wmf"/><Relationship Id="rId47" Type="http://schemas.openxmlformats.org/officeDocument/2006/relationships/image" Target="../media/image67.wmf"/><Relationship Id="rId48" Type="http://schemas.openxmlformats.org/officeDocument/2006/relationships/image" Target="../media/image68.wmf"/><Relationship Id="rId49" Type="http://schemas.openxmlformats.org/officeDocument/2006/relationships/image" Target="../media/image69.wmf"/><Relationship Id="rId50" Type="http://schemas.openxmlformats.org/officeDocument/2006/relationships/image" Target="../media/image70.wmf"/><Relationship Id="rId51" Type="http://schemas.openxmlformats.org/officeDocument/2006/relationships/image" Target="../media/image71.wmf"/><Relationship Id="rId52" Type="http://schemas.openxmlformats.org/officeDocument/2006/relationships/image" Target="../media/image72.wmf"/><Relationship Id="rId53" Type="http://schemas.openxmlformats.org/officeDocument/2006/relationships/image" Target="../media/image73.wmf"/><Relationship Id="rId54" Type="http://schemas.openxmlformats.org/officeDocument/2006/relationships/image" Target="../media/image74.wmf"/><Relationship Id="rId55" Type="http://schemas.openxmlformats.org/officeDocument/2006/relationships/image" Target="../media/image75.wmf"/><Relationship Id="rId56" Type="http://schemas.openxmlformats.org/officeDocument/2006/relationships/image" Target="../media/image76.wmf"/><Relationship Id="rId57" Type="http://schemas.openxmlformats.org/officeDocument/2006/relationships/image" Target="../media/image77.wmf"/><Relationship Id="rId58" Type="http://schemas.openxmlformats.org/officeDocument/2006/relationships/image" Target="../media/image78.wmf"/><Relationship Id="rId59" Type="http://schemas.openxmlformats.org/officeDocument/2006/relationships/image" Target="../media/image79.wmf"/><Relationship Id="rId60" Type="http://schemas.openxmlformats.org/officeDocument/2006/relationships/image" Target="../media/image80.wmf"/><Relationship Id="rId61" Type="http://schemas.openxmlformats.org/officeDocument/2006/relationships/image" Target="../media/image81.wmf"/><Relationship Id="rId62" Type="http://schemas.openxmlformats.org/officeDocument/2006/relationships/image" Target="../media/image82.wmf"/><Relationship Id="rId63" Type="http://schemas.openxmlformats.org/officeDocument/2006/relationships/image" Target="../media/image83.wmf"/><Relationship Id="rId64" Type="http://schemas.openxmlformats.org/officeDocument/2006/relationships/image" Target="../media/image84.wmf"/><Relationship Id="rId65" Type="http://schemas.openxmlformats.org/officeDocument/2006/relationships/image" Target="../media/image85.wmf"/><Relationship Id="rId66" Type="http://schemas.openxmlformats.org/officeDocument/2006/relationships/image" Target="../media/image86.wmf"/><Relationship Id="rId67" Type="http://schemas.openxmlformats.org/officeDocument/2006/relationships/image" Target="../media/image87.wmf"/><Relationship Id="rId68" Type="http://schemas.openxmlformats.org/officeDocument/2006/relationships/image" Target="../media/image88.wmf"/><Relationship Id="rId69" Type="http://schemas.openxmlformats.org/officeDocument/2006/relationships/image" Target="../media/image89.wmf"/><Relationship Id="rId70" Type="http://schemas.openxmlformats.org/officeDocument/2006/relationships/image" Target="../media/image90.wmf"/><Relationship Id="rId71" Type="http://schemas.openxmlformats.org/officeDocument/2006/relationships/image" Target="../media/image91.wmf"/><Relationship Id="rId72" Type="http://schemas.openxmlformats.org/officeDocument/2006/relationships/image" Target="../media/image92.wmf"/><Relationship Id="rId73" Type="http://schemas.openxmlformats.org/officeDocument/2006/relationships/image" Target="../media/image93.wmf"/><Relationship Id="rId74" Type="http://schemas.openxmlformats.org/officeDocument/2006/relationships/image" Target="../media/image94.wmf"/><Relationship Id="rId75" Type="http://schemas.openxmlformats.org/officeDocument/2006/relationships/image" Target="../media/image95.wmf"/><Relationship Id="rId76" Type="http://schemas.openxmlformats.org/officeDocument/2006/relationships/image" Target="../media/image96.wmf"/><Relationship Id="rId77" Type="http://schemas.openxmlformats.org/officeDocument/2006/relationships/image" Target="../media/image97.wmf"/><Relationship Id="rId78" Type="http://schemas.openxmlformats.org/officeDocument/2006/relationships/image" Target="../media/image98.wmf"/><Relationship Id="rId79" Type="http://schemas.openxmlformats.org/officeDocument/2006/relationships/image" Target="../media/image99.wmf"/><Relationship Id="rId80" Type="http://schemas.openxmlformats.org/officeDocument/2006/relationships/image" Target="../media/image100.wmf"/><Relationship Id="rId81" Type="http://schemas.openxmlformats.org/officeDocument/2006/relationships/image" Target="../media/image101.wmf"/><Relationship Id="rId82" Type="http://schemas.openxmlformats.org/officeDocument/2006/relationships/image" Target="../media/image102.wmf"/><Relationship Id="rId83" Type="http://schemas.openxmlformats.org/officeDocument/2006/relationships/image" Target="../media/image103.wmf"/><Relationship Id="rId84" Type="http://schemas.openxmlformats.org/officeDocument/2006/relationships/image" Target="../media/image104.wmf"/><Relationship Id="rId85" Type="http://schemas.openxmlformats.org/officeDocument/2006/relationships/image" Target="../media/image105.wmf"/><Relationship Id="rId86" Type="http://schemas.openxmlformats.org/officeDocument/2006/relationships/image" Target="../media/image106.wmf"/><Relationship Id="rId87" Type="http://schemas.openxmlformats.org/officeDocument/2006/relationships/image" Target="../media/image107.wmf"/><Relationship Id="rId88" Type="http://schemas.openxmlformats.org/officeDocument/2006/relationships/image" Target="../media/image108.wmf"/><Relationship Id="rId89" Type="http://schemas.openxmlformats.org/officeDocument/2006/relationships/image" Target="../media/image109.wmf"/><Relationship Id="rId90" Type="http://schemas.openxmlformats.org/officeDocument/2006/relationships/image" Target="../media/image110.wmf"/><Relationship Id="rId91" Type="http://schemas.openxmlformats.org/officeDocument/2006/relationships/image" Target="../media/image111.wmf"/><Relationship Id="rId92" Type="http://schemas.openxmlformats.org/officeDocument/2006/relationships/image" Target="../media/image112.wmf"/><Relationship Id="rId93" Type="http://schemas.openxmlformats.org/officeDocument/2006/relationships/image" Target="../media/image113.wmf"/><Relationship Id="rId94" Type="http://schemas.openxmlformats.org/officeDocument/2006/relationships/image" Target="../media/image114.wmf"/><Relationship Id="rId95" Type="http://schemas.openxmlformats.org/officeDocument/2006/relationships/image" Target="../media/image115.wmf"/><Relationship Id="rId96" Type="http://schemas.openxmlformats.org/officeDocument/2006/relationships/image" Target="../media/image116.wmf"/><Relationship Id="rId97" Type="http://schemas.openxmlformats.org/officeDocument/2006/relationships/image" Target="../media/image117.wmf"/><Relationship Id="rId98" Type="http://schemas.openxmlformats.org/officeDocument/2006/relationships/image" Target="../media/image118.wmf"/><Relationship Id="rId99" Type="http://schemas.openxmlformats.org/officeDocument/2006/relationships/image" Target="../media/image119.wmf"/><Relationship Id="rId100" Type="http://schemas.openxmlformats.org/officeDocument/2006/relationships/image" Target="../media/image120.wmf"/><Relationship Id="rId101" Type="http://schemas.openxmlformats.org/officeDocument/2006/relationships/image" Target="../media/image121.wmf"/><Relationship Id="rId102" Type="http://schemas.openxmlformats.org/officeDocument/2006/relationships/image" Target="../media/image122.wmf"/><Relationship Id="rId103" Type="http://schemas.openxmlformats.org/officeDocument/2006/relationships/image" Target="../media/image123.wmf"/><Relationship Id="rId104" Type="http://schemas.openxmlformats.org/officeDocument/2006/relationships/image" Target="../media/image124.wmf"/><Relationship Id="rId105" Type="http://schemas.openxmlformats.org/officeDocument/2006/relationships/image" Target="../media/image125.wmf"/><Relationship Id="rId106" Type="http://schemas.openxmlformats.org/officeDocument/2006/relationships/image" Target="../media/image126.wmf"/><Relationship Id="rId107" Type="http://schemas.openxmlformats.org/officeDocument/2006/relationships/image" Target="../media/image127.wmf"/><Relationship Id="rId108" Type="http://schemas.openxmlformats.org/officeDocument/2006/relationships/image" Target="../media/image128.wmf"/><Relationship Id="rId109" Type="http://schemas.openxmlformats.org/officeDocument/2006/relationships/image" Target="../media/image129.wmf"/><Relationship Id="rId110" Type="http://schemas.openxmlformats.org/officeDocument/2006/relationships/image" Target="../media/image130.wmf"/><Relationship Id="rId111" Type="http://schemas.openxmlformats.org/officeDocument/2006/relationships/image" Target="../media/image131.wmf"/><Relationship Id="rId112" Type="http://schemas.openxmlformats.org/officeDocument/2006/relationships/image" Target="../media/image132.wmf"/><Relationship Id="rId113" Type="http://schemas.openxmlformats.org/officeDocument/2006/relationships/image" Target="../media/image133.wmf"/><Relationship Id="rId114" Type="http://schemas.openxmlformats.org/officeDocument/2006/relationships/image" Target="../media/image134.wmf"/><Relationship Id="rId115" Type="http://schemas.openxmlformats.org/officeDocument/2006/relationships/image" Target="../media/image135.wmf"/><Relationship Id="rId116" Type="http://schemas.openxmlformats.org/officeDocument/2006/relationships/image" Target="../media/image136.wmf"/><Relationship Id="rId117" Type="http://schemas.openxmlformats.org/officeDocument/2006/relationships/image" Target="../media/image137.wmf"/><Relationship Id="rId118" Type="http://schemas.openxmlformats.org/officeDocument/2006/relationships/image" Target="../media/image138.wmf"/><Relationship Id="rId119" Type="http://schemas.openxmlformats.org/officeDocument/2006/relationships/image" Target="../media/image139.wmf"/><Relationship Id="rId120" Type="http://schemas.openxmlformats.org/officeDocument/2006/relationships/image" Target="../media/image140.wmf"/><Relationship Id="rId121" Type="http://schemas.openxmlformats.org/officeDocument/2006/relationships/image" Target="../media/image141.wmf"/><Relationship Id="rId122" Type="http://schemas.openxmlformats.org/officeDocument/2006/relationships/image" Target="../media/image142.wmf"/><Relationship Id="rId123" Type="http://schemas.openxmlformats.org/officeDocument/2006/relationships/image" Target="../media/image143.wmf"/><Relationship Id="rId124" Type="http://schemas.openxmlformats.org/officeDocument/2006/relationships/image" Target="../media/image144.wmf"/><Relationship Id="rId125" Type="http://schemas.openxmlformats.org/officeDocument/2006/relationships/image" Target="../media/image145.wmf"/><Relationship Id="rId126" Type="http://schemas.openxmlformats.org/officeDocument/2006/relationships/image" Target="../media/image146.wmf"/><Relationship Id="rId127" Type="http://schemas.openxmlformats.org/officeDocument/2006/relationships/image" Target="../media/image147.wmf"/><Relationship Id="rId128" Type="http://schemas.openxmlformats.org/officeDocument/2006/relationships/image" Target="../media/image148.wmf"/><Relationship Id="rId129" Type="http://schemas.openxmlformats.org/officeDocument/2006/relationships/image" Target="../media/image149.wmf"/><Relationship Id="rId130" Type="http://schemas.openxmlformats.org/officeDocument/2006/relationships/image" Target="../media/image150.wmf"/><Relationship Id="rId131" Type="http://schemas.openxmlformats.org/officeDocument/2006/relationships/image" Target="../media/image151.wmf"/><Relationship Id="rId132" Type="http://schemas.openxmlformats.org/officeDocument/2006/relationships/image" Target="../media/image152.wmf"/><Relationship Id="rId133" Type="http://schemas.openxmlformats.org/officeDocument/2006/relationships/image" Target="../media/image153.wmf"/><Relationship Id="rId134" Type="http://schemas.openxmlformats.org/officeDocument/2006/relationships/image" Target="../media/image154.wmf"/><Relationship Id="rId135" Type="http://schemas.openxmlformats.org/officeDocument/2006/relationships/image" Target="../media/image155.wmf"/><Relationship Id="rId136" Type="http://schemas.openxmlformats.org/officeDocument/2006/relationships/image" Target="../media/image156.wmf"/><Relationship Id="rId137" Type="http://schemas.openxmlformats.org/officeDocument/2006/relationships/image" Target="../media/image157.wmf"/><Relationship Id="rId138" Type="http://schemas.openxmlformats.org/officeDocument/2006/relationships/image" Target="../media/image158.wmf"/><Relationship Id="rId139" Type="http://schemas.openxmlformats.org/officeDocument/2006/relationships/image" Target="../media/image159.wmf"/><Relationship Id="rId140" Type="http://schemas.openxmlformats.org/officeDocument/2006/relationships/image" Target="../media/image160.wmf"/><Relationship Id="rId141" Type="http://schemas.openxmlformats.org/officeDocument/2006/relationships/image" Target="../media/image161.wmf"/><Relationship Id="rId142" Type="http://schemas.openxmlformats.org/officeDocument/2006/relationships/image" Target="../media/image162.wmf"/><Relationship Id="rId143" Type="http://schemas.openxmlformats.org/officeDocument/2006/relationships/image" Target="../media/image163.wmf"/><Relationship Id="rId144" Type="http://schemas.openxmlformats.org/officeDocument/2006/relationships/image" Target="../media/image164.wmf"/><Relationship Id="rId145" Type="http://schemas.openxmlformats.org/officeDocument/2006/relationships/image" Target="../media/image165.wmf"/><Relationship Id="rId146" Type="http://schemas.openxmlformats.org/officeDocument/2006/relationships/image" Target="../media/image166.wmf"/><Relationship Id="rId147" Type="http://schemas.openxmlformats.org/officeDocument/2006/relationships/image" Target="../media/image167.wmf"/><Relationship Id="rId148" Type="http://schemas.openxmlformats.org/officeDocument/2006/relationships/image" Target="../media/image168.wmf"/><Relationship Id="rId149" Type="http://schemas.openxmlformats.org/officeDocument/2006/relationships/image" Target="../media/image169.wmf"/><Relationship Id="rId150" Type="http://schemas.openxmlformats.org/officeDocument/2006/relationships/image" Target="../media/image170.wmf"/><Relationship Id="rId151" Type="http://schemas.openxmlformats.org/officeDocument/2006/relationships/image" Target="../media/image171.wmf"/><Relationship Id="rId152" Type="http://schemas.openxmlformats.org/officeDocument/2006/relationships/image" Target="../media/image172.wmf"/><Relationship Id="rId153" Type="http://schemas.openxmlformats.org/officeDocument/2006/relationships/image" Target="../media/image173.wmf"/><Relationship Id="rId154" Type="http://schemas.openxmlformats.org/officeDocument/2006/relationships/image" Target="../media/image174.wmf"/><Relationship Id="rId155" Type="http://schemas.openxmlformats.org/officeDocument/2006/relationships/image" Target="../media/image175.wmf"/><Relationship Id="rId156" Type="http://schemas.openxmlformats.org/officeDocument/2006/relationships/image" Target="../media/image176.png"/><Relationship Id="rId157" Type="http://schemas.openxmlformats.org/officeDocument/2006/relationships/image" Target="../media/image177.png"/><Relationship Id="rId158" Type="http://schemas.openxmlformats.org/officeDocument/2006/relationships/image" Target="../media/image178.png"/><Relationship Id="rId159" Type="http://schemas.openxmlformats.org/officeDocument/2006/relationships/image" Target="../media/image179.png"/><Relationship Id="rId16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jpeg"/><Relationship Id="rId3" Type="http://schemas.openxmlformats.org/officeDocument/2006/relationships/image" Target="../media/image182.jpeg"/><Relationship Id="rId4" Type="http://schemas.openxmlformats.org/officeDocument/2006/relationships/image" Target="../media/image18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52200" y="4692600"/>
            <a:ext cx="6057720" cy="10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mplementación de un Programa de Calidad en empresas de servic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Noviembre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52560" y="2747880"/>
            <a:ext cx="25927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60200" y="33624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 PLAN SE IMPLEMENTA SEGÚN UN CRONOGRAMA DETALLADO DE ACTIVIDADES Y PROYECTOS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60200" y="1812960"/>
            <a:ext cx="3060720" cy="4427640"/>
          </a:xfrm>
          <a:prstGeom prst="rect">
            <a:avLst/>
          </a:prstGeom>
          <a:solidFill>
            <a:srgbClr val="fff2d3"/>
          </a:solidFill>
          <a:ln w="936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TVBodyText_ID_2344965"/>
          <p:cNvSpPr/>
          <p:nvPr/>
        </p:nvSpPr>
        <p:spPr>
          <a:xfrm>
            <a:off x="158760" y="374976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Gestión de Recl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TVBodyText_ID_2344965"/>
          <p:cNvSpPr/>
          <p:nvPr/>
        </p:nvSpPr>
        <p:spPr>
          <a:xfrm>
            <a:off x="158760" y="4035600"/>
            <a:ext cx="3024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incipio de 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TVBodyText_ID_2344965"/>
          <p:cNvSpPr/>
          <p:nvPr/>
        </p:nvSpPr>
        <p:spPr>
          <a:xfrm>
            <a:off x="158760" y="472428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satisfacción de Ex-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TVBodyText_ID_2344965"/>
          <p:cNvSpPr/>
          <p:nvPr/>
        </p:nvSpPr>
        <p:spPr>
          <a:xfrm>
            <a:off x="158760" y="493884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cuesta a Ex-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TVBodyText_ID_2344965"/>
          <p:cNvSpPr/>
          <p:nvPr/>
        </p:nvSpPr>
        <p:spPr>
          <a:xfrm>
            <a:off x="160200" y="5183280"/>
            <a:ext cx="3024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mplementación Mej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TVBodyText_ID_2344965"/>
          <p:cNvSpPr/>
          <p:nvPr/>
        </p:nvSpPr>
        <p:spPr>
          <a:xfrm>
            <a:off x="160200" y="5410080"/>
            <a:ext cx="302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lan Comunicación y capacit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20920" y="1309680"/>
            <a:ext cx="5631120" cy="250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936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0920" y="1560600"/>
            <a:ext cx="5631120" cy="25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6e6e6"/>
              </a:gs>
            </a:gsLst>
            <a:lin ang="5400000"/>
          </a:gradFill>
          <a:ln w="936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TVBodyText_ID_2344965"/>
          <p:cNvSpPr/>
          <p:nvPr/>
        </p:nvSpPr>
        <p:spPr>
          <a:xfrm>
            <a:off x="3363840" y="1569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TVBodyText_ID_2344965"/>
          <p:cNvSpPr/>
          <p:nvPr/>
        </p:nvSpPr>
        <p:spPr>
          <a:xfrm>
            <a:off x="3838320" y="1569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TVBodyText_ID_2344965"/>
          <p:cNvSpPr/>
          <p:nvPr/>
        </p:nvSpPr>
        <p:spPr>
          <a:xfrm>
            <a:off x="4312800" y="156996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TVBodyText_ID_2344965"/>
          <p:cNvSpPr/>
          <p:nvPr/>
        </p:nvSpPr>
        <p:spPr>
          <a:xfrm>
            <a:off x="4787640" y="1569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TVBodyText_ID_2344965"/>
          <p:cNvSpPr/>
          <p:nvPr/>
        </p:nvSpPr>
        <p:spPr>
          <a:xfrm>
            <a:off x="5262120" y="156996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TVBodyText_ID_2344965"/>
          <p:cNvSpPr/>
          <p:nvPr/>
        </p:nvSpPr>
        <p:spPr>
          <a:xfrm>
            <a:off x="5736600" y="156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TVBodyText_ID_2344965"/>
          <p:cNvSpPr/>
          <p:nvPr/>
        </p:nvSpPr>
        <p:spPr>
          <a:xfrm>
            <a:off x="6211080" y="156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TVBodyText_ID_2344965"/>
          <p:cNvSpPr/>
          <p:nvPr/>
        </p:nvSpPr>
        <p:spPr>
          <a:xfrm>
            <a:off x="6686280" y="1569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TVBodyText_ID_2344965"/>
          <p:cNvSpPr/>
          <p:nvPr/>
        </p:nvSpPr>
        <p:spPr>
          <a:xfrm>
            <a:off x="7161120" y="1569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TVBodyText_ID_2344965"/>
          <p:cNvSpPr/>
          <p:nvPr/>
        </p:nvSpPr>
        <p:spPr>
          <a:xfrm>
            <a:off x="7635240" y="15606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TVBodyText_ID_2344965"/>
          <p:cNvSpPr/>
          <p:nvPr/>
        </p:nvSpPr>
        <p:spPr>
          <a:xfrm>
            <a:off x="8110440" y="156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TVBodyText_ID_2344965"/>
          <p:cNvSpPr/>
          <p:nvPr/>
        </p:nvSpPr>
        <p:spPr>
          <a:xfrm>
            <a:off x="8585280" y="156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TVBodyText_ID_2344965"/>
          <p:cNvSpPr/>
          <p:nvPr/>
        </p:nvSpPr>
        <p:spPr>
          <a:xfrm>
            <a:off x="158760" y="188424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atisfacción 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TVBodyText_ID_2344965"/>
          <p:cNvSpPr/>
          <p:nvPr/>
        </p:nvSpPr>
        <p:spPr>
          <a:xfrm>
            <a:off x="5837400" y="13287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69108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16232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63392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510552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557676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604836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51996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699120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6280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93440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840564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TVBodyText_ID_2344965"/>
          <p:cNvSpPr/>
          <p:nvPr/>
        </p:nvSpPr>
        <p:spPr>
          <a:xfrm>
            <a:off x="158760" y="243828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cuestas online y Telefó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38560" y="2455920"/>
            <a:ext cx="561348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TVBodyText_ID_2344965"/>
          <p:cNvSpPr/>
          <p:nvPr/>
        </p:nvSpPr>
        <p:spPr>
          <a:xfrm>
            <a:off x="533520" y="272268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mplementación Mej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38560" y="2739960"/>
            <a:ext cx="561348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TVBodyText_ID_2344965"/>
          <p:cNvSpPr/>
          <p:nvPr/>
        </p:nvSpPr>
        <p:spPr>
          <a:xfrm>
            <a:off x="158760" y="428292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56200" y="4316400"/>
            <a:ext cx="469584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TVBodyText_ID_2344965"/>
          <p:cNvSpPr/>
          <p:nvPr/>
        </p:nvSpPr>
        <p:spPr>
          <a:xfrm>
            <a:off x="158760" y="450684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istery Sh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00600" y="4535640"/>
            <a:ext cx="4051440" cy="228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TVBodyText_ID_2344965"/>
          <p:cNvSpPr/>
          <p:nvPr/>
        </p:nvSpPr>
        <p:spPr>
          <a:xfrm>
            <a:off x="158760" y="3216240"/>
            <a:ext cx="302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Encuestas Telefónicas 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3478320"/>
            <a:ext cx="175284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541920" y="3200400"/>
            <a:ext cx="46836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38560" y="3765600"/>
            <a:ext cx="561348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56200" y="5486400"/>
            <a:ext cx="469584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95880" y="4938840"/>
            <a:ext cx="74952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858000" y="5181480"/>
            <a:ext cx="1994040" cy="241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20920" y="6240600"/>
            <a:ext cx="5631120" cy="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8852040" y="1560600"/>
            <a:ext cx="0" cy="4680000"/>
          </a:xfrm>
          <a:prstGeom prst="line">
            <a:avLst/>
          </a:prstGeom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TVBodyText_ID_2344965"/>
          <p:cNvSpPr/>
          <p:nvPr/>
        </p:nvSpPr>
        <p:spPr>
          <a:xfrm>
            <a:off x="152280" y="6019920"/>
            <a:ext cx="302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emio interno a la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5120" y="6019920"/>
            <a:ext cx="453960" cy="179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TVBodyText_ID_2344965"/>
          <p:cNvSpPr/>
          <p:nvPr/>
        </p:nvSpPr>
        <p:spPr>
          <a:xfrm>
            <a:off x="152280" y="5715000"/>
            <a:ext cx="302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Tablero de Control y M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105520" y="5715000"/>
            <a:ext cx="3733560" cy="228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TVBodyText_ID_2344965"/>
          <p:cNvSpPr/>
          <p:nvPr/>
        </p:nvSpPr>
        <p:spPr>
          <a:xfrm>
            <a:off x="152280" y="2149560"/>
            <a:ext cx="3024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a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TVBodyText_ID_2344965"/>
          <p:cNvSpPr/>
          <p:nvPr/>
        </p:nvSpPr>
        <p:spPr>
          <a:xfrm>
            <a:off x="152280" y="2987640"/>
            <a:ext cx="3024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anca 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TVBodyText_ID_2344965"/>
          <p:cNvSpPr/>
          <p:nvPr/>
        </p:nvSpPr>
        <p:spPr>
          <a:xfrm>
            <a:off x="533520" y="350532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mplementación Mej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717D-F943-4820-95E1-54657C2C29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160200" y="1560600"/>
            <a:ext cx="3996000" cy="4680000"/>
          </a:xfrm>
          <a:custGeom>
            <a:avLst/>
            <a:gdLst>
              <a:gd name="textAreaLeft" fmla="*/ 34920 w 3996000"/>
              <a:gd name="textAreaRight" fmla="*/ 3961080 w 3996000"/>
              <a:gd name="textAreaTop" fmla="*/ 34920 h 4680000"/>
              <a:gd name="textAreaBottom" fmla="*/ 4645080 h 4680000"/>
            </a:gdLst>
            <a:ahLst/>
            <a:rect l="textAreaLeft" t="textAreaTop" r="textAreaRight" b="textAreaBottom"/>
            <a:pathLst>
              <a:path w="21600" h="25297">
                <a:moveTo>
                  <a:pt x="651" y="0"/>
                </a:moveTo>
                <a:arcTo wR="651" hR="651" stAng="16200000" swAng="-5400000"/>
                <a:lnTo>
                  <a:pt x="0" y="24646"/>
                </a:lnTo>
                <a:arcTo wR="651" hR="651" stAng="10800000" swAng="-5400000"/>
                <a:lnTo>
                  <a:pt x="20949" y="25297"/>
                </a:lnTo>
                <a:arcTo wR="651" hR="651" stAng="5400000" swAng="-5400000"/>
                <a:lnTo>
                  <a:pt x="21600" y="651"/>
                </a:lnTo>
                <a:arcTo wR="651" hR="651" stAng="0" swAng="-5400000"/>
                <a:close/>
              </a:path>
            </a:pathLst>
          </a:cu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60200" y="26496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ENCUESTAS PERMITEN PRIORIZAR LOS PROYECTOS VINCULADOS A MEJORAS EN LA CALIDAD DE SERVICIO..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85840" y="5052960"/>
            <a:ext cx="3744720" cy="100188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yectos específicos por segmento de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5840" y="393876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lan de Sistemas 2008-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85840" y="282420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rupo de Transformac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5840" y="171144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Grupo de Transformación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5400000">
            <a:off x="2296800" y="3709800"/>
            <a:ext cx="4597200" cy="298440"/>
          </a:xfrm>
          <a:prstGeom prst="triangle">
            <a:avLst>
              <a:gd name="adj" fmla="val 50037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9200" y="2057400"/>
            <a:ext cx="3387600" cy="3429000"/>
          </a:xfrm>
          <a:custGeom>
            <a:avLst/>
            <a:gdLst>
              <a:gd name="textAreaLeft" fmla="*/ 75960 w 3387600"/>
              <a:gd name="textAreaRight" fmla="*/ 3311640 w 3387600"/>
              <a:gd name="textAreaTop" fmla="*/ 75960 h 3429000"/>
              <a:gd name="textAreaBottom" fmla="*/ 3353040 h 3429000"/>
            </a:gdLst>
            <a:ahLst/>
            <a:rect l="textAreaLeft" t="textAreaTop" r="textAreaRight" b="textAreaBottom"/>
            <a:pathLst>
              <a:path w="21600" h="21864">
                <a:moveTo>
                  <a:pt x="1660" y="0"/>
                </a:moveTo>
                <a:arcTo wR="1660" hR="1660" stAng="16200000" swAng="-5400000"/>
                <a:lnTo>
                  <a:pt x="0" y="20204"/>
                </a:lnTo>
                <a:arcTo wR="1660" hR="1660" stAng="10800000" swAng="-5400000"/>
                <a:lnTo>
                  <a:pt x="19940" y="21864"/>
                </a:lnTo>
                <a:arcTo wR="1660" hR="1660" stAng="5400000" swAng="-5400000"/>
                <a:lnTo>
                  <a:pt x="21600" y="1660"/>
                </a:lnTo>
                <a:arcTo wR="1660" hR="1660" stAng="0" swAng="-5400000"/>
                <a:close/>
              </a:path>
            </a:pathLst>
          </a:cu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TVBodyText_ID_2291739"/>
          <p:cNvSpPr/>
          <p:nvPr/>
        </p:nvSpPr>
        <p:spPr>
          <a:xfrm>
            <a:off x="5200560" y="2863800"/>
            <a:ext cx="3098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3000"/>
          </a:bodyPr>
          <a:p>
            <a:pPr lvl="1" marL="108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Calidad d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rvicio para medir periódicamente los logros de los proyectos según la opinión de nuestr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BBAE-F8EC-4181-811A-FEDC319CB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NUESTROS INDICADORES DE CALIDAD DE SERVICIO HAN MEJORADO CONSIDERABLEMENTE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146560" y="2057400"/>
            <a:ext cx="3387960" cy="3809880"/>
          </a:xfrm>
          <a:custGeom>
            <a:avLst/>
            <a:gdLst>
              <a:gd name="textAreaLeft" fmla="*/ 75960 w 3387960"/>
              <a:gd name="textAreaRight" fmla="*/ 3312000 w 3387960"/>
              <a:gd name="textAreaTop" fmla="*/ 75960 h 3809880"/>
              <a:gd name="textAreaBottom" fmla="*/ 3733920 h 3809880"/>
            </a:gdLst>
            <a:ahLst/>
            <a:rect l="textAreaLeft" t="textAreaTop" r="textAreaRight" b="textAreaBottom"/>
            <a:pathLst>
              <a:path w="21600" h="24290">
                <a:moveTo>
                  <a:pt x="1660" y="0"/>
                </a:moveTo>
                <a:arcTo wR="1660" hR="1660" stAng="16200000" swAng="-5400000"/>
                <a:lnTo>
                  <a:pt x="0" y="22630"/>
                </a:lnTo>
                <a:arcTo wR="1660" hR="1660" stAng="10800000" swAng="-5400000"/>
                <a:lnTo>
                  <a:pt x="19940" y="24290"/>
                </a:lnTo>
                <a:arcTo wR="1660" hR="1660" stAng="5400000" swAng="-5400000"/>
                <a:lnTo>
                  <a:pt x="21600" y="1660"/>
                </a:lnTo>
                <a:arcTo wR="1660" hR="1660" stAng="0" swAng="-5400000"/>
                <a:close/>
              </a:path>
            </a:pathLst>
          </a:cu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TVBodyText_ID_2291739"/>
          <p:cNvSpPr/>
          <p:nvPr/>
        </p:nvSpPr>
        <p:spPr>
          <a:xfrm>
            <a:off x="5200560" y="2311560"/>
            <a:ext cx="3098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lvl="1" marL="14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Gestión de Recl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TVBodyText_ID_1436693"/>
          <p:cNvSpPr/>
          <p:nvPr/>
        </p:nvSpPr>
        <p:spPr>
          <a:xfrm>
            <a:off x="6324480" y="3048120"/>
            <a:ext cx="2133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ducción del </a:t>
            </a: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20 %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de los reclamos ingres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5146560" y="327672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1264" name="TTVBodyText_ID_1436693"/>
          <p:cNvSpPr/>
          <p:nvPr/>
        </p:nvSpPr>
        <p:spPr>
          <a:xfrm>
            <a:off x="6324480" y="4295880"/>
            <a:ext cx="2133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ejora del </a:t>
            </a: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25 %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de los tiempos de solución de 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" y="1981080"/>
            <a:ext cx="3387600" cy="3886200"/>
          </a:xfrm>
          <a:custGeom>
            <a:avLst/>
            <a:gdLst>
              <a:gd name="textAreaLeft" fmla="*/ 75960 w 3387600"/>
              <a:gd name="textAreaRight" fmla="*/ 3311640 w 3387600"/>
              <a:gd name="textAreaTop" fmla="*/ 75960 h 3886200"/>
              <a:gd name="textAreaBottom" fmla="*/ 3810240 h 3886200"/>
            </a:gdLst>
            <a:ahLst/>
            <a:rect l="textAreaLeft" t="textAreaTop" r="textAreaRight" b="textAreaBottom"/>
            <a:pathLst>
              <a:path w="21600" h="24779">
                <a:moveTo>
                  <a:pt x="1660" y="0"/>
                </a:moveTo>
                <a:arcTo wR="1660" hR="1660" stAng="16200000" swAng="-5400000"/>
                <a:lnTo>
                  <a:pt x="0" y="23119"/>
                </a:lnTo>
                <a:arcTo wR="1660" hR="1660" stAng="10800000" swAng="-5400000"/>
                <a:lnTo>
                  <a:pt x="19940" y="24779"/>
                </a:lnTo>
                <a:arcTo wR="1660" hR="1660" stAng="5400000" swAng="-5400000"/>
                <a:lnTo>
                  <a:pt x="21600" y="1660"/>
                </a:lnTo>
                <a:arcTo wR="1660" hR="1660" stAng="0" swAng="-5400000"/>
                <a:close/>
              </a:path>
            </a:pathLst>
          </a:cu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TVBodyText_ID_2291739"/>
          <p:cNvSpPr/>
          <p:nvPr/>
        </p:nvSpPr>
        <p:spPr>
          <a:xfrm>
            <a:off x="739800" y="2133720"/>
            <a:ext cx="3375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lvl="1" marL="14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Satisfacción de Clientes</a:t>
            </a: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TVBodyText_ID_1436693"/>
          <p:cNvSpPr/>
          <p:nvPr/>
        </p:nvSpPr>
        <p:spPr>
          <a:xfrm>
            <a:off x="1711440" y="2895480"/>
            <a:ext cx="2327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dice de satisfacción de clientes: </a:t>
            </a: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8 sobre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1530360" cy="1530360"/>
          </a:xfrm>
          <a:prstGeom prst="rect">
            <a:avLst/>
          </a:prstGeom>
          <a:ln w="0">
            <a:noFill/>
          </a:ln>
        </p:spPr>
      </p:pic>
      <p:sp>
        <p:nvSpPr>
          <p:cNvPr id="1269" name="TTVBodyText_ID_1436693"/>
          <p:cNvSpPr/>
          <p:nvPr/>
        </p:nvSpPr>
        <p:spPr>
          <a:xfrm>
            <a:off x="2057400" y="3610080"/>
            <a:ext cx="2133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48 %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de clientes encantados (indice de satisfacción </a:t>
            </a: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9 o 10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TVBodyText_ID_1436693"/>
          <p:cNvSpPr/>
          <p:nvPr/>
        </p:nvSpPr>
        <p:spPr>
          <a:xfrm>
            <a:off x="1676520" y="4737240"/>
            <a:ext cx="23270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mabilidad y trato de asistentes comerciales en sucursales : </a:t>
            </a:r>
            <a:r>
              <a:rPr b="1" lang="es-AR" sz="1600" spc="-1" strike="noStrike">
                <a:solidFill>
                  <a:srgbClr val="0066cc"/>
                </a:solidFill>
                <a:latin typeface="Arial"/>
              </a:rPr>
              <a:t>9 sobre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TVBodyText_ID_2311183"/>
          <p:cNvSpPr/>
          <p:nvPr/>
        </p:nvSpPr>
        <p:spPr>
          <a:xfrm>
            <a:off x="165240" y="6400800"/>
            <a:ext cx="6997680" cy="152280"/>
          </a:xfrm>
          <a:prstGeom prst="rect">
            <a:avLst/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*) Fuente: Encuesta de Satisfacción de Clientes Banco Itaú Argentina realizada por la empresa DatosClaros. Abril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3E2A-F4E8-48FF-80D8-E73584D15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735200" y="2835360"/>
            <a:ext cx="210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3076560" y="2352600"/>
            <a:ext cx="2879640" cy="1557360"/>
          </a:xfrm>
          <a:prstGeom prst="rect">
            <a:avLst/>
          </a:prstGeom>
          <a:ln w="0">
            <a:noFill/>
          </a:ln>
        </p:spPr>
      </p:pic>
      <p:sp>
        <p:nvSpPr>
          <p:cNvPr id="1274" name="TTVBodyText_ID_2291739"/>
          <p:cNvSpPr/>
          <p:nvPr/>
        </p:nvSpPr>
        <p:spPr>
          <a:xfrm>
            <a:off x="2209680" y="5359320"/>
            <a:ext cx="48769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lvl="1" marL="14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es agradecemos su pres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4615-E32B-4734-9AA4-F0625A6361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200" y="1181160"/>
            <a:ext cx="8691840" cy="5049720"/>
          </a:xfrm>
          <a:prstGeom prst="roundRect">
            <a:avLst>
              <a:gd name="adj" fmla="val 4329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 COMPROMISO CON LA SATISFACCIÓN DE NUESTROS CLIENTES FORMA PARTE DE NUESTRA VISIÓN..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34920" y="2382840"/>
            <a:ext cx="7731360" cy="2130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Myriad Web Pro"/>
              </a:rPr>
              <a:t>Ser el Banco líder en performance y perenne,  reconocidamente sólido y ético, destacándose por equipos motivados, </a:t>
            </a:r>
            <a:r>
              <a:rPr b="1" lang="es-CL" sz="2400" spc="-1" strike="noStrike">
                <a:solidFill>
                  <a:srgbClr val="faa11e"/>
                </a:solidFill>
                <a:latin typeface="Myriad Web Pro"/>
              </a:rPr>
              <a:t>comprometidos con la satisfacción de los clientes</a:t>
            </a:r>
            <a:r>
              <a:rPr b="1" lang="es-CL" sz="2400" spc="-1" strike="noStrike">
                <a:solidFill>
                  <a:srgbClr val="0066cc"/>
                </a:solidFill>
                <a:latin typeface="Myriad Web Pro"/>
              </a:rPr>
              <a:t>, con la comunidad y con la creación de  diferenciales compet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4040" y="1479600"/>
            <a:ext cx="22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Myriad Web Pro"/>
              </a:rPr>
              <a:t>VISIÓN</a:t>
            </a:r>
            <a:r>
              <a:rPr b="1" lang="es-CL" sz="2400" spc="-1" strike="noStrike">
                <a:solidFill>
                  <a:srgbClr val="0066cc"/>
                </a:solidFill>
                <a:latin typeface="Myriad Web Pro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Myriad Web Pro"/>
              </a:rPr>
              <a:t>Ita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5200" y="2835360"/>
            <a:ext cx="210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A668-55F9-426F-A8CE-75B089618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143000"/>
            <a:ext cx="8305920" cy="5219640"/>
          </a:xfrm>
          <a:prstGeom prst="roundRect">
            <a:avLst>
              <a:gd name="adj" fmla="val 4329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 CALIDAD DE SERVICIO Y CALIDAD DE ATENCIÓN FORMA PARTE DE NUESTRO POSICIONAMIENTO..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4640" y="106668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OSICIONAMIENTO</a:t>
            </a:r>
            <a:r>
              <a:rPr b="1" lang="es-CL" sz="2400" spc="-1" strike="noStrike">
                <a:solidFill>
                  <a:srgbClr val="0066cc"/>
                </a:solidFill>
                <a:latin typeface="Myriad Web Pro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Myriad Web Pro"/>
              </a:rPr>
              <a:t>Ita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5200" y="2835360"/>
            <a:ext cx="2100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Rectangle 5"/>
          <p:cNvGrpSpPr/>
          <p:nvPr/>
        </p:nvGrpSpPr>
        <p:grpSpPr>
          <a:xfrm>
            <a:off x="5797440" y="2924280"/>
            <a:ext cx="1846440" cy="2036520"/>
            <a:chOff x="5797440" y="2924280"/>
            <a:chExt cx="1846440" cy="2036520"/>
          </a:xfrm>
        </p:grpSpPr>
        <p:pic>
          <p:nvPicPr>
            <p:cNvPr id="103" name="Rectangle 5" descr=""/>
            <p:cNvPicPr/>
            <p:nvPr/>
          </p:nvPicPr>
          <p:blipFill>
            <a:blip r:embed="rId1"/>
            <a:stretch/>
          </p:blipFill>
          <p:spPr>
            <a:xfrm>
              <a:off x="5797440" y="2924280"/>
              <a:ext cx="184644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5400000">
              <a:off x="5759280" y="3057120"/>
              <a:ext cx="192852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Rectangle 5" descr=""/>
          <p:cNvPicPr/>
          <p:nvPr/>
        </p:nvPicPr>
        <p:blipFill>
          <a:blip r:embed="rId2"/>
          <a:stretch/>
        </p:blipFill>
        <p:spPr>
          <a:xfrm>
            <a:off x="3584520" y="2924280"/>
            <a:ext cx="1846440" cy="2036520"/>
          </a:xfrm>
          <a:prstGeom prst="rect">
            <a:avLst/>
          </a:prstGeom>
          <a:ln w="0">
            <a:noFill/>
          </a:ln>
        </p:spPr>
      </p:pic>
      <p:grpSp>
        <p:nvGrpSpPr>
          <p:cNvPr id="106" name="Rectangle 5"/>
          <p:cNvGrpSpPr/>
          <p:nvPr/>
        </p:nvGrpSpPr>
        <p:grpSpPr>
          <a:xfrm>
            <a:off x="1438200" y="2916360"/>
            <a:ext cx="1847880" cy="2035080"/>
            <a:chOff x="1438200" y="2916360"/>
            <a:chExt cx="1847880" cy="2035080"/>
          </a:xfrm>
        </p:grpSpPr>
        <p:pic>
          <p:nvPicPr>
            <p:cNvPr id="107" name="Rectangle 5" descr=""/>
            <p:cNvPicPr/>
            <p:nvPr/>
          </p:nvPicPr>
          <p:blipFill>
            <a:blip r:embed="rId3"/>
            <a:stretch/>
          </p:blipFill>
          <p:spPr>
            <a:xfrm>
              <a:off x="1438200" y="2916360"/>
              <a:ext cx="184788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5400000">
              <a:off x="1402200" y="3047760"/>
              <a:ext cx="1927800" cy="17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6"/>
          <p:cNvSpPr/>
          <p:nvPr/>
        </p:nvSpPr>
        <p:spPr>
          <a:xfrm>
            <a:off x="1566720" y="3429000"/>
            <a:ext cx="15066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Arial"/>
                <a:ea typeface="Arial"/>
              </a:rPr>
              <a:t>Calidad de atención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786120" y="3429000"/>
            <a:ext cx="1405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  <a:ea typeface="Arial"/>
              </a:rPr>
              <a:t>Agilidad, Eficiencia y Simpl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1498680" y="5022720"/>
            <a:ext cx="6134040" cy="1285560"/>
            <a:chOff x="1498680" y="5022720"/>
            <a:chExt cx="6134040" cy="1285560"/>
          </a:xfrm>
        </p:grpSpPr>
        <p:grpSp>
          <p:nvGrpSpPr>
            <p:cNvPr id="112" name="Text Box 15"/>
            <p:cNvGrpSpPr/>
            <p:nvPr/>
          </p:nvGrpSpPr>
          <p:grpSpPr>
            <a:xfrm>
              <a:off x="1498680" y="5022720"/>
              <a:ext cx="6073920" cy="545040"/>
              <a:chOff x="1498680" y="5022720"/>
              <a:chExt cx="6073920" cy="545040"/>
            </a:xfrm>
          </p:grpSpPr>
          <p:pic>
            <p:nvPicPr>
              <p:cNvPr id="113" name="Text Box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8680" y="5022720"/>
                <a:ext cx="607392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557720" y="5054040"/>
                <a:ext cx="59619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Calidad de 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Text Box 16"/>
            <p:cNvGrpSpPr/>
            <p:nvPr/>
          </p:nvGrpSpPr>
          <p:grpSpPr>
            <a:xfrm>
              <a:off x="1498680" y="5556240"/>
              <a:ext cx="6134040" cy="752040"/>
              <a:chOff x="1498680" y="5556240"/>
              <a:chExt cx="6134040" cy="752040"/>
            </a:xfrm>
          </p:grpSpPr>
          <p:pic>
            <p:nvPicPr>
              <p:cNvPr id="116" name="Text Box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498680" y="5556240"/>
                <a:ext cx="6134040" cy="75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1560960" y="5590440"/>
                <a:ext cx="60174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SOLIDE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Group 17"/>
          <p:cNvGrpSpPr/>
          <p:nvPr/>
        </p:nvGrpSpPr>
        <p:grpSpPr>
          <a:xfrm>
            <a:off x="1438200" y="1984320"/>
            <a:ext cx="6248520" cy="957240"/>
            <a:chOff x="1438200" y="1984320"/>
            <a:chExt cx="6248520" cy="957240"/>
          </a:xfrm>
        </p:grpSpPr>
        <p:grpSp>
          <p:nvGrpSpPr>
            <p:cNvPr id="119" name="AutoShape 18"/>
            <p:cNvGrpSpPr/>
            <p:nvPr/>
          </p:nvGrpSpPr>
          <p:grpSpPr>
            <a:xfrm>
              <a:off x="1438200" y="1984320"/>
              <a:ext cx="6248520" cy="957240"/>
              <a:chOff x="1438200" y="1984320"/>
              <a:chExt cx="6248520" cy="957240"/>
            </a:xfrm>
          </p:grpSpPr>
          <p:pic>
            <p:nvPicPr>
              <p:cNvPr id="120" name="AutoShap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438200" y="1984320"/>
                <a:ext cx="6248520" cy="95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034080" y="2444760"/>
                <a:ext cx="306468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Text Box 19"/>
            <p:cNvSpPr/>
            <p:nvPr/>
          </p:nvSpPr>
          <p:spPr>
            <a:xfrm>
              <a:off x="2259360" y="2303280"/>
              <a:ext cx="45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66"/>
                  </a:solidFill>
                  <a:latin typeface="Arial"/>
                  <a:ea typeface="Arial"/>
                </a:rPr>
                <a:t>MODERNID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9"/>
          <p:cNvSpPr/>
          <p:nvPr/>
        </p:nvSpPr>
        <p:spPr>
          <a:xfrm>
            <a:off x="6072120" y="3429000"/>
            <a:ext cx="140508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  <a:ea typeface="Arial"/>
              </a:rPr>
              <a:t>Propuesta de valor para cada seg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29DA-10DD-496E-A63F-8074A6ACB3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56200" y="1819440"/>
            <a:ext cx="1512720" cy="1512720"/>
          </a:xfrm>
          <a:prstGeom prst="ellipse">
            <a:avLst/>
          </a:prstGeom>
          <a:gradFill rotWithShape="0">
            <a:gsLst>
              <a:gs pos="0">
                <a:srgbClr val="fefefe">
                  <a:alpha val="70196"/>
                </a:srgbClr>
              </a:gs>
              <a:gs pos="100000">
                <a:srgbClr val="ffffff">
                  <a:alpha val="37254"/>
                </a:srgbClr>
              </a:gs>
            </a:gsLst>
            <a:lin ang="108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2309760"/>
            <a:ext cx="3095640" cy="3095640"/>
          </a:xfrm>
          <a:prstGeom prst="ellipse">
            <a:avLst/>
          </a:prstGeom>
          <a:gradFill rotWithShape="0">
            <a:gsLst>
              <a:gs pos="0">
                <a:srgbClr val="fefefe">
                  <a:alpha val="59215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7680" y="1181160"/>
            <a:ext cx="3924360" cy="5049720"/>
          </a:xfrm>
          <a:custGeom>
            <a:avLst/>
            <a:gdLst>
              <a:gd name="textAreaLeft" fmla="*/ 68040 w 3924360"/>
              <a:gd name="textAreaRight" fmla="*/ 3856320 w 3924360"/>
              <a:gd name="textAreaTop" fmla="*/ 68040 h 5049720"/>
              <a:gd name="textAreaBottom" fmla="*/ 4981680 h 5049720"/>
            </a:gdLst>
            <a:ahLst/>
            <a:rect l="textAreaLeft" t="textAreaTop" r="textAreaRight" b="textAreaBottom"/>
            <a:pathLst>
              <a:path w="21600" h="27794">
                <a:moveTo>
                  <a:pt x="1283" y="0"/>
                </a:moveTo>
                <a:arcTo wR="1283" hR="1283" stAng="16200000" swAng="-5400000"/>
                <a:lnTo>
                  <a:pt x="0" y="26511"/>
                </a:lnTo>
                <a:arcTo wR="1283" hR="1283" stAng="10800000" swAng="-5400000"/>
                <a:lnTo>
                  <a:pt x="20317" y="27794"/>
                </a:lnTo>
                <a:arcTo wR="1283" hR="1283" stAng="5400000" swAng="-5400000"/>
                <a:lnTo>
                  <a:pt x="21600" y="1283"/>
                </a:lnTo>
                <a:arcTo wR="1283" hR="1283" stAng="0" swAng="-5400000"/>
                <a:close/>
              </a:path>
            </a:pathLst>
          </a:cu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3924360" cy="5049720"/>
          </a:xfrm>
          <a:custGeom>
            <a:avLst/>
            <a:gdLst>
              <a:gd name="textAreaLeft" fmla="*/ 68040 w 3924360"/>
              <a:gd name="textAreaRight" fmla="*/ 3856320 w 3924360"/>
              <a:gd name="textAreaTop" fmla="*/ 68040 h 5049720"/>
              <a:gd name="textAreaBottom" fmla="*/ 4981680 h 5049720"/>
            </a:gdLst>
            <a:ahLst/>
            <a:rect l="textAreaLeft" t="textAreaTop" r="textAreaRight" b="textAreaBottom"/>
            <a:pathLst>
              <a:path w="21600" h="27794">
                <a:moveTo>
                  <a:pt x="1283" y="0"/>
                </a:moveTo>
                <a:arcTo wR="1283" hR="1283" stAng="16200000" swAng="-5400000"/>
                <a:lnTo>
                  <a:pt x="0" y="26511"/>
                </a:lnTo>
                <a:arcTo wR="1283" hR="1283" stAng="10800000" swAng="-5400000"/>
                <a:lnTo>
                  <a:pt x="20317" y="27794"/>
                </a:lnTo>
                <a:arcTo wR="1283" hR="1283" stAng="5400000" swAng="-5400000"/>
                <a:lnTo>
                  <a:pt x="21600" y="1283"/>
                </a:lnTo>
                <a:arcTo wR="1283" hR="1283" stAng="0" swAng="-5400000"/>
                <a:close/>
              </a:path>
            </a:pathLst>
          </a:cu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028320"/>
            <a:ext cx="37720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jorar la calidad de atención y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jorar la satisfacción de nuestr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r ágiles y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oportar las propuestas de valor de cada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TVBodyText_ID_2125856"/>
          <p:cNvSpPr/>
          <p:nvPr/>
        </p:nvSpPr>
        <p:spPr>
          <a:xfrm>
            <a:off x="76320" y="5410080"/>
            <a:ext cx="41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Mejoramos para 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2254320" y="3520080"/>
            <a:ext cx="4500720" cy="374760"/>
          </a:xfrm>
          <a:prstGeom prst="triangle">
            <a:avLst>
              <a:gd name="adj" fmla="val 50037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TVBodyText_ID_589834"/>
          <p:cNvSpPr/>
          <p:nvPr/>
        </p:nvSpPr>
        <p:spPr>
          <a:xfrm>
            <a:off x="254160" y="1380960"/>
            <a:ext cx="324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calidad 200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8-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1703520"/>
            <a:ext cx="37353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4560" y="2619360"/>
            <a:ext cx="2702160" cy="2638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TVBodyText_ID_589834"/>
          <p:cNvSpPr/>
          <p:nvPr/>
        </p:nvSpPr>
        <p:spPr>
          <a:xfrm>
            <a:off x="5021280" y="1380960"/>
            <a:ext cx="324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 el objetiv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1280" y="1703520"/>
            <a:ext cx="37353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200" y="1752480"/>
            <a:ext cx="1268280" cy="1143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 PLAN DE CALIDAD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SE SUSTENTA EN LA OPINIÓN DE NUESTROS CLIENTES …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406600" y="1828800"/>
            <a:ext cx="132732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AB7A-4434-41F7-9872-78CC9FC35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200" y="1181160"/>
            <a:ext cx="8691840" cy="5049720"/>
          </a:xfrm>
          <a:prstGeom prst="roundRect">
            <a:avLst>
              <a:gd name="adj" fmla="val 4329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1403280"/>
            <a:ext cx="3327480" cy="460692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pic>
        <p:nvPicPr>
          <p:cNvPr id="141" name="" descr="">
            <a:hlinkClick r:id="rId2"/>
          </p:cNvPr>
          <p:cNvPicPr/>
          <p:nvPr/>
        </p:nvPicPr>
        <p:blipFill>
          <a:blip r:embed="rId3"/>
          <a:srcRect l="16675" t="0" r="16675" b="0"/>
          <a:stretch/>
        </p:blipFill>
        <p:spPr>
          <a:xfrm>
            <a:off x="490680" y="486108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pic>
        <p:nvPicPr>
          <p:cNvPr id="142" name="" descr="">
            <a:hlinkClick r:id="rId4"/>
          </p:cNvPr>
          <p:cNvPicPr/>
          <p:nvPr/>
        </p:nvPicPr>
        <p:blipFill>
          <a:blip r:embed="rId5"/>
          <a:srcRect l="0" t="16675" r="22831" b="16675"/>
          <a:stretch/>
        </p:blipFill>
        <p:spPr>
          <a:xfrm>
            <a:off x="490680" y="257184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pic>
        <p:nvPicPr>
          <p:cNvPr id="14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0680" y="150660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816200" y="486108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satisf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ex-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6200" y="257184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est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16200" y="150660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atisf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rcRect l="0" t="0" r="0" b="14533"/>
          <a:stretch/>
        </p:blipFill>
        <p:spPr>
          <a:xfrm>
            <a:off x="490680" y="3639960"/>
            <a:ext cx="1150920" cy="85752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476520" y="169236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76520" y="275760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76520" y="3825720"/>
            <a:ext cx="1633680" cy="486000"/>
          </a:xfrm>
          <a:prstGeom prst="rightArrow">
            <a:avLst>
              <a:gd name="adj1" fmla="val 49676"/>
              <a:gd name="adj2" fmla="val 64351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76520" y="504684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1403280"/>
            <a:ext cx="3327480" cy="4606920"/>
          </a:xfrm>
          <a:prstGeom prst="rect">
            <a:avLst/>
          </a:prstGeom>
          <a:solidFill>
            <a:srgbClr val="ffffff">
              <a:alpha val="65000"/>
            </a:srgbClr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TVBodyText_ID_2280474"/>
          <p:cNvSpPr/>
          <p:nvPr/>
        </p:nvSpPr>
        <p:spPr>
          <a:xfrm>
            <a:off x="5375160" y="1690560"/>
            <a:ext cx="3092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Cuán satisfechos están nuestros clien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TVBodyText_ID_2280474"/>
          <p:cNvSpPr/>
          <p:nvPr/>
        </p:nvSpPr>
        <p:spPr>
          <a:xfrm>
            <a:off x="5375160" y="2755800"/>
            <a:ext cx="3092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Cuáles son los principales reclamos y queja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TVBodyText_ID_2280474"/>
          <p:cNvSpPr/>
          <p:nvPr/>
        </p:nvSpPr>
        <p:spPr>
          <a:xfrm>
            <a:off x="5375160" y="3505320"/>
            <a:ext cx="309240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Cómo le vendemos a nuestros clien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Cómo atendemos y nos relacionamos con nuestros clien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TVBodyText_ID_2280474"/>
          <p:cNvSpPr/>
          <p:nvPr/>
        </p:nvSpPr>
        <p:spPr>
          <a:xfrm>
            <a:off x="5375160" y="4916520"/>
            <a:ext cx="315936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Cómo retenemos a nuestros clien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¿Por qué se fueron nuestros clien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ARA CONOCER LA OPINIÓN DE NUESTROS CLIENTES NOS ENFOCAMOS EN 4 DIMENSIONES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63852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incipio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ten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1468-80AF-4612-8CD5-8C54BD873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0200" y="1181160"/>
            <a:ext cx="8691840" cy="5049720"/>
          </a:xfrm>
          <a:prstGeom prst="roundRect">
            <a:avLst>
              <a:gd name="adj" fmla="val 4329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57800" y="1403280"/>
            <a:ext cx="3327480" cy="460692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pic>
        <p:nvPicPr>
          <p:cNvPr id="161" name="" descr="">
            <a:hlinkClick r:id="rId2"/>
          </p:cNvPr>
          <p:cNvPicPr/>
          <p:nvPr/>
        </p:nvPicPr>
        <p:blipFill>
          <a:blip r:embed="rId3"/>
          <a:srcRect l="16675" t="0" r="16675" b="0"/>
          <a:stretch/>
        </p:blipFill>
        <p:spPr>
          <a:xfrm>
            <a:off x="490680" y="486108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rcRect l="0" t="16675" r="22831" b="16675"/>
          <a:stretch/>
        </p:blipFill>
        <p:spPr>
          <a:xfrm>
            <a:off x="490680" y="272412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90680" y="150660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1816200" y="486108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satisf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ex-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272412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est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150660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atisf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rcRect l="0" t="0" r="0" b="14533"/>
          <a:stretch/>
        </p:blipFill>
        <p:spPr>
          <a:xfrm>
            <a:off x="490680" y="3790800"/>
            <a:ext cx="1150920" cy="85752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3476520" y="169236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6520" y="290988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6520" y="3976560"/>
            <a:ext cx="1633680" cy="486000"/>
          </a:xfrm>
          <a:prstGeom prst="rightArrow">
            <a:avLst>
              <a:gd name="adj1" fmla="val 49676"/>
              <a:gd name="adj2" fmla="val 64351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76520" y="504684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403280"/>
            <a:ext cx="3327480" cy="4606920"/>
          </a:xfrm>
          <a:prstGeom prst="rect">
            <a:avLst/>
          </a:prstGeom>
          <a:solidFill>
            <a:srgbClr val="ffffff">
              <a:alpha val="65000"/>
            </a:srgbClr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TVBodyText_ID_2280474"/>
          <p:cNvSpPr/>
          <p:nvPr/>
        </p:nvSpPr>
        <p:spPr>
          <a:xfrm>
            <a:off x="5375160" y="1447920"/>
            <a:ext cx="309240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s trimestrales de satisfacción banco/sucu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 anual (“benchmark” de ban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TVBodyText_ID_2280474"/>
          <p:cNvSpPr/>
          <p:nvPr/>
        </p:nvSpPr>
        <p:spPr>
          <a:xfrm>
            <a:off x="5375160" y="2895480"/>
            <a:ext cx="309240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 mensual de satisfacción de 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nforme mensual de resolución de 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TVBodyText_ID_2280474"/>
          <p:cNvSpPr/>
          <p:nvPr/>
        </p:nvSpPr>
        <p:spPr>
          <a:xfrm>
            <a:off x="5375160" y="4083120"/>
            <a:ext cx="3092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istery Shopper trimestral por sucu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TVBodyText_ID_2280474"/>
          <p:cNvSpPr/>
          <p:nvPr/>
        </p:nvSpPr>
        <p:spPr>
          <a:xfrm>
            <a:off x="5375160" y="5073480"/>
            <a:ext cx="3159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 de “insatisfacción” 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200" y="29988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OPINIÓN DE LOS CLIENTES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DE BANCA PERSONAL SE OBTIENE EN BASE A ENCUESTAS Y ESTUDIOS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378936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incipio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ten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02E4-CC74-4542-BC72-523D1125F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200" y="1181160"/>
            <a:ext cx="8691840" cy="5049720"/>
          </a:xfrm>
          <a:prstGeom prst="roundRect">
            <a:avLst>
              <a:gd name="adj" fmla="val 4329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1403280"/>
            <a:ext cx="3327480" cy="225432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16675" r="22831" b="16675"/>
          <a:stretch/>
        </p:blipFill>
        <p:spPr>
          <a:xfrm>
            <a:off x="490680" y="272412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90680" y="1506600"/>
            <a:ext cx="1150920" cy="857160"/>
          </a:xfrm>
          <a:prstGeom prst="rect">
            <a:avLst/>
          </a:prstGeom>
          <a:ln w="12600">
            <a:solidFill>
              <a:srgbClr val="ffcfa3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816200" y="272412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est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16200" y="1506600"/>
            <a:ext cx="1512720" cy="857160"/>
          </a:xfrm>
          <a:prstGeom prst="rect">
            <a:avLst/>
          </a:prstGeom>
          <a:solidFill>
            <a:srgbClr val="0066cc"/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atisf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6520" y="169236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6520" y="2909880"/>
            <a:ext cx="1633680" cy="485640"/>
          </a:xfrm>
          <a:prstGeom prst="rightArrow">
            <a:avLst>
              <a:gd name="adj1" fmla="val 49676"/>
              <a:gd name="adj2" fmla="val 64398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403280"/>
            <a:ext cx="3327480" cy="2254320"/>
          </a:xfrm>
          <a:prstGeom prst="rect">
            <a:avLst/>
          </a:prstGeom>
          <a:solidFill>
            <a:srgbClr val="ffffff">
              <a:alpha val="65000"/>
            </a:srgbClr>
          </a:soli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TVBodyText_ID_2280474"/>
          <p:cNvSpPr/>
          <p:nvPr/>
        </p:nvSpPr>
        <p:spPr>
          <a:xfrm>
            <a:off x="5375160" y="1690560"/>
            <a:ext cx="3092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 de Satisfacción anual a nivel banco y plataforma Banca Empresas (Pyme y Meg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TVBodyText_ID_2280474"/>
          <p:cNvSpPr/>
          <p:nvPr/>
        </p:nvSpPr>
        <p:spPr>
          <a:xfrm>
            <a:off x="5375160" y="2940120"/>
            <a:ext cx="3092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cuesta mensual de satisfacción de recl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8760" y="23472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OPINIÓN DE LOS CLIENTES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DE BANCA EMPRESAS SE OBTIENE EN BASE A ENCUESTAS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34C7-2139-4D39-8DF3-024561E6F1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0200" y="1560600"/>
            <a:ext cx="3996000" cy="4680000"/>
          </a:xfrm>
          <a:custGeom>
            <a:avLst/>
            <a:gdLst>
              <a:gd name="textAreaLeft" fmla="*/ 34920 w 3996000"/>
              <a:gd name="textAreaRight" fmla="*/ 3961080 w 3996000"/>
              <a:gd name="textAreaTop" fmla="*/ 34920 h 4680000"/>
              <a:gd name="textAreaBottom" fmla="*/ 4645080 h 4680000"/>
            </a:gdLst>
            <a:ahLst/>
            <a:rect l="textAreaLeft" t="textAreaTop" r="textAreaRight" b="textAreaBottom"/>
            <a:pathLst>
              <a:path w="21600" h="25297">
                <a:moveTo>
                  <a:pt x="651" y="0"/>
                </a:moveTo>
                <a:arcTo wR="651" hR="651" stAng="16200000" swAng="-5400000"/>
                <a:lnTo>
                  <a:pt x="0" y="24646"/>
                </a:lnTo>
                <a:arcTo wR="651" hR="651" stAng="10800000" swAng="-5400000"/>
                <a:lnTo>
                  <a:pt x="20949" y="25297"/>
                </a:lnTo>
                <a:arcTo wR="651" hR="651" stAng="5400000" swAng="-5400000"/>
                <a:lnTo>
                  <a:pt x="21600" y="651"/>
                </a:lnTo>
                <a:arcTo wR="651" hR="651" stAng="0" swAng="-5400000"/>
                <a:close/>
              </a:path>
            </a:pathLst>
          </a:cu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200" y="299880"/>
            <a:ext cx="76010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HAY UN PLAN DE COMUNICACIÓN Y CAPACITACIÓN, ASÍ COMO MEDICIONES Y RECONOCIMIENTO A LA CALIDA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5052960"/>
            <a:ext cx="3744720" cy="100188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emio interno a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840" y="393876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Tablero de Calidad y 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282420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lan de Capac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840" y="1711440"/>
            <a:ext cx="3744720" cy="1001520"/>
          </a:xfrm>
          <a:prstGeom prst="flowChartAlternateProcess">
            <a:avLst/>
          </a:prstGeom>
          <a:gradFill rotWithShape="0">
            <a:gsLst>
              <a:gs pos="0">
                <a:srgbClr val="0066cc"/>
              </a:gs>
              <a:gs pos="100000">
                <a:srgbClr val="64a1df"/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lan de Comunicación (interno y exter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2296800" y="3709800"/>
            <a:ext cx="4597200" cy="298440"/>
          </a:xfrm>
          <a:prstGeom prst="triangle">
            <a:avLst>
              <a:gd name="adj" fmla="val 50037"/>
            </a:avLst>
          </a:prstGeom>
          <a:gradFill rotWithShape="0">
            <a:gsLst>
              <a:gs pos="0">
                <a:srgbClr val="0066cc"/>
              </a:gs>
              <a:gs pos="100000">
                <a:srgbClr val="8ebbe7"/>
              </a:gs>
            </a:gsLst>
            <a:lin ang="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6200" y="2786040"/>
            <a:ext cx="3387600" cy="2162160"/>
          </a:xfrm>
          <a:prstGeom prst="roundRect">
            <a:avLst>
              <a:gd name="adj" fmla="val 7685"/>
            </a:avLst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TVBodyText_ID_2291739"/>
          <p:cNvSpPr/>
          <p:nvPr/>
        </p:nvSpPr>
        <p:spPr>
          <a:xfrm>
            <a:off x="5200560" y="3073320"/>
            <a:ext cx="3098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lvl="1" marL="144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ltura de Calidad de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07440" y="1815840"/>
            <a:ext cx="5763240" cy="3796560"/>
            <a:chOff x="1207440" y="1815840"/>
            <a:chExt cx="5763240" cy="3796560"/>
          </a:xfrm>
        </p:grpSpPr>
        <p:grpSp>
          <p:nvGrpSpPr>
            <p:cNvPr id="201" name=""/>
            <p:cNvGrpSpPr/>
            <p:nvPr/>
          </p:nvGrpSpPr>
          <p:grpSpPr>
            <a:xfrm>
              <a:off x="1207440" y="1815840"/>
              <a:ext cx="5763240" cy="3796560"/>
              <a:chOff x="1207440" y="1815840"/>
              <a:chExt cx="5763240" cy="37965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07440" y="1815840"/>
                <a:ext cx="5763240" cy="1917000"/>
                <a:chOff x="1207440" y="1815840"/>
                <a:chExt cx="5763240" cy="19170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07440" y="1815840"/>
                  <a:ext cx="5763240" cy="96480"/>
                </a:xfrm>
                <a:prstGeom prst="rect">
                  <a:avLst/>
                </a:prstGeom>
                <a:solidFill>
                  <a:srgbClr val="ff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07440" y="1912320"/>
                  <a:ext cx="5763240" cy="900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07440" y="1912320"/>
                  <a:ext cx="57632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>
                  <a:off x="1207440" y="1912320"/>
                  <a:ext cx="5763240" cy="900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207440" y="2002680"/>
                  <a:ext cx="5763240" cy="871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07440" y="2002680"/>
                  <a:ext cx="5763240" cy="8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>
                  <a:off x="1207440" y="2002680"/>
                  <a:ext cx="5763240" cy="871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07440" y="2090160"/>
                  <a:ext cx="5763240" cy="741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07440" y="2090160"/>
                  <a:ext cx="5763240" cy="7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1207440" y="2090160"/>
                  <a:ext cx="5763240" cy="741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207440" y="2164680"/>
                  <a:ext cx="5763240" cy="601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07440" y="2164680"/>
                  <a:ext cx="5763240" cy="6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1207440" y="2164680"/>
                  <a:ext cx="5763240" cy="601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207440" y="2225160"/>
                  <a:ext cx="5763240" cy="583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07440" y="2225160"/>
                  <a:ext cx="5763240" cy="5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207440" y="2225160"/>
                  <a:ext cx="5763240" cy="583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207440" y="2283840"/>
                  <a:ext cx="5763240" cy="583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07440" y="2283840"/>
                  <a:ext cx="5763240" cy="5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1207440" y="2283840"/>
                  <a:ext cx="5763240" cy="583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207440" y="2342520"/>
                  <a:ext cx="5763240" cy="442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07440" y="2342520"/>
                  <a:ext cx="5763240" cy="4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1207440" y="2342520"/>
                  <a:ext cx="5763240" cy="442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207440" y="2387160"/>
                  <a:ext cx="5763240" cy="43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07440" y="2387160"/>
                  <a:ext cx="5763240" cy="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1207440" y="2387160"/>
                  <a:ext cx="5763240" cy="43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07440" y="2431440"/>
                  <a:ext cx="5763240" cy="44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07440" y="2431440"/>
                  <a:ext cx="5763240" cy="4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1207440" y="2431440"/>
                  <a:ext cx="5763240" cy="44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07440" y="2476080"/>
                  <a:ext cx="5763240" cy="439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207440" y="2476080"/>
                  <a:ext cx="5763240" cy="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>
                  <a:off x="1207440" y="2476080"/>
                  <a:ext cx="5763240" cy="439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07440" y="2520360"/>
                  <a:ext cx="5763240" cy="298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207440" y="252036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>
                  <a:off x="1207440" y="2520360"/>
                  <a:ext cx="5763240" cy="298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07440" y="2550600"/>
                  <a:ext cx="5763240" cy="43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07440" y="2550600"/>
                  <a:ext cx="5763240" cy="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9" name=""/>
                <p:cNvSpPr/>
                <p:nvPr/>
              </p:nvSpPr>
              <p:spPr>
                <a:xfrm>
                  <a:off x="1207440" y="2550600"/>
                  <a:ext cx="5763240" cy="43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207440" y="2594880"/>
                  <a:ext cx="5763240" cy="29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207440" y="259488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"/>
                <p:cNvSpPr/>
                <p:nvPr/>
              </p:nvSpPr>
              <p:spPr>
                <a:xfrm>
                  <a:off x="1207440" y="2594880"/>
                  <a:ext cx="5763240" cy="29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207440" y="2625120"/>
                  <a:ext cx="5763240" cy="280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207440" y="2625120"/>
                  <a:ext cx="576324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>
                  <a:off x="1207440" y="2625120"/>
                  <a:ext cx="5763240" cy="280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207440" y="2653560"/>
                  <a:ext cx="5763240" cy="45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207440" y="2653560"/>
                  <a:ext cx="5763240" cy="4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"/>
                <p:cNvSpPr/>
                <p:nvPr/>
              </p:nvSpPr>
              <p:spPr>
                <a:xfrm>
                  <a:off x="1207440" y="2653560"/>
                  <a:ext cx="5763240" cy="45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07440" y="2699640"/>
                  <a:ext cx="5763240" cy="2844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07440" y="2699640"/>
                  <a:ext cx="576324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1207440" y="2699640"/>
                  <a:ext cx="5763240" cy="2844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207440" y="2728440"/>
                  <a:ext cx="5763240" cy="298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207440" y="272844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"/>
                <p:cNvSpPr/>
                <p:nvPr/>
              </p:nvSpPr>
              <p:spPr>
                <a:xfrm>
                  <a:off x="1207440" y="2728440"/>
                  <a:ext cx="5763240" cy="298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07440" y="2758680"/>
                  <a:ext cx="5763240" cy="280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207440" y="2758680"/>
                  <a:ext cx="576324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"/>
                <p:cNvSpPr/>
                <p:nvPr/>
              </p:nvSpPr>
              <p:spPr>
                <a:xfrm>
                  <a:off x="1207440" y="2758680"/>
                  <a:ext cx="5763240" cy="280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207440" y="2787120"/>
                  <a:ext cx="5763240" cy="29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207440" y="278712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1207440" y="2787120"/>
                  <a:ext cx="5763240" cy="29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207440" y="281736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207440" y="281736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3" name=""/>
                <p:cNvSpPr/>
                <p:nvPr/>
              </p:nvSpPr>
              <p:spPr>
                <a:xfrm>
                  <a:off x="1207440" y="281736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07440" y="283644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207440" y="2836440"/>
                  <a:ext cx="5763240" cy="2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1207440" y="283644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07440" y="2861640"/>
                  <a:ext cx="5763240" cy="298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207440" y="286164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1207440" y="2861640"/>
                  <a:ext cx="5763240" cy="298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207440" y="2891880"/>
                  <a:ext cx="5763240" cy="298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07440" y="289188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2" name=""/>
                <p:cNvSpPr/>
                <p:nvPr/>
              </p:nvSpPr>
              <p:spPr>
                <a:xfrm>
                  <a:off x="1207440" y="2891880"/>
                  <a:ext cx="5763240" cy="298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07440" y="2922120"/>
                  <a:ext cx="5763240" cy="16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207440" y="2922120"/>
                  <a:ext cx="5763240" cy="1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5" name=""/>
                <p:cNvSpPr/>
                <p:nvPr/>
              </p:nvSpPr>
              <p:spPr>
                <a:xfrm>
                  <a:off x="1207440" y="2922120"/>
                  <a:ext cx="5763240" cy="169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07440" y="2939400"/>
                  <a:ext cx="5763240" cy="266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207440" y="2939400"/>
                  <a:ext cx="5763240" cy="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>
                  <a:off x="1207440" y="2939400"/>
                  <a:ext cx="5763240" cy="266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07440" y="2966400"/>
                  <a:ext cx="5763240" cy="2844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207440" y="2966400"/>
                  <a:ext cx="576324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1207440" y="2966400"/>
                  <a:ext cx="5763240" cy="2844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207440" y="2995200"/>
                  <a:ext cx="5763240" cy="183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207440" y="2995200"/>
                  <a:ext cx="5763240" cy="1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1207440" y="2995200"/>
                  <a:ext cx="5763240" cy="183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207440" y="3013920"/>
                  <a:ext cx="5763240" cy="252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207440" y="301392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" name=""/>
                <p:cNvSpPr/>
                <p:nvPr/>
              </p:nvSpPr>
              <p:spPr>
                <a:xfrm>
                  <a:off x="1207440" y="3013920"/>
                  <a:ext cx="5763240" cy="252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07440" y="303948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9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207440" y="30394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" name=""/>
                <p:cNvSpPr/>
                <p:nvPr/>
              </p:nvSpPr>
              <p:spPr>
                <a:xfrm>
                  <a:off x="1207440" y="303948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207440" y="3058560"/>
                  <a:ext cx="5763240" cy="252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2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207440" y="305856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" name=""/>
                <p:cNvSpPr/>
                <p:nvPr/>
              </p:nvSpPr>
              <p:spPr>
                <a:xfrm>
                  <a:off x="1207440" y="3058560"/>
                  <a:ext cx="5763240" cy="252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207440" y="3084120"/>
                  <a:ext cx="5763240" cy="183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5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07440" y="3084120"/>
                  <a:ext cx="5763240" cy="1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>
                  <a:off x="1207440" y="3084120"/>
                  <a:ext cx="5763240" cy="183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07440" y="3102840"/>
                  <a:ext cx="5763240" cy="2520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8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1207440" y="310284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>
                  <a:off x="1207440" y="3102840"/>
                  <a:ext cx="5763240" cy="2520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207440" y="312840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1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1207440" y="312840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1207440" y="312840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207440" y="314748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1207440" y="314748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1207440" y="314748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207440" y="316980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7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1207440" y="316980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>
                  <a:off x="1207440" y="316980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207440" y="318888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0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1207440" y="3188880"/>
                  <a:ext cx="5763240" cy="2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>
                  <a:off x="1207440" y="318888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207440" y="321408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3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1207440" y="32140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>
                  <a:off x="1207440" y="321408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207440" y="3233160"/>
                  <a:ext cx="5763240" cy="17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6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1207440" y="323316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1207440" y="3233160"/>
                  <a:ext cx="5763240" cy="17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207440" y="3250800"/>
                  <a:ext cx="5763240" cy="216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9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1207440" y="3250800"/>
                  <a:ext cx="5763240" cy="2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1207440" y="3250800"/>
                  <a:ext cx="5763240" cy="216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207440" y="327276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2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207440" y="327276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1207440" y="327276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207440" y="3291840"/>
                  <a:ext cx="5763240" cy="172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5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1207440" y="329184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1207440" y="3291840"/>
                  <a:ext cx="5763240" cy="172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207440" y="3309480"/>
                  <a:ext cx="5763240" cy="234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8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1207440" y="3309480"/>
                  <a:ext cx="5763240" cy="2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>
                  <a:off x="1207440" y="3309480"/>
                  <a:ext cx="5763240" cy="234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207440" y="3333240"/>
                  <a:ext cx="5763240" cy="169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207440" y="3333240"/>
                  <a:ext cx="5763240" cy="1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>
                  <a:off x="1207440" y="3333240"/>
                  <a:ext cx="5763240" cy="169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207440" y="335052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4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207440" y="335052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5" name=""/>
                <p:cNvSpPr/>
                <p:nvPr/>
              </p:nvSpPr>
              <p:spPr>
                <a:xfrm>
                  <a:off x="1207440" y="335052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207440" y="3369600"/>
                  <a:ext cx="5763240" cy="1404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7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1207440" y="336960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1207440" y="3369600"/>
                  <a:ext cx="5763240" cy="1404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207440" y="338400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0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1207440" y="338400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1207440" y="338400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207440" y="340632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3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1207440" y="340632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" name=""/>
                <p:cNvSpPr/>
                <p:nvPr/>
              </p:nvSpPr>
              <p:spPr>
                <a:xfrm>
                  <a:off x="1207440" y="340632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07440" y="342540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6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1207440" y="342540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>
                  <a:off x="1207440" y="342540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07440" y="344448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1207440" y="3444480"/>
                  <a:ext cx="5763240" cy="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>
                  <a:off x="1207440" y="344448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207440" y="345852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2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1207440" y="345852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>
                  <a:off x="1207440" y="345852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07440" y="3480840"/>
                  <a:ext cx="5763240" cy="28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5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1207440" y="348084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/>
                <p:nvPr/>
              </p:nvSpPr>
              <p:spPr>
                <a:xfrm>
                  <a:off x="1207440" y="3480840"/>
                  <a:ext cx="5763240" cy="28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207440" y="3484080"/>
                  <a:ext cx="5763240" cy="432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8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1207440" y="348408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"/>
                <p:cNvSpPr/>
                <p:nvPr/>
              </p:nvSpPr>
              <p:spPr>
                <a:xfrm>
                  <a:off x="1207440" y="3484080"/>
                  <a:ext cx="5763240" cy="432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207440" y="3488760"/>
                  <a:ext cx="5763240" cy="219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1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1207440" y="348876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1207440" y="3488760"/>
                  <a:ext cx="5763240" cy="219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07440" y="3511080"/>
                  <a:ext cx="5763240" cy="136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4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207440" y="3511080"/>
                  <a:ext cx="5763240" cy="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>
                  <a:off x="1207440" y="3511080"/>
                  <a:ext cx="5763240" cy="136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07440" y="3525120"/>
                  <a:ext cx="5763240" cy="18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7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1207440" y="352512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8" name=""/>
                <p:cNvSpPr/>
                <p:nvPr/>
              </p:nvSpPr>
              <p:spPr>
                <a:xfrm>
                  <a:off x="1207440" y="3525120"/>
                  <a:ext cx="5763240" cy="18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207440" y="3544200"/>
                  <a:ext cx="5763240" cy="172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0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1207440" y="354420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>
                  <a:off x="1207440" y="3544200"/>
                  <a:ext cx="5763240" cy="172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07440" y="3561840"/>
                  <a:ext cx="5763240" cy="154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3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1207440" y="3561840"/>
                  <a:ext cx="5763240" cy="1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" name=""/>
                <p:cNvSpPr/>
                <p:nvPr/>
              </p:nvSpPr>
              <p:spPr>
                <a:xfrm>
                  <a:off x="1207440" y="3561840"/>
                  <a:ext cx="5763240" cy="154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207440" y="3577680"/>
                  <a:ext cx="5763240" cy="219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6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1207440" y="357768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"/>
                <p:cNvSpPr/>
                <p:nvPr/>
              </p:nvSpPr>
              <p:spPr>
                <a:xfrm>
                  <a:off x="1207440" y="3577680"/>
                  <a:ext cx="5763240" cy="219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07440" y="360000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9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1207440" y="3600000"/>
                  <a:ext cx="5763240" cy="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1207440" y="360000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207440" y="3614040"/>
                  <a:ext cx="5763240" cy="46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2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1207440" y="3614040"/>
                  <a:ext cx="5763240" cy="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3" name=""/>
                <p:cNvSpPr/>
                <p:nvPr/>
              </p:nvSpPr>
              <p:spPr>
                <a:xfrm>
                  <a:off x="1207440" y="3614040"/>
                  <a:ext cx="5763240" cy="46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207440" y="3619080"/>
                  <a:ext cx="5763240" cy="2520"/>
                </a:xfrm>
                <a:prstGeom prst="rect">
                  <a:avLst/>
                </a:prstGeom>
                <a:solidFill>
                  <a:srgbClr val="fef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5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1207440" y="3619080"/>
                  <a:ext cx="5763240" cy="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"/>
                <p:cNvSpPr/>
                <p:nvPr/>
              </p:nvSpPr>
              <p:spPr>
                <a:xfrm>
                  <a:off x="1207440" y="3619080"/>
                  <a:ext cx="5763240" cy="2520"/>
                </a:xfrm>
                <a:prstGeom prst="rect">
                  <a:avLst/>
                </a:prstGeom>
                <a:solidFill>
                  <a:srgbClr val="fef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207440" y="3621960"/>
                  <a:ext cx="5763240" cy="2196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1207440" y="362196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9" name=""/>
                <p:cNvSpPr/>
                <p:nvPr/>
              </p:nvSpPr>
              <p:spPr>
                <a:xfrm>
                  <a:off x="1207440" y="3621960"/>
                  <a:ext cx="5763240" cy="2196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07440" y="3644280"/>
                  <a:ext cx="5763240" cy="1404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1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1207440" y="364428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>
                  <a:off x="1207440" y="3644280"/>
                  <a:ext cx="5763240" cy="1404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07440" y="365868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4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1207440" y="36586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1207440" y="365868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07440" y="367776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7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1207440" y="367776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>
                  <a:off x="1207440" y="367776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207440" y="3696840"/>
                  <a:ext cx="5763240" cy="2160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0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1207440" y="3696840"/>
                  <a:ext cx="5763240" cy="2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1" name=""/>
                <p:cNvSpPr/>
                <p:nvPr/>
              </p:nvSpPr>
              <p:spPr>
                <a:xfrm>
                  <a:off x="1207440" y="3696840"/>
                  <a:ext cx="5763240" cy="2160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207440" y="3718800"/>
                  <a:ext cx="5763240" cy="1404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207440" y="3718800"/>
                <a:ext cx="5763240" cy="1083600"/>
                <a:chOff x="1207440" y="3718800"/>
                <a:chExt cx="5763240" cy="1083600"/>
              </a:xfrm>
            </p:grpSpPr>
            <p:pic>
              <p:nvPicPr>
                <p:cNvPr id="404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1207440" y="371880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>
                  <a:off x="1207440" y="3718800"/>
                  <a:ext cx="5763240" cy="1404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07440" y="3732840"/>
                  <a:ext cx="5763240" cy="172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7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1207440" y="373284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8" name=""/>
                <p:cNvSpPr/>
                <p:nvPr/>
              </p:nvSpPr>
              <p:spPr>
                <a:xfrm>
                  <a:off x="1207440" y="3732840"/>
                  <a:ext cx="5763240" cy="172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07440" y="375048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0" name="" descr="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1207440" y="37504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>
                  <a:off x="1207440" y="3750480"/>
                  <a:ext cx="5763240" cy="1872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207440" y="3769560"/>
                  <a:ext cx="5763240" cy="136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3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1207440" y="3769560"/>
                  <a:ext cx="5763240" cy="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>
                  <a:off x="1207440" y="3769560"/>
                  <a:ext cx="5763240" cy="1368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207440" y="3783600"/>
                  <a:ext cx="5763240" cy="219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6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1207440" y="378360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7" name=""/>
                <p:cNvSpPr/>
                <p:nvPr/>
              </p:nvSpPr>
              <p:spPr>
                <a:xfrm>
                  <a:off x="1207440" y="3783600"/>
                  <a:ext cx="5763240" cy="2196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207440" y="3805920"/>
                  <a:ext cx="5763240" cy="432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9" name="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1207440" y="380592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>
                  <a:off x="1207440" y="3805920"/>
                  <a:ext cx="5763240" cy="432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207440" y="3810600"/>
                  <a:ext cx="5763240" cy="2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22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1207440" y="381060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>
                  <a:off x="1207440" y="3810600"/>
                  <a:ext cx="5763240" cy="288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207440" y="3813840"/>
                  <a:ext cx="5763240" cy="756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25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1207440" y="3813840"/>
                  <a:ext cx="5763240" cy="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6" name=""/>
                <p:cNvSpPr/>
                <p:nvPr/>
              </p:nvSpPr>
              <p:spPr>
                <a:xfrm>
                  <a:off x="1207440" y="3813840"/>
                  <a:ext cx="5763240" cy="756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207440" y="3821760"/>
                  <a:ext cx="5763240" cy="2880"/>
                </a:xfrm>
                <a:prstGeom prst="rect">
                  <a:avLst/>
                </a:prstGeom>
                <a:solidFill>
                  <a:srgbClr val="fe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28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1207440" y="382176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1207440" y="3821760"/>
                  <a:ext cx="5763240" cy="2880"/>
                </a:xfrm>
                <a:prstGeom prst="rect">
                  <a:avLst/>
                </a:prstGeom>
                <a:solidFill>
                  <a:srgbClr val="fe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207440" y="3825000"/>
                  <a:ext cx="5763240" cy="288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1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1207440" y="382500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2" name=""/>
                <p:cNvSpPr/>
                <p:nvPr/>
              </p:nvSpPr>
              <p:spPr>
                <a:xfrm>
                  <a:off x="1207440" y="3825000"/>
                  <a:ext cx="5763240" cy="288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207440" y="3828240"/>
                  <a:ext cx="5763240" cy="23400"/>
                </a:xfrm>
                <a:prstGeom prst="rect">
                  <a:avLst/>
                </a:prstGeom>
                <a:solidFill>
                  <a:srgbClr val="fe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4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1207440" y="3828240"/>
                  <a:ext cx="5763240" cy="2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5" name=""/>
                <p:cNvSpPr/>
                <p:nvPr/>
              </p:nvSpPr>
              <p:spPr>
                <a:xfrm>
                  <a:off x="1207440" y="3828240"/>
                  <a:ext cx="5763240" cy="23400"/>
                </a:xfrm>
                <a:prstGeom prst="rect">
                  <a:avLst/>
                </a:prstGeom>
                <a:solidFill>
                  <a:srgbClr val="fe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207440" y="385200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7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1207440" y="3852000"/>
                  <a:ext cx="5763240" cy="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8" name=""/>
                <p:cNvSpPr/>
                <p:nvPr/>
              </p:nvSpPr>
              <p:spPr>
                <a:xfrm>
                  <a:off x="1207440" y="3852000"/>
                  <a:ext cx="5763240" cy="136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207440" y="3866040"/>
                  <a:ext cx="5763240" cy="17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0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1207440" y="386604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1" name=""/>
                <p:cNvSpPr/>
                <p:nvPr/>
              </p:nvSpPr>
              <p:spPr>
                <a:xfrm>
                  <a:off x="1207440" y="3866040"/>
                  <a:ext cx="5763240" cy="172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207440" y="388368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3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1207440" y="38836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4" name=""/>
                <p:cNvSpPr/>
                <p:nvPr/>
              </p:nvSpPr>
              <p:spPr>
                <a:xfrm>
                  <a:off x="1207440" y="3883680"/>
                  <a:ext cx="5763240" cy="187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207440" y="3902760"/>
                  <a:ext cx="5763240" cy="154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6" name="" descr="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1207440" y="3902760"/>
                  <a:ext cx="5763240" cy="1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7" name=""/>
                <p:cNvSpPr/>
                <p:nvPr/>
              </p:nvSpPr>
              <p:spPr>
                <a:xfrm>
                  <a:off x="1207440" y="3902760"/>
                  <a:ext cx="5763240" cy="1548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207440" y="391860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9" name="" descr="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1207440" y="391860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"/>
                <p:cNvSpPr/>
                <p:nvPr/>
              </p:nvSpPr>
              <p:spPr>
                <a:xfrm>
                  <a:off x="1207440" y="3918600"/>
                  <a:ext cx="5763240" cy="2196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207440" y="3940920"/>
                  <a:ext cx="5763240" cy="2880"/>
                </a:xfrm>
                <a:prstGeom prst="rect">
                  <a:avLst/>
                </a:prstGeom>
                <a:solidFill>
                  <a:srgbClr val="fff5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2" name="" descr="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1207440" y="394092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1207440" y="3940920"/>
                  <a:ext cx="5763240" cy="2880"/>
                </a:xfrm>
                <a:prstGeom prst="rect">
                  <a:avLst/>
                </a:prstGeom>
                <a:solidFill>
                  <a:srgbClr val="fff5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207440" y="3944160"/>
                  <a:ext cx="5763240" cy="2520"/>
                </a:xfrm>
                <a:prstGeom prst="rect">
                  <a:avLst/>
                </a:prstGeom>
                <a:solidFill>
                  <a:srgbClr val="ff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5" name="" descr="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1207440" y="3944160"/>
                  <a:ext cx="5763240" cy="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1207440" y="3944160"/>
                  <a:ext cx="5763240" cy="2520"/>
                </a:xfrm>
                <a:prstGeom prst="rect">
                  <a:avLst/>
                </a:prstGeom>
                <a:solidFill>
                  <a:srgbClr val="ff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207440" y="3947040"/>
                  <a:ext cx="5763240" cy="2196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8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1207440" y="394704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>
                  <a:off x="1207440" y="3947040"/>
                  <a:ext cx="5763240" cy="2196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207440" y="3969360"/>
                  <a:ext cx="5763240" cy="1404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1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1207440" y="396936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>
                  <a:off x="1207440" y="3969360"/>
                  <a:ext cx="5763240" cy="1404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07440" y="3983760"/>
                  <a:ext cx="5763240" cy="18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4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1207440" y="398376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>
                  <a:off x="1207440" y="3983760"/>
                  <a:ext cx="5763240" cy="187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07440" y="4002840"/>
                  <a:ext cx="5763240" cy="108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7" name="" descr="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1207440" y="4002840"/>
                  <a:ext cx="5763240" cy="1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>
                  <a:off x="1207440" y="4002840"/>
                  <a:ext cx="5763240" cy="1080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207440" y="4014000"/>
                  <a:ext cx="5763240" cy="432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70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1207440" y="401400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1207440" y="4014000"/>
                  <a:ext cx="5763240" cy="432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207440" y="4018680"/>
                  <a:ext cx="5763240" cy="288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73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1207440" y="401868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1207440" y="4018680"/>
                  <a:ext cx="5763240" cy="288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207440" y="4021920"/>
                  <a:ext cx="5763240" cy="2160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76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1207440" y="4021920"/>
                  <a:ext cx="5763240" cy="2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1207440" y="4021920"/>
                  <a:ext cx="5763240" cy="2160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07440" y="4043880"/>
                  <a:ext cx="5763240" cy="1404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79" name="" descr="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1207440" y="404388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1207440" y="4043880"/>
                  <a:ext cx="5763240" cy="1404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07440" y="4058280"/>
                  <a:ext cx="5763240" cy="4320"/>
                </a:xfrm>
                <a:prstGeom prst="rect">
                  <a:avLst/>
                </a:prstGeom>
                <a:solidFill>
                  <a:srgbClr val="fef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2" name="" descr="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1207440" y="405828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1207440" y="4058280"/>
                  <a:ext cx="5763240" cy="4320"/>
                </a:xfrm>
                <a:prstGeom prst="rect">
                  <a:avLst/>
                </a:prstGeom>
                <a:solidFill>
                  <a:srgbClr val="fef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07440" y="4062960"/>
                  <a:ext cx="5763240" cy="288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5" name="" descr="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1207440" y="406296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1207440" y="4062960"/>
                  <a:ext cx="5763240" cy="288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07440" y="4066200"/>
                  <a:ext cx="5763240" cy="21960"/>
                </a:xfrm>
                <a:prstGeom prst="rect">
                  <a:avLst/>
                </a:prstGeom>
                <a:solidFill>
                  <a:srgbClr val="fef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8" name="" descr="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1207440" y="406620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>
                  <a:off x="1207440" y="4066200"/>
                  <a:ext cx="5763240" cy="21960"/>
                </a:xfrm>
                <a:prstGeom prst="rect">
                  <a:avLst/>
                </a:prstGeom>
                <a:solidFill>
                  <a:srgbClr val="fef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207440" y="4088520"/>
                  <a:ext cx="5763240" cy="288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91" name="" descr="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1207440" y="408852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1207440" y="4088520"/>
                  <a:ext cx="5763240" cy="288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207440" y="4091760"/>
                  <a:ext cx="5763240" cy="432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94" name="" descr="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1207440" y="409176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5" name=""/>
                <p:cNvSpPr/>
                <p:nvPr/>
              </p:nvSpPr>
              <p:spPr>
                <a:xfrm>
                  <a:off x="1207440" y="4091760"/>
                  <a:ext cx="5763240" cy="432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207440" y="4096440"/>
                  <a:ext cx="5763240" cy="21960"/>
                </a:xfrm>
                <a:prstGeom prst="rect">
                  <a:avLst/>
                </a:prstGeom>
                <a:solidFill>
                  <a:srgbClr val="ff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97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1207440" y="409644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8" name=""/>
                <p:cNvSpPr/>
                <p:nvPr/>
              </p:nvSpPr>
              <p:spPr>
                <a:xfrm>
                  <a:off x="1207440" y="4096440"/>
                  <a:ext cx="5763240" cy="21960"/>
                </a:xfrm>
                <a:prstGeom prst="rect">
                  <a:avLst/>
                </a:prstGeom>
                <a:solidFill>
                  <a:srgbClr val="ff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207440" y="4118760"/>
                  <a:ext cx="5763240" cy="169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0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1207440" y="4118760"/>
                  <a:ext cx="5763240" cy="1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1" name=""/>
                <p:cNvSpPr/>
                <p:nvPr/>
              </p:nvSpPr>
              <p:spPr>
                <a:xfrm>
                  <a:off x="1207440" y="4118760"/>
                  <a:ext cx="5763240" cy="1692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207440" y="413604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3" name="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1207440" y="413604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>
                  <a:off x="1207440" y="4136040"/>
                  <a:ext cx="5763240" cy="1872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207440" y="4155120"/>
                  <a:ext cx="5763240" cy="10800"/>
                </a:xfrm>
                <a:prstGeom prst="rect">
                  <a:avLst/>
                </a:prstGeom>
                <a:solidFill>
                  <a:srgbClr val="fef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6" name="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1207440" y="4155120"/>
                  <a:ext cx="5763240" cy="1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7" name=""/>
                <p:cNvSpPr/>
                <p:nvPr/>
              </p:nvSpPr>
              <p:spPr>
                <a:xfrm>
                  <a:off x="1207440" y="4155120"/>
                  <a:ext cx="5763240" cy="10800"/>
                </a:xfrm>
                <a:prstGeom prst="rect">
                  <a:avLst/>
                </a:prstGeom>
                <a:solidFill>
                  <a:srgbClr val="fef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207440" y="4166280"/>
                  <a:ext cx="5763240" cy="18720"/>
                </a:xfrm>
                <a:prstGeom prst="rect">
                  <a:avLst/>
                </a:prstGeom>
                <a:solidFill>
                  <a:srgbClr val="fef5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9" name="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1207440" y="416628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0" name=""/>
                <p:cNvSpPr/>
                <p:nvPr/>
              </p:nvSpPr>
              <p:spPr>
                <a:xfrm>
                  <a:off x="1207440" y="4166280"/>
                  <a:ext cx="5763240" cy="18720"/>
                </a:xfrm>
                <a:prstGeom prst="rect">
                  <a:avLst/>
                </a:prstGeom>
                <a:solidFill>
                  <a:srgbClr val="fef5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207440" y="4185360"/>
                  <a:ext cx="5763240" cy="219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2" name="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1207440" y="4185360"/>
                  <a:ext cx="5763240" cy="2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3" name=""/>
                <p:cNvSpPr/>
                <p:nvPr/>
              </p:nvSpPr>
              <p:spPr>
                <a:xfrm>
                  <a:off x="1207440" y="4185360"/>
                  <a:ext cx="5763240" cy="21960"/>
                </a:xfrm>
                <a:prstGeom prst="rect">
                  <a:avLst/>
                </a:prstGeom>
                <a:solidFill>
                  <a:srgbClr val="fef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207440" y="4207680"/>
                  <a:ext cx="5763240" cy="169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5" name="" descr=""/>
                <p:cNvPicPr/>
                <p:nvPr/>
              </p:nvPicPr>
              <p:blipFill>
                <a:blip r:embed="rId104"/>
                <a:stretch/>
              </p:blipFill>
              <p:spPr>
                <a:xfrm>
                  <a:off x="1207440" y="4207680"/>
                  <a:ext cx="5763240" cy="1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6" name=""/>
                <p:cNvSpPr/>
                <p:nvPr/>
              </p:nvSpPr>
              <p:spPr>
                <a:xfrm>
                  <a:off x="1207440" y="4207680"/>
                  <a:ext cx="5763240" cy="16920"/>
                </a:xfrm>
                <a:prstGeom prst="rect">
                  <a:avLst/>
                </a:prstGeom>
                <a:solidFill>
                  <a:srgbClr val="fef4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207440" y="4224960"/>
                  <a:ext cx="5763240" cy="1548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8" name="" descr="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1207440" y="4224960"/>
                  <a:ext cx="5763240" cy="1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9" name=""/>
                <p:cNvSpPr/>
                <p:nvPr/>
              </p:nvSpPr>
              <p:spPr>
                <a:xfrm>
                  <a:off x="1207440" y="4224960"/>
                  <a:ext cx="5763240" cy="1548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207440" y="4240800"/>
                  <a:ext cx="5763240" cy="1728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1" name="" descr="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1207440" y="4240800"/>
                  <a:ext cx="5763240" cy="1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"/>
                <p:cNvSpPr/>
                <p:nvPr/>
              </p:nvSpPr>
              <p:spPr>
                <a:xfrm>
                  <a:off x="1207440" y="4240800"/>
                  <a:ext cx="5763240" cy="17280"/>
                </a:xfrm>
                <a:prstGeom prst="rect">
                  <a:avLst/>
                </a:prstGeom>
                <a:solidFill>
                  <a:srgbClr val="fef4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207440" y="4258440"/>
                  <a:ext cx="5763240" cy="2160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4" name="" descr="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1207440" y="4258440"/>
                  <a:ext cx="5763240" cy="2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5" name=""/>
                <p:cNvSpPr/>
                <p:nvPr/>
              </p:nvSpPr>
              <p:spPr>
                <a:xfrm>
                  <a:off x="1207440" y="4258440"/>
                  <a:ext cx="5763240" cy="2160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207440" y="4280400"/>
                  <a:ext cx="5763240" cy="1872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7" name="" descr="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1207440" y="428040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8" name=""/>
                <p:cNvSpPr/>
                <p:nvPr/>
              </p:nvSpPr>
              <p:spPr>
                <a:xfrm>
                  <a:off x="1207440" y="4280400"/>
                  <a:ext cx="5763240" cy="1872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207440" y="4299480"/>
                  <a:ext cx="5763240" cy="25200"/>
                </a:xfrm>
                <a:prstGeom prst="rect">
                  <a:avLst/>
                </a:prstGeom>
                <a:solidFill>
                  <a:srgbClr val="fef3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0" name="" descr="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1207440" y="429948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1" name=""/>
                <p:cNvSpPr/>
                <p:nvPr/>
              </p:nvSpPr>
              <p:spPr>
                <a:xfrm>
                  <a:off x="1207440" y="4299480"/>
                  <a:ext cx="5763240" cy="25200"/>
                </a:xfrm>
                <a:prstGeom prst="rect">
                  <a:avLst/>
                </a:prstGeom>
                <a:solidFill>
                  <a:srgbClr val="fef3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207440" y="4325040"/>
                  <a:ext cx="5763240" cy="432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3" name="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1207440" y="432504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4" name=""/>
                <p:cNvSpPr/>
                <p:nvPr/>
              </p:nvSpPr>
              <p:spPr>
                <a:xfrm>
                  <a:off x="1207440" y="4325040"/>
                  <a:ext cx="5763240" cy="432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207440" y="4329720"/>
                  <a:ext cx="5763240" cy="2880"/>
                </a:xfrm>
                <a:prstGeom prst="rect">
                  <a:avLst/>
                </a:prstGeom>
                <a:solidFill>
                  <a:srgbClr val="fe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6" name="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1207440" y="432972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"/>
                <p:cNvSpPr/>
                <p:nvPr/>
              </p:nvSpPr>
              <p:spPr>
                <a:xfrm>
                  <a:off x="1207440" y="4329720"/>
                  <a:ext cx="5763240" cy="2880"/>
                </a:xfrm>
                <a:prstGeom prst="rect">
                  <a:avLst/>
                </a:prstGeom>
                <a:solidFill>
                  <a:srgbClr val="fe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207440" y="4332960"/>
                  <a:ext cx="5763240" cy="2520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9" name="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1207440" y="433296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"/>
                <p:cNvSpPr/>
                <p:nvPr/>
              </p:nvSpPr>
              <p:spPr>
                <a:xfrm>
                  <a:off x="1207440" y="4332960"/>
                  <a:ext cx="5763240" cy="2520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07440" y="4358520"/>
                  <a:ext cx="5763240" cy="18360"/>
                </a:xfrm>
                <a:prstGeom prst="rect">
                  <a:avLst/>
                </a:prstGeom>
                <a:solidFill>
                  <a:srgbClr val="ff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42" name="" descr=""/>
                <p:cNvPicPr/>
                <p:nvPr/>
              </p:nvPicPr>
              <p:blipFill>
                <a:blip r:embed="rId113"/>
                <a:stretch/>
              </p:blipFill>
              <p:spPr>
                <a:xfrm>
                  <a:off x="1207440" y="4358520"/>
                  <a:ext cx="5763240" cy="1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3" name=""/>
                <p:cNvSpPr/>
                <p:nvPr/>
              </p:nvSpPr>
              <p:spPr>
                <a:xfrm>
                  <a:off x="1207440" y="4358520"/>
                  <a:ext cx="5763240" cy="18360"/>
                </a:xfrm>
                <a:prstGeom prst="rect">
                  <a:avLst/>
                </a:prstGeom>
                <a:solidFill>
                  <a:srgbClr val="fff6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207440" y="4377240"/>
                  <a:ext cx="5763240" cy="2520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45" name="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1207440" y="437724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"/>
                <p:cNvSpPr/>
                <p:nvPr/>
              </p:nvSpPr>
              <p:spPr>
                <a:xfrm>
                  <a:off x="1207440" y="4377240"/>
                  <a:ext cx="5763240" cy="2520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207440" y="4402800"/>
                  <a:ext cx="5763240" cy="18720"/>
                </a:xfrm>
                <a:prstGeom prst="rect">
                  <a:avLst/>
                </a:prstGeom>
                <a:solidFill>
                  <a:srgbClr val="fef5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48" name="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1207440" y="4402800"/>
                  <a:ext cx="5763240" cy="1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9" name=""/>
                <p:cNvSpPr/>
                <p:nvPr/>
              </p:nvSpPr>
              <p:spPr>
                <a:xfrm>
                  <a:off x="1207440" y="4402800"/>
                  <a:ext cx="5763240" cy="18720"/>
                </a:xfrm>
                <a:prstGeom prst="rect">
                  <a:avLst/>
                </a:prstGeom>
                <a:solidFill>
                  <a:srgbClr val="fef5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207440" y="442188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1" name="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1207440" y="4421880"/>
                  <a:ext cx="5763240" cy="2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2" name=""/>
                <p:cNvSpPr/>
                <p:nvPr/>
              </p:nvSpPr>
              <p:spPr>
                <a:xfrm>
                  <a:off x="1207440" y="4421880"/>
                  <a:ext cx="5763240" cy="24840"/>
                </a:xfrm>
                <a:prstGeom prst="rect">
                  <a:avLst/>
                </a:prstGeom>
                <a:solidFill>
                  <a:srgbClr val="fef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07440" y="4447080"/>
                  <a:ext cx="5763240" cy="298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4" name="" descr="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1207440" y="444708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5" name=""/>
                <p:cNvSpPr/>
                <p:nvPr/>
              </p:nvSpPr>
              <p:spPr>
                <a:xfrm>
                  <a:off x="1207440" y="4447080"/>
                  <a:ext cx="5763240" cy="29880"/>
                </a:xfrm>
                <a:prstGeom prst="rect">
                  <a:avLst/>
                </a:prstGeom>
                <a:solidFill>
                  <a:srgbClr val="fef5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207440" y="4477320"/>
                  <a:ext cx="5763240" cy="1080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7" name="" descr=""/>
                <p:cNvPicPr/>
                <p:nvPr/>
              </p:nvPicPr>
              <p:blipFill>
                <a:blip r:embed="rId118"/>
                <a:stretch/>
              </p:blipFill>
              <p:spPr>
                <a:xfrm>
                  <a:off x="1207440" y="4477320"/>
                  <a:ext cx="5763240" cy="1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8" name=""/>
                <p:cNvSpPr/>
                <p:nvPr/>
              </p:nvSpPr>
              <p:spPr>
                <a:xfrm>
                  <a:off x="1207440" y="4477320"/>
                  <a:ext cx="5763240" cy="10800"/>
                </a:xfrm>
                <a:prstGeom prst="rect">
                  <a:avLst/>
                </a:prstGeom>
                <a:solidFill>
                  <a:srgbClr val="fef4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07440" y="4488480"/>
                  <a:ext cx="5763240" cy="4320"/>
                </a:xfrm>
                <a:prstGeom prst="rect">
                  <a:avLst/>
                </a:prstGeom>
                <a:solidFill>
                  <a:srgbClr val="fef4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0" name="" descr=""/>
                <p:cNvPicPr/>
                <p:nvPr/>
              </p:nvPicPr>
              <p:blipFill>
                <a:blip r:embed="rId119"/>
                <a:stretch/>
              </p:blipFill>
              <p:spPr>
                <a:xfrm>
                  <a:off x="1207440" y="4488480"/>
                  <a:ext cx="5763240" cy="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1" name=""/>
                <p:cNvSpPr/>
                <p:nvPr/>
              </p:nvSpPr>
              <p:spPr>
                <a:xfrm>
                  <a:off x="1207440" y="4488480"/>
                  <a:ext cx="5763240" cy="4320"/>
                </a:xfrm>
                <a:prstGeom prst="rect">
                  <a:avLst/>
                </a:prstGeom>
                <a:solidFill>
                  <a:srgbClr val="fef4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207440" y="4493160"/>
                  <a:ext cx="5763240" cy="2880"/>
                </a:xfrm>
                <a:prstGeom prst="rect">
                  <a:avLst/>
                </a:prstGeom>
                <a:solidFill>
                  <a:srgbClr val="fef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3" name="" descr=""/>
                <p:cNvPicPr/>
                <p:nvPr/>
              </p:nvPicPr>
              <p:blipFill>
                <a:blip r:embed="rId120"/>
                <a:stretch/>
              </p:blipFill>
              <p:spPr>
                <a:xfrm>
                  <a:off x="1207440" y="449316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>
                  <a:off x="1207440" y="4493160"/>
                  <a:ext cx="5763240" cy="2880"/>
                </a:xfrm>
                <a:prstGeom prst="rect">
                  <a:avLst/>
                </a:prstGeom>
                <a:solidFill>
                  <a:srgbClr val="fef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207440" y="4496400"/>
                  <a:ext cx="5763240" cy="25200"/>
                </a:xfrm>
                <a:prstGeom prst="rect">
                  <a:avLst/>
                </a:prstGeom>
                <a:solidFill>
                  <a:srgbClr val="fff4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6" name="" descr=""/>
                <p:cNvPicPr/>
                <p:nvPr/>
              </p:nvPicPr>
              <p:blipFill>
                <a:blip r:embed="rId121"/>
                <a:stretch/>
              </p:blipFill>
              <p:spPr>
                <a:xfrm>
                  <a:off x="1207440" y="4496400"/>
                  <a:ext cx="5763240" cy="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7" name=""/>
                <p:cNvSpPr/>
                <p:nvPr/>
              </p:nvSpPr>
              <p:spPr>
                <a:xfrm>
                  <a:off x="1207440" y="4496400"/>
                  <a:ext cx="5763240" cy="25200"/>
                </a:xfrm>
                <a:prstGeom prst="rect">
                  <a:avLst/>
                </a:prstGeom>
                <a:solidFill>
                  <a:srgbClr val="fff4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207440" y="4521960"/>
                  <a:ext cx="5763240" cy="2952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9" name="" descr=""/>
                <p:cNvPicPr/>
                <p:nvPr/>
              </p:nvPicPr>
              <p:blipFill>
                <a:blip r:embed="rId122"/>
                <a:stretch/>
              </p:blipFill>
              <p:spPr>
                <a:xfrm>
                  <a:off x="1207440" y="4521960"/>
                  <a:ext cx="5763240" cy="2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0" name=""/>
                <p:cNvSpPr/>
                <p:nvPr/>
              </p:nvSpPr>
              <p:spPr>
                <a:xfrm>
                  <a:off x="1207440" y="4521960"/>
                  <a:ext cx="5763240" cy="29520"/>
                </a:xfrm>
                <a:prstGeom prst="rect">
                  <a:avLst/>
                </a:prstGeom>
                <a:solidFill>
                  <a:srgbClr val="fe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07440" y="4551840"/>
                  <a:ext cx="5763240" cy="2844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1207440" y="4551840"/>
                  <a:ext cx="576324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" name=""/>
                <p:cNvSpPr/>
                <p:nvPr/>
              </p:nvSpPr>
              <p:spPr>
                <a:xfrm>
                  <a:off x="1207440" y="4551840"/>
                  <a:ext cx="5763240" cy="28440"/>
                </a:xfrm>
                <a:prstGeom prst="rect">
                  <a:avLst/>
                </a:prstGeom>
                <a:solidFill>
                  <a:srgbClr val="fef3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07440" y="4580640"/>
                  <a:ext cx="5763240" cy="12240"/>
                </a:xfrm>
                <a:prstGeom prst="rect">
                  <a:avLst/>
                </a:prstGeom>
                <a:solidFill>
                  <a:srgbClr val="fe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5" name="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1207440" y="4580640"/>
                  <a:ext cx="5763240" cy="1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"/>
                <p:cNvSpPr/>
                <p:nvPr/>
              </p:nvSpPr>
              <p:spPr>
                <a:xfrm>
                  <a:off x="1207440" y="4580640"/>
                  <a:ext cx="5763240" cy="12240"/>
                </a:xfrm>
                <a:prstGeom prst="rect">
                  <a:avLst/>
                </a:prstGeom>
                <a:solidFill>
                  <a:srgbClr val="fe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207440" y="4593240"/>
                  <a:ext cx="5763240" cy="2880"/>
                </a:xfrm>
                <a:prstGeom prst="rect">
                  <a:avLst/>
                </a:prstGeom>
                <a:solidFill>
                  <a:srgbClr val="fef2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8" name="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1207440" y="459324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>
                  <a:off x="1207440" y="4593240"/>
                  <a:ext cx="5763240" cy="2880"/>
                </a:xfrm>
                <a:prstGeom prst="rect">
                  <a:avLst/>
                </a:prstGeom>
                <a:solidFill>
                  <a:srgbClr val="fef2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207440" y="4596480"/>
                  <a:ext cx="5763240" cy="2880"/>
                </a:xfrm>
                <a:prstGeom prst="rect">
                  <a:avLst/>
                </a:prstGeom>
                <a:solidFill>
                  <a:srgbClr val="fef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1" name="" descr=""/>
                <p:cNvPicPr/>
                <p:nvPr/>
              </p:nvPicPr>
              <p:blipFill>
                <a:blip r:embed="rId126"/>
                <a:stretch/>
              </p:blipFill>
              <p:spPr>
                <a:xfrm>
                  <a:off x="1207440" y="4596480"/>
                  <a:ext cx="5763240" cy="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2" name=""/>
                <p:cNvSpPr/>
                <p:nvPr/>
              </p:nvSpPr>
              <p:spPr>
                <a:xfrm>
                  <a:off x="1207440" y="4596480"/>
                  <a:ext cx="5763240" cy="2880"/>
                </a:xfrm>
                <a:prstGeom prst="rect">
                  <a:avLst/>
                </a:prstGeom>
                <a:solidFill>
                  <a:srgbClr val="fef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207440" y="4599720"/>
                  <a:ext cx="5763240" cy="24840"/>
                </a:xfrm>
                <a:prstGeom prst="rect">
                  <a:avLst/>
                </a:prstGeom>
                <a:solidFill>
                  <a:srgbClr val="fff2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4" name="" descr=""/>
                <p:cNvPicPr/>
                <p:nvPr/>
              </p:nvPicPr>
              <p:blipFill>
                <a:blip r:embed="rId127"/>
                <a:stretch/>
              </p:blipFill>
              <p:spPr>
                <a:xfrm>
                  <a:off x="1207440" y="4599720"/>
                  <a:ext cx="5763240" cy="2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5" name=""/>
                <p:cNvSpPr/>
                <p:nvPr/>
              </p:nvSpPr>
              <p:spPr>
                <a:xfrm>
                  <a:off x="1207440" y="4599720"/>
                  <a:ext cx="5763240" cy="24840"/>
                </a:xfrm>
                <a:prstGeom prst="rect">
                  <a:avLst/>
                </a:prstGeom>
                <a:solidFill>
                  <a:srgbClr val="fff2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07440" y="4624920"/>
                  <a:ext cx="5763240" cy="29880"/>
                </a:xfrm>
                <a:prstGeom prst="rect">
                  <a:avLst/>
                </a:prstGeom>
                <a:solidFill>
                  <a:srgbClr val="fef8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7" name="" descr=""/>
                <p:cNvPicPr/>
                <p:nvPr/>
              </p:nvPicPr>
              <p:blipFill>
                <a:blip r:embed="rId128"/>
                <a:stretch/>
              </p:blipFill>
              <p:spPr>
                <a:xfrm>
                  <a:off x="1207440" y="462492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1207440" y="4624920"/>
                  <a:ext cx="5763240" cy="29880"/>
                </a:xfrm>
                <a:prstGeom prst="rect">
                  <a:avLst/>
                </a:prstGeom>
                <a:solidFill>
                  <a:srgbClr val="fef8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207440" y="4655160"/>
                  <a:ext cx="5763240" cy="29880"/>
                </a:xfrm>
                <a:prstGeom prst="rect">
                  <a:avLst/>
                </a:prstGeom>
                <a:solidFill>
                  <a:srgbClr val="fef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90" name="" descr=""/>
                <p:cNvPicPr/>
                <p:nvPr/>
              </p:nvPicPr>
              <p:blipFill>
                <a:blip r:embed="rId129"/>
                <a:stretch/>
              </p:blipFill>
              <p:spPr>
                <a:xfrm>
                  <a:off x="1207440" y="4655160"/>
                  <a:ext cx="5763240" cy="2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1" name=""/>
                <p:cNvSpPr/>
                <p:nvPr/>
              </p:nvSpPr>
              <p:spPr>
                <a:xfrm>
                  <a:off x="1207440" y="4655160"/>
                  <a:ext cx="5763240" cy="29880"/>
                </a:xfrm>
                <a:prstGeom prst="rect">
                  <a:avLst/>
                </a:prstGeom>
                <a:solidFill>
                  <a:srgbClr val="fef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207440" y="4685400"/>
                  <a:ext cx="5763240" cy="14040"/>
                </a:xfrm>
                <a:prstGeom prst="rect">
                  <a:avLst/>
                </a:prstGeom>
                <a:solidFill>
                  <a:srgbClr val="fff7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93" name="" descr=""/>
                <p:cNvPicPr/>
                <p:nvPr/>
              </p:nvPicPr>
              <p:blipFill>
                <a:blip r:embed="rId130"/>
                <a:stretch/>
              </p:blipFill>
              <p:spPr>
                <a:xfrm>
                  <a:off x="1207440" y="4685400"/>
                  <a:ext cx="5763240" cy="1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"/>
                <p:cNvSpPr/>
                <p:nvPr/>
              </p:nvSpPr>
              <p:spPr>
                <a:xfrm>
                  <a:off x="1207440" y="4685400"/>
                  <a:ext cx="5763240" cy="14040"/>
                </a:xfrm>
                <a:prstGeom prst="rect">
                  <a:avLst/>
                </a:prstGeom>
                <a:solidFill>
                  <a:srgbClr val="fff7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207440" y="4699800"/>
                  <a:ext cx="5763240" cy="29520"/>
                </a:xfrm>
                <a:prstGeom prst="rect">
                  <a:avLst/>
                </a:prstGeom>
                <a:solidFill>
                  <a:srgbClr val="fef7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96" name="" descr=""/>
                <p:cNvPicPr/>
                <p:nvPr/>
              </p:nvPicPr>
              <p:blipFill>
                <a:blip r:embed="rId131"/>
                <a:stretch/>
              </p:blipFill>
              <p:spPr>
                <a:xfrm>
                  <a:off x="1207440" y="4699800"/>
                  <a:ext cx="5763240" cy="2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7" name=""/>
                <p:cNvSpPr/>
                <p:nvPr/>
              </p:nvSpPr>
              <p:spPr>
                <a:xfrm>
                  <a:off x="1207440" y="4699800"/>
                  <a:ext cx="5763240" cy="29520"/>
                </a:xfrm>
                <a:prstGeom prst="rect">
                  <a:avLst/>
                </a:prstGeom>
                <a:solidFill>
                  <a:srgbClr val="fef7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207440" y="4729680"/>
                  <a:ext cx="5763240" cy="4428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99" name="" descr=""/>
                <p:cNvPicPr/>
                <p:nvPr/>
              </p:nvPicPr>
              <p:blipFill>
                <a:blip r:embed="rId132"/>
                <a:stretch/>
              </p:blipFill>
              <p:spPr>
                <a:xfrm>
                  <a:off x="1207440" y="4729680"/>
                  <a:ext cx="5763240" cy="4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0" name=""/>
                <p:cNvSpPr/>
                <p:nvPr/>
              </p:nvSpPr>
              <p:spPr>
                <a:xfrm>
                  <a:off x="1207440" y="4729680"/>
                  <a:ext cx="5763240" cy="44280"/>
                </a:xfrm>
                <a:prstGeom prst="rect">
                  <a:avLst/>
                </a:prstGeom>
                <a:solidFill>
                  <a:srgbClr val="fef6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207440" y="4774320"/>
                  <a:ext cx="5763240" cy="2808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2" name="" descr=""/>
                <p:cNvPicPr/>
                <p:nvPr/>
              </p:nvPicPr>
              <p:blipFill>
                <a:blip r:embed="rId133"/>
                <a:stretch/>
              </p:blipFill>
              <p:spPr>
                <a:xfrm>
                  <a:off x="1207440" y="4774320"/>
                  <a:ext cx="576324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>
                  <a:off x="1207440" y="4774320"/>
                  <a:ext cx="5763240" cy="28080"/>
                </a:xfrm>
                <a:prstGeom prst="rect">
                  <a:avLst/>
                </a:prstGeom>
                <a:solidFill>
                  <a:srgbClr val="fef6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1207440" y="4803120"/>
                <a:ext cx="5763240" cy="15480"/>
              </a:xfrm>
              <a:prstGeom prst="rect">
                <a:avLst/>
              </a:prstGeom>
              <a:solidFill>
                <a:srgbClr val="fef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5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1207440" y="4803120"/>
                <a:ext cx="5763240" cy="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1207440" y="4803120"/>
                <a:ext cx="5763240" cy="15480"/>
              </a:xfrm>
              <a:prstGeom prst="rect">
                <a:avLst/>
              </a:prstGeom>
              <a:solidFill>
                <a:srgbClr val="fef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207440" y="4818960"/>
                <a:ext cx="5763240" cy="44280"/>
              </a:xfrm>
              <a:prstGeom prst="rect">
                <a:avLst/>
              </a:prstGeom>
              <a:solidFill>
                <a:srgbClr val="fef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135"/>
              <a:stretch/>
            </p:blipFill>
            <p:spPr>
              <a:xfrm>
                <a:off x="1207440" y="4818960"/>
                <a:ext cx="57632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1207440" y="4818960"/>
                <a:ext cx="5763240" cy="44280"/>
              </a:xfrm>
              <a:prstGeom prst="rect">
                <a:avLst/>
              </a:prstGeom>
              <a:solidFill>
                <a:srgbClr val="fef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07440" y="4863600"/>
                <a:ext cx="5763240" cy="13680"/>
              </a:xfrm>
              <a:prstGeom prst="rect">
                <a:avLst/>
              </a:prstGeom>
              <a:solidFill>
                <a:srgbClr val="f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136"/>
              <a:stretch/>
            </p:blipFill>
            <p:spPr>
              <a:xfrm>
                <a:off x="1207440" y="4863600"/>
                <a:ext cx="5763240" cy="1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1207440" y="4863600"/>
                <a:ext cx="5763240" cy="13680"/>
              </a:xfrm>
              <a:prstGeom prst="rect">
                <a:avLst/>
              </a:prstGeom>
              <a:solidFill>
                <a:srgbClr val="fff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07440" y="4877640"/>
                <a:ext cx="5763240" cy="29880"/>
              </a:xfrm>
              <a:prstGeom prst="rect">
                <a:avLst/>
              </a:prstGeom>
              <a:solidFill>
                <a:srgbClr val="fe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4" name="" descr=""/>
              <p:cNvPicPr/>
              <p:nvPr/>
            </p:nvPicPr>
            <p:blipFill>
              <a:blip r:embed="rId137"/>
              <a:stretch/>
            </p:blipFill>
            <p:spPr>
              <a:xfrm>
                <a:off x="1207440" y="487764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1207440" y="4877640"/>
                <a:ext cx="5763240" cy="29880"/>
              </a:xfrm>
              <a:prstGeom prst="rect">
                <a:avLst/>
              </a:prstGeom>
              <a:solidFill>
                <a:srgbClr val="fe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07440" y="4907880"/>
                <a:ext cx="5763240" cy="29880"/>
              </a:xfrm>
              <a:prstGeom prst="rect">
                <a:avLst/>
              </a:prstGeom>
              <a:solidFill>
                <a:srgbClr val="fef2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7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1207440" y="490788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1207440" y="4907880"/>
                <a:ext cx="5763240" cy="29880"/>
              </a:xfrm>
              <a:prstGeom prst="rect">
                <a:avLst/>
              </a:prstGeom>
              <a:solidFill>
                <a:srgbClr val="fef2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207440" y="4938120"/>
                <a:ext cx="5763240" cy="14040"/>
              </a:xfrm>
              <a:prstGeom prst="rect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0" name="" descr=""/>
              <p:cNvPicPr/>
              <p:nvPr/>
            </p:nvPicPr>
            <p:blipFill>
              <a:blip r:embed="rId139"/>
              <a:stretch/>
            </p:blipFill>
            <p:spPr>
              <a:xfrm>
                <a:off x="1207440" y="4938120"/>
                <a:ext cx="5763240" cy="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1207440" y="4938120"/>
                <a:ext cx="5763240" cy="14040"/>
              </a:xfrm>
              <a:prstGeom prst="rect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207440" y="4952520"/>
                <a:ext cx="5763240" cy="29880"/>
              </a:xfrm>
              <a:prstGeom prst="rect">
                <a:avLst/>
              </a:prstGeom>
              <a:solidFill>
                <a:srgbClr val="fef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3" name="" descr=""/>
              <p:cNvPicPr/>
              <p:nvPr/>
            </p:nvPicPr>
            <p:blipFill>
              <a:blip r:embed="rId140"/>
              <a:stretch/>
            </p:blipFill>
            <p:spPr>
              <a:xfrm>
                <a:off x="1207440" y="495252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1207440" y="4952520"/>
                <a:ext cx="5763240" cy="29880"/>
              </a:xfrm>
              <a:prstGeom prst="rect">
                <a:avLst/>
              </a:prstGeom>
              <a:solidFill>
                <a:srgbClr val="fef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07440" y="4982760"/>
                <a:ext cx="5763240" cy="43920"/>
              </a:xfrm>
              <a:prstGeom prst="rect">
                <a:avLst/>
              </a:prstGeom>
              <a:solidFill>
                <a:srgbClr val="fef0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141"/>
              <a:stretch/>
            </p:blipFill>
            <p:spPr>
              <a:xfrm>
                <a:off x="1207440" y="4982760"/>
                <a:ext cx="5763240" cy="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"/>
              <p:cNvSpPr/>
              <p:nvPr/>
            </p:nvSpPr>
            <p:spPr>
              <a:xfrm>
                <a:off x="1207440" y="4982760"/>
                <a:ext cx="5763240" cy="43920"/>
              </a:xfrm>
              <a:prstGeom prst="rect">
                <a:avLst/>
              </a:prstGeom>
              <a:solidFill>
                <a:srgbClr val="fef0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207440" y="5027040"/>
                <a:ext cx="5763240" cy="14040"/>
              </a:xfrm>
              <a:prstGeom prst="rect">
                <a:avLst/>
              </a:prstGeom>
              <a:solidFill>
                <a:srgbClr val="ffe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9" name="" descr=""/>
              <p:cNvPicPr/>
              <p:nvPr/>
            </p:nvPicPr>
            <p:blipFill>
              <a:blip r:embed="rId142"/>
              <a:stretch/>
            </p:blipFill>
            <p:spPr>
              <a:xfrm>
                <a:off x="1207440" y="5027040"/>
                <a:ext cx="5763240" cy="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1207440" y="5027040"/>
                <a:ext cx="5763240" cy="14040"/>
              </a:xfrm>
              <a:prstGeom prst="rect">
                <a:avLst/>
              </a:prstGeom>
              <a:solidFill>
                <a:srgbClr val="ffe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207440" y="5041440"/>
                <a:ext cx="5763240" cy="29520"/>
              </a:xfrm>
              <a:prstGeom prst="rect">
                <a:avLst/>
              </a:pr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2" name="" descr=""/>
              <p:cNvPicPr/>
              <p:nvPr/>
            </p:nvPicPr>
            <p:blipFill>
              <a:blip r:embed="rId143"/>
              <a:stretch/>
            </p:blipFill>
            <p:spPr>
              <a:xfrm>
                <a:off x="1207440" y="5041440"/>
                <a:ext cx="5763240" cy="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1207440" y="5041440"/>
                <a:ext cx="5763240" cy="29520"/>
              </a:xfrm>
              <a:prstGeom prst="rect">
                <a:avLst/>
              </a:pr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207440" y="5071320"/>
                <a:ext cx="5763240" cy="14040"/>
              </a:xfrm>
              <a:prstGeom prst="rect">
                <a:avLst/>
              </a:prstGeom>
              <a:solidFill>
                <a:srgbClr val="fee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5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1207440" y="5071320"/>
                <a:ext cx="5763240" cy="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1207440" y="5071320"/>
                <a:ext cx="5763240" cy="14040"/>
              </a:xfrm>
              <a:prstGeom prst="rect">
                <a:avLst/>
              </a:prstGeom>
              <a:solidFill>
                <a:srgbClr val="fee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207440" y="5085720"/>
                <a:ext cx="5763240" cy="29880"/>
              </a:xfrm>
              <a:prstGeom prst="rect">
                <a:avLst/>
              </a:prstGeom>
              <a:solidFill>
                <a:srgbClr val="fe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8" name="" descr=""/>
              <p:cNvPicPr/>
              <p:nvPr/>
            </p:nvPicPr>
            <p:blipFill>
              <a:blip r:embed="rId145"/>
              <a:stretch/>
            </p:blipFill>
            <p:spPr>
              <a:xfrm>
                <a:off x="1207440" y="508572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1207440" y="5085720"/>
                <a:ext cx="5763240" cy="29880"/>
              </a:xfrm>
              <a:prstGeom prst="rect">
                <a:avLst/>
              </a:prstGeom>
              <a:solidFill>
                <a:srgbClr val="fee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207440" y="5115960"/>
                <a:ext cx="5763240" cy="2808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1" name="" descr=""/>
              <p:cNvPicPr/>
              <p:nvPr/>
            </p:nvPicPr>
            <p:blipFill>
              <a:blip r:embed="rId146"/>
              <a:stretch/>
            </p:blipFill>
            <p:spPr>
              <a:xfrm>
                <a:off x="1207440" y="5115960"/>
                <a:ext cx="5763240" cy="2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1207440" y="5115960"/>
                <a:ext cx="5763240" cy="2808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207440" y="5144400"/>
                <a:ext cx="5763240" cy="29880"/>
              </a:xfrm>
              <a:prstGeom prst="rect">
                <a:avLst/>
              </a:prstGeom>
              <a:solidFill>
                <a:srgbClr val="fefe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4" name="" descr=""/>
              <p:cNvPicPr/>
              <p:nvPr/>
            </p:nvPicPr>
            <p:blipFill>
              <a:blip r:embed="rId147"/>
              <a:stretch/>
            </p:blipFill>
            <p:spPr>
              <a:xfrm>
                <a:off x="1207440" y="514440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1207440" y="5144400"/>
                <a:ext cx="5763240" cy="29880"/>
              </a:xfrm>
              <a:prstGeom prst="rect">
                <a:avLst/>
              </a:prstGeom>
              <a:solidFill>
                <a:srgbClr val="fefe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207440" y="5174640"/>
                <a:ext cx="5763240" cy="298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7" name="" descr=""/>
              <p:cNvPicPr/>
              <p:nvPr/>
            </p:nvPicPr>
            <p:blipFill>
              <a:blip r:embed="rId148"/>
              <a:stretch/>
            </p:blipFill>
            <p:spPr>
              <a:xfrm>
                <a:off x="1207440" y="517464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1207440" y="5174640"/>
                <a:ext cx="5763240" cy="298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07440" y="5204880"/>
                <a:ext cx="5763240" cy="28080"/>
              </a:xfrm>
              <a:prstGeom prst="rect">
                <a:avLst/>
              </a:prstGeom>
              <a:solidFill>
                <a:srgbClr val="fef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0" name="" descr=""/>
              <p:cNvPicPr/>
              <p:nvPr/>
            </p:nvPicPr>
            <p:blipFill>
              <a:blip r:embed="rId149"/>
              <a:stretch/>
            </p:blipFill>
            <p:spPr>
              <a:xfrm>
                <a:off x="1207440" y="5204880"/>
                <a:ext cx="5763240" cy="2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1207440" y="5204880"/>
                <a:ext cx="5763240" cy="28080"/>
              </a:xfrm>
              <a:prstGeom prst="rect">
                <a:avLst/>
              </a:prstGeom>
              <a:solidFill>
                <a:srgbClr val="fef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207440" y="5233320"/>
                <a:ext cx="5763240" cy="298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3" name="" descr=""/>
              <p:cNvPicPr/>
              <p:nvPr/>
            </p:nvPicPr>
            <p:blipFill>
              <a:blip r:embed="rId150"/>
              <a:stretch/>
            </p:blipFill>
            <p:spPr>
              <a:xfrm>
                <a:off x="1207440" y="5233320"/>
                <a:ext cx="5763240" cy="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207440" y="5233320"/>
                <a:ext cx="5763240" cy="298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07440" y="5263560"/>
                <a:ext cx="5763240" cy="44280"/>
              </a:xfrm>
              <a:prstGeom prst="rect">
                <a:avLst/>
              </a:prstGeom>
              <a:solidFill>
                <a:srgbClr val="fef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6" name="" descr=""/>
              <p:cNvPicPr/>
              <p:nvPr/>
            </p:nvPicPr>
            <p:blipFill>
              <a:blip r:embed="rId151"/>
              <a:stretch/>
            </p:blipFill>
            <p:spPr>
              <a:xfrm>
                <a:off x="1207440" y="5263560"/>
                <a:ext cx="57632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7" name=""/>
              <p:cNvSpPr/>
              <p:nvPr/>
            </p:nvSpPr>
            <p:spPr>
              <a:xfrm>
                <a:off x="1207440" y="5263560"/>
                <a:ext cx="5763240" cy="44280"/>
              </a:xfrm>
              <a:prstGeom prst="rect">
                <a:avLst/>
              </a:prstGeom>
              <a:solidFill>
                <a:srgbClr val="fefe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07440" y="5308200"/>
                <a:ext cx="5763240" cy="2952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9" name="" descr=""/>
              <p:cNvPicPr/>
              <p:nvPr/>
            </p:nvPicPr>
            <p:blipFill>
              <a:blip r:embed="rId152"/>
              <a:stretch/>
            </p:blipFill>
            <p:spPr>
              <a:xfrm>
                <a:off x="1207440" y="5308200"/>
                <a:ext cx="5763240" cy="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1207440" y="5308200"/>
                <a:ext cx="5763240" cy="2952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07440" y="5338080"/>
                <a:ext cx="5763240" cy="44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153"/>
              <a:stretch/>
            </p:blipFill>
            <p:spPr>
              <a:xfrm>
                <a:off x="1207440" y="5338080"/>
                <a:ext cx="57632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1207440" y="5338080"/>
                <a:ext cx="5763240" cy="44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207440" y="5382720"/>
                <a:ext cx="5763240" cy="4392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5" name="" descr=""/>
              <p:cNvPicPr/>
              <p:nvPr/>
            </p:nvPicPr>
            <p:blipFill>
              <a:blip r:embed="rId154"/>
              <a:stretch/>
            </p:blipFill>
            <p:spPr>
              <a:xfrm>
                <a:off x="1207440" y="5382720"/>
                <a:ext cx="5763240" cy="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1207440" y="5382720"/>
                <a:ext cx="5763240" cy="4392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207440" y="5427000"/>
                <a:ext cx="57632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8" name="" descr=""/>
              <p:cNvPicPr/>
              <p:nvPr/>
            </p:nvPicPr>
            <p:blipFill>
              <a:blip r:embed="rId155"/>
              <a:stretch/>
            </p:blipFill>
            <p:spPr>
              <a:xfrm>
                <a:off x="1207440" y="5427000"/>
                <a:ext cx="5763240" cy="8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207440" y="5427000"/>
                <a:ext cx="57632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208880" y="1817280"/>
                <a:ext cx="5760360" cy="3795120"/>
              </a:xfrm>
              <a:custGeom>
                <a:avLst/>
                <a:gdLst/>
                <a:ahLst/>
                <a:rect l="l" t="t" r="r" b="b"/>
                <a:pathLst>
                  <a:path w="22813" h="13280">
                    <a:moveTo>
                      <a:pt x="445" y="0"/>
                    </a:moveTo>
                    <a:cubicBezTo>
                      <a:pt x="200" y="0"/>
                      <a:pt x="0" y="200"/>
                      <a:pt x="0" y="445"/>
                    </a:cubicBezTo>
                    <a:lnTo>
                      <a:pt x="0" y="12835"/>
                    </a:lnTo>
                    <a:cubicBezTo>
                      <a:pt x="0" y="13080"/>
                      <a:pt x="200" y="13280"/>
                      <a:pt x="445" y="13280"/>
                    </a:cubicBezTo>
                    <a:lnTo>
                      <a:pt x="22368" y="13280"/>
                    </a:lnTo>
                    <a:cubicBezTo>
                      <a:pt x="22614" y="13280"/>
                      <a:pt x="22813" y="13080"/>
                      <a:pt x="22813" y="12835"/>
                    </a:cubicBezTo>
                    <a:lnTo>
                      <a:pt x="22813" y="445"/>
                    </a:lnTo>
                    <a:cubicBezTo>
                      <a:pt x="22813" y="200"/>
                      <a:pt x="22614" y="0"/>
                      <a:pt x="22368" y="0"/>
                    </a:cubicBezTo>
                    <a:lnTo>
                      <a:pt x="445" y="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cfa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2009880" y="26431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090520" y="264312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% Satisfacción de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15640" y="33318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04200" y="333180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% clientes con recla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15640" y="44449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33360" y="4444920"/>
              <a:ext cx="117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% cumplimiento 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99680" y="444492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ist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64800" y="444492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ho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03720" y="4444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996920" y="2339640"/>
              <a:ext cx="2450520" cy="237600"/>
              <a:chOff x="1996920" y="2339640"/>
              <a:chExt cx="2450520" cy="237600"/>
            </a:xfrm>
          </p:grpSpPr>
          <p:sp>
            <p:nvSpPr>
              <p:cNvPr id="681" name=""/>
              <p:cNvSpPr/>
              <p:nvPr/>
            </p:nvSpPr>
            <p:spPr>
              <a:xfrm>
                <a:off x="1996920" y="2339640"/>
                <a:ext cx="2450520" cy="612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96920" y="2345760"/>
                <a:ext cx="2450520" cy="1080"/>
              </a:xfrm>
              <a:prstGeom prst="rect">
                <a:avLst/>
              </a:prstGeom>
              <a:solidFill>
                <a:srgbClr val="04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996920" y="2345760"/>
                <a:ext cx="2450520" cy="900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996920" y="2355120"/>
                <a:ext cx="2450520" cy="1440"/>
              </a:xfrm>
              <a:prstGeom prst="rect">
                <a:avLst/>
              </a:prstGeom>
              <a:solidFill>
                <a:srgbClr val="0d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96920" y="2355120"/>
                <a:ext cx="2450520" cy="7560"/>
              </a:xfrm>
              <a:prstGeom prst="rect">
                <a:avLst/>
              </a:prstGeom>
              <a:solidFill>
                <a:srgbClr val="0f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996920" y="2363040"/>
                <a:ext cx="2450520" cy="6120"/>
              </a:xfrm>
              <a:prstGeom prst="rect">
                <a:avLst/>
              </a:prstGeom>
              <a:solidFill>
                <a:srgbClr val="12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996920" y="2369520"/>
                <a:ext cx="2450520" cy="4320"/>
              </a:xfrm>
              <a:prstGeom prst="rect">
                <a:avLst/>
              </a:prstGeom>
              <a:solidFill>
                <a:srgbClr val="14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996920" y="2374200"/>
                <a:ext cx="2450520" cy="4680"/>
              </a:xfrm>
              <a:prstGeom prst="rect">
                <a:avLst/>
              </a:prstGeom>
              <a:solidFill>
                <a:srgbClr val="16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996920" y="2379240"/>
                <a:ext cx="2450520" cy="4320"/>
              </a:xfrm>
              <a:prstGeom prst="rect">
                <a:avLst/>
              </a:prstGeom>
              <a:solidFill>
                <a:srgbClr val="18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996920" y="2383920"/>
                <a:ext cx="2450520" cy="4320"/>
              </a:xfrm>
              <a:prstGeom prst="rect">
                <a:avLst/>
              </a:prstGeom>
              <a:solidFill>
                <a:srgbClr val="1a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996920" y="2388600"/>
                <a:ext cx="2450520" cy="2880"/>
              </a:xfrm>
              <a:prstGeom prst="rect">
                <a:avLst/>
              </a:prstGeom>
              <a:solidFill>
                <a:srgbClr val="1c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996920" y="2391840"/>
                <a:ext cx="2450520" cy="4320"/>
              </a:xfrm>
              <a:prstGeom prst="rect">
                <a:avLst/>
              </a:prstGeom>
              <a:solidFill>
                <a:srgbClr val="1e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996920" y="2396520"/>
                <a:ext cx="2450520" cy="6120"/>
              </a:xfrm>
              <a:prstGeom prst="rect">
                <a:avLst/>
              </a:prstGeom>
              <a:solidFill>
                <a:srgbClr val="1f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996920" y="2403000"/>
                <a:ext cx="2450520" cy="4320"/>
              </a:xfrm>
              <a:prstGeom prst="rect">
                <a:avLst/>
              </a:prstGeom>
              <a:solidFill>
                <a:srgbClr val="226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996920" y="2407680"/>
                <a:ext cx="2450520" cy="4320"/>
              </a:xfrm>
              <a:prstGeom prst="rect">
                <a:avLst/>
              </a:prstGeom>
              <a:solidFill>
                <a:srgbClr val="24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996920" y="2412360"/>
                <a:ext cx="2450520" cy="2880"/>
              </a:xfrm>
              <a:prstGeom prst="rect">
                <a:avLst/>
              </a:prstGeom>
              <a:solidFill>
                <a:srgbClr val="26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996920" y="2415600"/>
                <a:ext cx="2450520" cy="6120"/>
              </a:xfrm>
              <a:prstGeom prst="rect">
                <a:avLst/>
              </a:prstGeom>
              <a:solidFill>
                <a:srgbClr val="287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996920" y="2422080"/>
                <a:ext cx="2450520" cy="2520"/>
              </a:xfrm>
              <a:prstGeom prst="rect">
                <a:avLst/>
              </a:prstGeom>
              <a:solidFill>
                <a:srgbClr val="2a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96920" y="2424960"/>
                <a:ext cx="2450520" cy="4680"/>
              </a:xfrm>
              <a:prstGeom prst="rect">
                <a:avLst/>
              </a:prstGeom>
              <a:solidFill>
                <a:srgbClr val="2c7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996920" y="2430000"/>
                <a:ext cx="2450520" cy="2880"/>
              </a:xfrm>
              <a:prstGeom prst="rect">
                <a:avLst/>
              </a:prstGeom>
              <a:solidFill>
                <a:srgbClr val="2d7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96920" y="2433240"/>
                <a:ext cx="2450520" cy="4320"/>
              </a:xfrm>
              <a:prstGeom prst="rect">
                <a:avLst/>
              </a:prstGeom>
              <a:solidFill>
                <a:srgbClr val="2f7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996920" y="2437920"/>
                <a:ext cx="2450520" cy="4320"/>
              </a:xfrm>
              <a:prstGeom prst="rect">
                <a:avLst/>
              </a:prstGeom>
              <a:solidFill>
                <a:srgbClr val="317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996920" y="2442600"/>
                <a:ext cx="2450520" cy="2880"/>
              </a:xfrm>
              <a:prstGeom prst="rect">
                <a:avLst/>
              </a:prstGeom>
              <a:solidFill>
                <a:srgbClr val="32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96920" y="2445840"/>
                <a:ext cx="2450520" cy="4320"/>
              </a:xfrm>
              <a:prstGeom prst="rect">
                <a:avLst/>
              </a:prstGeom>
              <a:solidFill>
                <a:srgbClr val="34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996920" y="2450520"/>
                <a:ext cx="2450520" cy="4320"/>
              </a:xfrm>
              <a:prstGeom prst="rect">
                <a:avLst/>
              </a:prstGeom>
              <a:solidFill>
                <a:srgbClr val="367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996920" y="2455200"/>
                <a:ext cx="2450520" cy="4320"/>
              </a:xfrm>
              <a:prstGeom prst="rect">
                <a:avLst/>
              </a:prstGeom>
              <a:solidFill>
                <a:srgbClr val="37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96920" y="2459880"/>
                <a:ext cx="2450520" cy="4680"/>
              </a:xfrm>
              <a:prstGeom prst="rect">
                <a:avLst/>
              </a:prstGeom>
              <a:solidFill>
                <a:srgbClr val="39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996920" y="2464920"/>
                <a:ext cx="2450520" cy="2880"/>
              </a:xfrm>
              <a:prstGeom prst="rect">
                <a:avLst/>
              </a:prstGeom>
              <a:solidFill>
                <a:srgbClr val="3a8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996920" y="2468160"/>
                <a:ext cx="2450520" cy="5760"/>
              </a:xfrm>
              <a:prstGeom prst="rect">
                <a:avLst/>
              </a:prstGeom>
              <a:solidFill>
                <a:srgbClr val="3c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996920" y="2474280"/>
                <a:ext cx="2450520" cy="4320"/>
              </a:xfrm>
              <a:prstGeom prst="rect">
                <a:avLst/>
              </a:prstGeom>
              <a:solidFill>
                <a:srgbClr val="3e8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996920" y="2478960"/>
                <a:ext cx="2450520" cy="4680"/>
              </a:xfrm>
              <a:prstGeom prst="rect">
                <a:avLst/>
              </a:prstGeom>
              <a:solidFill>
                <a:srgbClr val="3f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996920" y="2484000"/>
                <a:ext cx="2450520" cy="5760"/>
              </a:xfrm>
              <a:prstGeom prst="rect">
                <a:avLst/>
              </a:prstGeom>
              <a:solidFill>
                <a:srgbClr val="418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96920" y="2490120"/>
                <a:ext cx="2450520" cy="4320"/>
              </a:xfrm>
              <a:prstGeom prst="rect">
                <a:avLst/>
              </a:prstGeom>
              <a:solidFill>
                <a:srgbClr val="428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996920" y="2494800"/>
                <a:ext cx="2450520" cy="7920"/>
              </a:xfrm>
              <a:prstGeom prst="rect">
                <a:avLst/>
              </a:prstGeom>
              <a:solidFill>
                <a:srgbClr val="448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996920" y="2503080"/>
                <a:ext cx="2450520" cy="7560"/>
              </a:xfrm>
              <a:prstGeom prst="rect">
                <a:avLst/>
              </a:prstGeom>
              <a:solidFill>
                <a:srgbClr val="458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996920" y="2511000"/>
                <a:ext cx="2450520" cy="7560"/>
              </a:xfrm>
              <a:prstGeom prst="rect">
                <a:avLst/>
              </a:prstGeom>
              <a:solidFill>
                <a:srgbClr val="478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996920" y="2518920"/>
                <a:ext cx="2450520" cy="12240"/>
              </a:xfrm>
              <a:prstGeom prst="rect">
                <a:avLst/>
              </a:prstGeom>
              <a:solidFill>
                <a:srgbClr val="488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996920" y="2531520"/>
                <a:ext cx="2450520" cy="7560"/>
              </a:xfrm>
              <a:prstGeom prst="rect">
                <a:avLst/>
              </a:prstGeom>
              <a:solidFill>
                <a:srgbClr val="4a9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996920" y="2539440"/>
                <a:ext cx="2450520" cy="25200"/>
              </a:xfrm>
              <a:prstGeom prst="rect">
                <a:avLst/>
              </a:prstGeom>
              <a:solidFill>
                <a:srgbClr val="4b9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96920" y="2565000"/>
                <a:ext cx="2450520" cy="12240"/>
              </a:xfrm>
              <a:prstGeom prst="rect">
                <a:avLst/>
              </a:prstGeom>
              <a:solidFill>
                <a:srgbClr val="4d9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1965240" y="2374560"/>
              <a:ext cx="164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Satisfacción de cl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1996920" y="3017520"/>
              <a:ext cx="2450520" cy="237600"/>
              <a:chOff x="1996920" y="3017520"/>
              <a:chExt cx="2450520" cy="237600"/>
            </a:xfrm>
          </p:grpSpPr>
          <p:sp>
            <p:nvSpPr>
              <p:cNvPr id="723" name=""/>
              <p:cNvSpPr/>
              <p:nvPr/>
            </p:nvSpPr>
            <p:spPr>
              <a:xfrm>
                <a:off x="1996920" y="3017520"/>
                <a:ext cx="2450520" cy="612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96920" y="3023640"/>
                <a:ext cx="2450520" cy="1080"/>
              </a:xfrm>
              <a:prstGeom prst="rect">
                <a:avLst/>
              </a:prstGeom>
              <a:solidFill>
                <a:srgbClr val="08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96920" y="3023640"/>
                <a:ext cx="2450520" cy="900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96920" y="3033000"/>
                <a:ext cx="2450520" cy="7560"/>
              </a:xfrm>
              <a:prstGeom prst="rect">
                <a:avLst/>
              </a:prstGeom>
              <a:solidFill>
                <a:srgbClr val="0e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996920" y="3040920"/>
                <a:ext cx="2450520" cy="6120"/>
              </a:xfrm>
              <a:prstGeom prst="rect">
                <a:avLst/>
              </a:prstGeom>
              <a:solidFill>
                <a:srgbClr val="11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96920" y="3047400"/>
                <a:ext cx="2450520" cy="4320"/>
              </a:xfrm>
              <a:prstGeom prst="rect">
                <a:avLst/>
              </a:prstGeom>
              <a:solidFill>
                <a:srgbClr val="14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996920" y="3052080"/>
                <a:ext cx="2450520" cy="4680"/>
              </a:xfrm>
              <a:prstGeom prst="rect">
                <a:avLst/>
              </a:prstGeom>
              <a:solidFill>
                <a:srgbClr val="16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996920" y="3057120"/>
                <a:ext cx="2450520" cy="4320"/>
              </a:xfrm>
              <a:prstGeom prst="rect">
                <a:avLst/>
              </a:prstGeom>
              <a:solidFill>
                <a:srgbClr val="18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996920" y="3061800"/>
                <a:ext cx="2450520" cy="4320"/>
              </a:xfrm>
              <a:prstGeom prst="rect">
                <a:avLst/>
              </a:prstGeom>
              <a:solidFill>
                <a:srgbClr val="1a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96920" y="3066480"/>
                <a:ext cx="2450520" cy="2880"/>
              </a:xfrm>
              <a:prstGeom prst="rect">
                <a:avLst/>
              </a:prstGeom>
              <a:solidFill>
                <a:srgbClr val="1c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996920" y="3069720"/>
                <a:ext cx="2450520" cy="4320"/>
              </a:xfrm>
              <a:prstGeom prst="rect">
                <a:avLst/>
              </a:prstGeom>
              <a:solidFill>
                <a:srgbClr val="1e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96920" y="3074400"/>
                <a:ext cx="2450520" cy="4320"/>
              </a:xfrm>
              <a:prstGeom prst="rect">
                <a:avLst/>
              </a:prstGeom>
              <a:solidFill>
                <a:srgbClr val="1f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96920" y="3079080"/>
                <a:ext cx="2450520" cy="2880"/>
              </a:xfrm>
              <a:prstGeom prst="rect">
                <a:avLst/>
              </a:prstGeom>
              <a:solidFill>
                <a:srgbClr val="216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96920" y="3082320"/>
                <a:ext cx="2450520" cy="6120"/>
              </a:xfrm>
              <a:prstGeom prst="rect">
                <a:avLst/>
              </a:prstGeom>
              <a:solidFill>
                <a:srgbClr val="23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996920" y="3088800"/>
                <a:ext cx="2450520" cy="2880"/>
              </a:xfrm>
              <a:prstGeom prst="rect">
                <a:avLst/>
              </a:prstGeom>
              <a:solidFill>
                <a:srgbClr val="257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996920" y="3092040"/>
                <a:ext cx="2450520" cy="2520"/>
              </a:xfrm>
              <a:prstGeom prst="rect">
                <a:avLst/>
              </a:prstGeom>
              <a:solidFill>
                <a:srgbClr val="27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96920" y="3094920"/>
                <a:ext cx="2450520" cy="4680"/>
              </a:xfrm>
              <a:prstGeom prst="rect">
                <a:avLst/>
              </a:prstGeom>
              <a:solidFill>
                <a:srgbClr val="297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996920" y="3099960"/>
                <a:ext cx="2450520" cy="4320"/>
              </a:xfrm>
              <a:prstGeom prst="rect">
                <a:avLst/>
              </a:prstGeom>
              <a:solidFill>
                <a:srgbClr val="2b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96920" y="3104640"/>
                <a:ext cx="2450520" cy="7560"/>
              </a:xfrm>
              <a:prstGeom prst="rect">
                <a:avLst/>
              </a:prstGeom>
              <a:solidFill>
                <a:srgbClr val="2d7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996920" y="3112560"/>
                <a:ext cx="2450520" cy="2880"/>
              </a:xfrm>
              <a:prstGeom prst="rect">
                <a:avLst/>
              </a:prstGeom>
              <a:solidFill>
                <a:srgbClr val="2f7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96920" y="3115800"/>
                <a:ext cx="2450520" cy="4320"/>
              </a:xfrm>
              <a:prstGeom prst="rect">
                <a:avLst/>
              </a:prstGeom>
              <a:solidFill>
                <a:srgbClr val="317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996920" y="3120480"/>
                <a:ext cx="2450520" cy="2880"/>
              </a:xfrm>
              <a:prstGeom prst="rect">
                <a:avLst/>
              </a:prstGeom>
              <a:solidFill>
                <a:srgbClr val="32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96920" y="3123720"/>
                <a:ext cx="2450520" cy="4320"/>
              </a:xfrm>
              <a:prstGeom prst="rect">
                <a:avLst/>
              </a:prstGeom>
              <a:solidFill>
                <a:srgbClr val="34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996920" y="3128400"/>
                <a:ext cx="2450520" cy="4320"/>
              </a:xfrm>
              <a:prstGeom prst="rect">
                <a:avLst/>
              </a:prstGeom>
              <a:solidFill>
                <a:srgbClr val="367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996920" y="3133080"/>
                <a:ext cx="2450520" cy="4320"/>
              </a:xfrm>
              <a:prstGeom prst="rect">
                <a:avLst/>
              </a:prstGeom>
              <a:solidFill>
                <a:srgbClr val="37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996920" y="3137760"/>
                <a:ext cx="2450520" cy="4680"/>
              </a:xfrm>
              <a:prstGeom prst="rect">
                <a:avLst/>
              </a:prstGeom>
              <a:solidFill>
                <a:srgbClr val="39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996920" y="3142800"/>
                <a:ext cx="2450520" cy="2520"/>
              </a:xfrm>
              <a:prstGeom prst="rect">
                <a:avLst/>
              </a:prstGeom>
              <a:solidFill>
                <a:srgbClr val="3a8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996920" y="3145680"/>
                <a:ext cx="2450520" cy="6120"/>
              </a:xfrm>
              <a:prstGeom prst="rect">
                <a:avLst/>
              </a:prstGeom>
              <a:solidFill>
                <a:srgbClr val="3c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996920" y="3152160"/>
                <a:ext cx="2450520" cy="4320"/>
              </a:xfrm>
              <a:prstGeom prst="rect">
                <a:avLst/>
              </a:prstGeom>
              <a:solidFill>
                <a:srgbClr val="3e8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996920" y="3156840"/>
                <a:ext cx="2450520" cy="4680"/>
              </a:xfrm>
              <a:prstGeom prst="rect">
                <a:avLst/>
              </a:prstGeom>
              <a:solidFill>
                <a:srgbClr val="3f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96920" y="3161880"/>
                <a:ext cx="2450520" cy="4320"/>
              </a:xfrm>
              <a:prstGeom prst="rect">
                <a:avLst/>
              </a:prstGeom>
              <a:solidFill>
                <a:srgbClr val="418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96920" y="3166560"/>
                <a:ext cx="2450520" cy="5760"/>
              </a:xfrm>
              <a:prstGeom prst="rect">
                <a:avLst/>
              </a:prstGeom>
              <a:solidFill>
                <a:srgbClr val="428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996920" y="3172680"/>
                <a:ext cx="2450520" cy="7560"/>
              </a:xfrm>
              <a:prstGeom prst="rect">
                <a:avLst/>
              </a:prstGeom>
              <a:solidFill>
                <a:srgbClr val="448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996920" y="3180600"/>
                <a:ext cx="2450520" cy="7920"/>
              </a:xfrm>
              <a:prstGeom prst="rect">
                <a:avLst/>
              </a:prstGeom>
              <a:solidFill>
                <a:srgbClr val="458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96920" y="3188880"/>
                <a:ext cx="2450520" cy="7560"/>
              </a:xfrm>
              <a:prstGeom prst="rect">
                <a:avLst/>
              </a:prstGeom>
              <a:solidFill>
                <a:srgbClr val="478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996920" y="3196800"/>
                <a:ext cx="2450520" cy="10440"/>
              </a:xfrm>
              <a:prstGeom prst="rect">
                <a:avLst/>
              </a:prstGeom>
              <a:solidFill>
                <a:srgbClr val="488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996920" y="3207600"/>
                <a:ext cx="2450520" cy="9360"/>
              </a:xfrm>
              <a:prstGeom prst="rect">
                <a:avLst/>
              </a:prstGeom>
              <a:solidFill>
                <a:srgbClr val="4a9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996920" y="3217320"/>
                <a:ext cx="2450520" cy="24840"/>
              </a:xfrm>
              <a:prstGeom prst="rect">
                <a:avLst/>
              </a:prstGeom>
              <a:solidFill>
                <a:srgbClr val="4b9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996920" y="3242520"/>
                <a:ext cx="2450520" cy="12600"/>
              </a:xfrm>
              <a:prstGeom prst="rect">
                <a:avLst/>
              </a:prstGeom>
              <a:solidFill>
                <a:srgbClr val="4d9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970280" y="3052440"/>
              <a:ext cx="150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Gestión de recla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996920" y="4105080"/>
              <a:ext cx="2450520" cy="237240"/>
              <a:chOff x="1996920" y="4105080"/>
              <a:chExt cx="2450520" cy="237240"/>
            </a:xfrm>
          </p:grpSpPr>
          <p:sp>
            <p:nvSpPr>
              <p:cNvPr id="764" name=""/>
              <p:cNvSpPr/>
              <p:nvPr/>
            </p:nvSpPr>
            <p:spPr>
              <a:xfrm>
                <a:off x="1996920" y="4105080"/>
                <a:ext cx="2450520" cy="612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996920" y="4111200"/>
                <a:ext cx="2450520" cy="1080"/>
              </a:xfrm>
              <a:prstGeom prst="rect">
                <a:avLst/>
              </a:prstGeom>
              <a:solidFill>
                <a:srgbClr val="07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996920" y="4111200"/>
                <a:ext cx="2450520" cy="900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996920" y="4120560"/>
                <a:ext cx="2450520" cy="7560"/>
              </a:xfrm>
              <a:prstGeom prst="rect">
                <a:avLst/>
              </a:prstGeom>
              <a:solidFill>
                <a:srgbClr val="0e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996920" y="4128480"/>
                <a:ext cx="2450520" cy="6120"/>
              </a:xfrm>
              <a:prstGeom prst="rect">
                <a:avLst/>
              </a:prstGeom>
              <a:solidFill>
                <a:srgbClr val="11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996920" y="4134960"/>
                <a:ext cx="2450520" cy="1080"/>
              </a:xfrm>
              <a:prstGeom prst="rect">
                <a:avLst/>
              </a:prstGeom>
              <a:solidFill>
                <a:srgbClr val="13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996920" y="4134960"/>
                <a:ext cx="2450520" cy="5760"/>
              </a:xfrm>
              <a:prstGeom prst="rect">
                <a:avLst/>
              </a:prstGeom>
              <a:solidFill>
                <a:srgbClr val="15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996920" y="4141080"/>
                <a:ext cx="2450520" cy="4680"/>
              </a:xfrm>
              <a:prstGeom prst="rect">
                <a:avLst/>
              </a:prstGeom>
              <a:solidFill>
                <a:srgbClr val="17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96920" y="4146120"/>
                <a:ext cx="2450520" cy="5760"/>
              </a:xfrm>
              <a:prstGeom prst="rect">
                <a:avLst/>
              </a:prstGeom>
              <a:solidFill>
                <a:srgbClr val="19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996920" y="4152240"/>
                <a:ext cx="2450520" cy="1440"/>
              </a:xfrm>
              <a:prstGeom prst="rect">
                <a:avLst/>
              </a:prstGeom>
              <a:solidFill>
                <a:srgbClr val="1a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996920" y="4154040"/>
                <a:ext cx="2450520" cy="2520"/>
              </a:xfrm>
              <a:prstGeom prst="rect">
                <a:avLst/>
              </a:prstGeom>
              <a:solidFill>
                <a:srgbClr val="1c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996920" y="4156920"/>
                <a:ext cx="2450520" cy="4680"/>
              </a:xfrm>
              <a:prstGeom prst="rect">
                <a:avLst/>
              </a:prstGeom>
              <a:solidFill>
                <a:srgbClr val="1e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996920" y="4161960"/>
                <a:ext cx="2450520" cy="4320"/>
              </a:xfrm>
              <a:prstGeom prst="rect">
                <a:avLst/>
              </a:prstGeom>
              <a:solidFill>
                <a:srgbClr val="1f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996920" y="4166640"/>
                <a:ext cx="2450520" cy="2880"/>
              </a:xfrm>
              <a:prstGeom prst="rect">
                <a:avLst/>
              </a:prstGeom>
              <a:solidFill>
                <a:srgbClr val="216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996920" y="4169880"/>
                <a:ext cx="2450520" cy="5760"/>
              </a:xfrm>
              <a:prstGeom prst="rect">
                <a:avLst/>
              </a:prstGeom>
              <a:solidFill>
                <a:srgbClr val="23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996920" y="4176000"/>
                <a:ext cx="2450520" cy="1440"/>
              </a:xfrm>
              <a:prstGeom prst="rect">
                <a:avLst/>
              </a:prstGeom>
              <a:solidFill>
                <a:srgbClr val="257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996920" y="4177800"/>
                <a:ext cx="2450520" cy="4320"/>
              </a:xfrm>
              <a:prstGeom prst="rect">
                <a:avLst/>
              </a:prstGeom>
              <a:solidFill>
                <a:srgbClr val="27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996920" y="4182480"/>
                <a:ext cx="2450520" cy="4320"/>
              </a:xfrm>
              <a:prstGeom prst="rect">
                <a:avLst/>
              </a:prstGeom>
              <a:solidFill>
                <a:srgbClr val="297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996920" y="4187160"/>
                <a:ext cx="2450520" cy="4320"/>
              </a:xfrm>
              <a:prstGeom prst="rect">
                <a:avLst/>
              </a:prstGeom>
              <a:solidFill>
                <a:srgbClr val="2b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996920" y="4191840"/>
                <a:ext cx="2450520" cy="6120"/>
              </a:xfrm>
              <a:prstGeom prst="rect">
                <a:avLst/>
              </a:prstGeom>
              <a:solidFill>
                <a:srgbClr val="2d7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996920" y="4198320"/>
                <a:ext cx="2450520" cy="4320"/>
              </a:xfrm>
              <a:prstGeom prst="rect">
                <a:avLst/>
              </a:prstGeom>
              <a:solidFill>
                <a:srgbClr val="2f7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996920" y="4203000"/>
                <a:ext cx="2450520" cy="2880"/>
              </a:xfrm>
              <a:prstGeom prst="rect">
                <a:avLst/>
              </a:prstGeom>
              <a:solidFill>
                <a:srgbClr val="317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96920" y="4206240"/>
                <a:ext cx="2450520" cy="4320"/>
              </a:xfrm>
              <a:prstGeom prst="rect">
                <a:avLst/>
              </a:prstGeom>
              <a:solidFill>
                <a:srgbClr val="32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996920" y="4210920"/>
                <a:ext cx="2450520" cy="4680"/>
              </a:xfrm>
              <a:prstGeom prst="rect">
                <a:avLst/>
              </a:prstGeom>
              <a:solidFill>
                <a:srgbClr val="34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996920" y="4215960"/>
                <a:ext cx="2450520" cy="4320"/>
              </a:xfrm>
              <a:prstGeom prst="rect">
                <a:avLst/>
              </a:prstGeom>
              <a:solidFill>
                <a:srgbClr val="367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996920" y="4220640"/>
                <a:ext cx="2450520" cy="4320"/>
              </a:xfrm>
              <a:prstGeom prst="rect">
                <a:avLst/>
              </a:prstGeom>
              <a:solidFill>
                <a:srgbClr val="37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996920" y="4225320"/>
                <a:ext cx="2450520" cy="4320"/>
              </a:xfrm>
              <a:prstGeom prst="rect">
                <a:avLst/>
              </a:prstGeom>
              <a:solidFill>
                <a:srgbClr val="39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996920" y="4230000"/>
                <a:ext cx="2450520" cy="2880"/>
              </a:xfrm>
              <a:prstGeom prst="rect">
                <a:avLst/>
              </a:prstGeom>
              <a:solidFill>
                <a:srgbClr val="3a8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96920" y="4233240"/>
                <a:ext cx="2450520" cy="6120"/>
              </a:xfrm>
              <a:prstGeom prst="rect">
                <a:avLst/>
              </a:prstGeom>
              <a:solidFill>
                <a:srgbClr val="3c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96920" y="4239720"/>
                <a:ext cx="2450520" cy="4320"/>
              </a:xfrm>
              <a:prstGeom prst="rect">
                <a:avLst/>
              </a:prstGeom>
              <a:solidFill>
                <a:srgbClr val="3e8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996920" y="4244400"/>
                <a:ext cx="2450520" cy="4320"/>
              </a:xfrm>
              <a:prstGeom prst="rect">
                <a:avLst/>
              </a:prstGeom>
              <a:solidFill>
                <a:srgbClr val="3f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996920" y="4249080"/>
                <a:ext cx="2450520" cy="4320"/>
              </a:xfrm>
              <a:prstGeom prst="rect">
                <a:avLst/>
              </a:prstGeom>
              <a:solidFill>
                <a:srgbClr val="418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996920" y="4253760"/>
                <a:ext cx="2450520" cy="6120"/>
              </a:xfrm>
              <a:prstGeom prst="rect">
                <a:avLst/>
              </a:prstGeom>
              <a:solidFill>
                <a:srgbClr val="428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996920" y="4260240"/>
                <a:ext cx="2450520" cy="7560"/>
              </a:xfrm>
              <a:prstGeom prst="rect">
                <a:avLst/>
              </a:prstGeom>
              <a:solidFill>
                <a:srgbClr val="448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996920" y="4268160"/>
                <a:ext cx="2450520" cy="7560"/>
              </a:xfrm>
              <a:prstGeom prst="rect">
                <a:avLst/>
              </a:prstGeom>
              <a:solidFill>
                <a:srgbClr val="458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96920" y="4276080"/>
                <a:ext cx="2450520" cy="7560"/>
              </a:xfrm>
              <a:prstGeom prst="rect">
                <a:avLst/>
              </a:prstGeom>
              <a:solidFill>
                <a:srgbClr val="478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996920" y="4284000"/>
                <a:ext cx="2450520" cy="10800"/>
              </a:xfrm>
              <a:prstGeom prst="rect">
                <a:avLst/>
              </a:prstGeom>
              <a:solidFill>
                <a:srgbClr val="488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996920" y="4295160"/>
                <a:ext cx="2450520" cy="9360"/>
              </a:xfrm>
              <a:prstGeom prst="rect">
                <a:avLst/>
              </a:prstGeom>
              <a:solidFill>
                <a:srgbClr val="4a9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96920" y="4304880"/>
                <a:ext cx="2450520" cy="24840"/>
              </a:xfrm>
              <a:prstGeom prst="rect">
                <a:avLst/>
              </a:prstGeom>
              <a:solidFill>
                <a:srgbClr val="4b9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96920" y="4330080"/>
                <a:ext cx="2450520" cy="12240"/>
              </a:xfrm>
              <a:prstGeom prst="rect">
                <a:avLst/>
              </a:prstGeom>
              <a:solidFill>
                <a:srgbClr val="4d9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1931760" y="4140000"/>
              <a:ext cx="22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Principios de venta y aten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996920" y="4703400"/>
              <a:ext cx="2450520" cy="237600"/>
              <a:chOff x="1996920" y="4703400"/>
              <a:chExt cx="2450520" cy="237600"/>
            </a:xfrm>
          </p:grpSpPr>
          <p:sp>
            <p:nvSpPr>
              <p:cNvPr id="806" name=""/>
              <p:cNvSpPr/>
              <p:nvPr/>
            </p:nvSpPr>
            <p:spPr>
              <a:xfrm>
                <a:off x="1996920" y="4703400"/>
                <a:ext cx="2450520" cy="612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996920" y="4709520"/>
                <a:ext cx="2450520" cy="1080"/>
              </a:xfrm>
              <a:prstGeom prst="rect">
                <a:avLst/>
              </a:prstGeom>
              <a:solidFill>
                <a:srgbClr val="08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996920" y="4709520"/>
                <a:ext cx="2450520" cy="1080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996920" y="4720680"/>
                <a:ext cx="2450520" cy="6120"/>
              </a:xfrm>
              <a:prstGeom prst="rect">
                <a:avLst/>
              </a:prstGeom>
              <a:solidFill>
                <a:srgbClr val="0e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96920" y="4727160"/>
                <a:ext cx="2450520" cy="5760"/>
              </a:xfrm>
              <a:prstGeom prst="rect">
                <a:avLst/>
              </a:prstGeom>
              <a:solidFill>
                <a:srgbClr val="11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996920" y="4733280"/>
                <a:ext cx="2450520" cy="1440"/>
              </a:xfrm>
              <a:prstGeom prst="rect">
                <a:avLst/>
              </a:prstGeom>
              <a:solidFill>
                <a:srgbClr val="13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996920" y="4735080"/>
                <a:ext cx="2450520" cy="4320"/>
              </a:xfrm>
              <a:prstGeom prst="rect">
                <a:avLst/>
              </a:prstGeom>
              <a:solidFill>
                <a:srgbClr val="15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96920" y="4739760"/>
                <a:ext cx="2450520" cy="4320"/>
              </a:xfrm>
              <a:prstGeom prst="rect">
                <a:avLst/>
              </a:prstGeom>
              <a:solidFill>
                <a:srgbClr val="17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96920" y="4744440"/>
                <a:ext cx="2450520" cy="6120"/>
              </a:xfrm>
              <a:prstGeom prst="rect">
                <a:avLst/>
              </a:prstGeom>
              <a:solidFill>
                <a:srgbClr val="19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96920" y="4750920"/>
                <a:ext cx="2450520" cy="1080"/>
              </a:xfrm>
              <a:prstGeom prst="rect">
                <a:avLst/>
              </a:prstGeom>
              <a:solidFill>
                <a:srgbClr val="1a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96920" y="4752360"/>
                <a:ext cx="2450520" cy="4320"/>
              </a:xfrm>
              <a:prstGeom prst="rect">
                <a:avLst/>
              </a:prstGeom>
              <a:solidFill>
                <a:srgbClr val="1c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6920" y="4757040"/>
                <a:ext cx="2450520" cy="2880"/>
              </a:xfrm>
              <a:prstGeom prst="rect">
                <a:avLst/>
              </a:prstGeom>
              <a:solidFill>
                <a:srgbClr val="1e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96920" y="4760280"/>
                <a:ext cx="2450520" cy="6120"/>
              </a:xfrm>
              <a:prstGeom prst="rect">
                <a:avLst/>
              </a:prstGeom>
              <a:solidFill>
                <a:srgbClr val="1f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96920" y="4766760"/>
                <a:ext cx="2450520" cy="1080"/>
              </a:xfrm>
              <a:prstGeom prst="rect">
                <a:avLst/>
              </a:prstGeom>
              <a:solidFill>
                <a:srgbClr val="216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996920" y="4768200"/>
                <a:ext cx="2450520" cy="6120"/>
              </a:xfrm>
              <a:prstGeom prst="rect">
                <a:avLst/>
              </a:prstGeom>
              <a:solidFill>
                <a:srgbClr val="23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6920" y="4774680"/>
                <a:ext cx="2450520" cy="2880"/>
              </a:xfrm>
              <a:prstGeom prst="rect">
                <a:avLst/>
              </a:prstGeom>
              <a:solidFill>
                <a:srgbClr val="257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996920" y="4777920"/>
                <a:ext cx="2450520" cy="4320"/>
              </a:xfrm>
              <a:prstGeom prst="rect">
                <a:avLst/>
              </a:prstGeom>
              <a:solidFill>
                <a:srgbClr val="27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96920" y="4782600"/>
                <a:ext cx="2450520" cy="4320"/>
              </a:xfrm>
              <a:prstGeom prst="rect">
                <a:avLst/>
              </a:prstGeom>
              <a:solidFill>
                <a:srgbClr val="297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996920" y="4787280"/>
                <a:ext cx="2450520" cy="4320"/>
              </a:xfrm>
              <a:prstGeom prst="rect">
                <a:avLst/>
              </a:prstGeom>
              <a:solidFill>
                <a:srgbClr val="2b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996920" y="4791960"/>
                <a:ext cx="2450520" cy="6120"/>
              </a:xfrm>
              <a:prstGeom prst="rect">
                <a:avLst/>
              </a:prstGeom>
              <a:solidFill>
                <a:srgbClr val="2d7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96920" y="4798440"/>
                <a:ext cx="2450520" cy="4320"/>
              </a:xfrm>
              <a:prstGeom prst="rect">
                <a:avLst/>
              </a:prstGeom>
              <a:solidFill>
                <a:srgbClr val="2f7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996920" y="4803120"/>
                <a:ext cx="2450520" cy="2880"/>
              </a:xfrm>
              <a:prstGeom prst="rect">
                <a:avLst/>
              </a:prstGeom>
              <a:solidFill>
                <a:srgbClr val="317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96920" y="4806360"/>
                <a:ext cx="2450520" cy="2880"/>
              </a:xfrm>
              <a:prstGeom prst="rect">
                <a:avLst/>
              </a:prstGeom>
              <a:solidFill>
                <a:srgbClr val="32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996920" y="4809600"/>
                <a:ext cx="2450520" cy="4320"/>
              </a:xfrm>
              <a:prstGeom prst="rect">
                <a:avLst/>
              </a:prstGeom>
              <a:solidFill>
                <a:srgbClr val="34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96920" y="4814280"/>
                <a:ext cx="2450520" cy="4320"/>
              </a:xfrm>
              <a:prstGeom prst="rect">
                <a:avLst/>
              </a:prstGeom>
              <a:solidFill>
                <a:srgbClr val="367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996920" y="4818960"/>
                <a:ext cx="2450520" cy="4680"/>
              </a:xfrm>
              <a:prstGeom prst="rect">
                <a:avLst/>
              </a:prstGeom>
              <a:solidFill>
                <a:srgbClr val="37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996920" y="4824000"/>
                <a:ext cx="2450520" cy="4320"/>
              </a:xfrm>
              <a:prstGeom prst="rect">
                <a:avLst/>
              </a:prstGeom>
              <a:solidFill>
                <a:srgbClr val="39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996920" y="4828680"/>
                <a:ext cx="2450520" cy="2880"/>
              </a:xfrm>
              <a:prstGeom prst="rect">
                <a:avLst/>
              </a:prstGeom>
              <a:solidFill>
                <a:srgbClr val="3a8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996920" y="4831920"/>
                <a:ext cx="2450520" cy="5760"/>
              </a:xfrm>
              <a:prstGeom prst="rect">
                <a:avLst/>
              </a:prstGeom>
              <a:solidFill>
                <a:srgbClr val="3c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996920" y="4838040"/>
                <a:ext cx="2450520" cy="4320"/>
              </a:xfrm>
              <a:prstGeom prst="rect">
                <a:avLst/>
              </a:prstGeom>
              <a:solidFill>
                <a:srgbClr val="3e8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996920" y="4842720"/>
                <a:ext cx="2450520" cy="6120"/>
              </a:xfrm>
              <a:prstGeom prst="rect">
                <a:avLst/>
              </a:prstGeom>
              <a:solidFill>
                <a:srgbClr val="3f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996920" y="4849200"/>
                <a:ext cx="2450520" cy="4320"/>
              </a:xfrm>
              <a:prstGeom prst="rect">
                <a:avLst/>
              </a:prstGeom>
              <a:solidFill>
                <a:srgbClr val="418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996920" y="4853880"/>
                <a:ext cx="2450520" cy="4680"/>
              </a:xfrm>
              <a:prstGeom prst="rect">
                <a:avLst/>
              </a:prstGeom>
              <a:solidFill>
                <a:srgbClr val="428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996920" y="4858920"/>
                <a:ext cx="2450520" cy="7560"/>
              </a:xfrm>
              <a:prstGeom prst="rect">
                <a:avLst/>
              </a:prstGeom>
              <a:solidFill>
                <a:srgbClr val="448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996920" y="4866840"/>
                <a:ext cx="2450520" cy="7560"/>
              </a:xfrm>
              <a:prstGeom prst="rect">
                <a:avLst/>
              </a:prstGeom>
              <a:solidFill>
                <a:srgbClr val="458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996920" y="4874760"/>
                <a:ext cx="2450520" cy="7560"/>
              </a:xfrm>
              <a:prstGeom prst="rect">
                <a:avLst/>
              </a:prstGeom>
              <a:solidFill>
                <a:srgbClr val="478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996920" y="4882680"/>
                <a:ext cx="2450520" cy="12240"/>
              </a:xfrm>
              <a:prstGeom prst="rect">
                <a:avLst/>
              </a:prstGeom>
              <a:solidFill>
                <a:srgbClr val="488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996920" y="4895280"/>
                <a:ext cx="2450520" cy="7560"/>
              </a:xfrm>
              <a:prstGeom prst="rect">
                <a:avLst/>
              </a:prstGeom>
              <a:solidFill>
                <a:srgbClr val="4a9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96920" y="4903200"/>
                <a:ext cx="2450520" cy="25200"/>
              </a:xfrm>
              <a:prstGeom prst="rect">
                <a:avLst/>
              </a:prstGeom>
              <a:solidFill>
                <a:srgbClr val="4b9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96920" y="4928760"/>
                <a:ext cx="2450520" cy="12240"/>
              </a:xfrm>
              <a:prstGeom prst="rect">
                <a:avLst/>
              </a:prstGeom>
              <a:solidFill>
                <a:srgbClr val="4d9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1973520" y="4740120"/>
              <a:ext cx="145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Insatisfacción de 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31440" y="4740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47280" y="47401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1329840" y="2336760"/>
              <a:ext cx="624600" cy="542520"/>
              <a:chOff x="1329840" y="2336760"/>
              <a:chExt cx="624600" cy="542520"/>
            </a:xfrm>
          </p:grpSpPr>
          <p:pic>
            <p:nvPicPr>
              <p:cNvPr id="850" name="" descr=""/>
              <p:cNvPicPr/>
              <p:nvPr/>
            </p:nvPicPr>
            <p:blipFill>
              <a:blip r:embed="rId156"/>
              <a:stretch/>
            </p:blipFill>
            <p:spPr>
              <a:xfrm>
                <a:off x="1333800" y="2339280"/>
                <a:ext cx="617400" cy="53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"/>
              <p:cNvSpPr/>
              <p:nvPr/>
            </p:nvSpPr>
            <p:spPr>
              <a:xfrm>
                <a:off x="1329840" y="2336760"/>
                <a:ext cx="624600" cy="542520"/>
              </a:xfrm>
              <a:prstGeom prst="rect">
                <a:avLst/>
              </a:prstGeom>
              <a:noFill/>
              <a:ln cap="rnd" w="7920">
                <a:solidFill>
                  <a:srgbClr val="ffc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329840" y="3228840"/>
              <a:ext cx="599040" cy="520200"/>
              <a:chOff x="1329840" y="3228840"/>
              <a:chExt cx="599040" cy="520200"/>
            </a:xfrm>
          </p:grpSpPr>
          <p:pic>
            <p:nvPicPr>
              <p:cNvPr id="853" name="" descr=""/>
              <p:cNvPicPr/>
              <p:nvPr/>
            </p:nvPicPr>
            <p:blipFill>
              <a:blip r:embed="rId157"/>
              <a:stretch/>
            </p:blipFill>
            <p:spPr>
              <a:xfrm>
                <a:off x="1333800" y="3233160"/>
                <a:ext cx="591840" cy="51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>
                <a:off x="1329840" y="3228840"/>
                <a:ext cx="599040" cy="520200"/>
              </a:xfrm>
              <a:prstGeom prst="rect">
                <a:avLst/>
              </a:prstGeom>
              <a:noFill/>
              <a:ln cap="rnd" w="7920">
                <a:solidFill>
                  <a:srgbClr val="ffc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329840" y="4100400"/>
              <a:ext cx="590400" cy="539280"/>
              <a:chOff x="1329840" y="4100400"/>
              <a:chExt cx="590400" cy="539280"/>
            </a:xfrm>
          </p:grpSpPr>
          <p:pic>
            <p:nvPicPr>
              <p:cNvPr id="856" name="" descr=""/>
              <p:cNvPicPr/>
              <p:nvPr/>
            </p:nvPicPr>
            <p:blipFill>
              <a:blip r:embed="rId158"/>
              <a:stretch/>
            </p:blipFill>
            <p:spPr>
              <a:xfrm>
                <a:off x="1333800" y="4104720"/>
                <a:ext cx="583200" cy="53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"/>
              <p:cNvSpPr/>
              <p:nvPr/>
            </p:nvSpPr>
            <p:spPr>
              <a:xfrm>
                <a:off x="1329840" y="4100400"/>
                <a:ext cx="590400" cy="539280"/>
              </a:xfrm>
              <a:prstGeom prst="rect">
                <a:avLst/>
              </a:prstGeom>
              <a:noFill/>
              <a:ln cap="rnd" w="7920">
                <a:solidFill>
                  <a:srgbClr val="ffc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329840" y="4700520"/>
              <a:ext cx="586080" cy="555120"/>
              <a:chOff x="1329840" y="4700520"/>
              <a:chExt cx="586080" cy="555120"/>
            </a:xfrm>
          </p:grpSpPr>
          <p:pic>
            <p:nvPicPr>
              <p:cNvPr id="859" name="" descr=""/>
              <p:cNvPicPr/>
              <p:nvPr/>
            </p:nvPicPr>
            <p:blipFill>
              <a:blip r:embed="rId159"/>
              <a:stretch/>
            </p:blipFill>
            <p:spPr>
              <a:xfrm>
                <a:off x="1333800" y="4703040"/>
                <a:ext cx="5788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"/>
              <p:cNvSpPr/>
              <p:nvPr/>
            </p:nvSpPr>
            <p:spPr>
              <a:xfrm>
                <a:off x="1329840" y="4700520"/>
                <a:ext cx="586080" cy="555120"/>
              </a:xfrm>
              <a:prstGeom prst="rect">
                <a:avLst/>
              </a:prstGeom>
              <a:noFill/>
              <a:ln cap="rnd" w="7920">
                <a:solidFill>
                  <a:srgbClr val="ffcf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5762520" y="5084640"/>
              <a:ext cx="1132920" cy="276840"/>
              <a:chOff x="5762520" y="5084640"/>
              <a:chExt cx="1132920" cy="276840"/>
            </a:xfrm>
          </p:grpSpPr>
          <p:sp>
            <p:nvSpPr>
              <p:cNvPr id="862" name=""/>
              <p:cNvSpPr/>
              <p:nvPr/>
            </p:nvSpPr>
            <p:spPr>
              <a:xfrm>
                <a:off x="5762520" y="5084640"/>
                <a:ext cx="1132920" cy="66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62520" y="5150880"/>
                <a:ext cx="1132920" cy="2520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62520" y="5176440"/>
                <a:ext cx="1132920" cy="2952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62520" y="5206320"/>
                <a:ext cx="1132920" cy="234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62520" y="5230080"/>
                <a:ext cx="1132920" cy="2196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62520" y="5252400"/>
                <a:ext cx="1132920" cy="3636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62520" y="5289120"/>
                <a:ext cx="1132920" cy="3600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62520" y="5325480"/>
                <a:ext cx="1132920" cy="3600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629600" y="5084640"/>
              <a:ext cx="1132920" cy="276840"/>
              <a:chOff x="4629600" y="5084640"/>
              <a:chExt cx="1132920" cy="276840"/>
            </a:xfrm>
          </p:grpSpPr>
          <p:sp>
            <p:nvSpPr>
              <p:cNvPr id="871" name=""/>
              <p:cNvSpPr/>
              <p:nvPr/>
            </p:nvSpPr>
            <p:spPr>
              <a:xfrm>
                <a:off x="4629600" y="5084640"/>
                <a:ext cx="1132920" cy="66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629600" y="5150880"/>
                <a:ext cx="1132920" cy="2520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629600" y="5176440"/>
                <a:ext cx="1132920" cy="2952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629600" y="5206320"/>
                <a:ext cx="1132920" cy="234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629600" y="5230080"/>
                <a:ext cx="1132920" cy="2196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629600" y="5252400"/>
                <a:ext cx="1132920" cy="3636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29600" y="5289120"/>
                <a:ext cx="1132920" cy="3600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629600" y="5325480"/>
                <a:ext cx="1132920" cy="3600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712760" y="51447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ej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54840" y="514476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l 1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5762520" y="4332240"/>
              <a:ext cx="1132920" cy="316440"/>
              <a:chOff x="5762520" y="4332240"/>
              <a:chExt cx="1132920" cy="316440"/>
            </a:xfrm>
          </p:grpSpPr>
          <p:sp>
            <p:nvSpPr>
              <p:cNvPr id="882" name=""/>
              <p:cNvSpPr/>
              <p:nvPr/>
            </p:nvSpPr>
            <p:spPr>
              <a:xfrm>
                <a:off x="5762520" y="4332240"/>
                <a:ext cx="1132920" cy="774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62520" y="4409640"/>
                <a:ext cx="1132920" cy="2808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62520" y="4438080"/>
                <a:ext cx="1132920" cy="345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62520" y="4473000"/>
                <a:ext cx="1132920" cy="252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62520" y="4498560"/>
                <a:ext cx="1132920" cy="2484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62520" y="452376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62520" y="4565160"/>
                <a:ext cx="1132920" cy="424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762520" y="4608000"/>
                <a:ext cx="1132920" cy="4068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629600" y="4332240"/>
              <a:ext cx="1132920" cy="316440"/>
              <a:chOff x="4629600" y="4332240"/>
              <a:chExt cx="1132920" cy="316440"/>
            </a:xfrm>
          </p:grpSpPr>
          <p:sp>
            <p:nvSpPr>
              <p:cNvPr id="891" name=""/>
              <p:cNvSpPr/>
              <p:nvPr/>
            </p:nvSpPr>
            <p:spPr>
              <a:xfrm>
                <a:off x="4629600" y="4332240"/>
                <a:ext cx="1132920" cy="774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629600" y="4409640"/>
                <a:ext cx="1132920" cy="2808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629600" y="4438080"/>
                <a:ext cx="1132920" cy="345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629600" y="4473000"/>
                <a:ext cx="1132920" cy="252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629600" y="4498560"/>
                <a:ext cx="1132920" cy="2484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629600" y="452376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29600" y="4565160"/>
                <a:ext cx="1132920" cy="424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29600" y="4608000"/>
                <a:ext cx="1132920" cy="4068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5074200" y="44114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762520" y="3574800"/>
              <a:ext cx="1132920" cy="434160"/>
              <a:chOff x="5762520" y="3574800"/>
              <a:chExt cx="1132920" cy="434160"/>
            </a:xfrm>
          </p:grpSpPr>
          <p:sp>
            <p:nvSpPr>
              <p:cNvPr id="901" name=""/>
              <p:cNvSpPr/>
              <p:nvPr/>
            </p:nvSpPr>
            <p:spPr>
              <a:xfrm>
                <a:off x="5762520" y="3574800"/>
                <a:ext cx="1132920" cy="1062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762520" y="3681000"/>
                <a:ext cx="1132920" cy="37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762520" y="3718800"/>
                <a:ext cx="1132920" cy="489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762520" y="3768120"/>
                <a:ext cx="1132920" cy="3456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62520" y="3803040"/>
                <a:ext cx="1132920" cy="3456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762520" y="3837960"/>
                <a:ext cx="1132920" cy="5688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762520" y="3895200"/>
                <a:ext cx="1132920" cy="568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762520" y="3952440"/>
                <a:ext cx="1132920" cy="5652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5829840" y="36032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ayor a 3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70000" y="36032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184440" y="38239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: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4629600" y="3574800"/>
              <a:ext cx="1132920" cy="434160"/>
              <a:chOff x="4629600" y="3574800"/>
              <a:chExt cx="1132920" cy="434160"/>
            </a:xfrm>
          </p:grpSpPr>
          <p:sp>
            <p:nvSpPr>
              <p:cNvPr id="913" name=""/>
              <p:cNvSpPr/>
              <p:nvPr/>
            </p:nvSpPr>
            <p:spPr>
              <a:xfrm>
                <a:off x="4629600" y="3574800"/>
                <a:ext cx="1132920" cy="1062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29600" y="3681000"/>
                <a:ext cx="1132920" cy="37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629600" y="3718800"/>
                <a:ext cx="1132920" cy="489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629600" y="3768120"/>
                <a:ext cx="1132920" cy="3456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629600" y="3803040"/>
                <a:ext cx="1132920" cy="3456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629600" y="3837960"/>
                <a:ext cx="1132920" cy="5688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629600" y="3895200"/>
                <a:ext cx="1132920" cy="568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629600" y="3952440"/>
                <a:ext cx="1132920" cy="5652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696560" y="362232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ayor a 5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37080" y="36223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09760" y="38052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:0,2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5762520" y="3261960"/>
              <a:ext cx="1132920" cy="312120"/>
              <a:chOff x="5762520" y="3261960"/>
              <a:chExt cx="1132920" cy="312120"/>
            </a:xfrm>
          </p:grpSpPr>
          <p:sp>
            <p:nvSpPr>
              <p:cNvPr id="925" name=""/>
              <p:cNvSpPr/>
              <p:nvPr/>
            </p:nvSpPr>
            <p:spPr>
              <a:xfrm>
                <a:off x="5762520" y="3261960"/>
                <a:ext cx="1132920" cy="7596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62520" y="3337920"/>
                <a:ext cx="1132920" cy="2808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62520" y="3366360"/>
                <a:ext cx="1132920" cy="3312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62520" y="3399840"/>
                <a:ext cx="1132920" cy="266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62520" y="3426840"/>
                <a:ext cx="1132920" cy="2340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62520" y="345060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62520" y="3492000"/>
                <a:ext cx="1132920" cy="406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62520" y="3533040"/>
                <a:ext cx="1132920" cy="4104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4629600" y="3261960"/>
              <a:ext cx="1132920" cy="312120"/>
              <a:chOff x="4629600" y="3261960"/>
              <a:chExt cx="1132920" cy="312120"/>
            </a:xfrm>
          </p:grpSpPr>
          <p:sp>
            <p:nvSpPr>
              <p:cNvPr id="934" name=""/>
              <p:cNvSpPr/>
              <p:nvPr/>
            </p:nvSpPr>
            <p:spPr>
              <a:xfrm>
                <a:off x="4629600" y="3261960"/>
                <a:ext cx="1132920" cy="7596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629600" y="3337920"/>
                <a:ext cx="1132920" cy="2808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629600" y="3366360"/>
                <a:ext cx="1132920" cy="3312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629600" y="3399840"/>
                <a:ext cx="1132920" cy="266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29600" y="3426840"/>
                <a:ext cx="1132920" cy="2340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29600" y="345060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629600" y="3492000"/>
                <a:ext cx="1132920" cy="406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629600" y="3533040"/>
                <a:ext cx="1132920" cy="4104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4901400" y="33382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&lt;= 1,2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5762520" y="2597040"/>
              <a:ext cx="1132920" cy="313560"/>
              <a:chOff x="5762520" y="2597040"/>
              <a:chExt cx="1132920" cy="313560"/>
            </a:xfrm>
          </p:grpSpPr>
          <p:sp>
            <p:nvSpPr>
              <p:cNvPr id="944" name=""/>
              <p:cNvSpPr/>
              <p:nvPr/>
            </p:nvSpPr>
            <p:spPr>
              <a:xfrm>
                <a:off x="5762520" y="2597040"/>
                <a:ext cx="1132920" cy="756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762520" y="2672640"/>
                <a:ext cx="1132920" cy="28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62520" y="2701440"/>
                <a:ext cx="1132920" cy="345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62520" y="2736360"/>
                <a:ext cx="1132920" cy="248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62520" y="2761560"/>
                <a:ext cx="1132920" cy="2520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62520" y="278712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62520" y="2828520"/>
                <a:ext cx="1132920" cy="406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62520" y="2869560"/>
                <a:ext cx="1132920" cy="4104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6284520" y="26748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4629600" y="2597040"/>
              <a:ext cx="1132920" cy="313560"/>
              <a:chOff x="4629600" y="2597040"/>
              <a:chExt cx="1132920" cy="313560"/>
            </a:xfrm>
          </p:grpSpPr>
          <p:sp>
            <p:nvSpPr>
              <p:cNvPr id="954" name=""/>
              <p:cNvSpPr/>
              <p:nvPr/>
            </p:nvSpPr>
            <p:spPr>
              <a:xfrm>
                <a:off x="4629600" y="2597040"/>
                <a:ext cx="1132920" cy="7560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9600" y="2672640"/>
                <a:ext cx="1132920" cy="28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29600" y="2701440"/>
                <a:ext cx="1132920" cy="34560"/>
              </a:xfrm>
              <a:prstGeom prst="rect">
                <a:avLst/>
              </a:prstGeom>
              <a:solidFill>
                <a:srgbClr val="e4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629600" y="2736360"/>
                <a:ext cx="1132920" cy="248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629600" y="2761560"/>
                <a:ext cx="1132920" cy="25200"/>
              </a:xfrm>
              <a:prstGeom prst="rect">
                <a:avLst/>
              </a:prstGeom>
              <a:solidFill>
                <a:srgbClr val="e7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629600" y="2787120"/>
                <a:ext cx="1132920" cy="4104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629600" y="2828520"/>
                <a:ext cx="1132920" cy="40680"/>
              </a:xfrm>
              <a:prstGeom prst="rect">
                <a:avLst/>
              </a:prstGeom>
              <a:solidFill>
                <a:srgbClr val="ea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29600" y="2869560"/>
                <a:ext cx="1132920" cy="41040"/>
              </a:xfrm>
              <a:prstGeom prst="rect">
                <a:avLst/>
              </a:prstGeom>
              <a:solidFill>
                <a:srgbClr val="e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5074200" y="2674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762520" y="2346120"/>
              <a:ext cx="1132920" cy="250200"/>
              <a:chOff x="5762520" y="2346120"/>
              <a:chExt cx="1132920" cy="250200"/>
            </a:xfrm>
          </p:grpSpPr>
          <p:sp>
            <p:nvSpPr>
              <p:cNvPr id="964" name=""/>
              <p:cNvSpPr/>
              <p:nvPr/>
            </p:nvSpPr>
            <p:spPr>
              <a:xfrm>
                <a:off x="5762520" y="2346120"/>
                <a:ext cx="1132920" cy="288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62520" y="2349000"/>
                <a:ext cx="1132920" cy="1080"/>
              </a:xfrm>
              <a:prstGeom prst="rect">
                <a:avLst/>
              </a:prstGeom>
              <a:solidFill>
                <a:srgbClr val="05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62520" y="2349000"/>
                <a:ext cx="1132920" cy="576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62520" y="2355120"/>
                <a:ext cx="1132920" cy="1440"/>
              </a:xfrm>
              <a:prstGeom prst="rect">
                <a:avLst/>
              </a:prstGeom>
              <a:solidFill>
                <a:srgbClr val="0d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62520" y="2355120"/>
                <a:ext cx="1132920" cy="6120"/>
              </a:xfrm>
              <a:prstGeom prst="rect">
                <a:avLst/>
              </a:prstGeom>
              <a:solidFill>
                <a:srgbClr val="0f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62520" y="2361600"/>
                <a:ext cx="1132920" cy="4320"/>
              </a:xfrm>
              <a:prstGeom prst="rect">
                <a:avLst/>
              </a:prstGeom>
              <a:solidFill>
                <a:srgbClr val="126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62520" y="2366280"/>
                <a:ext cx="1132920" cy="2880"/>
              </a:xfrm>
              <a:prstGeom prst="rect">
                <a:avLst/>
              </a:prstGeom>
              <a:solidFill>
                <a:srgbClr val="14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62520" y="2369520"/>
                <a:ext cx="1132920" cy="4320"/>
              </a:xfrm>
              <a:prstGeom prst="rect">
                <a:avLst/>
              </a:prstGeom>
              <a:solidFill>
                <a:srgbClr val="16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2520" y="2374200"/>
                <a:ext cx="1132920" cy="2880"/>
              </a:xfrm>
              <a:prstGeom prst="rect">
                <a:avLst/>
              </a:prstGeom>
              <a:solidFill>
                <a:srgbClr val="18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762520" y="2377440"/>
                <a:ext cx="1132920" cy="4320"/>
              </a:xfrm>
              <a:prstGeom prst="rect">
                <a:avLst/>
              </a:prstGeom>
              <a:solidFill>
                <a:srgbClr val="1a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62520" y="2382120"/>
                <a:ext cx="1132920" cy="1440"/>
              </a:xfrm>
              <a:prstGeom prst="rect">
                <a:avLst/>
              </a:prstGeom>
              <a:solidFill>
                <a:srgbClr val="1c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62520" y="2383920"/>
                <a:ext cx="1132920" cy="5760"/>
              </a:xfrm>
              <a:prstGeom prst="rect">
                <a:avLst/>
              </a:prstGeom>
              <a:solidFill>
                <a:srgbClr val="1e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62520" y="2390040"/>
                <a:ext cx="1132920" cy="1440"/>
              </a:xfrm>
              <a:prstGeom prst="rect">
                <a:avLst/>
              </a:prstGeom>
              <a:solidFill>
                <a:srgbClr val="20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62520" y="2391840"/>
                <a:ext cx="1132920" cy="4320"/>
              </a:xfrm>
              <a:prstGeom prst="rect">
                <a:avLst/>
              </a:prstGeom>
              <a:solidFill>
                <a:srgbClr val="226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62520" y="2396520"/>
                <a:ext cx="1132920" cy="4320"/>
              </a:xfrm>
              <a:prstGeom prst="rect">
                <a:avLst/>
              </a:prstGeom>
              <a:solidFill>
                <a:srgbClr val="24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62520" y="2401200"/>
                <a:ext cx="1132920" cy="2880"/>
              </a:xfrm>
              <a:prstGeom prst="rect">
                <a:avLst/>
              </a:prstGeom>
              <a:solidFill>
                <a:srgbClr val="26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62520" y="2404440"/>
                <a:ext cx="1132920" cy="2880"/>
              </a:xfrm>
              <a:prstGeom prst="rect">
                <a:avLst/>
              </a:prstGeom>
              <a:solidFill>
                <a:srgbClr val="28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62520" y="2407680"/>
                <a:ext cx="1132920" cy="2880"/>
              </a:xfrm>
              <a:prstGeom prst="rect">
                <a:avLst/>
              </a:prstGeom>
              <a:solidFill>
                <a:srgbClr val="2a7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762520" y="2410920"/>
                <a:ext cx="1132920" cy="4320"/>
              </a:xfrm>
              <a:prstGeom prst="rect">
                <a:avLst/>
              </a:prstGeom>
              <a:solidFill>
                <a:srgbClr val="2c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62520" y="2415600"/>
                <a:ext cx="1132920" cy="1080"/>
              </a:xfrm>
              <a:prstGeom prst="rect">
                <a:avLst/>
              </a:prstGeom>
              <a:solidFill>
                <a:srgbClr val="2d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62520" y="2417040"/>
                <a:ext cx="1132920" cy="2880"/>
              </a:xfrm>
              <a:prstGeom prst="rect">
                <a:avLst/>
              </a:prstGeom>
              <a:solidFill>
                <a:srgbClr val="2f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762520" y="2420280"/>
                <a:ext cx="1132920" cy="4320"/>
              </a:xfrm>
              <a:prstGeom prst="rect">
                <a:avLst/>
              </a:prstGeom>
              <a:solidFill>
                <a:srgbClr val="317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762520" y="2424960"/>
                <a:ext cx="1132920" cy="1440"/>
              </a:xfrm>
              <a:prstGeom prst="rect">
                <a:avLst/>
              </a:prstGeom>
              <a:solidFill>
                <a:srgbClr val="327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62520" y="2426760"/>
                <a:ext cx="1132920" cy="2880"/>
              </a:xfrm>
              <a:prstGeom prst="rect">
                <a:avLst/>
              </a:prstGeom>
              <a:solidFill>
                <a:srgbClr val="347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762520" y="2430000"/>
                <a:ext cx="1132920" cy="2880"/>
              </a:xfrm>
              <a:prstGeom prst="rect">
                <a:avLst/>
              </a:prstGeom>
              <a:solidFill>
                <a:srgbClr val="367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762520" y="2433240"/>
                <a:ext cx="1132920" cy="2520"/>
              </a:xfrm>
              <a:prstGeom prst="rect">
                <a:avLst/>
              </a:prstGeom>
              <a:solidFill>
                <a:srgbClr val="377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62520" y="2436120"/>
                <a:ext cx="1132920" cy="2880"/>
              </a:xfrm>
              <a:prstGeom prst="rect">
                <a:avLst/>
              </a:prstGeom>
              <a:solidFill>
                <a:srgbClr val="39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62520" y="2439360"/>
                <a:ext cx="1132920" cy="2880"/>
              </a:xfrm>
              <a:prstGeom prst="rect">
                <a:avLst/>
              </a:prstGeom>
              <a:solidFill>
                <a:srgbClr val="3b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762520" y="2442600"/>
                <a:ext cx="1132920" cy="2880"/>
              </a:xfrm>
              <a:prstGeom prst="rect">
                <a:avLst/>
              </a:prstGeom>
              <a:solidFill>
                <a:srgbClr val="3c7e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762520" y="2445840"/>
                <a:ext cx="1132920" cy="4320"/>
              </a:xfrm>
              <a:prstGeom prst="rect">
                <a:avLst/>
              </a:prstGeom>
              <a:solidFill>
                <a:srgbClr val="3e7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762520" y="2450520"/>
                <a:ext cx="1132920" cy="2880"/>
              </a:xfrm>
              <a:prstGeom prst="rect">
                <a:avLst/>
              </a:prstGeom>
              <a:solidFill>
                <a:srgbClr val="40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62520" y="2453760"/>
                <a:ext cx="1132920" cy="1080"/>
              </a:xfrm>
              <a:prstGeom prst="rect">
                <a:avLst/>
              </a:prstGeom>
              <a:solidFill>
                <a:srgbClr val="418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2520" y="2455200"/>
                <a:ext cx="1132920" cy="4320"/>
              </a:xfrm>
              <a:prstGeom prst="rect">
                <a:avLst/>
              </a:prstGeom>
              <a:solidFill>
                <a:srgbClr val="43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762520" y="2459880"/>
                <a:ext cx="1132920" cy="2880"/>
              </a:xfrm>
              <a:prstGeom prst="rect">
                <a:avLst/>
              </a:prstGeom>
              <a:solidFill>
                <a:srgbClr val="458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762520" y="2463120"/>
                <a:ext cx="1132920" cy="4680"/>
              </a:xfrm>
              <a:prstGeom prst="rect">
                <a:avLst/>
              </a:prstGeom>
              <a:solidFill>
                <a:srgbClr val="47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762520" y="2468160"/>
                <a:ext cx="1132920" cy="5760"/>
              </a:xfrm>
              <a:prstGeom prst="rect">
                <a:avLst/>
              </a:prstGeom>
              <a:solidFill>
                <a:srgbClr val="498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62520" y="2474280"/>
                <a:ext cx="1132920" cy="2880"/>
              </a:xfrm>
              <a:prstGeom prst="rect">
                <a:avLst/>
              </a:prstGeom>
              <a:solidFill>
                <a:srgbClr val="4b8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762520" y="2477520"/>
                <a:ext cx="1132920" cy="2880"/>
              </a:xfrm>
              <a:prstGeom prst="rect">
                <a:avLst/>
              </a:prstGeom>
              <a:solidFill>
                <a:srgbClr val="4d8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62520" y="2480760"/>
                <a:ext cx="1132920" cy="2880"/>
              </a:xfrm>
              <a:prstGeom prst="rect">
                <a:avLst/>
              </a:prstGeom>
              <a:solidFill>
                <a:srgbClr val="4e8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62520" y="2484000"/>
                <a:ext cx="1132920" cy="4320"/>
              </a:xfrm>
              <a:prstGeom prst="rect">
                <a:avLst/>
              </a:prstGeom>
              <a:solidFill>
                <a:srgbClr val="508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2520" y="2488680"/>
                <a:ext cx="1132920" cy="4320"/>
              </a:xfrm>
              <a:prstGeom prst="rect">
                <a:avLst/>
              </a:prstGeom>
              <a:solidFill>
                <a:srgbClr val="519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762520" y="2493360"/>
                <a:ext cx="1132920" cy="4320"/>
              </a:xfrm>
              <a:prstGeom prst="rect">
                <a:avLst/>
              </a:prstGeom>
              <a:solidFill>
                <a:srgbClr val="539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762520" y="2498040"/>
                <a:ext cx="1132920" cy="2880"/>
              </a:xfrm>
              <a:prstGeom prst="rect">
                <a:avLst/>
              </a:prstGeom>
              <a:solidFill>
                <a:srgbClr val="549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762520" y="2501280"/>
                <a:ext cx="1132920" cy="6120"/>
              </a:xfrm>
              <a:prstGeom prst="rect">
                <a:avLst/>
              </a:prstGeom>
              <a:solidFill>
                <a:srgbClr val="5694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762520" y="2507760"/>
                <a:ext cx="1132920" cy="7560"/>
              </a:xfrm>
              <a:prstGeom prst="rect">
                <a:avLst/>
              </a:prstGeom>
              <a:solidFill>
                <a:srgbClr val="589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762520" y="2515680"/>
                <a:ext cx="1132920" cy="5760"/>
              </a:xfrm>
              <a:prstGeom prst="rect">
                <a:avLst/>
              </a:prstGeom>
              <a:solidFill>
                <a:srgbClr val="5a98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762520" y="2521800"/>
                <a:ext cx="1132920" cy="7920"/>
              </a:xfrm>
              <a:prstGeom prst="rect">
                <a:avLst/>
              </a:prstGeom>
              <a:solidFill>
                <a:srgbClr val="5c9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762520" y="2530080"/>
                <a:ext cx="1132920" cy="5760"/>
              </a:xfrm>
              <a:prstGeom prst="rect">
                <a:avLst/>
              </a:prstGeom>
              <a:solidFill>
                <a:srgbClr val="5e9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2520" y="2536200"/>
                <a:ext cx="1132920" cy="9360"/>
              </a:xfrm>
              <a:prstGeom prst="rect">
                <a:avLst/>
              </a:prstGeom>
              <a:solidFill>
                <a:srgbClr val="5f9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762520" y="2545920"/>
                <a:ext cx="1132920" cy="9000"/>
              </a:xfrm>
              <a:prstGeom prst="rect">
                <a:avLst/>
              </a:prstGeom>
              <a:solidFill>
                <a:srgbClr val="619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62520" y="2555280"/>
                <a:ext cx="1132920" cy="17280"/>
              </a:xfrm>
              <a:prstGeom prst="rect">
                <a:avLst/>
              </a:prstGeom>
              <a:solidFill>
                <a:srgbClr val="62a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762520" y="2572920"/>
                <a:ext cx="1132920" cy="10440"/>
              </a:xfrm>
              <a:prstGeom prst="rect">
                <a:avLst/>
              </a:prstGeom>
              <a:solidFill>
                <a:srgbClr val="63a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62520" y="2583720"/>
                <a:ext cx="1132920" cy="12600"/>
              </a:xfrm>
              <a:prstGeom prst="rect">
                <a:avLst/>
              </a:prstGeom>
              <a:solidFill>
                <a:srgbClr val="65a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4629600" y="2346120"/>
              <a:ext cx="1132920" cy="250200"/>
              <a:chOff x="4629600" y="2346120"/>
              <a:chExt cx="1132920" cy="250200"/>
            </a:xfrm>
          </p:grpSpPr>
          <p:sp>
            <p:nvSpPr>
              <p:cNvPr id="1018" name=""/>
              <p:cNvSpPr/>
              <p:nvPr/>
            </p:nvSpPr>
            <p:spPr>
              <a:xfrm>
                <a:off x="4629600" y="2346120"/>
                <a:ext cx="1132920" cy="288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9600" y="2349000"/>
                <a:ext cx="1132920" cy="1080"/>
              </a:xfrm>
              <a:prstGeom prst="rect">
                <a:avLst/>
              </a:prstGeom>
              <a:solidFill>
                <a:srgbClr val="05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629600" y="2349000"/>
                <a:ext cx="1132920" cy="5760"/>
              </a:xfrm>
              <a:prstGeom prst="rect">
                <a:avLst/>
              </a:prstGeom>
              <a:solidFill>
                <a:srgbClr val="0b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629600" y="2355120"/>
                <a:ext cx="1132920" cy="1440"/>
              </a:xfrm>
              <a:prstGeom prst="rect">
                <a:avLst/>
              </a:prstGeom>
              <a:solidFill>
                <a:srgbClr val="0d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29600" y="2355120"/>
                <a:ext cx="1132920" cy="6120"/>
              </a:xfrm>
              <a:prstGeom prst="rect">
                <a:avLst/>
              </a:prstGeom>
              <a:solidFill>
                <a:srgbClr val="0f67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29600" y="2361600"/>
                <a:ext cx="1132920" cy="4320"/>
              </a:xfrm>
              <a:prstGeom prst="rect">
                <a:avLst/>
              </a:prstGeom>
              <a:solidFill>
                <a:srgbClr val="126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629600" y="2366280"/>
                <a:ext cx="1132920" cy="2880"/>
              </a:xfrm>
              <a:prstGeom prst="rect">
                <a:avLst/>
              </a:prstGeom>
              <a:solidFill>
                <a:srgbClr val="1468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29600" y="2369520"/>
                <a:ext cx="1132920" cy="4320"/>
              </a:xfrm>
              <a:prstGeom prst="rect">
                <a:avLst/>
              </a:prstGeom>
              <a:solidFill>
                <a:srgbClr val="166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29600" y="2374200"/>
                <a:ext cx="1132920" cy="2880"/>
              </a:xfrm>
              <a:prstGeom prst="rect">
                <a:avLst/>
              </a:prstGeom>
              <a:solidFill>
                <a:srgbClr val="18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29600" y="2377440"/>
                <a:ext cx="1132920" cy="4320"/>
              </a:xfrm>
              <a:prstGeom prst="rect">
                <a:avLst/>
              </a:prstGeom>
              <a:solidFill>
                <a:srgbClr val="1a6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629600" y="2382120"/>
                <a:ext cx="1132920" cy="1440"/>
              </a:xfrm>
              <a:prstGeom prst="rect">
                <a:avLst/>
              </a:prstGeom>
              <a:solidFill>
                <a:srgbClr val="1c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629600" y="2383920"/>
                <a:ext cx="1132920" cy="5760"/>
              </a:xfrm>
              <a:prstGeom prst="rect">
                <a:avLst/>
              </a:prstGeom>
              <a:solidFill>
                <a:srgbClr val="1e6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629600" y="2390040"/>
                <a:ext cx="1132920" cy="1440"/>
              </a:xfrm>
              <a:prstGeom prst="rect">
                <a:avLst/>
              </a:prstGeom>
              <a:solidFill>
                <a:srgbClr val="206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629600" y="2391840"/>
                <a:ext cx="1132920" cy="4320"/>
              </a:xfrm>
              <a:prstGeom prst="rect">
                <a:avLst/>
              </a:prstGeom>
              <a:solidFill>
                <a:srgbClr val="226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629600" y="2396520"/>
                <a:ext cx="1132920" cy="4320"/>
              </a:xfrm>
              <a:prstGeom prst="rect">
                <a:avLst/>
              </a:prstGeom>
              <a:solidFill>
                <a:srgbClr val="246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629600" y="2401200"/>
                <a:ext cx="1132920" cy="2880"/>
              </a:xfrm>
              <a:prstGeom prst="rect">
                <a:avLst/>
              </a:prstGeom>
              <a:solidFill>
                <a:srgbClr val="26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629600" y="2404440"/>
                <a:ext cx="1132920" cy="2880"/>
              </a:xfrm>
              <a:prstGeom prst="rect">
                <a:avLst/>
              </a:prstGeom>
              <a:solidFill>
                <a:srgbClr val="287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629600" y="2407680"/>
                <a:ext cx="1132920" cy="2880"/>
              </a:xfrm>
              <a:prstGeom prst="rect">
                <a:avLst/>
              </a:prstGeom>
              <a:solidFill>
                <a:srgbClr val="2a7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629600" y="2410920"/>
                <a:ext cx="1132920" cy="4320"/>
              </a:xfrm>
              <a:prstGeom prst="rect">
                <a:avLst/>
              </a:prstGeom>
              <a:solidFill>
                <a:srgbClr val="2c7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629600" y="2415600"/>
                <a:ext cx="1132920" cy="1080"/>
              </a:xfrm>
              <a:prstGeom prst="rect">
                <a:avLst/>
              </a:prstGeom>
              <a:solidFill>
                <a:srgbClr val="2d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629600" y="2417040"/>
                <a:ext cx="1132920" cy="2880"/>
              </a:xfrm>
              <a:prstGeom prst="rect">
                <a:avLst/>
              </a:prstGeom>
              <a:solidFill>
                <a:srgbClr val="2f7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29600" y="2420280"/>
                <a:ext cx="1132920" cy="4320"/>
              </a:xfrm>
              <a:prstGeom prst="rect">
                <a:avLst/>
              </a:prstGeom>
              <a:solidFill>
                <a:srgbClr val="317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29600" y="2424960"/>
                <a:ext cx="1132920" cy="1440"/>
              </a:xfrm>
              <a:prstGeom prst="rect">
                <a:avLst/>
              </a:prstGeom>
              <a:solidFill>
                <a:srgbClr val="327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629600" y="2426760"/>
                <a:ext cx="1132920" cy="2880"/>
              </a:xfrm>
              <a:prstGeom prst="rect">
                <a:avLst/>
              </a:prstGeom>
              <a:solidFill>
                <a:srgbClr val="347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29600" y="2430000"/>
                <a:ext cx="1132920" cy="2880"/>
              </a:xfrm>
              <a:prstGeom prst="rect">
                <a:avLst/>
              </a:prstGeom>
              <a:solidFill>
                <a:srgbClr val="3678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29600" y="2433240"/>
                <a:ext cx="1132920" cy="2520"/>
              </a:xfrm>
              <a:prstGeom prst="rect">
                <a:avLst/>
              </a:prstGeom>
              <a:solidFill>
                <a:srgbClr val="377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629600" y="2436120"/>
                <a:ext cx="1132920" cy="2880"/>
              </a:xfrm>
              <a:prstGeom prst="rect">
                <a:avLst/>
              </a:prstGeom>
              <a:solidFill>
                <a:srgbClr val="397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29600" y="2439360"/>
                <a:ext cx="1132920" cy="2880"/>
              </a:xfrm>
              <a:prstGeom prst="rect">
                <a:avLst/>
              </a:prstGeom>
              <a:solidFill>
                <a:srgbClr val="3b7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29600" y="2442600"/>
                <a:ext cx="1132920" cy="2880"/>
              </a:xfrm>
              <a:prstGeom prst="rect">
                <a:avLst/>
              </a:prstGeom>
              <a:solidFill>
                <a:srgbClr val="3c7e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29600" y="2445840"/>
                <a:ext cx="1132920" cy="4320"/>
              </a:xfrm>
              <a:prstGeom prst="rect">
                <a:avLst/>
              </a:prstGeom>
              <a:solidFill>
                <a:srgbClr val="3e7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29600" y="2450520"/>
                <a:ext cx="1132920" cy="2880"/>
              </a:xfrm>
              <a:prstGeom prst="rect">
                <a:avLst/>
              </a:prstGeom>
              <a:solidFill>
                <a:srgbClr val="408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629600" y="2453760"/>
                <a:ext cx="1132920" cy="1080"/>
              </a:xfrm>
              <a:prstGeom prst="rect">
                <a:avLst/>
              </a:prstGeom>
              <a:solidFill>
                <a:srgbClr val="418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629600" y="2455200"/>
                <a:ext cx="1132920" cy="4320"/>
              </a:xfrm>
              <a:prstGeom prst="rect">
                <a:avLst/>
              </a:prstGeom>
              <a:solidFill>
                <a:srgbClr val="438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629600" y="2459880"/>
                <a:ext cx="1132920" cy="2880"/>
              </a:xfrm>
              <a:prstGeom prst="rect">
                <a:avLst/>
              </a:prstGeom>
              <a:solidFill>
                <a:srgbClr val="458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29600" y="2463120"/>
                <a:ext cx="1132920" cy="4680"/>
              </a:xfrm>
              <a:prstGeom prst="rect">
                <a:avLst/>
              </a:prstGeom>
              <a:solidFill>
                <a:srgbClr val="478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29600" y="2468160"/>
                <a:ext cx="1132920" cy="5760"/>
              </a:xfrm>
              <a:prstGeom prst="rect">
                <a:avLst/>
              </a:prstGeom>
              <a:solidFill>
                <a:srgbClr val="498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29600" y="2474280"/>
                <a:ext cx="1132920" cy="2880"/>
              </a:xfrm>
              <a:prstGeom prst="rect">
                <a:avLst/>
              </a:prstGeom>
              <a:solidFill>
                <a:srgbClr val="4b8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29600" y="2477520"/>
                <a:ext cx="1132920" cy="2880"/>
              </a:xfrm>
              <a:prstGeom prst="rect">
                <a:avLst/>
              </a:prstGeom>
              <a:solidFill>
                <a:srgbClr val="4d8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629600" y="2480760"/>
                <a:ext cx="1132920" cy="2880"/>
              </a:xfrm>
              <a:prstGeom prst="rect">
                <a:avLst/>
              </a:prstGeom>
              <a:solidFill>
                <a:srgbClr val="4e8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29600" y="2484000"/>
                <a:ext cx="1132920" cy="4320"/>
              </a:xfrm>
              <a:prstGeom prst="rect">
                <a:avLst/>
              </a:prstGeom>
              <a:solidFill>
                <a:srgbClr val="508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629600" y="2488680"/>
                <a:ext cx="1132920" cy="4320"/>
              </a:xfrm>
              <a:prstGeom prst="rect">
                <a:avLst/>
              </a:prstGeom>
              <a:solidFill>
                <a:srgbClr val="519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29600" y="2493360"/>
                <a:ext cx="1132920" cy="4320"/>
              </a:xfrm>
              <a:prstGeom prst="rect">
                <a:avLst/>
              </a:prstGeom>
              <a:solidFill>
                <a:srgbClr val="539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29600" y="2498040"/>
                <a:ext cx="1132920" cy="2880"/>
              </a:xfrm>
              <a:prstGeom prst="rect">
                <a:avLst/>
              </a:prstGeom>
              <a:solidFill>
                <a:srgbClr val="549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29600" y="2501280"/>
                <a:ext cx="1132920" cy="6120"/>
              </a:xfrm>
              <a:prstGeom prst="rect">
                <a:avLst/>
              </a:prstGeom>
              <a:solidFill>
                <a:srgbClr val="5694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629600" y="2507760"/>
                <a:ext cx="1132920" cy="7560"/>
              </a:xfrm>
              <a:prstGeom prst="rect">
                <a:avLst/>
              </a:prstGeom>
              <a:solidFill>
                <a:srgbClr val="589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29600" y="2515680"/>
                <a:ext cx="1132920" cy="5760"/>
              </a:xfrm>
              <a:prstGeom prst="rect">
                <a:avLst/>
              </a:prstGeom>
              <a:solidFill>
                <a:srgbClr val="5a98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29600" y="2521800"/>
                <a:ext cx="1132920" cy="7920"/>
              </a:xfrm>
              <a:prstGeom prst="rect">
                <a:avLst/>
              </a:prstGeom>
              <a:solidFill>
                <a:srgbClr val="5c9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629600" y="2530080"/>
                <a:ext cx="1132920" cy="5760"/>
              </a:xfrm>
              <a:prstGeom prst="rect">
                <a:avLst/>
              </a:prstGeom>
              <a:solidFill>
                <a:srgbClr val="5e9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629600" y="2536200"/>
                <a:ext cx="1132920" cy="9360"/>
              </a:xfrm>
              <a:prstGeom prst="rect">
                <a:avLst/>
              </a:prstGeom>
              <a:solidFill>
                <a:srgbClr val="5f9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629600" y="2545920"/>
                <a:ext cx="1132920" cy="9000"/>
              </a:xfrm>
              <a:prstGeom prst="rect">
                <a:avLst/>
              </a:prstGeom>
              <a:solidFill>
                <a:srgbClr val="619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629600" y="2555280"/>
                <a:ext cx="1132920" cy="17280"/>
              </a:xfrm>
              <a:prstGeom prst="rect">
                <a:avLst/>
              </a:prstGeom>
              <a:solidFill>
                <a:srgbClr val="62a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29600" y="2572920"/>
                <a:ext cx="1132920" cy="10440"/>
              </a:xfrm>
              <a:prstGeom prst="rect">
                <a:avLst/>
              </a:prstGeom>
              <a:solidFill>
                <a:srgbClr val="63a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29600" y="2583720"/>
                <a:ext cx="1132920" cy="12600"/>
              </a:xfrm>
              <a:prstGeom prst="rect">
                <a:avLst/>
              </a:prstGeom>
              <a:solidFill>
                <a:srgbClr val="65a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5013720" y="238896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Me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29600" y="234612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29600" y="259704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29600" y="291132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29600" y="3246120"/>
              <a:ext cx="22662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29600" y="355896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29600" y="3993840"/>
              <a:ext cx="22662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29600" y="433224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9600" y="4649400"/>
              <a:ext cx="22662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29600" y="5084640"/>
              <a:ext cx="2266200" cy="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29600" y="5362200"/>
              <a:ext cx="226620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5755320" y="2346120"/>
              <a:ext cx="6840" cy="5569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62520" y="3246120"/>
              <a:ext cx="1080" cy="747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62520" y="4332240"/>
              <a:ext cx="1080" cy="316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62520" y="5089320"/>
              <a:ext cx="1080" cy="27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29600" y="5089320"/>
              <a:ext cx="1080" cy="27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895800" y="5089320"/>
              <a:ext cx="1080" cy="271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95800" y="4332240"/>
              <a:ext cx="1080" cy="316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29600" y="4332240"/>
              <a:ext cx="1080" cy="316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29600" y="3246120"/>
              <a:ext cx="1080" cy="747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895800" y="3246120"/>
              <a:ext cx="1080" cy="747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5640" y="354780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05280" y="354780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% cumplimiento Códig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86560" y="369396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enas Prácticas Banca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98360" y="2869920"/>
              <a:ext cx="2629440" cy="4320"/>
            </a:xfrm>
            <a:custGeom>
              <a:avLst/>
              <a:gdLst/>
              <a:ahLst/>
              <a:rect l="l" t="t" r="r" b="b"/>
              <a:pathLst>
                <a:path w="20825" h="33">
                  <a:moveTo>
                    <a:pt x="20808" y="33"/>
                  </a:moveTo>
                  <a:lnTo>
                    <a:pt x="20708" y="33"/>
                  </a:lnTo>
                  <a:cubicBezTo>
                    <a:pt x="20699" y="33"/>
                    <a:pt x="20691" y="26"/>
                    <a:pt x="20691" y="17"/>
                  </a:cubicBezTo>
                  <a:cubicBezTo>
                    <a:pt x="20691" y="8"/>
                    <a:pt x="20699" y="0"/>
                    <a:pt x="20708" y="0"/>
                  </a:cubicBezTo>
                  <a:lnTo>
                    <a:pt x="20808" y="0"/>
                  </a:lnTo>
                  <a:cubicBezTo>
                    <a:pt x="20817" y="0"/>
                    <a:pt x="20825" y="8"/>
                    <a:pt x="20825" y="17"/>
                  </a:cubicBezTo>
                  <a:cubicBezTo>
                    <a:pt x="20825" y="26"/>
                    <a:pt x="20817" y="33"/>
                    <a:pt x="20808" y="33"/>
                  </a:cubicBezTo>
                  <a:close/>
                  <a:moveTo>
                    <a:pt x="20575" y="33"/>
                  </a:moveTo>
                  <a:lnTo>
                    <a:pt x="20475" y="33"/>
                  </a:lnTo>
                  <a:cubicBezTo>
                    <a:pt x="20466" y="33"/>
                    <a:pt x="20458" y="26"/>
                    <a:pt x="20458" y="17"/>
                  </a:cubicBezTo>
                  <a:cubicBezTo>
                    <a:pt x="20458" y="8"/>
                    <a:pt x="20466" y="0"/>
                    <a:pt x="20475" y="0"/>
                  </a:cubicBezTo>
                  <a:lnTo>
                    <a:pt x="20575" y="0"/>
                  </a:lnTo>
                  <a:cubicBezTo>
                    <a:pt x="20584" y="0"/>
                    <a:pt x="20591" y="8"/>
                    <a:pt x="20591" y="17"/>
                  </a:cubicBezTo>
                  <a:cubicBezTo>
                    <a:pt x="20591" y="26"/>
                    <a:pt x="20584" y="33"/>
                    <a:pt x="20575" y="33"/>
                  </a:cubicBezTo>
                  <a:close/>
                  <a:moveTo>
                    <a:pt x="20341" y="33"/>
                  </a:moveTo>
                  <a:lnTo>
                    <a:pt x="20241" y="33"/>
                  </a:lnTo>
                  <a:cubicBezTo>
                    <a:pt x="20232" y="33"/>
                    <a:pt x="20225" y="26"/>
                    <a:pt x="20225" y="17"/>
                  </a:cubicBezTo>
                  <a:cubicBezTo>
                    <a:pt x="20225" y="8"/>
                    <a:pt x="20232" y="0"/>
                    <a:pt x="20241" y="0"/>
                  </a:cubicBezTo>
                  <a:lnTo>
                    <a:pt x="20341" y="0"/>
                  </a:lnTo>
                  <a:cubicBezTo>
                    <a:pt x="20351" y="0"/>
                    <a:pt x="20358" y="8"/>
                    <a:pt x="20358" y="17"/>
                  </a:cubicBezTo>
                  <a:cubicBezTo>
                    <a:pt x="20358" y="26"/>
                    <a:pt x="20351" y="33"/>
                    <a:pt x="20341" y="33"/>
                  </a:cubicBezTo>
                  <a:close/>
                  <a:moveTo>
                    <a:pt x="20108" y="33"/>
                  </a:moveTo>
                  <a:lnTo>
                    <a:pt x="20008" y="33"/>
                  </a:lnTo>
                  <a:cubicBezTo>
                    <a:pt x="19999" y="33"/>
                    <a:pt x="19991" y="26"/>
                    <a:pt x="19991" y="17"/>
                  </a:cubicBezTo>
                  <a:cubicBezTo>
                    <a:pt x="19991" y="8"/>
                    <a:pt x="19999" y="0"/>
                    <a:pt x="20008" y="0"/>
                  </a:cubicBezTo>
                  <a:lnTo>
                    <a:pt x="20108" y="0"/>
                  </a:lnTo>
                  <a:cubicBezTo>
                    <a:pt x="20117" y="0"/>
                    <a:pt x="20125" y="8"/>
                    <a:pt x="20125" y="17"/>
                  </a:cubicBezTo>
                  <a:cubicBezTo>
                    <a:pt x="20125" y="26"/>
                    <a:pt x="20117" y="33"/>
                    <a:pt x="20108" y="33"/>
                  </a:cubicBezTo>
                  <a:close/>
                  <a:moveTo>
                    <a:pt x="19875" y="33"/>
                  </a:moveTo>
                  <a:lnTo>
                    <a:pt x="19775" y="33"/>
                  </a:lnTo>
                  <a:cubicBezTo>
                    <a:pt x="19766" y="33"/>
                    <a:pt x="19758" y="26"/>
                    <a:pt x="19758" y="17"/>
                  </a:cubicBezTo>
                  <a:cubicBezTo>
                    <a:pt x="19758" y="8"/>
                    <a:pt x="19766" y="0"/>
                    <a:pt x="19775" y="0"/>
                  </a:cubicBezTo>
                  <a:lnTo>
                    <a:pt x="19875" y="0"/>
                  </a:lnTo>
                  <a:cubicBezTo>
                    <a:pt x="19884" y="0"/>
                    <a:pt x="19891" y="8"/>
                    <a:pt x="19891" y="17"/>
                  </a:cubicBezTo>
                  <a:cubicBezTo>
                    <a:pt x="19891" y="26"/>
                    <a:pt x="19884" y="33"/>
                    <a:pt x="19875" y="33"/>
                  </a:cubicBezTo>
                  <a:close/>
                  <a:moveTo>
                    <a:pt x="19641" y="33"/>
                  </a:moveTo>
                  <a:lnTo>
                    <a:pt x="19541" y="33"/>
                  </a:lnTo>
                  <a:cubicBezTo>
                    <a:pt x="19532" y="33"/>
                    <a:pt x="19525" y="26"/>
                    <a:pt x="19525" y="17"/>
                  </a:cubicBezTo>
                  <a:cubicBezTo>
                    <a:pt x="19525" y="8"/>
                    <a:pt x="19532" y="0"/>
                    <a:pt x="19541" y="0"/>
                  </a:cubicBezTo>
                  <a:lnTo>
                    <a:pt x="19641" y="0"/>
                  </a:lnTo>
                  <a:cubicBezTo>
                    <a:pt x="19651" y="0"/>
                    <a:pt x="19658" y="8"/>
                    <a:pt x="19658" y="17"/>
                  </a:cubicBezTo>
                  <a:cubicBezTo>
                    <a:pt x="19658" y="26"/>
                    <a:pt x="19651" y="33"/>
                    <a:pt x="19641" y="33"/>
                  </a:cubicBezTo>
                  <a:close/>
                  <a:moveTo>
                    <a:pt x="19408" y="33"/>
                  </a:moveTo>
                  <a:lnTo>
                    <a:pt x="19308" y="33"/>
                  </a:lnTo>
                  <a:cubicBezTo>
                    <a:pt x="19299" y="33"/>
                    <a:pt x="19291" y="26"/>
                    <a:pt x="19291" y="17"/>
                  </a:cubicBezTo>
                  <a:cubicBezTo>
                    <a:pt x="19291" y="8"/>
                    <a:pt x="19299" y="0"/>
                    <a:pt x="19308" y="0"/>
                  </a:cubicBezTo>
                  <a:lnTo>
                    <a:pt x="19408" y="0"/>
                  </a:lnTo>
                  <a:cubicBezTo>
                    <a:pt x="19417" y="0"/>
                    <a:pt x="19425" y="8"/>
                    <a:pt x="19425" y="17"/>
                  </a:cubicBezTo>
                  <a:cubicBezTo>
                    <a:pt x="19425" y="26"/>
                    <a:pt x="19417" y="33"/>
                    <a:pt x="19408" y="33"/>
                  </a:cubicBezTo>
                  <a:close/>
                  <a:moveTo>
                    <a:pt x="19175" y="33"/>
                  </a:moveTo>
                  <a:lnTo>
                    <a:pt x="19075" y="33"/>
                  </a:lnTo>
                  <a:cubicBezTo>
                    <a:pt x="19066" y="33"/>
                    <a:pt x="19058" y="26"/>
                    <a:pt x="19058" y="17"/>
                  </a:cubicBezTo>
                  <a:cubicBezTo>
                    <a:pt x="19058" y="8"/>
                    <a:pt x="19066" y="0"/>
                    <a:pt x="19075" y="0"/>
                  </a:cubicBezTo>
                  <a:lnTo>
                    <a:pt x="19175" y="0"/>
                  </a:lnTo>
                  <a:cubicBezTo>
                    <a:pt x="19184" y="0"/>
                    <a:pt x="19191" y="8"/>
                    <a:pt x="19191" y="17"/>
                  </a:cubicBezTo>
                  <a:cubicBezTo>
                    <a:pt x="19191" y="26"/>
                    <a:pt x="19184" y="33"/>
                    <a:pt x="19175" y="33"/>
                  </a:cubicBezTo>
                  <a:close/>
                  <a:moveTo>
                    <a:pt x="18941" y="33"/>
                  </a:moveTo>
                  <a:lnTo>
                    <a:pt x="18841" y="33"/>
                  </a:lnTo>
                  <a:cubicBezTo>
                    <a:pt x="18832" y="33"/>
                    <a:pt x="18825" y="26"/>
                    <a:pt x="18825" y="17"/>
                  </a:cubicBezTo>
                  <a:cubicBezTo>
                    <a:pt x="18825" y="8"/>
                    <a:pt x="18832" y="0"/>
                    <a:pt x="18841" y="0"/>
                  </a:cubicBezTo>
                  <a:lnTo>
                    <a:pt x="18941" y="0"/>
                  </a:lnTo>
                  <a:cubicBezTo>
                    <a:pt x="18951" y="0"/>
                    <a:pt x="18958" y="8"/>
                    <a:pt x="18958" y="17"/>
                  </a:cubicBezTo>
                  <a:cubicBezTo>
                    <a:pt x="18958" y="26"/>
                    <a:pt x="18951" y="33"/>
                    <a:pt x="18941" y="33"/>
                  </a:cubicBezTo>
                  <a:close/>
                  <a:moveTo>
                    <a:pt x="18708" y="33"/>
                  </a:moveTo>
                  <a:lnTo>
                    <a:pt x="18608" y="33"/>
                  </a:lnTo>
                  <a:cubicBezTo>
                    <a:pt x="18599" y="33"/>
                    <a:pt x="18591" y="26"/>
                    <a:pt x="18591" y="17"/>
                  </a:cubicBezTo>
                  <a:cubicBezTo>
                    <a:pt x="18591" y="8"/>
                    <a:pt x="18599" y="0"/>
                    <a:pt x="18608" y="0"/>
                  </a:cubicBezTo>
                  <a:lnTo>
                    <a:pt x="18708" y="0"/>
                  </a:lnTo>
                  <a:cubicBezTo>
                    <a:pt x="18717" y="0"/>
                    <a:pt x="18725" y="8"/>
                    <a:pt x="18725" y="17"/>
                  </a:cubicBezTo>
                  <a:cubicBezTo>
                    <a:pt x="18725" y="26"/>
                    <a:pt x="18717" y="33"/>
                    <a:pt x="18708" y="33"/>
                  </a:cubicBezTo>
                  <a:close/>
                  <a:moveTo>
                    <a:pt x="18475" y="33"/>
                  </a:moveTo>
                  <a:lnTo>
                    <a:pt x="18375" y="33"/>
                  </a:lnTo>
                  <a:cubicBezTo>
                    <a:pt x="18366" y="33"/>
                    <a:pt x="18358" y="26"/>
                    <a:pt x="18358" y="17"/>
                  </a:cubicBezTo>
                  <a:cubicBezTo>
                    <a:pt x="18358" y="8"/>
                    <a:pt x="18366" y="0"/>
                    <a:pt x="18375" y="0"/>
                  </a:cubicBezTo>
                  <a:lnTo>
                    <a:pt x="18475" y="0"/>
                  </a:lnTo>
                  <a:cubicBezTo>
                    <a:pt x="18484" y="0"/>
                    <a:pt x="18491" y="8"/>
                    <a:pt x="18491" y="17"/>
                  </a:cubicBezTo>
                  <a:cubicBezTo>
                    <a:pt x="18491" y="26"/>
                    <a:pt x="18484" y="33"/>
                    <a:pt x="18475" y="33"/>
                  </a:cubicBezTo>
                  <a:close/>
                  <a:moveTo>
                    <a:pt x="18241" y="33"/>
                  </a:moveTo>
                  <a:lnTo>
                    <a:pt x="18141" y="33"/>
                  </a:lnTo>
                  <a:cubicBezTo>
                    <a:pt x="18132" y="33"/>
                    <a:pt x="18125" y="26"/>
                    <a:pt x="18125" y="17"/>
                  </a:cubicBezTo>
                  <a:cubicBezTo>
                    <a:pt x="18125" y="8"/>
                    <a:pt x="18132" y="0"/>
                    <a:pt x="18141" y="0"/>
                  </a:cubicBezTo>
                  <a:lnTo>
                    <a:pt x="18241" y="0"/>
                  </a:lnTo>
                  <a:cubicBezTo>
                    <a:pt x="18251" y="0"/>
                    <a:pt x="18258" y="8"/>
                    <a:pt x="18258" y="17"/>
                  </a:cubicBezTo>
                  <a:cubicBezTo>
                    <a:pt x="18258" y="26"/>
                    <a:pt x="18251" y="33"/>
                    <a:pt x="18241" y="33"/>
                  </a:cubicBezTo>
                  <a:close/>
                  <a:moveTo>
                    <a:pt x="18008" y="33"/>
                  </a:moveTo>
                  <a:lnTo>
                    <a:pt x="17908" y="33"/>
                  </a:lnTo>
                  <a:cubicBezTo>
                    <a:pt x="17899" y="33"/>
                    <a:pt x="17891" y="26"/>
                    <a:pt x="17891" y="17"/>
                  </a:cubicBezTo>
                  <a:cubicBezTo>
                    <a:pt x="17891" y="8"/>
                    <a:pt x="17899" y="0"/>
                    <a:pt x="17908" y="0"/>
                  </a:cubicBezTo>
                  <a:lnTo>
                    <a:pt x="18008" y="0"/>
                  </a:lnTo>
                  <a:cubicBezTo>
                    <a:pt x="18017" y="0"/>
                    <a:pt x="18025" y="8"/>
                    <a:pt x="18025" y="17"/>
                  </a:cubicBezTo>
                  <a:cubicBezTo>
                    <a:pt x="18025" y="26"/>
                    <a:pt x="18017" y="33"/>
                    <a:pt x="18008" y="33"/>
                  </a:cubicBezTo>
                  <a:close/>
                  <a:moveTo>
                    <a:pt x="17775" y="33"/>
                  </a:moveTo>
                  <a:lnTo>
                    <a:pt x="17675" y="33"/>
                  </a:lnTo>
                  <a:cubicBezTo>
                    <a:pt x="17666" y="33"/>
                    <a:pt x="17658" y="26"/>
                    <a:pt x="17658" y="17"/>
                  </a:cubicBezTo>
                  <a:cubicBezTo>
                    <a:pt x="17658" y="8"/>
                    <a:pt x="17666" y="0"/>
                    <a:pt x="17675" y="0"/>
                  </a:cubicBezTo>
                  <a:lnTo>
                    <a:pt x="17775" y="0"/>
                  </a:lnTo>
                  <a:cubicBezTo>
                    <a:pt x="17784" y="0"/>
                    <a:pt x="17791" y="8"/>
                    <a:pt x="17791" y="17"/>
                  </a:cubicBezTo>
                  <a:cubicBezTo>
                    <a:pt x="17791" y="26"/>
                    <a:pt x="17784" y="33"/>
                    <a:pt x="17775" y="33"/>
                  </a:cubicBezTo>
                  <a:close/>
                  <a:moveTo>
                    <a:pt x="17541" y="33"/>
                  </a:moveTo>
                  <a:lnTo>
                    <a:pt x="17441" y="33"/>
                  </a:lnTo>
                  <a:cubicBezTo>
                    <a:pt x="17432" y="33"/>
                    <a:pt x="17425" y="26"/>
                    <a:pt x="17425" y="17"/>
                  </a:cubicBezTo>
                  <a:cubicBezTo>
                    <a:pt x="17425" y="8"/>
                    <a:pt x="17432" y="0"/>
                    <a:pt x="17441" y="0"/>
                  </a:cubicBezTo>
                  <a:lnTo>
                    <a:pt x="17541" y="0"/>
                  </a:lnTo>
                  <a:cubicBezTo>
                    <a:pt x="17551" y="0"/>
                    <a:pt x="17558" y="8"/>
                    <a:pt x="17558" y="17"/>
                  </a:cubicBezTo>
                  <a:cubicBezTo>
                    <a:pt x="17558" y="26"/>
                    <a:pt x="17551" y="33"/>
                    <a:pt x="17541" y="33"/>
                  </a:cubicBezTo>
                  <a:close/>
                  <a:moveTo>
                    <a:pt x="17308" y="33"/>
                  </a:moveTo>
                  <a:lnTo>
                    <a:pt x="17208" y="33"/>
                  </a:lnTo>
                  <a:cubicBezTo>
                    <a:pt x="17199" y="33"/>
                    <a:pt x="17191" y="26"/>
                    <a:pt x="17191" y="17"/>
                  </a:cubicBezTo>
                  <a:cubicBezTo>
                    <a:pt x="17191" y="8"/>
                    <a:pt x="17199" y="0"/>
                    <a:pt x="17208" y="0"/>
                  </a:cubicBezTo>
                  <a:lnTo>
                    <a:pt x="17308" y="0"/>
                  </a:lnTo>
                  <a:cubicBezTo>
                    <a:pt x="17317" y="0"/>
                    <a:pt x="17325" y="8"/>
                    <a:pt x="17325" y="17"/>
                  </a:cubicBezTo>
                  <a:cubicBezTo>
                    <a:pt x="17325" y="26"/>
                    <a:pt x="17317" y="33"/>
                    <a:pt x="17308" y="33"/>
                  </a:cubicBezTo>
                  <a:close/>
                  <a:moveTo>
                    <a:pt x="17075" y="33"/>
                  </a:moveTo>
                  <a:lnTo>
                    <a:pt x="16975" y="33"/>
                  </a:lnTo>
                  <a:cubicBezTo>
                    <a:pt x="16966" y="33"/>
                    <a:pt x="16958" y="26"/>
                    <a:pt x="16958" y="17"/>
                  </a:cubicBezTo>
                  <a:cubicBezTo>
                    <a:pt x="16958" y="8"/>
                    <a:pt x="16966" y="0"/>
                    <a:pt x="16975" y="0"/>
                  </a:cubicBezTo>
                  <a:lnTo>
                    <a:pt x="17075" y="0"/>
                  </a:lnTo>
                  <a:cubicBezTo>
                    <a:pt x="17084" y="0"/>
                    <a:pt x="17091" y="8"/>
                    <a:pt x="17091" y="17"/>
                  </a:cubicBezTo>
                  <a:cubicBezTo>
                    <a:pt x="17091" y="26"/>
                    <a:pt x="17084" y="33"/>
                    <a:pt x="17075" y="33"/>
                  </a:cubicBezTo>
                  <a:close/>
                  <a:moveTo>
                    <a:pt x="16841" y="33"/>
                  </a:moveTo>
                  <a:lnTo>
                    <a:pt x="16741" y="33"/>
                  </a:lnTo>
                  <a:cubicBezTo>
                    <a:pt x="16732" y="33"/>
                    <a:pt x="16725" y="26"/>
                    <a:pt x="16725" y="17"/>
                  </a:cubicBezTo>
                  <a:cubicBezTo>
                    <a:pt x="16725" y="8"/>
                    <a:pt x="16732" y="0"/>
                    <a:pt x="16741" y="0"/>
                  </a:cubicBezTo>
                  <a:lnTo>
                    <a:pt x="16841" y="0"/>
                  </a:lnTo>
                  <a:cubicBezTo>
                    <a:pt x="16851" y="0"/>
                    <a:pt x="16858" y="8"/>
                    <a:pt x="16858" y="17"/>
                  </a:cubicBezTo>
                  <a:cubicBezTo>
                    <a:pt x="16858" y="26"/>
                    <a:pt x="16851" y="33"/>
                    <a:pt x="16841" y="33"/>
                  </a:cubicBezTo>
                  <a:close/>
                  <a:moveTo>
                    <a:pt x="16608" y="33"/>
                  </a:moveTo>
                  <a:lnTo>
                    <a:pt x="16508" y="33"/>
                  </a:lnTo>
                  <a:cubicBezTo>
                    <a:pt x="16499" y="33"/>
                    <a:pt x="16491" y="26"/>
                    <a:pt x="16491" y="17"/>
                  </a:cubicBezTo>
                  <a:cubicBezTo>
                    <a:pt x="16491" y="8"/>
                    <a:pt x="16499" y="0"/>
                    <a:pt x="16508" y="0"/>
                  </a:cubicBezTo>
                  <a:lnTo>
                    <a:pt x="16608" y="0"/>
                  </a:lnTo>
                  <a:cubicBezTo>
                    <a:pt x="16617" y="0"/>
                    <a:pt x="16625" y="8"/>
                    <a:pt x="16625" y="17"/>
                  </a:cubicBezTo>
                  <a:cubicBezTo>
                    <a:pt x="16625" y="26"/>
                    <a:pt x="16617" y="33"/>
                    <a:pt x="16608" y="33"/>
                  </a:cubicBezTo>
                  <a:close/>
                  <a:moveTo>
                    <a:pt x="16375" y="33"/>
                  </a:moveTo>
                  <a:lnTo>
                    <a:pt x="16275" y="33"/>
                  </a:lnTo>
                  <a:cubicBezTo>
                    <a:pt x="16266" y="33"/>
                    <a:pt x="16258" y="26"/>
                    <a:pt x="16258" y="17"/>
                  </a:cubicBezTo>
                  <a:cubicBezTo>
                    <a:pt x="16258" y="8"/>
                    <a:pt x="16266" y="0"/>
                    <a:pt x="16275" y="0"/>
                  </a:cubicBezTo>
                  <a:lnTo>
                    <a:pt x="16375" y="0"/>
                  </a:lnTo>
                  <a:cubicBezTo>
                    <a:pt x="16384" y="0"/>
                    <a:pt x="16391" y="8"/>
                    <a:pt x="16391" y="17"/>
                  </a:cubicBezTo>
                  <a:cubicBezTo>
                    <a:pt x="16391" y="26"/>
                    <a:pt x="16384" y="33"/>
                    <a:pt x="16375" y="33"/>
                  </a:cubicBezTo>
                  <a:close/>
                  <a:moveTo>
                    <a:pt x="16141" y="33"/>
                  </a:moveTo>
                  <a:lnTo>
                    <a:pt x="16041" y="33"/>
                  </a:lnTo>
                  <a:cubicBezTo>
                    <a:pt x="16032" y="33"/>
                    <a:pt x="16025" y="26"/>
                    <a:pt x="16025" y="17"/>
                  </a:cubicBezTo>
                  <a:cubicBezTo>
                    <a:pt x="16025" y="8"/>
                    <a:pt x="16032" y="0"/>
                    <a:pt x="16041" y="0"/>
                  </a:cubicBezTo>
                  <a:lnTo>
                    <a:pt x="16141" y="0"/>
                  </a:lnTo>
                  <a:cubicBezTo>
                    <a:pt x="16151" y="0"/>
                    <a:pt x="16158" y="8"/>
                    <a:pt x="16158" y="17"/>
                  </a:cubicBezTo>
                  <a:cubicBezTo>
                    <a:pt x="16158" y="26"/>
                    <a:pt x="16151" y="33"/>
                    <a:pt x="16141" y="33"/>
                  </a:cubicBezTo>
                  <a:close/>
                  <a:moveTo>
                    <a:pt x="15908" y="33"/>
                  </a:moveTo>
                  <a:lnTo>
                    <a:pt x="15808" y="33"/>
                  </a:lnTo>
                  <a:cubicBezTo>
                    <a:pt x="15799" y="33"/>
                    <a:pt x="15791" y="26"/>
                    <a:pt x="15791" y="17"/>
                  </a:cubicBezTo>
                  <a:cubicBezTo>
                    <a:pt x="15791" y="8"/>
                    <a:pt x="15799" y="0"/>
                    <a:pt x="15808" y="0"/>
                  </a:cubicBezTo>
                  <a:lnTo>
                    <a:pt x="15908" y="0"/>
                  </a:lnTo>
                  <a:cubicBezTo>
                    <a:pt x="15917" y="0"/>
                    <a:pt x="15925" y="8"/>
                    <a:pt x="15925" y="17"/>
                  </a:cubicBezTo>
                  <a:cubicBezTo>
                    <a:pt x="15925" y="26"/>
                    <a:pt x="15917" y="33"/>
                    <a:pt x="15908" y="33"/>
                  </a:cubicBezTo>
                  <a:close/>
                  <a:moveTo>
                    <a:pt x="15675" y="33"/>
                  </a:moveTo>
                  <a:lnTo>
                    <a:pt x="15575" y="33"/>
                  </a:lnTo>
                  <a:cubicBezTo>
                    <a:pt x="15566" y="33"/>
                    <a:pt x="15558" y="26"/>
                    <a:pt x="15558" y="17"/>
                  </a:cubicBezTo>
                  <a:cubicBezTo>
                    <a:pt x="15558" y="8"/>
                    <a:pt x="15566" y="0"/>
                    <a:pt x="15575" y="0"/>
                  </a:cubicBezTo>
                  <a:lnTo>
                    <a:pt x="15675" y="0"/>
                  </a:lnTo>
                  <a:cubicBezTo>
                    <a:pt x="15684" y="0"/>
                    <a:pt x="15691" y="8"/>
                    <a:pt x="15691" y="17"/>
                  </a:cubicBezTo>
                  <a:cubicBezTo>
                    <a:pt x="15691" y="26"/>
                    <a:pt x="15684" y="33"/>
                    <a:pt x="15675" y="33"/>
                  </a:cubicBezTo>
                  <a:close/>
                  <a:moveTo>
                    <a:pt x="15441" y="33"/>
                  </a:moveTo>
                  <a:lnTo>
                    <a:pt x="15341" y="33"/>
                  </a:lnTo>
                  <a:cubicBezTo>
                    <a:pt x="15332" y="33"/>
                    <a:pt x="15325" y="26"/>
                    <a:pt x="15325" y="17"/>
                  </a:cubicBezTo>
                  <a:cubicBezTo>
                    <a:pt x="15325" y="8"/>
                    <a:pt x="15332" y="0"/>
                    <a:pt x="15341" y="0"/>
                  </a:cubicBezTo>
                  <a:lnTo>
                    <a:pt x="15441" y="0"/>
                  </a:lnTo>
                  <a:cubicBezTo>
                    <a:pt x="15451" y="0"/>
                    <a:pt x="15458" y="8"/>
                    <a:pt x="15458" y="17"/>
                  </a:cubicBezTo>
                  <a:cubicBezTo>
                    <a:pt x="15458" y="26"/>
                    <a:pt x="15451" y="33"/>
                    <a:pt x="15441" y="33"/>
                  </a:cubicBezTo>
                  <a:close/>
                  <a:moveTo>
                    <a:pt x="15208" y="33"/>
                  </a:moveTo>
                  <a:lnTo>
                    <a:pt x="15108" y="33"/>
                  </a:lnTo>
                  <a:cubicBezTo>
                    <a:pt x="15099" y="33"/>
                    <a:pt x="15091" y="26"/>
                    <a:pt x="15091" y="17"/>
                  </a:cubicBezTo>
                  <a:cubicBezTo>
                    <a:pt x="15091" y="8"/>
                    <a:pt x="15099" y="0"/>
                    <a:pt x="15108" y="0"/>
                  </a:cubicBezTo>
                  <a:lnTo>
                    <a:pt x="15208" y="0"/>
                  </a:lnTo>
                  <a:cubicBezTo>
                    <a:pt x="15217" y="0"/>
                    <a:pt x="15225" y="8"/>
                    <a:pt x="15225" y="17"/>
                  </a:cubicBezTo>
                  <a:cubicBezTo>
                    <a:pt x="15225" y="26"/>
                    <a:pt x="15217" y="33"/>
                    <a:pt x="15208" y="33"/>
                  </a:cubicBezTo>
                  <a:close/>
                  <a:moveTo>
                    <a:pt x="14975" y="33"/>
                  </a:moveTo>
                  <a:lnTo>
                    <a:pt x="14875" y="33"/>
                  </a:lnTo>
                  <a:cubicBezTo>
                    <a:pt x="14866" y="33"/>
                    <a:pt x="14858" y="26"/>
                    <a:pt x="14858" y="17"/>
                  </a:cubicBezTo>
                  <a:cubicBezTo>
                    <a:pt x="14858" y="8"/>
                    <a:pt x="14866" y="0"/>
                    <a:pt x="14875" y="0"/>
                  </a:cubicBezTo>
                  <a:lnTo>
                    <a:pt x="14975" y="0"/>
                  </a:lnTo>
                  <a:cubicBezTo>
                    <a:pt x="14984" y="0"/>
                    <a:pt x="14991" y="8"/>
                    <a:pt x="14991" y="17"/>
                  </a:cubicBezTo>
                  <a:cubicBezTo>
                    <a:pt x="14991" y="26"/>
                    <a:pt x="14984" y="33"/>
                    <a:pt x="14975" y="33"/>
                  </a:cubicBezTo>
                  <a:close/>
                  <a:moveTo>
                    <a:pt x="14741" y="33"/>
                  </a:moveTo>
                  <a:lnTo>
                    <a:pt x="14641" y="33"/>
                  </a:lnTo>
                  <a:cubicBezTo>
                    <a:pt x="14632" y="33"/>
                    <a:pt x="14625" y="26"/>
                    <a:pt x="14625" y="17"/>
                  </a:cubicBezTo>
                  <a:cubicBezTo>
                    <a:pt x="14625" y="8"/>
                    <a:pt x="14632" y="0"/>
                    <a:pt x="14641" y="0"/>
                  </a:cubicBezTo>
                  <a:lnTo>
                    <a:pt x="14741" y="0"/>
                  </a:lnTo>
                  <a:cubicBezTo>
                    <a:pt x="14751" y="0"/>
                    <a:pt x="14758" y="8"/>
                    <a:pt x="14758" y="17"/>
                  </a:cubicBezTo>
                  <a:cubicBezTo>
                    <a:pt x="14758" y="26"/>
                    <a:pt x="14751" y="33"/>
                    <a:pt x="14741" y="33"/>
                  </a:cubicBezTo>
                  <a:close/>
                  <a:moveTo>
                    <a:pt x="14508" y="33"/>
                  </a:moveTo>
                  <a:lnTo>
                    <a:pt x="14408" y="33"/>
                  </a:lnTo>
                  <a:cubicBezTo>
                    <a:pt x="14399" y="33"/>
                    <a:pt x="14391" y="26"/>
                    <a:pt x="14391" y="17"/>
                  </a:cubicBezTo>
                  <a:cubicBezTo>
                    <a:pt x="14391" y="8"/>
                    <a:pt x="14399" y="0"/>
                    <a:pt x="14408" y="0"/>
                  </a:cubicBezTo>
                  <a:lnTo>
                    <a:pt x="14508" y="0"/>
                  </a:lnTo>
                  <a:cubicBezTo>
                    <a:pt x="14517" y="0"/>
                    <a:pt x="14525" y="8"/>
                    <a:pt x="14525" y="17"/>
                  </a:cubicBezTo>
                  <a:cubicBezTo>
                    <a:pt x="14525" y="26"/>
                    <a:pt x="14517" y="33"/>
                    <a:pt x="14508" y="33"/>
                  </a:cubicBezTo>
                  <a:close/>
                  <a:moveTo>
                    <a:pt x="14275" y="33"/>
                  </a:moveTo>
                  <a:lnTo>
                    <a:pt x="14175" y="33"/>
                  </a:lnTo>
                  <a:cubicBezTo>
                    <a:pt x="14166" y="33"/>
                    <a:pt x="14158" y="26"/>
                    <a:pt x="14158" y="17"/>
                  </a:cubicBezTo>
                  <a:cubicBezTo>
                    <a:pt x="14158" y="8"/>
                    <a:pt x="14166" y="0"/>
                    <a:pt x="14175" y="0"/>
                  </a:cubicBezTo>
                  <a:lnTo>
                    <a:pt x="14275" y="0"/>
                  </a:lnTo>
                  <a:cubicBezTo>
                    <a:pt x="14284" y="0"/>
                    <a:pt x="14291" y="8"/>
                    <a:pt x="14291" y="17"/>
                  </a:cubicBezTo>
                  <a:cubicBezTo>
                    <a:pt x="14291" y="26"/>
                    <a:pt x="14284" y="33"/>
                    <a:pt x="14275" y="33"/>
                  </a:cubicBezTo>
                  <a:close/>
                  <a:moveTo>
                    <a:pt x="14041" y="33"/>
                  </a:moveTo>
                  <a:lnTo>
                    <a:pt x="13941" y="33"/>
                  </a:lnTo>
                  <a:cubicBezTo>
                    <a:pt x="13932" y="33"/>
                    <a:pt x="13925" y="26"/>
                    <a:pt x="13925" y="17"/>
                  </a:cubicBezTo>
                  <a:cubicBezTo>
                    <a:pt x="13925" y="8"/>
                    <a:pt x="13932" y="0"/>
                    <a:pt x="13941" y="0"/>
                  </a:cubicBezTo>
                  <a:lnTo>
                    <a:pt x="14041" y="0"/>
                  </a:lnTo>
                  <a:cubicBezTo>
                    <a:pt x="14051" y="0"/>
                    <a:pt x="14058" y="8"/>
                    <a:pt x="14058" y="17"/>
                  </a:cubicBezTo>
                  <a:cubicBezTo>
                    <a:pt x="14058" y="26"/>
                    <a:pt x="14051" y="33"/>
                    <a:pt x="14041" y="33"/>
                  </a:cubicBezTo>
                  <a:close/>
                  <a:moveTo>
                    <a:pt x="13808" y="33"/>
                  </a:moveTo>
                  <a:lnTo>
                    <a:pt x="13708" y="33"/>
                  </a:lnTo>
                  <a:cubicBezTo>
                    <a:pt x="13699" y="33"/>
                    <a:pt x="13691" y="26"/>
                    <a:pt x="13691" y="17"/>
                  </a:cubicBezTo>
                  <a:cubicBezTo>
                    <a:pt x="13691" y="8"/>
                    <a:pt x="13699" y="0"/>
                    <a:pt x="13708" y="0"/>
                  </a:cubicBezTo>
                  <a:lnTo>
                    <a:pt x="13808" y="0"/>
                  </a:lnTo>
                  <a:cubicBezTo>
                    <a:pt x="13817" y="0"/>
                    <a:pt x="13825" y="8"/>
                    <a:pt x="13825" y="17"/>
                  </a:cubicBezTo>
                  <a:cubicBezTo>
                    <a:pt x="13825" y="26"/>
                    <a:pt x="13817" y="33"/>
                    <a:pt x="13808" y="33"/>
                  </a:cubicBezTo>
                  <a:close/>
                  <a:moveTo>
                    <a:pt x="13575" y="33"/>
                  </a:moveTo>
                  <a:lnTo>
                    <a:pt x="13475" y="33"/>
                  </a:lnTo>
                  <a:cubicBezTo>
                    <a:pt x="13466" y="33"/>
                    <a:pt x="13458" y="26"/>
                    <a:pt x="13458" y="17"/>
                  </a:cubicBezTo>
                  <a:cubicBezTo>
                    <a:pt x="13458" y="8"/>
                    <a:pt x="13466" y="0"/>
                    <a:pt x="13475" y="0"/>
                  </a:cubicBezTo>
                  <a:lnTo>
                    <a:pt x="13575" y="0"/>
                  </a:lnTo>
                  <a:cubicBezTo>
                    <a:pt x="13584" y="0"/>
                    <a:pt x="13591" y="8"/>
                    <a:pt x="13591" y="17"/>
                  </a:cubicBezTo>
                  <a:cubicBezTo>
                    <a:pt x="13591" y="26"/>
                    <a:pt x="13584" y="33"/>
                    <a:pt x="13575" y="33"/>
                  </a:cubicBezTo>
                  <a:close/>
                  <a:moveTo>
                    <a:pt x="13341" y="33"/>
                  </a:moveTo>
                  <a:lnTo>
                    <a:pt x="13241" y="33"/>
                  </a:lnTo>
                  <a:cubicBezTo>
                    <a:pt x="13232" y="33"/>
                    <a:pt x="13225" y="26"/>
                    <a:pt x="13225" y="17"/>
                  </a:cubicBezTo>
                  <a:cubicBezTo>
                    <a:pt x="13225" y="8"/>
                    <a:pt x="13232" y="0"/>
                    <a:pt x="13241" y="0"/>
                  </a:cubicBezTo>
                  <a:lnTo>
                    <a:pt x="13341" y="0"/>
                  </a:lnTo>
                  <a:cubicBezTo>
                    <a:pt x="13351" y="0"/>
                    <a:pt x="13358" y="8"/>
                    <a:pt x="13358" y="17"/>
                  </a:cubicBezTo>
                  <a:cubicBezTo>
                    <a:pt x="13358" y="26"/>
                    <a:pt x="13351" y="33"/>
                    <a:pt x="13341" y="33"/>
                  </a:cubicBezTo>
                  <a:close/>
                  <a:moveTo>
                    <a:pt x="13108" y="33"/>
                  </a:moveTo>
                  <a:lnTo>
                    <a:pt x="13008" y="33"/>
                  </a:lnTo>
                  <a:cubicBezTo>
                    <a:pt x="12999" y="33"/>
                    <a:pt x="12991" y="26"/>
                    <a:pt x="12991" y="17"/>
                  </a:cubicBezTo>
                  <a:cubicBezTo>
                    <a:pt x="12991" y="8"/>
                    <a:pt x="12999" y="0"/>
                    <a:pt x="13008" y="0"/>
                  </a:cubicBezTo>
                  <a:lnTo>
                    <a:pt x="13108" y="0"/>
                  </a:lnTo>
                  <a:cubicBezTo>
                    <a:pt x="13117" y="0"/>
                    <a:pt x="13125" y="8"/>
                    <a:pt x="13125" y="17"/>
                  </a:cubicBezTo>
                  <a:cubicBezTo>
                    <a:pt x="13125" y="26"/>
                    <a:pt x="13117" y="33"/>
                    <a:pt x="13108" y="33"/>
                  </a:cubicBezTo>
                  <a:close/>
                  <a:moveTo>
                    <a:pt x="12875" y="33"/>
                  </a:moveTo>
                  <a:lnTo>
                    <a:pt x="12775" y="33"/>
                  </a:lnTo>
                  <a:cubicBezTo>
                    <a:pt x="12766" y="33"/>
                    <a:pt x="12758" y="26"/>
                    <a:pt x="12758" y="17"/>
                  </a:cubicBezTo>
                  <a:cubicBezTo>
                    <a:pt x="12758" y="8"/>
                    <a:pt x="12766" y="0"/>
                    <a:pt x="12775" y="0"/>
                  </a:cubicBezTo>
                  <a:lnTo>
                    <a:pt x="12875" y="0"/>
                  </a:lnTo>
                  <a:cubicBezTo>
                    <a:pt x="12884" y="0"/>
                    <a:pt x="12891" y="8"/>
                    <a:pt x="12891" y="17"/>
                  </a:cubicBezTo>
                  <a:cubicBezTo>
                    <a:pt x="12891" y="26"/>
                    <a:pt x="12884" y="33"/>
                    <a:pt x="12875" y="33"/>
                  </a:cubicBezTo>
                  <a:close/>
                  <a:moveTo>
                    <a:pt x="12641" y="33"/>
                  </a:moveTo>
                  <a:lnTo>
                    <a:pt x="12541" y="33"/>
                  </a:lnTo>
                  <a:cubicBezTo>
                    <a:pt x="12532" y="33"/>
                    <a:pt x="12525" y="26"/>
                    <a:pt x="12525" y="17"/>
                  </a:cubicBezTo>
                  <a:cubicBezTo>
                    <a:pt x="12525" y="8"/>
                    <a:pt x="12532" y="0"/>
                    <a:pt x="12541" y="0"/>
                  </a:cubicBezTo>
                  <a:lnTo>
                    <a:pt x="12641" y="0"/>
                  </a:lnTo>
                  <a:cubicBezTo>
                    <a:pt x="12651" y="0"/>
                    <a:pt x="12658" y="8"/>
                    <a:pt x="12658" y="17"/>
                  </a:cubicBezTo>
                  <a:cubicBezTo>
                    <a:pt x="12658" y="26"/>
                    <a:pt x="12651" y="33"/>
                    <a:pt x="12641" y="33"/>
                  </a:cubicBezTo>
                  <a:close/>
                  <a:moveTo>
                    <a:pt x="12408" y="33"/>
                  </a:moveTo>
                  <a:lnTo>
                    <a:pt x="12308" y="33"/>
                  </a:lnTo>
                  <a:cubicBezTo>
                    <a:pt x="12299" y="33"/>
                    <a:pt x="12291" y="26"/>
                    <a:pt x="12291" y="17"/>
                  </a:cubicBezTo>
                  <a:cubicBezTo>
                    <a:pt x="12291" y="8"/>
                    <a:pt x="12299" y="0"/>
                    <a:pt x="12308" y="0"/>
                  </a:cubicBezTo>
                  <a:lnTo>
                    <a:pt x="12408" y="0"/>
                  </a:lnTo>
                  <a:cubicBezTo>
                    <a:pt x="12417" y="0"/>
                    <a:pt x="12425" y="8"/>
                    <a:pt x="12425" y="17"/>
                  </a:cubicBezTo>
                  <a:cubicBezTo>
                    <a:pt x="12425" y="26"/>
                    <a:pt x="12417" y="33"/>
                    <a:pt x="12408" y="33"/>
                  </a:cubicBezTo>
                  <a:close/>
                  <a:moveTo>
                    <a:pt x="12175" y="33"/>
                  </a:moveTo>
                  <a:lnTo>
                    <a:pt x="12075" y="33"/>
                  </a:lnTo>
                  <a:cubicBezTo>
                    <a:pt x="12066" y="33"/>
                    <a:pt x="12058" y="26"/>
                    <a:pt x="12058" y="17"/>
                  </a:cubicBezTo>
                  <a:cubicBezTo>
                    <a:pt x="12058" y="8"/>
                    <a:pt x="12066" y="0"/>
                    <a:pt x="12075" y="0"/>
                  </a:cubicBezTo>
                  <a:lnTo>
                    <a:pt x="12175" y="0"/>
                  </a:lnTo>
                  <a:cubicBezTo>
                    <a:pt x="12184" y="0"/>
                    <a:pt x="12191" y="8"/>
                    <a:pt x="12191" y="17"/>
                  </a:cubicBezTo>
                  <a:cubicBezTo>
                    <a:pt x="12191" y="26"/>
                    <a:pt x="12184" y="33"/>
                    <a:pt x="12175" y="33"/>
                  </a:cubicBezTo>
                  <a:close/>
                  <a:moveTo>
                    <a:pt x="11941" y="33"/>
                  </a:moveTo>
                  <a:lnTo>
                    <a:pt x="11841" y="33"/>
                  </a:lnTo>
                  <a:cubicBezTo>
                    <a:pt x="11832" y="33"/>
                    <a:pt x="11825" y="26"/>
                    <a:pt x="11825" y="17"/>
                  </a:cubicBezTo>
                  <a:cubicBezTo>
                    <a:pt x="11825" y="8"/>
                    <a:pt x="11832" y="0"/>
                    <a:pt x="11841" y="0"/>
                  </a:cubicBezTo>
                  <a:lnTo>
                    <a:pt x="11941" y="0"/>
                  </a:lnTo>
                  <a:cubicBezTo>
                    <a:pt x="11951" y="0"/>
                    <a:pt x="11958" y="8"/>
                    <a:pt x="11958" y="17"/>
                  </a:cubicBezTo>
                  <a:cubicBezTo>
                    <a:pt x="11958" y="26"/>
                    <a:pt x="11951" y="33"/>
                    <a:pt x="11941" y="33"/>
                  </a:cubicBezTo>
                  <a:close/>
                  <a:moveTo>
                    <a:pt x="11708" y="33"/>
                  </a:moveTo>
                  <a:lnTo>
                    <a:pt x="11608" y="33"/>
                  </a:lnTo>
                  <a:cubicBezTo>
                    <a:pt x="11599" y="33"/>
                    <a:pt x="11591" y="26"/>
                    <a:pt x="11591" y="17"/>
                  </a:cubicBezTo>
                  <a:cubicBezTo>
                    <a:pt x="11591" y="8"/>
                    <a:pt x="11599" y="0"/>
                    <a:pt x="11608" y="0"/>
                  </a:cubicBezTo>
                  <a:lnTo>
                    <a:pt x="11708" y="0"/>
                  </a:lnTo>
                  <a:cubicBezTo>
                    <a:pt x="11717" y="0"/>
                    <a:pt x="11725" y="8"/>
                    <a:pt x="11725" y="17"/>
                  </a:cubicBezTo>
                  <a:cubicBezTo>
                    <a:pt x="11725" y="26"/>
                    <a:pt x="11717" y="33"/>
                    <a:pt x="11708" y="33"/>
                  </a:cubicBezTo>
                  <a:close/>
                  <a:moveTo>
                    <a:pt x="11475" y="33"/>
                  </a:moveTo>
                  <a:lnTo>
                    <a:pt x="11375" y="33"/>
                  </a:lnTo>
                  <a:cubicBezTo>
                    <a:pt x="11366" y="33"/>
                    <a:pt x="11358" y="26"/>
                    <a:pt x="11358" y="17"/>
                  </a:cubicBezTo>
                  <a:cubicBezTo>
                    <a:pt x="11358" y="8"/>
                    <a:pt x="11366" y="0"/>
                    <a:pt x="11375" y="0"/>
                  </a:cubicBezTo>
                  <a:lnTo>
                    <a:pt x="11475" y="0"/>
                  </a:lnTo>
                  <a:cubicBezTo>
                    <a:pt x="11484" y="0"/>
                    <a:pt x="11491" y="8"/>
                    <a:pt x="11491" y="17"/>
                  </a:cubicBezTo>
                  <a:cubicBezTo>
                    <a:pt x="11491" y="26"/>
                    <a:pt x="11484" y="33"/>
                    <a:pt x="11475" y="33"/>
                  </a:cubicBezTo>
                  <a:close/>
                  <a:moveTo>
                    <a:pt x="11241" y="33"/>
                  </a:moveTo>
                  <a:lnTo>
                    <a:pt x="11141" y="33"/>
                  </a:lnTo>
                  <a:cubicBezTo>
                    <a:pt x="11132" y="33"/>
                    <a:pt x="11125" y="26"/>
                    <a:pt x="11125" y="17"/>
                  </a:cubicBezTo>
                  <a:cubicBezTo>
                    <a:pt x="11125" y="8"/>
                    <a:pt x="11132" y="0"/>
                    <a:pt x="11141" y="0"/>
                  </a:cubicBezTo>
                  <a:lnTo>
                    <a:pt x="11241" y="0"/>
                  </a:lnTo>
                  <a:cubicBezTo>
                    <a:pt x="11251" y="0"/>
                    <a:pt x="11258" y="8"/>
                    <a:pt x="11258" y="17"/>
                  </a:cubicBezTo>
                  <a:cubicBezTo>
                    <a:pt x="11258" y="26"/>
                    <a:pt x="11251" y="33"/>
                    <a:pt x="11241" y="33"/>
                  </a:cubicBezTo>
                  <a:close/>
                  <a:moveTo>
                    <a:pt x="11008" y="33"/>
                  </a:moveTo>
                  <a:lnTo>
                    <a:pt x="10908" y="33"/>
                  </a:lnTo>
                  <a:cubicBezTo>
                    <a:pt x="10899" y="33"/>
                    <a:pt x="10891" y="26"/>
                    <a:pt x="10891" y="17"/>
                  </a:cubicBezTo>
                  <a:cubicBezTo>
                    <a:pt x="10891" y="8"/>
                    <a:pt x="10899" y="0"/>
                    <a:pt x="10908" y="0"/>
                  </a:cubicBezTo>
                  <a:lnTo>
                    <a:pt x="11008" y="0"/>
                  </a:lnTo>
                  <a:cubicBezTo>
                    <a:pt x="11017" y="0"/>
                    <a:pt x="11025" y="8"/>
                    <a:pt x="11025" y="17"/>
                  </a:cubicBezTo>
                  <a:cubicBezTo>
                    <a:pt x="11025" y="26"/>
                    <a:pt x="11017" y="33"/>
                    <a:pt x="11008" y="33"/>
                  </a:cubicBezTo>
                  <a:close/>
                  <a:moveTo>
                    <a:pt x="10775" y="33"/>
                  </a:moveTo>
                  <a:lnTo>
                    <a:pt x="10675" y="33"/>
                  </a:lnTo>
                  <a:cubicBezTo>
                    <a:pt x="10666" y="33"/>
                    <a:pt x="10658" y="26"/>
                    <a:pt x="10658" y="17"/>
                  </a:cubicBezTo>
                  <a:cubicBezTo>
                    <a:pt x="10658" y="8"/>
                    <a:pt x="10666" y="0"/>
                    <a:pt x="10675" y="0"/>
                  </a:cubicBezTo>
                  <a:lnTo>
                    <a:pt x="10775" y="0"/>
                  </a:lnTo>
                  <a:cubicBezTo>
                    <a:pt x="10784" y="0"/>
                    <a:pt x="10791" y="8"/>
                    <a:pt x="10791" y="17"/>
                  </a:cubicBezTo>
                  <a:cubicBezTo>
                    <a:pt x="10791" y="26"/>
                    <a:pt x="10784" y="33"/>
                    <a:pt x="10775" y="33"/>
                  </a:cubicBezTo>
                  <a:close/>
                  <a:moveTo>
                    <a:pt x="10541" y="33"/>
                  </a:moveTo>
                  <a:lnTo>
                    <a:pt x="10441" y="33"/>
                  </a:lnTo>
                  <a:cubicBezTo>
                    <a:pt x="10432" y="33"/>
                    <a:pt x="10425" y="26"/>
                    <a:pt x="10425" y="17"/>
                  </a:cubicBezTo>
                  <a:cubicBezTo>
                    <a:pt x="10425" y="8"/>
                    <a:pt x="10432" y="0"/>
                    <a:pt x="10441" y="0"/>
                  </a:cubicBezTo>
                  <a:lnTo>
                    <a:pt x="10541" y="0"/>
                  </a:lnTo>
                  <a:cubicBezTo>
                    <a:pt x="10551" y="0"/>
                    <a:pt x="10558" y="8"/>
                    <a:pt x="10558" y="17"/>
                  </a:cubicBezTo>
                  <a:cubicBezTo>
                    <a:pt x="10558" y="26"/>
                    <a:pt x="10551" y="33"/>
                    <a:pt x="10541" y="33"/>
                  </a:cubicBezTo>
                  <a:close/>
                  <a:moveTo>
                    <a:pt x="10308" y="33"/>
                  </a:moveTo>
                  <a:lnTo>
                    <a:pt x="10208" y="33"/>
                  </a:lnTo>
                  <a:cubicBezTo>
                    <a:pt x="10199" y="33"/>
                    <a:pt x="10191" y="26"/>
                    <a:pt x="10191" y="17"/>
                  </a:cubicBezTo>
                  <a:cubicBezTo>
                    <a:pt x="10191" y="8"/>
                    <a:pt x="10199" y="0"/>
                    <a:pt x="10208" y="0"/>
                  </a:cubicBezTo>
                  <a:lnTo>
                    <a:pt x="10308" y="0"/>
                  </a:lnTo>
                  <a:cubicBezTo>
                    <a:pt x="10317" y="0"/>
                    <a:pt x="10325" y="8"/>
                    <a:pt x="10325" y="17"/>
                  </a:cubicBezTo>
                  <a:cubicBezTo>
                    <a:pt x="10325" y="26"/>
                    <a:pt x="10317" y="33"/>
                    <a:pt x="10308" y="33"/>
                  </a:cubicBezTo>
                  <a:close/>
                  <a:moveTo>
                    <a:pt x="10075" y="33"/>
                  </a:moveTo>
                  <a:lnTo>
                    <a:pt x="9975" y="33"/>
                  </a:lnTo>
                  <a:cubicBezTo>
                    <a:pt x="9966" y="33"/>
                    <a:pt x="9958" y="26"/>
                    <a:pt x="9958" y="17"/>
                  </a:cubicBezTo>
                  <a:cubicBezTo>
                    <a:pt x="9958" y="8"/>
                    <a:pt x="9966" y="0"/>
                    <a:pt x="9975" y="0"/>
                  </a:cubicBezTo>
                  <a:lnTo>
                    <a:pt x="10075" y="0"/>
                  </a:lnTo>
                  <a:cubicBezTo>
                    <a:pt x="10084" y="0"/>
                    <a:pt x="10091" y="8"/>
                    <a:pt x="10091" y="17"/>
                  </a:cubicBezTo>
                  <a:cubicBezTo>
                    <a:pt x="10091" y="26"/>
                    <a:pt x="10084" y="33"/>
                    <a:pt x="10075" y="33"/>
                  </a:cubicBezTo>
                  <a:close/>
                  <a:moveTo>
                    <a:pt x="9841" y="33"/>
                  </a:moveTo>
                  <a:lnTo>
                    <a:pt x="9741" y="33"/>
                  </a:lnTo>
                  <a:cubicBezTo>
                    <a:pt x="9732" y="33"/>
                    <a:pt x="9725" y="26"/>
                    <a:pt x="9725" y="17"/>
                  </a:cubicBezTo>
                  <a:cubicBezTo>
                    <a:pt x="9725" y="8"/>
                    <a:pt x="9732" y="0"/>
                    <a:pt x="9741" y="0"/>
                  </a:cubicBezTo>
                  <a:lnTo>
                    <a:pt x="9841" y="0"/>
                  </a:lnTo>
                  <a:cubicBezTo>
                    <a:pt x="9851" y="0"/>
                    <a:pt x="9858" y="8"/>
                    <a:pt x="9858" y="17"/>
                  </a:cubicBezTo>
                  <a:cubicBezTo>
                    <a:pt x="9858" y="26"/>
                    <a:pt x="9851" y="33"/>
                    <a:pt x="9841" y="33"/>
                  </a:cubicBezTo>
                  <a:close/>
                  <a:moveTo>
                    <a:pt x="9608" y="33"/>
                  </a:moveTo>
                  <a:lnTo>
                    <a:pt x="9508" y="33"/>
                  </a:lnTo>
                  <a:cubicBezTo>
                    <a:pt x="9499" y="33"/>
                    <a:pt x="9491" y="26"/>
                    <a:pt x="9491" y="17"/>
                  </a:cubicBezTo>
                  <a:cubicBezTo>
                    <a:pt x="9491" y="8"/>
                    <a:pt x="9499" y="0"/>
                    <a:pt x="9508" y="0"/>
                  </a:cubicBezTo>
                  <a:lnTo>
                    <a:pt x="9608" y="0"/>
                  </a:lnTo>
                  <a:cubicBezTo>
                    <a:pt x="9617" y="0"/>
                    <a:pt x="9625" y="8"/>
                    <a:pt x="9625" y="17"/>
                  </a:cubicBezTo>
                  <a:cubicBezTo>
                    <a:pt x="9625" y="26"/>
                    <a:pt x="9617" y="33"/>
                    <a:pt x="9608" y="33"/>
                  </a:cubicBezTo>
                  <a:close/>
                  <a:moveTo>
                    <a:pt x="9375" y="33"/>
                  </a:moveTo>
                  <a:lnTo>
                    <a:pt x="9275" y="33"/>
                  </a:lnTo>
                  <a:cubicBezTo>
                    <a:pt x="9266" y="33"/>
                    <a:pt x="9258" y="26"/>
                    <a:pt x="9258" y="17"/>
                  </a:cubicBezTo>
                  <a:cubicBezTo>
                    <a:pt x="9258" y="8"/>
                    <a:pt x="9266" y="0"/>
                    <a:pt x="9275" y="0"/>
                  </a:cubicBezTo>
                  <a:lnTo>
                    <a:pt x="9375" y="0"/>
                  </a:lnTo>
                  <a:cubicBezTo>
                    <a:pt x="9384" y="0"/>
                    <a:pt x="9391" y="8"/>
                    <a:pt x="9391" y="17"/>
                  </a:cubicBezTo>
                  <a:cubicBezTo>
                    <a:pt x="9391" y="26"/>
                    <a:pt x="9384" y="33"/>
                    <a:pt x="9375" y="33"/>
                  </a:cubicBezTo>
                  <a:close/>
                  <a:moveTo>
                    <a:pt x="9141" y="33"/>
                  </a:moveTo>
                  <a:lnTo>
                    <a:pt x="9041" y="33"/>
                  </a:lnTo>
                  <a:cubicBezTo>
                    <a:pt x="9032" y="33"/>
                    <a:pt x="9025" y="26"/>
                    <a:pt x="9025" y="17"/>
                  </a:cubicBezTo>
                  <a:cubicBezTo>
                    <a:pt x="9025" y="8"/>
                    <a:pt x="9032" y="0"/>
                    <a:pt x="9041" y="0"/>
                  </a:cubicBezTo>
                  <a:lnTo>
                    <a:pt x="9141" y="0"/>
                  </a:lnTo>
                  <a:cubicBezTo>
                    <a:pt x="9151" y="0"/>
                    <a:pt x="9158" y="8"/>
                    <a:pt x="9158" y="17"/>
                  </a:cubicBezTo>
                  <a:cubicBezTo>
                    <a:pt x="9158" y="26"/>
                    <a:pt x="9151" y="33"/>
                    <a:pt x="9141" y="33"/>
                  </a:cubicBezTo>
                  <a:close/>
                  <a:moveTo>
                    <a:pt x="8908" y="33"/>
                  </a:moveTo>
                  <a:lnTo>
                    <a:pt x="8808" y="33"/>
                  </a:lnTo>
                  <a:cubicBezTo>
                    <a:pt x="8799" y="33"/>
                    <a:pt x="8791" y="26"/>
                    <a:pt x="8791" y="17"/>
                  </a:cubicBezTo>
                  <a:cubicBezTo>
                    <a:pt x="8791" y="8"/>
                    <a:pt x="8799" y="0"/>
                    <a:pt x="8808" y="0"/>
                  </a:cubicBezTo>
                  <a:lnTo>
                    <a:pt x="8908" y="0"/>
                  </a:lnTo>
                  <a:cubicBezTo>
                    <a:pt x="8917" y="0"/>
                    <a:pt x="8925" y="8"/>
                    <a:pt x="8925" y="17"/>
                  </a:cubicBezTo>
                  <a:cubicBezTo>
                    <a:pt x="8925" y="26"/>
                    <a:pt x="8917" y="33"/>
                    <a:pt x="8908" y="33"/>
                  </a:cubicBezTo>
                  <a:close/>
                  <a:moveTo>
                    <a:pt x="8675" y="33"/>
                  </a:moveTo>
                  <a:lnTo>
                    <a:pt x="8575" y="33"/>
                  </a:lnTo>
                  <a:cubicBezTo>
                    <a:pt x="8566" y="33"/>
                    <a:pt x="8558" y="26"/>
                    <a:pt x="8558" y="17"/>
                  </a:cubicBezTo>
                  <a:cubicBezTo>
                    <a:pt x="8558" y="8"/>
                    <a:pt x="8566" y="0"/>
                    <a:pt x="8575" y="0"/>
                  </a:cubicBezTo>
                  <a:lnTo>
                    <a:pt x="8675" y="0"/>
                  </a:lnTo>
                  <a:cubicBezTo>
                    <a:pt x="8684" y="0"/>
                    <a:pt x="8691" y="8"/>
                    <a:pt x="8691" y="17"/>
                  </a:cubicBezTo>
                  <a:cubicBezTo>
                    <a:pt x="8691" y="26"/>
                    <a:pt x="8684" y="33"/>
                    <a:pt x="8675" y="33"/>
                  </a:cubicBezTo>
                  <a:close/>
                  <a:moveTo>
                    <a:pt x="8441" y="33"/>
                  </a:moveTo>
                  <a:lnTo>
                    <a:pt x="8341" y="33"/>
                  </a:lnTo>
                  <a:cubicBezTo>
                    <a:pt x="8332" y="33"/>
                    <a:pt x="8325" y="26"/>
                    <a:pt x="8325" y="17"/>
                  </a:cubicBezTo>
                  <a:cubicBezTo>
                    <a:pt x="8325" y="8"/>
                    <a:pt x="8332" y="0"/>
                    <a:pt x="8341" y="0"/>
                  </a:cubicBezTo>
                  <a:lnTo>
                    <a:pt x="8441" y="0"/>
                  </a:lnTo>
                  <a:cubicBezTo>
                    <a:pt x="8451" y="0"/>
                    <a:pt x="8458" y="8"/>
                    <a:pt x="8458" y="17"/>
                  </a:cubicBezTo>
                  <a:cubicBezTo>
                    <a:pt x="8458" y="26"/>
                    <a:pt x="8451" y="33"/>
                    <a:pt x="8441" y="33"/>
                  </a:cubicBezTo>
                  <a:close/>
                  <a:moveTo>
                    <a:pt x="8208" y="33"/>
                  </a:moveTo>
                  <a:lnTo>
                    <a:pt x="8108" y="33"/>
                  </a:lnTo>
                  <a:cubicBezTo>
                    <a:pt x="8099" y="33"/>
                    <a:pt x="8091" y="26"/>
                    <a:pt x="8091" y="17"/>
                  </a:cubicBezTo>
                  <a:cubicBezTo>
                    <a:pt x="8091" y="8"/>
                    <a:pt x="8099" y="0"/>
                    <a:pt x="8108" y="0"/>
                  </a:cubicBezTo>
                  <a:lnTo>
                    <a:pt x="8208" y="0"/>
                  </a:lnTo>
                  <a:cubicBezTo>
                    <a:pt x="8217" y="0"/>
                    <a:pt x="8225" y="8"/>
                    <a:pt x="8225" y="17"/>
                  </a:cubicBezTo>
                  <a:cubicBezTo>
                    <a:pt x="8225" y="26"/>
                    <a:pt x="8217" y="33"/>
                    <a:pt x="8208" y="33"/>
                  </a:cubicBezTo>
                  <a:close/>
                  <a:moveTo>
                    <a:pt x="7975" y="33"/>
                  </a:moveTo>
                  <a:lnTo>
                    <a:pt x="7875" y="33"/>
                  </a:lnTo>
                  <a:cubicBezTo>
                    <a:pt x="7866" y="33"/>
                    <a:pt x="7858" y="26"/>
                    <a:pt x="7858" y="17"/>
                  </a:cubicBezTo>
                  <a:cubicBezTo>
                    <a:pt x="7858" y="8"/>
                    <a:pt x="7866" y="0"/>
                    <a:pt x="7875" y="0"/>
                  </a:cubicBezTo>
                  <a:lnTo>
                    <a:pt x="7975" y="0"/>
                  </a:lnTo>
                  <a:cubicBezTo>
                    <a:pt x="7984" y="0"/>
                    <a:pt x="7991" y="8"/>
                    <a:pt x="7991" y="17"/>
                  </a:cubicBezTo>
                  <a:cubicBezTo>
                    <a:pt x="7991" y="26"/>
                    <a:pt x="7984" y="33"/>
                    <a:pt x="7975" y="33"/>
                  </a:cubicBezTo>
                  <a:close/>
                  <a:moveTo>
                    <a:pt x="7741" y="33"/>
                  </a:moveTo>
                  <a:lnTo>
                    <a:pt x="7641" y="33"/>
                  </a:lnTo>
                  <a:cubicBezTo>
                    <a:pt x="7632" y="33"/>
                    <a:pt x="7625" y="26"/>
                    <a:pt x="7625" y="17"/>
                  </a:cubicBezTo>
                  <a:cubicBezTo>
                    <a:pt x="7625" y="8"/>
                    <a:pt x="7632" y="0"/>
                    <a:pt x="7641" y="0"/>
                  </a:cubicBezTo>
                  <a:lnTo>
                    <a:pt x="7741" y="0"/>
                  </a:lnTo>
                  <a:cubicBezTo>
                    <a:pt x="7751" y="0"/>
                    <a:pt x="7758" y="8"/>
                    <a:pt x="7758" y="17"/>
                  </a:cubicBezTo>
                  <a:cubicBezTo>
                    <a:pt x="7758" y="26"/>
                    <a:pt x="7751" y="33"/>
                    <a:pt x="7741" y="33"/>
                  </a:cubicBezTo>
                  <a:close/>
                  <a:moveTo>
                    <a:pt x="7508" y="33"/>
                  </a:moveTo>
                  <a:lnTo>
                    <a:pt x="7408" y="33"/>
                  </a:lnTo>
                  <a:cubicBezTo>
                    <a:pt x="7399" y="33"/>
                    <a:pt x="7391" y="26"/>
                    <a:pt x="7391" y="17"/>
                  </a:cubicBezTo>
                  <a:cubicBezTo>
                    <a:pt x="7391" y="8"/>
                    <a:pt x="7399" y="0"/>
                    <a:pt x="7408" y="0"/>
                  </a:cubicBezTo>
                  <a:lnTo>
                    <a:pt x="7508" y="0"/>
                  </a:lnTo>
                  <a:cubicBezTo>
                    <a:pt x="7517" y="0"/>
                    <a:pt x="7525" y="8"/>
                    <a:pt x="7525" y="17"/>
                  </a:cubicBezTo>
                  <a:cubicBezTo>
                    <a:pt x="7525" y="26"/>
                    <a:pt x="7517" y="33"/>
                    <a:pt x="7508" y="33"/>
                  </a:cubicBezTo>
                  <a:close/>
                  <a:moveTo>
                    <a:pt x="7275" y="33"/>
                  </a:moveTo>
                  <a:lnTo>
                    <a:pt x="7175" y="33"/>
                  </a:lnTo>
                  <a:cubicBezTo>
                    <a:pt x="7166" y="33"/>
                    <a:pt x="7158" y="26"/>
                    <a:pt x="7158" y="17"/>
                  </a:cubicBezTo>
                  <a:cubicBezTo>
                    <a:pt x="7158" y="8"/>
                    <a:pt x="7166" y="0"/>
                    <a:pt x="7175" y="0"/>
                  </a:cubicBezTo>
                  <a:lnTo>
                    <a:pt x="7275" y="0"/>
                  </a:lnTo>
                  <a:cubicBezTo>
                    <a:pt x="7284" y="0"/>
                    <a:pt x="7291" y="8"/>
                    <a:pt x="7291" y="17"/>
                  </a:cubicBezTo>
                  <a:cubicBezTo>
                    <a:pt x="7291" y="26"/>
                    <a:pt x="7284" y="33"/>
                    <a:pt x="7275" y="33"/>
                  </a:cubicBezTo>
                  <a:close/>
                  <a:moveTo>
                    <a:pt x="7041" y="33"/>
                  </a:moveTo>
                  <a:lnTo>
                    <a:pt x="6941" y="33"/>
                  </a:lnTo>
                  <a:cubicBezTo>
                    <a:pt x="6932" y="33"/>
                    <a:pt x="6925" y="26"/>
                    <a:pt x="6925" y="17"/>
                  </a:cubicBezTo>
                  <a:cubicBezTo>
                    <a:pt x="6925" y="8"/>
                    <a:pt x="6932" y="0"/>
                    <a:pt x="6941" y="0"/>
                  </a:cubicBezTo>
                  <a:lnTo>
                    <a:pt x="7041" y="0"/>
                  </a:lnTo>
                  <a:cubicBezTo>
                    <a:pt x="7051" y="0"/>
                    <a:pt x="7058" y="8"/>
                    <a:pt x="7058" y="17"/>
                  </a:cubicBezTo>
                  <a:cubicBezTo>
                    <a:pt x="7058" y="26"/>
                    <a:pt x="7051" y="33"/>
                    <a:pt x="7041" y="33"/>
                  </a:cubicBezTo>
                  <a:close/>
                  <a:moveTo>
                    <a:pt x="6808" y="33"/>
                  </a:moveTo>
                  <a:lnTo>
                    <a:pt x="6708" y="33"/>
                  </a:lnTo>
                  <a:cubicBezTo>
                    <a:pt x="6699" y="33"/>
                    <a:pt x="6691" y="26"/>
                    <a:pt x="6691" y="17"/>
                  </a:cubicBezTo>
                  <a:cubicBezTo>
                    <a:pt x="6691" y="8"/>
                    <a:pt x="6699" y="0"/>
                    <a:pt x="6708" y="0"/>
                  </a:cubicBezTo>
                  <a:lnTo>
                    <a:pt x="6808" y="0"/>
                  </a:lnTo>
                  <a:cubicBezTo>
                    <a:pt x="6817" y="0"/>
                    <a:pt x="6825" y="8"/>
                    <a:pt x="6825" y="17"/>
                  </a:cubicBezTo>
                  <a:cubicBezTo>
                    <a:pt x="6825" y="26"/>
                    <a:pt x="6817" y="33"/>
                    <a:pt x="6808" y="33"/>
                  </a:cubicBezTo>
                  <a:close/>
                  <a:moveTo>
                    <a:pt x="6575" y="33"/>
                  </a:moveTo>
                  <a:lnTo>
                    <a:pt x="6475" y="33"/>
                  </a:lnTo>
                  <a:cubicBezTo>
                    <a:pt x="6466" y="33"/>
                    <a:pt x="6458" y="26"/>
                    <a:pt x="6458" y="17"/>
                  </a:cubicBezTo>
                  <a:cubicBezTo>
                    <a:pt x="6458" y="8"/>
                    <a:pt x="6466" y="0"/>
                    <a:pt x="6475" y="0"/>
                  </a:cubicBezTo>
                  <a:lnTo>
                    <a:pt x="6575" y="0"/>
                  </a:lnTo>
                  <a:cubicBezTo>
                    <a:pt x="6584" y="0"/>
                    <a:pt x="6591" y="8"/>
                    <a:pt x="6591" y="17"/>
                  </a:cubicBezTo>
                  <a:cubicBezTo>
                    <a:pt x="6591" y="26"/>
                    <a:pt x="6584" y="33"/>
                    <a:pt x="6575" y="33"/>
                  </a:cubicBezTo>
                  <a:close/>
                  <a:moveTo>
                    <a:pt x="6341" y="33"/>
                  </a:moveTo>
                  <a:lnTo>
                    <a:pt x="6241" y="33"/>
                  </a:lnTo>
                  <a:cubicBezTo>
                    <a:pt x="6232" y="33"/>
                    <a:pt x="6225" y="26"/>
                    <a:pt x="6225" y="17"/>
                  </a:cubicBezTo>
                  <a:cubicBezTo>
                    <a:pt x="6225" y="8"/>
                    <a:pt x="6232" y="0"/>
                    <a:pt x="6241" y="0"/>
                  </a:cubicBezTo>
                  <a:lnTo>
                    <a:pt x="6341" y="0"/>
                  </a:lnTo>
                  <a:cubicBezTo>
                    <a:pt x="6351" y="0"/>
                    <a:pt x="6358" y="8"/>
                    <a:pt x="6358" y="17"/>
                  </a:cubicBezTo>
                  <a:cubicBezTo>
                    <a:pt x="6358" y="26"/>
                    <a:pt x="6351" y="33"/>
                    <a:pt x="6341" y="33"/>
                  </a:cubicBezTo>
                  <a:close/>
                  <a:moveTo>
                    <a:pt x="6108" y="33"/>
                  </a:moveTo>
                  <a:lnTo>
                    <a:pt x="6008" y="33"/>
                  </a:lnTo>
                  <a:cubicBezTo>
                    <a:pt x="5999" y="33"/>
                    <a:pt x="5991" y="26"/>
                    <a:pt x="5991" y="17"/>
                  </a:cubicBezTo>
                  <a:cubicBezTo>
                    <a:pt x="5991" y="8"/>
                    <a:pt x="5999" y="0"/>
                    <a:pt x="6008" y="0"/>
                  </a:cubicBezTo>
                  <a:lnTo>
                    <a:pt x="6108" y="0"/>
                  </a:lnTo>
                  <a:cubicBezTo>
                    <a:pt x="6117" y="0"/>
                    <a:pt x="6125" y="8"/>
                    <a:pt x="6125" y="17"/>
                  </a:cubicBezTo>
                  <a:cubicBezTo>
                    <a:pt x="6125" y="26"/>
                    <a:pt x="6117" y="33"/>
                    <a:pt x="6108" y="33"/>
                  </a:cubicBezTo>
                  <a:close/>
                  <a:moveTo>
                    <a:pt x="5875" y="33"/>
                  </a:moveTo>
                  <a:lnTo>
                    <a:pt x="5775" y="33"/>
                  </a:lnTo>
                  <a:cubicBezTo>
                    <a:pt x="5766" y="33"/>
                    <a:pt x="5758" y="26"/>
                    <a:pt x="5758" y="17"/>
                  </a:cubicBezTo>
                  <a:cubicBezTo>
                    <a:pt x="5758" y="8"/>
                    <a:pt x="5766" y="0"/>
                    <a:pt x="5775" y="0"/>
                  </a:cubicBezTo>
                  <a:lnTo>
                    <a:pt x="5875" y="0"/>
                  </a:lnTo>
                  <a:cubicBezTo>
                    <a:pt x="5884" y="0"/>
                    <a:pt x="5891" y="8"/>
                    <a:pt x="5891" y="17"/>
                  </a:cubicBezTo>
                  <a:cubicBezTo>
                    <a:pt x="5891" y="26"/>
                    <a:pt x="5884" y="33"/>
                    <a:pt x="5875" y="33"/>
                  </a:cubicBezTo>
                  <a:close/>
                  <a:moveTo>
                    <a:pt x="5641" y="33"/>
                  </a:moveTo>
                  <a:lnTo>
                    <a:pt x="5541" y="33"/>
                  </a:lnTo>
                  <a:cubicBezTo>
                    <a:pt x="5532" y="33"/>
                    <a:pt x="5525" y="26"/>
                    <a:pt x="5525" y="17"/>
                  </a:cubicBezTo>
                  <a:cubicBezTo>
                    <a:pt x="5525" y="8"/>
                    <a:pt x="5532" y="0"/>
                    <a:pt x="5541" y="0"/>
                  </a:cubicBezTo>
                  <a:lnTo>
                    <a:pt x="5641" y="0"/>
                  </a:lnTo>
                  <a:cubicBezTo>
                    <a:pt x="5651" y="0"/>
                    <a:pt x="5658" y="8"/>
                    <a:pt x="5658" y="17"/>
                  </a:cubicBezTo>
                  <a:cubicBezTo>
                    <a:pt x="5658" y="26"/>
                    <a:pt x="5651" y="33"/>
                    <a:pt x="5641" y="33"/>
                  </a:cubicBezTo>
                  <a:close/>
                  <a:moveTo>
                    <a:pt x="5408" y="33"/>
                  </a:moveTo>
                  <a:lnTo>
                    <a:pt x="5308" y="33"/>
                  </a:lnTo>
                  <a:cubicBezTo>
                    <a:pt x="5299" y="33"/>
                    <a:pt x="5291" y="26"/>
                    <a:pt x="5291" y="17"/>
                  </a:cubicBezTo>
                  <a:cubicBezTo>
                    <a:pt x="5291" y="8"/>
                    <a:pt x="5299" y="0"/>
                    <a:pt x="5308" y="0"/>
                  </a:cubicBezTo>
                  <a:lnTo>
                    <a:pt x="5408" y="0"/>
                  </a:lnTo>
                  <a:cubicBezTo>
                    <a:pt x="5417" y="0"/>
                    <a:pt x="5425" y="8"/>
                    <a:pt x="5425" y="17"/>
                  </a:cubicBezTo>
                  <a:cubicBezTo>
                    <a:pt x="5425" y="26"/>
                    <a:pt x="5417" y="33"/>
                    <a:pt x="5408" y="33"/>
                  </a:cubicBezTo>
                  <a:close/>
                  <a:moveTo>
                    <a:pt x="5175" y="33"/>
                  </a:moveTo>
                  <a:lnTo>
                    <a:pt x="5075" y="33"/>
                  </a:lnTo>
                  <a:cubicBezTo>
                    <a:pt x="5066" y="33"/>
                    <a:pt x="5058" y="26"/>
                    <a:pt x="5058" y="17"/>
                  </a:cubicBezTo>
                  <a:cubicBezTo>
                    <a:pt x="5058" y="8"/>
                    <a:pt x="5066" y="0"/>
                    <a:pt x="5075" y="0"/>
                  </a:cubicBezTo>
                  <a:lnTo>
                    <a:pt x="5175" y="0"/>
                  </a:lnTo>
                  <a:cubicBezTo>
                    <a:pt x="5184" y="0"/>
                    <a:pt x="5191" y="8"/>
                    <a:pt x="5191" y="17"/>
                  </a:cubicBezTo>
                  <a:cubicBezTo>
                    <a:pt x="5191" y="26"/>
                    <a:pt x="5184" y="33"/>
                    <a:pt x="5175" y="33"/>
                  </a:cubicBezTo>
                  <a:close/>
                  <a:moveTo>
                    <a:pt x="4941" y="33"/>
                  </a:moveTo>
                  <a:lnTo>
                    <a:pt x="4841" y="33"/>
                  </a:lnTo>
                  <a:cubicBezTo>
                    <a:pt x="4832" y="33"/>
                    <a:pt x="4825" y="26"/>
                    <a:pt x="4825" y="17"/>
                  </a:cubicBezTo>
                  <a:cubicBezTo>
                    <a:pt x="4825" y="8"/>
                    <a:pt x="4832" y="0"/>
                    <a:pt x="4841" y="0"/>
                  </a:cubicBezTo>
                  <a:lnTo>
                    <a:pt x="4941" y="0"/>
                  </a:lnTo>
                  <a:cubicBezTo>
                    <a:pt x="4951" y="0"/>
                    <a:pt x="4958" y="8"/>
                    <a:pt x="4958" y="17"/>
                  </a:cubicBezTo>
                  <a:cubicBezTo>
                    <a:pt x="4958" y="26"/>
                    <a:pt x="4951" y="33"/>
                    <a:pt x="4941" y="33"/>
                  </a:cubicBezTo>
                  <a:close/>
                  <a:moveTo>
                    <a:pt x="4708" y="33"/>
                  </a:moveTo>
                  <a:lnTo>
                    <a:pt x="4608" y="33"/>
                  </a:lnTo>
                  <a:cubicBezTo>
                    <a:pt x="4599" y="33"/>
                    <a:pt x="4591" y="26"/>
                    <a:pt x="4591" y="17"/>
                  </a:cubicBezTo>
                  <a:cubicBezTo>
                    <a:pt x="4591" y="8"/>
                    <a:pt x="4599" y="0"/>
                    <a:pt x="4608" y="0"/>
                  </a:cubicBezTo>
                  <a:lnTo>
                    <a:pt x="4708" y="0"/>
                  </a:lnTo>
                  <a:cubicBezTo>
                    <a:pt x="4717" y="0"/>
                    <a:pt x="4725" y="8"/>
                    <a:pt x="4725" y="17"/>
                  </a:cubicBezTo>
                  <a:cubicBezTo>
                    <a:pt x="4725" y="26"/>
                    <a:pt x="4717" y="33"/>
                    <a:pt x="4708" y="33"/>
                  </a:cubicBezTo>
                  <a:close/>
                  <a:moveTo>
                    <a:pt x="4475" y="33"/>
                  </a:moveTo>
                  <a:lnTo>
                    <a:pt x="4375" y="33"/>
                  </a:lnTo>
                  <a:cubicBezTo>
                    <a:pt x="4366" y="33"/>
                    <a:pt x="4358" y="26"/>
                    <a:pt x="4358" y="17"/>
                  </a:cubicBezTo>
                  <a:cubicBezTo>
                    <a:pt x="4358" y="8"/>
                    <a:pt x="4366" y="0"/>
                    <a:pt x="4375" y="0"/>
                  </a:cubicBezTo>
                  <a:lnTo>
                    <a:pt x="4475" y="0"/>
                  </a:lnTo>
                  <a:cubicBezTo>
                    <a:pt x="4484" y="0"/>
                    <a:pt x="4491" y="8"/>
                    <a:pt x="4491" y="17"/>
                  </a:cubicBezTo>
                  <a:cubicBezTo>
                    <a:pt x="4491" y="26"/>
                    <a:pt x="4484" y="33"/>
                    <a:pt x="4475" y="33"/>
                  </a:cubicBezTo>
                  <a:close/>
                  <a:moveTo>
                    <a:pt x="4241" y="33"/>
                  </a:moveTo>
                  <a:lnTo>
                    <a:pt x="4141" y="33"/>
                  </a:lnTo>
                  <a:cubicBezTo>
                    <a:pt x="4132" y="33"/>
                    <a:pt x="4125" y="26"/>
                    <a:pt x="4125" y="17"/>
                  </a:cubicBezTo>
                  <a:cubicBezTo>
                    <a:pt x="4125" y="8"/>
                    <a:pt x="4132" y="0"/>
                    <a:pt x="4141" y="0"/>
                  </a:cubicBezTo>
                  <a:lnTo>
                    <a:pt x="4241" y="0"/>
                  </a:lnTo>
                  <a:cubicBezTo>
                    <a:pt x="4251" y="0"/>
                    <a:pt x="4258" y="8"/>
                    <a:pt x="4258" y="17"/>
                  </a:cubicBezTo>
                  <a:cubicBezTo>
                    <a:pt x="4258" y="26"/>
                    <a:pt x="4251" y="33"/>
                    <a:pt x="4241" y="33"/>
                  </a:cubicBezTo>
                  <a:close/>
                  <a:moveTo>
                    <a:pt x="4008" y="33"/>
                  </a:moveTo>
                  <a:lnTo>
                    <a:pt x="3908" y="33"/>
                  </a:lnTo>
                  <a:cubicBezTo>
                    <a:pt x="3899" y="33"/>
                    <a:pt x="3891" y="26"/>
                    <a:pt x="3891" y="17"/>
                  </a:cubicBezTo>
                  <a:cubicBezTo>
                    <a:pt x="3891" y="8"/>
                    <a:pt x="3899" y="0"/>
                    <a:pt x="3908" y="0"/>
                  </a:cubicBezTo>
                  <a:lnTo>
                    <a:pt x="4008" y="0"/>
                  </a:lnTo>
                  <a:cubicBezTo>
                    <a:pt x="4017" y="0"/>
                    <a:pt x="4025" y="8"/>
                    <a:pt x="4025" y="17"/>
                  </a:cubicBezTo>
                  <a:cubicBezTo>
                    <a:pt x="4025" y="26"/>
                    <a:pt x="4017" y="33"/>
                    <a:pt x="4008" y="33"/>
                  </a:cubicBezTo>
                  <a:close/>
                  <a:moveTo>
                    <a:pt x="3775" y="33"/>
                  </a:moveTo>
                  <a:lnTo>
                    <a:pt x="3675" y="33"/>
                  </a:lnTo>
                  <a:cubicBezTo>
                    <a:pt x="3666" y="33"/>
                    <a:pt x="3658" y="26"/>
                    <a:pt x="3658" y="17"/>
                  </a:cubicBezTo>
                  <a:cubicBezTo>
                    <a:pt x="3658" y="8"/>
                    <a:pt x="3666" y="0"/>
                    <a:pt x="3675" y="0"/>
                  </a:cubicBezTo>
                  <a:lnTo>
                    <a:pt x="3775" y="0"/>
                  </a:lnTo>
                  <a:cubicBezTo>
                    <a:pt x="3784" y="0"/>
                    <a:pt x="3791" y="8"/>
                    <a:pt x="3791" y="17"/>
                  </a:cubicBezTo>
                  <a:cubicBezTo>
                    <a:pt x="3791" y="26"/>
                    <a:pt x="3784" y="33"/>
                    <a:pt x="3775" y="33"/>
                  </a:cubicBezTo>
                  <a:close/>
                  <a:moveTo>
                    <a:pt x="3541" y="33"/>
                  </a:moveTo>
                  <a:lnTo>
                    <a:pt x="3441" y="33"/>
                  </a:lnTo>
                  <a:cubicBezTo>
                    <a:pt x="3432" y="33"/>
                    <a:pt x="3425" y="26"/>
                    <a:pt x="3425" y="17"/>
                  </a:cubicBezTo>
                  <a:cubicBezTo>
                    <a:pt x="3425" y="8"/>
                    <a:pt x="3432" y="0"/>
                    <a:pt x="3441" y="0"/>
                  </a:cubicBezTo>
                  <a:lnTo>
                    <a:pt x="3541" y="0"/>
                  </a:lnTo>
                  <a:cubicBezTo>
                    <a:pt x="3551" y="0"/>
                    <a:pt x="3558" y="8"/>
                    <a:pt x="3558" y="17"/>
                  </a:cubicBezTo>
                  <a:cubicBezTo>
                    <a:pt x="3558" y="26"/>
                    <a:pt x="3551" y="33"/>
                    <a:pt x="3541" y="33"/>
                  </a:cubicBezTo>
                  <a:close/>
                  <a:moveTo>
                    <a:pt x="3308" y="33"/>
                  </a:moveTo>
                  <a:lnTo>
                    <a:pt x="3208" y="33"/>
                  </a:lnTo>
                  <a:cubicBezTo>
                    <a:pt x="3199" y="33"/>
                    <a:pt x="3191" y="26"/>
                    <a:pt x="3191" y="17"/>
                  </a:cubicBezTo>
                  <a:cubicBezTo>
                    <a:pt x="3191" y="8"/>
                    <a:pt x="3199" y="0"/>
                    <a:pt x="3208" y="0"/>
                  </a:cubicBezTo>
                  <a:lnTo>
                    <a:pt x="3308" y="0"/>
                  </a:lnTo>
                  <a:cubicBezTo>
                    <a:pt x="3317" y="0"/>
                    <a:pt x="3325" y="8"/>
                    <a:pt x="3325" y="17"/>
                  </a:cubicBezTo>
                  <a:cubicBezTo>
                    <a:pt x="3325" y="26"/>
                    <a:pt x="3317" y="33"/>
                    <a:pt x="3308" y="33"/>
                  </a:cubicBezTo>
                  <a:close/>
                  <a:moveTo>
                    <a:pt x="3075" y="33"/>
                  </a:moveTo>
                  <a:lnTo>
                    <a:pt x="2975" y="33"/>
                  </a:lnTo>
                  <a:cubicBezTo>
                    <a:pt x="2966" y="33"/>
                    <a:pt x="2958" y="26"/>
                    <a:pt x="2958" y="17"/>
                  </a:cubicBezTo>
                  <a:cubicBezTo>
                    <a:pt x="2958" y="8"/>
                    <a:pt x="2966" y="0"/>
                    <a:pt x="2975" y="0"/>
                  </a:cubicBezTo>
                  <a:lnTo>
                    <a:pt x="3075" y="0"/>
                  </a:lnTo>
                  <a:cubicBezTo>
                    <a:pt x="3084" y="0"/>
                    <a:pt x="3091" y="8"/>
                    <a:pt x="3091" y="17"/>
                  </a:cubicBezTo>
                  <a:cubicBezTo>
                    <a:pt x="3091" y="26"/>
                    <a:pt x="3084" y="33"/>
                    <a:pt x="3075" y="33"/>
                  </a:cubicBezTo>
                  <a:close/>
                  <a:moveTo>
                    <a:pt x="2841" y="33"/>
                  </a:moveTo>
                  <a:lnTo>
                    <a:pt x="2741" y="33"/>
                  </a:lnTo>
                  <a:cubicBezTo>
                    <a:pt x="2732" y="33"/>
                    <a:pt x="2725" y="26"/>
                    <a:pt x="2725" y="17"/>
                  </a:cubicBezTo>
                  <a:cubicBezTo>
                    <a:pt x="2725" y="8"/>
                    <a:pt x="2732" y="0"/>
                    <a:pt x="2741" y="0"/>
                  </a:cubicBezTo>
                  <a:lnTo>
                    <a:pt x="2841" y="0"/>
                  </a:lnTo>
                  <a:cubicBezTo>
                    <a:pt x="2851" y="0"/>
                    <a:pt x="2858" y="8"/>
                    <a:pt x="2858" y="17"/>
                  </a:cubicBezTo>
                  <a:cubicBezTo>
                    <a:pt x="2858" y="26"/>
                    <a:pt x="2851" y="33"/>
                    <a:pt x="2841" y="33"/>
                  </a:cubicBezTo>
                  <a:close/>
                  <a:moveTo>
                    <a:pt x="2608" y="33"/>
                  </a:moveTo>
                  <a:lnTo>
                    <a:pt x="2508" y="33"/>
                  </a:lnTo>
                  <a:cubicBezTo>
                    <a:pt x="2499" y="33"/>
                    <a:pt x="2491" y="26"/>
                    <a:pt x="2491" y="17"/>
                  </a:cubicBezTo>
                  <a:cubicBezTo>
                    <a:pt x="2491" y="8"/>
                    <a:pt x="2499" y="0"/>
                    <a:pt x="2508" y="0"/>
                  </a:cubicBezTo>
                  <a:lnTo>
                    <a:pt x="2608" y="0"/>
                  </a:lnTo>
                  <a:cubicBezTo>
                    <a:pt x="2617" y="0"/>
                    <a:pt x="2625" y="8"/>
                    <a:pt x="2625" y="17"/>
                  </a:cubicBezTo>
                  <a:cubicBezTo>
                    <a:pt x="2625" y="26"/>
                    <a:pt x="2617" y="33"/>
                    <a:pt x="2608" y="33"/>
                  </a:cubicBezTo>
                  <a:close/>
                  <a:moveTo>
                    <a:pt x="2375" y="33"/>
                  </a:moveTo>
                  <a:lnTo>
                    <a:pt x="2275" y="33"/>
                  </a:lnTo>
                  <a:cubicBezTo>
                    <a:pt x="2266" y="33"/>
                    <a:pt x="2258" y="26"/>
                    <a:pt x="2258" y="17"/>
                  </a:cubicBezTo>
                  <a:cubicBezTo>
                    <a:pt x="2258" y="8"/>
                    <a:pt x="2266" y="0"/>
                    <a:pt x="2275" y="0"/>
                  </a:cubicBezTo>
                  <a:lnTo>
                    <a:pt x="2375" y="0"/>
                  </a:lnTo>
                  <a:cubicBezTo>
                    <a:pt x="2384" y="0"/>
                    <a:pt x="2391" y="8"/>
                    <a:pt x="2391" y="17"/>
                  </a:cubicBezTo>
                  <a:cubicBezTo>
                    <a:pt x="2391" y="26"/>
                    <a:pt x="2384" y="33"/>
                    <a:pt x="2375" y="33"/>
                  </a:cubicBezTo>
                  <a:close/>
                  <a:moveTo>
                    <a:pt x="2141" y="33"/>
                  </a:moveTo>
                  <a:lnTo>
                    <a:pt x="2041" y="33"/>
                  </a:lnTo>
                  <a:cubicBezTo>
                    <a:pt x="2032" y="33"/>
                    <a:pt x="2025" y="26"/>
                    <a:pt x="2025" y="17"/>
                  </a:cubicBezTo>
                  <a:cubicBezTo>
                    <a:pt x="2025" y="8"/>
                    <a:pt x="2032" y="0"/>
                    <a:pt x="2041" y="0"/>
                  </a:cubicBezTo>
                  <a:lnTo>
                    <a:pt x="2141" y="0"/>
                  </a:lnTo>
                  <a:cubicBezTo>
                    <a:pt x="2151" y="0"/>
                    <a:pt x="2158" y="8"/>
                    <a:pt x="2158" y="17"/>
                  </a:cubicBezTo>
                  <a:cubicBezTo>
                    <a:pt x="2158" y="26"/>
                    <a:pt x="2151" y="33"/>
                    <a:pt x="2141" y="33"/>
                  </a:cubicBezTo>
                  <a:close/>
                  <a:moveTo>
                    <a:pt x="1908" y="33"/>
                  </a:moveTo>
                  <a:lnTo>
                    <a:pt x="1808" y="33"/>
                  </a:lnTo>
                  <a:cubicBezTo>
                    <a:pt x="1799" y="33"/>
                    <a:pt x="1791" y="26"/>
                    <a:pt x="1791" y="17"/>
                  </a:cubicBezTo>
                  <a:cubicBezTo>
                    <a:pt x="1791" y="8"/>
                    <a:pt x="1799" y="0"/>
                    <a:pt x="1808" y="0"/>
                  </a:cubicBezTo>
                  <a:lnTo>
                    <a:pt x="1908" y="0"/>
                  </a:lnTo>
                  <a:cubicBezTo>
                    <a:pt x="1917" y="0"/>
                    <a:pt x="1925" y="8"/>
                    <a:pt x="1925" y="17"/>
                  </a:cubicBezTo>
                  <a:cubicBezTo>
                    <a:pt x="1925" y="26"/>
                    <a:pt x="1917" y="33"/>
                    <a:pt x="1908" y="33"/>
                  </a:cubicBezTo>
                  <a:close/>
                  <a:moveTo>
                    <a:pt x="1675" y="33"/>
                  </a:moveTo>
                  <a:lnTo>
                    <a:pt x="1575" y="33"/>
                  </a:lnTo>
                  <a:cubicBezTo>
                    <a:pt x="1566" y="33"/>
                    <a:pt x="1558" y="26"/>
                    <a:pt x="1558" y="17"/>
                  </a:cubicBezTo>
                  <a:cubicBezTo>
                    <a:pt x="1558" y="8"/>
                    <a:pt x="1566" y="0"/>
                    <a:pt x="1575" y="0"/>
                  </a:cubicBezTo>
                  <a:lnTo>
                    <a:pt x="1675" y="0"/>
                  </a:lnTo>
                  <a:cubicBezTo>
                    <a:pt x="1684" y="0"/>
                    <a:pt x="1691" y="8"/>
                    <a:pt x="1691" y="17"/>
                  </a:cubicBezTo>
                  <a:cubicBezTo>
                    <a:pt x="1691" y="26"/>
                    <a:pt x="1684" y="33"/>
                    <a:pt x="1675" y="33"/>
                  </a:cubicBezTo>
                  <a:close/>
                  <a:moveTo>
                    <a:pt x="1441" y="33"/>
                  </a:moveTo>
                  <a:lnTo>
                    <a:pt x="1341" y="33"/>
                  </a:lnTo>
                  <a:cubicBezTo>
                    <a:pt x="1332" y="33"/>
                    <a:pt x="1325" y="26"/>
                    <a:pt x="1325" y="17"/>
                  </a:cubicBezTo>
                  <a:cubicBezTo>
                    <a:pt x="1325" y="8"/>
                    <a:pt x="1332" y="0"/>
                    <a:pt x="1341" y="0"/>
                  </a:cubicBezTo>
                  <a:lnTo>
                    <a:pt x="1441" y="0"/>
                  </a:lnTo>
                  <a:cubicBezTo>
                    <a:pt x="1451" y="0"/>
                    <a:pt x="1458" y="8"/>
                    <a:pt x="1458" y="17"/>
                  </a:cubicBezTo>
                  <a:cubicBezTo>
                    <a:pt x="1458" y="26"/>
                    <a:pt x="1451" y="33"/>
                    <a:pt x="1441" y="33"/>
                  </a:cubicBezTo>
                  <a:close/>
                  <a:moveTo>
                    <a:pt x="1208" y="33"/>
                  </a:moveTo>
                  <a:lnTo>
                    <a:pt x="1108" y="33"/>
                  </a:lnTo>
                  <a:cubicBezTo>
                    <a:pt x="1099" y="33"/>
                    <a:pt x="1091" y="26"/>
                    <a:pt x="1091" y="17"/>
                  </a:cubicBezTo>
                  <a:cubicBezTo>
                    <a:pt x="1091" y="8"/>
                    <a:pt x="1099" y="0"/>
                    <a:pt x="1108" y="0"/>
                  </a:cubicBezTo>
                  <a:lnTo>
                    <a:pt x="1208" y="0"/>
                  </a:lnTo>
                  <a:cubicBezTo>
                    <a:pt x="1217" y="0"/>
                    <a:pt x="1225" y="8"/>
                    <a:pt x="1225" y="17"/>
                  </a:cubicBezTo>
                  <a:cubicBezTo>
                    <a:pt x="1225" y="26"/>
                    <a:pt x="1217" y="33"/>
                    <a:pt x="1208" y="33"/>
                  </a:cubicBezTo>
                  <a:close/>
                  <a:moveTo>
                    <a:pt x="975" y="33"/>
                  </a:moveTo>
                  <a:lnTo>
                    <a:pt x="875" y="33"/>
                  </a:lnTo>
                  <a:cubicBezTo>
                    <a:pt x="866" y="33"/>
                    <a:pt x="858" y="26"/>
                    <a:pt x="858" y="17"/>
                  </a:cubicBezTo>
                  <a:cubicBezTo>
                    <a:pt x="858" y="8"/>
                    <a:pt x="866" y="0"/>
                    <a:pt x="875" y="0"/>
                  </a:cubicBezTo>
                  <a:lnTo>
                    <a:pt x="975" y="0"/>
                  </a:lnTo>
                  <a:cubicBezTo>
                    <a:pt x="984" y="0"/>
                    <a:pt x="991" y="8"/>
                    <a:pt x="991" y="17"/>
                  </a:cubicBezTo>
                  <a:cubicBezTo>
                    <a:pt x="991" y="26"/>
                    <a:pt x="984" y="33"/>
                    <a:pt x="975" y="33"/>
                  </a:cubicBezTo>
                  <a:close/>
                  <a:moveTo>
                    <a:pt x="741" y="33"/>
                  </a:moveTo>
                  <a:lnTo>
                    <a:pt x="641" y="33"/>
                  </a:lnTo>
                  <a:cubicBezTo>
                    <a:pt x="632" y="33"/>
                    <a:pt x="625" y="26"/>
                    <a:pt x="625" y="17"/>
                  </a:cubicBezTo>
                  <a:cubicBezTo>
                    <a:pt x="625" y="8"/>
                    <a:pt x="632" y="0"/>
                    <a:pt x="641" y="0"/>
                  </a:cubicBezTo>
                  <a:lnTo>
                    <a:pt x="741" y="0"/>
                  </a:lnTo>
                  <a:cubicBezTo>
                    <a:pt x="751" y="0"/>
                    <a:pt x="758" y="8"/>
                    <a:pt x="758" y="17"/>
                  </a:cubicBezTo>
                  <a:cubicBezTo>
                    <a:pt x="758" y="26"/>
                    <a:pt x="751" y="33"/>
                    <a:pt x="741" y="33"/>
                  </a:cubicBezTo>
                  <a:close/>
                  <a:moveTo>
                    <a:pt x="508" y="33"/>
                  </a:moveTo>
                  <a:lnTo>
                    <a:pt x="408" y="33"/>
                  </a:lnTo>
                  <a:cubicBezTo>
                    <a:pt x="399" y="33"/>
                    <a:pt x="391" y="26"/>
                    <a:pt x="391" y="17"/>
                  </a:cubicBezTo>
                  <a:cubicBezTo>
                    <a:pt x="391" y="8"/>
                    <a:pt x="399" y="0"/>
                    <a:pt x="408" y="0"/>
                  </a:cubicBezTo>
                  <a:lnTo>
                    <a:pt x="508" y="0"/>
                  </a:lnTo>
                  <a:cubicBezTo>
                    <a:pt x="517" y="0"/>
                    <a:pt x="525" y="8"/>
                    <a:pt x="525" y="17"/>
                  </a:cubicBezTo>
                  <a:cubicBezTo>
                    <a:pt x="525" y="26"/>
                    <a:pt x="517" y="33"/>
                    <a:pt x="508" y="33"/>
                  </a:cubicBezTo>
                  <a:close/>
                  <a:moveTo>
                    <a:pt x="275" y="33"/>
                  </a:moveTo>
                  <a:lnTo>
                    <a:pt x="175" y="33"/>
                  </a:lnTo>
                  <a:cubicBezTo>
                    <a:pt x="166" y="33"/>
                    <a:pt x="158" y="26"/>
                    <a:pt x="158" y="17"/>
                  </a:cubicBezTo>
                  <a:cubicBezTo>
                    <a:pt x="158" y="8"/>
                    <a:pt x="166" y="0"/>
                    <a:pt x="175" y="0"/>
                  </a:cubicBezTo>
                  <a:lnTo>
                    <a:pt x="275" y="0"/>
                  </a:lnTo>
                  <a:cubicBezTo>
                    <a:pt x="284" y="0"/>
                    <a:pt x="291" y="8"/>
                    <a:pt x="291" y="17"/>
                  </a:cubicBezTo>
                  <a:cubicBezTo>
                    <a:pt x="291" y="26"/>
                    <a:pt x="284" y="33"/>
                    <a:pt x="275" y="33"/>
                  </a:cubicBezTo>
                  <a:close/>
                  <a:moveTo>
                    <a:pt x="41" y="33"/>
                  </a:moveTo>
                  <a:lnTo>
                    <a:pt x="16" y="33"/>
                  </a:lnTo>
                  <a:cubicBezTo>
                    <a:pt x="7" y="33"/>
                    <a:pt x="0" y="26"/>
                    <a:pt x="0" y="17"/>
                  </a:cubicBezTo>
                  <a:cubicBezTo>
                    <a:pt x="0" y="8"/>
                    <a:pt x="7" y="0"/>
                    <a:pt x="16" y="0"/>
                  </a:cubicBezTo>
                  <a:lnTo>
                    <a:pt x="41" y="0"/>
                  </a:lnTo>
                  <a:cubicBezTo>
                    <a:pt x="51" y="0"/>
                    <a:pt x="58" y="8"/>
                    <a:pt x="58" y="17"/>
                  </a:cubicBezTo>
                  <a:cubicBezTo>
                    <a:pt x="58" y="26"/>
                    <a:pt x="51" y="33"/>
                    <a:pt x="41" y="33"/>
                  </a:cubicBez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98360" y="3530520"/>
              <a:ext cx="2629440" cy="4320"/>
            </a:xfrm>
            <a:custGeom>
              <a:avLst/>
              <a:gdLst/>
              <a:ahLst/>
              <a:rect l="l" t="t" r="r" b="b"/>
              <a:pathLst>
                <a:path w="20825" h="33">
                  <a:moveTo>
                    <a:pt x="20808" y="33"/>
                  </a:moveTo>
                  <a:lnTo>
                    <a:pt x="20708" y="33"/>
                  </a:lnTo>
                  <a:cubicBezTo>
                    <a:pt x="20699" y="33"/>
                    <a:pt x="20691" y="26"/>
                    <a:pt x="20691" y="16"/>
                  </a:cubicBezTo>
                  <a:cubicBezTo>
                    <a:pt x="20691" y="7"/>
                    <a:pt x="20699" y="0"/>
                    <a:pt x="20708" y="0"/>
                  </a:cubicBezTo>
                  <a:lnTo>
                    <a:pt x="20808" y="0"/>
                  </a:lnTo>
                  <a:cubicBezTo>
                    <a:pt x="20817" y="0"/>
                    <a:pt x="20825" y="7"/>
                    <a:pt x="20825" y="16"/>
                  </a:cubicBezTo>
                  <a:cubicBezTo>
                    <a:pt x="20825" y="26"/>
                    <a:pt x="20817" y="33"/>
                    <a:pt x="20808" y="33"/>
                  </a:cubicBezTo>
                  <a:close/>
                  <a:moveTo>
                    <a:pt x="20575" y="33"/>
                  </a:moveTo>
                  <a:lnTo>
                    <a:pt x="20475" y="33"/>
                  </a:lnTo>
                  <a:cubicBezTo>
                    <a:pt x="20466" y="33"/>
                    <a:pt x="20458" y="26"/>
                    <a:pt x="20458" y="16"/>
                  </a:cubicBezTo>
                  <a:cubicBezTo>
                    <a:pt x="20458" y="7"/>
                    <a:pt x="20466" y="0"/>
                    <a:pt x="20475" y="0"/>
                  </a:cubicBezTo>
                  <a:lnTo>
                    <a:pt x="20575" y="0"/>
                  </a:lnTo>
                  <a:cubicBezTo>
                    <a:pt x="20584" y="0"/>
                    <a:pt x="20591" y="7"/>
                    <a:pt x="20591" y="16"/>
                  </a:cubicBezTo>
                  <a:cubicBezTo>
                    <a:pt x="20591" y="26"/>
                    <a:pt x="20584" y="33"/>
                    <a:pt x="20575" y="33"/>
                  </a:cubicBezTo>
                  <a:close/>
                  <a:moveTo>
                    <a:pt x="20341" y="33"/>
                  </a:moveTo>
                  <a:lnTo>
                    <a:pt x="20241" y="33"/>
                  </a:lnTo>
                  <a:cubicBezTo>
                    <a:pt x="20232" y="33"/>
                    <a:pt x="20225" y="26"/>
                    <a:pt x="20225" y="16"/>
                  </a:cubicBezTo>
                  <a:cubicBezTo>
                    <a:pt x="20225" y="7"/>
                    <a:pt x="20232" y="0"/>
                    <a:pt x="20241" y="0"/>
                  </a:cubicBezTo>
                  <a:lnTo>
                    <a:pt x="20341" y="0"/>
                  </a:lnTo>
                  <a:cubicBezTo>
                    <a:pt x="20351" y="0"/>
                    <a:pt x="20358" y="7"/>
                    <a:pt x="20358" y="16"/>
                  </a:cubicBezTo>
                  <a:cubicBezTo>
                    <a:pt x="20358" y="26"/>
                    <a:pt x="20351" y="33"/>
                    <a:pt x="20341" y="33"/>
                  </a:cubicBezTo>
                  <a:close/>
                  <a:moveTo>
                    <a:pt x="20108" y="33"/>
                  </a:moveTo>
                  <a:lnTo>
                    <a:pt x="20008" y="33"/>
                  </a:lnTo>
                  <a:cubicBezTo>
                    <a:pt x="19999" y="33"/>
                    <a:pt x="19991" y="26"/>
                    <a:pt x="19991" y="16"/>
                  </a:cubicBezTo>
                  <a:cubicBezTo>
                    <a:pt x="19991" y="7"/>
                    <a:pt x="19999" y="0"/>
                    <a:pt x="20008" y="0"/>
                  </a:cubicBezTo>
                  <a:lnTo>
                    <a:pt x="20108" y="0"/>
                  </a:lnTo>
                  <a:cubicBezTo>
                    <a:pt x="20117" y="0"/>
                    <a:pt x="20125" y="7"/>
                    <a:pt x="20125" y="16"/>
                  </a:cubicBezTo>
                  <a:cubicBezTo>
                    <a:pt x="20125" y="26"/>
                    <a:pt x="20117" y="33"/>
                    <a:pt x="20108" y="33"/>
                  </a:cubicBezTo>
                  <a:close/>
                  <a:moveTo>
                    <a:pt x="19875" y="33"/>
                  </a:moveTo>
                  <a:lnTo>
                    <a:pt x="19775" y="33"/>
                  </a:lnTo>
                  <a:cubicBezTo>
                    <a:pt x="19766" y="33"/>
                    <a:pt x="19758" y="26"/>
                    <a:pt x="19758" y="16"/>
                  </a:cubicBezTo>
                  <a:cubicBezTo>
                    <a:pt x="19758" y="7"/>
                    <a:pt x="19766" y="0"/>
                    <a:pt x="19775" y="0"/>
                  </a:cubicBezTo>
                  <a:lnTo>
                    <a:pt x="19875" y="0"/>
                  </a:lnTo>
                  <a:cubicBezTo>
                    <a:pt x="19884" y="0"/>
                    <a:pt x="19891" y="7"/>
                    <a:pt x="19891" y="16"/>
                  </a:cubicBezTo>
                  <a:cubicBezTo>
                    <a:pt x="19891" y="26"/>
                    <a:pt x="19884" y="33"/>
                    <a:pt x="19875" y="33"/>
                  </a:cubicBezTo>
                  <a:close/>
                  <a:moveTo>
                    <a:pt x="19641" y="33"/>
                  </a:moveTo>
                  <a:lnTo>
                    <a:pt x="19541" y="33"/>
                  </a:lnTo>
                  <a:cubicBezTo>
                    <a:pt x="19532" y="33"/>
                    <a:pt x="19525" y="26"/>
                    <a:pt x="19525" y="16"/>
                  </a:cubicBezTo>
                  <a:cubicBezTo>
                    <a:pt x="19525" y="7"/>
                    <a:pt x="19532" y="0"/>
                    <a:pt x="19541" y="0"/>
                  </a:cubicBezTo>
                  <a:lnTo>
                    <a:pt x="19641" y="0"/>
                  </a:lnTo>
                  <a:cubicBezTo>
                    <a:pt x="19651" y="0"/>
                    <a:pt x="19658" y="7"/>
                    <a:pt x="19658" y="16"/>
                  </a:cubicBezTo>
                  <a:cubicBezTo>
                    <a:pt x="19658" y="26"/>
                    <a:pt x="19651" y="33"/>
                    <a:pt x="19641" y="33"/>
                  </a:cubicBezTo>
                  <a:close/>
                  <a:moveTo>
                    <a:pt x="19408" y="33"/>
                  </a:moveTo>
                  <a:lnTo>
                    <a:pt x="19308" y="33"/>
                  </a:lnTo>
                  <a:cubicBezTo>
                    <a:pt x="19299" y="33"/>
                    <a:pt x="19291" y="26"/>
                    <a:pt x="19291" y="16"/>
                  </a:cubicBezTo>
                  <a:cubicBezTo>
                    <a:pt x="19291" y="7"/>
                    <a:pt x="19299" y="0"/>
                    <a:pt x="19308" y="0"/>
                  </a:cubicBezTo>
                  <a:lnTo>
                    <a:pt x="19408" y="0"/>
                  </a:lnTo>
                  <a:cubicBezTo>
                    <a:pt x="19417" y="0"/>
                    <a:pt x="19425" y="7"/>
                    <a:pt x="19425" y="16"/>
                  </a:cubicBezTo>
                  <a:cubicBezTo>
                    <a:pt x="19425" y="26"/>
                    <a:pt x="19417" y="33"/>
                    <a:pt x="19408" y="33"/>
                  </a:cubicBezTo>
                  <a:close/>
                  <a:moveTo>
                    <a:pt x="19175" y="33"/>
                  </a:moveTo>
                  <a:lnTo>
                    <a:pt x="19075" y="33"/>
                  </a:lnTo>
                  <a:cubicBezTo>
                    <a:pt x="19066" y="33"/>
                    <a:pt x="19058" y="26"/>
                    <a:pt x="19058" y="16"/>
                  </a:cubicBezTo>
                  <a:cubicBezTo>
                    <a:pt x="19058" y="7"/>
                    <a:pt x="19066" y="0"/>
                    <a:pt x="19075" y="0"/>
                  </a:cubicBezTo>
                  <a:lnTo>
                    <a:pt x="19175" y="0"/>
                  </a:lnTo>
                  <a:cubicBezTo>
                    <a:pt x="19184" y="0"/>
                    <a:pt x="19191" y="7"/>
                    <a:pt x="19191" y="16"/>
                  </a:cubicBezTo>
                  <a:cubicBezTo>
                    <a:pt x="19191" y="26"/>
                    <a:pt x="19184" y="33"/>
                    <a:pt x="19175" y="33"/>
                  </a:cubicBezTo>
                  <a:close/>
                  <a:moveTo>
                    <a:pt x="18941" y="33"/>
                  </a:moveTo>
                  <a:lnTo>
                    <a:pt x="18841" y="33"/>
                  </a:lnTo>
                  <a:cubicBezTo>
                    <a:pt x="18832" y="33"/>
                    <a:pt x="18825" y="26"/>
                    <a:pt x="18825" y="16"/>
                  </a:cubicBezTo>
                  <a:cubicBezTo>
                    <a:pt x="18825" y="7"/>
                    <a:pt x="18832" y="0"/>
                    <a:pt x="18841" y="0"/>
                  </a:cubicBezTo>
                  <a:lnTo>
                    <a:pt x="18941" y="0"/>
                  </a:lnTo>
                  <a:cubicBezTo>
                    <a:pt x="18951" y="0"/>
                    <a:pt x="18958" y="7"/>
                    <a:pt x="18958" y="16"/>
                  </a:cubicBezTo>
                  <a:cubicBezTo>
                    <a:pt x="18958" y="26"/>
                    <a:pt x="18951" y="33"/>
                    <a:pt x="18941" y="33"/>
                  </a:cubicBezTo>
                  <a:close/>
                  <a:moveTo>
                    <a:pt x="18708" y="33"/>
                  </a:moveTo>
                  <a:lnTo>
                    <a:pt x="18608" y="33"/>
                  </a:lnTo>
                  <a:cubicBezTo>
                    <a:pt x="18599" y="33"/>
                    <a:pt x="18591" y="26"/>
                    <a:pt x="18591" y="16"/>
                  </a:cubicBezTo>
                  <a:cubicBezTo>
                    <a:pt x="18591" y="7"/>
                    <a:pt x="18599" y="0"/>
                    <a:pt x="18608" y="0"/>
                  </a:cubicBezTo>
                  <a:lnTo>
                    <a:pt x="18708" y="0"/>
                  </a:lnTo>
                  <a:cubicBezTo>
                    <a:pt x="18717" y="0"/>
                    <a:pt x="18725" y="7"/>
                    <a:pt x="18725" y="16"/>
                  </a:cubicBezTo>
                  <a:cubicBezTo>
                    <a:pt x="18725" y="26"/>
                    <a:pt x="18717" y="33"/>
                    <a:pt x="18708" y="33"/>
                  </a:cubicBezTo>
                  <a:close/>
                  <a:moveTo>
                    <a:pt x="18475" y="33"/>
                  </a:moveTo>
                  <a:lnTo>
                    <a:pt x="18375" y="33"/>
                  </a:lnTo>
                  <a:cubicBezTo>
                    <a:pt x="18366" y="33"/>
                    <a:pt x="18358" y="26"/>
                    <a:pt x="18358" y="16"/>
                  </a:cubicBezTo>
                  <a:cubicBezTo>
                    <a:pt x="18358" y="7"/>
                    <a:pt x="18366" y="0"/>
                    <a:pt x="18375" y="0"/>
                  </a:cubicBezTo>
                  <a:lnTo>
                    <a:pt x="18475" y="0"/>
                  </a:lnTo>
                  <a:cubicBezTo>
                    <a:pt x="18484" y="0"/>
                    <a:pt x="18491" y="7"/>
                    <a:pt x="18491" y="16"/>
                  </a:cubicBezTo>
                  <a:cubicBezTo>
                    <a:pt x="18491" y="26"/>
                    <a:pt x="18484" y="33"/>
                    <a:pt x="18475" y="33"/>
                  </a:cubicBezTo>
                  <a:close/>
                  <a:moveTo>
                    <a:pt x="18241" y="33"/>
                  </a:moveTo>
                  <a:lnTo>
                    <a:pt x="18141" y="33"/>
                  </a:lnTo>
                  <a:cubicBezTo>
                    <a:pt x="18132" y="33"/>
                    <a:pt x="18125" y="26"/>
                    <a:pt x="18125" y="16"/>
                  </a:cubicBezTo>
                  <a:cubicBezTo>
                    <a:pt x="18125" y="7"/>
                    <a:pt x="18132" y="0"/>
                    <a:pt x="18141" y="0"/>
                  </a:cubicBezTo>
                  <a:lnTo>
                    <a:pt x="18241" y="0"/>
                  </a:lnTo>
                  <a:cubicBezTo>
                    <a:pt x="18251" y="0"/>
                    <a:pt x="18258" y="7"/>
                    <a:pt x="18258" y="16"/>
                  </a:cubicBezTo>
                  <a:cubicBezTo>
                    <a:pt x="18258" y="26"/>
                    <a:pt x="18251" y="33"/>
                    <a:pt x="18241" y="33"/>
                  </a:cubicBezTo>
                  <a:close/>
                  <a:moveTo>
                    <a:pt x="18008" y="33"/>
                  </a:moveTo>
                  <a:lnTo>
                    <a:pt x="17908" y="33"/>
                  </a:lnTo>
                  <a:cubicBezTo>
                    <a:pt x="17899" y="33"/>
                    <a:pt x="17891" y="26"/>
                    <a:pt x="17891" y="16"/>
                  </a:cubicBezTo>
                  <a:cubicBezTo>
                    <a:pt x="17891" y="7"/>
                    <a:pt x="17899" y="0"/>
                    <a:pt x="17908" y="0"/>
                  </a:cubicBezTo>
                  <a:lnTo>
                    <a:pt x="18008" y="0"/>
                  </a:lnTo>
                  <a:cubicBezTo>
                    <a:pt x="18017" y="0"/>
                    <a:pt x="18025" y="7"/>
                    <a:pt x="18025" y="16"/>
                  </a:cubicBezTo>
                  <a:cubicBezTo>
                    <a:pt x="18025" y="26"/>
                    <a:pt x="18017" y="33"/>
                    <a:pt x="18008" y="33"/>
                  </a:cubicBezTo>
                  <a:close/>
                  <a:moveTo>
                    <a:pt x="17775" y="33"/>
                  </a:moveTo>
                  <a:lnTo>
                    <a:pt x="17675" y="33"/>
                  </a:lnTo>
                  <a:cubicBezTo>
                    <a:pt x="17666" y="33"/>
                    <a:pt x="17658" y="26"/>
                    <a:pt x="17658" y="16"/>
                  </a:cubicBezTo>
                  <a:cubicBezTo>
                    <a:pt x="17658" y="7"/>
                    <a:pt x="17666" y="0"/>
                    <a:pt x="17675" y="0"/>
                  </a:cubicBezTo>
                  <a:lnTo>
                    <a:pt x="17775" y="0"/>
                  </a:lnTo>
                  <a:cubicBezTo>
                    <a:pt x="17784" y="0"/>
                    <a:pt x="17791" y="7"/>
                    <a:pt x="17791" y="16"/>
                  </a:cubicBezTo>
                  <a:cubicBezTo>
                    <a:pt x="17791" y="26"/>
                    <a:pt x="17784" y="33"/>
                    <a:pt x="17775" y="33"/>
                  </a:cubicBezTo>
                  <a:close/>
                  <a:moveTo>
                    <a:pt x="17541" y="33"/>
                  </a:moveTo>
                  <a:lnTo>
                    <a:pt x="17441" y="33"/>
                  </a:lnTo>
                  <a:cubicBezTo>
                    <a:pt x="17432" y="33"/>
                    <a:pt x="17425" y="26"/>
                    <a:pt x="17425" y="16"/>
                  </a:cubicBezTo>
                  <a:cubicBezTo>
                    <a:pt x="17425" y="7"/>
                    <a:pt x="17432" y="0"/>
                    <a:pt x="17441" y="0"/>
                  </a:cubicBezTo>
                  <a:lnTo>
                    <a:pt x="17541" y="0"/>
                  </a:lnTo>
                  <a:cubicBezTo>
                    <a:pt x="17551" y="0"/>
                    <a:pt x="17558" y="7"/>
                    <a:pt x="17558" y="16"/>
                  </a:cubicBezTo>
                  <a:cubicBezTo>
                    <a:pt x="17558" y="26"/>
                    <a:pt x="17551" y="33"/>
                    <a:pt x="17541" y="33"/>
                  </a:cubicBezTo>
                  <a:close/>
                  <a:moveTo>
                    <a:pt x="17308" y="33"/>
                  </a:moveTo>
                  <a:lnTo>
                    <a:pt x="17208" y="33"/>
                  </a:lnTo>
                  <a:cubicBezTo>
                    <a:pt x="17199" y="33"/>
                    <a:pt x="17191" y="26"/>
                    <a:pt x="17191" y="16"/>
                  </a:cubicBezTo>
                  <a:cubicBezTo>
                    <a:pt x="17191" y="7"/>
                    <a:pt x="17199" y="0"/>
                    <a:pt x="17208" y="0"/>
                  </a:cubicBezTo>
                  <a:lnTo>
                    <a:pt x="17308" y="0"/>
                  </a:lnTo>
                  <a:cubicBezTo>
                    <a:pt x="17317" y="0"/>
                    <a:pt x="17325" y="7"/>
                    <a:pt x="17325" y="16"/>
                  </a:cubicBezTo>
                  <a:cubicBezTo>
                    <a:pt x="17325" y="26"/>
                    <a:pt x="17317" y="33"/>
                    <a:pt x="17308" y="33"/>
                  </a:cubicBezTo>
                  <a:close/>
                  <a:moveTo>
                    <a:pt x="17075" y="33"/>
                  </a:moveTo>
                  <a:lnTo>
                    <a:pt x="16975" y="33"/>
                  </a:lnTo>
                  <a:cubicBezTo>
                    <a:pt x="16966" y="33"/>
                    <a:pt x="16958" y="26"/>
                    <a:pt x="16958" y="16"/>
                  </a:cubicBezTo>
                  <a:cubicBezTo>
                    <a:pt x="16958" y="7"/>
                    <a:pt x="16966" y="0"/>
                    <a:pt x="16975" y="0"/>
                  </a:cubicBezTo>
                  <a:lnTo>
                    <a:pt x="17075" y="0"/>
                  </a:lnTo>
                  <a:cubicBezTo>
                    <a:pt x="17084" y="0"/>
                    <a:pt x="17091" y="7"/>
                    <a:pt x="17091" y="16"/>
                  </a:cubicBezTo>
                  <a:cubicBezTo>
                    <a:pt x="17091" y="26"/>
                    <a:pt x="17084" y="33"/>
                    <a:pt x="17075" y="33"/>
                  </a:cubicBezTo>
                  <a:close/>
                  <a:moveTo>
                    <a:pt x="16841" y="33"/>
                  </a:moveTo>
                  <a:lnTo>
                    <a:pt x="16741" y="33"/>
                  </a:lnTo>
                  <a:cubicBezTo>
                    <a:pt x="16732" y="33"/>
                    <a:pt x="16725" y="26"/>
                    <a:pt x="16725" y="16"/>
                  </a:cubicBezTo>
                  <a:cubicBezTo>
                    <a:pt x="16725" y="7"/>
                    <a:pt x="16732" y="0"/>
                    <a:pt x="16741" y="0"/>
                  </a:cubicBezTo>
                  <a:lnTo>
                    <a:pt x="16841" y="0"/>
                  </a:lnTo>
                  <a:cubicBezTo>
                    <a:pt x="16851" y="0"/>
                    <a:pt x="16858" y="7"/>
                    <a:pt x="16858" y="16"/>
                  </a:cubicBezTo>
                  <a:cubicBezTo>
                    <a:pt x="16858" y="26"/>
                    <a:pt x="16851" y="33"/>
                    <a:pt x="16841" y="33"/>
                  </a:cubicBezTo>
                  <a:close/>
                  <a:moveTo>
                    <a:pt x="16608" y="33"/>
                  </a:moveTo>
                  <a:lnTo>
                    <a:pt x="16508" y="33"/>
                  </a:lnTo>
                  <a:cubicBezTo>
                    <a:pt x="16499" y="33"/>
                    <a:pt x="16491" y="26"/>
                    <a:pt x="16491" y="16"/>
                  </a:cubicBezTo>
                  <a:cubicBezTo>
                    <a:pt x="16491" y="7"/>
                    <a:pt x="16499" y="0"/>
                    <a:pt x="16508" y="0"/>
                  </a:cubicBezTo>
                  <a:lnTo>
                    <a:pt x="16608" y="0"/>
                  </a:lnTo>
                  <a:cubicBezTo>
                    <a:pt x="16617" y="0"/>
                    <a:pt x="16625" y="7"/>
                    <a:pt x="16625" y="16"/>
                  </a:cubicBezTo>
                  <a:cubicBezTo>
                    <a:pt x="16625" y="26"/>
                    <a:pt x="16617" y="33"/>
                    <a:pt x="16608" y="33"/>
                  </a:cubicBezTo>
                  <a:close/>
                  <a:moveTo>
                    <a:pt x="16375" y="33"/>
                  </a:moveTo>
                  <a:lnTo>
                    <a:pt x="16275" y="33"/>
                  </a:lnTo>
                  <a:cubicBezTo>
                    <a:pt x="16266" y="33"/>
                    <a:pt x="16258" y="26"/>
                    <a:pt x="16258" y="16"/>
                  </a:cubicBezTo>
                  <a:cubicBezTo>
                    <a:pt x="16258" y="7"/>
                    <a:pt x="16266" y="0"/>
                    <a:pt x="16275" y="0"/>
                  </a:cubicBezTo>
                  <a:lnTo>
                    <a:pt x="16375" y="0"/>
                  </a:lnTo>
                  <a:cubicBezTo>
                    <a:pt x="16384" y="0"/>
                    <a:pt x="16391" y="7"/>
                    <a:pt x="16391" y="16"/>
                  </a:cubicBezTo>
                  <a:cubicBezTo>
                    <a:pt x="16391" y="26"/>
                    <a:pt x="16384" y="33"/>
                    <a:pt x="16375" y="33"/>
                  </a:cubicBezTo>
                  <a:close/>
                  <a:moveTo>
                    <a:pt x="16141" y="33"/>
                  </a:moveTo>
                  <a:lnTo>
                    <a:pt x="16041" y="33"/>
                  </a:lnTo>
                  <a:cubicBezTo>
                    <a:pt x="16032" y="33"/>
                    <a:pt x="16025" y="26"/>
                    <a:pt x="16025" y="16"/>
                  </a:cubicBezTo>
                  <a:cubicBezTo>
                    <a:pt x="16025" y="7"/>
                    <a:pt x="16032" y="0"/>
                    <a:pt x="16041" y="0"/>
                  </a:cubicBezTo>
                  <a:lnTo>
                    <a:pt x="16141" y="0"/>
                  </a:lnTo>
                  <a:cubicBezTo>
                    <a:pt x="16151" y="0"/>
                    <a:pt x="16158" y="7"/>
                    <a:pt x="16158" y="16"/>
                  </a:cubicBezTo>
                  <a:cubicBezTo>
                    <a:pt x="16158" y="26"/>
                    <a:pt x="16151" y="33"/>
                    <a:pt x="16141" y="33"/>
                  </a:cubicBezTo>
                  <a:close/>
                  <a:moveTo>
                    <a:pt x="15908" y="33"/>
                  </a:moveTo>
                  <a:lnTo>
                    <a:pt x="15808" y="33"/>
                  </a:lnTo>
                  <a:cubicBezTo>
                    <a:pt x="15799" y="33"/>
                    <a:pt x="15791" y="26"/>
                    <a:pt x="15791" y="16"/>
                  </a:cubicBezTo>
                  <a:cubicBezTo>
                    <a:pt x="15791" y="7"/>
                    <a:pt x="15799" y="0"/>
                    <a:pt x="15808" y="0"/>
                  </a:cubicBezTo>
                  <a:lnTo>
                    <a:pt x="15908" y="0"/>
                  </a:lnTo>
                  <a:cubicBezTo>
                    <a:pt x="15917" y="0"/>
                    <a:pt x="15925" y="7"/>
                    <a:pt x="15925" y="16"/>
                  </a:cubicBezTo>
                  <a:cubicBezTo>
                    <a:pt x="15925" y="26"/>
                    <a:pt x="15917" y="33"/>
                    <a:pt x="15908" y="33"/>
                  </a:cubicBezTo>
                  <a:close/>
                  <a:moveTo>
                    <a:pt x="15675" y="33"/>
                  </a:moveTo>
                  <a:lnTo>
                    <a:pt x="15575" y="33"/>
                  </a:lnTo>
                  <a:cubicBezTo>
                    <a:pt x="15566" y="33"/>
                    <a:pt x="15558" y="26"/>
                    <a:pt x="15558" y="16"/>
                  </a:cubicBezTo>
                  <a:cubicBezTo>
                    <a:pt x="15558" y="7"/>
                    <a:pt x="15566" y="0"/>
                    <a:pt x="15575" y="0"/>
                  </a:cubicBezTo>
                  <a:lnTo>
                    <a:pt x="15675" y="0"/>
                  </a:lnTo>
                  <a:cubicBezTo>
                    <a:pt x="15684" y="0"/>
                    <a:pt x="15691" y="7"/>
                    <a:pt x="15691" y="16"/>
                  </a:cubicBezTo>
                  <a:cubicBezTo>
                    <a:pt x="15691" y="26"/>
                    <a:pt x="15684" y="33"/>
                    <a:pt x="15675" y="33"/>
                  </a:cubicBezTo>
                  <a:close/>
                  <a:moveTo>
                    <a:pt x="15441" y="33"/>
                  </a:moveTo>
                  <a:lnTo>
                    <a:pt x="15341" y="33"/>
                  </a:lnTo>
                  <a:cubicBezTo>
                    <a:pt x="15332" y="33"/>
                    <a:pt x="15325" y="26"/>
                    <a:pt x="15325" y="16"/>
                  </a:cubicBezTo>
                  <a:cubicBezTo>
                    <a:pt x="15325" y="7"/>
                    <a:pt x="15332" y="0"/>
                    <a:pt x="15341" y="0"/>
                  </a:cubicBezTo>
                  <a:lnTo>
                    <a:pt x="15441" y="0"/>
                  </a:lnTo>
                  <a:cubicBezTo>
                    <a:pt x="15451" y="0"/>
                    <a:pt x="15458" y="7"/>
                    <a:pt x="15458" y="16"/>
                  </a:cubicBezTo>
                  <a:cubicBezTo>
                    <a:pt x="15458" y="26"/>
                    <a:pt x="15451" y="33"/>
                    <a:pt x="15441" y="33"/>
                  </a:cubicBezTo>
                  <a:close/>
                  <a:moveTo>
                    <a:pt x="15208" y="33"/>
                  </a:moveTo>
                  <a:lnTo>
                    <a:pt x="15108" y="33"/>
                  </a:lnTo>
                  <a:cubicBezTo>
                    <a:pt x="15099" y="33"/>
                    <a:pt x="15091" y="26"/>
                    <a:pt x="15091" y="16"/>
                  </a:cubicBezTo>
                  <a:cubicBezTo>
                    <a:pt x="15091" y="7"/>
                    <a:pt x="15099" y="0"/>
                    <a:pt x="15108" y="0"/>
                  </a:cubicBezTo>
                  <a:lnTo>
                    <a:pt x="15208" y="0"/>
                  </a:lnTo>
                  <a:cubicBezTo>
                    <a:pt x="15217" y="0"/>
                    <a:pt x="15225" y="7"/>
                    <a:pt x="15225" y="16"/>
                  </a:cubicBezTo>
                  <a:cubicBezTo>
                    <a:pt x="15225" y="26"/>
                    <a:pt x="15217" y="33"/>
                    <a:pt x="15208" y="33"/>
                  </a:cubicBezTo>
                  <a:close/>
                  <a:moveTo>
                    <a:pt x="14975" y="33"/>
                  </a:moveTo>
                  <a:lnTo>
                    <a:pt x="14875" y="33"/>
                  </a:lnTo>
                  <a:cubicBezTo>
                    <a:pt x="14866" y="33"/>
                    <a:pt x="14858" y="26"/>
                    <a:pt x="14858" y="16"/>
                  </a:cubicBezTo>
                  <a:cubicBezTo>
                    <a:pt x="14858" y="7"/>
                    <a:pt x="14866" y="0"/>
                    <a:pt x="14875" y="0"/>
                  </a:cubicBezTo>
                  <a:lnTo>
                    <a:pt x="14975" y="0"/>
                  </a:lnTo>
                  <a:cubicBezTo>
                    <a:pt x="14984" y="0"/>
                    <a:pt x="14991" y="7"/>
                    <a:pt x="14991" y="16"/>
                  </a:cubicBezTo>
                  <a:cubicBezTo>
                    <a:pt x="14991" y="26"/>
                    <a:pt x="14984" y="33"/>
                    <a:pt x="14975" y="33"/>
                  </a:cubicBezTo>
                  <a:close/>
                  <a:moveTo>
                    <a:pt x="14741" y="33"/>
                  </a:moveTo>
                  <a:lnTo>
                    <a:pt x="14641" y="33"/>
                  </a:lnTo>
                  <a:cubicBezTo>
                    <a:pt x="14632" y="33"/>
                    <a:pt x="14625" y="26"/>
                    <a:pt x="14625" y="16"/>
                  </a:cubicBezTo>
                  <a:cubicBezTo>
                    <a:pt x="14625" y="7"/>
                    <a:pt x="14632" y="0"/>
                    <a:pt x="14641" y="0"/>
                  </a:cubicBezTo>
                  <a:lnTo>
                    <a:pt x="14741" y="0"/>
                  </a:lnTo>
                  <a:cubicBezTo>
                    <a:pt x="14751" y="0"/>
                    <a:pt x="14758" y="7"/>
                    <a:pt x="14758" y="16"/>
                  </a:cubicBezTo>
                  <a:cubicBezTo>
                    <a:pt x="14758" y="26"/>
                    <a:pt x="14751" y="33"/>
                    <a:pt x="14741" y="33"/>
                  </a:cubicBezTo>
                  <a:close/>
                  <a:moveTo>
                    <a:pt x="14508" y="33"/>
                  </a:moveTo>
                  <a:lnTo>
                    <a:pt x="14408" y="33"/>
                  </a:lnTo>
                  <a:cubicBezTo>
                    <a:pt x="14399" y="33"/>
                    <a:pt x="14391" y="26"/>
                    <a:pt x="14391" y="16"/>
                  </a:cubicBezTo>
                  <a:cubicBezTo>
                    <a:pt x="14391" y="7"/>
                    <a:pt x="14399" y="0"/>
                    <a:pt x="14408" y="0"/>
                  </a:cubicBezTo>
                  <a:lnTo>
                    <a:pt x="14508" y="0"/>
                  </a:lnTo>
                  <a:cubicBezTo>
                    <a:pt x="14517" y="0"/>
                    <a:pt x="14525" y="7"/>
                    <a:pt x="14525" y="16"/>
                  </a:cubicBezTo>
                  <a:cubicBezTo>
                    <a:pt x="14525" y="26"/>
                    <a:pt x="14517" y="33"/>
                    <a:pt x="14508" y="33"/>
                  </a:cubicBezTo>
                  <a:close/>
                  <a:moveTo>
                    <a:pt x="14275" y="33"/>
                  </a:moveTo>
                  <a:lnTo>
                    <a:pt x="14175" y="33"/>
                  </a:lnTo>
                  <a:cubicBezTo>
                    <a:pt x="14166" y="33"/>
                    <a:pt x="14158" y="26"/>
                    <a:pt x="14158" y="16"/>
                  </a:cubicBezTo>
                  <a:cubicBezTo>
                    <a:pt x="14158" y="7"/>
                    <a:pt x="14166" y="0"/>
                    <a:pt x="14175" y="0"/>
                  </a:cubicBezTo>
                  <a:lnTo>
                    <a:pt x="14275" y="0"/>
                  </a:lnTo>
                  <a:cubicBezTo>
                    <a:pt x="14284" y="0"/>
                    <a:pt x="14291" y="7"/>
                    <a:pt x="14291" y="16"/>
                  </a:cubicBezTo>
                  <a:cubicBezTo>
                    <a:pt x="14291" y="26"/>
                    <a:pt x="14284" y="33"/>
                    <a:pt x="14275" y="33"/>
                  </a:cubicBezTo>
                  <a:close/>
                  <a:moveTo>
                    <a:pt x="14041" y="33"/>
                  </a:moveTo>
                  <a:lnTo>
                    <a:pt x="13941" y="33"/>
                  </a:lnTo>
                  <a:cubicBezTo>
                    <a:pt x="13932" y="33"/>
                    <a:pt x="13925" y="26"/>
                    <a:pt x="13925" y="16"/>
                  </a:cubicBezTo>
                  <a:cubicBezTo>
                    <a:pt x="13925" y="7"/>
                    <a:pt x="13932" y="0"/>
                    <a:pt x="13941" y="0"/>
                  </a:cubicBezTo>
                  <a:lnTo>
                    <a:pt x="14041" y="0"/>
                  </a:lnTo>
                  <a:cubicBezTo>
                    <a:pt x="14051" y="0"/>
                    <a:pt x="14058" y="7"/>
                    <a:pt x="14058" y="16"/>
                  </a:cubicBezTo>
                  <a:cubicBezTo>
                    <a:pt x="14058" y="26"/>
                    <a:pt x="14051" y="33"/>
                    <a:pt x="14041" y="33"/>
                  </a:cubicBezTo>
                  <a:close/>
                  <a:moveTo>
                    <a:pt x="13808" y="33"/>
                  </a:moveTo>
                  <a:lnTo>
                    <a:pt x="13708" y="33"/>
                  </a:lnTo>
                  <a:cubicBezTo>
                    <a:pt x="13699" y="33"/>
                    <a:pt x="13691" y="26"/>
                    <a:pt x="13691" y="16"/>
                  </a:cubicBezTo>
                  <a:cubicBezTo>
                    <a:pt x="13691" y="7"/>
                    <a:pt x="13699" y="0"/>
                    <a:pt x="13708" y="0"/>
                  </a:cubicBezTo>
                  <a:lnTo>
                    <a:pt x="13808" y="0"/>
                  </a:lnTo>
                  <a:cubicBezTo>
                    <a:pt x="13817" y="0"/>
                    <a:pt x="13825" y="7"/>
                    <a:pt x="13825" y="16"/>
                  </a:cubicBezTo>
                  <a:cubicBezTo>
                    <a:pt x="13825" y="26"/>
                    <a:pt x="13817" y="33"/>
                    <a:pt x="13808" y="33"/>
                  </a:cubicBezTo>
                  <a:close/>
                  <a:moveTo>
                    <a:pt x="13575" y="33"/>
                  </a:moveTo>
                  <a:lnTo>
                    <a:pt x="13475" y="33"/>
                  </a:lnTo>
                  <a:cubicBezTo>
                    <a:pt x="13466" y="33"/>
                    <a:pt x="13458" y="26"/>
                    <a:pt x="13458" y="16"/>
                  </a:cubicBezTo>
                  <a:cubicBezTo>
                    <a:pt x="13458" y="7"/>
                    <a:pt x="13466" y="0"/>
                    <a:pt x="13475" y="0"/>
                  </a:cubicBezTo>
                  <a:lnTo>
                    <a:pt x="13575" y="0"/>
                  </a:lnTo>
                  <a:cubicBezTo>
                    <a:pt x="13584" y="0"/>
                    <a:pt x="13591" y="7"/>
                    <a:pt x="13591" y="16"/>
                  </a:cubicBezTo>
                  <a:cubicBezTo>
                    <a:pt x="13591" y="26"/>
                    <a:pt x="13584" y="33"/>
                    <a:pt x="13575" y="33"/>
                  </a:cubicBezTo>
                  <a:close/>
                  <a:moveTo>
                    <a:pt x="13341" y="33"/>
                  </a:moveTo>
                  <a:lnTo>
                    <a:pt x="13241" y="33"/>
                  </a:lnTo>
                  <a:cubicBezTo>
                    <a:pt x="13232" y="33"/>
                    <a:pt x="13225" y="26"/>
                    <a:pt x="13225" y="16"/>
                  </a:cubicBezTo>
                  <a:cubicBezTo>
                    <a:pt x="13225" y="7"/>
                    <a:pt x="13232" y="0"/>
                    <a:pt x="13241" y="0"/>
                  </a:cubicBezTo>
                  <a:lnTo>
                    <a:pt x="13341" y="0"/>
                  </a:lnTo>
                  <a:cubicBezTo>
                    <a:pt x="13351" y="0"/>
                    <a:pt x="13358" y="7"/>
                    <a:pt x="13358" y="16"/>
                  </a:cubicBezTo>
                  <a:cubicBezTo>
                    <a:pt x="13358" y="26"/>
                    <a:pt x="13351" y="33"/>
                    <a:pt x="13341" y="33"/>
                  </a:cubicBezTo>
                  <a:close/>
                  <a:moveTo>
                    <a:pt x="13108" y="33"/>
                  </a:moveTo>
                  <a:lnTo>
                    <a:pt x="13008" y="33"/>
                  </a:lnTo>
                  <a:cubicBezTo>
                    <a:pt x="12999" y="33"/>
                    <a:pt x="12991" y="26"/>
                    <a:pt x="12991" y="16"/>
                  </a:cubicBezTo>
                  <a:cubicBezTo>
                    <a:pt x="12991" y="7"/>
                    <a:pt x="12999" y="0"/>
                    <a:pt x="13008" y="0"/>
                  </a:cubicBezTo>
                  <a:lnTo>
                    <a:pt x="13108" y="0"/>
                  </a:lnTo>
                  <a:cubicBezTo>
                    <a:pt x="13117" y="0"/>
                    <a:pt x="13125" y="7"/>
                    <a:pt x="13125" y="16"/>
                  </a:cubicBezTo>
                  <a:cubicBezTo>
                    <a:pt x="13125" y="26"/>
                    <a:pt x="13117" y="33"/>
                    <a:pt x="13108" y="33"/>
                  </a:cubicBezTo>
                  <a:close/>
                  <a:moveTo>
                    <a:pt x="12875" y="33"/>
                  </a:moveTo>
                  <a:lnTo>
                    <a:pt x="12775" y="33"/>
                  </a:lnTo>
                  <a:cubicBezTo>
                    <a:pt x="12766" y="33"/>
                    <a:pt x="12758" y="26"/>
                    <a:pt x="12758" y="16"/>
                  </a:cubicBezTo>
                  <a:cubicBezTo>
                    <a:pt x="12758" y="7"/>
                    <a:pt x="12766" y="0"/>
                    <a:pt x="12775" y="0"/>
                  </a:cubicBezTo>
                  <a:lnTo>
                    <a:pt x="12875" y="0"/>
                  </a:lnTo>
                  <a:cubicBezTo>
                    <a:pt x="12884" y="0"/>
                    <a:pt x="12891" y="7"/>
                    <a:pt x="12891" y="16"/>
                  </a:cubicBezTo>
                  <a:cubicBezTo>
                    <a:pt x="12891" y="26"/>
                    <a:pt x="12884" y="33"/>
                    <a:pt x="12875" y="33"/>
                  </a:cubicBezTo>
                  <a:close/>
                  <a:moveTo>
                    <a:pt x="12641" y="33"/>
                  </a:moveTo>
                  <a:lnTo>
                    <a:pt x="12541" y="33"/>
                  </a:lnTo>
                  <a:cubicBezTo>
                    <a:pt x="12532" y="33"/>
                    <a:pt x="12525" y="26"/>
                    <a:pt x="12525" y="16"/>
                  </a:cubicBezTo>
                  <a:cubicBezTo>
                    <a:pt x="12525" y="7"/>
                    <a:pt x="12532" y="0"/>
                    <a:pt x="12541" y="0"/>
                  </a:cubicBezTo>
                  <a:lnTo>
                    <a:pt x="12641" y="0"/>
                  </a:lnTo>
                  <a:cubicBezTo>
                    <a:pt x="12651" y="0"/>
                    <a:pt x="12658" y="7"/>
                    <a:pt x="12658" y="16"/>
                  </a:cubicBezTo>
                  <a:cubicBezTo>
                    <a:pt x="12658" y="26"/>
                    <a:pt x="12651" y="33"/>
                    <a:pt x="12641" y="33"/>
                  </a:cubicBezTo>
                  <a:close/>
                  <a:moveTo>
                    <a:pt x="12408" y="33"/>
                  </a:moveTo>
                  <a:lnTo>
                    <a:pt x="12308" y="33"/>
                  </a:lnTo>
                  <a:cubicBezTo>
                    <a:pt x="12299" y="33"/>
                    <a:pt x="12291" y="26"/>
                    <a:pt x="12291" y="16"/>
                  </a:cubicBezTo>
                  <a:cubicBezTo>
                    <a:pt x="12291" y="7"/>
                    <a:pt x="12299" y="0"/>
                    <a:pt x="12308" y="0"/>
                  </a:cubicBezTo>
                  <a:lnTo>
                    <a:pt x="12408" y="0"/>
                  </a:lnTo>
                  <a:cubicBezTo>
                    <a:pt x="12417" y="0"/>
                    <a:pt x="12425" y="7"/>
                    <a:pt x="12425" y="16"/>
                  </a:cubicBezTo>
                  <a:cubicBezTo>
                    <a:pt x="12425" y="26"/>
                    <a:pt x="12417" y="33"/>
                    <a:pt x="12408" y="33"/>
                  </a:cubicBezTo>
                  <a:close/>
                  <a:moveTo>
                    <a:pt x="12175" y="33"/>
                  </a:moveTo>
                  <a:lnTo>
                    <a:pt x="12075" y="33"/>
                  </a:lnTo>
                  <a:cubicBezTo>
                    <a:pt x="12066" y="33"/>
                    <a:pt x="12058" y="26"/>
                    <a:pt x="12058" y="16"/>
                  </a:cubicBezTo>
                  <a:cubicBezTo>
                    <a:pt x="12058" y="7"/>
                    <a:pt x="12066" y="0"/>
                    <a:pt x="12075" y="0"/>
                  </a:cubicBezTo>
                  <a:lnTo>
                    <a:pt x="12175" y="0"/>
                  </a:lnTo>
                  <a:cubicBezTo>
                    <a:pt x="12184" y="0"/>
                    <a:pt x="12191" y="7"/>
                    <a:pt x="12191" y="16"/>
                  </a:cubicBezTo>
                  <a:cubicBezTo>
                    <a:pt x="12191" y="26"/>
                    <a:pt x="12184" y="33"/>
                    <a:pt x="12175" y="33"/>
                  </a:cubicBezTo>
                  <a:close/>
                  <a:moveTo>
                    <a:pt x="11941" y="33"/>
                  </a:moveTo>
                  <a:lnTo>
                    <a:pt x="11841" y="33"/>
                  </a:lnTo>
                  <a:cubicBezTo>
                    <a:pt x="11832" y="33"/>
                    <a:pt x="11825" y="26"/>
                    <a:pt x="11825" y="16"/>
                  </a:cubicBezTo>
                  <a:cubicBezTo>
                    <a:pt x="11825" y="7"/>
                    <a:pt x="11832" y="0"/>
                    <a:pt x="11841" y="0"/>
                  </a:cubicBezTo>
                  <a:lnTo>
                    <a:pt x="11941" y="0"/>
                  </a:lnTo>
                  <a:cubicBezTo>
                    <a:pt x="11951" y="0"/>
                    <a:pt x="11958" y="7"/>
                    <a:pt x="11958" y="16"/>
                  </a:cubicBezTo>
                  <a:cubicBezTo>
                    <a:pt x="11958" y="26"/>
                    <a:pt x="11951" y="33"/>
                    <a:pt x="11941" y="33"/>
                  </a:cubicBezTo>
                  <a:close/>
                  <a:moveTo>
                    <a:pt x="11708" y="33"/>
                  </a:moveTo>
                  <a:lnTo>
                    <a:pt x="11608" y="33"/>
                  </a:lnTo>
                  <a:cubicBezTo>
                    <a:pt x="11599" y="33"/>
                    <a:pt x="11591" y="26"/>
                    <a:pt x="11591" y="16"/>
                  </a:cubicBezTo>
                  <a:cubicBezTo>
                    <a:pt x="11591" y="7"/>
                    <a:pt x="11599" y="0"/>
                    <a:pt x="11608" y="0"/>
                  </a:cubicBezTo>
                  <a:lnTo>
                    <a:pt x="11708" y="0"/>
                  </a:lnTo>
                  <a:cubicBezTo>
                    <a:pt x="11717" y="0"/>
                    <a:pt x="11725" y="7"/>
                    <a:pt x="11725" y="16"/>
                  </a:cubicBezTo>
                  <a:cubicBezTo>
                    <a:pt x="11725" y="26"/>
                    <a:pt x="11717" y="33"/>
                    <a:pt x="11708" y="33"/>
                  </a:cubicBezTo>
                  <a:close/>
                  <a:moveTo>
                    <a:pt x="11475" y="33"/>
                  </a:moveTo>
                  <a:lnTo>
                    <a:pt x="11375" y="33"/>
                  </a:lnTo>
                  <a:cubicBezTo>
                    <a:pt x="11366" y="33"/>
                    <a:pt x="11358" y="26"/>
                    <a:pt x="11358" y="16"/>
                  </a:cubicBezTo>
                  <a:cubicBezTo>
                    <a:pt x="11358" y="7"/>
                    <a:pt x="11366" y="0"/>
                    <a:pt x="11375" y="0"/>
                  </a:cubicBezTo>
                  <a:lnTo>
                    <a:pt x="11475" y="0"/>
                  </a:lnTo>
                  <a:cubicBezTo>
                    <a:pt x="11484" y="0"/>
                    <a:pt x="11491" y="7"/>
                    <a:pt x="11491" y="16"/>
                  </a:cubicBezTo>
                  <a:cubicBezTo>
                    <a:pt x="11491" y="26"/>
                    <a:pt x="11484" y="33"/>
                    <a:pt x="11475" y="33"/>
                  </a:cubicBezTo>
                  <a:close/>
                  <a:moveTo>
                    <a:pt x="11241" y="33"/>
                  </a:moveTo>
                  <a:lnTo>
                    <a:pt x="11141" y="33"/>
                  </a:lnTo>
                  <a:cubicBezTo>
                    <a:pt x="11132" y="33"/>
                    <a:pt x="11125" y="26"/>
                    <a:pt x="11125" y="16"/>
                  </a:cubicBezTo>
                  <a:cubicBezTo>
                    <a:pt x="11125" y="7"/>
                    <a:pt x="11132" y="0"/>
                    <a:pt x="11141" y="0"/>
                  </a:cubicBezTo>
                  <a:lnTo>
                    <a:pt x="11241" y="0"/>
                  </a:lnTo>
                  <a:cubicBezTo>
                    <a:pt x="11251" y="0"/>
                    <a:pt x="11258" y="7"/>
                    <a:pt x="11258" y="16"/>
                  </a:cubicBezTo>
                  <a:cubicBezTo>
                    <a:pt x="11258" y="26"/>
                    <a:pt x="11251" y="33"/>
                    <a:pt x="11241" y="33"/>
                  </a:cubicBezTo>
                  <a:close/>
                  <a:moveTo>
                    <a:pt x="11008" y="33"/>
                  </a:moveTo>
                  <a:lnTo>
                    <a:pt x="10908" y="33"/>
                  </a:lnTo>
                  <a:cubicBezTo>
                    <a:pt x="10899" y="33"/>
                    <a:pt x="10891" y="26"/>
                    <a:pt x="10891" y="16"/>
                  </a:cubicBezTo>
                  <a:cubicBezTo>
                    <a:pt x="10891" y="7"/>
                    <a:pt x="10899" y="0"/>
                    <a:pt x="10908" y="0"/>
                  </a:cubicBezTo>
                  <a:lnTo>
                    <a:pt x="11008" y="0"/>
                  </a:lnTo>
                  <a:cubicBezTo>
                    <a:pt x="11017" y="0"/>
                    <a:pt x="11025" y="7"/>
                    <a:pt x="11025" y="16"/>
                  </a:cubicBezTo>
                  <a:cubicBezTo>
                    <a:pt x="11025" y="26"/>
                    <a:pt x="11017" y="33"/>
                    <a:pt x="11008" y="33"/>
                  </a:cubicBezTo>
                  <a:close/>
                  <a:moveTo>
                    <a:pt x="10775" y="33"/>
                  </a:moveTo>
                  <a:lnTo>
                    <a:pt x="10675" y="33"/>
                  </a:lnTo>
                  <a:cubicBezTo>
                    <a:pt x="10666" y="33"/>
                    <a:pt x="10658" y="26"/>
                    <a:pt x="10658" y="16"/>
                  </a:cubicBezTo>
                  <a:cubicBezTo>
                    <a:pt x="10658" y="7"/>
                    <a:pt x="10666" y="0"/>
                    <a:pt x="10675" y="0"/>
                  </a:cubicBezTo>
                  <a:lnTo>
                    <a:pt x="10775" y="0"/>
                  </a:lnTo>
                  <a:cubicBezTo>
                    <a:pt x="10784" y="0"/>
                    <a:pt x="10791" y="7"/>
                    <a:pt x="10791" y="16"/>
                  </a:cubicBezTo>
                  <a:cubicBezTo>
                    <a:pt x="10791" y="26"/>
                    <a:pt x="10784" y="33"/>
                    <a:pt x="10775" y="33"/>
                  </a:cubicBezTo>
                  <a:close/>
                  <a:moveTo>
                    <a:pt x="10541" y="33"/>
                  </a:moveTo>
                  <a:lnTo>
                    <a:pt x="10441" y="33"/>
                  </a:lnTo>
                  <a:cubicBezTo>
                    <a:pt x="10432" y="33"/>
                    <a:pt x="10425" y="26"/>
                    <a:pt x="10425" y="16"/>
                  </a:cubicBezTo>
                  <a:cubicBezTo>
                    <a:pt x="10425" y="7"/>
                    <a:pt x="10432" y="0"/>
                    <a:pt x="10441" y="0"/>
                  </a:cubicBezTo>
                  <a:lnTo>
                    <a:pt x="10541" y="0"/>
                  </a:lnTo>
                  <a:cubicBezTo>
                    <a:pt x="10551" y="0"/>
                    <a:pt x="10558" y="7"/>
                    <a:pt x="10558" y="16"/>
                  </a:cubicBezTo>
                  <a:cubicBezTo>
                    <a:pt x="10558" y="26"/>
                    <a:pt x="10551" y="33"/>
                    <a:pt x="10541" y="33"/>
                  </a:cubicBezTo>
                  <a:close/>
                  <a:moveTo>
                    <a:pt x="10308" y="33"/>
                  </a:moveTo>
                  <a:lnTo>
                    <a:pt x="10208" y="33"/>
                  </a:lnTo>
                  <a:cubicBezTo>
                    <a:pt x="10199" y="33"/>
                    <a:pt x="10191" y="26"/>
                    <a:pt x="10191" y="16"/>
                  </a:cubicBezTo>
                  <a:cubicBezTo>
                    <a:pt x="10191" y="7"/>
                    <a:pt x="10199" y="0"/>
                    <a:pt x="10208" y="0"/>
                  </a:cubicBezTo>
                  <a:lnTo>
                    <a:pt x="10308" y="0"/>
                  </a:lnTo>
                  <a:cubicBezTo>
                    <a:pt x="10317" y="0"/>
                    <a:pt x="10325" y="7"/>
                    <a:pt x="10325" y="16"/>
                  </a:cubicBezTo>
                  <a:cubicBezTo>
                    <a:pt x="10325" y="26"/>
                    <a:pt x="10317" y="33"/>
                    <a:pt x="10308" y="33"/>
                  </a:cubicBezTo>
                  <a:close/>
                  <a:moveTo>
                    <a:pt x="10075" y="33"/>
                  </a:moveTo>
                  <a:lnTo>
                    <a:pt x="9975" y="33"/>
                  </a:lnTo>
                  <a:cubicBezTo>
                    <a:pt x="9966" y="33"/>
                    <a:pt x="9958" y="26"/>
                    <a:pt x="9958" y="16"/>
                  </a:cubicBezTo>
                  <a:cubicBezTo>
                    <a:pt x="9958" y="7"/>
                    <a:pt x="9966" y="0"/>
                    <a:pt x="9975" y="0"/>
                  </a:cubicBezTo>
                  <a:lnTo>
                    <a:pt x="10075" y="0"/>
                  </a:lnTo>
                  <a:cubicBezTo>
                    <a:pt x="10084" y="0"/>
                    <a:pt x="10091" y="7"/>
                    <a:pt x="10091" y="16"/>
                  </a:cubicBezTo>
                  <a:cubicBezTo>
                    <a:pt x="10091" y="26"/>
                    <a:pt x="10084" y="33"/>
                    <a:pt x="10075" y="33"/>
                  </a:cubicBezTo>
                  <a:close/>
                  <a:moveTo>
                    <a:pt x="9841" y="33"/>
                  </a:moveTo>
                  <a:lnTo>
                    <a:pt x="9741" y="33"/>
                  </a:lnTo>
                  <a:cubicBezTo>
                    <a:pt x="9732" y="33"/>
                    <a:pt x="9725" y="26"/>
                    <a:pt x="9725" y="16"/>
                  </a:cubicBezTo>
                  <a:cubicBezTo>
                    <a:pt x="9725" y="7"/>
                    <a:pt x="9732" y="0"/>
                    <a:pt x="9741" y="0"/>
                  </a:cubicBezTo>
                  <a:lnTo>
                    <a:pt x="9841" y="0"/>
                  </a:lnTo>
                  <a:cubicBezTo>
                    <a:pt x="9851" y="0"/>
                    <a:pt x="9858" y="7"/>
                    <a:pt x="9858" y="16"/>
                  </a:cubicBezTo>
                  <a:cubicBezTo>
                    <a:pt x="9858" y="26"/>
                    <a:pt x="9851" y="33"/>
                    <a:pt x="9841" y="33"/>
                  </a:cubicBezTo>
                  <a:close/>
                  <a:moveTo>
                    <a:pt x="9608" y="33"/>
                  </a:moveTo>
                  <a:lnTo>
                    <a:pt x="9508" y="33"/>
                  </a:lnTo>
                  <a:cubicBezTo>
                    <a:pt x="9499" y="33"/>
                    <a:pt x="9491" y="26"/>
                    <a:pt x="9491" y="16"/>
                  </a:cubicBezTo>
                  <a:cubicBezTo>
                    <a:pt x="9491" y="7"/>
                    <a:pt x="9499" y="0"/>
                    <a:pt x="9508" y="0"/>
                  </a:cubicBezTo>
                  <a:lnTo>
                    <a:pt x="9608" y="0"/>
                  </a:lnTo>
                  <a:cubicBezTo>
                    <a:pt x="9617" y="0"/>
                    <a:pt x="9625" y="7"/>
                    <a:pt x="9625" y="16"/>
                  </a:cubicBezTo>
                  <a:cubicBezTo>
                    <a:pt x="9625" y="26"/>
                    <a:pt x="9617" y="33"/>
                    <a:pt x="9608" y="33"/>
                  </a:cubicBezTo>
                  <a:close/>
                  <a:moveTo>
                    <a:pt x="9375" y="33"/>
                  </a:moveTo>
                  <a:lnTo>
                    <a:pt x="9275" y="33"/>
                  </a:lnTo>
                  <a:cubicBezTo>
                    <a:pt x="9266" y="33"/>
                    <a:pt x="9258" y="26"/>
                    <a:pt x="9258" y="16"/>
                  </a:cubicBezTo>
                  <a:cubicBezTo>
                    <a:pt x="9258" y="7"/>
                    <a:pt x="9266" y="0"/>
                    <a:pt x="9275" y="0"/>
                  </a:cubicBezTo>
                  <a:lnTo>
                    <a:pt x="9375" y="0"/>
                  </a:lnTo>
                  <a:cubicBezTo>
                    <a:pt x="9384" y="0"/>
                    <a:pt x="9391" y="7"/>
                    <a:pt x="9391" y="16"/>
                  </a:cubicBezTo>
                  <a:cubicBezTo>
                    <a:pt x="9391" y="26"/>
                    <a:pt x="9384" y="33"/>
                    <a:pt x="9375" y="33"/>
                  </a:cubicBezTo>
                  <a:close/>
                  <a:moveTo>
                    <a:pt x="9141" y="33"/>
                  </a:moveTo>
                  <a:lnTo>
                    <a:pt x="9041" y="33"/>
                  </a:lnTo>
                  <a:cubicBezTo>
                    <a:pt x="9032" y="33"/>
                    <a:pt x="9025" y="26"/>
                    <a:pt x="9025" y="16"/>
                  </a:cubicBezTo>
                  <a:cubicBezTo>
                    <a:pt x="9025" y="7"/>
                    <a:pt x="9032" y="0"/>
                    <a:pt x="9041" y="0"/>
                  </a:cubicBezTo>
                  <a:lnTo>
                    <a:pt x="9141" y="0"/>
                  </a:lnTo>
                  <a:cubicBezTo>
                    <a:pt x="9151" y="0"/>
                    <a:pt x="9158" y="7"/>
                    <a:pt x="9158" y="16"/>
                  </a:cubicBezTo>
                  <a:cubicBezTo>
                    <a:pt x="9158" y="26"/>
                    <a:pt x="9151" y="33"/>
                    <a:pt x="9141" y="33"/>
                  </a:cubicBezTo>
                  <a:close/>
                  <a:moveTo>
                    <a:pt x="8908" y="33"/>
                  </a:moveTo>
                  <a:lnTo>
                    <a:pt x="8808" y="33"/>
                  </a:lnTo>
                  <a:cubicBezTo>
                    <a:pt x="8799" y="33"/>
                    <a:pt x="8791" y="26"/>
                    <a:pt x="8791" y="16"/>
                  </a:cubicBezTo>
                  <a:cubicBezTo>
                    <a:pt x="8791" y="7"/>
                    <a:pt x="8799" y="0"/>
                    <a:pt x="8808" y="0"/>
                  </a:cubicBezTo>
                  <a:lnTo>
                    <a:pt x="8908" y="0"/>
                  </a:lnTo>
                  <a:cubicBezTo>
                    <a:pt x="8917" y="0"/>
                    <a:pt x="8925" y="7"/>
                    <a:pt x="8925" y="16"/>
                  </a:cubicBezTo>
                  <a:cubicBezTo>
                    <a:pt x="8925" y="26"/>
                    <a:pt x="8917" y="33"/>
                    <a:pt x="8908" y="33"/>
                  </a:cubicBezTo>
                  <a:close/>
                  <a:moveTo>
                    <a:pt x="8675" y="33"/>
                  </a:moveTo>
                  <a:lnTo>
                    <a:pt x="8575" y="33"/>
                  </a:lnTo>
                  <a:cubicBezTo>
                    <a:pt x="8566" y="33"/>
                    <a:pt x="8558" y="26"/>
                    <a:pt x="8558" y="16"/>
                  </a:cubicBezTo>
                  <a:cubicBezTo>
                    <a:pt x="8558" y="7"/>
                    <a:pt x="8566" y="0"/>
                    <a:pt x="8575" y="0"/>
                  </a:cubicBezTo>
                  <a:lnTo>
                    <a:pt x="8675" y="0"/>
                  </a:lnTo>
                  <a:cubicBezTo>
                    <a:pt x="8684" y="0"/>
                    <a:pt x="8691" y="7"/>
                    <a:pt x="8691" y="16"/>
                  </a:cubicBezTo>
                  <a:cubicBezTo>
                    <a:pt x="8691" y="26"/>
                    <a:pt x="8684" y="33"/>
                    <a:pt x="8675" y="33"/>
                  </a:cubicBezTo>
                  <a:close/>
                  <a:moveTo>
                    <a:pt x="8441" y="33"/>
                  </a:moveTo>
                  <a:lnTo>
                    <a:pt x="8341" y="33"/>
                  </a:lnTo>
                  <a:cubicBezTo>
                    <a:pt x="8332" y="33"/>
                    <a:pt x="8325" y="26"/>
                    <a:pt x="8325" y="16"/>
                  </a:cubicBezTo>
                  <a:cubicBezTo>
                    <a:pt x="8325" y="7"/>
                    <a:pt x="8332" y="0"/>
                    <a:pt x="8341" y="0"/>
                  </a:cubicBezTo>
                  <a:lnTo>
                    <a:pt x="8441" y="0"/>
                  </a:lnTo>
                  <a:cubicBezTo>
                    <a:pt x="8451" y="0"/>
                    <a:pt x="8458" y="7"/>
                    <a:pt x="8458" y="16"/>
                  </a:cubicBezTo>
                  <a:cubicBezTo>
                    <a:pt x="8458" y="26"/>
                    <a:pt x="8451" y="33"/>
                    <a:pt x="8441" y="33"/>
                  </a:cubicBezTo>
                  <a:close/>
                  <a:moveTo>
                    <a:pt x="8208" y="33"/>
                  </a:moveTo>
                  <a:lnTo>
                    <a:pt x="8108" y="33"/>
                  </a:lnTo>
                  <a:cubicBezTo>
                    <a:pt x="8099" y="33"/>
                    <a:pt x="8091" y="26"/>
                    <a:pt x="8091" y="16"/>
                  </a:cubicBezTo>
                  <a:cubicBezTo>
                    <a:pt x="8091" y="7"/>
                    <a:pt x="8099" y="0"/>
                    <a:pt x="8108" y="0"/>
                  </a:cubicBezTo>
                  <a:lnTo>
                    <a:pt x="8208" y="0"/>
                  </a:lnTo>
                  <a:cubicBezTo>
                    <a:pt x="8217" y="0"/>
                    <a:pt x="8225" y="7"/>
                    <a:pt x="8225" y="16"/>
                  </a:cubicBezTo>
                  <a:cubicBezTo>
                    <a:pt x="8225" y="26"/>
                    <a:pt x="8217" y="33"/>
                    <a:pt x="8208" y="33"/>
                  </a:cubicBezTo>
                  <a:close/>
                  <a:moveTo>
                    <a:pt x="7975" y="33"/>
                  </a:moveTo>
                  <a:lnTo>
                    <a:pt x="7875" y="33"/>
                  </a:lnTo>
                  <a:cubicBezTo>
                    <a:pt x="7866" y="33"/>
                    <a:pt x="7858" y="26"/>
                    <a:pt x="7858" y="16"/>
                  </a:cubicBezTo>
                  <a:cubicBezTo>
                    <a:pt x="7858" y="7"/>
                    <a:pt x="7866" y="0"/>
                    <a:pt x="7875" y="0"/>
                  </a:cubicBezTo>
                  <a:lnTo>
                    <a:pt x="7975" y="0"/>
                  </a:lnTo>
                  <a:cubicBezTo>
                    <a:pt x="7984" y="0"/>
                    <a:pt x="7991" y="7"/>
                    <a:pt x="7991" y="16"/>
                  </a:cubicBezTo>
                  <a:cubicBezTo>
                    <a:pt x="7991" y="26"/>
                    <a:pt x="7984" y="33"/>
                    <a:pt x="7975" y="33"/>
                  </a:cubicBezTo>
                  <a:close/>
                  <a:moveTo>
                    <a:pt x="7741" y="33"/>
                  </a:moveTo>
                  <a:lnTo>
                    <a:pt x="7641" y="33"/>
                  </a:lnTo>
                  <a:cubicBezTo>
                    <a:pt x="7632" y="33"/>
                    <a:pt x="7625" y="26"/>
                    <a:pt x="7625" y="16"/>
                  </a:cubicBezTo>
                  <a:cubicBezTo>
                    <a:pt x="7625" y="7"/>
                    <a:pt x="7632" y="0"/>
                    <a:pt x="7641" y="0"/>
                  </a:cubicBezTo>
                  <a:lnTo>
                    <a:pt x="7741" y="0"/>
                  </a:lnTo>
                  <a:cubicBezTo>
                    <a:pt x="7751" y="0"/>
                    <a:pt x="7758" y="7"/>
                    <a:pt x="7758" y="16"/>
                  </a:cubicBezTo>
                  <a:cubicBezTo>
                    <a:pt x="7758" y="26"/>
                    <a:pt x="7751" y="33"/>
                    <a:pt x="7741" y="33"/>
                  </a:cubicBezTo>
                  <a:close/>
                  <a:moveTo>
                    <a:pt x="7508" y="33"/>
                  </a:moveTo>
                  <a:lnTo>
                    <a:pt x="7408" y="33"/>
                  </a:lnTo>
                  <a:cubicBezTo>
                    <a:pt x="7399" y="33"/>
                    <a:pt x="7391" y="26"/>
                    <a:pt x="7391" y="16"/>
                  </a:cubicBezTo>
                  <a:cubicBezTo>
                    <a:pt x="7391" y="7"/>
                    <a:pt x="7399" y="0"/>
                    <a:pt x="7408" y="0"/>
                  </a:cubicBezTo>
                  <a:lnTo>
                    <a:pt x="7508" y="0"/>
                  </a:lnTo>
                  <a:cubicBezTo>
                    <a:pt x="7517" y="0"/>
                    <a:pt x="7525" y="7"/>
                    <a:pt x="7525" y="16"/>
                  </a:cubicBezTo>
                  <a:cubicBezTo>
                    <a:pt x="7525" y="26"/>
                    <a:pt x="7517" y="33"/>
                    <a:pt x="7508" y="33"/>
                  </a:cubicBezTo>
                  <a:close/>
                  <a:moveTo>
                    <a:pt x="7275" y="33"/>
                  </a:moveTo>
                  <a:lnTo>
                    <a:pt x="7175" y="33"/>
                  </a:lnTo>
                  <a:cubicBezTo>
                    <a:pt x="7166" y="33"/>
                    <a:pt x="7158" y="26"/>
                    <a:pt x="7158" y="16"/>
                  </a:cubicBezTo>
                  <a:cubicBezTo>
                    <a:pt x="7158" y="7"/>
                    <a:pt x="7166" y="0"/>
                    <a:pt x="7175" y="0"/>
                  </a:cubicBezTo>
                  <a:lnTo>
                    <a:pt x="7275" y="0"/>
                  </a:lnTo>
                  <a:cubicBezTo>
                    <a:pt x="7284" y="0"/>
                    <a:pt x="7291" y="7"/>
                    <a:pt x="7291" y="16"/>
                  </a:cubicBezTo>
                  <a:cubicBezTo>
                    <a:pt x="7291" y="26"/>
                    <a:pt x="7284" y="33"/>
                    <a:pt x="7275" y="33"/>
                  </a:cubicBezTo>
                  <a:close/>
                  <a:moveTo>
                    <a:pt x="7041" y="33"/>
                  </a:moveTo>
                  <a:lnTo>
                    <a:pt x="6941" y="33"/>
                  </a:lnTo>
                  <a:cubicBezTo>
                    <a:pt x="6932" y="33"/>
                    <a:pt x="6925" y="26"/>
                    <a:pt x="6925" y="16"/>
                  </a:cubicBezTo>
                  <a:cubicBezTo>
                    <a:pt x="6925" y="7"/>
                    <a:pt x="6932" y="0"/>
                    <a:pt x="6941" y="0"/>
                  </a:cubicBezTo>
                  <a:lnTo>
                    <a:pt x="7041" y="0"/>
                  </a:lnTo>
                  <a:cubicBezTo>
                    <a:pt x="7051" y="0"/>
                    <a:pt x="7058" y="7"/>
                    <a:pt x="7058" y="16"/>
                  </a:cubicBezTo>
                  <a:cubicBezTo>
                    <a:pt x="7058" y="26"/>
                    <a:pt x="7051" y="33"/>
                    <a:pt x="7041" y="33"/>
                  </a:cubicBezTo>
                  <a:close/>
                  <a:moveTo>
                    <a:pt x="6808" y="33"/>
                  </a:moveTo>
                  <a:lnTo>
                    <a:pt x="6708" y="33"/>
                  </a:lnTo>
                  <a:cubicBezTo>
                    <a:pt x="6699" y="33"/>
                    <a:pt x="6691" y="26"/>
                    <a:pt x="6691" y="16"/>
                  </a:cubicBezTo>
                  <a:cubicBezTo>
                    <a:pt x="6691" y="7"/>
                    <a:pt x="6699" y="0"/>
                    <a:pt x="6708" y="0"/>
                  </a:cubicBezTo>
                  <a:lnTo>
                    <a:pt x="6808" y="0"/>
                  </a:lnTo>
                  <a:cubicBezTo>
                    <a:pt x="6817" y="0"/>
                    <a:pt x="6825" y="7"/>
                    <a:pt x="6825" y="16"/>
                  </a:cubicBezTo>
                  <a:cubicBezTo>
                    <a:pt x="6825" y="26"/>
                    <a:pt x="6817" y="33"/>
                    <a:pt x="6808" y="33"/>
                  </a:cubicBezTo>
                  <a:close/>
                  <a:moveTo>
                    <a:pt x="6575" y="33"/>
                  </a:moveTo>
                  <a:lnTo>
                    <a:pt x="6475" y="33"/>
                  </a:lnTo>
                  <a:cubicBezTo>
                    <a:pt x="6466" y="33"/>
                    <a:pt x="6458" y="26"/>
                    <a:pt x="6458" y="16"/>
                  </a:cubicBezTo>
                  <a:cubicBezTo>
                    <a:pt x="6458" y="7"/>
                    <a:pt x="6466" y="0"/>
                    <a:pt x="6475" y="0"/>
                  </a:cubicBezTo>
                  <a:lnTo>
                    <a:pt x="6575" y="0"/>
                  </a:lnTo>
                  <a:cubicBezTo>
                    <a:pt x="6584" y="0"/>
                    <a:pt x="6591" y="7"/>
                    <a:pt x="6591" y="16"/>
                  </a:cubicBezTo>
                  <a:cubicBezTo>
                    <a:pt x="6591" y="26"/>
                    <a:pt x="6584" y="33"/>
                    <a:pt x="6575" y="33"/>
                  </a:cubicBezTo>
                  <a:close/>
                  <a:moveTo>
                    <a:pt x="6341" y="33"/>
                  </a:moveTo>
                  <a:lnTo>
                    <a:pt x="6241" y="33"/>
                  </a:lnTo>
                  <a:cubicBezTo>
                    <a:pt x="6232" y="33"/>
                    <a:pt x="6225" y="26"/>
                    <a:pt x="6225" y="16"/>
                  </a:cubicBezTo>
                  <a:cubicBezTo>
                    <a:pt x="6225" y="7"/>
                    <a:pt x="6232" y="0"/>
                    <a:pt x="6241" y="0"/>
                  </a:cubicBezTo>
                  <a:lnTo>
                    <a:pt x="6341" y="0"/>
                  </a:lnTo>
                  <a:cubicBezTo>
                    <a:pt x="6351" y="0"/>
                    <a:pt x="6358" y="7"/>
                    <a:pt x="6358" y="16"/>
                  </a:cubicBezTo>
                  <a:cubicBezTo>
                    <a:pt x="6358" y="26"/>
                    <a:pt x="6351" y="33"/>
                    <a:pt x="6341" y="33"/>
                  </a:cubicBezTo>
                  <a:close/>
                  <a:moveTo>
                    <a:pt x="6108" y="33"/>
                  </a:moveTo>
                  <a:lnTo>
                    <a:pt x="6008" y="33"/>
                  </a:lnTo>
                  <a:cubicBezTo>
                    <a:pt x="5999" y="33"/>
                    <a:pt x="5991" y="26"/>
                    <a:pt x="5991" y="16"/>
                  </a:cubicBezTo>
                  <a:cubicBezTo>
                    <a:pt x="5991" y="7"/>
                    <a:pt x="5999" y="0"/>
                    <a:pt x="6008" y="0"/>
                  </a:cubicBezTo>
                  <a:lnTo>
                    <a:pt x="6108" y="0"/>
                  </a:lnTo>
                  <a:cubicBezTo>
                    <a:pt x="6117" y="0"/>
                    <a:pt x="6125" y="7"/>
                    <a:pt x="6125" y="16"/>
                  </a:cubicBezTo>
                  <a:cubicBezTo>
                    <a:pt x="6125" y="26"/>
                    <a:pt x="6117" y="33"/>
                    <a:pt x="6108" y="33"/>
                  </a:cubicBezTo>
                  <a:close/>
                  <a:moveTo>
                    <a:pt x="5875" y="33"/>
                  </a:moveTo>
                  <a:lnTo>
                    <a:pt x="5775" y="33"/>
                  </a:lnTo>
                  <a:cubicBezTo>
                    <a:pt x="5766" y="33"/>
                    <a:pt x="5758" y="26"/>
                    <a:pt x="5758" y="16"/>
                  </a:cubicBezTo>
                  <a:cubicBezTo>
                    <a:pt x="5758" y="7"/>
                    <a:pt x="5766" y="0"/>
                    <a:pt x="5775" y="0"/>
                  </a:cubicBezTo>
                  <a:lnTo>
                    <a:pt x="5875" y="0"/>
                  </a:lnTo>
                  <a:cubicBezTo>
                    <a:pt x="5884" y="0"/>
                    <a:pt x="5891" y="7"/>
                    <a:pt x="5891" y="16"/>
                  </a:cubicBezTo>
                  <a:cubicBezTo>
                    <a:pt x="5891" y="26"/>
                    <a:pt x="5884" y="33"/>
                    <a:pt x="5875" y="33"/>
                  </a:cubicBezTo>
                  <a:close/>
                  <a:moveTo>
                    <a:pt x="5641" y="33"/>
                  </a:moveTo>
                  <a:lnTo>
                    <a:pt x="5541" y="33"/>
                  </a:lnTo>
                  <a:cubicBezTo>
                    <a:pt x="5532" y="33"/>
                    <a:pt x="5525" y="26"/>
                    <a:pt x="5525" y="16"/>
                  </a:cubicBezTo>
                  <a:cubicBezTo>
                    <a:pt x="5525" y="7"/>
                    <a:pt x="5532" y="0"/>
                    <a:pt x="5541" y="0"/>
                  </a:cubicBezTo>
                  <a:lnTo>
                    <a:pt x="5641" y="0"/>
                  </a:lnTo>
                  <a:cubicBezTo>
                    <a:pt x="5651" y="0"/>
                    <a:pt x="5658" y="7"/>
                    <a:pt x="5658" y="16"/>
                  </a:cubicBezTo>
                  <a:cubicBezTo>
                    <a:pt x="5658" y="26"/>
                    <a:pt x="5651" y="33"/>
                    <a:pt x="5641" y="33"/>
                  </a:cubicBezTo>
                  <a:close/>
                  <a:moveTo>
                    <a:pt x="5408" y="33"/>
                  </a:moveTo>
                  <a:lnTo>
                    <a:pt x="5308" y="33"/>
                  </a:lnTo>
                  <a:cubicBezTo>
                    <a:pt x="5299" y="33"/>
                    <a:pt x="5291" y="26"/>
                    <a:pt x="5291" y="16"/>
                  </a:cubicBezTo>
                  <a:cubicBezTo>
                    <a:pt x="5291" y="7"/>
                    <a:pt x="5299" y="0"/>
                    <a:pt x="5308" y="0"/>
                  </a:cubicBezTo>
                  <a:lnTo>
                    <a:pt x="5408" y="0"/>
                  </a:lnTo>
                  <a:cubicBezTo>
                    <a:pt x="5417" y="0"/>
                    <a:pt x="5425" y="7"/>
                    <a:pt x="5425" y="16"/>
                  </a:cubicBezTo>
                  <a:cubicBezTo>
                    <a:pt x="5425" y="26"/>
                    <a:pt x="5417" y="33"/>
                    <a:pt x="5408" y="33"/>
                  </a:cubicBezTo>
                  <a:close/>
                  <a:moveTo>
                    <a:pt x="5175" y="33"/>
                  </a:moveTo>
                  <a:lnTo>
                    <a:pt x="5075" y="33"/>
                  </a:lnTo>
                  <a:cubicBezTo>
                    <a:pt x="5066" y="33"/>
                    <a:pt x="5058" y="26"/>
                    <a:pt x="5058" y="16"/>
                  </a:cubicBezTo>
                  <a:cubicBezTo>
                    <a:pt x="5058" y="7"/>
                    <a:pt x="5066" y="0"/>
                    <a:pt x="5075" y="0"/>
                  </a:cubicBezTo>
                  <a:lnTo>
                    <a:pt x="5175" y="0"/>
                  </a:lnTo>
                  <a:cubicBezTo>
                    <a:pt x="5184" y="0"/>
                    <a:pt x="5191" y="7"/>
                    <a:pt x="5191" y="16"/>
                  </a:cubicBezTo>
                  <a:cubicBezTo>
                    <a:pt x="5191" y="26"/>
                    <a:pt x="5184" y="33"/>
                    <a:pt x="5175" y="33"/>
                  </a:cubicBezTo>
                  <a:close/>
                  <a:moveTo>
                    <a:pt x="4941" y="33"/>
                  </a:moveTo>
                  <a:lnTo>
                    <a:pt x="4841" y="33"/>
                  </a:lnTo>
                  <a:cubicBezTo>
                    <a:pt x="4832" y="33"/>
                    <a:pt x="4825" y="26"/>
                    <a:pt x="4825" y="16"/>
                  </a:cubicBezTo>
                  <a:cubicBezTo>
                    <a:pt x="4825" y="7"/>
                    <a:pt x="4832" y="0"/>
                    <a:pt x="4841" y="0"/>
                  </a:cubicBezTo>
                  <a:lnTo>
                    <a:pt x="4941" y="0"/>
                  </a:lnTo>
                  <a:cubicBezTo>
                    <a:pt x="4951" y="0"/>
                    <a:pt x="4958" y="7"/>
                    <a:pt x="4958" y="16"/>
                  </a:cubicBezTo>
                  <a:cubicBezTo>
                    <a:pt x="4958" y="26"/>
                    <a:pt x="4951" y="33"/>
                    <a:pt x="4941" y="33"/>
                  </a:cubicBezTo>
                  <a:close/>
                  <a:moveTo>
                    <a:pt x="4708" y="33"/>
                  </a:moveTo>
                  <a:lnTo>
                    <a:pt x="4608" y="33"/>
                  </a:lnTo>
                  <a:cubicBezTo>
                    <a:pt x="4599" y="33"/>
                    <a:pt x="4591" y="26"/>
                    <a:pt x="4591" y="16"/>
                  </a:cubicBezTo>
                  <a:cubicBezTo>
                    <a:pt x="4591" y="7"/>
                    <a:pt x="4599" y="0"/>
                    <a:pt x="4608" y="0"/>
                  </a:cubicBezTo>
                  <a:lnTo>
                    <a:pt x="4708" y="0"/>
                  </a:lnTo>
                  <a:cubicBezTo>
                    <a:pt x="4717" y="0"/>
                    <a:pt x="4725" y="7"/>
                    <a:pt x="4725" y="16"/>
                  </a:cubicBezTo>
                  <a:cubicBezTo>
                    <a:pt x="4725" y="26"/>
                    <a:pt x="4717" y="33"/>
                    <a:pt x="4708" y="33"/>
                  </a:cubicBezTo>
                  <a:close/>
                  <a:moveTo>
                    <a:pt x="4475" y="33"/>
                  </a:moveTo>
                  <a:lnTo>
                    <a:pt x="4375" y="33"/>
                  </a:lnTo>
                  <a:cubicBezTo>
                    <a:pt x="4366" y="33"/>
                    <a:pt x="4358" y="26"/>
                    <a:pt x="4358" y="16"/>
                  </a:cubicBezTo>
                  <a:cubicBezTo>
                    <a:pt x="4358" y="7"/>
                    <a:pt x="4366" y="0"/>
                    <a:pt x="4375" y="0"/>
                  </a:cubicBezTo>
                  <a:lnTo>
                    <a:pt x="4475" y="0"/>
                  </a:lnTo>
                  <a:cubicBezTo>
                    <a:pt x="4484" y="0"/>
                    <a:pt x="4491" y="7"/>
                    <a:pt x="4491" y="16"/>
                  </a:cubicBezTo>
                  <a:cubicBezTo>
                    <a:pt x="4491" y="26"/>
                    <a:pt x="4484" y="33"/>
                    <a:pt x="4475" y="33"/>
                  </a:cubicBezTo>
                  <a:close/>
                  <a:moveTo>
                    <a:pt x="4241" y="33"/>
                  </a:moveTo>
                  <a:lnTo>
                    <a:pt x="4141" y="33"/>
                  </a:lnTo>
                  <a:cubicBezTo>
                    <a:pt x="4132" y="33"/>
                    <a:pt x="4125" y="26"/>
                    <a:pt x="4125" y="16"/>
                  </a:cubicBezTo>
                  <a:cubicBezTo>
                    <a:pt x="4125" y="7"/>
                    <a:pt x="4132" y="0"/>
                    <a:pt x="4141" y="0"/>
                  </a:cubicBezTo>
                  <a:lnTo>
                    <a:pt x="4241" y="0"/>
                  </a:lnTo>
                  <a:cubicBezTo>
                    <a:pt x="4251" y="0"/>
                    <a:pt x="4258" y="7"/>
                    <a:pt x="4258" y="16"/>
                  </a:cubicBezTo>
                  <a:cubicBezTo>
                    <a:pt x="4258" y="26"/>
                    <a:pt x="4251" y="33"/>
                    <a:pt x="4241" y="33"/>
                  </a:cubicBezTo>
                  <a:close/>
                  <a:moveTo>
                    <a:pt x="4008" y="33"/>
                  </a:moveTo>
                  <a:lnTo>
                    <a:pt x="3908" y="33"/>
                  </a:lnTo>
                  <a:cubicBezTo>
                    <a:pt x="3899" y="33"/>
                    <a:pt x="3891" y="26"/>
                    <a:pt x="3891" y="16"/>
                  </a:cubicBezTo>
                  <a:cubicBezTo>
                    <a:pt x="3891" y="7"/>
                    <a:pt x="3899" y="0"/>
                    <a:pt x="3908" y="0"/>
                  </a:cubicBezTo>
                  <a:lnTo>
                    <a:pt x="4008" y="0"/>
                  </a:lnTo>
                  <a:cubicBezTo>
                    <a:pt x="4017" y="0"/>
                    <a:pt x="4025" y="7"/>
                    <a:pt x="4025" y="16"/>
                  </a:cubicBezTo>
                  <a:cubicBezTo>
                    <a:pt x="4025" y="26"/>
                    <a:pt x="4017" y="33"/>
                    <a:pt x="4008" y="33"/>
                  </a:cubicBezTo>
                  <a:close/>
                  <a:moveTo>
                    <a:pt x="3775" y="33"/>
                  </a:moveTo>
                  <a:lnTo>
                    <a:pt x="3675" y="33"/>
                  </a:lnTo>
                  <a:cubicBezTo>
                    <a:pt x="3666" y="33"/>
                    <a:pt x="3658" y="26"/>
                    <a:pt x="3658" y="16"/>
                  </a:cubicBezTo>
                  <a:cubicBezTo>
                    <a:pt x="3658" y="7"/>
                    <a:pt x="3666" y="0"/>
                    <a:pt x="3675" y="0"/>
                  </a:cubicBezTo>
                  <a:lnTo>
                    <a:pt x="3775" y="0"/>
                  </a:lnTo>
                  <a:cubicBezTo>
                    <a:pt x="3784" y="0"/>
                    <a:pt x="3791" y="7"/>
                    <a:pt x="3791" y="16"/>
                  </a:cubicBezTo>
                  <a:cubicBezTo>
                    <a:pt x="3791" y="26"/>
                    <a:pt x="3784" y="33"/>
                    <a:pt x="3775" y="33"/>
                  </a:cubicBezTo>
                  <a:close/>
                  <a:moveTo>
                    <a:pt x="3541" y="33"/>
                  </a:moveTo>
                  <a:lnTo>
                    <a:pt x="3441" y="33"/>
                  </a:lnTo>
                  <a:cubicBezTo>
                    <a:pt x="3432" y="33"/>
                    <a:pt x="3425" y="26"/>
                    <a:pt x="3425" y="16"/>
                  </a:cubicBezTo>
                  <a:cubicBezTo>
                    <a:pt x="3425" y="7"/>
                    <a:pt x="3432" y="0"/>
                    <a:pt x="3441" y="0"/>
                  </a:cubicBezTo>
                  <a:lnTo>
                    <a:pt x="3541" y="0"/>
                  </a:lnTo>
                  <a:cubicBezTo>
                    <a:pt x="3551" y="0"/>
                    <a:pt x="3558" y="7"/>
                    <a:pt x="3558" y="16"/>
                  </a:cubicBezTo>
                  <a:cubicBezTo>
                    <a:pt x="3558" y="26"/>
                    <a:pt x="3551" y="33"/>
                    <a:pt x="3541" y="33"/>
                  </a:cubicBezTo>
                  <a:close/>
                  <a:moveTo>
                    <a:pt x="3308" y="33"/>
                  </a:moveTo>
                  <a:lnTo>
                    <a:pt x="3208" y="33"/>
                  </a:lnTo>
                  <a:cubicBezTo>
                    <a:pt x="3199" y="33"/>
                    <a:pt x="3191" y="26"/>
                    <a:pt x="3191" y="16"/>
                  </a:cubicBezTo>
                  <a:cubicBezTo>
                    <a:pt x="3191" y="7"/>
                    <a:pt x="3199" y="0"/>
                    <a:pt x="3208" y="0"/>
                  </a:cubicBezTo>
                  <a:lnTo>
                    <a:pt x="3308" y="0"/>
                  </a:lnTo>
                  <a:cubicBezTo>
                    <a:pt x="3317" y="0"/>
                    <a:pt x="3325" y="7"/>
                    <a:pt x="3325" y="16"/>
                  </a:cubicBezTo>
                  <a:cubicBezTo>
                    <a:pt x="3325" y="26"/>
                    <a:pt x="3317" y="33"/>
                    <a:pt x="3308" y="33"/>
                  </a:cubicBezTo>
                  <a:close/>
                  <a:moveTo>
                    <a:pt x="3075" y="33"/>
                  </a:moveTo>
                  <a:lnTo>
                    <a:pt x="2975" y="33"/>
                  </a:lnTo>
                  <a:cubicBezTo>
                    <a:pt x="2966" y="33"/>
                    <a:pt x="2958" y="26"/>
                    <a:pt x="2958" y="16"/>
                  </a:cubicBezTo>
                  <a:cubicBezTo>
                    <a:pt x="2958" y="7"/>
                    <a:pt x="2966" y="0"/>
                    <a:pt x="2975" y="0"/>
                  </a:cubicBezTo>
                  <a:lnTo>
                    <a:pt x="3075" y="0"/>
                  </a:lnTo>
                  <a:cubicBezTo>
                    <a:pt x="3084" y="0"/>
                    <a:pt x="3091" y="7"/>
                    <a:pt x="3091" y="16"/>
                  </a:cubicBezTo>
                  <a:cubicBezTo>
                    <a:pt x="3091" y="26"/>
                    <a:pt x="3084" y="33"/>
                    <a:pt x="3075" y="33"/>
                  </a:cubicBezTo>
                  <a:close/>
                  <a:moveTo>
                    <a:pt x="2841" y="33"/>
                  </a:moveTo>
                  <a:lnTo>
                    <a:pt x="2741" y="33"/>
                  </a:lnTo>
                  <a:cubicBezTo>
                    <a:pt x="2732" y="33"/>
                    <a:pt x="2725" y="26"/>
                    <a:pt x="2725" y="16"/>
                  </a:cubicBezTo>
                  <a:cubicBezTo>
                    <a:pt x="2725" y="7"/>
                    <a:pt x="2732" y="0"/>
                    <a:pt x="2741" y="0"/>
                  </a:cubicBezTo>
                  <a:lnTo>
                    <a:pt x="2841" y="0"/>
                  </a:lnTo>
                  <a:cubicBezTo>
                    <a:pt x="2851" y="0"/>
                    <a:pt x="2858" y="7"/>
                    <a:pt x="2858" y="16"/>
                  </a:cubicBezTo>
                  <a:cubicBezTo>
                    <a:pt x="2858" y="26"/>
                    <a:pt x="2851" y="33"/>
                    <a:pt x="2841" y="33"/>
                  </a:cubicBezTo>
                  <a:close/>
                  <a:moveTo>
                    <a:pt x="2608" y="33"/>
                  </a:moveTo>
                  <a:lnTo>
                    <a:pt x="2508" y="33"/>
                  </a:lnTo>
                  <a:cubicBezTo>
                    <a:pt x="2499" y="33"/>
                    <a:pt x="2491" y="26"/>
                    <a:pt x="2491" y="16"/>
                  </a:cubicBezTo>
                  <a:cubicBezTo>
                    <a:pt x="2491" y="7"/>
                    <a:pt x="2499" y="0"/>
                    <a:pt x="2508" y="0"/>
                  </a:cubicBezTo>
                  <a:lnTo>
                    <a:pt x="2608" y="0"/>
                  </a:lnTo>
                  <a:cubicBezTo>
                    <a:pt x="2617" y="0"/>
                    <a:pt x="2625" y="7"/>
                    <a:pt x="2625" y="16"/>
                  </a:cubicBezTo>
                  <a:cubicBezTo>
                    <a:pt x="2625" y="26"/>
                    <a:pt x="2617" y="33"/>
                    <a:pt x="2608" y="33"/>
                  </a:cubicBezTo>
                  <a:close/>
                  <a:moveTo>
                    <a:pt x="2375" y="33"/>
                  </a:moveTo>
                  <a:lnTo>
                    <a:pt x="2275" y="33"/>
                  </a:lnTo>
                  <a:cubicBezTo>
                    <a:pt x="2266" y="33"/>
                    <a:pt x="2258" y="26"/>
                    <a:pt x="2258" y="16"/>
                  </a:cubicBezTo>
                  <a:cubicBezTo>
                    <a:pt x="2258" y="7"/>
                    <a:pt x="2266" y="0"/>
                    <a:pt x="2275" y="0"/>
                  </a:cubicBezTo>
                  <a:lnTo>
                    <a:pt x="2375" y="0"/>
                  </a:lnTo>
                  <a:cubicBezTo>
                    <a:pt x="2384" y="0"/>
                    <a:pt x="2391" y="7"/>
                    <a:pt x="2391" y="16"/>
                  </a:cubicBezTo>
                  <a:cubicBezTo>
                    <a:pt x="2391" y="26"/>
                    <a:pt x="2384" y="33"/>
                    <a:pt x="2375" y="33"/>
                  </a:cubicBezTo>
                  <a:close/>
                  <a:moveTo>
                    <a:pt x="2141" y="33"/>
                  </a:moveTo>
                  <a:lnTo>
                    <a:pt x="2041" y="33"/>
                  </a:lnTo>
                  <a:cubicBezTo>
                    <a:pt x="2032" y="33"/>
                    <a:pt x="2025" y="26"/>
                    <a:pt x="2025" y="16"/>
                  </a:cubicBezTo>
                  <a:cubicBezTo>
                    <a:pt x="2025" y="7"/>
                    <a:pt x="2032" y="0"/>
                    <a:pt x="2041" y="0"/>
                  </a:cubicBezTo>
                  <a:lnTo>
                    <a:pt x="2141" y="0"/>
                  </a:lnTo>
                  <a:cubicBezTo>
                    <a:pt x="2151" y="0"/>
                    <a:pt x="2158" y="7"/>
                    <a:pt x="2158" y="16"/>
                  </a:cubicBezTo>
                  <a:cubicBezTo>
                    <a:pt x="2158" y="26"/>
                    <a:pt x="2151" y="33"/>
                    <a:pt x="2141" y="33"/>
                  </a:cubicBezTo>
                  <a:close/>
                  <a:moveTo>
                    <a:pt x="1908" y="33"/>
                  </a:moveTo>
                  <a:lnTo>
                    <a:pt x="1808" y="33"/>
                  </a:lnTo>
                  <a:cubicBezTo>
                    <a:pt x="1799" y="33"/>
                    <a:pt x="1791" y="26"/>
                    <a:pt x="1791" y="16"/>
                  </a:cubicBezTo>
                  <a:cubicBezTo>
                    <a:pt x="1791" y="7"/>
                    <a:pt x="1799" y="0"/>
                    <a:pt x="1808" y="0"/>
                  </a:cubicBezTo>
                  <a:lnTo>
                    <a:pt x="1908" y="0"/>
                  </a:lnTo>
                  <a:cubicBezTo>
                    <a:pt x="1917" y="0"/>
                    <a:pt x="1925" y="7"/>
                    <a:pt x="1925" y="16"/>
                  </a:cubicBezTo>
                  <a:cubicBezTo>
                    <a:pt x="1925" y="26"/>
                    <a:pt x="1917" y="33"/>
                    <a:pt x="1908" y="33"/>
                  </a:cubicBezTo>
                  <a:close/>
                  <a:moveTo>
                    <a:pt x="1675" y="33"/>
                  </a:moveTo>
                  <a:lnTo>
                    <a:pt x="1575" y="33"/>
                  </a:lnTo>
                  <a:cubicBezTo>
                    <a:pt x="1566" y="33"/>
                    <a:pt x="1558" y="26"/>
                    <a:pt x="1558" y="16"/>
                  </a:cubicBezTo>
                  <a:cubicBezTo>
                    <a:pt x="1558" y="7"/>
                    <a:pt x="1566" y="0"/>
                    <a:pt x="1575" y="0"/>
                  </a:cubicBezTo>
                  <a:lnTo>
                    <a:pt x="1675" y="0"/>
                  </a:lnTo>
                  <a:cubicBezTo>
                    <a:pt x="1684" y="0"/>
                    <a:pt x="1691" y="7"/>
                    <a:pt x="1691" y="16"/>
                  </a:cubicBezTo>
                  <a:cubicBezTo>
                    <a:pt x="1691" y="26"/>
                    <a:pt x="1684" y="33"/>
                    <a:pt x="1675" y="33"/>
                  </a:cubicBezTo>
                  <a:close/>
                  <a:moveTo>
                    <a:pt x="1441" y="33"/>
                  </a:moveTo>
                  <a:lnTo>
                    <a:pt x="1341" y="33"/>
                  </a:lnTo>
                  <a:cubicBezTo>
                    <a:pt x="1332" y="33"/>
                    <a:pt x="1325" y="26"/>
                    <a:pt x="1325" y="16"/>
                  </a:cubicBezTo>
                  <a:cubicBezTo>
                    <a:pt x="1325" y="7"/>
                    <a:pt x="1332" y="0"/>
                    <a:pt x="1341" y="0"/>
                  </a:cubicBezTo>
                  <a:lnTo>
                    <a:pt x="1441" y="0"/>
                  </a:lnTo>
                  <a:cubicBezTo>
                    <a:pt x="1451" y="0"/>
                    <a:pt x="1458" y="7"/>
                    <a:pt x="1458" y="16"/>
                  </a:cubicBezTo>
                  <a:cubicBezTo>
                    <a:pt x="1458" y="26"/>
                    <a:pt x="1451" y="33"/>
                    <a:pt x="1441" y="33"/>
                  </a:cubicBezTo>
                  <a:close/>
                  <a:moveTo>
                    <a:pt x="1208" y="33"/>
                  </a:moveTo>
                  <a:lnTo>
                    <a:pt x="1108" y="33"/>
                  </a:lnTo>
                  <a:cubicBezTo>
                    <a:pt x="1099" y="33"/>
                    <a:pt x="1091" y="26"/>
                    <a:pt x="1091" y="16"/>
                  </a:cubicBezTo>
                  <a:cubicBezTo>
                    <a:pt x="1091" y="7"/>
                    <a:pt x="1099" y="0"/>
                    <a:pt x="1108" y="0"/>
                  </a:cubicBezTo>
                  <a:lnTo>
                    <a:pt x="1208" y="0"/>
                  </a:lnTo>
                  <a:cubicBezTo>
                    <a:pt x="1217" y="0"/>
                    <a:pt x="1225" y="7"/>
                    <a:pt x="1225" y="16"/>
                  </a:cubicBezTo>
                  <a:cubicBezTo>
                    <a:pt x="1225" y="26"/>
                    <a:pt x="1217" y="33"/>
                    <a:pt x="1208" y="33"/>
                  </a:cubicBezTo>
                  <a:close/>
                  <a:moveTo>
                    <a:pt x="975" y="33"/>
                  </a:moveTo>
                  <a:lnTo>
                    <a:pt x="875" y="33"/>
                  </a:lnTo>
                  <a:cubicBezTo>
                    <a:pt x="866" y="33"/>
                    <a:pt x="858" y="26"/>
                    <a:pt x="858" y="16"/>
                  </a:cubicBezTo>
                  <a:cubicBezTo>
                    <a:pt x="858" y="7"/>
                    <a:pt x="866" y="0"/>
                    <a:pt x="875" y="0"/>
                  </a:cubicBezTo>
                  <a:lnTo>
                    <a:pt x="975" y="0"/>
                  </a:lnTo>
                  <a:cubicBezTo>
                    <a:pt x="984" y="0"/>
                    <a:pt x="991" y="7"/>
                    <a:pt x="991" y="16"/>
                  </a:cubicBezTo>
                  <a:cubicBezTo>
                    <a:pt x="991" y="26"/>
                    <a:pt x="984" y="33"/>
                    <a:pt x="975" y="33"/>
                  </a:cubicBezTo>
                  <a:close/>
                  <a:moveTo>
                    <a:pt x="741" y="33"/>
                  </a:moveTo>
                  <a:lnTo>
                    <a:pt x="641" y="33"/>
                  </a:lnTo>
                  <a:cubicBezTo>
                    <a:pt x="632" y="33"/>
                    <a:pt x="625" y="26"/>
                    <a:pt x="625" y="16"/>
                  </a:cubicBezTo>
                  <a:cubicBezTo>
                    <a:pt x="625" y="7"/>
                    <a:pt x="632" y="0"/>
                    <a:pt x="641" y="0"/>
                  </a:cubicBezTo>
                  <a:lnTo>
                    <a:pt x="741" y="0"/>
                  </a:lnTo>
                  <a:cubicBezTo>
                    <a:pt x="751" y="0"/>
                    <a:pt x="758" y="7"/>
                    <a:pt x="758" y="16"/>
                  </a:cubicBezTo>
                  <a:cubicBezTo>
                    <a:pt x="758" y="26"/>
                    <a:pt x="751" y="33"/>
                    <a:pt x="741" y="33"/>
                  </a:cubicBezTo>
                  <a:close/>
                  <a:moveTo>
                    <a:pt x="508" y="33"/>
                  </a:moveTo>
                  <a:lnTo>
                    <a:pt x="408" y="33"/>
                  </a:lnTo>
                  <a:cubicBezTo>
                    <a:pt x="399" y="33"/>
                    <a:pt x="391" y="26"/>
                    <a:pt x="391" y="16"/>
                  </a:cubicBezTo>
                  <a:cubicBezTo>
                    <a:pt x="391" y="7"/>
                    <a:pt x="399" y="0"/>
                    <a:pt x="408" y="0"/>
                  </a:cubicBezTo>
                  <a:lnTo>
                    <a:pt x="508" y="0"/>
                  </a:lnTo>
                  <a:cubicBezTo>
                    <a:pt x="517" y="0"/>
                    <a:pt x="525" y="7"/>
                    <a:pt x="525" y="16"/>
                  </a:cubicBezTo>
                  <a:cubicBezTo>
                    <a:pt x="525" y="26"/>
                    <a:pt x="517" y="33"/>
                    <a:pt x="508" y="33"/>
                  </a:cubicBezTo>
                  <a:close/>
                  <a:moveTo>
                    <a:pt x="275" y="33"/>
                  </a:moveTo>
                  <a:lnTo>
                    <a:pt x="175" y="33"/>
                  </a:lnTo>
                  <a:cubicBezTo>
                    <a:pt x="166" y="33"/>
                    <a:pt x="158" y="26"/>
                    <a:pt x="158" y="16"/>
                  </a:cubicBezTo>
                  <a:cubicBezTo>
                    <a:pt x="158" y="7"/>
                    <a:pt x="166" y="0"/>
                    <a:pt x="175" y="0"/>
                  </a:cubicBezTo>
                  <a:lnTo>
                    <a:pt x="275" y="0"/>
                  </a:lnTo>
                  <a:cubicBezTo>
                    <a:pt x="284" y="0"/>
                    <a:pt x="291" y="7"/>
                    <a:pt x="291" y="16"/>
                  </a:cubicBezTo>
                  <a:cubicBezTo>
                    <a:pt x="291" y="26"/>
                    <a:pt x="284" y="33"/>
                    <a:pt x="275" y="33"/>
                  </a:cubicBezTo>
                  <a:close/>
                  <a:moveTo>
                    <a:pt x="41" y="33"/>
                  </a:moveTo>
                  <a:lnTo>
                    <a:pt x="16" y="33"/>
                  </a:lnTo>
                  <a:cubicBezTo>
                    <a:pt x="7" y="33"/>
                    <a:pt x="0" y="26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lnTo>
                    <a:pt x="41" y="0"/>
                  </a:lnTo>
                  <a:cubicBezTo>
                    <a:pt x="51" y="0"/>
                    <a:pt x="58" y="7"/>
                    <a:pt x="58" y="16"/>
                  </a:cubicBezTo>
                  <a:cubicBezTo>
                    <a:pt x="58" y="26"/>
                    <a:pt x="51" y="33"/>
                    <a:pt x="41" y="33"/>
                  </a:cubicBez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6259680" y="2217600"/>
              <a:ext cx="601560" cy="678600"/>
              <a:chOff x="6259680" y="2217600"/>
              <a:chExt cx="601560" cy="678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6265440" y="2221920"/>
                <a:ext cx="590040" cy="664920"/>
              </a:xfrm>
              <a:custGeom>
                <a:avLst/>
                <a:gdLst/>
                <a:ahLst/>
                <a:rect l="l" t="t" r="r" b="b"/>
                <a:pathLst>
                  <a:path w="416" h="419">
                    <a:moveTo>
                      <a:pt x="0" y="13"/>
                    </a:moveTo>
                    <a:lnTo>
                      <a:pt x="9" y="4"/>
                    </a:lnTo>
                    <a:lnTo>
                      <a:pt x="28" y="0"/>
                    </a:lnTo>
                    <a:lnTo>
                      <a:pt x="50" y="0"/>
                    </a:lnTo>
                    <a:lnTo>
                      <a:pt x="69" y="7"/>
                    </a:lnTo>
                    <a:lnTo>
                      <a:pt x="82" y="19"/>
                    </a:lnTo>
                    <a:lnTo>
                      <a:pt x="94" y="15"/>
                    </a:lnTo>
                    <a:lnTo>
                      <a:pt x="115" y="4"/>
                    </a:lnTo>
                    <a:lnTo>
                      <a:pt x="128" y="3"/>
                    </a:lnTo>
                    <a:lnTo>
                      <a:pt x="142" y="8"/>
                    </a:lnTo>
                    <a:lnTo>
                      <a:pt x="186" y="30"/>
                    </a:lnTo>
                    <a:lnTo>
                      <a:pt x="198" y="36"/>
                    </a:lnTo>
                    <a:lnTo>
                      <a:pt x="215" y="16"/>
                    </a:lnTo>
                    <a:lnTo>
                      <a:pt x="226" y="16"/>
                    </a:lnTo>
                    <a:lnTo>
                      <a:pt x="245" y="18"/>
                    </a:lnTo>
                    <a:lnTo>
                      <a:pt x="260" y="24"/>
                    </a:lnTo>
                    <a:lnTo>
                      <a:pt x="279" y="24"/>
                    </a:lnTo>
                    <a:lnTo>
                      <a:pt x="305" y="23"/>
                    </a:lnTo>
                    <a:lnTo>
                      <a:pt x="317" y="33"/>
                    </a:lnTo>
                    <a:lnTo>
                      <a:pt x="323" y="41"/>
                    </a:lnTo>
                    <a:lnTo>
                      <a:pt x="333" y="41"/>
                    </a:lnTo>
                    <a:lnTo>
                      <a:pt x="360" y="46"/>
                    </a:lnTo>
                    <a:lnTo>
                      <a:pt x="373" y="55"/>
                    </a:lnTo>
                    <a:lnTo>
                      <a:pt x="386" y="77"/>
                    </a:lnTo>
                    <a:lnTo>
                      <a:pt x="382" y="94"/>
                    </a:lnTo>
                    <a:lnTo>
                      <a:pt x="384" y="99"/>
                    </a:lnTo>
                    <a:lnTo>
                      <a:pt x="401" y="110"/>
                    </a:lnTo>
                    <a:lnTo>
                      <a:pt x="416" y="124"/>
                    </a:lnTo>
                    <a:lnTo>
                      <a:pt x="416" y="138"/>
                    </a:lnTo>
                    <a:lnTo>
                      <a:pt x="413" y="150"/>
                    </a:lnTo>
                    <a:lnTo>
                      <a:pt x="394" y="152"/>
                    </a:lnTo>
                    <a:lnTo>
                      <a:pt x="394" y="191"/>
                    </a:lnTo>
                    <a:lnTo>
                      <a:pt x="375" y="228"/>
                    </a:lnTo>
                    <a:lnTo>
                      <a:pt x="341" y="252"/>
                    </a:lnTo>
                    <a:lnTo>
                      <a:pt x="352" y="271"/>
                    </a:lnTo>
                    <a:lnTo>
                      <a:pt x="357" y="292"/>
                    </a:lnTo>
                    <a:lnTo>
                      <a:pt x="342" y="293"/>
                    </a:lnTo>
                    <a:lnTo>
                      <a:pt x="340" y="309"/>
                    </a:lnTo>
                    <a:lnTo>
                      <a:pt x="366" y="380"/>
                    </a:lnTo>
                    <a:lnTo>
                      <a:pt x="378" y="406"/>
                    </a:lnTo>
                    <a:lnTo>
                      <a:pt x="379" y="415"/>
                    </a:lnTo>
                    <a:lnTo>
                      <a:pt x="369" y="419"/>
                    </a:lnTo>
                    <a:lnTo>
                      <a:pt x="321" y="393"/>
                    </a:lnTo>
                    <a:lnTo>
                      <a:pt x="289" y="413"/>
                    </a:lnTo>
                    <a:lnTo>
                      <a:pt x="279" y="398"/>
                    </a:lnTo>
                    <a:lnTo>
                      <a:pt x="267" y="339"/>
                    </a:lnTo>
                    <a:lnTo>
                      <a:pt x="256" y="324"/>
                    </a:lnTo>
                    <a:lnTo>
                      <a:pt x="246" y="361"/>
                    </a:lnTo>
                    <a:lnTo>
                      <a:pt x="245" y="404"/>
                    </a:lnTo>
                    <a:lnTo>
                      <a:pt x="237" y="411"/>
                    </a:lnTo>
                    <a:lnTo>
                      <a:pt x="206" y="381"/>
                    </a:lnTo>
                    <a:lnTo>
                      <a:pt x="155" y="412"/>
                    </a:lnTo>
                    <a:lnTo>
                      <a:pt x="150" y="411"/>
                    </a:lnTo>
                    <a:lnTo>
                      <a:pt x="144" y="407"/>
                    </a:lnTo>
                    <a:lnTo>
                      <a:pt x="155" y="384"/>
                    </a:lnTo>
                    <a:lnTo>
                      <a:pt x="175" y="321"/>
                    </a:lnTo>
                    <a:lnTo>
                      <a:pt x="125" y="360"/>
                    </a:lnTo>
                    <a:lnTo>
                      <a:pt x="108" y="306"/>
                    </a:lnTo>
                    <a:lnTo>
                      <a:pt x="87" y="299"/>
                    </a:lnTo>
                    <a:lnTo>
                      <a:pt x="71" y="301"/>
                    </a:lnTo>
                    <a:lnTo>
                      <a:pt x="77" y="291"/>
                    </a:lnTo>
                    <a:lnTo>
                      <a:pt x="98" y="269"/>
                    </a:lnTo>
                    <a:lnTo>
                      <a:pt x="102" y="252"/>
                    </a:lnTo>
                    <a:lnTo>
                      <a:pt x="111" y="248"/>
                    </a:lnTo>
                    <a:lnTo>
                      <a:pt x="102" y="234"/>
                    </a:lnTo>
                    <a:lnTo>
                      <a:pt x="79" y="238"/>
                    </a:lnTo>
                    <a:lnTo>
                      <a:pt x="69" y="234"/>
                    </a:lnTo>
                    <a:lnTo>
                      <a:pt x="64" y="223"/>
                    </a:lnTo>
                    <a:lnTo>
                      <a:pt x="49" y="193"/>
                    </a:lnTo>
                    <a:lnTo>
                      <a:pt x="36" y="171"/>
                    </a:lnTo>
                    <a:lnTo>
                      <a:pt x="32" y="159"/>
                    </a:lnTo>
                    <a:lnTo>
                      <a:pt x="35" y="143"/>
                    </a:lnTo>
                    <a:lnTo>
                      <a:pt x="27" y="129"/>
                    </a:lnTo>
                    <a:lnTo>
                      <a:pt x="26" y="118"/>
                    </a:lnTo>
                    <a:lnTo>
                      <a:pt x="29" y="97"/>
                    </a:lnTo>
                    <a:lnTo>
                      <a:pt x="21" y="93"/>
                    </a:lnTo>
                    <a:lnTo>
                      <a:pt x="14" y="81"/>
                    </a:lnTo>
                    <a:lnTo>
                      <a:pt x="15" y="72"/>
                    </a:lnTo>
                    <a:lnTo>
                      <a:pt x="22" y="64"/>
                    </a:lnTo>
                    <a:lnTo>
                      <a:pt x="7" y="34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471000" y="2477520"/>
                <a:ext cx="65160" cy="9792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0"/>
                    </a:moveTo>
                    <a:lnTo>
                      <a:pt x="2" y="28"/>
                    </a:lnTo>
                    <a:lnTo>
                      <a:pt x="12" y="50"/>
                    </a:lnTo>
                    <a:lnTo>
                      <a:pt x="35" y="62"/>
                    </a:lnTo>
                    <a:lnTo>
                      <a:pt x="46" y="55"/>
                    </a:lnTo>
                    <a:lnTo>
                      <a:pt x="37" y="42"/>
                    </a:lnTo>
                    <a:lnTo>
                      <a:pt x="21" y="40"/>
                    </a:lnTo>
                    <a:lnTo>
                      <a:pt x="10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611760" y="2582280"/>
                <a:ext cx="168840" cy="60120"/>
              </a:xfrm>
              <a:custGeom>
                <a:avLst/>
                <a:gdLst/>
                <a:ahLst/>
                <a:rect l="l" t="t" r="r" b="b"/>
                <a:pathLst>
                  <a:path w="119" h="38">
                    <a:moveTo>
                      <a:pt x="0" y="30"/>
                    </a:moveTo>
                    <a:lnTo>
                      <a:pt x="14" y="27"/>
                    </a:lnTo>
                    <a:lnTo>
                      <a:pt x="31" y="12"/>
                    </a:lnTo>
                    <a:lnTo>
                      <a:pt x="50" y="27"/>
                    </a:lnTo>
                    <a:lnTo>
                      <a:pt x="45" y="11"/>
                    </a:lnTo>
                    <a:lnTo>
                      <a:pt x="62" y="23"/>
                    </a:lnTo>
                    <a:lnTo>
                      <a:pt x="75" y="16"/>
                    </a:lnTo>
                    <a:lnTo>
                      <a:pt x="86" y="7"/>
                    </a:lnTo>
                    <a:lnTo>
                      <a:pt x="88" y="2"/>
                    </a:lnTo>
                    <a:lnTo>
                      <a:pt x="100" y="0"/>
                    </a:lnTo>
                    <a:lnTo>
                      <a:pt x="119" y="3"/>
                    </a:lnTo>
                    <a:lnTo>
                      <a:pt x="88" y="20"/>
                    </a:lnTo>
                    <a:lnTo>
                      <a:pt x="51" y="36"/>
                    </a:lnTo>
                    <a:lnTo>
                      <a:pt x="9" y="38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90800" y="2337840"/>
                <a:ext cx="253800" cy="277560"/>
              </a:xfrm>
              <a:custGeom>
                <a:avLst/>
                <a:gdLst/>
                <a:ahLst/>
                <a:rect l="l" t="t" r="r" b="b"/>
                <a:pathLst>
                  <a:path w="179" h="175">
                    <a:moveTo>
                      <a:pt x="58" y="0"/>
                    </a:moveTo>
                    <a:lnTo>
                      <a:pt x="25" y="31"/>
                    </a:lnTo>
                    <a:lnTo>
                      <a:pt x="5" y="47"/>
                    </a:lnTo>
                    <a:lnTo>
                      <a:pt x="11" y="73"/>
                    </a:lnTo>
                    <a:lnTo>
                      <a:pt x="0" y="86"/>
                    </a:lnTo>
                    <a:lnTo>
                      <a:pt x="10" y="107"/>
                    </a:lnTo>
                    <a:lnTo>
                      <a:pt x="15" y="118"/>
                    </a:lnTo>
                    <a:lnTo>
                      <a:pt x="30" y="126"/>
                    </a:lnTo>
                    <a:lnTo>
                      <a:pt x="62" y="81"/>
                    </a:lnTo>
                    <a:lnTo>
                      <a:pt x="104" y="64"/>
                    </a:lnTo>
                    <a:lnTo>
                      <a:pt x="62" y="104"/>
                    </a:lnTo>
                    <a:lnTo>
                      <a:pt x="38" y="133"/>
                    </a:lnTo>
                    <a:lnTo>
                      <a:pt x="34" y="152"/>
                    </a:lnTo>
                    <a:lnTo>
                      <a:pt x="63" y="146"/>
                    </a:lnTo>
                    <a:lnTo>
                      <a:pt x="71" y="147"/>
                    </a:lnTo>
                    <a:lnTo>
                      <a:pt x="78" y="154"/>
                    </a:lnTo>
                    <a:lnTo>
                      <a:pt x="123" y="128"/>
                    </a:lnTo>
                    <a:lnTo>
                      <a:pt x="86" y="165"/>
                    </a:lnTo>
                    <a:lnTo>
                      <a:pt x="88" y="175"/>
                    </a:lnTo>
                    <a:lnTo>
                      <a:pt x="110" y="158"/>
                    </a:lnTo>
                    <a:lnTo>
                      <a:pt x="135" y="148"/>
                    </a:lnTo>
                    <a:lnTo>
                      <a:pt x="176" y="106"/>
                    </a:lnTo>
                    <a:lnTo>
                      <a:pt x="179" y="68"/>
                    </a:lnTo>
                    <a:lnTo>
                      <a:pt x="122" y="29"/>
                    </a:lnTo>
                    <a:lnTo>
                      <a:pt x="67" y="32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79640" y="2536200"/>
                <a:ext cx="153000" cy="106200"/>
              </a:xfrm>
              <a:custGeom>
                <a:avLst/>
                <a:gdLst/>
                <a:ahLst/>
                <a:rect l="l" t="t" r="r" b="b"/>
                <a:pathLst>
                  <a:path w="108" h="67">
                    <a:moveTo>
                      <a:pt x="0" y="0"/>
                    </a:moveTo>
                    <a:lnTo>
                      <a:pt x="12" y="8"/>
                    </a:lnTo>
                    <a:lnTo>
                      <a:pt x="26" y="18"/>
                    </a:lnTo>
                    <a:lnTo>
                      <a:pt x="38" y="15"/>
                    </a:lnTo>
                    <a:lnTo>
                      <a:pt x="45" y="5"/>
                    </a:lnTo>
                    <a:lnTo>
                      <a:pt x="40" y="30"/>
                    </a:lnTo>
                    <a:lnTo>
                      <a:pt x="52" y="35"/>
                    </a:lnTo>
                    <a:lnTo>
                      <a:pt x="68" y="38"/>
                    </a:lnTo>
                    <a:lnTo>
                      <a:pt x="77" y="35"/>
                    </a:lnTo>
                    <a:lnTo>
                      <a:pt x="81" y="48"/>
                    </a:lnTo>
                    <a:lnTo>
                      <a:pt x="108" y="67"/>
                    </a:lnTo>
                    <a:lnTo>
                      <a:pt x="77" y="61"/>
                    </a:lnTo>
                    <a:lnTo>
                      <a:pt x="26" y="34"/>
                    </a:lnTo>
                    <a:lnTo>
                      <a:pt x="1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75320" y="2626920"/>
                <a:ext cx="290880" cy="253440"/>
              </a:xfrm>
              <a:custGeom>
                <a:avLst/>
                <a:gdLst/>
                <a:ahLst/>
                <a:rect l="l" t="t" r="r" b="b"/>
                <a:pathLst>
                  <a:path w="205" h="160">
                    <a:moveTo>
                      <a:pt x="42" y="0"/>
                    </a:moveTo>
                    <a:lnTo>
                      <a:pt x="39" y="15"/>
                    </a:lnTo>
                    <a:lnTo>
                      <a:pt x="25" y="27"/>
                    </a:lnTo>
                    <a:lnTo>
                      <a:pt x="43" y="21"/>
                    </a:lnTo>
                    <a:lnTo>
                      <a:pt x="35" y="47"/>
                    </a:lnTo>
                    <a:lnTo>
                      <a:pt x="36" y="61"/>
                    </a:lnTo>
                    <a:lnTo>
                      <a:pt x="35" y="96"/>
                    </a:lnTo>
                    <a:lnTo>
                      <a:pt x="24" y="121"/>
                    </a:lnTo>
                    <a:lnTo>
                      <a:pt x="77" y="83"/>
                    </a:lnTo>
                    <a:lnTo>
                      <a:pt x="58" y="108"/>
                    </a:lnTo>
                    <a:lnTo>
                      <a:pt x="16" y="136"/>
                    </a:lnTo>
                    <a:lnTo>
                      <a:pt x="0" y="151"/>
                    </a:lnTo>
                    <a:lnTo>
                      <a:pt x="17" y="153"/>
                    </a:lnTo>
                    <a:lnTo>
                      <a:pt x="53" y="127"/>
                    </a:lnTo>
                    <a:lnTo>
                      <a:pt x="65" y="127"/>
                    </a:lnTo>
                    <a:lnTo>
                      <a:pt x="74" y="146"/>
                    </a:lnTo>
                    <a:lnTo>
                      <a:pt x="88" y="160"/>
                    </a:lnTo>
                    <a:lnTo>
                      <a:pt x="92" y="128"/>
                    </a:lnTo>
                    <a:lnTo>
                      <a:pt x="81" y="117"/>
                    </a:lnTo>
                    <a:lnTo>
                      <a:pt x="89" y="88"/>
                    </a:lnTo>
                    <a:lnTo>
                      <a:pt x="102" y="60"/>
                    </a:lnTo>
                    <a:lnTo>
                      <a:pt x="119" y="74"/>
                    </a:lnTo>
                    <a:lnTo>
                      <a:pt x="138" y="104"/>
                    </a:lnTo>
                    <a:lnTo>
                      <a:pt x="147" y="148"/>
                    </a:lnTo>
                    <a:lnTo>
                      <a:pt x="166" y="113"/>
                    </a:lnTo>
                    <a:lnTo>
                      <a:pt x="202" y="139"/>
                    </a:lnTo>
                    <a:lnTo>
                      <a:pt x="184" y="103"/>
                    </a:lnTo>
                    <a:lnTo>
                      <a:pt x="205" y="126"/>
                    </a:lnTo>
                    <a:lnTo>
                      <a:pt x="189" y="59"/>
                    </a:lnTo>
                    <a:lnTo>
                      <a:pt x="188" y="37"/>
                    </a:lnTo>
                    <a:lnTo>
                      <a:pt x="205" y="36"/>
                    </a:lnTo>
                    <a:lnTo>
                      <a:pt x="204" y="23"/>
                    </a:lnTo>
                    <a:lnTo>
                      <a:pt x="194" y="27"/>
                    </a:lnTo>
                    <a:lnTo>
                      <a:pt x="167" y="16"/>
                    </a:lnTo>
                    <a:lnTo>
                      <a:pt x="157" y="21"/>
                    </a:lnTo>
                    <a:lnTo>
                      <a:pt x="8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483960" y="2315520"/>
                <a:ext cx="337320" cy="339480"/>
              </a:xfrm>
              <a:custGeom>
                <a:avLst/>
                <a:gdLst/>
                <a:ahLst/>
                <a:rect l="l" t="t" r="r" b="b"/>
                <a:pathLst>
                  <a:path w="238" h="214">
                    <a:moveTo>
                      <a:pt x="31" y="85"/>
                    </a:moveTo>
                    <a:lnTo>
                      <a:pt x="70" y="62"/>
                    </a:lnTo>
                    <a:lnTo>
                      <a:pt x="133" y="56"/>
                    </a:lnTo>
                    <a:lnTo>
                      <a:pt x="139" y="72"/>
                    </a:lnTo>
                    <a:lnTo>
                      <a:pt x="76" y="125"/>
                    </a:lnTo>
                    <a:lnTo>
                      <a:pt x="61" y="147"/>
                    </a:lnTo>
                    <a:lnTo>
                      <a:pt x="176" y="102"/>
                    </a:lnTo>
                    <a:lnTo>
                      <a:pt x="110" y="174"/>
                    </a:lnTo>
                    <a:lnTo>
                      <a:pt x="123" y="168"/>
                    </a:lnTo>
                    <a:lnTo>
                      <a:pt x="134" y="176"/>
                    </a:lnTo>
                    <a:lnTo>
                      <a:pt x="154" y="191"/>
                    </a:lnTo>
                    <a:lnTo>
                      <a:pt x="175" y="161"/>
                    </a:lnTo>
                    <a:lnTo>
                      <a:pt x="204" y="157"/>
                    </a:lnTo>
                    <a:lnTo>
                      <a:pt x="199" y="134"/>
                    </a:lnTo>
                    <a:lnTo>
                      <a:pt x="224" y="115"/>
                    </a:lnTo>
                    <a:lnTo>
                      <a:pt x="210" y="90"/>
                    </a:lnTo>
                    <a:lnTo>
                      <a:pt x="224" y="73"/>
                    </a:lnTo>
                    <a:lnTo>
                      <a:pt x="229" y="92"/>
                    </a:lnTo>
                    <a:lnTo>
                      <a:pt x="229" y="121"/>
                    </a:lnTo>
                    <a:lnTo>
                      <a:pt x="212" y="138"/>
                    </a:lnTo>
                    <a:lnTo>
                      <a:pt x="213" y="152"/>
                    </a:lnTo>
                    <a:lnTo>
                      <a:pt x="204" y="171"/>
                    </a:lnTo>
                    <a:lnTo>
                      <a:pt x="183" y="173"/>
                    </a:lnTo>
                    <a:lnTo>
                      <a:pt x="168" y="187"/>
                    </a:lnTo>
                    <a:lnTo>
                      <a:pt x="157" y="198"/>
                    </a:lnTo>
                    <a:lnTo>
                      <a:pt x="138" y="202"/>
                    </a:lnTo>
                    <a:lnTo>
                      <a:pt x="121" y="183"/>
                    </a:lnTo>
                    <a:lnTo>
                      <a:pt x="104" y="201"/>
                    </a:lnTo>
                    <a:lnTo>
                      <a:pt x="78" y="202"/>
                    </a:lnTo>
                    <a:lnTo>
                      <a:pt x="113" y="214"/>
                    </a:lnTo>
                    <a:lnTo>
                      <a:pt x="168" y="207"/>
                    </a:lnTo>
                    <a:lnTo>
                      <a:pt x="188" y="204"/>
                    </a:lnTo>
                    <a:lnTo>
                      <a:pt x="191" y="192"/>
                    </a:lnTo>
                    <a:lnTo>
                      <a:pt x="219" y="177"/>
                    </a:lnTo>
                    <a:lnTo>
                      <a:pt x="237" y="140"/>
                    </a:lnTo>
                    <a:lnTo>
                      <a:pt x="238" y="96"/>
                    </a:lnTo>
                    <a:lnTo>
                      <a:pt x="225" y="39"/>
                    </a:lnTo>
                    <a:lnTo>
                      <a:pt x="197" y="41"/>
                    </a:lnTo>
                    <a:lnTo>
                      <a:pt x="137" y="21"/>
                    </a:lnTo>
                    <a:lnTo>
                      <a:pt x="76" y="10"/>
                    </a:lnTo>
                    <a:lnTo>
                      <a:pt x="56" y="0"/>
                    </a:lnTo>
                    <a:lnTo>
                      <a:pt x="35" y="14"/>
                    </a:lnTo>
                    <a:lnTo>
                      <a:pt x="21" y="29"/>
                    </a:lnTo>
                    <a:lnTo>
                      <a:pt x="23" y="44"/>
                    </a:lnTo>
                    <a:lnTo>
                      <a:pt x="13" y="46"/>
                    </a:lnTo>
                    <a:lnTo>
                      <a:pt x="4" y="58"/>
                    </a:lnTo>
                    <a:lnTo>
                      <a:pt x="4" y="76"/>
                    </a:lnTo>
                    <a:lnTo>
                      <a:pt x="10" y="89"/>
                    </a:lnTo>
                    <a:lnTo>
                      <a:pt x="1" y="94"/>
                    </a:lnTo>
                    <a:lnTo>
                      <a:pt x="0" y="109"/>
                    </a:lnTo>
                    <a:lnTo>
                      <a:pt x="10" y="120"/>
                    </a:lnTo>
                    <a:lnTo>
                      <a:pt x="25" y="111"/>
                    </a:lnTo>
                    <a:lnTo>
                      <a:pt x="23" y="92"/>
                    </a:lnTo>
                    <a:lnTo>
                      <a:pt x="31" y="85"/>
                    </a:lnTo>
                    <a:lnTo>
                      <a:pt x="31" y="85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487920" y="2309400"/>
                <a:ext cx="315000" cy="209160"/>
              </a:xfrm>
              <a:custGeom>
                <a:avLst/>
                <a:gdLst/>
                <a:ahLst/>
                <a:rect l="l" t="t" r="r" b="b"/>
                <a:pathLst>
                  <a:path w="222" h="132">
                    <a:moveTo>
                      <a:pt x="14" y="132"/>
                    </a:moveTo>
                    <a:lnTo>
                      <a:pt x="26" y="113"/>
                    </a:lnTo>
                    <a:lnTo>
                      <a:pt x="20" y="96"/>
                    </a:lnTo>
                    <a:lnTo>
                      <a:pt x="26" y="77"/>
                    </a:lnTo>
                    <a:lnTo>
                      <a:pt x="40" y="67"/>
                    </a:lnTo>
                    <a:lnTo>
                      <a:pt x="39" y="55"/>
                    </a:lnTo>
                    <a:lnTo>
                      <a:pt x="48" y="36"/>
                    </a:lnTo>
                    <a:lnTo>
                      <a:pt x="69" y="27"/>
                    </a:lnTo>
                    <a:lnTo>
                      <a:pt x="88" y="43"/>
                    </a:lnTo>
                    <a:lnTo>
                      <a:pt x="113" y="30"/>
                    </a:lnTo>
                    <a:lnTo>
                      <a:pt x="130" y="41"/>
                    </a:lnTo>
                    <a:lnTo>
                      <a:pt x="142" y="54"/>
                    </a:lnTo>
                    <a:lnTo>
                      <a:pt x="153" y="52"/>
                    </a:lnTo>
                    <a:lnTo>
                      <a:pt x="169" y="44"/>
                    </a:lnTo>
                    <a:lnTo>
                      <a:pt x="177" y="48"/>
                    </a:lnTo>
                    <a:lnTo>
                      <a:pt x="172" y="68"/>
                    </a:lnTo>
                    <a:lnTo>
                      <a:pt x="185" y="79"/>
                    </a:lnTo>
                    <a:lnTo>
                      <a:pt x="202" y="86"/>
                    </a:lnTo>
                    <a:lnTo>
                      <a:pt x="217" y="76"/>
                    </a:lnTo>
                    <a:lnTo>
                      <a:pt x="195" y="66"/>
                    </a:lnTo>
                    <a:lnTo>
                      <a:pt x="213" y="56"/>
                    </a:lnTo>
                    <a:lnTo>
                      <a:pt x="222" y="43"/>
                    </a:lnTo>
                    <a:lnTo>
                      <a:pt x="191" y="39"/>
                    </a:lnTo>
                    <a:lnTo>
                      <a:pt x="171" y="21"/>
                    </a:lnTo>
                    <a:lnTo>
                      <a:pt x="153" y="26"/>
                    </a:lnTo>
                    <a:lnTo>
                      <a:pt x="128" y="20"/>
                    </a:lnTo>
                    <a:lnTo>
                      <a:pt x="122" y="8"/>
                    </a:lnTo>
                    <a:lnTo>
                      <a:pt x="105" y="15"/>
                    </a:lnTo>
                    <a:lnTo>
                      <a:pt x="73" y="14"/>
                    </a:lnTo>
                    <a:lnTo>
                      <a:pt x="57" y="0"/>
                    </a:lnTo>
                    <a:lnTo>
                      <a:pt x="45" y="4"/>
                    </a:lnTo>
                    <a:lnTo>
                      <a:pt x="52" y="13"/>
                    </a:lnTo>
                    <a:lnTo>
                      <a:pt x="38" y="23"/>
                    </a:lnTo>
                    <a:lnTo>
                      <a:pt x="29" y="36"/>
                    </a:lnTo>
                    <a:lnTo>
                      <a:pt x="34" y="58"/>
                    </a:lnTo>
                    <a:lnTo>
                      <a:pt x="15" y="64"/>
                    </a:lnTo>
                    <a:lnTo>
                      <a:pt x="7" y="68"/>
                    </a:lnTo>
                    <a:lnTo>
                      <a:pt x="6" y="78"/>
                    </a:lnTo>
                    <a:lnTo>
                      <a:pt x="13" y="88"/>
                    </a:lnTo>
                    <a:lnTo>
                      <a:pt x="12" y="98"/>
                    </a:lnTo>
                    <a:lnTo>
                      <a:pt x="1" y="110"/>
                    </a:lnTo>
                    <a:lnTo>
                      <a:pt x="0" y="120"/>
                    </a:lnTo>
                    <a:lnTo>
                      <a:pt x="14" y="132"/>
                    </a:lnTo>
                    <a:lnTo>
                      <a:pt x="14" y="132"/>
                    </a:lnTo>
                    <a:close/>
                  </a:path>
                </a:pathLst>
              </a:custGeom>
              <a:solidFill>
                <a:srgbClr val="c9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485040" y="2518920"/>
                <a:ext cx="336240" cy="150480"/>
              </a:xfrm>
              <a:custGeom>
                <a:avLst/>
                <a:gdLst/>
                <a:ahLst/>
                <a:rect l="l" t="t" r="r" b="b"/>
                <a:pathLst>
                  <a:path w="237" h="95">
                    <a:moveTo>
                      <a:pt x="36" y="57"/>
                    </a:moveTo>
                    <a:lnTo>
                      <a:pt x="32" y="72"/>
                    </a:lnTo>
                    <a:lnTo>
                      <a:pt x="63" y="88"/>
                    </a:lnTo>
                    <a:lnTo>
                      <a:pt x="108" y="95"/>
                    </a:lnTo>
                    <a:lnTo>
                      <a:pt x="145" y="95"/>
                    </a:lnTo>
                    <a:lnTo>
                      <a:pt x="181" y="83"/>
                    </a:lnTo>
                    <a:lnTo>
                      <a:pt x="196" y="87"/>
                    </a:lnTo>
                    <a:lnTo>
                      <a:pt x="190" y="67"/>
                    </a:lnTo>
                    <a:lnTo>
                      <a:pt x="220" y="43"/>
                    </a:lnTo>
                    <a:lnTo>
                      <a:pt x="237" y="0"/>
                    </a:lnTo>
                    <a:lnTo>
                      <a:pt x="219" y="31"/>
                    </a:lnTo>
                    <a:lnTo>
                      <a:pt x="190" y="53"/>
                    </a:lnTo>
                    <a:lnTo>
                      <a:pt x="156" y="70"/>
                    </a:lnTo>
                    <a:lnTo>
                      <a:pt x="127" y="79"/>
                    </a:lnTo>
                    <a:lnTo>
                      <a:pt x="99" y="76"/>
                    </a:lnTo>
                    <a:lnTo>
                      <a:pt x="60" y="61"/>
                    </a:lnTo>
                    <a:lnTo>
                      <a:pt x="29" y="43"/>
                    </a:lnTo>
                    <a:lnTo>
                      <a:pt x="0" y="17"/>
                    </a:lnTo>
                    <a:lnTo>
                      <a:pt x="17" y="46"/>
                    </a:lnTo>
                    <a:lnTo>
                      <a:pt x="36" y="57"/>
                    </a:lnTo>
                    <a:lnTo>
                      <a:pt x="36" y="57"/>
                    </a:lnTo>
                    <a:close/>
                  </a:path>
                </a:pathLst>
              </a:custGeom>
              <a:solidFill>
                <a:srgbClr val="c9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521040" y="2655360"/>
                <a:ext cx="283680" cy="240840"/>
              </a:xfrm>
              <a:custGeom>
                <a:avLst/>
                <a:gdLst/>
                <a:ahLst/>
                <a:rect l="l" t="t" r="r" b="b"/>
                <a:pathLst>
                  <a:path w="200" h="152">
                    <a:moveTo>
                      <a:pt x="4" y="7"/>
                    </a:moveTo>
                    <a:lnTo>
                      <a:pt x="0" y="27"/>
                    </a:lnTo>
                    <a:lnTo>
                      <a:pt x="11" y="24"/>
                    </a:lnTo>
                    <a:lnTo>
                      <a:pt x="19" y="46"/>
                    </a:lnTo>
                    <a:lnTo>
                      <a:pt x="25" y="56"/>
                    </a:lnTo>
                    <a:lnTo>
                      <a:pt x="34" y="53"/>
                    </a:lnTo>
                    <a:lnTo>
                      <a:pt x="42" y="41"/>
                    </a:lnTo>
                    <a:lnTo>
                      <a:pt x="53" y="39"/>
                    </a:lnTo>
                    <a:lnTo>
                      <a:pt x="57" y="58"/>
                    </a:lnTo>
                    <a:lnTo>
                      <a:pt x="64" y="62"/>
                    </a:lnTo>
                    <a:lnTo>
                      <a:pt x="57" y="92"/>
                    </a:lnTo>
                    <a:lnTo>
                      <a:pt x="57" y="123"/>
                    </a:lnTo>
                    <a:lnTo>
                      <a:pt x="57" y="138"/>
                    </a:lnTo>
                    <a:lnTo>
                      <a:pt x="60" y="144"/>
                    </a:lnTo>
                    <a:lnTo>
                      <a:pt x="64" y="139"/>
                    </a:lnTo>
                    <a:lnTo>
                      <a:pt x="74" y="63"/>
                    </a:lnTo>
                    <a:lnTo>
                      <a:pt x="82" y="55"/>
                    </a:lnTo>
                    <a:lnTo>
                      <a:pt x="90" y="77"/>
                    </a:lnTo>
                    <a:lnTo>
                      <a:pt x="102" y="149"/>
                    </a:lnTo>
                    <a:lnTo>
                      <a:pt x="108" y="152"/>
                    </a:lnTo>
                    <a:lnTo>
                      <a:pt x="117" y="144"/>
                    </a:lnTo>
                    <a:lnTo>
                      <a:pt x="138" y="123"/>
                    </a:lnTo>
                    <a:lnTo>
                      <a:pt x="181" y="146"/>
                    </a:lnTo>
                    <a:lnTo>
                      <a:pt x="200" y="144"/>
                    </a:lnTo>
                    <a:lnTo>
                      <a:pt x="190" y="133"/>
                    </a:lnTo>
                    <a:lnTo>
                      <a:pt x="157" y="116"/>
                    </a:lnTo>
                    <a:lnTo>
                      <a:pt x="137" y="106"/>
                    </a:lnTo>
                    <a:lnTo>
                      <a:pt x="125" y="110"/>
                    </a:lnTo>
                    <a:lnTo>
                      <a:pt x="112" y="126"/>
                    </a:lnTo>
                    <a:lnTo>
                      <a:pt x="100" y="96"/>
                    </a:lnTo>
                    <a:lnTo>
                      <a:pt x="90" y="58"/>
                    </a:lnTo>
                    <a:lnTo>
                      <a:pt x="101" y="59"/>
                    </a:lnTo>
                    <a:lnTo>
                      <a:pt x="110" y="53"/>
                    </a:lnTo>
                    <a:lnTo>
                      <a:pt x="117" y="42"/>
                    </a:lnTo>
                    <a:lnTo>
                      <a:pt x="135" y="54"/>
                    </a:lnTo>
                    <a:lnTo>
                      <a:pt x="150" y="60"/>
                    </a:lnTo>
                    <a:lnTo>
                      <a:pt x="156" y="53"/>
                    </a:lnTo>
                    <a:lnTo>
                      <a:pt x="163" y="36"/>
                    </a:lnTo>
                    <a:lnTo>
                      <a:pt x="160" y="22"/>
                    </a:lnTo>
                    <a:lnTo>
                      <a:pt x="138" y="13"/>
                    </a:lnTo>
                    <a:lnTo>
                      <a:pt x="142" y="39"/>
                    </a:lnTo>
                    <a:lnTo>
                      <a:pt x="105" y="22"/>
                    </a:lnTo>
                    <a:lnTo>
                      <a:pt x="90" y="39"/>
                    </a:lnTo>
                    <a:lnTo>
                      <a:pt x="75" y="16"/>
                    </a:lnTo>
                    <a:lnTo>
                      <a:pt x="58" y="33"/>
                    </a:lnTo>
                    <a:lnTo>
                      <a:pt x="44" y="7"/>
                    </a:lnTo>
                    <a:lnTo>
                      <a:pt x="20" y="31"/>
                    </a:lnTo>
                    <a:lnTo>
                      <a:pt x="22" y="1"/>
                    </a:lnTo>
                    <a:lnTo>
                      <a:pt x="16" y="0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c9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72440" y="2804400"/>
                <a:ext cx="113040" cy="7596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0" y="43"/>
                    </a:moveTo>
                    <a:lnTo>
                      <a:pt x="15" y="33"/>
                    </a:lnTo>
                    <a:lnTo>
                      <a:pt x="36" y="16"/>
                    </a:lnTo>
                    <a:lnTo>
                      <a:pt x="58" y="0"/>
                    </a:lnTo>
                    <a:lnTo>
                      <a:pt x="69" y="4"/>
                    </a:lnTo>
                    <a:lnTo>
                      <a:pt x="75" y="25"/>
                    </a:lnTo>
                    <a:lnTo>
                      <a:pt x="80" y="36"/>
                    </a:lnTo>
                    <a:lnTo>
                      <a:pt x="69" y="28"/>
                    </a:lnTo>
                    <a:lnTo>
                      <a:pt x="57" y="11"/>
                    </a:lnTo>
                    <a:lnTo>
                      <a:pt x="44" y="29"/>
                    </a:lnTo>
                    <a:lnTo>
                      <a:pt x="18" y="44"/>
                    </a:lnTo>
                    <a:lnTo>
                      <a:pt x="8" y="48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9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32840" y="2694960"/>
                <a:ext cx="38160" cy="11700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0"/>
                    </a:moveTo>
                    <a:lnTo>
                      <a:pt x="10" y="13"/>
                    </a:lnTo>
                    <a:lnTo>
                      <a:pt x="25" y="14"/>
                    </a:lnTo>
                    <a:lnTo>
                      <a:pt x="18" y="26"/>
                    </a:lnTo>
                    <a:lnTo>
                      <a:pt x="27" y="28"/>
                    </a:lnTo>
                    <a:lnTo>
                      <a:pt x="2" y="74"/>
                    </a:lnTo>
                    <a:lnTo>
                      <a:pt x="1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365880" y="2621880"/>
                <a:ext cx="161640" cy="21564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42" y="0"/>
                    </a:moveTo>
                    <a:lnTo>
                      <a:pt x="37" y="11"/>
                    </a:lnTo>
                    <a:lnTo>
                      <a:pt x="38" y="22"/>
                    </a:lnTo>
                    <a:lnTo>
                      <a:pt x="32" y="33"/>
                    </a:lnTo>
                    <a:lnTo>
                      <a:pt x="36" y="41"/>
                    </a:lnTo>
                    <a:lnTo>
                      <a:pt x="28" y="42"/>
                    </a:lnTo>
                    <a:lnTo>
                      <a:pt x="14" y="42"/>
                    </a:lnTo>
                    <a:lnTo>
                      <a:pt x="0" y="49"/>
                    </a:lnTo>
                    <a:lnTo>
                      <a:pt x="11" y="47"/>
                    </a:lnTo>
                    <a:lnTo>
                      <a:pt x="32" y="50"/>
                    </a:lnTo>
                    <a:lnTo>
                      <a:pt x="34" y="68"/>
                    </a:lnTo>
                    <a:lnTo>
                      <a:pt x="38" y="100"/>
                    </a:lnTo>
                    <a:lnTo>
                      <a:pt x="42" y="136"/>
                    </a:lnTo>
                    <a:lnTo>
                      <a:pt x="51" y="123"/>
                    </a:lnTo>
                    <a:lnTo>
                      <a:pt x="70" y="116"/>
                    </a:lnTo>
                    <a:lnTo>
                      <a:pt x="84" y="97"/>
                    </a:lnTo>
                    <a:lnTo>
                      <a:pt x="99" y="86"/>
                    </a:lnTo>
                    <a:lnTo>
                      <a:pt x="105" y="81"/>
                    </a:lnTo>
                    <a:lnTo>
                      <a:pt x="114" y="36"/>
                    </a:lnTo>
                    <a:lnTo>
                      <a:pt x="97" y="34"/>
                    </a:lnTo>
                    <a:lnTo>
                      <a:pt x="82" y="66"/>
                    </a:lnTo>
                    <a:lnTo>
                      <a:pt x="59" y="103"/>
                    </a:lnTo>
                    <a:lnTo>
                      <a:pt x="53" y="110"/>
                    </a:lnTo>
                    <a:lnTo>
                      <a:pt x="51" y="99"/>
                    </a:lnTo>
                    <a:lnTo>
                      <a:pt x="49" y="52"/>
                    </a:lnTo>
                    <a:lnTo>
                      <a:pt x="47" y="39"/>
                    </a:lnTo>
                    <a:lnTo>
                      <a:pt x="51" y="21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80c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351840" y="2248920"/>
                <a:ext cx="187200" cy="11232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1"/>
                    </a:moveTo>
                    <a:lnTo>
                      <a:pt x="6" y="0"/>
                    </a:lnTo>
                    <a:lnTo>
                      <a:pt x="39" y="32"/>
                    </a:lnTo>
                    <a:lnTo>
                      <a:pt x="73" y="54"/>
                    </a:lnTo>
                    <a:lnTo>
                      <a:pt x="46" y="22"/>
                    </a:lnTo>
                    <a:lnTo>
                      <a:pt x="68" y="41"/>
                    </a:lnTo>
                    <a:lnTo>
                      <a:pt x="72" y="21"/>
                    </a:lnTo>
                    <a:lnTo>
                      <a:pt x="53" y="12"/>
                    </a:lnTo>
                    <a:lnTo>
                      <a:pt x="53" y="5"/>
                    </a:lnTo>
                    <a:lnTo>
                      <a:pt x="82" y="11"/>
                    </a:lnTo>
                    <a:lnTo>
                      <a:pt x="97" y="11"/>
                    </a:lnTo>
                    <a:lnTo>
                      <a:pt x="111" y="15"/>
                    </a:lnTo>
                    <a:lnTo>
                      <a:pt x="132" y="24"/>
                    </a:lnTo>
                    <a:lnTo>
                      <a:pt x="126" y="39"/>
                    </a:lnTo>
                    <a:lnTo>
                      <a:pt x="122" y="49"/>
                    </a:lnTo>
                    <a:lnTo>
                      <a:pt x="103" y="54"/>
                    </a:lnTo>
                    <a:lnTo>
                      <a:pt x="102" y="67"/>
                    </a:lnTo>
                    <a:lnTo>
                      <a:pt x="80" y="71"/>
                    </a:lnTo>
                    <a:lnTo>
                      <a:pt x="61" y="68"/>
                    </a:lnTo>
                    <a:lnTo>
                      <a:pt x="31" y="44"/>
                    </a:lnTo>
                    <a:lnTo>
                      <a:pt x="1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85240" y="2241000"/>
                <a:ext cx="239760" cy="121680"/>
              </a:xfrm>
              <a:custGeom>
                <a:avLst/>
                <a:gdLst/>
                <a:ahLst/>
                <a:rect l="l" t="t" r="r" b="b"/>
                <a:pathLst>
                  <a:path w="169" h="77">
                    <a:moveTo>
                      <a:pt x="15" y="49"/>
                    </a:moveTo>
                    <a:lnTo>
                      <a:pt x="9" y="20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25" y="0"/>
                    </a:lnTo>
                    <a:lnTo>
                      <a:pt x="47" y="6"/>
                    </a:lnTo>
                    <a:lnTo>
                      <a:pt x="74" y="37"/>
                    </a:lnTo>
                    <a:lnTo>
                      <a:pt x="106" y="61"/>
                    </a:lnTo>
                    <a:lnTo>
                      <a:pt x="122" y="70"/>
                    </a:lnTo>
                    <a:lnTo>
                      <a:pt x="125" y="58"/>
                    </a:lnTo>
                    <a:lnTo>
                      <a:pt x="107" y="42"/>
                    </a:lnTo>
                    <a:lnTo>
                      <a:pt x="114" y="37"/>
                    </a:lnTo>
                    <a:lnTo>
                      <a:pt x="113" y="31"/>
                    </a:lnTo>
                    <a:lnTo>
                      <a:pt x="102" y="19"/>
                    </a:lnTo>
                    <a:lnTo>
                      <a:pt x="121" y="21"/>
                    </a:lnTo>
                    <a:lnTo>
                      <a:pt x="143" y="29"/>
                    </a:lnTo>
                    <a:lnTo>
                      <a:pt x="158" y="48"/>
                    </a:lnTo>
                    <a:lnTo>
                      <a:pt x="169" y="52"/>
                    </a:lnTo>
                    <a:lnTo>
                      <a:pt x="149" y="72"/>
                    </a:lnTo>
                    <a:lnTo>
                      <a:pt x="144" y="69"/>
                    </a:lnTo>
                    <a:lnTo>
                      <a:pt x="124" y="77"/>
                    </a:lnTo>
                    <a:lnTo>
                      <a:pt x="108" y="70"/>
                    </a:lnTo>
                    <a:lnTo>
                      <a:pt x="72" y="51"/>
                    </a:lnTo>
                    <a:lnTo>
                      <a:pt x="53" y="29"/>
                    </a:lnTo>
                    <a:lnTo>
                      <a:pt x="37" y="37"/>
                    </a:lnTo>
                    <a:lnTo>
                      <a:pt x="24" y="45"/>
                    </a:lnTo>
                    <a:lnTo>
                      <a:pt x="15" y="49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87760" y="2293200"/>
                <a:ext cx="88200" cy="82440"/>
              </a:xfrm>
              <a:custGeom>
                <a:avLst/>
                <a:gdLst/>
                <a:ahLst/>
                <a:rect l="l" t="t" r="r" b="b"/>
                <a:pathLst>
                  <a:path w="62" h="52">
                    <a:moveTo>
                      <a:pt x="9" y="51"/>
                    </a:moveTo>
                    <a:lnTo>
                      <a:pt x="0" y="42"/>
                    </a:lnTo>
                    <a:lnTo>
                      <a:pt x="6" y="27"/>
                    </a:lnTo>
                    <a:lnTo>
                      <a:pt x="19" y="24"/>
                    </a:lnTo>
                    <a:lnTo>
                      <a:pt x="32" y="25"/>
                    </a:lnTo>
                    <a:lnTo>
                      <a:pt x="26" y="20"/>
                    </a:lnTo>
                    <a:lnTo>
                      <a:pt x="39" y="11"/>
                    </a:lnTo>
                    <a:lnTo>
                      <a:pt x="27" y="1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2" y="25"/>
                    </a:lnTo>
                    <a:lnTo>
                      <a:pt x="59" y="47"/>
                    </a:lnTo>
                    <a:lnTo>
                      <a:pt x="17" y="31"/>
                    </a:lnTo>
                    <a:lnTo>
                      <a:pt x="13" y="52"/>
                    </a:lnTo>
                    <a:lnTo>
                      <a:pt x="9" y="51"/>
                    </a:lnTo>
                    <a:lnTo>
                      <a:pt x="9" y="51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97840" y="2287080"/>
                <a:ext cx="154800" cy="96480"/>
              </a:xfrm>
              <a:custGeom>
                <a:avLst/>
                <a:gdLst/>
                <a:ahLst/>
                <a:rect l="l" t="t" r="r" b="b"/>
                <a:pathLst>
                  <a:path w="109" h="61">
                    <a:moveTo>
                      <a:pt x="5" y="48"/>
                    </a:moveTo>
                    <a:lnTo>
                      <a:pt x="0" y="38"/>
                    </a:lnTo>
                    <a:lnTo>
                      <a:pt x="8" y="32"/>
                    </a:lnTo>
                    <a:lnTo>
                      <a:pt x="23" y="33"/>
                    </a:lnTo>
                    <a:lnTo>
                      <a:pt x="44" y="46"/>
                    </a:lnTo>
                    <a:lnTo>
                      <a:pt x="37" y="33"/>
                    </a:lnTo>
                    <a:lnTo>
                      <a:pt x="24" y="22"/>
                    </a:lnTo>
                    <a:lnTo>
                      <a:pt x="33" y="19"/>
                    </a:lnTo>
                    <a:lnTo>
                      <a:pt x="47" y="22"/>
                    </a:lnTo>
                    <a:lnTo>
                      <a:pt x="42" y="10"/>
                    </a:lnTo>
                    <a:lnTo>
                      <a:pt x="28" y="6"/>
                    </a:lnTo>
                    <a:lnTo>
                      <a:pt x="47" y="0"/>
                    </a:lnTo>
                    <a:lnTo>
                      <a:pt x="62" y="15"/>
                    </a:lnTo>
                    <a:lnTo>
                      <a:pt x="85" y="36"/>
                    </a:lnTo>
                    <a:lnTo>
                      <a:pt x="109" y="48"/>
                    </a:lnTo>
                    <a:lnTo>
                      <a:pt x="92" y="52"/>
                    </a:lnTo>
                    <a:lnTo>
                      <a:pt x="86" y="60"/>
                    </a:lnTo>
                    <a:lnTo>
                      <a:pt x="65" y="61"/>
                    </a:lnTo>
                    <a:lnTo>
                      <a:pt x="37" y="52"/>
                    </a:lnTo>
                    <a:lnTo>
                      <a:pt x="14" y="41"/>
                    </a:lnTo>
                    <a:lnTo>
                      <a:pt x="9" y="40"/>
                    </a:lnTo>
                    <a:lnTo>
                      <a:pt x="8" y="50"/>
                    </a:lnTo>
                    <a:lnTo>
                      <a:pt x="5" y="48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306480" y="2350440"/>
                <a:ext cx="229680" cy="313920"/>
              </a:xfrm>
              <a:custGeom>
                <a:avLst/>
                <a:gdLst/>
                <a:ahLst/>
                <a:rect l="l" t="t" r="r" b="b"/>
                <a:pathLst>
                  <a:path w="162" h="198">
                    <a:moveTo>
                      <a:pt x="3" y="0"/>
                    </a:moveTo>
                    <a:lnTo>
                      <a:pt x="0" y="16"/>
                    </a:lnTo>
                    <a:lnTo>
                      <a:pt x="8" y="22"/>
                    </a:lnTo>
                    <a:lnTo>
                      <a:pt x="4" y="33"/>
                    </a:lnTo>
                    <a:lnTo>
                      <a:pt x="15" y="35"/>
                    </a:lnTo>
                    <a:lnTo>
                      <a:pt x="19" y="45"/>
                    </a:lnTo>
                    <a:lnTo>
                      <a:pt x="7" y="48"/>
                    </a:lnTo>
                    <a:lnTo>
                      <a:pt x="17" y="62"/>
                    </a:lnTo>
                    <a:lnTo>
                      <a:pt x="15" y="77"/>
                    </a:lnTo>
                    <a:lnTo>
                      <a:pt x="20" y="92"/>
                    </a:lnTo>
                    <a:lnTo>
                      <a:pt x="37" y="111"/>
                    </a:lnTo>
                    <a:lnTo>
                      <a:pt x="38" y="117"/>
                    </a:lnTo>
                    <a:lnTo>
                      <a:pt x="48" y="120"/>
                    </a:lnTo>
                    <a:lnTo>
                      <a:pt x="44" y="133"/>
                    </a:lnTo>
                    <a:lnTo>
                      <a:pt x="45" y="144"/>
                    </a:lnTo>
                    <a:lnTo>
                      <a:pt x="59" y="154"/>
                    </a:lnTo>
                    <a:lnTo>
                      <a:pt x="70" y="154"/>
                    </a:lnTo>
                    <a:lnTo>
                      <a:pt x="77" y="163"/>
                    </a:lnTo>
                    <a:lnTo>
                      <a:pt x="99" y="176"/>
                    </a:lnTo>
                    <a:lnTo>
                      <a:pt x="122" y="180"/>
                    </a:lnTo>
                    <a:lnTo>
                      <a:pt x="133" y="190"/>
                    </a:lnTo>
                    <a:lnTo>
                      <a:pt x="142" y="198"/>
                    </a:lnTo>
                    <a:lnTo>
                      <a:pt x="162" y="169"/>
                    </a:lnTo>
                    <a:lnTo>
                      <a:pt x="131" y="137"/>
                    </a:lnTo>
                    <a:lnTo>
                      <a:pt x="121" y="113"/>
                    </a:lnTo>
                    <a:lnTo>
                      <a:pt x="115" y="60"/>
                    </a:lnTo>
                    <a:lnTo>
                      <a:pt x="92" y="56"/>
                    </a:lnTo>
                    <a:lnTo>
                      <a:pt x="77" y="39"/>
                    </a:lnTo>
                    <a:lnTo>
                      <a:pt x="80" y="20"/>
                    </a:lnTo>
                    <a:lnTo>
                      <a:pt x="55" y="21"/>
                    </a:lnTo>
                    <a:lnTo>
                      <a:pt x="31" y="15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421320" y="2364840"/>
                <a:ext cx="70560" cy="806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34" y="51"/>
                    </a:moveTo>
                    <a:lnTo>
                      <a:pt x="16" y="50"/>
                    </a:lnTo>
                    <a:lnTo>
                      <a:pt x="2" y="38"/>
                    </a:lnTo>
                    <a:lnTo>
                      <a:pt x="0" y="23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6" y="14"/>
                    </a:lnTo>
                    <a:lnTo>
                      <a:pt x="36" y="11"/>
                    </a:lnTo>
                    <a:lnTo>
                      <a:pt x="39" y="6"/>
                    </a:lnTo>
                    <a:lnTo>
                      <a:pt x="50" y="0"/>
                    </a:lnTo>
                    <a:lnTo>
                      <a:pt x="37" y="36"/>
                    </a:lnTo>
                    <a:lnTo>
                      <a:pt x="34" y="51"/>
                    </a:lnTo>
                    <a:lnTo>
                      <a:pt x="34" y="51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536160" y="2266200"/>
                <a:ext cx="114840" cy="6480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0" y="32"/>
                    </a:moveTo>
                    <a:lnTo>
                      <a:pt x="5" y="20"/>
                    </a:lnTo>
                    <a:lnTo>
                      <a:pt x="15" y="9"/>
                    </a:lnTo>
                    <a:lnTo>
                      <a:pt x="18" y="15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8" y="2"/>
                    </a:lnTo>
                    <a:lnTo>
                      <a:pt x="44" y="10"/>
                    </a:lnTo>
                    <a:lnTo>
                      <a:pt x="49" y="16"/>
                    </a:lnTo>
                    <a:lnTo>
                      <a:pt x="61" y="15"/>
                    </a:lnTo>
                    <a:lnTo>
                      <a:pt x="72" y="13"/>
                    </a:lnTo>
                    <a:lnTo>
                      <a:pt x="79" y="19"/>
                    </a:lnTo>
                    <a:lnTo>
                      <a:pt x="81" y="34"/>
                    </a:lnTo>
                    <a:lnTo>
                      <a:pt x="63" y="41"/>
                    </a:lnTo>
                    <a:lnTo>
                      <a:pt x="38" y="38"/>
                    </a:lnTo>
                    <a:lnTo>
                      <a:pt x="23" y="27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645960" y="2268000"/>
                <a:ext cx="80640" cy="78840"/>
              </a:xfrm>
              <a:custGeom>
                <a:avLst/>
                <a:gdLst/>
                <a:ahLst/>
                <a:rect l="l" t="t" r="r" b="b"/>
                <a:pathLst>
                  <a:path w="57" h="50">
                    <a:moveTo>
                      <a:pt x="0" y="0"/>
                    </a:moveTo>
                    <a:lnTo>
                      <a:pt x="11" y="2"/>
                    </a:lnTo>
                    <a:lnTo>
                      <a:pt x="17" y="6"/>
                    </a:lnTo>
                    <a:lnTo>
                      <a:pt x="19" y="13"/>
                    </a:lnTo>
                    <a:lnTo>
                      <a:pt x="25" y="26"/>
                    </a:lnTo>
                    <a:lnTo>
                      <a:pt x="40" y="29"/>
                    </a:lnTo>
                    <a:lnTo>
                      <a:pt x="53" y="26"/>
                    </a:lnTo>
                    <a:lnTo>
                      <a:pt x="57" y="35"/>
                    </a:lnTo>
                    <a:lnTo>
                      <a:pt x="50" y="50"/>
                    </a:lnTo>
                    <a:lnTo>
                      <a:pt x="24" y="45"/>
                    </a:lnTo>
                    <a:lnTo>
                      <a:pt x="15" y="43"/>
                    </a:lnTo>
                    <a:lnTo>
                      <a:pt x="11" y="34"/>
                    </a:lnTo>
                    <a:lnTo>
                      <a:pt x="1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732360" y="229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0" y="0"/>
                    </a:moveTo>
                    <a:lnTo>
                      <a:pt x="9" y="4"/>
                    </a:lnTo>
                    <a:lnTo>
                      <a:pt x="13" y="17"/>
                    </a:lnTo>
                    <a:lnTo>
                      <a:pt x="18" y="24"/>
                    </a:lnTo>
                    <a:lnTo>
                      <a:pt x="34" y="28"/>
                    </a:lnTo>
                    <a:lnTo>
                      <a:pt x="44" y="26"/>
                    </a:lnTo>
                    <a:lnTo>
                      <a:pt x="47" y="33"/>
                    </a:lnTo>
                    <a:lnTo>
                      <a:pt x="47" y="41"/>
                    </a:lnTo>
                    <a:lnTo>
                      <a:pt x="38" y="50"/>
                    </a:lnTo>
                    <a:lnTo>
                      <a:pt x="15" y="45"/>
                    </a:lnTo>
                    <a:lnTo>
                      <a:pt x="0" y="36"/>
                    </a:lnTo>
                    <a:lnTo>
                      <a:pt x="7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16240" y="2393280"/>
                <a:ext cx="30960" cy="7128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0" y="0"/>
                    </a:moveTo>
                    <a:lnTo>
                      <a:pt x="15" y="14"/>
                    </a:lnTo>
                    <a:lnTo>
                      <a:pt x="22" y="22"/>
                    </a:lnTo>
                    <a:lnTo>
                      <a:pt x="20" y="39"/>
                    </a:lnTo>
                    <a:lnTo>
                      <a:pt x="12" y="45"/>
                    </a:lnTo>
                    <a:lnTo>
                      <a:pt x="2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320520" y="235512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70" h="31">
                    <a:moveTo>
                      <a:pt x="0" y="0"/>
                    </a:moveTo>
                    <a:lnTo>
                      <a:pt x="9" y="16"/>
                    </a:lnTo>
                    <a:lnTo>
                      <a:pt x="16" y="27"/>
                    </a:lnTo>
                    <a:lnTo>
                      <a:pt x="34" y="31"/>
                    </a:lnTo>
                    <a:lnTo>
                      <a:pt x="55" y="29"/>
                    </a:lnTo>
                    <a:lnTo>
                      <a:pt x="65" y="29"/>
                    </a:lnTo>
                    <a:lnTo>
                      <a:pt x="70" y="17"/>
                    </a:lnTo>
                    <a:lnTo>
                      <a:pt x="36" y="17"/>
                    </a:lnTo>
                    <a:lnTo>
                      <a:pt x="1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a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05480" y="2552040"/>
                <a:ext cx="130680" cy="11232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0" y="27"/>
                    </a:moveTo>
                    <a:lnTo>
                      <a:pt x="30" y="21"/>
                    </a:lnTo>
                    <a:lnTo>
                      <a:pt x="45" y="11"/>
                    </a:lnTo>
                    <a:lnTo>
                      <a:pt x="57" y="0"/>
                    </a:lnTo>
                    <a:lnTo>
                      <a:pt x="73" y="25"/>
                    </a:lnTo>
                    <a:lnTo>
                      <a:pt x="92" y="42"/>
                    </a:lnTo>
                    <a:lnTo>
                      <a:pt x="72" y="71"/>
                    </a:lnTo>
                    <a:lnTo>
                      <a:pt x="79" y="48"/>
                    </a:lnTo>
                    <a:lnTo>
                      <a:pt x="63" y="30"/>
                    </a:lnTo>
                    <a:lnTo>
                      <a:pt x="46" y="33"/>
                    </a:lnTo>
                    <a:lnTo>
                      <a:pt x="21" y="35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da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755040" y="2468160"/>
                <a:ext cx="4968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6" y="0"/>
                    </a:moveTo>
                    <a:lnTo>
                      <a:pt x="30" y="10"/>
                    </a:lnTo>
                    <a:lnTo>
                      <a:pt x="35" y="16"/>
                    </a:lnTo>
                    <a:lnTo>
                      <a:pt x="34" y="20"/>
                    </a:lnTo>
                    <a:lnTo>
                      <a:pt x="21" y="29"/>
                    </a:lnTo>
                    <a:lnTo>
                      <a:pt x="23" y="21"/>
                    </a:lnTo>
                    <a:lnTo>
                      <a:pt x="4" y="15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14760" y="2242440"/>
                <a:ext cx="151920" cy="123480"/>
              </a:xfrm>
              <a:custGeom>
                <a:avLst/>
                <a:gdLst/>
                <a:ahLst/>
                <a:rect l="l" t="t" r="r" b="b"/>
                <a:pathLst>
                  <a:path w="107" h="78">
                    <a:moveTo>
                      <a:pt x="2" y="0"/>
                    </a:moveTo>
                    <a:lnTo>
                      <a:pt x="12" y="2"/>
                    </a:lnTo>
                    <a:lnTo>
                      <a:pt x="21" y="6"/>
                    </a:lnTo>
                    <a:lnTo>
                      <a:pt x="24" y="9"/>
                    </a:lnTo>
                    <a:lnTo>
                      <a:pt x="28" y="13"/>
                    </a:lnTo>
                    <a:lnTo>
                      <a:pt x="36" y="20"/>
                    </a:lnTo>
                    <a:lnTo>
                      <a:pt x="40" y="25"/>
                    </a:lnTo>
                    <a:lnTo>
                      <a:pt x="44" y="29"/>
                    </a:lnTo>
                    <a:lnTo>
                      <a:pt x="51" y="36"/>
                    </a:lnTo>
                    <a:lnTo>
                      <a:pt x="58" y="44"/>
                    </a:lnTo>
                    <a:lnTo>
                      <a:pt x="61" y="48"/>
                    </a:lnTo>
                    <a:lnTo>
                      <a:pt x="65" y="53"/>
                    </a:lnTo>
                    <a:lnTo>
                      <a:pt x="71" y="57"/>
                    </a:lnTo>
                    <a:lnTo>
                      <a:pt x="75" y="60"/>
                    </a:lnTo>
                    <a:lnTo>
                      <a:pt x="80" y="64"/>
                    </a:lnTo>
                    <a:lnTo>
                      <a:pt x="85" y="66"/>
                    </a:lnTo>
                    <a:lnTo>
                      <a:pt x="89" y="69"/>
                    </a:lnTo>
                    <a:lnTo>
                      <a:pt x="94" y="71"/>
                    </a:lnTo>
                    <a:lnTo>
                      <a:pt x="100" y="73"/>
                    </a:lnTo>
                    <a:lnTo>
                      <a:pt x="106" y="75"/>
                    </a:lnTo>
                    <a:lnTo>
                      <a:pt x="107" y="77"/>
                    </a:lnTo>
                    <a:lnTo>
                      <a:pt x="105" y="78"/>
                    </a:lnTo>
                    <a:lnTo>
                      <a:pt x="92" y="75"/>
                    </a:lnTo>
                    <a:lnTo>
                      <a:pt x="80" y="72"/>
                    </a:lnTo>
                    <a:lnTo>
                      <a:pt x="69" y="67"/>
                    </a:lnTo>
                    <a:lnTo>
                      <a:pt x="63" y="64"/>
                    </a:lnTo>
                    <a:lnTo>
                      <a:pt x="58" y="60"/>
                    </a:lnTo>
                    <a:lnTo>
                      <a:pt x="54" y="55"/>
                    </a:lnTo>
                    <a:lnTo>
                      <a:pt x="50" y="51"/>
                    </a:lnTo>
                    <a:lnTo>
                      <a:pt x="47" y="47"/>
                    </a:lnTo>
                    <a:lnTo>
                      <a:pt x="44" y="43"/>
                    </a:lnTo>
                    <a:lnTo>
                      <a:pt x="40" y="39"/>
                    </a:lnTo>
                    <a:lnTo>
                      <a:pt x="37" y="35"/>
                    </a:lnTo>
                    <a:lnTo>
                      <a:pt x="33" y="31"/>
                    </a:lnTo>
                    <a:lnTo>
                      <a:pt x="29" y="26"/>
                    </a:lnTo>
                    <a:lnTo>
                      <a:pt x="23" y="19"/>
                    </a:lnTo>
                    <a:lnTo>
                      <a:pt x="20" y="15"/>
                    </a:lnTo>
                    <a:lnTo>
                      <a:pt x="17" y="11"/>
                    </a:lnTo>
                    <a:lnTo>
                      <a:pt x="14" y="8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10800" y="2285280"/>
                <a:ext cx="57960" cy="3456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39" y="3"/>
                    </a:moveTo>
                    <a:lnTo>
                      <a:pt x="27" y="6"/>
                    </a:lnTo>
                    <a:lnTo>
                      <a:pt x="22" y="9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0" y="18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3" y="9"/>
                    </a:lnTo>
                    <a:lnTo>
                      <a:pt x="16" y="7"/>
                    </a:lnTo>
                    <a:lnTo>
                      <a:pt x="19" y="4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9" y="3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82360" y="2323440"/>
                <a:ext cx="25200" cy="55440"/>
              </a:xfrm>
              <a:custGeom>
                <a:avLst/>
                <a:gdLst/>
                <a:ahLst/>
                <a:rect l="l" t="t" r="r" b="b"/>
                <a:pathLst>
                  <a:path w="18" h="35">
                    <a:moveTo>
                      <a:pt x="11" y="3"/>
                    </a:moveTo>
                    <a:lnTo>
                      <a:pt x="6" y="7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9" y="23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7" y="32"/>
                    </a:lnTo>
                    <a:lnTo>
                      <a:pt x="18" y="34"/>
                    </a:lnTo>
                    <a:lnTo>
                      <a:pt x="16" y="35"/>
                    </a:lnTo>
                    <a:lnTo>
                      <a:pt x="9" y="32"/>
                    </a:lnTo>
                    <a:lnTo>
                      <a:pt x="3" y="26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02160" y="2345760"/>
                <a:ext cx="113400" cy="42480"/>
              </a:xfrm>
              <a:custGeom>
                <a:avLst/>
                <a:gdLst/>
                <a:ahLst/>
                <a:rect l="l" t="t" r="r" b="b"/>
                <a:pathLst>
                  <a:path w="80" h="27">
                    <a:moveTo>
                      <a:pt x="1" y="0"/>
                    </a:moveTo>
                    <a:lnTo>
                      <a:pt x="20" y="3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7" y="12"/>
                    </a:lnTo>
                    <a:lnTo>
                      <a:pt x="42" y="14"/>
                    </a:lnTo>
                    <a:lnTo>
                      <a:pt x="48" y="16"/>
                    </a:lnTo>
                    <a:lnTo>
                      <a:pt x="57" y="20"/>
                    </a:lnTo>
                    <a:lnTo>
                      <a:pt x="67" y="23"/>
                    </a:lnTo>
                    <a:lnTo>
                      <a:pt x="79" y="23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79" y="27"/>
                    </a:lnTo>
                    <a:lnTo>
                      <a:pt x="55" y="27"/>
                    </a:lnTo>
                    <a:lnTo>
                      <a:pt x="32" y="22"/>
                    </a:lnTo>
                    <a:lnTo>
                      <a:pt x="24" y="16"/>
                    </a:lnTo>
                    <a:lnTo>
                      <a:pt x="20" y="13"/>
                    </a:lnTo>
                    <a:lnTo>
                      <a:pt x="17" y="10"/>
                    </a:lnTo>
                    <a:lnTo>
                      <a:pt x="14" y="7"/>
                    </a:lnTo>
                    <a:lnTo>
                      <a:pt x="10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59680" y="2217600"/>
                <a:ext cx="237240" cy="140760"/>
              </a:xfrm>
              <a:custGeom>
                <a:avLst/>
                <a:gdLst/>
                <a:ahLst/>
                <a:rect l="l" t="t" r="r" b="b"/>
                <a:pathLst>
                  <a:path w="167" h="89">
                    <a:moveTo>
                      <a:pt x="26" y="69"/>
                    </a:moveTo>
                    <a:lnTo>
                      <a:pt x="22" y="63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2" y="45"/>
                    </a:lnTo>
                    <a:lnTo>
                      <a:pt x="9" y="39"/>
                    </a:lnTo>
                    <a:lnTo>
                      <a:pt x="6" y="33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3" y="12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71" y="6"/>
                    </a:lnTo>
                    <a:lnTo>
                      <a:pt x="79" y="11"/>
                    </a:lnTo>
                    <a:lnTo>
                      <a:pt x="83" y="15"/>
                    </a:lnTo>
                    <a:lnTo>
                      <a:pt x="87" y="19"/>
                    </a:lnTo>
                    <a:lnTo>
                      <a:pt x="91" y="22"/>
                    </a:lnTo>
                    <a:lnTo>
                      <a:pt x="95" y="26"/>
                    </a:lnTo>
                    <a:lnTo>
                      <a:pt x="99" y="30"/>
                    </a:lnTo>
                    <a:lnTo>
                      <a:pt x="103" y="33"/>
                    </a:lnTo>
                    <a:lnTo>
                      <a:pt x="106" y="36"/>
                    </a:lnTo>
                    <a:lnTo>
                      <a:pt x="110" y="39"/>
                    </a:lnTo>
                    <a:lnTo>
                      <a:pt x="113" y="42"/>
                    </a:lnTo>
                    <a:lnTo>
                      <a:pt x="117" y="45"/>
                    </a:lnTo>
                    <a:lnTo>
                      <a:pt x="120" y="47"/>
                    </a:lnTo>
                    <a:lnTo>
                      <a:pt x="124" y="50"/>
                    </a:lnTo>
                    <a:lnTo>
                      <a:pt x="127" y="53"/>
                    </a:lnTo>
                    <a:lnTo>
                      <a:pt x="131" y="56"/>
                    </a:lnTo>
                    <a:lnTo>
                      <a:pt x="134" y="60"/>
                    </a:lnTo>
                    <a:lnTo>
                      <a:pt x="138" y="63"/>
                    </a:lnTo>
                    <a:lnTo>
                      <a:pt x="142" y="67"/>
                    </a:lnTo>
                    <a:lnTo>
                      <a:pt x="146" y="71"/>
                    </a:lnTo>
                    <a:lnTo>
                      <a:pt x="151" y="74"/>
                    </a:lnTo>
                    <a:lnTo>
                      <a:pt x="155" y="76"/>
                    </a:lnTo>
                    <a:lnTo>
                      <a:pt x="160" y="79"/>
                    </a:lnTo>
                    <a:lnTo>
                      <a:pt x="165" y="82"/>
                    </a:lnTo>
                    <a:lnTo>
                      <a:pt x="167" y="84"/>
                    </a:lnTo>
                    <a:lnTo>
                      <a:pt x="167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56" y="86"/>
                    </a:lnTo>
                    <a:lnTo>
                      <a:pt x="150" y="83"/>
                    </a:lnTo>
                    <a:lnTo>
                      <a:pt x="145" y="81"/>
                    </a:lnTo>
                    <a:lnTo>
                      <a:pt x="140" y="77"/>
                    </a:lnTo>
                    <a:lnTo>
                      <a:pt x="136" y="73"/>
                    </a:lnTo>
                    <a:lnTo>
                      <a:pt x="132" y="69"/>
                    </a:lnTo>
                    <a:lnTo>
                      <a:pt x="129" y="66"/>
                    </a:lnTo>
                    <a:lnTo>
                      <a:pt x="125" y="63"/>
                    </a:lnTo>
                    <a:lnTo>
                      <a:pt x="122" y="59"/>
                    </a:lnTo>
                    <a:lnTo>
                      <a:pt x="118" y="56"/>
                    </a:lnTo>
                    <a:lnTo>
                      <a:pt x="115" y="53"/>
                    </a:lnTo>
                    <a:lnTo>
                      <a:pt x="111" y="50"/>
                    </a:lnTo>
                    <a:lnTo>
                      <a:pt x="108" y="47"/>
                    </a:lnTo>
                    <a:lnTo>
                      <a:pt x="104" y="44"/>
                    </a:lnTo>
                    <a:lnTo>
                      <a:pt x="101" y="41"/>
                    </a:lnTo>
                    <a:lnTo>
                      <a:pt x="97" y="38"/>
                    </a:lnTo>
                    <a:lnTo>
                      <a:pt x="94" y="35"/>
                    </a:lnTo>
                    <a:lnTo>
                      <a:pt x="90" y="31"/>
                    </a:lnTo>
                    <a:lnTo>
                      <a:pt x="86" y="27"/>
                    </a:lnTo>
                    <a:lnTo>
                      <a:pt x="82" y="23"/>
                    </a:lnTo>
                    <a:lnTo>
                      <a:pt x="78" y="20"/>
                    </a:lnTo>
                    <a:lnTo>
                      <a:pt x="75" y="17"/>
                    </a:lnTo>
                    <a:lnTo>
                      <a:pt x="71" y="15"/>
                    </a:lnTo>
                    <a:lnTo>
                      <a:pt x="68" y="13"/>
                    </a:lnTo>
                    <a:lnTo>
                      <a:pt x="60" y="10"/>
                    </a:lnTo>
                    <a:lnTo>
                      <a:pt x="50" y="8"/>
                    </a:lnTo>
                    <a:lnTo>
                      <a:pt x="40" y="7"/>
                    </a:lnTo>
                    <a:lnTo>
                      <a:pt x="27" y="8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11" y="26"/>
                    </a:lnTo>
                    <a:lnTo>
                      <a:pt x="13" y="32"/>
                    </a:lnTo>
                    <a:lnTo>
                      <a:pt x="17" y="44"/>
                    </a:lnTo>
                    <a:lnTo>
                      <a:pt x="20" y="49"/>
                    </a:lnTo>
                    <a:lnTo>
                      <a:pt x="22" y="55"/>
                    </a:lnTo>
                    <a:lnTo>
                      <a:pt x="25" y="61"/>
                    </a:lnTo>
                    <a:lnTo>
                      <a:pt x="29" y="67"/>
                    </a:lnTo>
                    <a:lnTo>
                      <a:pt x="29" y="69"/>
                    </a:lnTo>
                    <a:lnTo>
                      <a:pt x="26" y="69"/>
                    </a:lnTo>
                    <a:lnTo>
                      <a:pt x="26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84240" y="2228400"/>
                <a:ext cx="46800" cy="26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1" y="13"/>
                    </a:moveTo>
                    <a:lnTo>
                      <a:pt x="4" y="12"/>
                    </a:lnTo>
                    <a:lnTo>
                      <a:pt x="6" y="9"/>
                    </a:lnTo>
                    <a:lnTo>
                      <a:pt x="14" y="5"/>
                    </a:lnTo>
                    <a:lnTo>
                      <a:pt x="22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2" y="3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10" y="17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445440" y="2223360"/>
                <a:ext cx="96480" cy="55440"/>
              </a:xfrm>
              <a:custGeom>
                <a:avLst/>
                <a:gdLst/>
                <a:ahLst/>
                <a:rect l="l" t="t" r="r" b="b"/>
                <a:pathLst>
                  <a:path w="68" h="35">
                    <a:moveTo>
                      <a:pt x="2" y="0"/>
                    </a:moveTo>
                    <a:lnTo>
                      <a:pt x="37" y="12"/>
                    </a:lnTo>
                    <a:lnTo>
                      <a:pt x="43" y="15"/>
                    </a:lnTo>
                    <a:lnTo>
                      <a:pt x="48" y="17"/>
                    </a:lnTo>
                    <a:lnTo>
                      <a:pt x="52" y="20"/>
                    </a:lnTo>
                    <a:lnTo>
                      <a:pt x="58" y="23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6" y="35"/>
                    </a:lnTo>
                    <a:lnTo>
                      <a:pt x="55" y="30"/>
                    </a:lnTo>
                    <a:lnTo>
                      <a:pt x="49" y="27"/>
                    </a:lnTo>
                    <a:lnTo>
                      <a:pt x="44" y="25"/>
                    </a:lnTo>
                    <a:lnTo>
                      <a:pt x="39" y="22"/>
                    </a:lnTo>
                    <a:lnTo>
                      <a:pt x="34" y="19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530400" y="2242440"/>
                <a:ext cx="136440" cy="9972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0" y="39"/>
                    </a:moveTo>
                    <a:lnTo>
                      <a:pt x="3" y="32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61" y="3"/>
                    </a:lnTo>
                    <a:lnTo>
                      <a:pt x="71" y="8"/>
                    </a:lnTo>
                    <a:lnTo>
                      <a:pt x="76" y="11"/>
                    </a:lnTo>
                    <a:lnTo>
                      <a:pt x="81" y="14"/>
                    </a:lnTo>
                    <a:lnTo>
                      <a:pt x="85" y="18"/>
                    </a:lnTo>
                    <a:lnTo>
                      <a:pt x="89" y="22"/>
                    </a:lnTo>
                    <a:lnTo>
                      <a:pt x="94" y="30"/>
                    </a:lnTo>
                    <a:lnTo>
                      <a:pt x="96" y="39"/>
                    </a:lnTo>
                    <a:lnTo>
                      <a:pt x="94" y="50"/>
                    </a:lnTo>
                    <a:lnTo>
                      <a:pt x="91" y="53"/>
                    </a:lnTo>
                    <a:lnTo>
                      <a:pt x="88" y="56"/>
                    </a:lnTo>
                    <a:lnTo>
                      <a:pt x="85" y="58"/>
                    </a:lnTo>
                    <a:lnTo>
                      <a:pt x="81" y="60"/>
                    </a:lnTo>
                    <a:lnTo>
                      <a:pt x="73" y="62"/>
                    </a:lnTo>
                    <a:lnTo>
                      <a:pt x="65" y="63"/>
                    </a:lnTo>
                    <a:lnTo>
                      <a:pt x="48" y="61"/>
                    </a:lnTo>
                    <a:lnTo>
                      <a:pt x="39" y="58"/>
                    </a:lnTo>
                    <a:lnTo>
                      <a:pt x="31" y="54"/>
                    </a:lnTo>
                    <a:lnTo>
                      <a:pt x="27" y="47"/>
                    </a:lnTo>
                    <a:lnTo>
                      <a:pt x="23" y="40"/>
                    </a:lnTo>
                    <a:lnTo>
                      <a:pt x="24" y="38"/>
                    </a:lnTo>
                    <a:lnTo>
                      <a:pt x="26" y="38"/>
                    </a:lnTo>
                    <a:lnTo>
                      <a:pt x="28" y="41"/>
                    </a:lnTo>
                    <a:lnTo>
                      <a:pt x="31" y="42"/>
                    </a:lnTo>
                    <a:lnTo>
                      <a:pt x="37" y="46"/>
                    </a:lnTo>
                    <a:lnTo>
                      <a:pt x="43" y="49"/>
                    </a:lnTo>
                    <a:lnTo>
                      <a:pt x="50" y="52"/>
                    </a:lnTo>
                    <a:lnTo>
                      <a:pt x="56" y="53"/>
                    </a:lnTo>
                    <a:lnTo>
                      <a:pt x="63" y="54"/>
                    </a:lnTo>
                    <a:lnTo>
                      <a:pt x="75" y="52"/>
                    </a:lnTo>
                    <a:lnTo>
                      <a:pt x="85" y="45"/>
                    </a:lnTo>
                    <a:lnTo>
                      <a:pt x="86" y="36"/>
                    </a:lnTo>
                    <a:lnTo>
                      <a:pt x="85" y="29"/>
                    </a:lnTo>
                    <a:lnTo>
                      <a:pt x="83" y="25"/>
                    </a:lnTo>
                    <a:lnTo>
                      <a:pt x="80" y="22"/>
                    </a:lnTo>
                    <a:lnTo>
                      <a:pt x="77" y="19"/>
                    </a:lnTo>
                    <a:lnTo>
                      <a:pt x="74" y="16"/>
                    </a:lnTo>
                    <a:lnTo>
                      <a:pt x="70" y="13"/>
                    </a:lnTo>
                    <a:lnTo>
                      <a:pt x="66" y="11"/>
                    </a:lnTo>
                    <a:lnTo>
                      <a:pt x="61" y="9"/>
                    </a:lnTo>
                    <a:lnTo>
                      <a:pt x="57" y="8"/>
                    </a:lnTo>
                    <a:lnTo>
                      <a:pt x="47" y="5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7" y="9"/>
                    </a:lnTo>
                    <a:lnTo>
                      <a:pt x="22" y="12"/>
                    </a:lnTo>
                    <a:lnTo>
                      <a:pt x="15" y="20"/>
                    </a:lnTo>
                    <a:lnTo>
                      <a:pt x="9" y="29"/>
                    </a:lnTo>
                    <a:lnTo>
                      <a:pt x="3" y="40"/>
                    </a:lnTo>
                    <a:lnTo>
                      <a:pt x="1" y="41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628680" y="2253600"/>
                <a:ext cx="115920" cy="106200"/>
              </a:xfrm>
              <a:custGeom>
                <a:avLst/>
                <a:gdLst/>
                <a:ahLst/>
                <a:rect l="l" t="t" r="r" b="b"/>
                <a:pathLst>
                  <a:path w="82" h="67">
                    <a:moveTo>
                      <a:pt x="2" y="2"/>
                    </a:moveTo>
                    <a:lnTo>
                      <a:pt x="35" y="0"/>
                    </a:lnTo>
                    <a:lnTo>
                      <a:pt x="50" y="2"/>
                    </a:lnTo>
                    <a:lnTo>
                      <a:pt x="64" y="10"/>
                    </a:lnTo>
                    <a:lnTo>
                      <a:pt x="69" y="16"/>
                    </a:lnTo>
                    <a:lnTo>
                      <a:pt x="74" y="22"/>
                    </a:lnTo>
                    <a:lnTo>
                      <a:pt x="80" y="35"/>
                    </a:lnTo>
                    <a:lnTo>
                      <a:pt x="82" y="49"/>
                    </a:lnTo>
                    <a:lnTo>
                      <a:pt x="80" y="56"/>
                    </a:lnTo>
                    <a:lnTo>
                      <a:pt x="77" y="63"/>
                    </a:lnTo>
                    <a:lnTo>
                      <a:pt x="73" y="65"/>
                    </a:lnTo>
                    <a:lnTo>
                      <a:pt x="68" y="66"/>
                    </a:lnTo>
                    <a:lnTo>
                      <a:pt x="60" y="67"/>
                    </a:lnTo>
                    <a:lnTo>
                      <a:pt x="41" y="64"/>
                    </a:lnTo>
                    <a:lnTo>
                      <a:pt x="28" y="58"/>
                    </a:lnTo>
                    <a:lnTo>
                      <a:pt x="24" y="53"/>
                    </a:lnTo>
                    <a:lnTo>
                      <a:pt x="22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44" y="53"/>
                    </a:lnTo>
                    <a:lnTo>
                      <a:pt x="57" y="56"/>
                    </a:lnTo>
                    <a:lnTo>
                      <a:pt x="62" y="57"/>
                    </a:lnTo>
                    <a:lnTo>
                      <a:pt x="69" y="55"/>
                    </a:lnTo>
                    <a:lnTo>
                      <a:pt x="72" y="45"/>
                    </a:lnTo>
                    <a:lnTo>
                      <a:pt x="70" y="35"/>
                    </a:lnTo>
                    <a:lnTo>
                      <a:pt x="68" y="31"/>
                    </a:lnTo>
                    <a:lnTo>
                      <a:pt x="65" y="26"/>
                    </a:lnTo>
                    <a:lnTo>
                      <a:pt x="61" y="21"/>
                    </a:lnTo>
                    <a:lnTo>
                      <a:pt x="59" y="19"/>
                    </a:lnTo>
                    <a:lnTo>
                      <a:pt x="57" y="17"/>
                    </a:lnTo>
                    <a:lnTo>
                      <a:pt x="54" y="15"/>
                    </a:lnTo>
                    <a:lnTo>
                      <a:pt x="51" y="13"/>
                    </a:lnTo>
                    <a:lnTo>
                      <a:pt x="45" y="9"/>
                    </a:lnTo>
                    <a:lnTo>
                      <a:pt x="38" y="7"/>
                    </a:lnTo>
                    <a:lnTo>
                      <a:pt x="32" y="6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30920" y="2283840"/>
                <a:ext cx="88200" cy="101160"/>
              </a:xfrm>
              <a:custGeom>
                <a:avLst/>
                <a:gdLst/>
                <a:ahLst/>
                <a:rect l="l" t="t" r="r" b="b"/>
                <a:pathLst>
                  <a:path w="62" h="64">
                    <a:moveTo>
                      <a:pt x="2" y="0"/>
                    </a:moveTo>
                    <a:lnTo>
                      <a:pt x="18" y="0"/>
                    </a:lnTo>
                    <a:lnTo>
                      <a:pt x="33" y="3"/>
                    </a:lnTo>
                    <a:lnTo>
                      <a:pt x="45" y="10"/>
                    </a:lnTo>
                    <a:lnTo>
                      <a:pt x="55" y="22"/>
                    </a:lnTo>
                    <a:lnTo>
                      <a:pt x="60" y="34"/>
                    </a:lnTo>
                    <a:lnTo>
                      <a:pt x="62" y="45"/>
                    </a:lnTo>
                    <a:lnTo>
                      <a:pt x="62" y="51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2" y="63"/>
                    </a:lnTo>
                    <a:lnTo>
                      <a:pt x="38" y="64"/>
                    </a:lnTo>
                    <a:lnTo>
                      <a:pt x="23" y="63"/>
                    </a:lnTo>
                    <a:lnTo>
                      <a:pt x="16" y="59"/>
                    </a:lnTo>
                    <a:lnTo>
                      <a:pt x="11" y="55"/>
                    </a:lnTo>
                    <a:lnTo>
                      <a:pt x="7" y="50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5" y="42"/>
                    </a:lnTo>
                    <a:lnTo>
                      <a:pt x="7" y="44"/>
                    </a:lnTo>
                    <a:lnTo>
                      <a:pt x="9" y="46"/>
                    </a:lnTo>
                    <a:lnTo>
                      <a:pt x="14" y="48"/>
                    </a:lnTo>
                    <a:lnTo>
                      <a:pt x="26" y="52"/>
                    </a:lnTo>
                    <a:lnTo>
                      <a:pt x="37" y="54"/>
                    </a:lnTo>
                    <a:lnTo>
                      <a:pt x="49" y="52"/>
                    </a:lnTo>
                    <a:lnTo>
                      <a:pt x="53" y="48"/>
                    </a:lnTo>
                    <a:lnTo>
                      <a:pt x="53" y="41"/>
                    </a:lnTo>
                    <a:lnTo>
                      <a:pt x="51" y="34"/>
                    </a:lnTo>
                    <a:lnTo>
                      <a:pt x="47" y="26"/>
                    </a:lnTo>
                    <a:lnTo>
                      <a:pt x="43" y="20"/>
                    </a:lnTo>
                    <a:lnTo>
                      <a:pt x="38" y="15"/>
                    </a:lnTo>
                    <a:lnTo>
                      <a:pt x="36" y="13"/>
                    </a:lnTo>
                    <a:lnTo>
                      <a:pt x="34" y="11"/>
                    </a:lnTo>
                    <a:lnTo>
                      <a:pt x="28" y="8"/>
                    </a:lnTo>
                    <a:lnTo>
                      <a:pt x="22" y="5"/>
                    </a:lnTo>
                    <a:lnTo>
                      <a:pt x="16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412680" y="2344320"/>
                <a:ext cx="92160" cy="10584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2"/>
                    </a:moveTo>
                    <a:lnTo>
                      <a:pt x="63" y="5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40" y="15"/>
                    </a:lnTo>
                    <a:lnTo>
                      <a:pt x="35" y="17"/>
                    </a:lnTo>
                    <a:lnTo>
                      <a:pt x="28" y="19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32"/>
                    </a:lnTo>
                    <a:lnTo>
                      <a:pt x="8" y="40"/>
                    </a:lnTo>
                    <a:lnTo>
                      <a:pt x="9" y="43"/>
                    </a:lnTo>
                    <a:lnTo>
                      <a:pt x="10" y="47"/>
                    </a:lnTo>
                    <a:lnTo>
                      <a:pt x="17" y="57"/>
                    </a:lnTo>
                    <a:lnTo>
                      <a:pt x="22" y="60"/>
                    </a:lnTo>
                    <a:lnTo>
                      <a:pt x="27" y="62"/>
                    </a:lnTo>
                    <a:lnTo>
                      <a:pt x="37" y="64"/>
                    </a:lnTo>
                    <a:lnTo>
                      <a:pt x="39" y="66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23" y="67"/>
                    </a:lnTo>
                    <a:lnTo>
                      <a:pt x="11" y="64"/>
                    </a:lnTo>
                    <a:lnTo>
                      <a:pt x="6" y="58"/>
                    </a:lnTo>
                    <a:lnTo>
                      <a:pt x="2" y="51"/>
                    </a:lnTo>
                    <a:lnTo>
                      <a:pt x="0" y="41"/>
                    </a:lnTo>
                    <a:lnTo>
                      <a:pt x="2" y="31"/>
                    </a:lnTo>
                    <a:lnTo>
                      <a:pt x="3" y="26"/>
                    </a:lnTo>
                    <a:lnTo>
                      <a:pt x="6" y="21"/>
                    </a:lnTo>
                    <a:lnTo>
                      <a:pt x="9" y="17"/>
                    </a:lnTo>
                    <a:lnTo>
                      <a:pt x="13" y="14"/>
                    </a:lnTo>
                    <a:lnTo>
                      <a:pt x="28" y="11"/>
                    </a:lnTo>
                    <a:lnTo>
                      <a:pt x="51" y="6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2"/>
                    </a:lnTo>
                    <a:lnTo>
                      <a:pt x="6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98000" y="2613960"/>
                <a:ext cx="285120" cy="117360"/>
              </a:xfrm>
              <a:custGeom>
                <a:avLst/>
                <a:gdLst/>
                <a:ahLst/>
                <a:rect l="l" t="t" r="r" b="b"/>
                <a:pathLst>
                  <a:path w="201" h="74">
                    <a:moveTo>
                      <a:pt x="30" y="3"/>
                    </a:moveTo>
                    <a:lnTo>
                      <a:pt x="27" y="7"/>
                    </a:lnTo>
                    <a:lnTo>
                      <a:pt x="25" y="11"/>
                    </a:lnTo>
                    <a:lnTo>
                      <a:pt x="23" y="15"/>
                    </a:lnTo>
                    <a:lnTo>
                      <a:pt x="21" y="19"/>
                    </a:lnTo>
                    <a:lnTo>
                      <a:pt x="16" y="26"/>
                    </a:lnTo>
                    <a:lnTo>
                      <a:pt x="11" y="33"/>
                    </a:lnTo>
                    <a:lnTo>
                      <a:pt x="19" y="30"/>
                    </a:lnTo>
                    <a:lnTo>
                      <a:pt x="28" y="25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40" y="26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1" y="53"/>
                    </a:lnTo>
                    <a:lnTo>
                      <a:pt x="45" y="49"/>
                    </a:lnTo>
                    <a:lnTo>
                      <a:pt x="49" y="44"/>
                    </a:lnTo>
                    <a:lnTo>
                      <a:pt x="52" y="39"/>
                    </a:lnTo>
                    <a:lnTo>
                      <a:pt x="57" y="33"/>
                    </a:lnTo>
                    <a:lnTo>
                      <a:pt x="60" y="32"/>
                    </a:lnTo>
                    <a:lnTo>
                      <a:pt x="64" y="33"/>
                    </a:lnTo>
                    <a:lnTo>
                      <a:pt x="66" y="41"/>
                    </a:lnTo>
                    <a:lnTo>
                      <a:pt x="69" y="51"/>
                    </a:lnTo>
                    <a:lnTo>
                      <a:pt x="72" y="59"/>
                    </a:lnTo>
                    <a:lnTo>
                      <a:pt x="75" y="54"/>
                    </a:lnTo>
                    <a:lnTo>
                      <a:pt x="77" y="49"/>
                    </a:lnTo>
                    <a:lnTo>
                      <a:pt x="80" y="43"/>
                    </a:lnTo>
                    <a:lnTo>
                      <a:pt x="83" y="37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90" y="36"/>
                    </a:lnTo>
                    <a:lnTo>
                      <a:pt x="93" y="41"/>
                    </a:lnTo>
                    <a:lnTo>
                      <a:pt x="95" y="46"/>
                    </a:lnTo>
                    <a:lnTo>
                      <a:pt x="97" y="52"/>
                    </a:lnTo>
                    <a:lnTo>
                      <a:pt x="100" y="57"/>
                    </a:lnTo>
                    <a:lnTo>
                      <a:pt x="107" y="64"/>
                    </a:lnTo>
                    <a:lnTo>
                      <a:pt x="111" y="54"/>
                    </a:lnTo>
                    <a:lnTo>
                      <a:pt x="113" y="49"/>
                    </a:lnTo>
                    <a:lnTo>
                      <a:pt x="117" y="44"/>
                    </a:lnTo>
                    <a:lnTo>
                      <a:pt x="119" y="42"/>
                    </a:lnTo>
                    <a:lnTo>
                      <a:pt x="122" y="42"/>
                    </a:lnTo>
                    <a:lnTo>
                      <a:pt x="127" y="45"/>
                    </a:lnTo>
                    <a:lnTo>
                      <a:pt x="131" y="48"/>
                    </a:lnTo>
                    <a:lnTo>
                      <a:pt x="135" y="51"/>
                    </a:lnTo>
                    <a:lnTo>
                      <a:pt x="139" y="54"/>
                    </a:lnTo>
                    <a:lnTo>
                      <a:pt x="143" y="56"/>
                    </a:lnTo>
                    <a:lnTo>
                      <a:pt x="147" y="58"/>
                    </a:lnTo>
                    <a:lnTo>
                      <a:pt x="151" y="60"/>
                    </a:lnTo>
                    <a:lnTo>
                      <a:pt x="156" y="63"/>
                    </a:lnTo>
                    <a:lnTo>
                      <a:pt x="155" y="53"/>
                    </a:lnTo>
                    <a:lnTo>
                      <a:pt x="151" y="43"/>
                    </a:lnTo>
                    <a:lnTo>
                      <a:pt x="150" y="40"/>
                    </a:lnTo>
                    <a:lnTo>
                      <a:pt x="152" y="38"/>
                    </a:lnTo>
                    <a:lnTo>
                      <a:pt x="161" y="36"/>
                    </a:lnTo>
                    <a:lnTo>
                      <a:pt x="168" y="39"/>
                    </a:lnTo>
                    <a:lnTo>
                      <a:pt x="175" y="42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86" y="32"/>
                    </a:lnTo>
                    <a:lnTo>
                      <a:pt x="185" y="26"/>
                    </a:lnTo>
                    <a:lnTo>
                      <a:pt x="183" y="19"/>
                    </a:lnTo>
                    <a:lnTo>
                      <a:pt x="184" y="17"/>
                    </a:lnTo>
                    <a:lnTo>
                      <a:pt x="186" y="18"/>
                    </a:lnTo>
                    <a:lnTo>
                      <a:pt x="189" y="25"/>
                    </a:lnTo>
                    <a:lnTo>
                      <a:pt x="193" y="32"/>
                    </a:lnTo>
                    <a:lnTo>
                      <a:pt x="201" y="46"/>
                    </a:lnTo>
                    <a:lnTo>
                      <a:pt x="200" y="51"/>
                    </a:lnTo>
                    <a:lnTo>
                      <a:pt x="197" y="53"/>
                    </a:lnTo>
                    <a:lnTo>
                      <a:pt x="184" y="52"/>
                    </a:lnTo>
                    <a:lnTo>
                      <a:pt x="173" y="48"/>
                    </a:lnTo>
                    <a:lnTo>
                      <a:pt x="164" y="46"/>
                    </a:lnTo>
                    <a:lnTo>
                      <a:pt x="166" y="57"/>
                    </a:lnTo>
                    <a:lnTo>
                      <a:pt x="164" y="69"/>
                    </a:lnTo>
                    <a:lnTo>
                      <a:pt x="162" y="72"/>
                    </a:lnTo>
                    <a:lnTo>
                      <a:pt x="158" y="72"/>
                    </a:lnTo>
                    <a:lnTo>
                      <a:pt x="125" y="57"/>
                    </a:lnTo>
                    <a:lnTo>
                      <a:pt x="122" y="61"/>
                    </a:lnTo>
                    <a:lnTo>
                      <a:pt x="118" y="64"/>
                    </a:lnTo>
                    <a:lnTo>
                      <a:pt x="110" y="72"/>
                    </a:lnTo>
                    <a:lnTo>
                      <a:pt x="108" y="74"/>
                    </a:lnTo>
                    <a:lnTo>
                      <a:pt x="105" y="72"/>
                    </a:lnTo>
                    <a:lnTo>
                      <a:pt x="100" y="66"/>
                    </a:lnTo>
                    <a:lnTo>
                      <a:pt x="96" y="60"/>
                    </a:lnTo>
                    <a:lnTo>
                      <a:pt x="90" y="51"/>
                    </a:lnTo>
                    <a:lnTo>
                      <a:pt x="86" y="56"/>
                    </a:lnTo>
                    <a:lnTo>
                      <a:pt x="81" y="60"/>
                    </a:lnTo>
                    <a:lnTo>
                      <a:pt x="73" y="70"/>
                    </a:lnTo>
                    <a:lnTo>
                      <a:pt x="72" y="72"/>
                    </a:lnTo>
                    <a:lnTo>
                      <a:pt x="70" y="72"/>
                    </a:lnTo>
                    <a:lnTo>
                      <a:pt x="68" y="69"/>
                    </a:lnTo>
                    <a:lnTo>
                      <a:pt x="66" y="63"/>
                    </a:lnTo>
                    <a:lnTo>
                      <a:pt x="63" y="58"/>
                    </a:lnTo>
                    <a:lnTo>
                      <a:pt x="58" y="47"/>
                    </a:lnTo>
                    <a:lnTo>
                      <a:pt x="53" y="53"/>
                    </a:lnTo>
                    <a:lnTo>
                      <a:pt x="49" y="57"/>
                    </a:lnTo>
                    <a:lnTo>
                      <a:pt x="45" y="60"/>
                    </a:lnTo>
                    <a:lnTo>
                      <a:pt x="42" y="63"/>
                    </a:lnTo>
                    <a:lnTo>
                      <a:pt x="39" y="66"/>
                    </a:lnTo>
                    <a:lnTo>
                      <a:pt x="37" y="67"/>
                    </a:lnTo>
                    <a:lnTo>
                      <a:pt x="34" y="67"/>
                    </a:lnTo>
                    <a:lnTo>
                      <a:pt x="32" y="63"/>
                    </a:lnTo>
                    <a:lnTo>
                      <a:pt x="34" y="31"/>
                    </a:lnTo>
                    <a:lnTo>
                      <a:pt x="28" y="34"/>
                    </a:lnTo>
                    <a:lnTo>
                      <a:pt x="25" y="36"/>
                    </a:lnTo>
                    <a:lnTo>
                      <a:pt x="21" y="37"/>
                    </a:lnTo>
                    <a:lnTo>
                      <a:pt x="12" y="40"/>
                    </a:lnTo>
                    <a:lnTo>
                      <a:pt x="3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5" y="32"/>
                    </a:lnTo>
                    <a:lnTo>
                      <a:pt x="8" y="27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1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0" y="3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468120" y="2660040"/>
                <a:ext cx="69480" cy="209160"/>
              </a:xfrm>
              <a:custGeom>
                <a:avLst/>
                <a:gdLst/>
                <a:ahLst/>
                <a:rect l="l" t="t" r="r" b="b"/>
                <a:pathLst>
                  <a:path w="49" h="132">
                    <a:moveTo>
                      <a:pt x="49" y="5"/>
                    </a:moveTo>
                    <a:lnTo>
                      <a:pt x="47" y="10"/>
                    </a:lnTo>
                    <a:lnTo>
                      <a:pt x="45" y="19"/>
                    </a:lnTo>
                    <a:lnTo>
                      <a:pt x="43" y="29"/>
                    </a:lnTo>
                    <a:lnTo>
                      <a:pt x="41" y="36"/>
                    </a:lnTo>
                    <a:lnTo>
                      <a:pt x="38" y="47"/>
                    </a:lnTo>
                    <a:lnTo>
                      <a:pt x="35" y="57"/>
                    </a:lnTo>
                    <a:lnTo>
                      <a:pt x="31" y="73"/>
                    </a:lnTo>
                    <a:lnTo>
                      <a:pt x="29" y="81"/>
                    </a:lnTo>
                    <a:lnTo>
                      <a:pt x="26" y="89"/>
                    </a:lnTo>
                    <a:lnTo>
                      <a:pt x="22" y="98"/>
                    </a:lnTo>
                    <a:lnTo>
                      <a:pt x="20" y="103"/>
                    </a:lnTo>
                    <a:lnTo>
                      <a:pt x="18" y="109"/>
                    </a:lnTo>
                    <a:lnTo>
                      <a:pt x="15" y="115"/>
                    </a:lnTo>
                    <a:lnTo>
                      <a:pt x="11" y="120"/>
                    </a:lnTo>
                    <a:lnTo>
                      <a:pt x="7" y="125"/>
                    </a:lnTo>
                    <a:lnTo>
                      <a:pt x="3" y="131"/>
                    </a:lnTo>
                    <a:lnTo>
                      <a:pt x="1" y="132"/>
                    </a:lnTo>
                    <a:lnTo>
                      <a:pt x="0" y="129"/>
                    </a:lnTo>
                    <a:lnTo>
                      <a:pt x="11" y="105"/>
                    </a:lnTo>
                    <a:lnTo>
                      <a:pt x="15" y="94"/>
                    </a:lnTo>
                    <a:lnTo>
                      <a:pt x="19" y="84"/>
                    </a:lnTo>
                    <a:lnTo>
                      <a:pt x="24" y="64"/>
                    </a:lnTo>
                    <a:lnTo>
                      <a:pt x="26" y="54"/>
                    </a:lnTo>
                    <a:lnTo>
                      <a:pt x="28" y="44"/>
                    </a:lnTo>
                    <a:lnTo>
                      <a:pt x="31" y="33"/>
                    </a:lnTo>
                    <a:lnTo>
                      <a:pt x="34" y="21"/>
                    </a:lnTo>
                    <a:lnTo>
                      <a:pt x="38" y="8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2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81080" y="2817360"/>
                <a:ext cx="8352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2" y="37"/>
                    </a:moveTo>
                    <a:lnTo>
                      <a:pt x="7" y="36"/>
                    </a:lnTo>
                    <a:lnTo>
                      <a:pt x="11" y="33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7" y="12"/>
                    </a:lnTo>
                    <a:lnTo>
                      <a:pt x="42" y="9"/>
                    </a:lnTo>
                    <a:lnTo>
                      <a:pt x="47" y="5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7" y="4"/>
                    </a:lnTo>
                    <a:lnTo>
                      <a:pt x="59" y="10"/>
                    </a:lnTo>
                    <a:lnTo>
                      <a:pt x="57" y="13"/>
                    </a:lnTo>
                    <a:lnTo>
                      <a:pt x="54" y="16"/>
                    </a:lnTo>
                    <a:lnTo>
                      <a:pt x="50" y="19"/>
                    </a:lnTo>
                    <a:lnTo>
                      <a:pt x="38" y="26"/>
                    </a:lnTo>
                    <a:lnTo>
                      <a:pt x="32" y="30"/>
                    </a:lnTo>
                    <a:lnTo>
                      <a:pt x="26" y="35"/>
                    </a:lnTo>
                    <a:lnTo>
                      <a:pt x="20" y="38"/>
                    </a:lnTo>
                    <a:lnTo>
                      <a:pt x="14" y="39"/>
                    </a:lnTo>
                    <a:lnTo>
                      <a:pt x="2" y="40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53440" y="2817360"/>
                <a:ext cx="51120" cy="6444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7" y="1"/>
                    </a:moveTo>
                    <a:lnTo>
                      <a:pt x="13" y="9"/>
                    </a:lnTo>
                    <a:lnTo>
                      <a:pt x="20" y="19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31" y="34"/>
                    </a:lnTo>
                    <a:lnTo>
                      <a:pt x="33" y="36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31" y="39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7" y="30"/>
                    </a:lnTo>
                    <a:lnTo>
                      <a:pt x="12" y="25"/>
                    </a:lnTo>
                    <a:lnTo>
                      <a:pt x="3" y="13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08880" y="2693520"/>
                <a:ext cx="30960" cy="18540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22" y="14"/>
                    </a:moveTo>
                    <a:lnTo>
                      <a:pt x="20" y="30"/>
                    </a:lnTo>
                    <a:lnTo>
                      <a:pt x="16" y="43"/>
                    </a:lnTo>
                    <a:lnTo>
                      <a:pt x="11" y="73"/>
                    </a:lnTo>
                    <a:lnTo>
                      <a:pt x="4" y="114"/>
                    </a:lnTo>
                    <a:lnTo>
                      <a:pt x="3" y="116"/>
                    </a:lnTo>
                    <a:lnTo>
                      <a:pt x="2" y="117"/>
                    </a:lnTo>
                    <a:lnTo>
                      <a:pt x="0" y="115"/>
                    </a:lnTo>
                    <a:lnTo>
                      <a:pt x="2" y="71"/>
                    </a:lnTo>
                    <a:lnTo>
                      <a:pt x="4" y="54"/>
                    </a:lnTo>
                    <a:lnTo>
                      <a:pt x="8" y="37"/>
                    </a:lnTo>
                    <a:lnTo>
                      <a:pt x="12" y="19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3"/>
                    </a:lnTo>
                    <a:lnTo>
                      <a:pt x="22" y="14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27240" y="2721960"/>
                <a:ext cx="39600" cy="16956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3"/>
                    </a:moveTo>
                    <a:lnTo>
                      <a:pt x="9" y="9"/>
                    </a:lnTo>
                    <a:lnTo>
                      <a:pt x="22" y="45"/>
                    </a:lnTo>
                    <a:lnTo>
                      <a:pt x="26" y="75"/>
                    </a:lnTo>
                    <a:lnTo>
                      <a:pt x="28" y="105"/>
                    </a:lnTo>
                    <a:lnTo>
                      <a:pt x="26" y="107"/>
                    </a:lnTo>
                    <a:lnTo>
                      <a:pt x="25" y="105"/>
                    </a:lnTo>
                    <a:lnTo>
                      <a:pt x="23" y="89"/>
                    </a:lnTo>
                    <a:lnTo>
                      <a:pt x="20" y="76"/>
                    </a:lnTo>
                    <a:lnTo>
                      <a:pt x="17" y="62"/>
                    </a:lnTo>
                    <a:lnTo>
                      <a:pt x="14" y="46"/>
                    </a:lnTo>
                    <a:lnTo>
                      <a:pt x="11" y="37"/>
                    </a:lnTo>
                    <a:lnTo>
                      <a:pt x="9" y="29"/>
                    </a:lnTo>
                    <a:lnTo>
                      <a:pt x="5" y="21"/>
                    </a:lnTo>
                    <a:lnTo>
                      <a:pt x="1" y="12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81240" y="2834640"/>
                <a:ext cx="117720" cy="5832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0" y="35"/>
                    </a:moveTo>
                    <a:lnTo>
                      <a:pt x="2" y="31"/>
                    </a:lnTo>
                    <a:lnTo>
                      <a:pt x="5" y="27"/>
                    </a:lnTo>
                    <a:lnTo>
                      <a:pt x="8" y="24"/>
                    </a:lnTo>
                    <a:lnTo>
                      <a:pt x="12" y="19"/>
                    </a:lnTo>
                    <a:lnTo>
                      <a:pt x="15" y="15"/>
                    </a:lnTo>
                    <a:lnTo>
                      <a:pt x="19" y="11"/>
                    </a:lnTo>
                    <a:lnTo>
                      <a:pt x="23" y="4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3" y="4"/>
                    </a:lnTo>
                    <a:lnTo>
                      <a:pt x="35" y="8"/>
                    </a:lnTo>
                    <a:lnTo>
                      <a:pt x="38" y="10"/>
                    </a:lnTo>
                    <a:lnTo>
                      <a:pt x="46" y="14"/>
                    </a:lnTo>
                    <a:lnTo>
                      <a:pt x="50" y="17"/>
                    </a:lnTo>
                    <a:lnTo>
                      <a:pt x="54" y="19"/>
                    </a:lnTo>
                    <a:lnTo>
                      <a:pt x="64" y="22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1" y="29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1" y="33"/>
                    </a:lnTo>
                    <a:lnTo>
                      <a:pt x="70" y="34"/>
                    </a:lnTo>
                    <a:lnTo>
                      <a:pt x="60" y="34"/>
                    </a:lnTo>
                    <a:lnTo>
                      <a:pt x="39" y="24"/>
                    </a:lnTo>
                    <a:lnTo>
                      <a:pt x="33" y="20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3" y="20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1" y="28"/>
                    </a:lnTo>
                    <a:lnTo>
                      <a:pt x="7" y="31"/>
                    </a:lnTo>
                    <a:lnTo>
                      <a:pt x="3" y="36"/>
                    </a:lnTo>
                    <a:lnTo>
                      <a:pt x="1" y="37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743520" y="2687040"/>
                <a:ext cx="60840" cy="183960"/>
              </a:xfrm>
              <a:custGeom>
                <a:avLst/>
                <a:gdLst/>
                <a:ahLst/>
                <a:rect l="l" t="t" r="r" b="b"/>
                <a:pathLst>
                  <a:path w="43" h="116">
                    <a:moveTo>
                      <a:pt x="3" y="0"/>
                    </a:moveTo>
                    <a:lnTo>
                      <a:pt x="8" y="11"/>
                    </a:lnTo>
                    <a:lnTo>
                      <a:pt x="12" y="21"/>
                    </a:lnTo>
                    <a:lnTo>
                      <a:pt x="15" y="29"/>
                    </a:lnTo>
                    <a:lnTo>
                      <a:pt x="17" y="36"/>
                    </a:lnTo>
                    <a:lnTo>
                      <a:pt x="22" y="48"/>
                    </a:lnTo>
                    <a:lnTo>
                      <a:pt x="26" y="60"/>
                    </a:lnTo>
                    <a:lnTo>
                      <a:pt x="30" y="75"/>
                    </a:lnTo>
                    <a:lnTo>
                      <a:pt x="35" y="89"/>
                    </a:lnTo>
                    <a:lnTo>
                      <a:pt x="38" y="101"/>
                    </a:lnTo>
                    <a:lnTo>
                      <a:pt x="40" y="107"/>
                    </a:lnTo>
                    <a:lnTo>
                      <a:pt x="43" y="113"/>
                    </a:lnTo>
                    <a:lnTo>
                      <a:pt x="42" y="116"/>
                    </a:lnTo>
                    <a:lnTo>
                      <a:pt x="40" y="115"/>
                    </a:lnTo>
                    <a:lnTo>
                      <a:pt x="36" y="109"/>
                    </a:lnTo>
                    <a:lnTo>
                      <a:pt x="32" y="104"/>
                    </a:lnTo>
                    <a:lnTo>
                      <a:pt x="28" y="99"/>
                    </a:lnTo>
                    <a:lnTo>
                      <a:pt x="25" y="93"/>
                    </a:lnTo>
                    <a:lnTo>
                      <a:pt x="19" y="78"/>
                    </a:lnTo>
                    <a:lnTo>
                      <a:pt x="16" y="63"/>
                    </a:lnTo>
                    <a:lnTo>
                      <a:pt x="12" y="51"/>
                    </a:lnTo>
                    <a:lnTo>
                      <a:pt x="8" y="38"/>
                    </a:lnTo>
                    <a:lnTo>
                      <a:pt x="6" y="31"/>
                    </a:lnTo>
                    <a:lnTo>
                      <a:pt x="4" y="2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82320" y="2374200"/>
                <a:ext cx="151920" cy="276120"/>
              </a:xfrm>
              <a:custGeom>
                <a:avLst/>
                <a:gdLst/>
                <a:ahLst/>
                <a:rect l="l" t="t" r="r" b="b"/>
                <a:pathLst>
                  <a:path w="107" h="174">
                    <a:moveTo>
                      <a:pt x="89" y="0"/>
                    </a:moveTo>
                    <a:lnTo>
                      <a:pt x="93" y="10"/>
                    </a:lnTo>
                    <a:lnTo>
                      <a:pt x="97" y="19"/>
                    </a:lnTo>
                    <a:lnTo>
                      <a:pt x="103" y="36"/>
                    </a:lnTo>
                    <a:lnTo>
                      <a:pt x="106" y="55"/>
                    </a:lnTo>
                    <a:lnTo>
                      <a:pt x="107" y="76"/>
                    </a:lnTo>
                    <a:lnTo>
                      <a:pt x="106" y="92"/>
                    </a:lnTo>
                    <a:lnTo>
                      <a:pt x="104" y="100"/>
                    </a:lnTo>
                    <a:lnTo>
                      <a:pt x="101" y="108"/>
                    </a:lnTo>
                    <a:lnTo>
                      <a:pt x="98" y="118"/>
                    </a:lnTo>
                    <a:lnTo>
                      <a:pt x="93" y="126"/>
                    </a:lnTo>
                    <a:lnTo>
                      <a:pt x="91" y="130"/>
                    </a:lnTo>
                    <a:lnTo>
                      <a:pt x="88" y="133"/>
                    </a:lnTo>
                    <a:lnTo>
                      <a:pt x="82" y="140"/>
                    </a:lnTo>
                    <a:lnTo>
                      <a:pt x="79" y="142"/>
                    </a:lnTo>
                    <a:lnTo>
                      <a:pt x="75" y="145"/>
                    </a:lnTo>
                    <a:lnTo>
                      <a:pt x="71" y="148"/>
                    </a:lnTo>
                    <a:lnTo>
                      <a:pt x="68" y="150"/>
                    </a:lnTo>
                    <a:lnTo>
                      <a:pt x="63" y="152"/>
                    </a:lnTo>
                    <a:lnTo>
                      <a:pt x="59" y="155"/>
                    </a:lnTo>
                    <a:lnTo>
                      <a:pt x="54" y="157"/>
                    </a:lnTo>
                    <a:lnTo>
                      <a:pt x="50" y="159"/>
                    </a:lnTo>
                    <a:lnTo>
                      <a:pt x="43" y="162"/>
                    </a:lnTo>
                    <a:lnTo>
                      <a:pt x="37" y="164"/>
                    </a:lnTo>
                    <a:lnTo>
                      <a:pt x="26" y="167"/>
                    </a:lnTo>
                    <a:lnTo>
                      <a:pt x="2" y="174"/>
                    </a:lnTo>
                    <a:lnTo>
                      <a:pt x="0" y="173"/>
                    </a:lnTo>
                    <a:lnTo>
                      <a:pt x="1" y="171"/>
                    </a:lnTo>
                    <a:lnTo>
                      <a:pt x="13" y="166"/>
                    </a:lnTo>
                    <a:lnTo>
                      <a:pt x="18" y="164"/>
                    </a:lnTo>
                    <a:lnTo>
                      <a:pt x="23" y="161"/>
                    </a:lnTo>
                    <a:lnTo>
                      <a:pt x="28" y="159"/>
                    </a:lnTo>
                    <a:lnTo>
                      <a:pt x="33" y="156"/>
                    </a:lnTo>
                    <a:lnTo>
                      <a:pt x="39" y="153"/>
                    </a:lnTo>
                    <a:lnTo>
                      <a:pt x="45" y="150"/>
                    </a:lnTo>
                    <a:lnTo>
                      <a:pt x="53" y="146"/>
                    </a:lnTo>
                    <a:lnTo>
                      <a:pt x="61" y="142"/>
                    </a:lnTo>
                    <a:lnTo>
                      <a:pt x="68" y="138"/>
                    </a:lnTo>
                    <a:lnTo>
                      <a:pt x="74" y="133"/>
                    </a:lnTo>
                    <a:lnTo>
                      <a:pt x="79" y="127"/>
                    </a:lnTo>
                    <a:lnTo>
                      <a:pt x="83" y="121"/>
                    </a:lnTo>
                    <a:lnTo>
                      <a:pt x="90" y="105"/>
                    </a:lnTo>
                    <a:lnTo>
                      <a:pt x="94" y="90"/>
                    </a:lnTo>
                    <a:lnTo>
                      <a:pt x="96" y="76"/>
                    </a:lnTo>
                    <a:lnTo>
                      <a:pt x="95" y="55"/>
                    </a:lnTo>
                    <a:lnTo>
                      <a:pt x="93" y="38"/>
                    </a:lnTo>
                    <a:lnTo>
                      <a:pt x="91" y="29"/>
                    </a:lnTo>
                    <a:lnTo>
                      <a:pt x="88" y="21"/>
                    </a:lnTo>
                    <a:lnTo>
                      <a:pt x="85" y="12"/>
                    </a:lnTo>
                    <a:lnTo>
                      <a:pt x="80" y="2"/>
                    </a:lnTo>
                    <a:lnTo>
                      <a:pt x="81" y="1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81080" y="2538000"/>
                <a:ext cx="160200" cy="11232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3" y="1"/>
                    </a:moveTo>
                    <a:lnTo>
                      <a:pt x="5" y="6"/>
                    </a:lnTo>
                    <a:lnTo>
                      <a:pt x="8" y="11"/>
                    </a:lnTo>
                    <a:lnTo>
                      <a:pt x="11" y="16"/>
                    </a:lnTo>
                    <a:lnTo>
                      <a:pt x="14" y="20"/>
                    </a:lnTo>
                    <a:lnTo>
                      <a:pt x="17" y="24"/>
                    </a:lnTo>
                    <a:lnTo>
                      <a:pt x="20" y="27"/>
                    </a:lnTo>
                    <a:lnTo>
                      <a:pt x="24" y="30"/>
                    </a:lnTo>
                    <a:lnTo>
                      <a:pt x="27" y="34"/>
                    </a:lnTo>
                    <a:lnTo>
                      <a:pt x="31" y="36"/>
                    </a:lnTo>
                    <a:lnTo>
                      <a:pt x="35" y="39"/>
                    </a:lnTo>
                    <a:lnTo>
                      <a:pt x="40" y="42"/>
                    </a:lnTo>
                    <a:lnTo>
                      <a:pt x="44" y="44"/>
                    </a:lnTo>
                    <a:lnTo>
                      <a:pt x="49" y="46"/>
                    </a:lnTo>
                    <a:lnTo>
                      <a:pt x="54" y="48"/>
                    </a:lnTo>
                    <a:lnTo>
                      <a:pt x="59" y="50"/>
                    </a:lnTo>
                    <a:lnTo>
                      <a:pt x="65" y="52"/>
                    </a:lnTo>
                    <a:lnTo>
                      <a:pt x="74" y="56"/>
                    </a:lnTo>
                    <a:lnTo>
                      <a:pt x="83" y="59"/>
                    </a:lnTo>
                    <a:lnTo>
                      <a:pt x="91" y="61"/>
                    </a:lnTo>
                    <a:lnTo>
                      <a:pt x="97" y="64"/>
                    </a:lnTo>
                    <a:lnTo>
                      <a:pt x="104" y="66"/>
                    </a:lnTo>
                    <a:lnTo>
                      <a:pt x="112" y="67"/>
                    </a:lnTo>
                    <a:lnTo>
                      <a:pt x="113" y="69"/>
                    </a:lnTo>
                    <a:lnTo>
                      <a:pt x="113" y="70"/>
                    </a:lnTo>
                    <a:lnTo>
                      <a:pt x="112" y="70"/>
                    </a:lnTo>
                    <a:lnTo>
                      <a:pt x="96" y="71"/>
                    </a:lnTo>
                    <a:lnTo>
                      <a:pt x="80" y="69"/>
                    </a:lnTo>
                    <a:lnTo>
                      <a:pt x="60" y="62"/>
                    </a:lnTo>
                    <a:lnTo>
                      <a:pt x="49" y="57"/>
                    </a:lnTo>
                    <a:lnTo>
                      <a:pt x="44" y="55"/>
                    </a:lnTo>
                    <a:lnTo>
                      <a:pt x="39" y="52"/>
                    </a:lnTo>
                    <a:lnTo>
                      <a:pt x="35" y="49"/>
                    </a:lnTo>
                    <a:lnTo>
                      <a:pt x="31" y="46"/>
                    </a:lnTo>
                    <a:lnTo>
                      <a:pt x="27" y="43"/>
                    </a:lnTo>
                    <a:lnTo>
                      <a:pt x="23" y="39"/>
                    </a:lnTo>
                    <a:lnTo>
                      <a:pt x="17" y="32"/>
                    </a:lnTo>
                    <a:lnTo>
                      <a:pt x="13" y="28"/>
                    </a:lnTo>
                    <a:lnTo>
                      <a:pt x="11" y="23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90800" y="2344320"/>
                <a:ext cx="93600" cy="244080"/>
              </a:xfrm>
              <a:custGeom>
                <a:avLst/>
                <a:gdLst/>
                <a:ahLst/>
                <a:rect l="l" t="t" r="r" b="b"/>
                <a:pathLst>
                  <a:path w="66" h="154">
                    <a:moveTo>
                      <a:pt x="57" y="3"/>
                    </a:moveTo>
                    <a:lnTo>
                      <a:pt x="50" y="6"/>
                    </a:lnTo>
                    <a:lnTo>
                      <a:pt x="43" y="9"/>
                    </a:lnTo>
                    <a:lnTo>
                      <a:pt x="37" y="12"/>
                    </a:lnTo>
                    <a:lnTo>
                      <a:pt x="31" y="17"/>
                    </a:lnTo>
                    <a:lnTo>
                      <a:pt x="35" y="36"/>
                    </a:lnTo>
                    <a:lnTo>
                      <a:pt x="31" y="42"/>
                    </a:lnTo>
                    <a:lnTo>
                      <a:pt x="28" y="44"/>
                    </a:lnTo>
                    <a:lnTo>
                      <a:pt x="26" y="46"/>
                    </a:lnTo>
                    <a:lnTo>
                      <a:pt x="21" y="51"/>
                    </a:lnTo>
                    <a:lnTo>
                      <a:pt x="15" y="55"/>
                    </a:lnTo>
                    <a:lnTo>
                      <a:pt x="19" y="62"/>
                    </a:lnTo>
                    <a:lnTo>
                      <a:pt x="22" y="69"/>
                    </a:lnTo>
                    <a:lnTo>
                      <a:pt x="23" y="84"/>
                    </a:lnTo>
                    <a:lnTo>
                      <a:pt x="19" y="89"/>
                    </a:lnTo>
                    <a:lnTo>
                      <a:pt x="16" y="93"/>
                    </a:lnTo>
                    <a:lnTo>
                      <a:pt x="13" y="97"/>
                    </a:lnTo>
                    <a:lnTo>
                      <a:pt x="9" y="101"/>
                    </a:lnTo>
                    <a:lnTo>
                      <a:pt x="11" y="105"/>
                    </a:lnTo>
                    <a:lnTo>
                      <a:pt x="13" y="108"/>
                    </a:lnTo>
                    <a:lnTo>
                      <a:pt x="16" y="111"/>
                    </a:lnTo>
                    <a:lnTo>
                      <a:pt x="19" y="114"/>
                    </a:lnTo>
                    <a:lnTo>
                      <a:pt x="27" y="118"/>
                    </a:lnTo>
                    <a:lnTo>
                      <a:pt x="35" y="122"/>
                    </a:lnTo>
                    <a:lnTo>
                      <a:pt x="39" y="126"/>
                    </a:lnTo>
                    <a:lnTo>
                      <a:pt x="39" y="132"/>
                    </a:lnTo>
                    <a:lnTo>
                      <a:pt x="38" y="138"/>
                    </a:lnTo>
                    <a:lnTo>
                      <a:pt x="37" y="145"/>
                    </a:lnTo>
                    <a:lnTo>
                      <a:pt x="48" y="143"/>
                    </a:lnTo>
                    <a:lnTo>
                      <a:pt x="60" y="141"/>
                    </a:lnTo>
                    <a:lnTo>
                      <a:pt x="63" y="141"/>
                    </a:lnTo>
                    <a:lnTo>
                      <a:pt x="66" y="142"/>
                    </a:lnTo>
                    <a:lnTo>
                      <a:pt x="66" y="145"/>
                    </a:lnTo>
                    <a:lnTo>
                      <a:pt x="66" y="148"/>
                    </a:lnTo>
                    <a:lnTo>
                      <a:pt x="63" y="149"/>
                    </a:lnTo>
                    <a:lnTo>
                      <a:pt x="61" y="148"/>
                    </a:lnTo>
                    <a:lnTo>
                      <a:pt x="33" y="154"/>
                    </a:lnTo>
                    <a:lnTo>
                      <a:pt x="29" y="153"/>
                    </a:lnTo>
                    <a:lnTo>
                      <a:pt x="28" y="150"/>
                    </a:lnTo>
                    <a:lnTo>
                      <a:pt x="30" y="143"/>
                    </a:lnTo>
                    <a:lnTo>
                      <a:pt x="33" y="136"/>
                    </a:lnTo>
                    <a:lnTo>
                      <a:pt x="35" y="131"/>
                    </a:lnTo>
                    <a:lnTo>
                      <a:pt x="34" y="128"/>
                    </a:lnTo>
                    <a:lnTo>
                      <a:pt x="32" y="127"/>
                    </a:lnTo>
                    <a:lnTo>
                      <a:pt x="25" y="122"/>
                    </a:lnTo>
                    <a:lnTo>
                      <a:pt x="21" y="120"/>
                    </a:lnTo>
                    <a:lnTo>
                      <a:pt x="17" y="118"/>
                    </a:lnTo>
                    <a:lnTo>
                      <a:pt x="11" y="114"/>
                    </a:lnTo>
                    <a:lnTo>
                      <a:pt x="6" y="111"/>
                    </a:lnTo>
                    <a:lnTo>
                      <a:pt x="0" y="101"/>
                    </a:lnTo>
                    <a:lnTo>
                      <a:pt x="0" y="97"/>
                    </a:lnTo>
                    <a:lnTo>
                      <a:pt x="5" y="93"/>
                    </a:lnTo>
                    <a:lnTo>
                      <a:pt x="8" y="89"/>
                    </a:lnTo>
                    <a:lnTo>
                      <a:pt x="15" y="81"/>
                    </a:lnTo>
                    <a:lnTo>
                      <a:pt x="15" y="74"/>
                    </a:lnTo>
                    <a:lnTo>
                      <a:pt x="12" y="68"/>
                    </a:lnTo>
                    <a:lnTo>
                      <a:pt x="8" y="62"/>
                    </a:lnTo>
                    <a:lnTo>
                      <a:pt x="4" y="56"/>
                    </a:lnTo>
                    <a:lnTo>
                      <a:pt x="4" y="53"/>
                    </a:lnTo>
                    <a:lnTo>
                      <a:pt x="5" y="50"/>
                    </a:lnTo>
                    <a:lnTo>
                      <a:pt x="9" y="48"/>
                    </a:lnTo>
                    <a:lnTo>
                      <a:pt x="12" y="46"/>
                    </a:lnTo>
                    <a:lnTo>
                      <a:pt x="19" y="43"/>
                    </a:lnTo>
                    <a:lnTo>
                      <a:pt x="26" y="41"/>
                    </a:lnTo>
                    <a:lnTo>
                      <a:pt x="32" y="35"/>
                    </a:lnTo>
                    <a:lnTo>
                      <a:pt x="31" y="30"/>
                    </a:lnTo>
                    <a:lnTo>
                      <a:pt x="28" y="26"/>
                    </a:lnTo>
                    <a:lnTo>
                      <a:pt x="23" y="17"/>
                    </a:lnTo>
                    <a:lnTo>
                      <a:pt x="25" y="13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9" y="5"/>
                    </a:lnTo>
                    <a:lnTo>
                      <a:pt x="56" y="0"/>
                    </a:lnTo>
                    <a:lnTo>
                      <a:pt x="58" y="1"/>
                    </a:lnTo>
                    <a:lnTo>
                      <a:pt x="57" y="3"/>
                    </a:ln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97360" y="2580840"/>
                <a:ext cx="56520" cy="439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7" y="2"/>
                    </a:moveTo>
                    <a:lnTo>
                      <a:pt x="10" y="11"/>
                    </a:lnTo>
                    <a:lnTo>
                      <a:pt x="14" y="18"/>
                    </a:lnTo>
                    <a:lnTo>
                      <a:pt x="19" y="15"/>
                    </a:lnTo>
                    <a:lnTo>
                      <a:pt x="24" y="11"/>
                    </a:lnTo>
                    <a:lnTo>
                      <a:pt x="28" y="7"/>
                    </a:lnTo>
                    <a:lnTo>
                      <a:pt x="33" y="3"/>
                    </a:lnTo>
                    <a:lnTo>
                      <a:pt x="37" y="2"/>
                    </a:lnTo>
                    <a:lnTo>
                      <a:pt x="39" y="3"/>
                    </a:lnTo>
                    <a:lnTo>
                      <a:pt x="40" y="6"/>
                    </a:lnTo>
                    <a:lnTo>
                      <a:pt x="39" y="9"/>
                    </a:lnTo>
                    <a:lnTo>
                      <a:pt x="36" y="12"/>
                    </a:lnTo>
                    <a:lnTo>
                      <a:pt x="33" y="14"/>
                    </a:lnTo>
                    <a:lnTo>
                      <a:pt x="30" y="17"/>
                    </a:lnTo>
                    <a:lnTo>
                      <a:pt x="27" y="19"/>
                    </a:lnTo>
                    <a:lnTo>
                      <a:pt x="24" y="21"/>
                    </a:lnTo>
                    <a:lnTo>
                      <a:pt x="21" y="23"/>
                    </a:lnTo>
                    <a:lnTo>
                      <a:pt x="18" y="25"/>
                    </a:lnTo>
                    <a:lnTo>
                      <a:pt x="15" y="28"/>
                    </a:lnTo>
                    <a:lnTo>
                      <a:pt x="11" y="28"/>
                    </a:lnTo>
                    <a:lnTo>
                      <a:pt x="9" y="26"/>
                    </a:lnTo>
                    <a:lnTo>
                      <a:pt x="4" y="1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667200" y="2383920"/>
                <a:ext cx="138960" cy="240840"/>
              </a:xfrm>
              <a:custGeom>
                <a:avLst/>
                <a:gdLst/>
                <a:ahLst/>
                <a:rect l="l" t="t" r="r" b="b"/>
                <a:pathLst>
                  <a:path w="98" h="152">
                    <a:moveTo>
                      <a:pt x="7" y="130"/>
                    </a:moveTo>
                    <a:lnTo>
                      <a:pt x="13" y="137"/>
                    </a:lnTo>
                    <a:lnTo>
                      <a:pt x="15" y="140"/>
                    </a:lnTo>
                    <a:lnTo>
                      <a:pt x="19" y="142"/>
                    </a:lnTo>
                    <a:lnTo>
                      <a:pt x="24" y="144"/>
                    </a:lnTo>
                    <a:lnTo>
                      <a:pt x="28" y="137"/>
                    </a:lnTo>
                    <a:lnTo>
                      <a:pt x="33" y="130"/>
                    </a:lnTo>
                    <a:lnTo>
                      <a:pt x="36" y="125"/>
                    </a:lnTo>
                    <a:lnTo>
                      <a:pt x="39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8" y="115"/>
                    </a:lnTo>
                    <a:lnTo>
                      <a:pt x="60" y="114"/>
                    </a:lnTo>
                    <a:lnTo>
                      <a:pt x="70" y="113"/>
                    </a:lnTo>
                    <a:lnTo>
                      <a:pt x="67" y="106"/>
                    </a:lnTo>
                    <a:lnTo>
                      <a:pt x="63" y="98"/>
                    </a:lnTo>
                    <a:lnTo>
                      <a:pt x="64" y="93"/>
                    </a:lnTo>
                    <a:lnTo>
                      <a:pt x="67" y="89"/>
                    </a:lnTo>
                    <a:lnTo>
                      <a:pt x="70" y="86"/>
                    </a:lnTo>
                    <a:lnTo>
                      <a:pt x="75" y="84"/>
                    </a:lnTo>
                    <a:lnTo>
                      <a:pt x="80" y="81"/>
                    </a:lnTo>
                    <a:lnTo>
                      <a:pt x="84" y="79"/>
                    </a:lnTo>
                    <a:lnTo>
                      <a:pt x="93" y="72"/>
                    </a:lnTo>
                    <a:lnTo>
                      <a:pt x="93" y="73"/>
                    </a:lnTo>
                    <a:lnTo>
                      <a:pt x="95" y="72"/>
                    </a:lnTo>
                    <a:lnTo>
                      <a:pt x="91" y="69"/>
                    </a:lnTo>
                    <a:lnTo>
                      <a:pt x="86" y="68"/>
                    </a:lnTo>
                    <a:lnTo>
                      <a:pt x="77" y="66"/>
                    </a:lnTo>
                    <a:lnTo>
                      <a:pt x="68" y="63"/>
                    </a:lnTo>
                    <a:lnTo>
                      <a:pt x="62" y="56"/>
                    </a:lnTo>
                    <a:lnTo>
                      <a:pt x="62" y="53"/>
                    </a:lnTo>
                    <a:lnTo>
                      <a:pt x="65" y="50"/>
                    </a:lnTo>
                    <a:lnTo>
                      <a:pt x="68" y="48"/>
                    </a:lnTo>
                    <a:lnTo>
                      <a:pt x="70" y="46"/>
                    </a:lnTo>
                    <a:lnTo>
                      <a:pt x="73" y="43"/>
                    </a:lnTo>
                    <a:lnTo>
                      <a:pt x="76" y="38"/>
                    </a:lnTo>
                    <a:lnTo>
                      <a:pt x="80" y="34"/>
                    </a:lnTo>
                    <a:lnTo>
                      <a:pt x="83" y="30"/>
                    </a:lnTo>
                    <a:lnTo>
                      <a:pt x="52" y="21"/>
                    </a:lnTo>
                    <a:lnTo>
                      <a:pt x="49" y="17"/>
                    </a:lnTo>
                    <a:lnTo>
                      <a:pt x="51" y="12"/>
                    </a:lnTo>
                    <a:lnTo>
                      <a:pt x="54" y="9"/>
                    </a:lnTo>
                    <a:lnTo>
                      <a:pt x="60" y="1"/>
                    </a:lnTo>
                    <a:lnTo>
                      <a:pt x="62" y="0"/>
                    </a:lnTo>
                    <a:lnTo>
                      <a:pt x="63" y="2"/>
                    </a:lnTo>
                    <a:lnTo>
                      <a:pt x="59" y="14"/>
                    </a:lnTo>
                    <a:lnTo>
                      <a:pt x="67" y="17"/>
                    </a:lnTo>
                    <a:lnTo>
                      <a:pt x="74" y="20"/>
                    </a:lnTo>
                    <a:lnTo>
                      <a:pt x="81" y="23"/>
                    </a:lnTo>
                    <a:lnTo>
                      <a:pt x="90" y="25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88" y="34"/>
                    </a:lnTo>
                    <a:lnTo>
                      <a:pt x="84" y="38"/>
                    </a:lnTo>
                    <a:lnTo>
                      <a:pt x="77" y="46"/>
                    </a:lnTo>
                    <a:lnTo>
                      <a:pt x="75" y="48"/>
                    </a:lnTo>
                    <a:lnTo>
                      <a:pt x="72" y="51"/>
                    </a:lnTo>
                    <a:lnTo>
                      <a:pt x="68" y="55"/>
                    </a:lnTo>
                    <a:lnTo>
                      <a:pt x="70" y="58"/>
                    </a:lnTo>
                    <a:lnTo>
                      <a:pt x="73" y="61"/>
                    </a:lnTo>
                    <a:lnTo>
                      <a:pt x="81" y="63"/>
                    </a:lnTo>
                    <a:lnTo>
                      <a:pt x="98" y="69"/>
                    </a:lnTo>
                    <a:lnTo>
                      <a:pt x="97" y="70"/>
                    </a:lnTo>
                    <a:lnTo>
                      <a:pt x="96" y="73"/>
                    </a:lnTo>
                    <a:lnTo>
                      <a:pt x="96" y="74"/>
                    </a:lnTo>
                    <a:lnTo>
                      <a:pt x="92" y="77"/>
                    </a:lnTo>
                    <a:lnTo>
                      <a:pt x="89" y="80"/>
                    </a:lnTo>
                    <a:lnTo>
                      <a:pt x="81" y="84"/>
                    </a:lnTo>
                    <a:lnTo>
                      <a:pt x="75" y="89"/>
                    </a:lnTo>
                    <a:lnTo>
                      <a:pt x="73" y="96"/>
                    </a:lnTo>
                    <a:lnTo>
                      <a:pt x="81" y="118"/>
                    </a:lnTo>
                    <a:lnTo>
                      <a:pt x="80" y="122"/>
                    </a:lnTo>
                    <a:lnTo>
                      <a:pt x="75" y="123"/>
                    </a:lnTo>
                    <a:lnTo>
                      <a:pt x="62" y="120"/>
                    </a:lnTo>
                    <a:lnTo>
                      <a:pt x="49" y="120"/>
                    </a:lnTo>
                    <a:lnTo>
                      <a:pt x="45" y="122"/>
                    </a:lnTo>
                    <a:lnTo>
                      <a:pt x="42" y="125"/>
                    </a:lnTo>
                    <a:lnTo>
                      <a:pt x="38" y="133"/>
                    </a:lnTo>
                    <a:lnTo>
                      <a:pt x="35" y="137"/>
                    </a:lnTo>
                    <a:lnTo>
                      <a:pt x="33" y="141"/>
                    </a:lnTo>
                    <a:lnTo>
                      <a:pt x="30" y="145"/>
                    </a:lnTo>
                    <a:lnTo>
                      <a:pt x="28" y="150"/>
                    </a:lnTo>
                    <a:lnTo>
                      <a:pt x="26" y="152"/>
                    </a:lnTo>
                    <a:lnTo>
                      <a:pt x="23" y="151"/>
                    </a:lnTo>
                    <a:lnTo>
                      <a:pt x="18" y="145"/>
                    </a:lnTo>
                    <a:lnTo>
                      <a:pt x="2" y="136"/>
                    </a:lnTo>
                    <a:lnTo>
                      <a:pt x="0" y="134"/>
                    </a:lnTo>
                    <a:lnTo>
                      <a:pt x="1" y="131"/>
                    </a:lnTo>
                    <a:lnTo>
                      <a:pt x="4" y="129"/>
                    </a:lnTo>
                    <a:lnTo>
                      <a:pt x="7" y="130"/>
                    </a:lnTo>
                    <a:lnTo>
                      <a:pt x="7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588720" y="232812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" y="8"/>
                    </a:moveTo>
                    <a:lnTo>
                      <a:pt x="21" y="17"/>
                    </a:lnTo>
                    <a:lnTo>
                      <a:pt x="26" y="10"/>
                    </a:lnTo>
                    <a:lnTo>
                      <a:pt x="28" y="7"/>
                    </a:lnTo>
                    <a:lnTo>
                      <a:pt x="31" y="5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39" y="3"/>
                    </a:lnTo>
                    <a:lnTo>
                      <a:pt x="33" y="15"/>
                    </a:lnTo>
                    <a:lnTo>
                      <a:pt x="26" y="27"/>
                    </a:lnTo>
                    <a:lnTo>
                      <a:pt x="24" y="28"/>
                    </a:lnTo>
                    <a:lnTo>
                      <a:pt x="22" y="29"/>
                    </a:lnTo>
                    <a:lnTo>
                      <a:pt x="18" y="27"/>
                    </a:lnTo>
                    <a:lnTo>
                      <a:pt x="14" y="22"/>
                    </a:lnTo>
                    <a:lnTo>
                      <a:pt x="10" y="18"/>
                    </a:lnTo>
                    <a:lnTo>
                      <a:pt x="6" y="15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676920" y="2345760"/>
                <a:ext cx="53640" cy="39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" y="1"/>
                    </a:moveTo>
                    <a:lnTo>
                      <a:pt x="7" y="9"/>
                    </a:lnTo>
                    <a:lnTo>
                      <a:pt x="9" y="12"/>
                    </a:lnTo>
                    <a:lnTo>
                      <a:pt x="11" y="15"/>
                    </a:lnTo>
                    <a:lnTo>
                      <a:pt x="17" y="12"/>
                    </a:lnTo>
                    <a:lnTo>
                      <a:pt x="23" y="10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37" y="9"/>
                    </a:lnTo>
                    <a:lnTo>
                      <a:pt x="31" y="12"/>
                    </a:lnTo>
                    <a:lnTo>
                      <a:pt x="25" y="16"/>
                    </a:lnTo>
                    <a:lnTo>
                      <a:pt x="20" y="20"/>
                    </a:lnTo>
                    <a:lnTo>
                      <a:pt x="17" y="22"/>
                    </a:lnTo>
                    <a:lnTo>
                      <a:pt x="14" y="24"/>
                    </a:lnTo>
                    <a:lnTo>
                      <a:pt x="11" y="25"/>
                    </a:lnTo>
                    <a:lnTo>
                      <a:pt x="8" y="24"/>
                    </a:lnTo>
                    <a:lnTo>
                      <a:pt x="4" y="19"/>
                    </a:lnTo>
                    <a:lnTo>
                      <a:pt x="3" y="1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337800" y="2393280"/>
                <a:ext cx="19440" cy="9036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1" y="2"/>
                    </a:moveTo>
                    <a:lnTo>
                      <a:pt x="14" y="21"/>
                    </a:lnTo>
                    <a:lnTo>
                      <a:pt x="13" y="29"/>
                    </a:lnTo>
                    <a:lnTo>
                      <a:pt x="12" y="36"/>
                    </a:lnTo>
                    <a:lnTo>
                      <a:pt x="9" y="43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4" y="21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344640" y="2491920"/>
                <a:ext cx="453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2" y="0"/>
                    </a:moveTo>
                    <a:lnTo>
                      <a:pt x="8" y="2"/>
                    </a:lnTo>
                    <a:lnTo>
                      <a:pt x="14" y="3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2"/>
                    </a:lnTo>
                    <a:lnTo>
                      <a:pt x="32" y="5"/>
                    </a:lnTo>
                    <a:lnTo>
                      <a:pt x="30" y="8"/>
                    </a:lnTo>
                    <a:lnTo>
                      <a:pt x="23" y="10"/>
                    </a:lnTo>
                    <a:lnTo>
                      <a:pt x="16" y="9"/>
                    </a:lnTo>
                    <a:lnTo>
                      <a:pt x="9" y="6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363000" y="240444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" y="1"/>
                    </a:moveTo>
                    <a:lnTo>
                      <a:pt x="15" y="0"/>
                    </a:lnTo>
                    <a:lnTo>
                      <a:pt x="21" y="2"/>
                    </a:lnTo>
                    <a:lnTo>
                      <a:pt x="26" y="5"/>
                    </a:lnTo>
                    <a:lnTo>
                      <a:pt x="29" y="12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22" y="18"/>
                    </a:lnTo>
                    <a:lnTo>
                      <a:pt x="18" y="17"/>
                    </a:lnTo>
                    <a:lnTo>
                      <a:pt x="15" y="16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9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316560" y="240120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" y="0"/>
                    </a:moveTo>
                    <a:lnTo>
                      <a:pt x="11" y="0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4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63000" y="2517120"/>
                <a:ext cx="66600" cy="2664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1" y="13"/>
                    </a:moveTo>
                    <a:lnTo>
                      <a:pt x="24" y="8"/>
                    </a:lnTo>
                    <a:lnTo>
                      <a:pt x="32" y="5"/>
                    </a:lnTo>
                    <a:lnTo>
                      <a:pt x="40" y="1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7" y="5"/>
                    </a:lnTo>
                    <a:lnTo>
                      <a:pt x="45" y="7"/>
                    </a:lnTo>
                    <a:lnTo>
                      <a:pt x="39" y="11"/>
                    </a:lnTo>
                    <a:lnTo>
                      <a:pt x="34" y="13"/>
                    </a:lnTo>
                    <a:lnTo>
                      <a:pt x="28" y="15"/>
                    </a:lnTo>
                    <a:lnTo>
                      <a:pt x="22" y="17"/>
                    </a:lnTo>
                    <a:lnTo>
                      <a:pt x="1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417360" y="2505960"/>
                <a:ext cx="1944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3" y="0"/>
                    </a:moveTo>
                    <a:lnTo>
                      <a:pt x="9" y="3"/>
                    </a:lnTo>
                    <a:lnTo>
                      <a:pt x="12" y="8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7" y="16"/>
                    </a:lnTo>
                    <a:lnTo>
                      <a:pt x="5" y="11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96400" y="2371320"/>
                <a:ext cx="63720" cy="212040"/>
              </a:xfrm>
              <a:custGeom>
                <a:avLst/>
                <a:gdLst/>
                <a:ahLst/>
                <a:rect l="l" t="t" r="r" b="b"/>
                <a:pathLst>
                  <a:path w="45" h="134">
                    <a:moveTo>
                      <a:pt x="9" y="2"/>
                    </a:moveTo>
                    <a:lnTo>
                      <a:pt x="9" y="10"/>
                    </a:lnTo>
                    <a:lnTo>
                      <a:pt x="7" y="17"/>
                    </a:lnTo>
                    <a:lnTo>
                      <a:pt x="6" y="32"/>
                    </a:lnTo>
                    <a:lnTo>
                      <a:pt x="8" y="37"/>
                    </a:lnTo>
                    <a:lnTo>
                      <a:pt x="12" y="42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4" y="64"/>
                    </a:lnTo>
                    <a:lnTo>
                      <a:pt x="16" y="72"/>
                    </a:lnTo>
                    <a:lnTo>
                      <a:pt x="18" y="76"/>
                    </a:lnTo>
                    <a:lnTo>
                      <a:pt x="20" y="79"/>
                    </a:lnTo>
                    <a:lnTo>
                      <a:pt x="25" y="86"/>
                    </a:lnTo>
                    <a:lnTo>
                      <a:pt x="31" y="94"/>
                    </a:lnTo>
                    <a:lnTo>
                      <a:pt x="38" y="108"/>
                    </a:lnTo>
                    <a:lnTo>
                      <a:pt x="41" y="121"/>
                    </a:lnTo>
                    <a:lnTo>
                      <a:pt x="43" y="126"/>
                    </a:lnTo>
                    <a:lnTo>
                      <a:pt x="45" y="132"/>
                    </a:lnTo>
                    <a:lnTo>
                      <a:pt x="45" y="134"/>
                    </a:lnTo>
                    <a:lnTo>
                      <a:pt x="43" y="133"/>
                    </a:lnTo>
                    <a:lnTo>
                      <a:pt x="39" y="128"/>
                    </a:lnTo>
                    <a:lnTo>
                      <a:pt x="35" y="123"/>
                    </a:lnTo>
                    <a:lnTo>
                      <a:pt x="29" y="111"/>
                    </a:lnTo>
                    <a:lnTo>
                      <a:pt x="26" y="105"/>
                    </a:lnTo>
                    <a:lnTo>
                      <a:pt x="23" y="98"/>
                    </a:lnTo>
                    <a:lnTo>
                      <a:pt x="10" y="64"/>
                    </a:lnTo>
                    <a:lnTo>
                      <a:pt x="10" y="51"/>
                    </a:lnTo>
                    <a:lnTo>
                      <a:pt x="6" y="44"/>
                    </a:lnTo>
                    <a:lnTo>
                      <a:pt x="3" y="37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2" y="16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378840" y="2565000"/>
                <a:ext cx="94680" cy="36000"/>
              </a:xfrm>
              <a:custGeom>
                <a:avLst/>
                <a:gdLst/>
                <a:ahLst/>
                <a:rect l="l" t="t" r="r" b="b"/>
                <a:pathLst>
                  <a:path w="67" h="23">
                    <a:moveTo>
                      <a:pt x="1" y="20"/>
                    </a:moveTo>
                    <a:lnTo>
                      <a:pt x="15" y="17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44" y="8"/>
                    </a:lnTo>
                    <a:lnTo>
                      <a:pt x="65" y="0"/>
                    </a:lnTo>
                    <a:lnTo>
                      <a:pt x="67" y="1"/>
                    </a:lnTo>
                    <a:lnTo>
                      <a:pt x="67" y="3"/>
                    </a:lnTo>
                    <a:lnTo>
                      <a:pt x="62" y="7"/>
                    </a:lnTo>
                    <a:lnTo>
                      <a:pt x="58" y="10"/>
                    </a:lnTo>
                    <a:lnTo>
                      <a:pt x="53" y="14"/>
                    </a:lnTo>
                    <a:lnTo>
                      <a:pt x="47" y="17"/>
                    </a:lnTo>
                    <a:lnTo>
                      <a:pt x="32" y="21"/>
                    </a:lnTo>
                    <a:lnTo>
                      <a:pt x="17" y="23"/>
                    </a:lnTo>
                    <a:lnTo>
                      <a:pt x="2" y="23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08720" y="2602800"/>
                <a:ext cx="39600" cy="7128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3" y="0"/>
                    </a:moveTo>
                    <a:lnTo>
                      <a:pt x="8" y="4"/>
                    </a:lnTo>
                    <a:lnTo>
                      <a:pt x="13" y="8"/>
                    </a:lnTo>
                    <a:lnTo>
                      <a:pt x="21" y="17"/>
                    </a:lnTo>
                    <a:lnTo>
                      <a:pt x="26" y="28"/>
                    </a:lnTo>
                    <a:lnTo>
                      <a:pt x="28" y="43"/>
                    </a:lnTo>
                    <a:lnTo>
                      <a:pt x="27" y="45"/>
                    </a:lnTo>
                    <a:lnTo>
                      <a:pt x="25" y="44"/>
                    </a:lnTo>
                    <a:lnTo>
                      <a:pt x="24" y="40"/>
                    </a:lnTo>
                    <a:lnTo>
                      <a:pt x="21" y="37"/>
                    </a:lnTo>
                    <a:lnTo>
                      <a:pt x="17" y="31"/>
                    </a:lnTo>
                    <a:lnTo>
                      <a:pt x="13" y="21"/>
                    </a:lnTo>
                    <a:lnTo>
                      <a:pt x="8" y="11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425640" y="2683800"/>
                <a:ext cx="73440" cy="25200"/>
              </a:xfrm>
              <a:custGeom>
                <a:avLst/>
                <a:gdLst/>
                <a:ahLst/>
                <a:rect l="l" t="t" r="r" b="b"/>
                <a:pathLst>
                  <a:path w="52" h="16">
                    <a:moveTo>
                      <a:pt x="2" y="0"/>
                    </a:moveTo>
                    <a:lnTo>
                      <a:pt x="18" y="5"/>
                    </a:lnTo>
                    <a:lnTo>
                      <a:pt x="35" y="7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1" y="5"/>
                    </a:lnTo>
                    <a:lnTo>
                      <a:pt x="47" y="7"/>
                    </a:lnTo>
                    <a:lnTo>
                      <a:pt x="43" y="10"/>
                    </a:lnTo>
                    <a:lnTo>
                      <a:pt x="38" y="12"/>
                    </a:lnTo>
                    <a:lnTo>
                      <a:pt x="34" y="14"/>
                    </a:lnTo>
                    <a:lnTo>
                      <a:pt x="25" y="16"/>
                    </a:lnTo>
                    <a:lnTo>
                      <a:pt x="15" y="16"/>
                    </a:lnTo>
                    <a:lnTo>
                      <a:pt x="11" y="13"/>
                    </a:lnTo>
                    <a:lnTo>
                      <a:pt x="8" y="9"/>
                    </a:lnTo>
                    <a:lnTo>
                      <a:pt x="5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73080" y="2612520"/>
                <a:ext cx="49320" cy="756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4" y="3"/>
                    </a:moveTo>
                    <a:lnTo>
                      <a:pt x="29" y="8"/>
                    </a:lnTo>
                    <a:lnTo>
                      <a:pt x="28" y="14"/>
                    </a:lnTo>
                    <a:lnTo>
                      <a:pt x="27" y="20"/>
                    </a:lnTo>
                    <a:lnTo>
                      <a:pt x="24" y="27"/>
                    </a:lnTo>
                    <a:lnTo>
                      <a:pt x="20" y="33"/>
                    </a:lnTo>
                    <a:lnTo>
                      <a:pt x="17" y="36"/>
                    </a:lnTo>
                    <a:lnTo>
                      <a:pt x="14" y="38"/>
                    </a:lnTo>
                    <a:lnTo>
                      <a:pt x="11" y="40"/>
                    </a:lnTo>
                    <a:lnTo>
                      <a:pt x="9" y="42"/>
                    </a:lnTo>
                    <a:lnTo>
                      <a:pt x="6" y="45"/>
                    </a:lnTo>
                    <a:lnTo>
                      <a:pt x="3" y="48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5" y="40"/>
                    </a:lnTo>
                    <a:lnTo>
                      <a:pt x="10" y="35"/>
                    </a:lnTo>
                    <a:lnTo>
                      <a:pt x="13" y="29"/>
                    </a:lnTo>
                    <a:lnTo>
                      <a:pt x="17" y="23"/>
                    </a:lnTo>
                    <a:lnTo>
                      <a:pt x="23" y="10"/>
                    </a:lnTo>
                    <a:lnTo>
                      <a:pt x="27" y="5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372000" y="2694960"/>
                <a:ext cx="56520" cy="123480"/>
              </a:xfrm>
              <a:custGeom>
                <a:avLst/>
                <a:gdLst/>
                <a:ahLst/>
                <a:rect l="l" t="t" r="r" b="b"/>
                <a:pathLst>
                  <a:path w="40" h="78">
                    <a:moveTo>
                      <a:pt x="2" y="1"/>
                    </a:moveTo>
                    <a:lnTo>
                      <a:pt x="19" y="0"/>
                    </a:lnTo>
                    <a:lnTo>
                      <a:pt x="27" y="2"/>
                    </a:lnTo>
                    <a:lnTo>
                      <a:pt x="33" y="7"/>
                    </a:lnTo>
                    <a:lnTo>
                      <a:pt x="35" y="24"/>
                    </a:lnTo>
                    <a:lnTo>
                      <a:pt x="35" y="41"/>
                    </a:lnTo>
                    <a:lnTo>
                      <a:pt x="40" y="77"/>
                    </a:lnTo>
                    <a:lnTo>
                      <a:pt x="39" y="78"/>
                    </a:lnTo>
                    <a:lnTo>
                      <a:pt x="37" y="77"/>
                    </a:lnTo>
                    <a:lnTo>
                      <a:pt x="35" y="68"/>
                    </a:lnTo>
                    <a:lnTo>
                      <a:pt x="32" y="59"/>
                    </a:lnTo>
                    <a:lnTo>
                      <a:pt x="28" y="42"/>
                    </a:lnTo>
                    <a:lnTo>
                      <a:pt x="27" y="10"/>
                    </a:lnTo>
                    <a:lnTo>
                      <a:pt x="24" y="8"/>
                    </a:lnTo>
                    <a:lnTo>
                      <a:pt x="22" y="6"/>
                    </a:lnTo>
                    <a:lnTo>
                      <a:pt x="16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24200" y="2650680"/>
                <a:ext cx="16920" cy="132840"/>
              </a:xfrm>
              <a:custGeom>
                <a:avLst/>
                <a:gdLst/>
                <a:ahLst/>
                <a:rect l="l" t="t" r="r" b="b"/>
                <a:pathLst>
                  <a:path w="12" h="84">
                    <a:moveTo>
                      <a:pt x="10" y="2"/>
                    </a:moveTo>
                    <a:lnTo>
                      <a:pt x="9" y="13"/>
                    </a:lnTo>
                    <a:lnTo>
                      <a:pt x="8" y="16"/>
                    </a:lnTo>
                    <a:lnTo>
                      <a:pt x="8" y="28"/>
                    </a:lnTo>
                    <a:lnTo>
                      <a:pt x="10" y="40"/>
                    </a:lnTo>
                    <a:lnTo>
                      <a:pt x="12" y="61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3"/>
                    </a:lnTo>
                    <a:lnTo>
                      <a:pt x="8" y="62"/>
                    </a:lnTo>
                    <a:lnTo>
                      <a:pt x="5" y="40"/>
                    </a:lnTo>
                    <a:lnTo>
                      <a:pt x="4" y="34"/>
                    </a:lnTo>
                    <a:lnTo>
                      <a:pt x="1" y="28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432840" y="2677680"/>
                <a:ext cx="72360" cy="14400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2"/>
                    </a:moveTo>
                    <a:lnTo>
                      <a:pt x="46" y="14"/>
                    </a:lnTo>
                    <a:lnTo>
                      <a:pt x="41" y="25"/>
                    </a:lnTo>
                    <a:lnTo>
                      <a:pt x="39" y="30"/>
                    </a:lnTo>
                    <a:lnTo>
                      <a:pt x="37" y="35"/>
                    </a:lnTo>
                    <a:lnTo>
                      <a:pt x="34" y="41"/>
                    </a:lnTo>
                    <a:lnTo>
                      <a:pt x="31" y="47"/>
                    </a:lnTo>
                    <a:lnTo>
                      <a:pt x="24" y="59"/>
                    </a:lnTo>
                    <a:lnTo>
                      <a:pt x="21" y="64"/>
                    </a:lnTo>
                    <a:lnTo>
                      <a:pt x="19" y="67"/>
                    </a:lnTo>
                    <a:lnTo>
                      <a:pt x="16" y="71"/>
                    </a:lnTo>
                    <a:lnTo>
                      <a:pt x="14" y="75"/>
                    </a:lnTo>
                    <a:lnTo>
                      <a:pt x="8" y="82"/>
                    </a:lnTo>
                    <a:lnTo>
                      <a:pt x="3" y="90"/>
                    </a:lnTo>
                    <a:lnTo>
                      <a:pt x="1" y="91"/>
                    </a:lnTo>
                    <a:lnTo>
                      <a:pt x="0" y="89"/>
                    </a:lnTo>
                    <a:lnTo>
                      <a:pt x="4" y="80"/>
                    </a:lnTo>
                    <a:lnTo>
                      <a:pt x="8" y="72"/>
                    </a:lnTo>
                    <a:lnTo>
                      <a:pt x="11" y="63"/>
                    </a:lnTo>
                    <a:lnTo>
                      <a:pt x="15" y="54"/>
                    </a:lnTo>
                    <a:lnTo>
                      <a:pt x="22" y="42"/>
                    </a:lnTo>
                    <a:lnTo>
                      <a:pt x="25" y="36"/>
                    </a:lnTo>
                    <a:lnTo>
                      <a:pt x="29" y="31"/>
                    </a:lnTo>
                    <a:lnTo>
                      <a:pt x="32" y="26"/>
                    </a:lnTo>
                    <a:lnTo>
                      <a:pt x="35" y="21"/>
                    </a:lnTo>
                    <a:lnTo>
                      <a:pt x="38" y="17"/>
                    </a:lnTo>
                    <a:lnTo>
                      <a:pt x="42" y="12"/>
                    </a:lnTo>
                    <a:lnTo>
                      <a:pt x="45" y="6"/>
                    </a:lnTo>
                    <a:lnTo>
                      <a:pt x="48" y="1"/>
                    </a:lnTo>
                    <a:lnTo>
                      <a:pt x="50" y="0"/>
                    </a:lnTo>
                    <a:lnTo>
                      <a:pt x="51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66680" y="2309400"/>
                <a:ext cx="101880" cy="174240"/>
              </a:xfrm>
              <a:custGeom>
                <a:avLst/>
                <a:gdLst/>
                <a:ahLst/>
                <a:rect l="l" t="t" r="r" b="b"/>
                <a:pathLst>
                  <a:path w="72" h="110">
                    <a:moveTo>
                      <a:pt x="70" y="3"/>
                    </a:moveTo>
                    <a:lnTo>
                      <a:pt x="63" y="5"/>
                    </a:lnTo>
                    <a:lnTo>
                      <a:pt x="56" y="8"/>
                    </a:lnTo>
                    <a:lnTo>
                      <a:pt x="50" y="13"/>
                    </a:lnTo>
                    <a:lnTo>
                      <a:pt x="47" y="15"/>
                    </a:lnTo>
                    <a:lnTo>
                      <a:pt x="43" y="18"/>
                    </a:lnTo>
                    <a:lnTo>
                      <a:pt x="36" y="23"/>
                    </a:lnTo>
                    <a:lnTo>
                      <a:pt x="33" y="25"/>
                    </a:lnTo>
                    <a:lnTo>
                      <a:pt x="31" y="28"/>
                    </a:lnTo>
                    <a:lnTo>
                      <a:pt x="26" y="34"/>
                    </a:lnTo>
                    <a:lnTo>
                      <a:pt x="22" y="40"/>
                    </a:lnTo>
                    <a:lnTo>
                      <a:pt x="19" y="47"/>
                    </a:lnTo>
                    <a:lnTo>
                      <a:pt x="16" y="54"/>
                    </a:lnTo>
                    <a:lnTo>
                      <a:pt x="13" y="62"/>
                    </a:lnTo>
                    <a:lnTo>
                      <a:pt x="10" y="70"/>
                    </a:lnTo>
                    <a:lnTo>
                      <a:pt x="5" y="108"/>
                    </a:lnTo>
                    <a:lnTo>
                      <a:pt x="4" y="110"/>
                    </a:lnTo>
                    <a:lnTo>
                      <a:pt x="2" y="109"/>
                    </a:lnTo>
                    <a:lnTo>
                      <a:pt x="0" y="67"/>
                    </a:lnTo>
                    <a:lnTo>
                      <a:pt x="4" y="58"/>
                    </a:lnTo>
                    <a:lnTo>
                      <a:pt x="7" y="50"/>
                    </a:lnTo>
                    <a:lnTo>
                      <a:pt x="10" y="42"/>
                    </a:lnTo>
                    <a:lnTo>
                      <a:pt x="14" y="34"/>
                    </a:lnTo>
                    <a:lnTo>
                      <a:pt x="16" y="31"/>
                    </a:lnTo>
                    <a:lnTo>
                      <a:pt x="18" y="27"/>
                    </a:lnTo>
                    <a:lnTo>
                      <a:pt x="21" y="24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30" y="15"/>
                    </a:lnTo>
                    <a:lnTo>
                      <a:pt x="33" y="12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5" y="5"/>
                    </a:lnTo>
                    <a:lnTo>
                      <a:pt x="53" y="2"/>
                    </a:lnTo>
                    <a:lnTo>
                      <a:pt x="70" y="0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0" y="3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432840" y="2271240"/>
                <a:ext cx="82080" cy="6624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2" y="0"/>
                    </a:moveTo>
                    <a:lnTo>
                      <a:pt x="16" y="4"/>
                    </a:lnTo>
                    <a:lnTo>
                      <a:pt x="22" y="7"/>
                    </a:lnTo>
                    <a:lnTo>
                      <a:pt x="27" y="11"/>
                    </a:lnTo>
                    <a:lnTo>
                      <a:pt x="32" y="15"/>
                    </a:lnTo>
                    <a:lnTo>
                      <a:pt x="37" y="19"/>
                    </a:lnTo>
                    <a:lnTo>
                      <a:pt x="39" y="22"/>
                    </a:lnTo>
                    <a:lnTo>
                      <a:pt x="42" y="24"/>
                    </a:lnTo>
                    <a:lnTo>
                      <a:pt x="44" y="27"/>
                    </a:lnTo>
                    <a:lnTo>
                      <a:pt x="47" y="29"/>
                    </a:lnTo>
                    <a:lnTo>
                      <a:pt x="52" y="35"/>
                    </a:lnTo>
                    <a:lnTo>
                      <a:pt x="54" y="37"/>
                    </a:lnTo>
                    <a:lnTo>
                      <a:pt x="57" y="39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40" y="38"/>
                    </a:lnTo>
                    <a:lnTo>
                      <a:pt x="35" y="33"/>
                    </a:lnTo>
                    <a:lnTo>
                      <a:pt x="31" y="27"/>
                    </a:lnTo>
                    <a:lnTo>
                      <a:pt x="27" y="22"/>
                    </a:lnTo>
                    <a:lnTo>
                      <a:pt x="23" y="17"/>
                    </a:lnTo>
                    <a:lnTo>
                      <a:pt x="19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5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343200" y="2322000"/>
                <a:ext cx="4536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2" y="0"/>
                    </a:moveTo>
                    <a:lnTo>
                      <a:pt x="17" y="5"/>
                    </a:lnTo>
                    <a:lnTo>
                      <a:pt x="22" y="12"/>
                    </a:lnTo>
                    <a:lnTo>
                      <a:pt x="27" y="17"/>
                    </a:lnTo>
                    <a:lnTo>
                      <a:pt x="29" y="19"/>
                    </a:lnTo>
                    <a:lnTo>
                      <a:pt x="32" y="21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16" y="19"/>
                    </a:lnTo>
                    <a:lnTo>
                      <a:pt x="10" y="12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30280" y="2393280"/>
                <a:ext cx="30960" cy="7452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4" y="0"/>
                    </a:moveTo>
                    <a:lnTo>
                      <a:pt x="10" y="5"/>
                    </a:lnTo>
                    <a:lnTo>
                      <a:pt x="17" y="11"/>
                    </a:lnTo>
                    <a:lnTo>
                      <a:pt x="21" y="20"/>
                    </a:lnTo>
                    <a:lnTo>
                      <a:pt x="22" y="29"/>
                    </a:lnTo>
                    <a:lnTo>
                      <a:pt x="21" y="39"/>
                    </a:lnTo>
                    <a:lnTo>
                      <a:pt x="17" y="43"/>
                    </a:lnTo>
                    <a:lnTo>
                      <a:pt x="12" y="44"/>
                    </a:lnTo>
                    <a:lnTo>
                      <a:pt x="2" y="47"/>
                    </a:lnTo>
                    <a:lnTo>
                      <a:pt x="0" y="45"/>
                    </a:lnTo>
                    <a:lnTo>
                      <a:pt x="1" y="43"/>
                    </a:lnTo>
                    <a:lnTo>
                      <a:pt x="8" y="41"/>
                    </a:lnTo>
                    <a:lnTo>
                      <a:pt x="14" y="36"/>
                    </a:lnTo>
                    <a:lnTo>
                      <a:pt x="16" y="20"/>
                    </a:lnTo>
                    <a:lnTo>
                      <a:pt x="13" y="13"/>
                    </a:lnTo>
                    <a:lnTo>
                      <a:pt x="11" y="10"/>
                    </a:lnTo>
                    <a:lnTo>
                      <a:pt x="8" y="8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2040840" y="5143320"/>
              <a:ext cx="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149560" y="514332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% mejora reten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316840" y="211284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66cc"/>
                  </a:solidFill>
                  <a:latin typeface="Arial"/>
                </a:rPr>
                <a:t>METAS PARA R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00360" y="2274840"/>
              <a:ext cx="731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400360" y="2066760"/>
              <a:ext cx="731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16840" y="211284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66cc"/>
                  </a:solidFill>
                  <a:latin typeface="Arial"/>
                </a:rPr>
                <a:t>METAS PARA R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00360" y="2274840"/>
              <a:ext cx="731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00360" y="2066760"/>
              <a:ext cx="731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4642200" y="2331720"/>
              <a:ext cx="1440" cy="568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43640" y="2331720"/>
              <a:ext cx="1080" cy="5713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5600" y="2331720"/>
              <a:ext cx="1440" cy="5713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298880" y="1858680"/>
              <a:ext cx="31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e proponen incluir metas para sucursal 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08240" y="2041200"/>
              <a:ext cx="29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áreas centrales con impacto en su RV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D422-E454-4F56-BE39-DD4178A553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04560" y="299880"/>
            <a:ext cx="754380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ASIMISMO, SE MONITOREA EL CUMPLIMIENTO DE LAS LEYES RELACIONADAS CON DEFENSA AL CONSUMIDOR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60200" y="1181160"/>
            <a:ext cx="8691840" cy="5059440"/>
          </a:xfrm>
          <a:prstGeom prst="roundRect">
            <a:avLst>
              <a:gd name="adj" fmla="val 2824"/>
            </a:avLst>
          </a:prstGeom>
          <a:gradFill rotWithShape="0">
            <a:gsLst>
              <a:gs pos="0">
                <a:srgbClr val="fff5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TVBodyText_ID_2311183"/>
          <p:cNvSpPr/>
          <p:nvPr/>
        </p:nvSpPr>
        <p:spPr>
          <a:xfrm>
            <a:off x="1924200" y="1362240"/>
            <a:ext cx="6769080" cy="876240"/>
          </a:xfrm>
          <a:prstGeom prst="rect">
            <a:avLst/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ey de Defensa al Consumidor (Ley Nro. 26.631 y 24.240) a nivel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TVBodyText_ID_2311183"/>
          <p:cNvSpPr/>
          <p:nvPr/>
        </p:nvSpPr>
        <p:spPr>
          <a:xfrm>
            <a:off x="1924200" y="2314440"/>
            <a:ext cx="6769080" cy="876600"/>
          </a:xfrm>
          <a:prstGeom prst="rect">
            <a:avLst/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ódigo de Buenas Prácticas Banc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TVBodyText_ID_2311183"/>
          <p:cNvSpPr/>
          <p:nvPr/>
        </p:nvSpPr>
        <p:spPr>
          <a:xfrm>
            <a:off x="1905120" y="3276720"/>
            <a:ext cx="6769080" cy="876240"/>
          </a:xfrm>
          <a:prstGeom prst="rect">
            <a:avLst/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eyes de Defensa al Consumidor de la Ciudad de Buenos Aires (Leyes Nro. 2695, 2696, 2709, 2817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TVBodyText_ID_2311183"/>
          <p:cNvSpPr/>
          <p:nvPr/>
        </p:nvSpPr>
        <p:spPr>
          <a:xfrm>
            <a:off x="1924200" y="4221000"/>
            <a:ext cx="6769080" cy="876600"/>
          </a:xfrm>
          <a:prstGeom prst="rect">
            <a:avLst/>
          </a:prstGeom>
          <a:gradFill rotWithShape="0">
            <a:gsLst>
              <a:gs pos="0">
                <a:srgbClr val="e1e5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unicaciones BC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7200" y="4191120"/>
            <a:ext cx="144792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cf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1476360" cy="87012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pic>
        <p:nvPicPr>
          <p:cNvPr id="1189" name="" descr=""/>
          <p:cNvPicPr/>
          <p:nvPr/>
        </p:nvPicPr>
        <p:blipFill>
          <a:blip r:embed="rId3"/>
          <a:srcRect l="0" t="7794" r="0" b="2902"/>
          <a:stretch/>
        </p:blipFill>
        <p:spPr>
          <a:xfrm>
            <a:off x="457200" y="2286000"/>
            <a:ext cx="1476360" cy="87012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pic>
        <p:nvPicPr>
          <p:cNvPr id="1190" name="" descr=""/>
          <p:cNvPicPr/>
          <p:nvPr/>
        </p:nvPicPr>
        <p:blipFill>
          <a:blip r:embed="rId4"/>
          <a:stretch/>
        </p:blipFill>
        <p:spPr>
          <a:xfrm>
            <a:off x="457200" y="3276720"/>
            <a:ext cx="1476360" cy="869760"/>
          </a:xfrm>
          <a:prstGeom prst="rect">
            <a:avLst/>
          </a:prstGeom>
          <a:ln w="9360">
            <a:solidFill>
              <a:srgbClr val="ffcfa3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EE3B-9C31-4063-A10E-7467E0DC1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8:31:02Z</dcterms:created>
  <dc:creator>Corporate</dc:creator>
  <dc:description>Version 1.1</dc:description>
  <cp:keywords>Message Universal Template A4</cp:keywords>
  <dc:language>en-US</dc:language>
  <cp:lastModifiedBy>José Pagés</cp:lastModifiedBy>
  <cp:lastPrinted>2007-03-20T20:29:37Z</cp:lastPrinted>
  <dcterms:modified xsi:type="dcterms:W3CDTF">2008-11-10T12:19:17Z</dcterms:modified>
  <cp:revision>524</cp:revision>
  <dc:subject/>
  <dc:title>Definiendo el Modelo de Actuación Regional de Ita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>Buenos Aires, 18 de Abril de 2007</vt:lpwstr>
  </property>
  <property fmtid="{D5CDD505-2E9C-101B-9397-08002B2CF9AE}" pid="3" name="DocID">
    <vt:lpwstr/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Event">
    <vt:lpwstr/>
  </property>
  <property fmtid="{D5CDD505-2E9C-101B-9397-08002B2CF9AE}" pid="8" name="Final">
    <vt:bool>1</vt:bool>
  </property>
  <property fmtid="{D5CDD505-2E9C-101B-9397-08002B2CF9AE}" pid="9" name="McKPaperSize">
    <vt:lpwstr>A4</vt:lpwstr>
  </property>
  <property fmtid="{D5CDD505-2E9C-101B-9397-08002B2CF9AE}" pid="10" name="NotesPageLayout">
    <vt:lpwstr>Message</vt:lpwstr>
  </property>
  <property fmtid="{D5CDD505-2E9C-101B-9397-08002B2CF9AE}" pid="11" name="Title">
    <vt:lpwstr>Definiendo el Modelo de Actuación Regional de Itaú</vt:lpwstr>
  </property>
  <property fmtid="{D5CDD505-2E9C-101B-9397-08002B2CF9AE}" pid="12" name="Universal Objects">
    <vt:bool>1</vt:bool>
  </property>
  <property fmtid="{D5CDD505-2E9C-101B-9397-08002B2CF9AE}" pid="13" name="_AdHocReviewCycleID">
    <vt:r8>-1101729674</vt:r8>
  </property>
  <property fmtid="{D5CDD505-2E9C-101B-9397-08002B2CF9AE}" pid="14" name="_AuthorEmail">
    <vt:lpwstr>juan-carlos.aquique@itau.com.ar</vt:lpwstr>
  </property>
  <property fmtid="{D5CDD505-2E9C-101B-9397-08002B2CF9AE}" pid="15" name="_AuthorEmailDisplayName">
    <vt:lpwstr>Juan Carlos Aquique</vt:lpwstr>
  </property>
  <property fmtid="{D5CDD505-2E9C-101B-9397-08002B2CF9AE}" pid="16" name="_EmailSubject">
    <vt:lpwstr>Ultima versión Presentación I Bienal de Management</vt:lpwstr>
  </property>
  <property fmtid="{D5CDD505-2E9C-101B-9397-08002B2CF9AE}" pid="17" name="_PreviousAdHocReviewCycleID">
    <vt:r8>709791880</vt:r8>
  </property>
  <property fmtid="{D5CDD505-2E9C-101B-9397-08002B2CF9AE}" pid="18" name="_ReviewingToolsShownOnce">
    <vt:lpwstr/>
  </property>
</Properties>
</file>