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spcBef>
                <a:spcPts val="1349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56AC-A745-474C-8E96-6CBC73EAA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FECB-5C81-4E86-989D-97B294DBD980}" type="slidenum">
              <a:rPr b="1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A675-FD71-4415-9791-1CF0F385FE6F}" type="slidenum">
              <a:rPr b="1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0560-81B0-4297-9224-75E43B1E1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39480" y="260280"/>
            <a:ext cx="8483400" cy="61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2600" y="1308240"/>
            <a:ext cx="83962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2600" y="3924720"/>
            <a:ext cx="83962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4762-A702-483E-960F-DAFE8C35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39480" y="260280"/>
            <a:ext cx="8483400" cy="61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2600" y="1308240"/>
            <a:ext cx="409716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308240"/>
            <a:ext cx="409716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2600" y="3924720"/>
            <a:ext cx="409716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24720"/>
            <a:ext cx="409716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54BE-C5E2-461E-990D-E9704BF8D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39480" y="260280"/>
            <a:ext cx="8483400" cy="61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2600" y="1308240"/>
            <a:ext cx="27032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1560" y="1308240"/>
            <a:ext cx="27032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0160" y="1308240"/>
            <a:ext cx="27032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2600" y="3924720"/>
            <a:ext cx="27032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1560" y="3924720"/>
            <a:ext cx="27032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0160" y="3924720"/>
            <a:ext cx="27032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D290-2D76-49FF-9E0E-8012C6DBF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D4AE2-724E-45C2-A47A-4CDE651C92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9480" y="260280"/>
            <a:ext cx="8483400" cy="61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72600" y="1308240"/>
            <a:ext cx="839628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6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7F2DA-6451-4920-A6A5-2177A5DA3D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9480" y="260280"/>
            <a:ext cx="8483400" cy="61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72600" y="1308240"/>
            <a:ext cx="839628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D1D9A-7F32-478F-9D08-396524E1C5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39480" y="260280"/>
            <a:ext cx="8483400" cy="61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72600" y="1308240"/>
            <a:ext cx="409716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960" y="1308240"/>
            <a:ext cx="409716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FEF10-32E7-4E96-A5F7-BF073772C5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9480" y="260280"/>
            <a:ext cx="8483400" cy="61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50105-6712-4F4C-9835-D69FC74623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39480" y="260280"/>
            <a:ext cx="848340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6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83E5A-F0B5-46D6-845B-D5BF429823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9480" y="260280"/>
            <a:ext cx="8483400" cy="61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72600" y="1308240"/>
            <a:ext cx="409716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960" y="1308240"/>
            <a:ext cx="409716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72600" y="3924720"/>
            <a:ext cx="409716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FB8AA-70DF-4C42-8C28-450C238653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39480" y="260280"/>
            <a:ext cx="8483400" cy="61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2600" y="1308240"/>
            <a:ext cx="839628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6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DC71-4AB1-4FA6-91DE-31EFE5F6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39480" y="260280"/>
            <a:ext cx="8483400" cy="61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72600" y="1308240"/>
            <a:ext cx="409716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960" y="1308240"/>
            <a:ext cx="409716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960" y="3924720"/>
            <a:ext cx="409716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EA9330-6BD6-4049-BB8A-F8C92C0BA3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39480" y="260280"/>
            <a:ext cx="8483400" cy="61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2600" y="1308240"/>
            <a:ext cx="409716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960" y="1308240"/>
            <a:ext cx="409716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72600" y="3924720"/>
            <a:ext cx="83962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EF5D4-CBBD-4FFB-9257-F372DADB12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39480" y="260280"/>
            <a:ext cx="8483400" cy="61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2600" y="1308240"/>
            <a:ext cx="83962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2600" y="3924720"/>
            <a:ext cx="83962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674CC-CD07-4970-86A2-7CCED9F110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39480" y="260280"/>
            <a:ext cx="8483400" cy="61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2600" y="1308240"/>
            <a:ext cx="409716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960" y="1308240"/>
            <a:ext cx="409716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72600" y="3924720"/>
            <a:ext cx="409716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960" y="3924720"/>
            <a:ext cx="409716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D5C7F-2480-4AE4-8E31-7D65E5F305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39480" y="260280"/>
            <a:ext cx="8483400" cy="61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72600" y="1308240"/>
            <a:ext cx="27032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1560" y="1308240"/>
            <a:ext cx="27032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0160" y="1308240"/>
            <a:ext cx="27032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72600" y="3924720"/>
            <a:ext cx="27032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1560" y="3924720"/>
            <a:ext cx="27032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0160" y="3924720"/>
            <a:ext cx="27032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06A923-1DEB-49CD-ACE7-CDBCF26C4C4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76CF1-6FED-4B53-B0FD-293AFDB5BD5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39480" y="260280"/>
            <a:ext cx="8483400" cy="61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72600" y="1308240"/>
            <a:ext cx="839628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6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5D90-E8EA-4D1F-BA41-9B5D911E109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39480" y="260280"/>
            <a:ext cx="8483400" cy="61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72600" y="1308240"/>
            <a:ext cx="839628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71E9-E702-4BC9-8B97-1AD15EFEEF4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39480" y="260280"/>
            <a:ext cx="8483400" cy="61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72600" y="1308240"/>
            <a:ext cx="409716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308240"/>
            <a:ext cx="409716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FD4C-B983-4086-9494-C02AD035DF0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39480" y="260280"/>
            <a:ext cx="8483400" cy="61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B295-0C20-4128-8550-3EEE857414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39480" y="260280"/>
            <a:ext cx="8483400" cy="61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2600" y="1308240"/>
            <a:ext cx="839628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692C-BB27-4A9C-AB81-566E3751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39480" y="260280"/>
            <a:ext cx="848340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6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08EB-9EED-4410-BBB1-A06EC9BDA55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39480" y="260280"/>
            <a:ext cx="8483400" cy="61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72600" y="1308240"/>
            <a:ext cx="409716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960" y="1308240"/>
            <a:ext cx="409716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72600" y="3924720"/>
            <a:ext cx="409716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BB9C-FEA9-4985-86F4-3D0AC91AD0B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9480" y="260280"/>
            <a:ext cx="8483400" cy="61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72600" y="1308240"/>
            <a:ext cx="409716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960" y="1308240"/>
            <a:ext cx="409716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960" y="3924720"/>
            <a:ext cx="409716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1246-3333-4D4A-897D-35F9D78AEE3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9480" y="260280"/>
            <a:ext cx="8483400" cy="61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72600" y="1308240"/>
            <a:ext cx="409716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960" y="1308240"/>
            <a:ext cx="409716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72600" y="3924720"/>
            <a:ext cx="83962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603D-4A61-47AD-A386-34E0E24344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39480" y="260280"/>
            <a:ext cx="8483400" cy="61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72600" y="1308240"/>
            <a:ext cx="83962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72600" y="3924720"/>
            <a:ext cx="83962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065F1-A954-4DBC-BAEE-8359D681031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39480" y="260280"/>
            <a:ext cx="8483400" cy="61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72600" y="1308240"/>
            <a:ext cx="409716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960" y="1308240"/>
            <a:ext cx="409716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72600" y="3924720"/>
            <a:ext cx="409716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960" y="3924720"/>
            <a:ext cx="409716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0AD9-2419-42BF-9F91-56B0B6D2DAB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39480" y="260280"/>
            <a:ext cx="8483400" cy="61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2600" y="1308240"/>
            <a:ext cx="27032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11560" y="1308240"/>
            <a:ext cx="27032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50160" y="1308240"/>
            <a:ext cx="27032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72600" y="3924720"/>
            <a:ext cx="27032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11560" y="3924720"/>
            <a:ext cx="27032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50160" y="3924720"/>
            <a:ext cx="27032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BF06-E688-410D-9373-CAD43634852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9480" y="260280"/>
            <a:ext cx="8483400" cy="61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372600" y="1308240"/>
            <a:ext cx="839628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6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39480" y="260280"/>
            <a:ext cx="8483400" cy="61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72600" y="1308240"/>
            <a:ext cx="839628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39480" y="260280"/>
            <a:ext cx="8483400" cy="61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2600" y="1308240"/>
            <a:ext cx="409716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308240"/>
            <a:ext cx="409716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894C-08A8-4F61-B1A4-5F28A656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39480" y="260280"/>
            <a:ext cx="8483400" cy="61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72600" y="1308240"/>
            <a:ext cx="409716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960" y="1308240"/>
            <a:ext cx="409716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9480" y="260280"/>
            <a:ext cx="8483400" cy="61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39480" y="260280"/>
            <a:ext cx="848340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6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39480" y="260280"/>
            <a:ext cx="8483400" cy="61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72600" y="1308240"/>
            <a:ext cx="409716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960" y="1308240"/>
            <a:ext cx="409716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72600" y="3924720"/>
            <a:ext cx="409716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39480" y="260280"/>
            <a:ext cx="8483400" cy="61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72600" y="1308240"/>
            <a:ext cx="409716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960" y="1308240"/>
            <a:ext cx="409716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960" y="3924720"/>
            <a:ext cx="409716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39480" y="260280"/>
            <a:ext cx="8483400" cy="61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72600" y="1308240"/>
            <a:ext cx="409716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960" y="1308240"/>
            <a:ext cx="409716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72600" y="3924720"/>
            <a:ext cx="83962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39480" y="260280"/>
            <a:ext cx="8483400" cy="61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72600" y="1308240"/>
            <a:ext cx="83962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72600" y="3924720"/>
            <a:ext cx="83962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39480" y="260280"/>
            <a:ext cx="8483400" cy="61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72600" y="1308240"/>
            <a:ext cx="409716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960" y="1308240"/>
            <a:ext cx="409716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72600" y="3924720"/>
            <a:ext cx="409716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960" y="3924720"/>
            <a:ext cx="409716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39480" y="260280"/>
            <a:ext cx="8483400" cy="61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72600" y="1308240"/>
            <a:ext cx="27032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11560" y="1308240"/>
            <a:ext cx="27032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50160" y="1308240"/>
            <a:ext cx="27032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372600" y="3924720"/>
            <a:ext cx="27032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11560" y="3924720"/>
            <a:ext cx="27032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50160" y="3924720"/>
            <a:ext cx="27032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FC966D-6348-402F-B1FD-C5CB5EA73F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39480" y="260280"/>
            <a:ext cx="8483400" cy="61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85C2-B17A-477A-B64F-6F25D956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39480" y="260280"/>
            <a:ext cx="8483400" cy="61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372600" y="1308240"/>
            <a:ext cx="839628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6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E0383F-7E99-48D4-A8BA-CAA82FC1F87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39480" y="260280"/>
            <a:ext cx="8483400" cy="61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72600" y="1308240"/>
            <a:ext cx="839628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3C886C-0BF5-41ED-8C1F-5E50FF2AEB5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39480" y="260280"/>
            <a:ext cx="8483400" cy="61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72600" y="1308240"/>
            <a:ext cx="409716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960" y="1308240"/>
            <a:ext cx="409716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DAEB01-28DF-4665-9B93-BF1814D29BB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39480" y="260280"/>
            <a:ext cx="8483400" cy="61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9F11DE-D700-4BA7-9A00-461F5129EA7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339480" y="260280"/>
            <a:ext cx="848340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6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7542A5-073A-42CE-9786-01375923496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39480" y="260280"/>
            <a:ext cx="8483400" cy="61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72600" y="1308240"/>
            <a:ext cx="409716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960" y="1308240"/>
            <a:ext cx="409716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372600" y="3924720"/>
            <a:ext cx="409716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6E9277-C1C5-4ABB-B23C-97C498D2A0E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39480" y="260280"/>
            <a:ext cx="8483400" cy="61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72600" y="1308240"/>
            <a:ext cx="409716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960" y="1308240"/>
            <a:ext cx="409716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960" y="3924720"/>
            <a:ext cx="409716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C832C9-89EF-462B-A51C-EDB2642D304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39480" y="260280"/>
            <a:ext cx="8483400" cy="61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72600" y="1308240"/>
            <a:ext cx="409716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960" y="1308240"/>
            <a:ext cx="409716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72600" y="3924720"/>
            <a:ext cx="83962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10F8CA-91D6-4C33-9E63-8B3FC93E421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39480" y="260280"/>
            <a:ext cx="8483400" cy="61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72600" y="1308240"/>
            <a:ext cx="83962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72600" y="3924720"/>
            <a:ext cx="83962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E647E9-7FC3-4A8C-8F59-68B6EB508A7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39480" y="260280"/>
            <a:ext cx="8483400" cy="61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72600" y="1308240"/>
            <a:ext cx="409716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960" y="1308240"/>
            <a:ext cx="409716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72600" y="3924720"/>
            <a:ext cx="409716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960" y="3924720"/>
            <a:ext cx="409716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0D63D8-E770-4AB1-9646-EE3EADE9CB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39480" y="260280"/>
            <a:ext cx="848340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6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F910-928D-4267-8E86-6FDA38B1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39480" y="260280"/>
            <a:ext cx="8483400" cy="61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72600" y="1308240"/>
            <a:ext cx="27032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11560" y="1308240"/>
            <a:ext cx="27032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50160" y="1308240"/>
            <a:ext cx="27032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372600" y="3924720"/>
            <a:ext cx="27032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11560" y="3924720"/>
            <a:ext cx="27032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50160" y="3924720"/>
            <a:ext cx="270324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C79D29-904D-43B3-96C7-7B6D6DD98B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39480" y="260280"/>
            <a:ext cx="8483400" cy="61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2600" y="1308240"/>
            <a:ext cx="409716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308240"/>
            <a:ext cx="409716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2600" y="3924720"/>
            <a:ext cx="409716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CE7A-13A2-4674-B5A2-2B3FA994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39480" y="260280"/>
            <a:ext cx="8483400" cy="61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2600" y="1308240"/>
            <a:ext cx="409716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308240"/>
            <a:ext cx="409716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24720"/>
            <a:ext cx="409716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8A43-6FE8-4ADD-B5F9-CED1603E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39480" y="260280"/>
            <a:ext cx="8483400" cy="61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2600" y="1308240"/>
            <a:ext cx="409716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308240"/>
            <a:ext cx="409716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2600" y="3924720"/>
            <a:ext cx="8396280" cy="23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2000"/>
              </a:lnSpc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BED6-1D13-455D-8F48-5AC6917B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56FB-1700-4CBB-975E-2536F28F431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1d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0600" y="37152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spcBef>
                <a:spcPts val="1349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67920" y="1320480"/>
            <a:ext cx="8394840" cy="50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95000"/>
              </a:lnSpc>
              <a:spcBef>
                <a:spcPts val="1049"/>
              </a:spcBef>
              <a:spcAft>
                <a:spcPts val="876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190440">
              <a:lnSpc>
                <a:spcPct val="95000"/>
              </a:lnSpc>
              <a:spcBef>
                <a:spcPts val="1049"/>
              </a:spcBef>
              <a:spcAft>
                <a:spcPts val="876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574560" indent="-190440">
              <a:lnSpc>
                <a:spcPct val="95000"/>
              </a:lnSpc>
              <a:spcBef>
                <a:spcPts val="1049"/>
              </a:spcBef>
              <a:spcAft>
                <a:spcPts val="876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771480" indent="-195120">
              <a:lnSpc>
                <a:spcPct val="95000"/>
              </a:lnSpc>
              <a:spcBef>
                <a:spcPts val="1049"/>
              </a:spcBef>
              <a:spcAft>
                <a:spcPts val="876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960480" indent="-187200">
              <a:lnSpc>
                <a:spcPct val="95000"/>
              </a:lnSpc>
              <a:spcBef>
                <a:spcPts val="1049"/>
              </a:spcBef>
              <a:spcAft>
                <a:spcPts val="876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960480" indent="-187200">
              <a:lnSpc>
                <a:spcPct val="95000"/>
              </a:lnSpc>
              <a:spcBef>
                <a:spcPts val="1049"/>
              </a:spcBef>
              <a:spcAft>
                <a:spcPts val="876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960480" indent="-187200">
              <a:lnSpc>
                <a:spcPct val="95000"/>
              </a:lnSpc>
              <a:spcBef>
                <a:spcPts val="1049"/>
              </a:spcBef>
              <a:spcAft>
                <a:spcPts val="876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106800" y="6523200"/>
            <a:ext cx="5657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Verdana"/>
              </a:rPr>
              <a:t>(c) 2005 Deloitte Touche Tohmatsu. All rights reserve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723600" y="6522840"/>
            <a:ext cx="52434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379440" y="6508080"/>
            <a:ext cx="1905120" cy="1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9D09-FDB8-4A99-ADB8-E0CC97543D82}" type="slidenum">
              <a:rPr b="0" lang="en-GB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39480" y="260280"/>
            <a:ext cx="8483400" cy="61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72600" y="1308240"/>
            <a:ext cx="839628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02000"/>
              </a:lnSpc>
              <a:spcAft>
                <a:spcPts val="638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382680" indent="-190440">
              <a:lnSpc>
                <a:spcPct val="102000"/>
              </a:lnSpc>
              <a:spcAft>
                <a:spcPts val="638"/>
              </a:spcAft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2" marL="574560" indent="-190440">
              <a:lnSpc>
                <a:spcPct val="102000"/>
              </a:lnSpc>
              <a:spcAft>
                <a:spcPts val="638"/>
              </a:spcAft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3" marL="771480" indent="-195120">
              <a:lnSpc>
                <a:spcPct val="102000"/>
              </a:lnSpc>
              <a:spcAft>
                <a:spcPts val="638"/>
              </a:spcAft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4" marL="960480" indent="-187200">
              <a:lnSpc>
                <a:spcPct val="102000"/>
              </a:lnSpc>
              <a:spcAft>
                <a:spcPts val="638"/>
              </a:spcAft>
              <a:buClr>
                <a:srgbClr val="091d5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5" marL="960480" indent="-187200">
              <a:lnSpc>
                <a:spcPct val="102000"/>
              </a:lnSpc>
              <a:spcAft>
                <a:spcPts val="638"/>
              </a:spcAft>
              <a:buClr>
                <a:srgbClr val="091d5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6" marL="960480" indent="-187200">
              <a:lnSpc>
                <a:spcPct val="102000"/>
              </a:lnSpc>
              <a:spcAft>
                <a:spcPts val="638"/>
              </a:spcAft>
              <a:buClr>
                <a:srgbClr val="091d5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6"/>
          </p:nvPr>
        </p:nvSpPr>
        <p:spPr>
          <a:xfrm>
            <a:off x="6552720" y="656892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91d5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07B5-ACE8-4B3D-84CE-5B59CC23F8A9}" type="slidenum">
              <a:rPr b="0" lang="en-GB" sz="1000" spc="-1" strike="noStrike">
                <a:solidFill>
                  <a:srgbClr val="091d5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DEL_Strapline_USR"/>
          <p:cNvPicPr/>
          <p:nvPr/>
        </p:nvPicPr>
        <p:blipFill>
          <a:blip r:embed="rId3"/>
          <a:stretch/>
        </p:blipFill>
        <p:spPr>
          <a:xfrm>
            <a:off x="384120" y="6451560"/>
            <a:ext cx="3971880" cy="2080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0600" y="371520"/>
            <a:ext cx="83916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spcBef>
                <a:spcPts val="1349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367920" y="1320480"/>
            <a:ext cx="8394840" cy="50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95000"/>
              </a:lnSpc>
              <a:spcBef>
                <a:spcPts val="1049"/>
              </a:spcBef>
              <a:spcAft>
                <a:spcPts val="876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190440">
              <a:lnSpc>
                <a:spcPct val="95000"/>
              </a:lnSpc>
              <a:spcBef>
                <a:spcPts val="1049"/>
              </a:spcBef>
              <a:spcAft>
                <a:spcPts val="876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574560" indent="-190440">
              <a:lnSpc>
                <a:spcPct val="95000"/>
              </a:lnSpc>
              <a:spcBef>
                <a:spcPts val="1049"/>
              </a:spcBef>
              <a:spcAft>
                <a:spcPts val="876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771480" indent="-195120">
              <a:lnSpc>
                <a:spcPct val="95000"/>
              </a:lnSpc>
              <a:spcBef>
                <a:spcPts val="1049"/>
              </a:spcBef>
              <a:spcAft>
                <a:spcPts val="876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960480" indent="-187200">
              <a:lnSpc>
                <a:spcPct val="95000"/>
              </a:lnSpc>
              <a:spcBef>
                <a:spcPts val="1049"/>
              </a:spcBef>
              <a:spcAft>
                <a:spcPts val="876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960480" indent="-187200">
              <a:lnSpc>
                <a:spcPct val="95000"/>
              </a:lnSpc>
              <a:spcBef>
                <a:spcPts val="1049"/>
              </a:spcBef>
              <a:spcAft>
                <a:spcPts val="876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960480" indent="-187200">
              <a:lnSpc>
                <a:spcPct val="95000"/>
              </a:lnSpc>
              <a:spcBef>
                <a:spcPts val="1049"/>
              </a:spcBef>
              <a:spcAft>
                <a:spcPts val="876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1060560" y="6599160"/>
            <a:ext cx="484020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8" descr="DEL_COL_SU"/>
          <p:cNvPicPr/>
          <p:nvPr/>
        </p:nvPicPr>
        <p:blipFill>
          <a:blip r:embed="rId2"/>
          <a:stretch/>
        </p:blipFill>
        <p:spPr>
          <a:xfrm>
            <a:off x="115920" y="6597720"/>
            <a:ext cx="1008000" cy="1810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39480" y="260280"/>
            <a:ext cx="8483400" cy="619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372600" y="1308240"/>
            <a:ext cx="8396280" cy="50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02000"/>
              </a:lnSpc>
              <a:spcAft>
                <a:spcPts val="638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1" marL="382680" indent="-190440">
              <a:lnSpc>
                <a:spcPct val="102000"/>
              </a:lnSpc>
              <a:spcAft>
                <a:spcPts val="638"/>
              </a:spcAft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2" marL="574560" indent="-190440">
              <a:lnSpc>
                <a:spcPct val="102000"/>
              </a:lnSpc>
              <a:spcAft>
                <a:spcPts val="638"/>
              </a:spcAft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3" marL="771480" indent="-195120">
              <a:lnSpc>
                <a:spcPct val="102000"/>
              </a:lnSpc>
              <a:spcAft>
                <a:spcPts val="638"/>
              </a:spcAft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4" marL="960480" indent="-187200">
              <a:lnSpc>
                <a:spcPct val="102000"/>
              </a:lnSpc>
              <a:spcAft>
                <a:spcPts val="638"/>
              </a:spcAft>
              <a:buClr>
                <a:srgbClr val="091d5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5" marL="960480" indent="-187200">
              <a:lnSpc>
                <a:spcPct val="102000"/>
              </a:lnSpc>
              <a:spcAft>
                <a:spcPts val="638"/>
              </a:spcAft>
              <a:buClr>
                <a:srgbClr val="091d5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6" marL="960480" indent="-187200">
              <a:lnSpc>
                <a:spcPct val="102000"/>
              </a:lnSpc>
              <a:spcAft>
                <a:spcPts val="638"/>
              </a:spcAft>
              <a:buClr>
                <a:srgbClr val="091d5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7"/>
          </p:nvPr>
        </p:nvSpPr>
        <p:spPr>
          <a:xfrm>
            <a:off x="6552720" y="656892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91d5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E1B2-08DD-4CC9-839C-DA539EFF6CAF}" type="slidenum">
              <a:rPr b="0" lang="en-GB" sz="1000" spc="-1" strike="noStrike">
                <a:solidFill>
                  <a:srgbClr val="091d5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DEL_COL_REV"/>
          <p:cNvPicPr/>
          <p:nvPr/>
        </p:nvPicPr>
        <p:blipFill>
          <a:blip r:embed="rId1"/>
          <a:stretch/>
        </p:blipFill>
        <p:spPr>
          <a:xfrm>
            <a:off x="222120" y="189000"/>
            <a:ext cx="1613160" cy="3236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3"/>
          <p:cNvSpPr/>
          <p:nvPr/>
        </p:nvSpPr>
        <p:spPr>
          <a:xfrm>
            <a:off x="395280" y="1197000"/>
            <a:ext cx="7056360" cy="23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5400" spc="-1" strike="noStrike">
                <a:solidFill>
                  <a:srgbClr val="ffffff"/>
                </a:solidFill>
                <a:latin typeface="Times New Roman"/>
              </a:rPr>
              <a:t>Innovación, Crecimiento y Competitivid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I Bienal de Management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“La agenda de los líder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395280" y="5267160"/>
            <a:ext cx="539892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55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Alberto Lev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Verdana"/>
              </a:rPr>
              <a:t>Director de Consultoría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Verdana"/>
              </a:rPr>
              <a:t>Innovation &amp; Grow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Verdana"/>
              </a:rPr>
              <a:t>Deloitte Latin Ame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VersionPreferencial-conPlaca"/>
          <p:cNvPicPr/>
          <p:nvPr/>
        </p:nvPicPr>
        <p:blipFill>
          <a:blip r:embed="rId2"/>
          <a:srcRect l="9607" t="9992" r="8661" b="10193"/>
          <a:stretch/>
        </p:blipFill>
        <p:spPr>
          <a:xfrm>
            <a:off x="428760" y="4000680"/>
            <a:ext cx="12142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5"/>
          <p:cNvSpPr/>
          <p:nvPr/>
        </p:nvSpPr>
        <p:spPr>
          <a:xfrm>
            <a:off x="355680" y="2668680"/>
            <a:ext cx="860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Concepto de Sostenibi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6"/>
          <p:cNvSpPr/>
          <p:nvPr/>
        </p:nvSpPr>
        <p:spPr>
          <a:xfrm>
            <a:off x="355680" y="1773360"/>
            <a:ext cx="777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CVE vs. RO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a50021"/>
                </a:solidFill>
                <a:latin typeface="Arial"/>
              </a:rPr>
              <a:t>De ROI a CV</a:t>
            </a:r>
            <a:r>
              <a:rPr b="1" lang="es-ES" sz="6000" spc="-1" strike="noStrike" baseline="30000">
                <a:solidFill>
                  <a:srgbClr val="a50021"/>
                </a:solidFill>
                <a:latin typeface="Arial"/>
              </a:rPr>
              <a:t>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8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7"/>
          <p:cNvSpPr/>
          <p:nvPr/>
        </p:nvSpPr>
        <p:spPr>
          <a:xfrm>
            <a:off x="4606920" y="225360"/>
            <a:ext cx="79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8"/>
          <p:cNvSpPr/>
          <p:nvPr/>
        </p:nvSpPr>
        <p:spPr>
          <a:xfrm>
            <a:off x="3348000" y="6613560"/>
            <a:ext cx="2413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www.albertolevyblog.com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0"/>
          <p:cNvSpPr/>
          <p:nvPr/>
        </p:nvSpPr>
        <p:spPr>
          <a:xfrm>
            <a:off x="344520" y="3614760"/>
            <a:ext cx="8604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Innovación y Crecimi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35080" y="115560"/>
            <a:ext cx="8820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a50021"/>
                </a:solidFill>
                <a:latin typeface="Arial"/>
              </a:rPr>
              <a:t>De lo Lineal a lo Sistém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-4680" y="965160"/>
            <a:ext cx="91440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339840" y="1773360"/>
            <a:ext cx="777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Estrategia Corpora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7"/>
          <p:cNvSpPr/>
          <p:nvPr/>
        </p:nvSpPr>
        <p:spPr>
          <a:xfrm>
            <a:off x="339840" y="2668680"/>
            <a:ext cx="7777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Estrategia Competi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0"/>
          <p:cNvSpPr/>
          <p:nvPr/>
        </p:nvSpPr>
        <p:spPr>
          <a:xfrm>
            <a:off x="339840" y="3613320"/>
            <a:ext cx="77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Alineamiento Tras Misión / Vi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1"/>
          <p:cNvSpPr/>
          <p:nvPr/>
        </p:nvSpPr>
        <p:spPr>
          <a:xfrm>
            <a:off x="3348000" y="6613560"/>
            <a:ext cx="2413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www.albertolevyblog.com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a50021"/>
                </a:solidFill>
                <a:latin typeface="Arial"/>
              </a:rPr>
              <a:t>De Micro a Meso / Mac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-3240" y="961920"/>
            <a:ext cx="91440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5"/>
          <p:cNvSpPr/>
          <p:nvPr/>
        </p:nvSpPr>
        <p:spPr>
          <a:xfrm>
            <a:off x="355680" y="2668680"/>
            <a:ext cx="860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Sistemas Territor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6"/>
          <p:cNvSpPr/>
          <p:nvPr/>
        </p:nvSpPr>
        <p:spPr>
          <a:xfrm>
            <a:off x="355680" y="1773360"/>
            <a:ext cx="777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Escena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7"/>
          <p:cNvSpPr/>
          <p:nvPr/>
        </p:nvSpPr>
        <p:spPr>
          <a:xfrm>
            <a:off x="355680" y="4556160"/>
            <a:ext cx="8785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Clu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8"/>
          <p:cNvSpPr/>
          <p:nvPr/>
        </p:nvSpPr>
        <p:spPr>
          <a:xfrm>
            <a:off x="347760" y="5491080"/>
            <a:ext cx="8785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Cadena de Va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9"/>
          <p:cNvSpPr/>
          <p:nvPr/>
        </p:nvSpPr>
        <p:spPr>
          <a:xfrm>
            <a:off x="355680" y="3602160"/>
            <a:ext cx="8785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Análisis de Sect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0"/>
          <p:cNvSpPr/>
          <p:nvPr/>
        </p:nvSpPr>
        <p:spPr>
          <a:xfrm>
            <a:off x="3348000" y="6613560"/>
            <a:ext cx="2413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www.albertolevyblog.com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6"/>
          <p:cNvSpPr/>
          <p:nvPr/>
        </p:nvSpPr>
        <p:spPr>
          <a:xfrm>
            <a:off x="355680" y="2668680"/>
            <a:ext cx="860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Val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600" y="115560"/>
            <a:ext cx="90964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a50021"/>
                </a:solidFill>
                <a:latin typeface="Arial"/>
              </a:rPr>
              <a:t>De DPO a D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8"/>
          <p:cNvSpPr/>
          <p:nvPr/>
        </p:nvSpPr>
        <p:spPr>
          <a:xfrm>
            <a:off x="3240" y="971640"/>
            <a:ext cx="91440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5"/>
          <p:cNvSpPr/>
          <p:nvPr/>
        </p:nvSpPr>
        <p:spPr>
          <a:xfrm>
            <a:off x="355680" y="1773360"/>
            <a:ext cx="777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Intangi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7"/>
          <p:cNvSpPr/>
          <p:nvPr/>
        </p:nvSpPr>
        <p:spPr>
          <a:xfrm>
            <a:off x="355680" y="3613320"/>
            <a:ext cx="8785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Ciencias Cognitiv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8"/>
          <p:cNvSpPr/>
          <p:nvPr/>
        </p:nvSpPr>
        <p:spPr>
          <a:xfrm>
            <a:off x="3348000" y="6613560"/>
            <a:ext cx="2413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www.albertolevyblog.com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0"/>
          <p:cNvSpPr/>
          <p:nvPr/>
        </p:nvSpPr>
        <p:spPr>
          <a:xfrm>
            <a:off x="347760" y="4540320"/>
            <a:ext cx="8785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Epistemolog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6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a50021"/>
                </a:solidFill>
                <a:latin typeface="Arial"/>
              </a:rPr>
              <a:t>De Funciones a Proce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227160" y="2108160"/>
            <a:ext cx="4030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8"/>
          <p:cNvSpPr/>
          <p:nvPr/>
        </p:nvSpPr>
        <p:spPr>
          <a:xfrm>
            <a:off x="3240" y="971640"/>
            <a:ext cx="91440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1979640" y="5373720"/>
            <a:ext cx="40305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7"/>
          <p:cNvSpPr/>
          <p:nvPr/>
        </p:nvSpPr>
        <p:spPr>
          <a:xfrm>
            <a:off x="355680" y="2311560"/>
            <a:ext cx="860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Liga Estratégica, Funciones, Proces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8"/>
          <p:cNvSpPr/>
          <p:nvPr/>
        </p:nvSpPr>
        <p:spPr>
          <a:xfrm>
            <a:off x="355680" y="3255840"/>
            <a:ext cx="8785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Nuevas Formas Organizacionales (SS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2"/>
          <p:cNvSpPr/>
          <p:nvPr/>
        </p:nvSpPr>
        <p:spPr>
          <a:xfrm>
            <a:off x="3348000" y="6613560"/>
            <a:ext cx="2413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www.albertolevyblog.com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6"/>
          <p:cNvSpPr/>
          <p:nvPr/>
        </p:nvSpPr>
        <p:spPr>
          <a:xfrm>
            <a:off x="355680" y="4138560"/>
            <a:ext cx="777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De Organización a Organic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a50021"/>
                </a:solidFill>
                <a:latin typeface="Arial"/>
              </a:rPr>
              <a:t>De Operaciones a Proye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227160" y="2108160"/>
            <a:ext cx="4030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8"/>
          <p:cNvSpPr/>
          <p:nvPr/>
        </p:nvSpPr>
        <p:spPr>
          <a:xfrm>
            <a:off x="3240" y="971640"/>
            <a:ext cx="91440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0"/>
          <p:cNvSpPr/>
          <p:nvPr/>
        </p:nvSpPr>
        <p:spPr>
          <a:xfrm>
            <a:off x="1979640" y="5373720"/>
            <a:ext cx="40305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7"/>
          <p:cNvSpPr/>
          <p:nvPr/>
        </p:nvSpPr>
        <p:spPr>
          <a:xfrm>
            <a:off x="355680" y="2311560"/>
            <a:ext cx="860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Gestión de Proyec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8"/>
          <p:cNvSpPr/>
          <p:nvPr/>
        </p:nvSpPr>
        <p:spPr>
          <a:xfrm>
            <a:off x="355680" y="3255840"/>
            <a:ext cx="8785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Organizaciones Matric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2"/>
          <p:cNvSpPr/>
          <p:nvPr/>
        </p:nvSpPr>
        <p:spPr>
          <a:xfrm>
            <a:off x="3348000" y="6613560"/>
            <a:ext cx="2413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www.albertolevyblog.com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6"/>
          <p:cNvSpPr/>
          <p:nvPr/>
        </p:nvSpPr>
        <p:spPr>
          <a:xfrm>
            <a:off x="355680" y="4138560"/>
            <a:ext cx="777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Project Management Off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Object 2" descr=""/>
          <p:cNvPicPr/>
          <p:nvPr/>
        </p:nvPicPr>
        <p:blipFill>
          <a:blip r:embed="rId1"/>
          <a:stretch/>
        </p:blipFill>
        <p:spPr>
          <a:xfrm>
            <a:off x="2556000" y="2924280"/>
            <a:ext cx="4392360" cy="8539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3"/>
          <p:cNvSpPr/>
          <p:nvPr/>
        </p:nvSpPr>
        <p:spPr>
          <a:xfrm>
            <a:off x="324000" y="5431320"/>
            <a:ext cx="842472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" spc="-1" strike="noStrike">
                <a:solidFill>
                  <a:srgbClr val="000066"/>
                </a:solidFill>
                <a:latin typeface="Verdana"/>
                <a:ea typeface="Times New Roman"/>
              </a:rPr>
              <a:t>Deloitte se refiere a Deloitte Touche Tohmatsu, una asociación suiza, sus firmas miembro, así como a sus respectivas subsidiarias y afiliadas. Como una asociación suiza, ni Deloitte Touche Tohmatsu ni ninguna de sus firmas miembro tienen responsabilidad sobre las acciones u omisiones de las demás. Cada firma miembro es una entidad legal separada e independiente operando bajo los nombres "Deloitte", "Deloitte &amp; Touche", "Deloitte Touche Tohmatsu", o cualquier otro nombre relacionado. Los servicios son provistos por sus firmas miembro, sus subsidiarias o afiliadas y no por la asociación Deloitte Touche Tohmatsu.</a:t>
            </a:r>
            <a:r>
              <a:rPr b="1" lang="es-AR" sz="800" spc="-1" strike="noStrike">
                <a:solidFill>
                  <a:srgbClr val="000066"/>
                </a:solidFill>
                <a:latin typeface="Verdana"/>
                <a:ea typeface="Times New Roman"/>
              </a:rPr>
              <a:t> 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66"/>
                </a:solidFill>
                <a:latin typeface="Verdana"/>
                <a:ea typeface="Times New Roman"/>
              </a:rPr>
              <a:t>	</a:t>
            </a:r>
            <a:r>
              <a:rPr b="0" lang="es-ES" sz="800" spc="-1" strike="noStrike">
                <a:solidFill>
                  <a:srgbClr val="000066"/>
                </a:solidFill>
                <a:latin typeface="Verdana"/>
                <a:ea typeface="Times New Roman"/>
              </a:rPr>
              <a:t>	</a:t>
            </a:r>
            <a:r>
              <a:rPr b="0" lang="es-ES" sz="800" spc="-1" strike="noStrike">
                <a:solidFill>
                  <a:srgbClr val="000066"/>
                </a:solidFill>
                <a:latin typeface="Verdana"/>
                <a:ea typeface="Times New Roman"/>
              </a:rPr>
              <a:t>	</a:t>
            </a:r>
            <a:r>
              <a:rPr b="0" lang="es-ES" sz="800" spc="-1" strike="noStrike">
                <a:solidFill>
                  <a:srgbClr val="000066"/>
                </a:solidFill>
                <a:latin typeface="Verdana"/>
                <a:ea typeface="Times New Roman"/>
              </a:rPr>
              <a:t>                                                                            </a:t>
            </a:r>
            <a:r>
              <a:rPr b="0" lang="es-ES" sz="800" spc="-1" strike="noStrike">
                <a:solidFill>
                  <a:srgbClr val="000066"/>
                </a:solidFill>
                <a:latin typeface="Verdana"/>
                <a:ea typeface="Times New Roman"/>
              </a:rPr>
              <a:t>	</a:t>
            </a:r>
            <a:r>
              <a:rPr b="0" lang="es-ES" sz="800" spc="-1" strike="noStrike">
                <a:solidFill>
                  <a:srgbClr val="000066"/>
                </a:solidFill>
                <a:latin typeface="Verdana"/>
                <a:ea typeface="Times New Roman"/>
              </a:rPr>
              <a:t> </a:t>
            </a:r>
            <a:r>
              <a:rPr b="1" lang="es-ES" sz="1000" spc="-1" strike="noStrike">
                <a:solidFill>
                  <a:srgbClr val="000066"/>
                </a:solidFill>
                <a:latin typeface="Verdana"/>
                <a:ea typeface="Times New Roman"/>
              </a:rPr>
              <a:t>Una Firma Miembro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66"/>
                </a:solidFill>
                <a:latin typeface="Verdana"/>
                <a:ea typeface="Times New Roman"/>
              </a:rPr>
              <a:t>	</a:t>
            </a:r>
            <a:r>
              <a:rPr b="0" lang="es-ES" sz="1000" spc="-1" strike="noStrike">
                <a:solidFill>
                  <a:srgbClr val="000066"/>
                </a:solidFill>
                <a:latin typeface="Verdana"/>
                <a:ea typeface="Times New Roman"/>
              </a:rPr>
              <a:t>	</a:t>
            </a:r>
            <a:r>
              <a:rPr b="0" lang="es-ES" sz="1000" spc="-1" strike="noStrike">
                <a:solidFill>
                  <a:srgbClr val="000066"/>
                </a:solidFill>
                <a:latin typeface="Verdana"/>
                <a:ea typeface="Times New Roman"/>
              </a:rPr>
              <a:t>	</a:t>
            </a:r>
            <a:r>
              <a:rPr b="0" lang="es-ES" sz="1000" spc="-1" strike="noStrike">
                <a:solidFill>
                  <a:srgbClr val="000066"/>
                </a:solidFill>
                <a:latin typeface="Verdana"/>
                <a:ea typeface="Times New Roman"/>
              </a:rPr>
              <a:t>                                                                              </a:t>
            </a:r>
            <a:r>
              <a:rPr b="1" lang="es-ES" sz="1000" spc="-1" strike="noStrike">
                <a:solidFill>
                  <a:srgbClr val="000066"/>
                </a:solidFill>
                <a:latin typeface="Verdana"/>
                <a:ea typeface="Times New Roman"/>
              </a:rPr>
              <a:t>Deloitte Touche Tohmats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7:41:42Z</dcterms:created>
  <dc:creator>Alberto Levy</dc:creator>
  <dc:description/>
  <dc:language>en-US</dc:language>
  <cp:lastModifiedBy>Audio</cp:lastModifiedBy>
  <dcterms:modified xsi:type="dcterms:W3CDTF">2008-11-10T20:48:35Z</dcterms:modified>
  <cp:revision>20</cp:revision>
  <dc:subject/>
  <dc:title>Tendencias</dc:title>
</cp:coreProperties>
</file>