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74D-F71D-4806-8F9C-C62CEBA8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6792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FB2-8A78-441A-ABAF-A9E3EF9D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6DB-F13E-4058-9276-3059C4DF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354-BF46-401E-BDB2-BDB73654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FAAB-1E39-4332-AF5E-3012829E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8710-A8B2-47B4-9EE2-5BF4660A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2901-26E7-457A-8C9C-379B175D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0377-147B-4E64-A9A5-1D454F39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55B5-6872-403B-B081-1625B922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D4EE-7BCC-4059-B052-31CDDC43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B47D-62FE-485B-8E68-92C77D3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B25-292A-4D13-8467-CFF1D14A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5B82-EB9B-441D-B00B-471E2042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54F8-5C4A-4594-833B-5E3CD261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396792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5C79-67B2-4D71-8F9E-B29E6621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3EEA-A337-4D83-9856-FFEDF24D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97DA-2B86-4526-BBA7-216DE03B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A14-C48D-4C06-9F2D-56D20296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9B7-DF83-461B-A9BB-FBD066DC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E5C-4094-416B-A740-8A7D270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730-3432-451F-9F06-C7E6D796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74D-470C-4AED-BB95-4C0FD290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E80-5D7A-4F5C-9FC5-97952939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410-9806-4FC0-9827-494FB08C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040" cy="6173640"/>
            <a:chOff x="0" y="0"/>
            <a:chExt cx="918504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44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8880" y="0"/>
              <a:ext cx="583704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3840" y="0"/>
              <a:ext cx="39312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5FEC-4034-443D-98FA-5D3BCF930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040" cy="6173640"/>
            <a:chOff x="0" y="0"/>
            <a:chExt cx="918504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44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8880" y="0"/>
              <a:ext cx="583704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3840" y="0"/>
              <a:ext cx="39312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05EE-5DDC-4B89-BDC4-618FA52D7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4520" y="1143000"/>
            <a:ext cx="9361440" cy="30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Tahoma"/>
              </a:rPr>
              <a:t>Primer Encuentro de</a:t>
            </a:r>
            <a:br>
              <a:rPr sz="4400"/>
            </a:br>
            <a:r>
              <a:rPr b="1" lang="es-AR" sz="4400" spc="-1" strike="noStrike">
                <a:solidFill>
                  <a:srgbClr val="ffff00"/>
                </a:solidFill>
                <a:latin typeface="Tahoma"/>
              </a:rPr>
              <a:t> Jóvenes Profesionales </a:t>
            </a:r>
            <a:br>
              <a:rPr sz="4400"/>
            </a:br>
            <a:r>
              <a:rPr b="1" lang="es-AR" sz="4400" spc="-1" strike="noStrike">
                <a:solidFill>
                  <a:srgbClr val="ffff00"/>
                </a:solidFill>
                <a:latin typeface="Tahoma"/>
              </a:rPr>
              <a:t>en Ciencias Económicas</a:t>
            </a:r>
            <a:br>
              <a:rPr sz="4400"/>
            </a:br>
            <a:br>
              <a:rPr sz="4000"/>
            </a:br>
            <a:r>
              <a:rPr b="1" lang="es-AR" sz="3200" spc="-1" strike="noStrike">
                <a:solidFill>
                  <a:srgbClr val="ffff00"/>
                </a:solidFill>
                <a:latin typeface="Tahoma"/>
              </a:rPr>
              <a:t>Importancia de la regulación de las profesiones en Ciencias Económicas en el Contexto Internacional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24160" y="4797360"/>
            <a:ext cx="691344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Juan José Fermín del Val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11 de agosto de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Obligaciones de los Organismos Profesionales (SMOs)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3040" y="1641600"/>
            <a:ext cx="83246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Control de cal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Normas internacionales de educ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Normas internacionales de auditoría y otros servicios relacionados emitidas por el IAA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Código de ética de la IFAC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Tahoma"/>
              </a:rPr>
              <a:t>• 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Normas contables internacionales para el sector públic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Sistema disciplinar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Normas internacionales de información financiera (NIIF) emitidas por el IA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066680"/>
            <a:ext cx="8229600" cy="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tores a Nivel Internaciona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1066680"/>
            <a:ext cx="8229600" cy="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2160" y="1484280"/>
            <a:ext cx="3456000" cy="504720"/>
          </a:xfrm>
          <a:prstGeom prst="rect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Regul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2160" y="5373720"/>
            <a:ext cx="3456000" cy="647640"/>
          </a:xfrm>
          <a:prstGeom prst="rect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Órgano de Supervis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del Interés Públ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2160" y="3500280"/>
            <a:ext cx="3456000" cy="865440"/>
          </a:xfrm>
          <a:prstGeom prst="rect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Normas Contables Sector Públ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Normas de Auditoría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Ética y Edu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68880" y="3068640"/>
            <a:ext cx="3529080" cy="720720"/>
          </a:xfrm>
          <a:prstGeom prst="rect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Autoridades de Superv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de los Auditores (AO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68880" y="1628640"/>
            <a:ext cx="3529080" cy="505080"/>
          </a:xfrm>
          <a:prstGeom prst="rect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Normas Contables Sector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2160" y="1989000"/>
            <a:ext cx="3456000" cy="1152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IOS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Comité de Basil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I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68880" y="3789360"/>
            <a:ext cx="3529080" cy="252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PCAOB (U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CPAB (Canadá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CPAAOB (Japó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H3C (Franci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FRC (Reino Uni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2160" y="4365720"/>
            <a:ext cx="3456000" cy="504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IFA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68880" y="2133720"/>
            <a:ext cx="3529080" cy="504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IAS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2160" y="6021360"/>
            <a:ext cx="3456000" cy="504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PIO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649600" y="4869000"/>
            <a:ext cx="0" cy="50472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04920" y="914400"/>
            <a:ext cx="9372600" cy="4495320"/>
            <a:chOff x="304920" y="914400"/>
            <a:chExt cx="9372600" cy="4495320"/>
          </a:xfrm>
        </p:grpSpPr>
        <p:grpSp>
          <p:nvGrpSpPr>
            <p:cNvPr id="96" name=""/>
            <p:cNvGrpSpPr/>
            <p:nvPr/>
          </p:nvGrpSpPr>
          <p:grpSpPr>
            <a:xfrm>
              <a:off x="4419720" y="914400"/>
              <a:ext cx="2514600" cy="1066680"/>
              <a:chOff x="4419720" y="914400"/>
              <a:chExt cx="2514600" cy="1066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00600" y="914400"/>
                <a:ext cx="1752480" cy="10666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720" y="1079280"/>
                <a:ext cx="2514600" cy="83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EMISORE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VALORES PUBLICOS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Y PRIVADOS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838080" y="1599840"/>
              <a:ext cx="1981440" cy="914040"/>
              <a:chOff x="838080" y="1599840"/>
              <a:chExt cx="1981440" cy="914040"/>
            </a:xfrm>
          </p:grpSpPr>
          <p:sp>
            <p:nvSpPr>
              <p:cNvPr id="100" name=""/>
              <p:cNvSpPr/>
              <p:nvPr/>
            </p:nvSpPr>
            <p:spPr>
              <a:xfrm>
                <a:off x="838080" y="1599840"/>
                <a:ext cx="1981440" cy="9140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38080" y="1659960"/>
                <a:ext cx="198144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PROV. DE PRESTAMOS Y CAPITAL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04920" y="3809880"/>
              <a:ext cx="1904760" cy="685440"/>
              <a:chOff x="304920" y="3809880"/>
              <a:chExt cx="1904760" cy="685440"/>
            </a:xfrm>
          </p:grpSpPr>
          <p:sp>
            <p:nvSpPr>
              <p:cNvPr id="103" name=""/>
              <p:cNvSpPr/>
              <p:nvPr/>
            </p:nvSpPr>
            <p:spPr>
              <a:xfrm>
                <a:off x="380880" y="3809880"/>
                <a:ext cx="1752840" cy="685440"/>
              </a:xfrm>
              <a:prstGeom prst="roundRect">
                <a:avLst>
                  <a:gd name="adj" fmla="val 16667"/>
                </a:avLst>
              </a:prstGeom>
              <a:solidFill>
                <a:srgbClr val="006600"/>
              </a:solidFill>
              <a:ln w="93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4920" y="3869640"/>
                <a:ext cx="19047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SECTOR FINANCIERO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838760" y="4952880"/>
              <a:ext cx="1866960" cy="456840"/>
              <a:chOff x="4838760" y="4952880"/>
              <a:chExt cx="1866960" cy="456840"/>
            </a:xfrm>
          </p:grpSpPr>
          <p:sp>
            <p:nvSpPr>
              <p:cNvPr id="106" name=""/>
              <p:cNvSpPr/>
              <p:nvPr/>
            </p:nvSpPr>
            <p:spPr>
              <a:xfrm>
                <a:off x="4876920" y="4952880"/>
                <a:ext cx="1752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3399"/>
              </a:solidFill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38760" y="5028480"/>
                <a:ext cx="18669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INDIVIDUO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7772400" y="2590560"/>
              <a:ext cx="1905120" cy="685440"/>
              <a:chOff x="7772400" y="2590560"/>
              <a:chExt cx="1905120" cy="685440"/>
            </a:xfrm>
          </p:grpSpPr>
          <p:sp>
            <p:nvSpPr>
              <p:cNvPr id="109" name=""/>
              <p:cNvSpPr/>
              <p:nvPr/>
            </p:nvSpPr>
            <p:spPr>
              <a:xfrm>
                <a:off x="7848720" y="2590560"/>
                <a:ext cx="1676160" cy="685440"/>
              </a:xfrm>
              <a:prstGeom prst="roundRect">
                <a:avLst>
                  <a:gd name="adj" fmla="val 16667"/>
                </a:avLst>
              </a:prstGeom>
              <a:solidFill>
                <a:srgbClr val="6600cc"/>
              </a:solidFill>
              <a:ln w="936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772400" y="2626560"/>
                <a:ext cx="190512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GOBIERNO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NACIONAL Y LOCAL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914400" y="915120"/>
            <a:ext cx="8077320" cy="5252760"/>
            <a:chOff x="914400" y="915120"/>
            <a:chExt cx="8077320" cy="5252760"/>
          </a:xfrm>
        </p:grpSpPr>
        <p:grpSp>
          <p:nvGrpSpPr>
            <p:cNvPr id="112" name=""/>
            <p:cNvGrpSpPr/>
            <p:nvPr/>
          </p:nvGrpSpPr>
          <p:grpSpPr>
            <a:xfrm>
              <a:off x="2847240" y="1245600"/>
              <a:ext cx="2184480" cy="887040"/>
              <a:chOff x="2847240" y="1245600"/>
              <a:chExt cx="2184480" cy="887040"/>
            </a:xfrm>
          </p:grpSpPr>
          <p:sp>
            <p:nvSpPr>
              <p:cNvPr id="113" name=""/>
              <p:cNvSpPr/>
              <p:nvPr/>
            </p:nvSpPr>
            <p:spPr>
              <a:xfrm rot="20695200">
                <a:off x="2849400" y="1523520"/>
                <a:ext cx="217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cccc"/>
                    </a:solidFill>
                    <a:latin typeface="Tahoma"/>
                  </a:rPr>
                  <a:t>Inversion de capit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003480" y="1631520"/>
                <a:ext cx="1676520" cy="50112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286000" y="2056680"/>
              <a:ext cx="2514600" cy="2042640"/>
              <a:chOff x="2286000" y="2056680"/>
              <a:chExt cx="2514600" cy="2042640"/>
            </a:xfrm>
          </p:grpSpPr>
          <p:sp>
            <p:nvSpPr>
              <p:cNvPr id="116" name=""/>
              <p:cNvSpPr/>
              <p:nvPr/>
            </p:nvSpPr>
            <p:spPr>
              <a:xfrm rot="19241400">
                <a:off x="2440800" y="2771640"/>
                <a:ext cx="1905120" cy="81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cccc"/>
                    </a:solidFill>
                    <a:latin typeface="Tahoma"/>
                  </a:rPr>
                  <a:t>Depósitos y prim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cccc"/>
                    </a:solidFill>
                    <a:latin typeface="Tahoma"/>
                  </a:rPr>
                  <a:t>financiamient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514600" y="2056680"/>
                <a:ext cx="2286000" cy="184284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2286000" y="2178360"/>
                <a:ext cx="2209680" cy="178236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910240" y="2484720"/>
              <a:ext cx="2175840" cy="2264400"/>
              <a:chOff x="2910240" y="2484720"/>
              <a:chExt cx="2175840" cy="2264400"/>
            </a:xfrm>
          </p:grpSpPr>
          <p:sp>
            <p:nvSpPr>
              <p:cNvPr id="120" name=""/>
              <p:cNvSpPr/>
              <p:nvPr/>
            </p:nvSpPr>
            <p:spPr>
              <a:xfrm rot="2958600">
                <a:off x="4007520" y="3632040"/>
                <a:ext cx="1066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cccc"/>
                    </a:solidFill>
                    <a:latin typeface="Tahoma"/>
                  </a:rPr>
                  <a:t>Ahorro e invers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flipV="1">
                <a:off x="3710520" y="3434400"/>
                <a:ext cx="1124640" cy="131472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910240" y="2484720"/>
                <a:ext cx="253440" cy="29880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715000" y="2056680"/>
              <a:ext cx="307080" cy="2742840"/>
              <a:chOff x="5715000" y="2056680"/>
              <a:chExt cx="307080" cy="274284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5715000" y="2056680"/>
                <a:ext cx="0" cy="274284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5221080" y="3312360"/>
                <a:ext cx="129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cccc"/>
                    </a:solidFill>
                    <a:latin typeface="Tahoma"/>
                  </a:rPr>
                  <a:t>Inversion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399720" y="915120"/>
              <a:ext cx="1992240" cy="1956960"/>
              <a:chOff x="6399720" y="915120"/>
              <a:chExt cx="1992240" cy="1956960"/>
            </a:xfrm>
          </p:grpSpPr>
          <p:sp>
            <p:nvSpPr>
              <p:cNvPr id="127" name=""/>
              <p:cNvSpPr/>
              <p:nvPr/>
            </p:nvSpPr>
            <p:spPr>
              <a:xfrm rot="1272600">
                <a:off x="6619320" y="1142280"/>
                <a:ext cx="1538280" cy="15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cccc"/>
                    </a:solidFill>
                    <a:latin typeface="Tahoma"/>
                  </a:rPr>
                  <a:t>Impuestos y préstamos al gobiern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cccc"/>
                    </a:solidFill>
                    <a:latin typeface="Tahoma"/>
                  </a:rPr>
                  <a:t>Política social y de gast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6678000" y="1782720"/>
                <a:ext cx="1450800" cy="55800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30360" y="1775520"/>
                <a:ext cx="1461600" cy="56304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914400" y="3428640"/>
              <a:ext cx="8077320" cy="2739240"/>
              <a:chOff x="914400" y="3428640"/>
              <a:chExt cx="8077320" cy="2739240"/>
            </a:xfrm>
          </p:grpSpPr>
          <p:sp>
            <p:nvSpPr>
              <p:cNvPr id="131" name=""/>
              <p:cNvSpPr/>
              <p:nvPr/>
            </p:nvSpPr>
            <p:spPr>
              <a:xfrm rot="753600">
                <a:off x="2355480" y="4410720"/>
                <a:ext cx="1920960" cy="156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cccc"/>
                    </a:solidFill>
                    <a:latin typeface="Tahoma"/>
                  </a:rPr>
                  <a:t>Depósitos y prim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cccc"/>
                    </a:solidFill>
                    <a:latin typeface="Tahoma"/>
                  </a:rPr>
                  <a:t>Financiamiento de deud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cccc"/>
                    </a:solidFill>
                    <a:latin typeface="Tahoma"/>
                  </a:rPr>
                  <a:t>Financiamiento de deud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325240" y="4619880"/>
                <a:ext cx="2364840" cy="57888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2216880" y="4488480"/>
                <a:ext cx="2286000" cy="55944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14400" y="3428640"/>
                <a:ext cx="8077320" cy="2666880"/>
              </a:xfrm>
              <a:custGeom>
                <a:avLst/>
                <a:gdLst/>
                <a:ahLst/>
                <a:rect l="l" t="t" r="r" b="b"/>
                <a:pathLst>
                  <a:path w="4704" h="1792">
                    <a:moveTo>
                      <a:pt x="0" y="816"/>
                    </a:moveTo>
                    <a:cubicBezTo>
                      <a:pt x="1000" y="1192"/>
                      <a:pt x="2000" y="1568"/>
                      <a:pt x="2640" y="1680"/>
                    </a:cubicBezTo>
                    <a:cubicBezTo>
                      <a:pt x="3280" y="1792"/>
                      <a:pt x="3496" y="1768"/>
                      <a:pt x="3840" y="1488"/>
                    </a:cubicBezTo>
                    <a:cubicBezTo>
                      <a:pt x="4184" y="1208"/>
                      <a:pt x="4560" y="248"/>
                      <a:pt x="4704" y="0"/>
                    </a:cubicBezTo>
                  </a:path>
                </a:pathLst>
              </a:custGeom>
              <a:noFill/>
              <a:ln w="1908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595920" y="3105360"/>
              <a:ext cx="2164680" cy="2378160"/>
              <a:chOff x="6595920" y="3105360"/>
              <a:chExt cx="2164680" cy="2378160"/>
            </a:xfrm>
          </p:grpSpPr>
          <p:sp>
            <p:nvSpPr>
              <p:cNvPr id="136" name=""/>
              <p:cNvSpPr/>
              <p:nvPr/>
            </p:nvSpPr>
            <p:spPr>
              <a:xfrm rot="18459000">
                <a:off x="6573600" y="3779280"/>
                <a:ext cx="2209320" cy="10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cccc"/>
                    </a:solidFill>
                    <a:latin typeface="Tahoma"/>
                  </a:rPr>
                  <a:t>Pol. Social y de gast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cccc"/>
                    </a:solidFill>
                    <a:latin typeface="Tahoma"/>
                  </a:rPr>
                  <a:t>Impuestos y présta-mos al gobiern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7008840" y="3416760"/>
                <a:ext cx="1270080" cy="159624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6783120" y="3577680"/>
                <a:ext cx="1242000" cy="156024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1222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80880" y="3429000"/>
            <a:ext cx="2971800" cy="2209680"/>
            <a:chOff x="380880" y="3429000"/>
            <a:chExt cx="2971800" cy="2209680"/>
          </a:xfrm>
        </p:grpSpPr>
        <p:sp>
          <p:nvSpPr>
            <p:cNvPr id="141" name=""/>
            <p:cNvSpPr/>
            <p:nvPr/>
          </p:nvSpPr>
          <p:spPr>
            <a:xfrm>
              <a:off x="380880" y="3429000"/>
              <a:ext cx="2971800" cy="2209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0720" y="4784760"/>
              <a:ext cx="23619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ffffff"/>
                  </a:solidFill>
                  <a:latin typeface="Tahoma"/>
                </a:rPr>
                <a:t>Supervisión del sector financiero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04920" y="228600"/>
            <a:ext cx="6705360" cy="6019920"/>
            <a:chOff x="304920" y="228600"/>
            <a:chExt cx="6705360" cy="6019920"/>
          </a:xfrm>
        </p:grpSpPr>
        <p:sp>
          <p:nvSpPr>
            <p:cNvPr id="144" name=""/>
            <p:cNvSpPr/>
            <p:nvPr/>
          </p:nvSpPr>
          <p:spPr>
            <a:xfrm>
              <a:off x="304920" y="228600"/>
              <a:ext cx="6705360" cy="6019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6680" y="533520"/>
              <a:ext cx="3429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ffffff"/>
                  </a:solidFill>
                  <a:latin typeface="Tahoma"/>
                </a:rPr>
                <a:t>Régimen de insolvencia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2117880"/>
              <a:ext cx="1447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ffffff"/>
                  </a:solidFill>
                  <a:latin typeface="Tahoma"/>
                </a:rPr>
                <a:t>Régimen de valore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52880" y="373392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Tahoma"/>
                </a:rPr>
                <a:t>Corporate governa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467480" y="914400"/>
            <a:ext cx="2133720" cy="3505320"/>
            <a:chOff x="7467480" y="914400"/>
            <a:chExt cx="2133720" cy="3505320"/>
          </a:xfrm>
        </p:grpSpPr>
        <p:sp>
          <p:nvSpPr>
            <p:cNvPr id="149" name=""/>
            <p:cNvSpPr/>
            <p:nvPr/>
          </p:nvSpPr>
          <p:spPr>
            <a:xfrm>
              <a:off x="7467480" y="914400"/>
              <a:ext cx="2133720" cy="3505320"/>
            </a:xfrm>
            <a:custGeom>
              <a:avLst/>
              <a:gdLst>
                <a:gd name="textAreaLeft" fmla="*/ 104040 w 2133720"/>
                <a:gd name="textAreaRight" fmla="*/ 2029680 w 2133720"/>
                <a:gd name="textAreaTop" fmla="*/ 104040 h 3505320"/>
                <a:gd name="textAreaBottom" fmla="*/ 3401280 h 3505320"/>
              </a:gdLst>
              <a:ahLst/>
              <a:rect l="textAreaLeft" t="textAreaTop" r="textAreaRight" b="textAreaBottom"/>
              <a:pathLst>
                <a:path w="21600" h="35483">
                  <a:moveTo>
                    <a:pt x="3600" y="0"/>
                  </a:moveTo>
                  <a:arcTo wR="3600" hR="3600" stAng="16200000" swAng="-5400000"/>
                  <a:lnTo>
                    <a:pt x="0" y="31883"/>
                  </a:lnTo>
                  <a:arcTo wR="3600" hR="3600" stAng="10800000" swAng="-5400000"/>
                  <a:lnTo>
                    <a:pt x="18000" y="35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0120" y="990720"/>
              <a:ext cx="182880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Tahoma"/>
                </a:rPr>
                <a:t>Transparencia fiscal y política monetaria y financiera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0120" y="3565440"/>
              <a:ext cx="18288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ffffff"/>
                  </a:solidFill>
                  <a:latin typeface="Tahoma"/>
                </a:rPr>
                <a:t>Diseminación de dat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52280" y="152280"/>
            <a:ext cx="9677520" cy="6553440"/>
            <a:chOff x="152280" y="152280"/>
            <a:chExt cx="9677520" cy="6553440"/>
          </a:xfrm>
        </p:grpSpPr>
        <p:sp>
          <p:nvSpPr>
            <p:cNvPr id="153" name=""/>
            <p:cNvSpPr/>
            <p:nvPr/>
          </p:nvSpPr>
          <p:spPr>
            <a:xfrm>
              <a:off x="7696080" y="472428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Tahoma"/>
                </a:rPr>
                <a:t>Contabilidad y auditorí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8680" y="624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Tahoma"/>
                </a:rPr>
                <a:t>Educación y entren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280" y="152280"/>
              <a:ext cx="9677520" cy="6553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6858000" y="259092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cut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a importancia clave de la información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3040" y="1641600"/>
            <a:ext cx="83246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A mayor calidad e integridad de la información menor el riesgo de tomar malas decisiones y vicever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En el extremo, si no hay información no hay inver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Información adecuada y confiable favorece el volúmen de flujo de capit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El capital “paciente” de largo plazo favorece las inversiones allí donde existan normas de transparencia y revelación apropiadas y ellas sean  efectivamente aplic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066680"/>
            <a:ext cx="8229600" cy="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60520" y="1557360"/>
            <a:ext cx="8713800" cy="865080"/>
          </a:xfrm>
          <a:prstGeom prst="rightArrow">
            <a:avLst>
              <a:gd name="adj1" fmla="val 71657"/>
              <a:gd name="adj2" fmla="val 55960"/>
            </a:avLst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Tahoma"/>
              </a:rPr>
              <a:t>Cadena Informa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1800" y="4508640"/>
            <a:ext cx="4105440" cy="865080"/>
          </a:xfrm>
          <a:prstGeom prst="rightArrow">
            <a:avLst>
              <a:gd name="adj1" fmla="val 58296"/>
              <a:gd name="adj2" fmla="val 38361"/>
            </a:avLst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Tahoma"/>
              </a:rPr>
              <a:t>Emisores de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0160" y="3213000"/>
            <a:ext cx="1081080" cy="6476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Preparador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53600" y="3213000"/>
            <a:ext cx="1081080" cy="6476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Inversor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Accionist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16880" y="3213000"/>
            <a:ext cx="1079280" cy="64764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Inversor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Instituciona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81960" y="3213000"/>
            <a:ext cx="1079280" cy="64764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Medios 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Comunicació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45240" y="3213000"/>
            <a:ext cx="1081080" cy="6476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Analist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8520" y="3213000"/>
            <a:ext cx="1081080" cy="6476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Regulador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73600" y="3213000"/>
            <a:ext cx="1079280" cy="64764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Auditor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36880" y="3213000"/>
            <a:ext cx="1079640" cy="647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Directorio 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Comité 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Auditorí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73240" y="3213000"/>
            <a:ext cx="1008000" cy="6476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Gerenci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36520" y="3213000"/>
            <a:ext cx="1079640" cy="647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Asesor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31800" y="404640"/>
            <a:ext cx="8713800" cy="865440"/>
          </a:xfrm>
          <a:prstGeom prst="rightArrow">
            <a:avLst>
              <a:gd name="adj1" fmla="val 71657"/>
              <a:gd name="adj2" fmla="val 55937"/>
            </a:avLst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Tahoma"/>
              </a:rPr>
              <a:t>Cadena Informa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1440" y="2060640"/>
            <a:ext cx="1081080" cy="6476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Preparador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624880" y="2060640"/>
            <a:ext cx="1081080" cy="6476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Inversor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Accionist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88160" y="2060640"/>
            <a:ext cx="1079640" cy="647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Inversor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Instituciona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53240" y="2060640"/>
            <a:ext cx="1079640" cy="647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Medios 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Comunicació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16520" y="2060640"/>
            <a:ext cx="1081080" cy="6476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Analist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9800" y="2060640"/>
            <a:ext cx="1081440" cy="647640"/>
          </a:xfrm>
          <a:custGeom>
            <a:avLst/>
            <a:gdLst>
              <a:gd name="textAreaLeft" fmla="*/ 0 w 1081440"/>
              <a:gd name="textAreaRight" fmla="*/ 1081800 w 10814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Regulador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44880" y="2060640"/>
            <a:ext cx="1079640" cy="647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Auditor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08160" y="2060640"/>
            <a:ext cx="1079640" cy="647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Directorio 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Comité 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Auditorí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44880" y="2060640"/>
            <a:ext cx="1008000" cy="6476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Gerenci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08160" y="2060640"/>
            <a:ext cx="1079280" cy="64764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Asesor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2880" y="4365720"/>
            <a:ext cx="935280" cy="647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Normas</a:t>
            </a:r>
            <a:r>
              <a:rPr b="1" lang="es-AR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contab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92520" y="4365720"/>
            <a:ext cx="934920" cy="647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Normas 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Gobiern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Corporativ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0520" y="4365720"/>
            <a:ext cx="934920" cy="647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Normas d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Auditorí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8520" y="4365720"/>
            <a:ext cx="934920" cy="647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Norm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24520" y="4365720"/>
            <a:ext cx="935280" cy="647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Norm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16520" y="4365720"/>
            <a:ext cx="935280" cy="647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66"/>
                </a:solidFill>
                <a:latin typeface="Tahoma"/>
              </a:rPr>
              <a:t>Norma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31800" y="2781360"/>
            <a:ext cx="0" cy="1511280"/>
          </a:xfrm>
          <a:prstGeom prst="line">
            <a:avLst/>
          </a:prstGeom>
          <a:ln cap="sq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31800" y="2781360"/>
            <a:ext cx="2592360" cy="1511280"/>
          </a:xfrm>
          <a:prstGeom prst="line">
            <a:avLst/>
          </a:prstGeom>
          <a:ln cap="sq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31800" y="2781360"/>
            <a:ext cx="1873440" cy="1511280"/>
          </a:xfrm>
          <a:prstGeom prst="line">
            <a:avLst/>
          </a:prstGeom>
          <a:ln cap="sq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368520" y="2781360"/>
            <a:ext cx="0" cy="1511280"/>
          </a:xfrm>
          <a:prstGeom prst="line">
            <a:avLst/>
          </a:prstGeom>
          <a:ln cap="sq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305240" y="2781360"/>
            <a:ext cx="0" cy="1511280"/>
          </a:xfrm>
          <a:prstGeom prst="line">
            <a:avLst/>
          </a:prstGeom>
          <a:ln cap="sq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313240" y="2781360"/>
            <a:ext cx="0" cy="1511280"/>
          </a:xfrm>
          <a:prstGeom prst="line">
            <a:avLst/>
          </a:prstGeom>
          <a:ln cap="sq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248520" y="2781360"/>
            <a:ext cx="0" cy="1511280"/>
          </a:xfrm>
          <a:prstGeom prst="line">
            <a:avLst/>
          </a:prstGeom>
          <a:ln cap="sq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184880" y="2781360"/>
            <a:ext cx="0" cy="1511280"/>
          </a:xfrm>
          <a:prstGeom prst="line">
            <a:avLst/>
          </a:prstGeom>
          <a:ln cap="sq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47920" y="3657600"/>
            <a:ext cx="7010280" cy="2514600"/>
          </a:xfrm>
          <a:prstGeom prst="ellipse">
            <a:avLst/>
          </a:prstGeom>
          <a:noFill/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733920" y="533520"/>
            <a:ext cx="2361960" cy="1396800"/>
            <a:chOff x="3733920" y="533520"/>
            <a:chExt cx="2361960" cy="1396800"/>
          </a:xfrm>
        </p:grpSpPr>
        <p:sp>
          <p:nvSpPr>
            <p:cNvPr id="199" name=""/>
            <p:cNvSpPr/>
            <p:nvPr/>
          </p:nvSpPr>
          <p:spPr>
            <a:xfrm>
              <a:off x="3733920" y="533520"/>
              <a:ext cx="2361960" cy="1396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9880" y="762120"/>
              <a:ext cx="2171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00"/>
                  </a:solidFill>
                  <a:latin typeface="Tahoma"/>
                </a:rPr>
                <a:t>INFORMACION ADECUADA Y CONFI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038480" y="5715000"/>
            <a:ext cx="1828800" cy="762120"/>
            <a:chOff x="4038480" y="5715000"/>
            <a:chExt cx="1828800" cy="762120"/>
          </a:xfrm>
        </p:grpSpPr>
        <p:sp>
          <p:nvSpPr>
            <p:cNvPr id="202" name=""/>
            <p:cNvSpPr/>
            <p:nvPr/>
          </p:nvSpPr>
          <p:spPr>
            <a:xfrm>
              <a:off x="4038480" y="571500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38480" y="5791320"/>
              <a:ext cx="1828800" cy="5504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Tahoma"/>
                </a:rPr>
                <a:t>SISTEMA DISCIPLINARI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876920" y="3581280"/>
            <a:ext cx="380880" cy="152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38080" y="419040"/>
            <a:ext cx="8305920" cy="2971800"/>
            <a:chOff x="838080" y="419040"/>
            <a:chExt cx="8305920" cy="2971800"/>
          </a:xfrm>
        </p:grpSpPr>
        <p:sp>
          <p:nvSpPr>
            <p:cNvPr id="206" name=""/>
            <p:cNvSpPr/>
            <p:nvPr/>
          </p:nvSpPr>
          <p:spPr>
            <a:xfrm>
              <a:off x="838080" y="419040"/>
              <a:ext cx="1371600" cy="762120"/>
            </a:xfrm>
            <a:prstGeom prst="roundRect">
              <a:avLst>
                <a:gd name="adj" fmla="val 16667"/>
              </a:avLst>
            </a:prstGeom>
            <a:solidFill>
              <a:srgbClr val="0066ff"/>
            </a:solid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67080" y="2629080"/>
              <a:ext cx="1371600" cy="761760"/>
            </a:xfrm>
            <a:prstGeom prst="roundRect">
              <a:avLst>
                <a:gd name="adj" fmla="val 16667"/>
              </a:avLst>
            </a:prstGeom>
            <a:solidFill>
              <a:srgbClr val="0066ff"/>
            </a:solid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525600"/>
              <a:ext cx="13716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Tahoma"/>
                </a:rPr>
                <a:t>NORMAS CONTABL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7238880" y="419040"/>
              <a:ext cx="1905120" cy="990720"/>
              <a:chOff x="7238880" y="419040"/>
              <a:chExt cx="1905120" cy="990720"/>
            </a:xfrm>
          </p:grpSpPr>
          <p:sp>
            <p:nvSpPr>
              <p:cNvPr id="210" name=""/>
              <p:cNvSpPr/>
              <p:nvPr/>
            </p:nvSpPr>
            <p:spPr>
              <a:xfrm>
                <a:off x="7238880" y="419040"/>
                <a:ext cx="19051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0066ff"/>
              </a:solidFill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315200" y="555480"/>
                <a:ext cx="175248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PRINCIPIOS DE CORPORATE GOVERNANCE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4267080" y="2765520"/>
              <a:ext cx="13716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Tahoma"/>
                </a:rPr>
                <a:t>NORMAS DE AUDITORI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2320" y="914400"/>
              <a:ext cx="1218960" cy="2905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248520" y="984240"/>
              <a:ext cx="838080" cy="2001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952880" y="1981080"/>
              <a:ext cx="0" cy="5335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905120" y="2971440"/>
            <a:ext cx="6476760" cy="2286360"/>
            <a:chOff x="1905120" y="2971440"/>
            <a:chExt cx="6476760" cy="2286360"/>
          </a:xfrm>
        </p:grpSpPr>
        <p:sp>
          <p:nvSpPr>
            <p:cNvPr id="217" name=""/>
            <p:cNvSpPr/>
            <p:nvPr/>
          </p:nvSpPr>
          <p:spPr>
            <a:xfrm>
              <a:off x="6629400" y="3352680"/>
              <a:ext cx="1752480" cy="114300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905120" y="3505320"/>
              <a:ext cx="1447560" cy="761760"/>
              <a:chOff x="1905120" y="3505320"/>
              <a:chExt cx="1447560" cy="761760"/>
            </a:xfrm>
          </p:grpSpPr>
          <p:sp>
            <p:nvSpPr>
              <p:cNvPr id="219" name=""/>
              <p:cNvSpPr/>
              <p:nvPr/>
            </p:nvSpPr>
            <p:spPr>
              <a:xfrm>
                <a:off x="1905120" y="3505320"/>
                <a:ext cx="144756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009900"/>
              </a:solidFill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05120" y="3657600"/>
                <a:ext cx="14475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CONTROL DE CALIDAD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6629400" y="3429000"/>
              <a:ext cx="175248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Tahoma"/>
                </a:rPr>
                <a:t>SISTEMA EDUCATIVO DEL CONTADOR PUBLIC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886200" y="4267080"/>
              <a:ext cx="2133720" cy="990720"/>
              <a:chOff x="3886200" y="4267080"/>
              <a:chExt cx="2133720" cy="990720"/>
            </a:xfrm>
          </p:grpSpPr>
          <p:sp>
            <p:nvSpPr>
              <p:cNvPr id="223" name=""/>
              <p:cNvSpPr/>
              <p:nvPr/>
            </p:nvSpPr>
            <p:spPr>
              <a:xfrm>
                <a:off x="3886200" y="4267080"/>
                <a:ext cx="21337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009900"/>
              </a:solidFill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24360" y="4419720"/>
                <a:ext cx="2057400" cy="77868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NORMAS DE ETICA (INCLUIDO INDEPENDENCIA)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 flipV="1">
              <a:off x="3048120" y="2971800"/>
              <a:ext cx="1066680" cy="3808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5715000" y="2971440"/>
              <a:ext cx="838080" cy="2998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952880" y="3504960"/>
              <a:ext cx="0" cy="6094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cut thruBlk="true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Principales Aspectos Objeto de Regulación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04520" y="1641600"/>
            <a:ext cx="83250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Acceso o entrad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Sistema educa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Código de é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Normas de auditor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Control de calidad del ejercicio profes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Sistema disciplin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Otros aspect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1066680"/>
            <a:ext cx="8229600" cy="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43040" y="152280"/>
            <a:ext cx="842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Otros Aspectos Objeto de Regu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4880" y="1641600"/>
            <a:ext cx="83250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Honor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Formas asociativ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Tahoma"/>
              </a:rPr>
              <a:t>•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Tahoma"/>
              </a:rPr>
              <a:t>Prestación internacional de servi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066680"/>
            <a:ext cx="8229600" cy="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3:48:46Z</dcterms:created>
  <dc:creator>DELOITTE &amp; CO</dc:creator>
  <dc:description/>
  <dc:language>en-US</dc:language>
  <cp:lastModifiedBy>Congresos y Eventos</cp:lastModifiedBy>
  <dcterms:modified xsi:type="dcterms:W3CDTF">2005-08-10T16:26:44Z</dcterms:modified>
  <cp:revision>75</cp:revision>
  <dc:subject/>
  <dc:title>PowerPoint Presentation</dc:title>
</cp:coreProperties>
</file>