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90D-001D-417A-B153-DB6A110A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095-0E01-4AD5-A0C2-3634A1F3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FC3-4341-46F8-840E-A02542F1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2D3-0050-4D9D-8086-FB8FD570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55F-41AB-468F-A28B-BE8A53D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298-C51F-4A28-A716-1FF21088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E0F-0F85-47AA-8AE4-B1BAA2BE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A73-A0A1-4750-BCEE-AB34A0BD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73D-6A90-4A33-A76F-654AF296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AE8-4109-4EBF-8B71-F854C551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5C0-94C4-43AE-92EE-465FA9B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720-8FFA-4F9A-AD6E-1F78FA9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553B-632D-436B-8635-AA93F4AE8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NCUENTRO DE JOVENES PROFESIONALES EN CIENCIAS ECONO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ategia para ser un profesional de alto rend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Carlos María Parzianello y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logo con nuestro invitado el Lic. Pablo Péc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ento de reflex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osición de las síntesis de reflexiones y preguntas al Lic.  Pablo Péc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ento de reflex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120" y="609120"/>
            <a:ext cx="8534520" cy="6248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5345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onente básicos de una 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gradecemos a todos por su participación  y quedamos a su dispos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rientacion_laboral@cpcecf.org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saje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nuevo con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685440"/>
            <a:ext cx="8534520" cy="6172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os profesionales tenemos que asumir los nuevos desafíos de un entorno inestable e impredec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ello estamos en la búsqueda de un mayor rendimiento laboral, tanto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os servicios que prestamos a terc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ograr mejor remuneración y mayor empleabilidad para nosotros mis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reas y tiem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acio abierto acot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enes so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propon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ción de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ificar la importancia de contar con una estrategia para lograr mayor rendimiento profe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onar acerca de la realidad profesional para orientarse mejor al logr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reas y tiem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85800"/>
            <a:ext cx="8458200" cy="6172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ts val="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30 Presentaciones (10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40 Reflexión y Diálogo (20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00 Dialogo con el invitado (20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20 Exposición de conclusiones (30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50 Síntesis (10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ción de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"/>
            <a:ext cx="91440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los 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flexionar sobre una preg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cribir en la hoja entregada por los coordinadores su punto de v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regar al coordinador de pregunta la h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ción de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los coordinadores de preg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regar una hoja por participante y recibirlas con las reflex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eer las reflexiones, agruparlas por similitud y hacer una síntesis, comenzando por las más comu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oner las síntesis y hacer una pregunta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sobre ella al Invit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los coordinares generales (Cristina y Car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mplir y hacer cumplir los objetivos, los tiempos, los roles y las nor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ción de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85800"/>
            <a:ext cx="9144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s comprometemos a respeta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iem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ig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blar uno solo por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tiempo de Reflexión y Diálogo no se permite el ingres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6248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 fontScale="90000"/>
          </a:bodyPr>
          <a:p>
            <a:pPr marL="4798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untas. Sobre el desempeño profe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actitud mas indispensable demostr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al es la habilidad mas importante ten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mi mayor debi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mi mejor fortalez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oportunidad veo en el entor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amenaza que más me preocup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68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ento de reflex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02:43:01Z</dcterms:created>
  <dc:creator>CARLOS</dc:creator>
  <dc:description/>
  <dc:language>en-US</dc:language>
  <cp:lastModifiedBy>Congresos y Eventos</cp:lastModifiedBy>
  <dcterms:modified xsi:type="dcterms:W3CDTF">2005-08-10T20:23:58Z</dcterms:modified>
  <cp:revision>31</cp:revision>
  <dc:subject/>
  <dc:title>Sin título de diapositiva</dc:title>
</cp:coreProperties>
</file>