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4400" y="696600"/>
            <a:ext cx="4657680" cy="34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61F9-38C0-4558-BAAF-62535148F5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56240" cy="3492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6720" y="5689440"/>
            <a:ext cx="4695840" cy="292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SON PREGUNTAS TO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RT 17  NCP DESARROLLO DE CUESTIONES DE APLIACIÓN GENERA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855-99F3-48BC-8559-C87BDA92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7F2-1DC7-40C2-ABEB-70CFB3CF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C66-80BD-4D98-9E0D-14F76173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C5A-279A-4E60-887B-93E5C3BD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48F9-5EF3-4ECC-9321-AAB22D9C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8E8C-3E56-4A09-BC57-E3D10142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7979-23D6-4890-A5C2-6FBD2D9B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C0BE-66E5-4F84-92B2-9AF1A7C7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D66B-1491-4895-86C6-3404D872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76D0-0802-4C99-A328-A066E50E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C063-C8C8-4AAA-8A2E-58D60161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ECC-6DE0-4A55-B60B-B4C2FF5A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EAA2-8ED6-409F-A182-A13DA353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0F7F-09A8-42F2-9BF8-E6BA81D2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AE7D-8AAD-464E-94AC-AE63A71A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DC49-695C-43DF-93FF-8284AAAF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0946-CADE-4DE4-9A46-23DB0F93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056-559E-477D-8DFB-78C6D110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8E2-0D68-4887-B83C-FD8F1507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CC0-CECC-4CC2-B8C9-D250640C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A3F-9513-4EC1-9A52-F93B18B0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F19-140C-4520-B9BE-3BEC7E0A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87F-2F2C-4C3C-96A7-F443EA0E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416-EFD7-4B9C-8B29-6ECF1085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6F92-F039-4644-A80A-FB361244648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A6E5-47B3-4812-B62E-E9D7B86206E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mailto:ebpaille@infovia.com.ar" TargetMode="External"/><Relationship Id="rId3" Type="http://schemas.openxmlformats.org/officeDocument/2006/relationships/hyperlink" Target="mailto:ebpaille@infovia.com.ar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731160"/>
            <a:ext cx="83822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ENCUENTRO DE JÓVENES PROFESIONAL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 CIENCIAS ECONÓMICA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 y 12 de AGOSTO DE 200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ma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T 2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IDAD AGROPECUARIA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4880" y="228600"/>
            <a:ext cx="34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Dr. Eduardo B. A. Pai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DBC-D11E-408E-85E7-6C54B06D90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4968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66ff"/>
                </a:solidFill>
                <a:latin typeface="Arial"/>
                <a:ea typeface="Arial"/>
              </a:rPr>
              <a:t>RT 16 - 4.2.2. </a:t>
            </a:r>
            <a:br>
              <a:rPr sz="4400"/>
            </a:br>
            <a:r>
              <a:rPr b="1" lang="es-ES_tradnl" sz="3200" spc="-1" strike="noStrike">
                <a:solidFill>
                  <a:srgbClr val="6666ff"/>
                </a:solidFill>
                <a:latin typeface="Arial"/>
                <a:ea typeface="Arial"/>
              </a:rPr>
              <a:t>Ingresos, gastos, ganancias y pérdidas.</a:t>
            </a: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n su 2º párrafo textualmente expre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66ff"/>
                </a:solidFill>
                <a:latin typeface="Arial"/>
                <a:ea typeface="Arial"/>
              </a:rPr>
              <a:t>Los ingresos resultan generalmente de ventas de bienes y servicios pero también pueden resultar de actividades internas, </a:t>
            </a:r>
            <a:r>
              <a:rPr b="1" lang="es-ES_tradnl" sz="32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como el crecimiento natural o inducido de determinados activos en una explotación agropecuaria</a:t>
            </a:r>
            <a:r>
              <a:rPr b="1" lang="es-ES_tradnl" sz="3200" spc="-1" strike="noStrike">
                <a:solidFill>
                  <a:srgbClr val="6666ff"/>
                </a:solidFill>
                <a:latin typeface="Arial"/>
                <a:ea typeface="Arial"/>
              </a:rPr>
              <a:t> o la extracción de petróleo o gas en esta indust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FAF-C327-49F4-93E3-7A9F9B641F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CARACTERÍSTICAS B.B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ARACTERÍSTICAS DIFER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RIGEN BI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UTOGENERAN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ICLOS PRO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OMOGENE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MERCIALIZABLES SIN ESFUERZOS SIGNIFIC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ERCADOS AMPL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56D-1CD6-4D71-AB83-BCC2C5B552D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31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MODELO CONTABLE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RT16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33920" cy="419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MONEDA DE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RITERIOS DE MEDICIÓN CO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APITAL A MAN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para que exist</a:t>
            </a: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gana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95600" y="2133720"/>
            <a:ext cx="3848040" cy="4495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OMOGE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DE LOS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STINO+PROB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DE LOS PA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CIÓN y POS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743-4BFE-4024-83F6-39B3701E843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232560"/>
            <a:ext cx="863748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ff"/>
                </a:solidFill>
                <a:latin typeface="Arial"/>
              </a:rPr>
              <a:t>PERÍODOS</a:t>
            </a:r>
            <a:br>
              <a:rPr sz="4400"/>
            </a:b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ONTABLES</a:t>
            </a: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 vs.  </a:t>
            </a:r>
            <a:r>
              <a:rPr b="1" lang="es-MX" sz="3200" spc="-1" strike="noStrike">
                <a:solidFill>
                  <a:srgbClr val="ff0000"/>
                </a:solidFill>
                <a:latin typeface="Arial"/>
              </a:rPr>
              <a:t>VEGETATIVO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I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RIMEST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ENS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Arial"/>
              </a:rPr>
              <a:t>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EN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4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TERMIN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4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20574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02B-1EE8-46AA-B92B-A42A0E9FF37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905120"/>
            <a:ext cx="4572000" cy="19047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VEGETA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981080"/>
            <a:ext cx="4343400" cy="18288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ANIMA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PROCESO CONTINU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593640"/>
            <a:ext cx="685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SITUACIONES AL CIERRE DE ESTADOS CONTABL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876920"/>
            <a:ext cx="1828800" cy="13716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3429000"/>
            <a:ext cx="761760" cy="1600200"/>
          </a:xfrm>
          <a:prstGeom prst="downArrow">
            <a:avLst>
              <a:gd name="adj1" fmla="val 50000"/>
              <a:gd name="adj2" fmla="val 5251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429000"/>
            <a:ext cx="761760" cy="1600200"/>
          </a:xfrm>
          <a:prstGeom prst="downArrow">
            <a:avLst>
              <a:gd name="adj1" fmla="val 50000"/>
              <a:gd name="adj2" fmla="val 5251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3429000"/>
            <a:ext cx="762120" cy="1600200"/>
          </a:xfrm>
          <a:prstGeom prst="downArrow">
            <a:avLst>
              <a:gd name="adj1" fmla="val 50000"/>
              <a:gd name="adj2" fmla="val 5249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952880"/>
            <a:ext cx="2666880" cy="1295640"/>
          </a:xfrm>
          <a:prstGeom prst="flowChartAlternateProcess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C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876920"/>
            <a:ext cx="2666880" cy="1295280"/>
          </a:xfrm>
          <a:prstGeom prst="flowChartAlternateProcess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DESA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4876920"/>
            <a:ext cx="1828800" cy="13716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3429000"/>
            <a:ext cx="762120" cy="1600200"/>
          </a:xfrm>
          <a:prstGeom prst="downArrow">
            <a:avLst>
              <a:gd name="adj1" fmla="val 50000"/>
              <a:gd name="adj2" fmla="val 5249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368-D07C-46AB-A540-595BEE50470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0"/>
            <a:ext cx="5867640" cy="1600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438280"/>
            <a:ext cx="2743200" cy="15242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Times New Roman"/>
              </a:rPr>
              <a:t>NIC 4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2514600"/>
            <a:ext cx="2743200" cy="1523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Times New Roman"/>
              </a:rPr>
              <a:t>RT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914400"/>
            <a:ext cx="990360" cy="2057400"/>
          </a:xfrm>
          <a:custGeom>
            <a:avLst/>
            <a:gdLst>
              <a:gd name="textAreaLeft" fmla="*/ 132480 w 990360"/>
              <a:gd name="textAreaRight" fmla="*/ 857880 w 99036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685800"/>
            <a:ext cx="1295280" cy="25909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962520"/>
            <a:ext cx="533520" cy="1371600"/>
          </a:xfrm>
          <a:prstGeom prst="downArrow">
            <a:avLst>
              <a:gd name="adj1" fmla="val 50000"/>
              <a:gd name="adj2" fmla="val 6427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3886200"/>
            <a:ext cx="533160" cy="1447920"/>
          </a:xfrm>
          <a:prstGeom prst="downArrow">
            <a:avLst>
              <a:gd name="adj1" fmla="val 50000"/>
              <a:gd name="adj2" fmla="val 67893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5257800"/>
            <a:ext cx="2895480" cy="1219320"/>
          </a:xfrm>
          <a:prstGeom prst="hexagon">
            <a:avLst>
              <a:gd name="adj" fmla="val 59367"/>
              <a:gd name="vf" fmla="val 11547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NCP A B.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5334120"/>
            <a:ext cx="2895480" cy="1218960"/>
          </a:xfrm>
          <a:prstGeom prst="hexagon">
            <a:avLst>
              <a:gd name="adj" fmla="val 59384"/>
              <a:gd name="vf" fmla="val 11547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.B. A NCP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267080"/>
            <a:ext cx="220968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ADAP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819160" y="4648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AC8-FD54-4462-A1C8-B7C67365968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71600" y="2437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 OBJETIV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2 ACTIVIDAD AGROPECU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9933"/>
                </a:solidFill>
                <a:latin typeface="Arial"/>
              </a:rPr>
              <a:t>3 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4 AMBITO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66ff"/>
                </a:solidFill>
                <a:latin typeface="Arial"/>
              </a:rPr>
              <a:t>5 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66ff"/>
                </a:solidFill>
                <a:latin typeface="Arial"/>
              </a:rPr>
              <a:t>6 RECONO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7 MEDI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8 EX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960560" y="249840"/>
            <a:ext cx="6649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33cc"/>
                </a:solidFill>
                <a:latin typeface="Arial"/>
              </a:rPr>
              <a:t>RT 22</a:t>
            </a:r>
            <a:br>
              <a:rPr sz="4400"/>
            </a:br>
            <a:r>
              <a:rPr b="0" lang="es-AR" sz="4400" spc="-1" strike="noStrike">
                <a:solidFill>
                  <a:srgbClr val="0033cc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A98-C36A-4419-9D1C-8C31032F571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75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ff"/>
                </a:solidFill>
                <a:latin typeface="Arial"/>
              </a:rPr>
              <a:t>ART. 6° RECONOCIMI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10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S ENTES DESCRIPTOS DEBEN RECONOCER LA EXISTENCIA DE UN ACTIVO BIOLÓGICO O DE UN PRODUCTO AGROPECUARIO SÓLO CUANDO SE HAYAN SATISFECHO  REQUISITO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SECCIÓN 5 de la RT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AP. 4 (ELEMENTOS DE LOS EECC) ver 4.2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AP. 3 punto 3.1.2. (Confiabilidad credibil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SECCIÓN 2.1 DE LA RT 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688-493F-4260-A562-6BF73F845AE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439560"/>
            <a:ext cx="863748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ENFOQUE CONTABLE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ff0066"/>
                </a:solidFill>
                <a:uFillTx/>
                <a:latin typeface="Arial"/>
              </a:rPr>
              <a:t>DESTINADOS A LA V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N MER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IN MER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cc0000"/>
                </a:solidFill>
                <a:uFillTx/>
                <a:latin typeface="Arial"/>
              </a:rPr>
              <a:t>DESTINADOS A FACTOR DE LA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N MER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IN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7EB-7634-4579-A57D-EB38149A130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1828800"/>
            <a:ext cx="3429000" cy="3581280"/>
          </a:xfrm>
          <a:prstGeom prst="irregularSeal2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VEN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539000">
            <a:off x="5334120" y="2057040"/>
            <a:ext cx="3276360" cy="2819520"/>
          </a:xfrm>
          <a:prstGeom prst="flowChartMagneticTap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008-2266-4EA5-98AF-6835DA99554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377640"/>
            <a:ext cx="65530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T 22- Res. MD. 1/2005</a:t>
            </a:r>
            <a:br>
              <a:rPr sz="44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doptada por el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.P.C.E.C.A.B.A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 PUBLICÓ en  B.O. 12/2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UEBA LA SEGUNDA PARTE DE LA RT. 22 de la FAC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S CONTABLES PROFESIONALES: ACTIVIDAD AGROPECU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G. EJ. INIC. 01/06/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988-A1D7-419C-9355-9CE97FC5F22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658800"/>
            <a:ext cx="8637480" cy="825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0000"/>
                </a:solidFill>
                <a:latin typeface="Arial"/>
              </a:rPr>
              <a:t>7 MEDICIÓN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RA LA MEDICIÓN CONTAB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 LOS ACTIVOS BIOLÓGICOS DEBEN EMPLEAR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OS SIGUIENTES CRITERI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62B-8B42-4AE5-82EE-176A074D54B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143000" y="0"/>
          <a:ext cx="71676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0"/>
                    <a:ext cx="7167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A09-897B-48DC-9FE4-4FB44B9ABF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1111320"/>
            <a:ext cx="9223200" cy="46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688-C181-4702-860A-4FA1130B1D1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13320"/>
            <a:ext cx="74674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69696"/>
                </a:solidFill>
                <a:latin typeface="Arial"/>
              </a:rPr>
              <a:t>PRODUCCIÓN </a:t>
            </a:r>
            <a:br>
              <a:rPr sz="4400"/>
            </a:br>
            <a:r>
              <a:rPr b="1" lang="es-ES" sz="3200" spc="-1" strike="noStrike">
                <a:solidFill>
                  <a:srgbClr val="969696"/>
                </a:solidFill>
                <a:latin typeface="Arial"/>
              </a:rPr>
              <a:t>GENERADA POR </a:t>
            </a:r>
            <a:br>
              <a:rPr sz="3200"/>
            </a:br>
            <a:r>
              <a:rPr b="1" lang="es-ES" sz="3200" spc="-1" strike="noStrike">
                <a:solidFill>
                  <a:srgbClr val="969696"/>
                </a:solidFill>
                <a:latin typeface="Arial"/>
              </a:rPr>
              <a:t>ACTIVOS BIOLÓGICO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PRODUCCIÓN SE GENERA EN FORMA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¿CONTINU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PRODUCCIÓN GENERAD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PODRÁ SER DETERMI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 MOMENTO DE SU OCUR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FORMA MEN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ÍODO MAYOR PREDETERMINADO Y EXPLICI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147-89FD-404D-964B-9890B3196FC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-35244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Arial"/>
              </a:rPr>
              <a:t>DADO QUE GENERALMENTE ES CONTINU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U MEDICIÓN PERIÓDICA RESULTA MAS REPRESENTATIVA QUE SI SE EFECTÚA AL CIERRE DEL PERÍODO C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66"/>
                </a:solidFill>
                <a:uFillTx/>
                <a:latin typeface="Arial"/>
              </a:rPr>
              <a:t>¿PORQUÉ? </a:t>
            </a:r>
            <a:r>
              <a:rPr b="1" lang="es-ES" sz="2800" spc="-1" strike="noStrike" u="sng">
                <a:solidFill>
                  <a:srgbClr val="969696"/>
                </a:solidFill>
                <a:uFillTx/>
                <a:latin typeface="Arial"/>
              </a:rPr>
              <a:t>¿ESTACIONALID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66"/>
                </a:solidFill>
                <a:uFillTx/>
                <a:latin typeface="Arial"/>
              </a:rPr>
              <a:t>¿LA PRODUCCIÓN ES IGUAL EN TODAS LAS ESTACI</a:t>
            </a:r>
            <a:r>
              <a:rPr b="1" lang="es-AR" sz="2800" spc="-1" strike="noStrike" u="sng">
                <a:solidFill>
                  <a:srgbClr val="ff0066"/>
                </a:solidFill>
                <a:uFillTx/>
                <a:latin typeface="Arial"/>
              </a:rPr>
              <a:t>O</a:t>
            </a:r>
            <a:r>
              <a:rPr b="1" lang="es-ES" sz="2800" spc="-1" strike="noStrike" u="sng">
                <a:solidFill>
                  <a:srgbClr val="ff0066"/>
                </a:solidFill>
                <a:uFillTx/>
                <a:latin typeface="Arial"/>
              </a:rPr>
              <a:t>NES DEL AÑ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OBSTANTE PODRA ADOPTARSE EL CRITERIO DE PRODUCCIÒN 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FA7-F5AC-442B-88C0-E5C67AEAA83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95280" y="1905120"/>
            <a:ext cx="1371600" cy="3962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A 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C 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T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I 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4191120"/>
            <a:ext cx="685800" cy="1600200"/>
          </a:xfrm>
          <a:prstGeom prst="upArrow">
            <a:avLst>
              <a:gd name="adj1" fmla="val 50000"/>
              <a:gd name="adj2" fmla="val 58333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886200"/>
            <a:ext cx="685800" cy="1905120"/>
          </a:xfrm>
          <a:prstGeom prst="upArrow">
            <a:avLst>
              <a:gd name="adj1" fmla="val 50000"/>
              <a:gd name="adj2" fmla="val 69449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1828800"/>
            <a:ext cx="685800" cy="3962520"/>
          </a:xfrm>
          <a:prstGeom prst="upArrow">
            <a:avLst>
              <a:gd name="adj1" fmla="val 50000"/>
              <a:gd name="adj2" fmla="val 144449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895480"/>
            <a:ext cx="685800" cy="2895840"/>
          </a:xfrm>
          <a:prstGeom prst="upArrow">
            <a:avLst>
              <a:gd name="adj1" fmla="val 50000"/>
              <a:gd name="adj2" fmla="val 105564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1905120"/>
            <a:ext cx="1371600" cy="39621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26708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38862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971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914400"/>
            <a:ext cx="2666880" cy="8380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TRIM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4724280"/>
            <a:ext cx="914400" cy="533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3809880"/>
            <a:ext cx="99072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3124080"/>
            <a:ext cx="838080" cy="6098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2133720"/>
            <a:ext cx="914400" cy="6858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457200"/>
            <a:ext cx="2590920" cy="1371600"/>
          </a:xfrm>
          <a:prstGeom prst="downArrowCallout">
            <a:avLst>
              <a:gd name="adj1" fmla="val 47229"/>
              <a:gd name="adj2" fmla="val 47224"/>
              <a:gd name="adj3" fmla="val 16667"/>
              <a:gd name="adj4" fmla="val 6666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PRODU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=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C18-7C88-4957-AD55-E573735A640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7160" y="567360"/>
            <a:ext cx="86374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cc00"/>
                </a:solidFill>
                <a:latin typeface="Arial"/>
              </a:rPr>
              <a:t>EXPOSICIÓN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339933"/>
                </a:solidFill>
                <a:latin typeface="Arial"/>
              </a:rPr>
              <a:t>ACTIVOS BIOLÓGICO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CLUIDOS OBLIGATORI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3300"/>
                </a:solidFill>
                <a:latin typeface="Arial"/>
              </a:rPr>
              <a:t>BIEN DE CAMB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3300"/>
                </a:solidFill>
                <a:latin typeface="Arial"/>
              </a:rPr>
              <a:t>BIEN DE U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DEF-C043-446D-8F37-D1F157648C8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88560"/>
            <a:ext cx="6858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8.1 EXPOSICIÓN </a:t>
            </a:r>
            <a:br>
              <a:rPr sz="3600"/>
            </a:br>
            <a:r>
              <a:rPr b="1" lang="es-MX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EN ESTADO DE SITUACIÓN PATRIMONIAL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ENES DE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MI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ENE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MI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ICAR P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USO 7.2.2 PORQUE NO 7.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O COSTO DE RE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.1.3. NO USO CONDICIONES M.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E6F-7ED3-40EC-8A6B-1731D025993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-536400"/>
            <a:ext cx="74674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Resultados generados por el cambio de valor de los productos agropecuarios </a:t>
            </a:r>
            <a:r>
              <a:rPr b="1" lang="en-US" sz="3600" spc="-1" strike="noStrike" u="sng">
                <a:solidFill>
                  <a:srgbClr val="969696"/>
                </a:solidFill>
                <a:uFillTx/>
                <a:latin typeface="Arial"/>
              </a:rPr>
              <a:t>SI SON MEDIDO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969696"/>
                </a:solidFill>
                <a:uFillTx/>
                <a:latin typeface="Arial"/>
              </a:rPr>
              <a:t>con posterioridad a su obten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A V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serán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EXPUESTOS</a:t>
            </a:r>
            <a:r>
              <a:rPr b="0" lang="es-AR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 como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resultado por valuación de bienes de cambio</a:t>
            </a:r>
            <a:r>
              <a:rPr b="0" lang="es-AR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 </a:t>
            </a:r>
            <a:r>
              <a:rPr b="1" lang="es-AR" sz="2400" spc="-1" strike="noStrike" u="sng">
                <a:solidFill>
                  <a:srgbClr val="ff0066"/>
                </a:solidFill>
                <a:uFillTx/>
                <a:latin typeface="Arial"/>
                <a:ea typeface="Times New Roman"/>
              </a:rPr>
              <a:t>a V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COSTO RE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án expuestos como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POR TEN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D8B-1595-4932-831E-5A432CBC954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Arial"/>
              </a:rPr>
              <a:t>8.2.1. INGRESO POR PRODUC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OMENTO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UANDO SE LOGRA 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j. SOJA, MAÍZ, TRIGO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CESOS CONTIN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 MOMENTO DE CIERRE DEL PERÍ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j. RODEOS GANAD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CESOS PROLONG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 MOMENTO DE CIERRE DEL PERÍODO SI EL CRITERIO DE MEDICIÓN PERMITE MEDIR EL CRECIMIENTO VEGET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535-842C-4B40-AC73-DDBE31F1D9D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9829800" cy="716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82980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299-34A6-49BF-85E6-3A1AF1DE7A1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927720"/>
            <a:ext cx="7802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Arial"/>
              </a:rPr>
              <a:t>8.2.2. Cont. UBICACIÓN  INGRESOS PRODUC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2932200"/>
            <a:ext cx="820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TERMINA QUE EL INGRESO POR PRODUCCIÓN ES LA PRINCIPAL FUENTE  DEL RESULTADO EN ESTE TIPO DE ENT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NO OBSTA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293-7A42-4385-90EC-AFC70FDA964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29268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66"/>
                </a:solidFill>
                <a:latin typeface="Arial"/>
              </a:rPr>
              <a:t>8.2.2 UBICACIÓN INGRESOS POR PRODUCCIÓ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L RESULTADO NETO SE INCLUIRÁ EN EL CUERPO DEL ESTADO EN UN RUBRO ESPECÍFICO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STO Y BS. Y SERV. PR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DO. POR VALUAR BC. A V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L RESULTADO ESTA CO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VALOR PS. AGROP. OB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VALORIZACIÓN A.B. DURANTE PERI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ESVALORIZACIÓN A.B. DURANTE PERI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STOS TRANSFORMACIÓN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480-5340-4CC4-AEC7-51C832F45F8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560880"/>
            <a:ext cx="746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3300"/>
                </a:solidFill>
                <a:latin typeface="Arial"/>
              </a:rPr>
              <a:t>8.2.2 UBICACIÓN </a:t>
            </a:r>
            <a:br>
              <a:rPr sz="3600"/>
            </a:br>
            <a:r>
              <a:rPr b="1" lang="es-MX" sz="3600" spc="-1" strike="noStrike">
                <a:solidFill>
                  <a:srgbClr val="ff3300"/>
                </a:solidFill>
                <a:latin typeface="Arial"/>
              </a:rPr>
              <a:t>INGRESOS POR PRODUCCIÓ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2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ENTES AGROPEC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2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ER LUGAR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2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DEMAS 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2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producción agropecuaria la incluirán a continuación del Ventas menos Costo de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40C-36C0-437B-B155-19BDD5FF0CA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cc"/>
                </a:solidFill>
                <a:latin typeface="Arial"/>
              </a:rPr>
              <a:t>RESULTADOS POR TENENCI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RESULTADOS POR TENENCIAS SE DIVIDIRAN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S ORIGINADOS COMO CONSECUENCIA DE VALUAR A VALOR NETO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66"/>
                </a:solidFill>
                <a:latin typeface="Arial"/>
              </a:rPr>
              <a:t>SE UBICAN A CONTINUACIÓN DEL RESULTADO BR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S ORIGINADOS COMO CONSECUENCIA DE VALUAR COSTO DE RE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UBICAN  COMO RESULTADOS DE TEN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2BD-4C1C-4B17-AB13-B0BCCD14BA2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ualquier duda o pregunt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 continuación o 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ebpaille</a:t>
            </a:r>
            <a:r>
              <a:rPr b="0" lang="es-ES" sz="40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@infovia.com.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2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69696"/>
                </a:solidFill>
                <a:latin typeface="Arial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5B4-C0E6-4246-8664-44EB035159F2}" type="slidenum">
              <a:t>34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0"/>
          <a:ext cx="9144000" cy="805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05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CFE-C73C-43D5-A5F9-00D1E80A2C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317520"/>
            <a:ext cx="7238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66"/>
                </a:solidFill>
                <a:latin typeface="Arial"/>
              </a:rPr>
              <a:t>ACTIVIDAD AGROPECUAR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5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¿PORQUÉ  RT ESPECÍF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5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or su forma de generar valor (especific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¿CÓMO GENERA VAL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lnSpc>
                <a:spcPct val="1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recimiento vegetativo o bi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51D-FDFF-44ED-9CFB-B581858957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24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 u="sng">
                <a:solidFill>
                  <a:srgbClr val="0000ff"/>
                </a:solidFill>
                <a:uFillTx/>
                <a:latin typeface="Arial"/>
              </a:rPr>
              <a:t>FACTOR GENERERADOR</a:t>
            </a:r>
            <a:br>
              <a:rPr sz="4000"/>
            </a:br>
            <a:r>
              <a:rPr b="0" lang="es-AR" sz="4000" spc="-1" strike="noStrike" u="sng">
                <a:solidFill>
                  <a:srgbClr val="0000ff"/>
                </a:solidFill>
                <a:uFillTx/>
                <a:latin typeface="Arial"/>
              </a:rPr>
              <a:t> DE VALOR EN LA PRODUCCIÓN AGROPECUARI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SUELO +CLIMA+ACTIVOS BIOLÓ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cc33"/>
                </a:solidFill>
                <a:latin typeface="Arial"/>
              </a:rPr>
              <a:t>CRECIMIENTO AUTOGENE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33cc33"/>
                </a:solidFill>
                <a:uFillTx/>
                <a:latin typeface="Comic Sans MS"/>
              </a:rPr>
              <a:t>   </a:t>
            </a:r>
            <a:r>
              <a:rPr b="1" lang="es-AR" sz="4000" spc="-1" strike="noStrike" u="sng">
                <a:solidFill>
                  <a:srgbClr val="ff0066"/>
                </a:solidFill>
                <a:uFillTx/>
                <a:latin typeface="Comic Sans MS"/>
              </a:rPr>
              <a:t>PRODUCCIÓN AGROPECU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A69-E9A8-4619-B55D-47E38AC78B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39400"/>
            <a:ext cx="762012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CRITERIO DE MEDICIÓN</a:t>
            </a:r>
            <a:br>
              <a:rPr sz="3200"/>
            </a:b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COSTO</a:t>
            </a: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 vs. </a:t>
            </a:r>
            <a:r>
              <a:rPr b="1" lang="es-MX" sz="3200" spc="-1" strike="noStrike">
                <a:solidFill>
                  <a:srgbClr val="ff0000"/>
                </a:solidFill>
                <a:latin typeface="Arial"/>
              </a:rPr>
              <a:t>VNR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46040" y="1905120"/>
          <a:ext cx="8423280" cy="4524120"/>
        </p:xfrm>
        <a:graphic>
          <a:graphicData uri="http://schemas.openxmlformats.org/drawingml/2006/table">
            <a:tbl>
              <a:tblPr/>
              <a:tblGrid>
                <a:gridCol w="4057560"/>
                <a:gridCol w="2156040"/>
                <a:gridCol w="2209680"/>
              </a:tblGrid>
              <a:tr h="98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A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O 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TRIGO 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$ IMPLANT x h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0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INDE x h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4.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alor a VNR x K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0.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0.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alor cosecha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.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400.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alor a cos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.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00.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alor a costos x K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0,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F8C-64C4-4437-9F2F-F052CEB95D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380880"/>
          <a:ext cx="8853480" cy="5962680"/>
        </p:xfrm>
        <a:graphic>
          <a:graphicData uri="http://schemas.openxmlformats.org/drawingml/2006/table">
            <a:tbl>
              <a:tblPr/>
              <a:tblGrid>
                <a:gridCol w="4662360"/>
                <a:gridCol w="2133720"/>
                <a:gridCol w="205740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-06-x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06-x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.Inic.1vaca preñad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0.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.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nero N=oct.D=marz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.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.final1vaca preñada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.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 FIN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0.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CTE      +  250.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.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0.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COSTO       =     0.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0ED-DCE8-4F1C-9B80-FB3238FF55F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9360" y="303480"/>
            <a:ext cx="694404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0000"/>
                </a:solidFill>
                <a:latin typeface="Times New Roman"/>
              </a:rPr>
              <a:t>ANTECEDENTES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F. 1 y 2 CAPEA (12/1991-4/199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F. 19 FACPCE (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IC 41 (12/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T 22 (3/2004:vigencia 1/1/2005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1D2-70B7-4409-8CE1-D2B5457C6B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21:37:54Z</dcterms:created>
  <dc:creator>E.Paillet</dc:creator>
  <dc:description/>
  <dc:language>en-US</dc:language>
  <cp:lastModifiedBy>Congresos y Eventos</cp:lastModifiedBy>
  <dcterms:modified xsi:type="dcterms:W3CDTF">2005-08-09T17:57:18Z</dcterms:modified>
  <cp:revision>86</cp:revision>
  <dc:subject/>
  <dc:title>6. Modelo contable </dc:title>
</cp:coreProperties>
</file>