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24E-2CCA-4728-8564-65840F96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0C5-5F3C-4A41-98AF-1921CF7E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3B0-9FDB-456B-8352-20A93D25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8B6-0385-4461-A025-DC506193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5C6-A7B9-4C5E-AE81-E402FB77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1E3-5FEC-422A-A686-C105A4B6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AD8-0102-47DA-8912-F485503F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CD0-1BB4-447A-84CB-32D5EF37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386-B746-4762-8D83-39DF7A1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179-94C8-4DAE-AC34-AD455E5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4E6-6462-427E-8A7C-215CB50E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03E-20EB-4786-8155-93AB594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CDD6-14BA-4946-8E89-81D69E31F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90720" y="4861080"/>
            <a:ext cx="10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is E. Luchía-Pui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rector Editor de Mañana  Profes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76320"/>
            <a:ext cx="3276720" cy="1187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38480" y="5943600"/>
            <a:ext cx="1676520" cy="79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217520"/>
            <a:ext cx="4267080" cy="395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2013120"/>
            <a:ext cx="624852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99"/>
                </a:solidFill>
                <a:latin typeface="Garamond Book"/>
              </a:rPr>
              <a:t>El desafío Emprendedor en la Argentina Post 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Garamond Book"/>
              </a:rPr>
              <a:t>12 OCTUBRE DE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3048120"/>
          <a:ext cx="250488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8120"/>
                    <a:ext cx="2504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632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ef1f1d"/>
                </a:solidFill>
                <a:latin typeface="Arial Black"/>
              </a:rPr>
              <a:t>Decálogo del Entreprene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280" y="47520"/>
            <a:ext cx="59216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76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414360" indent="-41436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2400" indent="-310680">
              <a:lnSpc>
                <a:spcPct val="120000"/>
              </a:lnSpc>
              <a:spcBef>
                <a:spcPts val="1437"/>
              </a:spcBef>
              <a:buClr>
                <a:srgbClr val="ef1f1d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Arial"/>
              </a:rPr>
              <a:t>Las personas positivas son nuestros socios naturales. Busquemos su ayu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895480"/>
            <a:ext cx="71629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20000"/>
              </a:lnSpc>
              <a:spcBef>
                <a:spcPts val="1437"/>
              </a:spcBef>
              <a:buClr>
                <a:srgbClr val="ef1f1d"/>
              </a:buClr>
              <a:buFont typeface="Arial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Arial"/>
              </a:rPr>
              <a:t>La creatividad y la sinergia creatvia de los grupos que formamos es nuestro poder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437"/>
              </a:spcBef>
              <a:buClr>
                <a:srgbClr val="ef1f1d"/>
              </a:buClr>
              <a:buFont typeface="Arial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Arial"/>
              </a:rPr>
              <a:t>Utilicemos frecuentemente el estimulo hacia los que nos rodean; nunca la adul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300" spc="-1" strike="noStrike">
                <a:solidFill>
                  <a:srgbClr val="000000"/>
                </a:solidFill>
                <a:latin typeface="Arial"/>
              </a:rPr>
              <a:t>Recordemos que el éxito pasa por la acción.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3208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ef1f1d"/>
                </a:solidFill>
                <a:latin typeface="Arial Black"/>
              </a:rPr>
              <a:t>Un cuento ch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280" y="47520"/>
            <a:ext cx="59216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209680"/>
            <a:ext cx="716292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Quien no vive para serv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o sirve para viv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Y sólo tendrá éxito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ará buenos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Quien sirva a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jor que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3352680"/>
            <a:ext cx="350532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600" y="47520"/>
            <a:ext cx="59212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2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f1f1d"/>
                </a:solidFill>
                <a:latin typeface="Arial Black"/>
              </a:rPr>
              <a:t>El caso MAÑANA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337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20000"/>
              </a:lnSpc>
              <a:spcBef>
                <a:spcPts val="125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ómo hacer de una pequeña empresa un buen neg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20000"/>
              </a:lnSpc>
              <a:spcBef>
                <a:spcPts val="125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¡Qué grande es ser ch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20000"/>
              </a:lnSpc>
              <a:spcBef>
                <a:spcPts val="125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lenar un espacio v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20000"/>
              </a:lnSpc>
              <a:spcBef>
                <a:spcPts val="125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ocer el negocio (Know Ho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20000"/>
              </a:lnSpc>
              <a:spcBef>
                <a:spcPts val="125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ferenciarse del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20000"/>
              </a:lnSpc>
              <a:spcBef>
                <a:spcPts val="125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egir bien los canales de distrib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20000"/>
              </a:lnSpc>
              <a:spcBef>
                <a:spcPts val="1749"/>
              </a:spcBef>
              <a:buClr>
                <a:srgbClr val="ef1f1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arketing en el puto de venta.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53040" y="2995560"/>
            <a:ext cx="2592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4600" y="47520"/>
            <a:ext cx="59212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9528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ef1f1d"/>
                </a:solidFill>
                <a:latin typeface="Arial Black"/>
              </a:rPr>
              <a:t>Las claves del EXI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53352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4640" indent="-37476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l líder del emprendimiento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1880" indent="-31212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r un buen comunic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1880" indent="-31212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ner energía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1880" indent="-31212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entalidad gan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1880" indent="-31212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aber rodea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1880" indent="-31212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tar orientado al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1880" indent="-31212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sión por la excel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13360" y="2666880"/>
            <a:ext cx="2773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600" y="47520"/>
            <a:ext cx="59212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76320" y="150984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ef1f1d"/>
                </a:solidFill>
                <a:latin typeface="Arial Black"/>
              </a:rPr>
              <a:t>Las claves del EXI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685800" y="243828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2000" indent="-383760">
              <a:lnSpc>
                <a:spcPct val="120000"/>
              </a:lnSpc>
              <a:spcBef>
                <a:spcPts val="1749"/>
              </a:spcBef>
              <a:buClr>
                <a:srgbClr val="ef1f1d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idea del nego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5800" indent="-3196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Un concepto innovad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5800" indent="-3196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Aplicar la tecnolog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5800" indent="-3196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Buscar soluciones creativ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5800" indent="-3196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Asociar aliados estratég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3429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53200" y="3048120"/>
          <a:ext cx="293976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53200" y="3048120"/>
                    <a:ext cx="2939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2320" y="47520"/>
            <a:ext cx="59212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52280" y="150984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ef1f1d"/>
                </a:solidFill>
                <a:latin typeface="Arial Black"/>
              </a:rPr>
              <a:t>Las claves del EXI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57200" y="198108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2000" indent="-38376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anejar las prioridades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5800" indent="-3196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Saber – Sa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5800" indent="-3196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Saber – Hac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5800" indent="-3196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Hacer – Ha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5800" indent="-3196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Hacer – Sab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280" y="47520"/>
            <a:ext cx="59216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0984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ef1f1d"/>
                </a:solidFill>
                <a:latin typeface="Arial Black"/>
              </a:rPr>
              <a:t>Las claves del EXI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2924280" cy="347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752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36576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l Mercado.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819520"/>
            <a:ext cx="761976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nstruir una buena ima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finir con claridad quién es 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rindar servicios y benef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ncluir información útil par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280" y="47520"/>
            <a:ext cx="59216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193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ef1f1d"/>
                </a:solidFill>
                <a:latin typeface="Arial Black"/>
              </a:rPr>
              <a:t>Las claves del EXI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46196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36576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l Cliente.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459240"/>
            <a:ext cx="3346560" cy="339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2362320"/>
            <a:ext cx="8915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emprendedor, un perfil emer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lqumistas del siglo XXII en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9000" y="3541680"/>
            <a:ext cx="6384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nuevo nombre del emp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09160" y="4114800"/>
            <a:ext cx="657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paradoja global de Naisbi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5720" y="4876920"/>
            <a:ext cx="1038096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spcBef>
                <a:spcPts val="1500"/>
              </a:spcBef>
              <a:buClr>
                <a:srgbClr val="ef1f1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órmula de la globalización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 la mitad de la gente trabajando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l doble se genera el triple de la ultilidad.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ef1f1d"/>
                </a:solidFill>
                <a:latin typeface="Arial Black"/>
              </a:rPr>
              <a:t>Decálogo del Entreprene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8280" y="47520"/>
            <a:ext cx="59216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3048120"/>
          <a:ext cx="250488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8120"/>
                    <a:ext cx="2504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80880" y="2133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002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347400" indent="-34740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81560" indent="-26028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Nosotros buscamos la realización, que es la cara oculta del éxito, el prestigio y la fortu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176640"/>
            <a:ext cx="624852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Hacer lo que uno siente y quiere es la causa del éxi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La perseverancia no es una virtud, es la consecuencia de hacer lo que se quiere hacer en la vida.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05720" y="135000"/>
            <a:ext cx="2361960" cy="855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3508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3048120"/>
          <a:ext cx="250488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8120"/>
                    <a:ext cx="2504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32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ef1f1d"/>
                </a:solidFill>
                <a:latin typeface="Arial Black"/>
              </a:rPr>
              <a:t>Decálogo del Entreprene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280" y="47520"/>
            <a:ext cx="59216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Arial Black"/>
              </a:rPr>
              <a:t>El Desafío Emprendedor en la Argentina Post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47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273960" indent="-273960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040" indent="-20556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El éxito no es una meta; es el resultado de interpretar nuestra “nota” fundamental, con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excelencia y persevera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352680"/>
            <a:ext cx="716292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En el camino a nuestros objetivos las dificultades son sólo obstáculos que superaremos, nunca excusas para no intentar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1624"/>
              </a:spcBef>
              <a:buClr>
                <a:srgbClr val="ef1f1d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El pensamiento positivo es nuestro aliado.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7:35:57Z</dcterms:created>
  <dc:creator>DHL</dc:creator>
  <dc:description/>
  <dc:language>en-US</dc:language>
  <cp:lastModifiedBy>Congresos y Eventos</cp:lastModifiedBy>
  <cp:lastPrinted>2005-08-11T18:52:13Z</cp:lastPrinted>
  <dcterms:modified xsi:type="dcterms:W3CDTF">2005-08-11T20:16:26Z</dcterms:modified>
  <cp:revision>80</cp:revision>
  <dc:subject/>
  <dc:title>Presentación de PowerPoint</dc:title>
</cp:coreProperties>
</file>