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9625D-8AC4-4508-B79A-6DB850A26C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1F47A-1500-4EAC-A01F-E916626778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D2DB2-D6C7-46B8-91E2-CF963EE3AD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CF8E6-CB44-48D1-90B0-A07EBF3F23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34B31-C62B-42F9-826B-F89340116D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6A00C-25DA-49DF-B086-F098C1B7FF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06EC2-9982-427F-993B-B20EB155A1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88158-D302-40D5-AA89-8C5F1E1EF6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60673-9769-4F6E-8379-D8E0A50A1D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1A960-3859-470C-8424-3434DD400B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5581F-78C6-4962-9496-4B9F36E83D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D26C7-AA66-4AD6-9135-ED8D9AC38F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05920" y="647712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9A47-4B87-4134-91D6-2B8DD27A684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64240"/>
            <a:ext cx="32004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Tahoma"/>
              </a:rPr>
              <a:t>Damonte Nicolini Bertazza y Asoci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3505320"/>
          </a:xfrm>
          <a:prstGeom prst="rect">
            <a:avLst/>
          </a:prstGeom>
          <a:noFill/>
          <a:ln w="76320">
            <a:solidFill>
              <a:srgbClr val="0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000000"/>
                </a:solidFill>
                <a:latin typeface="Bauhaus 93"/>
              </a:rPr>
              <a:t>I ENCUENTRO JÓVENES PROFESIONALES EN CIENCIAS ECONÓMICAS</a:t>
            </a:r>
            <a:br>
              <a:rPr sz="4800"/>
            </a:br>
            <a:r>
              <a:rPr b="0" lang="es-AR" sz="4800" spc="-1" strike="noStrike">
                <a:solidFill>
                  <a:srgbClr val="000000"/>
                </a:solidFill>
                <a:latin typeface="Bauhaus 93"/>
              </a:rPr>
              <a:t>11 y 12 de Agosto de 200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124080" y="594360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CPCECA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4191120"/>
            <a:ext cx="8001000" cy="1523880"/>
          </a:xfrm>
          <a:prstGeom prst="rect">
            <a:avLst/>
          </a:prstGeom>
          <a:noFill/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Bauhaus 93"/>
              </a:rPr>
              <a:t>RÉGIMEN TRIBUTARIO SANCIONATORIO Y RESPONSABILIDAD PENAL DEL PROFESIONAL EN CIENCIAS ECONÓM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DEFRAUDACIÓN FISC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960" y="1143000"/>
            <a:ext cx="87627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 u="sng">
                <a:solidFill>
                  <a:srgbClr val="000000"/>
                </a:solidFill>
                <a:uFillTx/>
                <a:latin typeface="Arial"/>
              </a:rPr>
              <a:t>MULTA POR DEFRAUDACIÓN (ART 4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DEFRAUDACIÓN AL FI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MEDIANTE DECLARACIONES ENGAÑOSAS U OCULTACIÓN MALICIO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POR ACCIÓN U OMI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MULTA DE 200% AL 1000% DEL TRIBUTO EVAD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 u="sng">
                <a:solidFill>
                  <a:srgbClr val="000000"/>
                </a:solidFill>
                <a:uFillTx/>
                <a:latin typeface="Arial"/>
              </a:rPr>
              <a:t>UTILIZACIÓN INDEBIDA DE QUEBRANTOS (ART 46.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PERJUDICAR AL FI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EXTERIORIZANDO QUEBRANTOS TOTAL O PARCIALMENTE SUPERIORES A LOS PROCED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MEDIANTE DECLARACIONES ENGAÑOSAS U OCULTACIONES MALICIO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UTILIZANDOLOS PARA COMPENSAR UTILIDADES SUJETAS A IMPUESTOS (EN EL CORRIENTE O SIGUIENTES EJERCICI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MULTA DEL 200% AL 1000% DEL IMPORTE QUE SURJA DE APLICAR LA TASA MÁXIMA DEL IMPUESTO A LAS GANANCIAS SOBRE EL QUEBRANTO IMPUG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 u="sng">
                <a:solidFill>
                  <a:srgbClr val="000000"/>
                </a:solidFill>
                <a:uFillTx/>
                <a:latin typeface="Arial"/>
              </a:rPr>
              <a:t>AGENTES DE RETENCIÓN O PERCEPCIÓN (ART 4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MANTENER EN SU P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DESPUÉS DE VENCIDOS LOS PLAZOS EN QUE SE DEBIÓ INGRES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LOS IMPUESTOS RETENIDOS O PERCIBI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MULTA 200% AL 1000% DEL TRIBUTO RETENIDO O PERCIB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990720"/>
            <a:ext cx="8915400" cy="1522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a0b"/>
              </a:gs>
              <a:gs pos="50000">
                <a:srgbClr val="0db4cb"/>
              </a:gs>
              <a:gs pos="100000">
                <a:srgbClr val="000a0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30BD4-3F15-4BA5-92FF-93732493A9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001000" cy="4800600"/>
          </a:xfrm>
          <a:prstGeom prst="rect">
            <a:avLst/>
          </a:prstGeom>
          <a:noFill/>
          <a:ln w="76320">
            <a:solidFill>
              <a:srgbClr val="0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800" spc="-1" strike="noStrike">
                <a:solidFill>
                  <a:srgbClr val="000000"/>
                </a:solidFill>
                <a:latin typeface="Bauhaus 93"/>
              </a:rPr>
              <a:t>RÉGIMEN  PENAL TRIBUTARIO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RÉGIMEN PENAL TRIBUTA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990720"/>
            <a:ext cx="8915400" cy="1522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a0b"/>
              </a:gs>
              <a:gs pos="50000">
                <a:srgbClr val="0db4cb"/>
              </a:gs>
              <a:gs pos="100000">
                <a:srgbClr val="000a0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1752480"/>
            <a:ext cx="16761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DELITOS TRIBUT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3429000"/>
            <a:ext cx="16761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DELITOS PREVISIO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5029200"/>
            <a:ext cx="16761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DELITOS FISCALES COMU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1295280"/>
            <a:ext cx="1066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000000"/>
                </a:solidFill>
                <a:latin typeface="Arial"/>
              </a:rPr>
              <a:t>EVASIÓN FISC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86080" y="1905120"/>
            <a:ext cx="12096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000000"/>
                </a:solidFill>
                <a:latin typeface="Arial"/>
              </a:rPr>
              <a:t>BENEFICIOS FISCAL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2514600"/>
            <a:ext cx="15652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000000"/>
                </a:solidFill>
                <a:latin typeface="Arial"/>
              </a:rPr>
              <a:t>APROPIACIÓN INDEBIDA TRIBUTOS ART 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3276720"/>
            <a:ext cx="1352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000000"/>
                </a:solidFill>
                <a:latin typeface="Arial"/>
              </a:rPr>
              <a:t>EVASIÓN PREVISION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1219320"/>
            <a:ext cx="10670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000000"/>
                </a:solidFill>
                <a:latin typeface="Arial"/>
              </a:rPr>
              <a:t>SIMPLE  ART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24480" y="3276720"/>
            <a:ext cx="14479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000000"/>
                </a:solidFill>
                <a:latin typeface="Arial"/>
              </a:rPr>
              <a:t>OBTENCIÓN FRAUDULENTA ART 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3886200"/>
            <a:ext cx="19047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000000"/>
                </a:solidFill>
                <a:latin typeface="Arial"/>
              </a:rPr>
              <a:t>APROPIACIÓN INDEBIDA RSS ART 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4495680"/>
            <a:ext cx="21333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000000"/>
                </a:solidFill>
                <a:latin typeface="Arial"/>
              </a:rPr>
              <a:t>INSOLVENCIA FISCAL FRAUDULENTA ART 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5105520"/>
            <a:ext cx="15652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000000"/>
                </a:solidFill>
                <a:latin typeface="Arial"/>
              </a:rPr>
              <a:t>SIMULACIÓN DOLOSA DE PAGOS ART 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76720" y="5867280"/>
            <a:ext cx="14475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000000"/>
                </a:solidFill>
                <a:latin typeface="Arial"/>
              </a:rPr>
              <a:t>ALTERACIÓN DOLOSA DE REGISTROS ART 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24480" y="18288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000000"/>
                </a:solidFill>
                <a:latin typeface="Arial"/>
              </a:rPr>
              <a:t>AGRAVADA ART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24480" y="2514600"/>
            <a:ext cx="19051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000000"/>
                </a:solidFill>
                <a:latin typeface="Arial"/>
              </a:rPr>
              <a:t>APROVECHAMIENTO INDEBIDO DE SUBSIDIOS ART 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24480" y="403848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000000"/>
                </a:solidFill>
                <a:latin typeface="Arial"/>
              </a:rPr>
              <a:t>SIMPLE  ART 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24480" y="4724280"/>
            <a:ext cx="1219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000000"/>
                </a:solidFill>
                <a:latin typeface="Arial"/>
              </a:rPr>
              <a:t>AGRAVADA ART 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endCxn id="154" idx="1"/>
          </p:cNvCxnSpPr>
          <p:nvPr/>
        </p:nvCxnSpPr>
        <p:spPr>
          <a:xfrm flipV="1">
            <a:off x="2209680" y="1523520"/>
            <a:ext cx="1067760" cy="61056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sm" type="triangle" w="lg"/>
          </a:ln>
        </p:spPr>
      </p:cxnSp>
      <p:cxnSp>
        <p:nvCxnSpPr>
          <p:cNvPr id="169" name=""/>
          <p:cNvCxnSpPr>
            <a:endCxn id="156" idx="1"/>
          </p:cNvCxnSpPr>
          <p:nvPr/>
        </p:nvCxnSpPr>
        <p:spPr>
          <a:xfrm>
            <a:off x="2209680" y="2133360"/>
            <a:ext cx="1067760" cy="68652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sm" type="triangle" w="lg"/>
          </a:ln>
        </p:spPr>
      </p:cxnSp>
      <p:cxnSp>
        <p:nvCxnSpPr>
          <p:cNvPr id="170" name=""/>
          <p:cNvCxnSpPr>
            <a:endCxn id="155" idx="1"/>
          </p:cNvCxnSpPr>
          <p:nvPr/>
        </p:nvCxnSpPr>
        <p:spPr>
          <a:xfrm>
            <a:off x="2743200" y="2133360"/>
            <a:ext cx="543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lg"/>
          </a:ln>
        </p:spPr>
      </p:cxnSp>
      <p:cxnSp>
        <p:nvCxnSpPr>
          <p:cNvPr id="171" name=""/>
          <p:cNvCxnSpPr>
            <a:stCxn id="152" idx="3"/>
            <a:endCxn id="157" idx="1"/>
          </p:cNvCxnSpPr>
          <p:nvPr/>
        </p:nvCxnSpPr>
        <p:spPr>
          <a:xfrm flipV="1">
            <a:off x="2209680" y="3504960"/>
            <a:ext cx="1067760" cy="30528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sm" type="triangle" w="lg"/>
          </a:ln>
        </p:spPr>
      </p:cxnSp>
      <p:cxnSp>
        <p:nvCxnSpPr>
          <p:cNvPr id="172" name=""/>
          <p:cNvCxnSpPr>
            <a:endCxn id="160" idx="1"/>
          </p:cNvCxnSpPr>
          <p:nvPr/>
        </p:nvCxnSpPr>
        <p:spPr>
          <a:xfrm>
            <a:off x="2743200" y="3809520"/>
            <a:ext cx="534240" cy="305640"/>
          </a:xfrm>
          <a:prstGeom prst="bentConnector3">
            <a:avLst>
              <a:gd name="adj1" fmla="val 114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53" idx="3"/>
            <a:endCxn id="161" idx="1"/>
          </p:cNvCxnSpPr>
          <p:nvPr/>
        </p:nvCxnSpPr>
        <p:spPr>
          <a:xfrm flipV="1">
            <a:off x="2209680" y="4723560"/>
            <a:ext cx="1067760" cy="68652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sm" type="triangle" w="lg"/>
          </a:ln>
        </p:spPr>
      </p:cxnSp>
      <p:cxnSp>
        <p:nvCxnSpPr>
          <p:cNvPr id="174" name=""/>
          <p:cNvCxnSpPr>
            <a:stCxn id="153" idx="3"/>
            <a:endCxn id="163" idx="1"/>
          </p:cNvCxnSpPr>
          <p:nvPr/>
        </p:nvCxnSpPr>
        <p:spPr>
          <a:xfrm>
            <a:off x="2209680" y="5409720"/>
            <a:ext cx="1067760" cy="83916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sm" type="triangle" w="lg"/>
          </a:ln>
        </p:spPr>
      </p:cxnSp>
      <p:cxnSp>
        <p:nvCxnSpPr>
          <p:cNvPr id="175" name=""/>
          <p:cNvCxnSpPr>
            <a:endCxn id="162" idx="1"/>
          </p:cNvCxnSpPr>
          <p:nvPr/>
        </p:nvCxnSpPr>
        <p:spPr>
          <a:xfrm>
            <a:off x="2743200" y="5409720"/>
            <a:ext cx="534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triangle" w="lg"/>
          </a:ln>
        </p:spPr>
      </p:cxnSp>
      <p:cxnSp>
        <p:nvCxnSpPr>
          <p:cNvPr id="176" name=""/>
          <p:cNvCxnSpPr>
            <a:stCxn id="158" idx="1"/>
            <a:endCxn id="164" idx="1"/>
          </p:cNvCxnSpPr>
          <p:nvPr/>
        </p:nvCxnSpPr>
        <p:spPr>
          <a:xfrm flipH="1" flipV="1" rot="10800000">
            <a:off x="6323400" y="1446840"/>
            <a:ext cx="2520" cy="610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headEnd len="sm" type="triangle" w="lg"/>
            <a:tailEnd len="sm" type="triangle" w="lg"/>
          </a:ln>
        </p:spPr>
      </p:cxnSp>
      <p:cxnSp>
        <p:nvCxnSpPr>
          <p:cNvPr id="177" name=""/>
          <p:cNvCxnSpPr>
            <a:stCxn id="165" idx="1"/>
            <a:endCxn id="159" idx="1"/>
          </p:cNvCxnSpPr>
          <p:nvPr/>
        </p:nvCxnSpPr>
        <p:spPr>
          <a:xfrm flipH="1" flipV="1" rot="10800000">
            <a:off x="6323400" y="2819160"/>
            <a:ext cx="2520" cy="7624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headEnd len="sm" type="triangle" w="lg"/>
            <a:tailEnd len="sm" type="triangle" w="lg"/>
          </a:ln>
        </p:spPr>
      </p:cxnSp>
      <p:cxnSp>
        <p:nvCxnSpPr>
          <p:cNvPr id="178" name=""/>
          <p:cNvCxnSpPr>
            <a:stCxn id="155" idx="3"/>
          </p:cNvCxnSpPr>
          <p:nvPr/>
        </p:nvCxnSpPr>
        <p:spPr>
          <a:xfrm>
            <a:off x="4495320" y="2133360"/>
            <a:ext cx="1600920" cy="1067400"/>
          </a:xfrm>
          <a:prstGeom prst="bentConnector3">
            <a:avLst>
              <a:gd name="adj1" fmla="val 780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66" idx="1"/>
            <a:endCxn id="167" idx="1"/>
          </p:cNvCxnSpPr>
          <p:nvPr/>
        </p:nvCxnSpPr>
        <p:spPr>
          <a:xfrm flipH="1" flipV="1" rot="10800000">
            <a:off x="6323400" y="4266000"/>
            <a:ext cx="2520" cy="724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headEnd len="sm" type="triangle" w="lg"/>
            <a:tailEnd len="sm" type="triangle" w="lg"/>
          </a:ln>
        </p:spPr>
      </p:cxnSp>
      <p:cxnSp>
        <p:nvCxnSpPr>
          <p:cNvPr id="180" name=""/>
          <p:cNvCxnSpPr>
            <a:stCxn id="157" idx="3"/>
          </p:cNvCxnSpPr>
          <p:nvPr/>
        </p:nvCxnSpPr>
        <p:spPr>
          <a:xfrm>
            <a:off x="4629240" y="3504960"/>
            <a:ext cx="1467360" cy="1143720"/>
          </a:xfrm>
          <a:prstGeom prst="bentConnector3">
            <a:avLst>
              <a:gd name="adj1" fmla="val 7661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1" name=""/>
          <p:cNvCxnSpPr>
            <a:stCxn id="154" idx="3"/>
          </p:cNvCxnSpPr>
          <p:nvPr/>
        </p:nvCxnSpPr>
        <p:spPr>
          <a:xfrm>
            <a:off x="4343400" y="1523520"/>
            <a:ext cx="1753200" cy="22932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F418F-3A48-4FDB-9158-29E250A105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EVASIÓN FISCAL SIMPLE (ART, 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SERÁ REPRIMIDO CON PRISIÓN DE 2 A 6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L OBLIGADO QUE MEDIA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DECLARACIONES ENGAÑO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OCULTACIÓN MALICI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O CUALQUIER OTRO ARDID O ENGA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SEA POR ACCIÓN U O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VADIERE TOTAL O PARCIALMENTE EL PAGO DE TRIBUTOS AL FISCO 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SIEMPRE QUE EL MONTO EVADIDO SUPERE LA SUMA DE $1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POR CADA TRIBUTO Y POR CADA EJERCICIO AN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ÚN CUANDO SE TRATARE DE UN TRIBUTO INSTANTÁNEO O DE PERÍODO FISCAL INFERIOR A UN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1295280"/>
            <a:ext cx="8915400" cy="1526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a0b"/>
              </a:gs>
              <a:gs pos="50000">
                <a:srgbClr val="0db4cb"/>
              </a:gs>
              <a:gs pos="100000">
                <a:srgbClr val="000a0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C1321-1CBE-489C-B302-27E6F14A84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EVASIÓN FISCAL AGRAVADA (ART 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PENA SERÁ DE 3 AÑOS Y 6 MESES A 9 AÑOS DE PR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UANDO EN EL CASO DEL ART 1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SE VERIFICARE CUALQUIERA DE LOS SIGUIENTES SU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A) SI EL MONTO EVADIDO SUPERARE LA SUMA DE $1.000.000 (UN MILLÓN DE PES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B) SI HUBIEREN INTERVENIDO PERSONA O PERSONAS INTERPUESTAS PARA OCULTAR LA IDENTIDAD DEL VERDADERO SUJETO OBLIGADO Y EL MONTO EVADIDO SUPERARE LA SUMA DE $200.000 (DOSCIENTOS MIL PES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C) SI EL OBLIGADO UTILIZARE FRAUDULENTAMENTE EXENCIONES, DESGRAVACIONES, DIFERIMIENTOS, LIBERACIONES, REDUCCIONES O CUALQUIER OTRO TIPO DE BENEFICIOS FISCALES, Y EL MONTO EVADIDO POR TAL CONCEPTO SUPERARE LA SUMA DE $200.000 (DOSCIENTOS MIL PES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2280" y="1066680"/>
            <a:ext cx="8915400" cy="1526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a0b"/>
              </a:gs>
              <a:gs pos="50000">
                <a:srgbClr val="0db4cb"/>
              </a:gs>
              <a:gs pos="100000">
                <a:srgbClr val="000a0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3405A-A920-46C9-94C4-077D9D438E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APROPIACIÓN INDEBIDA</a:t>
            </a:r>
            <a:br>
              <a:rPr sz="3600"/>
            </a:b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 DE TRIBUTOS (ART 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SERÁ REPRIMIDO CON PRISIÓN DE 2 A 6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L AGENTE DE RETENCIÓN O PER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E TRIBUTOS N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QUE NO DEPOSITARE, TOTAL O PARCI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ENTRO DE LOS 10 DÍAS HÁBILES ADMINISTRATIVOS DE VENCIDO EL PLAZO DE INGR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L TRIBUTO RETENIDO O 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SIEMPRE QUE EL MONTO NO INGRESADO SUPERARE LA SUMA DE $10.000 POR CADA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1295280"/>
            <a:ext cx="8915400" cy="1526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a0b"/>
              </a:gs>
              <a:gs pos="50000">
                <a:srgbClr val="0db4cb"/>
              </a:gs>
              <a:gs pos="100000">
                <a:srgbClr val="000a0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F899C-E2EC-4856-89DA-25B2E1FEAF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381880" cy="4495680"/>
          </a:xfrm>
          <a:prstGeom prst="rect">
            <a:avLst/>
          </a:prstGeom>
          <a:noFill/>
          <a:ln w="76320">
            <a:solidFill>
              <a:srgbClr val="0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400" spc="-1" strike="noStrike">
                <a:solidFill>
                  <a:srgbClr val="000000"/>
                </a:solidFill>
                <a:latin typeface="Bauhaus 93"/>
              </a:rPr>
              <a:t>RESPONSABILIDAD PENAL DE PROFESIONALES EN CIENCIAS ECONOMICAS EN MATERIA TRIBUTARI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52578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Bauhaus 93"/>
              </a:rPr>
              <a:t>NORBERTO J. MARC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AUTORÍA Y PARTICIP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47920" y="1752480"/>
            <a:ext cx="6858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JETO ACTIVO DEL DELITO C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OMINIO DEL H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EJA LA ACCIÓN, CON PODER DE DECISIÓN SUFICIENTE PARA DECIDIR ENTRE CONSUMAR O DESIST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NTAD INCONDICIONADA DE REALIZACIÓN,  SIN VOLUNTAD SUP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AUTOR: TOMAN PARTE EN LA EJECUCIÓN DEL HECHO (CP, 4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752480"/>
            <a:ext cx="53316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97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16765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AU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1295280"/>
            <a:ext cx="8915400" cy="1526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a0b"/>
              </a:gs>
              <a:gs pos="50000">
                <a:srgbClr val="0db4cb"/>
              </a:gs>
              <a:gs pos="100000">
                <a:srgbClr val="000a0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E57B5-A9D3-4768-AEC2-12B4046EF89F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-7668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AUTORÍA Y PARTICIP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-152280" y="1523880"/>
            <a:ext cx="89913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TIENEN PODERES DECISORIOS, PERO HACEN SU APORTE DOLOSO AL HECHO DELI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509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IGACIÓN: CONVENCIMIENTO AL AU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509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ICIDAD: PRESTAR AY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66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STIG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JETOS QUE ACTUAN SOBRE EL AUTOR PARA CONVERCERLO DE QUE COMETA EL DELITO (INDUCCIÓN DIREC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66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ÓMPL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JETOS CON ROL SECUNDARIO PARA AYUDAR AL AUTOR A COMETER EL DEL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509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ÓMPLICES PRIM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ABORACIÓN IMPRESCINDIBLE PARA LA EJECUCIÓN DEL HECHO, EN FORMA ANTERIOR AL DELITO. CORRESPONDE LA MISMA ESCALA PENAL QUE A LOS AUTORES (CP, 4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509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ÓMPLICES SECUND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TAN AYUDA SIN LA CUAL EL HECHO SE HUBIERA COMETIDO IGUAL. ACTUAN DESPUES DEL DELITO. LA PENA SE DISMINUYE DE UN TERCIO A LA MITAD DE LA DEL AU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2280" y="1066680"/>
            <a:ext cx="53352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97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1066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Arial"/>
              </a:rPr>
              <a:t>PARTÍCI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280" y="914400"/>
            <a:ext cx="8915400" cy="1522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a0b"/>
              </a:gs>
              <a:gs pos="50000">
                <a:srgbClr val="0db4cb"/>
              </a:gs>
              <a:gs pos="100000">
                <a:srgbClr val="000a0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F589A-6BDF-491A-B979-6974A70D47EE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RESPONSABILIDAD PENAL TRIBUT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560" y="4571640"/>
            <a:ext cx="83055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CASTIGO A PERSONAS FÍS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PRINCIPIO QUE LA SOCIEDAD NO PUEDE DELINQU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EXTENSIÓN A REPRESENTANTES Y DIRECTIVOS DE SOCIEDADES QUE POR SU JERARQUÍA Y COMPETENCIA, PUEDEN IMPULSAR Y PRODUCIR DELITOS (PARTICIPACIÓN REAL EN CONDUCTAS REPROCHAD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RESPONSABILIDAD PROFES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438280" y="2119320"/>
            <a:ext cx="2895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REPONS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PE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86400" y="1828800"/>
            <a:ext cx="1752480" cy="1447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SU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828800"/>
            <a:ext cx="1828800" cy="1447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DEL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2590920"/>
            <a:ext cx="327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342900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ACCIÓN TÍP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ANTIJURÍD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CULP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467480" y="2286000"/>
            <a:ext cx="18288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AUT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INSTIG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CÓMPL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1447920"/>
            <a:ext cx="8915400" cy="1522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a0b"/>
              </a:gs>
              <a:gs pos="50000">
                <a:srgbClr val="0db4cb"/>
              </a:gs>
              <a:gs pos="100000">
                <a:srgbClr val="000a0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ED33A-195F-4C4A-825B-F432984C6F5F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3733920"/>
          </a:xfrm>
          <a:prstGeom prst="rect">
            <a:avLst/>
          </a:prstGeom>
          <a:noFill/>
          <a:ln w="76320">
            <a:solidFill>
              <a:srgbClr val="0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7200" spc="-1" strike="noStrike">
                <a:solidFill>
                  <a:srgbClr val="000000"/>
                </a:solidFill>
                <a:latin typeface="Bauhaus 93"/>
              </a:rPr>
              <a:t>RÉGIMEN TRIBUTARIO SANCIONATORI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724280"/>
            <a:ext cx="8001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Bauhaus 93"/>
              </a:rPr>
              <a:t>HUMBERTO J. BERTAZ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228600" y="2133360"/>
            <a:ext cx="8686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RÁ REPRIMIDO CON PRISIÓN O RECLUSIÓN DE TRES (3) A DIEZ (10) AÑ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 QUE TOMARE PAR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 UNA ASOCIACIÓN  O BANDA DE 3 Ó MÁS PERSO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STINADA A COMETER DELI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R EL SOLO HECHO DE SER MIEMBRO DE LA  ASOCI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ARA LOS JEFES U ORGANIZADORES DE LA ASOCIACIÓN EL MÍNIMO DE LA PENA SERÁ DE 5 AÑOS DE PRISIÓN O RECLUS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SOCIACIÓN ILÍCITA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(CP, 210) TITULO VIII, CAPITULO II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litos contra el orden públ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20574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280" y="1600200"/>
            <a:ext cx="8915400" cy="1522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a0b"/>
              </a:gs>
              <a:gs pos="50000">
                <a:srgbClr val="0db4cb"/>
              </a:gs>
              <a:gs pos="100000">
                <a:srgbClr val="000a0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4A59E-DBA0-4CCE-B5A3-B4B451FCAC19}" type="slidenum">
              <a:t>20</a:t>
            </a:fld>
          </a:p>
        </p:txBody>
      </p:sp>
    </p:spTree>
  </p:cSld>
  <p:transition spd="med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IFICACION DE CONDUCTAS Y AGRAVANTES DE PENA (LPT, ART 1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iso 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QUE A SABIEN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CTAMINARE, INFORMARE, DIERE FE, AUTORIZARE O CERTIFIC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OS JURÍDICOS, BALANCES, ESTADOS CONTABLES O DOCU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FACILITAR LA COMISIÓN DE LOS DELITOS PREVISTOS EN ESTA 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Á PASIBLE, ADEMÁS DE LAS PENAS CORRESPONDIENTES POR SU PARTICIPACIÓN CRIMINAL EN EL H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25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LA PENA DE INHABILI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 POR EL DOBLE 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EMPO DE LA COND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52880" y="5715000"/>
            <a:ext cx="4114800" cy="760320"/>
          </a:xfrm>
          <a:prstGeom prst="rect">
            <a:avLst/>
          </a:prstGeom>
          <a:solidFill>
            <a:srgbClr val="097f8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ÍCULO SIN MODIFICACION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ES ART 15, AHORA 15,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280" y="1447920"/>
            <a:ext cx="8915400" cy="1522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a0b"/>
              </a:gs>
              <a:gs pos="50000">
                <a:srgbClr val="0db4cb"/>
              </a:gs>
              <a:gs pos="100000">
                <a:srgbClr val="000a0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E983B-0DB1-4903-8654-BA3B50FCFF84}" type="slidenum">
              <a:t>21</a:t>
            </a:fld>
          </a:p>
        </p:txBody>
      </p:sp>
    </p:spTree>
  </p:cSld>
  <p:transition spd="med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IFICACION DE CONDUCTAS Y AGRAVANTES DE PENA (LPT, ART 15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ONT.  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iso 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 QUE A SABIEN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URRIERE CON DOS Ó MÁS PERSO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 LA COMISIÓN DE ALGUNO DE LOS DELITOS TIPIFICADOS EN ESTA 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Á REPRIMIDO CON MÍNIMO DE CUATRO (4) AÑOS DE PRI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1447920"/>
            <a:ext cx="8915400" cy="1522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a0b"/>
              </a:gs>
              <a:gs pos="50000">
                <a:srgbClr val="0db4cb"/>
              </a:gs>
              <a:gs pos="100000">
                <a:srgbClr val="000a0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7AF7F-F1DF-40FF-96A3-49D653B10C9E}" type="slidenum">
              <a:t>22</a:t>
            </a:fld>
          </a:p>
        </p:txBody>
      </p:sp>
    </p:spTree>
  </p:cSld>
  <p:transition spd="med"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915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IFICACION DE CONDUCTAS Y AGRAVANTES DE PENA (LPT, ART 15)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.  2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iso 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 QUE A SABIEN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ARE PARTE DE UNA ORGANIZACIÓN O ASOCI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UESTA POR TRES O MÁS PERSO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 HABITUALMENTE ESTÉ DESTINADA A COMETER CUALQUIERA DE LOS DELITOS TIPIFICADOS EN LA PRESENTE L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Á REPRIMIDO CON PRISIÓN DE TRES (3) AÑOS Y SEIS (6) MESES A DIEZ (10) AÑ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 RESULTARE SER JEFE U ORGANIZADOR, LA PENA MÍNIMA SE ELEVARÁ A CINCO (5) AÑOS DE PRIS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2280" y="1447920"/>
            <a:ext cx="8915400" cy="1522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a0b"/>
              </a:gs>
              <a:gs pos="50000">
                <a:srgbClr val="0db4cb"/>
              </a:gs>
              <a:gs pos="100000">
                <a:srgbClr val="000a0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1C59E-DA97-468C-91A7-7A3837FE4E59}" type="slidenum">
              <a:t>23</a:t>
            </a:fld>
          </a:p>
        </p:txBody>
      </p:sp>
    </p:spTree>
  </p:cSld>
  <p:transition spd="med">
    <p:pull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NTECEDENTE JURISPRUDENCIAL</a:t>
            </a:r>
            <a:br>
              <a:rPr sz="3200"/>
            </a:b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SOCIACIÓN ILÍC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6760" y="1676160"/>
            <a:ext cx="8648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AR" sz="1900" spc="-1" strike="noStrike">
                <a:solidFill>
                  <a:srgbClr val="000000"/>
                </a:solidFill>
                <a:latin typeface="Arial"/>
              </a:rPr>
              <a:t>STANCANELLI, NÉSTOR EDGARDO Y OTRO”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000000"/>
                </a:solidFill>
                <a:latin typeface="Arial"/>
              </a:rPr>
              <a:t>CSN 20-11-200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 u="sng">
                <a:solidFill>
                  <a:srgbClr val="000000"/>
                </a:solidFill>
                <a:uFillTx/>
                <a:latin typeface="Arial"/>
              </a:rPr>
              <a:t>REQUISITOS PARA SU PROCEDENCI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spcAft>
                <a:spcPts val="476"/>
              </a:spcAft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000000"/>
                </a:solidFill>
                <a:latin typeface="Arial"/>
              </a:rPr>
              <a:t>NO REQUIERE DE LA EXISTENCIA DE OTROS DELITOS CONSUMADOS Y NI SIQUIERA DEL PRINCIPIO DE SU EJECUCIÓ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spcAft>
                <a:spcPts val="476"/>
              </a:spcAft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000000"/>
                </a:solidFill>
                <a:latin typeface="Arial"/>
              </a:rPr>
              <a:t>ELEMENTO DE PERMANENCIA, QUE PUEDE TENER POR FINALIDAD LA COMISIÓN DE VARIOS DELIT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spcAft>
                <a:spcPts val="476"/>
              </a:spcAft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000000"/>
                </a:solidFill>
                <a:latin typeface="Arial"/>
              </a:rPr>
              <a:t>PLURALIDAD DE PLANES DELICTIVOS Y NO MERAMENTE PLURALIDAD DE DELIT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spcAft>
                <a:spcPts val="476"/>
              </a:spcAft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000000"/>
                </a:solidFill>
                <a:latin typeface="Arial"/>
              </a:rPr>
              <a:t>ACUERDO DE VOLUNTADES, NO NECESARIAMENTE EXPRESO, PERO AL MENOS TÁCI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spcAft>
                <a:spcPts val="476"/>
              </a:spcAft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000000"/>
                </a:solidFill>
                <a:latin typeface="Arial"/>
              </a:rPr>
              <a:t>LA FINALIDAD DE DICHO ACUERDO TIENE QUE SER LA DE EJECUTAR ACTOS CALIFICADOS POR LA LEY COMO DELITOS DEL DERECHO PEN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280" y="1447920"/>
            <a:ext cx="8915400" cy="1522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a0b"/>
              </a:gs>
              <a:gs pos="50000">
                <a:srgbClr val="0db4cb"/>
              </a:gs>
              <a:gs pos="100000">
                <a:srgbClr val="000a0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803DD-66EC-4113-9DA7-59D98A17BE2D}" type="slidenum">
              <a:t>24</a:t>
            </a:fld>
          </a:p>
        </p:txBody>
      </p:sp>
    </p:spTree>
  </p:cSld>
  <p:transition spd="med"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NTECEDENTE JURISPRUDENCIAL</a:t>
            </a:r>
            <a:br>
              <a:rPr sz="3200"/>
            </a:b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SOCIACIÓN ILÍCITA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(cont. 2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LOS DELITOS DEL CASO DEBEN REUNIR LA VIRTUALIDAD SUFICIENTE COMO PARA VIOLAR EL BIEN JURÍDICO QUE SE INTENTA PROTEGER, ES DECIR EL ORDEN PÚBLICO O LA TRANQUILIDAD PÚBL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LA CRIMINALIDAD DE LOS HECHOS RESIDE ESENCIALMENTE, NO EN LA LESIÓN EFECTIVA DE COSAS O PERSONAS, SINO EN LA REPERCUSIÓN QUE ELLOS TIENEN EN EL ESPÍRITU DE LA POBLACIÓN Y EN EL SENTIMIENTO DE TRANQUILIDAD PÚBLICA, PONDERANDO ALARMA Y TERROR POR LO QUE PUEDE SUCED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2280" y="1447920"/>
            <a:ext cx="8915400" cy="1522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a0b"/>
              </a:gs>
              <a:gs pos="50000">
                <a:srgbClr val="0db4cb"/>
              </a:gs>
              <a:gs pos="100000">
                <a:srgbClr val="000a0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D65CC-F296-4486-81A1-6D7E0FB3AA17}" type="slidenum">
              <a:t>25</a:t>
            </a:fld>
          </a:p>
        </p:txBody>
      </p:sp>
    </p:spTree>
  </p:cSld>
  <p:transition>
    <p:pull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NTECEDENTE JURISPRUDENCIAL</a:t>
            </a:r>
            <a:br>
              <a:rPr sz="3200"/>
            </a:b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SOCIACIÓN ILÍCITA (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8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REAL DE AZÚA, ENRIQUE Y OTROS”, CNPE Causa 51.125 Sala “B” 30-12-03 (CONFIRMATORIO JUZGADO P. T. N°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85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MANIOBRA INVESTIGADA CONSISTENTE EN LA CREACIÓN DE SOCIEDADES QUE, NO OBSTANTE CONTAR CON EL PERTINENTE ACTO NOTARIAL DE CONSTITUCIÓN Y ESTAR INSCRIPTAS ANTE LA IGJ Y LA AFIP, NO EXISTIRIAN MÁS QUE FORMALMENTE, PUES NO HABRIAN TENIDO ALGUNA ACTIVIDAD REAL COMPROB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 algn="just">
              <a:lnSpc>
                <a:spcPct val="90000"/>
              </a:lnSpc>
              <a:buClr>
                <a:srgbClr val="000000"/>
              </a:buClr>
              <a:buSzPct val="1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REITERACIÓN SO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 algn="just">
              <a:lnSpc>
                <a:spcPct val="90000"/>
              </a:lnSpc>
              <a:buClr>
                <a:srgbClr val="000000"/>
              </a:buClr>
              <a:buSzPct val="1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REPETICIÓN DOMICIL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 algn="just">
              <a:lnSpc>
                <a:spcPct val="90000"/>
              </a:lnSpc>
              <a:buClr>
                <a:srgbClr val="000000"/>
              </a:buClr>
              <a:buSzPct val="1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HETEROGENEIDAD DE OBJETOS SOCIET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 algn="just">
              <a:lnSpc>
                <a:spcPct val="90000"/>
              </a:lnSpc>
              <a:buClr>
                <a:srgbClr val="000000"/>
              </a:buClr>
              <a:buSzPct val="1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IMPOSIBILIDAD DETECTAR SOCIEDADES E INTEGR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 algn="just">
              <a:lnSpc>
                <a:spcPct val="90000"/>
              </a:lnSpc>
              <a:buClr>
                <a:srgbClr val="000000"/>
              </a:buClr>
              <a:buSzPct val="1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FALTA DE PRESENTACIÓN DE DDJJ IMPOSITIVAS Y DE RN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 algn="just">
              <a:lnSpc>
                <a:spcPct val="90000"/>
              </a:lnSpc>
              <a:buClr>
                <a:srgbClr val="000000"/>
              </a:buClr>
              <a:buSzPct val="1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FALTA DE LEGÍTIMA IMPRESIÓN DE FORMULARIOS PARA FAC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 algn="just">
              <a:lnSpc>
                <a:spcPct val="85000"/>
              </a:lnSpc>
              <a:buClr>
                <a:srgbClr val="000000"/>
              </a:buClr>
              <a:buSzPct val="1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INCONSISTENCIA ENTRE OBJETOS SOCIETARIOS Y 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 algn="just">
              <a:lnSpc>
                <a:spcPct val="90000"/>
              </a:lnSpc>
              <a:buClr>
                <a:srgbClr val="000000"/>
              </a:buClr>
              <a:buSzPct val="1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OBJETOS SOCIETARIOS AMPLIOS Y VA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EL OBJETIVO DE LA CREACIÓN DE LAS SOCIEDADES HA SIDO EL DE LA REALIZACIÓN DE OPERACIONES SIMULADAS DE COMPRAVENTA DE BIENES Y SERVICIOS PARA GENERAR VENTAJAS IMPOSITIVAS MEDIANTE FACTURAS APÓCRIF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2280" y="1219320"/>
            <a:ext cx="8915400" cy="1522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a0b"/>
              </a:gs>
              <a:gs pos="50000">
                <a:srgbClr val="0db4cb"/>
              </a:gs>
              <a:gs pos="100000">
                <a:srgbClr val="000a0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AA95D-9F8A-4F3C-AC02-DC66483D3598}" type="slidenum">
              <a:t>26</a:t>
            </a:fld>
          </a:p>
        </p:txBody>
      </p:sp>
    </p:spTree>
  </p:cSld>
  <p:transition spd="med">
    <p:pull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NTECEDENTE JURISPRUDENCIAL</a:t>
            </a:r>
            <a:br>
              <a:rPr sz="3200"/>
            </a:b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SOCIACIÓN ILÍCITA (II)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(cont. 2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SE ESTÁ EN PRESENCIA DE LOS ELEMENTOS QUE CONSTITUYEN EL TIPO OBJETIVO DE LA ASOCIACIÓN ILICITA (CP, 210), PUES EL GRUPO ESTÁ INTEGRADO POR MÁS DE 3 PERSONAS Y LA ACTIVIDAD SE PROLONGÓ DURANTE 1996 Y 1997 (PERMANENC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LA FINALIDAD DEL “SERVICIO” ES UNA PLURALIDAD DE PLANES DELICTIVOS QUE NO SE AGOTA EN UNA CONDUCTA DELICTIVA DETERMIN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NO SE REQUIERE LA EXISTENCIA DE OTROS DELITOS CONSUMADOS, NI SIQUIERA EL PRINCIPIO DE SU EJEC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DELITO INDEPENDIENTE DE LOS OTROS DELITOS QUE SE PUEDAN CO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SE ENCONTRARIA ACREDITADA “PRIMA FACIE” LA EXISTENCIA DE UN ACUERDO O PACTO ENTRE LOS IMPUTADOS, DE LO QUE SE INFIERE LA PRESENCIA DE UNA ORGAN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EL ORGANIZADOR NO ES EL PROMOTOR DE LA ASOCIACIÓN ILICITA SINO QUE SERIA ASIMILABLE A FUNCIONES GERENCIALES EN LA ORBITA EMPRES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2280" y="1447920"/>
            <a:ext cx="8915400" cy="1522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a0b"/>
              </a:gs>
              <a:gs pos="50000">
                <a:srgbClr val="0db4cb"/>
              </a:gs>
              <a:gs pos="100000">
                <a:srgbClr val="000a0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48AEC-BEB7-4D3C-86E2-1CB827932716}" type="slidenum">
              <a:t>27</a:t>
            </a:fld>
          </a:p>
        </p:txBody>
      </p:sp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RÉGIMEN TRIBUTARIO SANCIONATO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1219320"/>
            <a:ext cx="8915400" cy="1522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a0b"/>
              </a:gs>
              <a:gs pos="50000">
                <a:srgbClr val="0db4cb"/>
              </a:gs>
              <a:gs pos="100000">
                <a:srgbClr val="000a0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210168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2254320"/>
            <a:ext cx="23619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LEY PROCEDIMIENTO TRIBU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4235400"/>
            <a:ext cx="236196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LEY                  PENAL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4235400"/>
            <a:ext cx="236196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24.7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194940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INFRACCIONES FORM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77120" y="289260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INFRACCIONES MATER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00800" y="38988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DELITOS TRIBUT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00800" y="5149800"/>
            <a:ext cx="220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DELITOS FISCALES COMU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2254320"/>
            <a:ext cx="23619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11.6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48" idx="3"/>
            <a:endCxn id="55" idx="1"/>
          </p:cNvCxnSpPr>
          <p:nvPr/>
        </p:nvCxnSpPr>
        <p:spPr>
          <a:xfrm>
            <a:off x="2895120" y="276192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lg"/>
          </a:ln>
        </p:spPr>
      </p:cxnSp>
      <p:cxnSp>
        <p:nvCxnSpPr>
          <p:cNvPr id="57" name=""/>
          <p:cNvCxnSpPr>
            <a:stCxn id="49" idx="3"/>
            <a:endCxn id="50" idx="1"/>
          </p:cNvCxnSpPr>
          <p:nvPr/>
        </p:nvCxnSpPr>
        <p:spPr>
          <a:xfrm>
            <a:off x="2895120" y="473040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lg"/>
          </a:ln>
        </p:spPr>
      </p:cxnSp>
      <p:sp>
        <p:nvSpPr>
          <p:cNvPr id="58" name=""/>
          <p:cNvSpPr/>
          <p:nvPr/>
        </p:nvSpPr>
        <p:spPr>
          <a:xfrm>
            <a:off x="6400800" y="45403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DELITOS PREVIS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5" idx="3"/>
            <a:endCxn id="51" idx="1"/>
          </p:cNvCxnSpPr>
          <p:nvPr/>
        </p:nvCxnSpPr>
        <p:spPr>
          <a:xfrm flipV="1">
            <a:off x="5638320" y="2239200"/>
            <a:ext cx="839160" cy="523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sm" type="triangle" w="lg"/>
          </a:ln>
        </p:spPr>
      </p:cxnSp>
      <p:cxnSp>
        <p:nvCxnSpPr>
          <p:cNvPr id="60" name=""/>
          <p:cNvCxnSpPr>
            <a:stCxn id="55" idx="3"/>
            <a:endCxn id="52" idx="1"/>
          </p:cNvCxnSpPr>
          <p:nvPr/>
        </p:nvCxnSpPr>
        <p:spPr>
          <a:xfrm>
            <a:off x="5638320" y="2762280"/>
            <a:ext cx="839160" cy="421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sm" type="triangle" w="lg"/>
          </a:ln>
        </p:spPr>
      </p:cxnSp>
      <p:cxnSp>
        <p:nvCxnSpPr>
          <p:cNvPr id="61" name=""/>
          <p:cNvCxnSpPr>
            <a:stCxn id="50" idx="3"/>
            <a:endCxn id="53" idx="1"/>
          </p:cNvCxnSpPr>
          <p:nvPr/>
        </p:nvCxnSpPr>
        <p:spPr>
          <a:xfrm flipV="1">
            <a:off x="5638320" y="4066560"/>
            <a:ext cx="762840" cy="664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sm" type="triangle" w="lg"/>
          </a:ln>
        </p:spPr>
      </p:cxnSp>
      <p:cxnSp>
        <p:nvCxnSpPr>
          <p:cNvPr id="62" name=""/>
          <p:cNvCxnSpPr>
            <a:stCxn id="50" idx="3"/>
            <a:endCxn id="58" idx="1"/>
          </p:cNvCxnSpPr>
          <p:nvPr/>
        </p:nvCxnSpPr>
        <p:spPr>
          <a:xfrm flipV="1">
            <a:off x="5638320" y="4708080"/>
            <a:ext cx="762840" cy="23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sm" type="triangle" w="lg"/>
          </a:ln>
        </p:spPr>
      </p:cxnSp>
      <p:cxnSp>
        <p:nvCxnSpPr>
          <p:cNvPr id="63" name=""/>
          <p:cNvCxnSpPr/>
          <p:nvPr/>
        </p:nvCxnSpPr>
        <p:spPr>
          <a:xfrm flipH="1" rot="16200000">
            <a:off x="5913360" y="4830480"/>
            <a:ext cx="59472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4EE4C-2E6E-4BE0-8843-3672A1A150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INFRACCIONES A LOS DEBERES FORM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1066680"/>
            <a:ext cx="8915400" cy="1526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a0b"/>
              </a:gs>
              <a:gs pos="50000">
                <a:srgbClr val="0db4cb"/>
              </a:gs>
              <a:gs pos="100000">
                <a:srgbClr val="000a0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9494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1371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OMISIÓN PRESENTACIÓN DDJ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56200" y="3429000"/>
            <a:ext cx="212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DOMICILIO FIS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6840" y="4114800"/>
            <a:ext cx="335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OMISIÓN DATOS REQUERIDOS POR AFIP OPERACIONES INTERNACIO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43600" y="380988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RESISTENCIA INSP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286000"/>
            <a:ext cx="1905120" cy="88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OMISIÓN INFORMACIÓN OPERACIONES INTERNACIO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342900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INFRACCIÓN A LOS DEBERES FORM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4419720"/>
            <a:ext cx="21337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INCLUMPLIMIENTO REQUERIMIENTO    AFIP PRESENTACIÓN         DDJJ INFORMATI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5638680"/>
            <a:ext cx="16002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CONSUMACIÓN INFRACCIONES FORM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1447920"/>
            <a:ext cx="11430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ART         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24382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ART         38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3505320"/>
            <a:ext cx="11430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ART         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4572000"/>
            <a:ext cx="1143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ART         39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66880" y="5715000"/>
            <a:ext cx="1143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ART         39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91120" y="3048120"/>
            <a:ext cx="12952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GENÉRICA 1° PÁRRAF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3886200"/>
            <a:ext cx="12952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AGRAVADA 2° PÁRRAF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6840" y="4572000"/>
            <a:ext cx="32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FALTA CONSERVACIÓN COMPROBANTES OPERACIONES INTERNACIO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67" idx="3"/>
            <a:endCxn id="75" idx="1"/>
          </p:cNvCxnSpPr>
          <p:nvPr/>
        </p:nvCxnSpPr>
        <p:spPr>
          <a:xfrm>
            <a:off x="1905120" y="1714320"/>
            <a:ext cx="762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lg"/>
          </a:ln>
        </p:spPr>
      </p:cxnSp>
      <p:sp>
        <p:nvSpPr>
          <p:cNvPr id="84" name=""/>
          <p:cNvSpPr/>
          <p:nvPr/>
        </p:nvSpPr>
        <p:spPr>
          <a:xfrm>
            <a:off x="2133720" y="26668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72" idx="3"/>
            <a:endCxn id="77" idx="1"/>
          </p:cNvCxnSpPr>
          <p:nvPr/>
        </p:nvCxnSpPr>
        <p:spPr>
          <a:xfrm>
            <a:off x="1752480" y="3771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lg"/>
          </a:ln>
        </p:spPr>
      </p:cxnSp>
      <p:cxnSp>
        <p:nvCxnSpPr>
          <p:cNvPr id="86" name=""/>
          <p:cNvCxnSpPr>
            <a:stCxn id="73" idx="3"/>
            <a:endCxn id="78" idx="1"/>
          </p:cNvCxnSpPr>
          <p:nvPr/>
        </p:nvCxnSpPr>
        <p:spPr>
          <a:xfrm>
            <a:off x="2362320" y="4876560"/>
            <a:ext cx="30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lg"/>
          </a:ln>
        </p:spPr>
      </p:cxnSp>
      <p:cxnSp>
        <p:nvCxnSpPr>
          <p:cNvPr id="87" name=""/>
          <p:cNvCxnSpPr>
            <a:stCxn id="74" idx="3"/>
            <a:endCxn id="79" idx="1"/>
          </p:cNvCxnSpPr>
          <p:nvPr/>
        </p:nvCxnSpPr>
        <p:spPr>
          <a:xfrm>
            <a:off x="1828800" y="6019560"/>
            <a:ext cx="838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lg"/>
          </a:ln>
        </p:spPr>
      </p:cxnSp>
      <p:cxnSp>
        <p:nvCxnSpPr>
          <p:cNvPr id="88" name=""/>
          <p:cNvCxnSpPr>
            <a:stCxn id="77" idx="3"/>
            <a:endCxn id="80" idx="1"/>
          </p:cNvCxnSpPr>
          <p:nvPr/>
        </p:nvCxnSpPr>
        <p:spPr>
          <a:xfrm flipV="1">
            <a:off x="3809520" y="3351960"/>
            <a:ext cx="381960" cy="420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sm" type="triangle" w="lg"/>
          </a:ln>
        </p:spPr>
      </p:cxnSp>
      <p:cxnSp>
        <p:nvCxnSpPr>
          <p:cNvPr id="89" name=""/>
          <p:cNvCxnSpPr>
            <a:stCxn id="77" idx="3"/>
            <a:endCxn id="81" idx="1"/>
          </p:cNvCxnSpPr>
          <p:nvPr/>
        </p:nvCxnSpPr>
        <p:spPr>
          <a:xfrm>
            <a:off x="3809520" y="3772080"/>
            <a:ext cx="381960" cy="419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sm" type="triangle" w="lg"/>
          </a:ln>
        </p:spPr>
      </p:cxnSp>
      <p:cxnSp>
        <p:nvCxnSpPr>
          <p:cNvPr id="90" name=""/>
          <p:cNvCxnSpPr>
            <a:endCxn id="68" idx="1"/>
          </p:cNvCxnSpPr>
          <p:nvPr/>
        </p:nvCxnSpPr>
        <p:spPr>
          <a:xfrm flipH="1" flipV="1" rot="5400000">
            <a:off x="5523480" y="3758040"/>
            <a:ext cx="624600" cy="241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triangle" w="lg"/>
          </a:ln>
        </p:spPr>
      </p:cxnSp>
      <p:cxnSp>
        <p:nvCxnSpPr>
          <p:cNvPr id="91" name=""/>
          <p:cNvCxnSpPr>
            <a:stCxn id="81" idx="3"/>
            <a:endCxn id="69" idx="1"/>
          </p:cNvCxnSpPr>
          <p:nvPr/>
        </p:nvCxnSpPr>
        <p:spPr>
          <a:xfrm>
            <a:off x="5486040" y="4190760"/>
            <a:ext cx="461160" cy="153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sm" type="triangle" w="lg"/>
          </a:ln>
        </p:spPr>
      </p:cxnSp>
      <p:cxnSp>
        <p:nvCxnSpPr>
          <p:cNvPr id="92" name=""/>
          <p:cNvCxnSpPr>
            <a:stCxn id="81" idx="3"/>
            <a:endCxn id="82" idx="1"/>
          </p:cNvCxnSpPr>
          <p:nvPr/>
        </p:nvCxnSpPr>
        <p:spPr>
          <a:xfrm>
            <a:off x="5486040" y="4190760"/>
            <a:ext cx="461160" cy="610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sm" type="triangle" w="lg"/>
          </a:ln>
        </p:spPr>
      </p:cxnSp>
      <p:cxnSp>
        <p:nvCxnSpPr>
          <p:cNvPr id="93" name=""/>
          <p:cNvCxnSpPr>
            <a:endCxn id="70" idx="1"/>
          </p:cNvCxnSpPr>
          <p:nvPr/>
        </p:nvCxnSpPr>
        <p:spPr>
          <a:xfrm flipH="1" flipV="1" rot="5400000">
            <a:off x="5707440" y="3954600"/>
            <a:ext cx="24372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3B233-73D1-4BBF-A1A4-2E2078C587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CLAUSURA, MULTA Y SUSPENSIÓN DE LA MATRÍCU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ACCIONES TÍPICAS (OPERACIONES SUPERIORES A $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A) NO ENTREGAREN O NO EMITIEREN FACTURAS O COMPROBANTES EQUIVALENTES POR UNA O MÁS OPERACIONES COMERCIALES, INDUSTRIALES, AGROPECUARIAS O DE PRESTACIÓN DE SERVICIOS QUE REALICEN EN LAS FORMAS, REQUISITOS Y CONDICIONES QUE ESTABLEZCA LA AFI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B) NO LLEVAREN REGISTRACIONES O ANOTACIONES DE SUS ADQUISICIONES DE BIENES O SERVICIOS O DE SUS VENTAS, O DE LAS PRESTACIONES DE SERVICIOS DE INDUSTRIALIZACIÓN, O, SI LAS LLEVAREN, FUEREN INCOMPLETAS O DEFECTUOSAS, INCUMPLIENDO CON LAS FORMAS, REQUISITOS Y CONDICIONES EXIGIDOS POR LA AFI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C) ENCARGUEN O TRANSPORTEN COMERCIALMENTE MERCADERÍAS, AUNQUE NO SEAN DE SU PROPIEDAD, SIN EL RESPALDO DOCUMENTAL QUE EXIGE LA AFI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1295280"/>
            <a:ext cx="8915400" cy="1526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a0b"/>
              </a:gs>
              <a:gs pos="50000">
                <a:srgbClr val="0db4cb"/>
              </a:gs>
              <a:gs pos="100000">
                <a:srgbClr val="000a0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07E2C-D4EF-4266-87ED-461075B898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CLAUSURA, MULTA Y SUSPENSIÓN DE LA MATRÍCULA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Arial"/>
              </a:rPr>
              <a:t>D) NO SE ENCONTRAREN INSCRIPTOS COMO CONTRIBUYENTES O RESPONSABLES ANTE LA ADMINISTRACIÓN FEDERAL DE INGRESOS PÚBLICOS CUANDO ESTUVIEREN OBLIGADOS A HACERL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Arial"/>
              </a:rPr>
              <a:t>E) NO POSEYEREN O NO CONSERVAREN LAS FACTURAS O COMPROBANTES EQUIVALENTES QUE ACREDITAREN LA ADQUISICIÓN O TENENCIA DE BIENES Y/O SERVICIOS DESTINADOS O NECESARIOS PARA EL DESARROLLO DE LA ACTIVIDAD DE QUE SE TRA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Arial"/>
              </a:rPr>
              <a:t>F) NO POSEYEREN, O NO MANTUVIEREN EN CONDICIONES DE OPERATIVIDAD O NO UTILIZAREN LOS INSTRUMENTOS DE MEDICIÓN Y CONTROL DE LA PRODUCCIÓN DISPUESTOS POR LAS LEYES, DECRETOS REGLAMENTARIOS DICTADOS POR EL PODER EJECUTIVO NACIONAL Y TODA OTRA NORMA DE CUMPLIMIENTO OBLIGATORIO, TENDIENTES A POSIBILITAR LA VERIFICACIÓN Y FISCALIZACIÓN DE LOS TRIBUTOS A CARGO DE LA ADMINISTRACIÓN FEDERAL DE INGRESOS PÚBLIC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1295280"/>
            <a:ext cx="8915400" cy="1526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a0b"/>
              </a:gs>
              <a:gs pos="50000">
                <a:srgbClr val="0db4cb"/>
              </a:gs>
              <a:gs pos="100000">
                <a:srgbClr val="000a0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BBCB1-A079-4680-892B-A856CEF749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CLAUSURAS Y OTRAS SAN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1143000"/>
            <a:ext cx="8915400" cy="1522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a0b"/>
              </a:gs>
              <a:gs pos="50000">
                <a:srgbClr val="0db4cb"/>
              </a:gs>
              <a:gs pos="100000">
                <a:srgbClr val="000a0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20257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3657600"/>
            <a:ext cx="17528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INFRAC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1600200"/>
            <a:ext cx="3352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GRAVE PERJUI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ANTECEDENTES DEL INFRACTOR  PERÍODO NO SUPERIOR A UN AÑ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44680" y="1981080"/>
            <a:ext cx="14652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VENDEDOR  O        LOC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5613480"/>
            <a:ext cx="1676160" cy="63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CONSUMIDOR 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55920" y="1447920"/>
            <a:ext cx="1687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CLAUSURA PREVENTIVA ART35 INC 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84720" y="2514600"/>
            <a:ext cx="21924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CLAUSURA ESTABLECIMIENTO ART 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3581280"/>
            <a:ext cx="198108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AGENTES FISCALIZADORES ART 35 INC 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4648320"/>
            <a:ext cx="259092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INTERDICCIÓN, SECUESTRO Y DECOMISO DE BIE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5638680"/>
            <a:ext cx="15238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MULTA       ART 39            1° PÁRRA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29400" y="251460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3 a 10 DÍ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MULTA $300  a $3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SUSPENSIÓN MATRÍCU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03" idx="3"/>
            <a:endCxn id="105" idx="1"/>
          </p:cNvCxnSpPr>
          <p:nvPr/>
        </p:nvCxnSpPr>
        <p:spPr>
          <a:xfrm flipV="1">
            <a:off x="1904760" y="2437560"/>
            <a:ext cx="440280" cy="1600920"/>
          </a:xfrm>
          <a:prstGeom prst="bentConnector3">
            <a:avLst>
              <a:gd name="adj1" fmla="val 49754"/>
            </a:avLst>
          </a:prstGeom>
          <a:ln w="9360">
            <a:solidFill>
              <a:srgbClr val="000000"/>
            </a:solidFill>
            <a:miter/>
            <a:tailEnd len="sm" type="triangle" w="lg"/>
          </a:ln>
        </p:spPr>
      </p:cxnSp>
      <p:cxnSp>
        <p:nvCxnSpPr>
          <p:cNvPr id="114" name=""/>
          <p:cNvCxnSpPr/>
          <p:nvPr/>
        </p:nvCxnSpPr>
        <p:spPr>
          <a:xfrm flipH="1" rot="16200000">
            <a:off x="1301040" y="4883040"/>
            <a:ext cx="18928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triangle" w="lg"/>
          </a:ln>
        </p:spPr>
      </p:cxnSp>
      <p:sp>
        <p:nvSpPr>
          <p:cNvPr id="115" name=""/>
          <p:cNvSpPr/>
          <p:nvPr/>
        </p:nvSpPr>
        <p:spPr>
          <a:xfrm>
            <a:off x="4038480" y="6019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05" idx="3"/>
            <a:endCxn id="107" idx="1"/>
          </p:cNvCxnSpPr>
          <p:nvPr/>
        </p:nvCxnSpPr>
        <p:spPr>
          <a:xfrm flipV="1">
            <a:off x="3809520" y="1904400"/>
            <a:ext cx="446760" cy="533880"/>
          </a:xfrm>
          <a:prstGeom prst="bentConnector3">
            <a:avLst>
              <a:gd name="adj1" fmla="val 49758"/>
            </a:avLst>
          </a:prstGeom>
          <a:ln w="9360">
            <a:solidFill>
              <a:srgbClr val="000000"/>
            </a:solidFill>
            <a:miter/>
            <a:tailEnd len="sm" type="triangle" w="lg"/>
          </a:ln>
        </p:spPr>
      </p:cxnSp>
      <p:cxnSp>
        <p:nvCxnSpPr>
          <p:cNvPr id="117" name=""/>
          <p:cNvCxnSpPr>
            <a:stCxn id="105" idx="3"/>
            <a:endCxn id="108" idx="1"/>
          </p:cNvCxnSpPr>
          <p:nvPr/>
        </p:nvCxnSpPr>
        <p:spPr>
          <a:xfrm>
            <a:off x="3809520" y="2438280"/>
            <a:ext cx="475560" cy="496080"/>
          </a:xfrm>
          <a:prstGeom prst="bentConnector3">
            <a:avLst>
              <a:gd name="adj1" fmla="val 48484"/>
            </a:avLst>
          </a:prstGeom>
          <a:ln w="9360">
            <a:solidFill>
              <a:srgbClr val="000000"/>
            </a:solidFill>
            <a:miter/>
            <a:tailEnd len="sm" type="triangle" w="lg"/>
          </a:ln>
        </p:spPr>
      </p:cxnSp>
      <p:cxnSp>
        <p:nvCxnSpPr>
          <p:cNvPr id="118" name=""/>
          <p:cNvCxnSpPr>
            <a:endCxn id="109" idx="1"/>
          </p:cNvCxnSpPr>
          <p:nvPr/>
        </p:nvCxnSpPr>
        <p:spPr>
          <a:xfrm flipH="1" rot="16200000">
            <a:off x="3631320" y="3301200"/>
            <a:ext cx="111816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triangle" w="lg"/>
          </a:ln>
        </p:spPr>
      </p:cxnSp>
      <p:cxnSp>
        <p:nvCxnSpPr>
          <p:cNvPr id="119" name=""/>
          <p:cNvCxnSpPr>
            <a:endCxn id="110" idx="1"/>
          </p:cNvCxnSpPr>
          <p:nvPr/>
        </p:nvCxnSpPr>
        <p:spPr>
          <a:xfrm flipH="1" rot="16200000">
            <a:off x="3656520" y="4343040"/>
            <a:ext cx="106740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triangle" w="lg"/>
          </a:ln>
        </p:spPr>
      </p:cxnSp>
      <p:sp>
        <p:nvSpPr>
          <p:cNvPr id="120" name=""/>
          <p:cNvSpPr/>
          <p:nvPr/>
        </p:nvSpPr>
        <p:spPr>
          <a:xfrm>
            <a:off x="7010280" y="3657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SANCIONES ART 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84872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24480" y="4038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81680" y="5181480"/>
            <a:ext cx="1143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ART 4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D9A17-5A75-421A-8F02-8799883C3D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OMISIÓN FISCAL (ART 45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OMISIÓN DEL PAGO DE IMPUE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MEDI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FALTA DE PRESENTACIÓN DE DDJ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PRESENTACIÓN DE DDJJ INEXAC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MULTA DEL 50% AL 100% DEL GRAVAMEN DEJADO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PAG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RE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PERCIB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SIEMPRE QUE NO CORRESPONDA LA APLICACIÓN DE LA FIGURA DE DEFRAUDACIÓN FISCAL (ART 4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N TANTO NO EXISTA ERROR EXCUS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AGENTES DE RETENCIÓN O PERCEPCIÓN QUE OMITIERAN ACTUAR COMO 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OMISIÓN DE DECLARACIÓN Y/O PAGO DE INGRESOS A CUENTA O ANTICIPOS IMPOSI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3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MULTA DE 100% A 400% EN LOS CASOS DE OPERACIONES CELEBRADAS CON SUJETOS DEL EX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1143000"/>
            <a:ext cx="8915400" cy="1522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a0b"/>
              </a:gs>
              <a:gs pos="50000">
                <a:srgbClr val="0db4cb"/>
              </a:gs>
              <a:gs pos="100000">
                <a:srgbClr val="000a0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630BA-AACA-4768-BAE8-90340D3DAB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DEFRAUDACIÓN FISC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1219320"/>
            <a:ext cx="8915400" cy="1522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a0b"/>
              </a:gs>
              <a:gs pos="50000">
                <a:srgbClr val="0db4cb"/>
              </a:gs>
              <a:gs pos="100000">
                <a:srgbClr val="000a0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210168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3352680"/>
            <a:ext cx="1828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DEFRAUDACIÓN FIS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4120" y="16765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ART         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4120" y="34290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ART         46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4952880"/>
            <a:ext cx="10670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ART         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43200" y="1676520"/>
            <a:ext cx="1752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MULTA POR DEFRAUD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43200" y="3352680"/>
            <a:ext cx="1752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UTILIZACIÓN INDEBIDA DE QUEBRA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4952880"/>
            <a:ext cx="1752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MULTA AGENTES DE RETENCIÓN O PERCEP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10280" y="2362320"/>
            <a:ext cx="175284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PRESUNCIONES DEFRAUDACIÓN FISCAL            ART 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30" idx="3"/>
            <a:endCxn id="135" idx="1"/>
          </p:cNvCxnSpPr>
          <p:nvPr/>
        </p:nvCxnSpPr>
        <p:spPr>
          <a:xfrm>
            <a:off x="2209680" y="369540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lg"/>
          </a:ln>
        </p:spPr>
      </p:cxnSp>
      <p:cxnSp>
        <p:nvCxnSpPr>
          <p:cNvPr id="139" name=""/>
          <p:cNvCxnSpPr>
            <a:stCxn id="136" idx="1"/>
            <a:endCxn id="134" idx="1"/>
          </p:cNvCxnSpPr>
          <p:nvPr/>
        </p:nvCxnSpPr>
        <p:spPr>
          <a:xfrm flipH="1" rot="10800000">
            <a:off x="2742840" y="2018520"/>
            <a:ext cx="2160" cy="32774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headEnd len="sm" type="triangle" w="lg"/>
            <a:tailEnd len="sm" type="triangle" w="lg"/>
          </a:ln>
        </p:spPr>
      </p:cxnSp>
      <p:cxnSp>
        <p:nvCxnSpPr>
          <p:cNvPr id="140" name=""/>
          <p:cNvCxnSpPr>
            <a:stCxn id="132" idx="3"/>
            <a:endCxn id="137" idx="1"/>
          </p:cNvCxnSpPr>
          <p:nvPr/>
        </p:nvCxnSpPr>
        <p:spPr>
          <a:xfrm flipV="1">
            <a:off x="6400440" y="2857320"/>
            <a:ext cx="610200" cy="876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1" idx="3"/>
            <a:endCxn id="137" idx="1"/>
          </p:cNvCxnSpPr>
          <p:nvPr/>
        </p:nvCxnSpPr>
        <p:spPr>
          <a:xfrm>
            <a:off x="6400440" y="1980720"/>
            <a:ext cx="610200" cy="877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sm" type="triangle" w="lg"/>
          </a:ln>
        </p:spPr>
      </p:cxnSp>
      <p:sp>
        <p:nvSpPr>
          <p:cNvPr id="142" name=""/>
          <p:cNvSpPr/>
          <p:nvPr/>
        </p:nvSpPr>
        <p:spPr>
          <a:xfrm>
            <a:off x="4495680" y="19810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95680" y="37339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95680" y="5257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08E6D-F056-4CAE-B486-AB6A033EF5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9T13:11:15Z</dcterms:created>
  <dc:creator>Secretaria</dc:creator>
  <dc:description/>
  <dc:language>en-US</dc:language>
  <cp:lastModifiedBy>Congresos y Eventos</cp:lastModifiedBy>
  <dcterms:modified xsi:type="dcterms:W3CDTF">2005-08-10T20:47:13Z</dcterms:modified>
  <cp:revision>74</cp:revision>
  <dc:subject/>
  <dc:title>PRECIOS DE TRANSFERENCIA  INFORMACIÓN A SUMINISTRAR A LA AFIP EN OPERACIONES ENTRE EMPRESAS INDEPENDIENTES RG 1918</dc:title>
</cp:coreProperties>
</file>