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5D41F-3767-46BD-8F35-9571850D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CCD92-0390-465E-A113-054F9C815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0D62-9770-46A8-8FA7-11A81BF79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D9305-C6AA-4730-8892-4611826CF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5CEA4-7418-46C4-A99D-63EBFCF84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BE0DC-187C-4CAE-BB0F-24AFD24EB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283E6-42DD-48E3-89B4-0B7B9557F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E1A67-05D9-4886-806A-810A026FA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84595-D51B-473C-A09F-6C7A858FE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F3BEF-30CF-4EA9-BE81-D2814546E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F1CB0-0421-4651-B98A-54B6DF05A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31815-2DCA-4CC9-81FA-344F74A4E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EB6B-2F05-4DB8-8C1B-A815A903A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FE1A8-CCD7-487D-B2B7-38CD35A56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12D57-3E30-4369-8C3A-4F1808753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6B9EB-9352-450A-9615-0995FD691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46837-0909-4419-9E25-2D1FC3F06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A5521-B203-4B42-ABE1-5AB7C7F5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67DF-873C-47B4-9F63-83F82E4C8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F32E8-0A51-4902-AD7D-3234B718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B246-AC14-4F9A-8EBC-6564CACB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4813-22C1-47BC-BD8F-EFDBCD1D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796B8-A90E-43E3-8425-0FFEC9FE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8BA8-E03D-4A0E-B32F-C26390927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8BC6-F720-46AE-AD98-AB7C806AAEB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32CA-386F-467A-B2F1-8C23A938F89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04280"/>
            <a:ext cx="7772400" cy="22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ffffff"/>
                </a:solidFill>
                <a:latin typeface="Arial"/>
              </a:rPr>
              <a:t>El IVA y las exportaciones</a:t>
            </a:r>
            <a:endParaRPr b="0" lang="en-US" sz="5400" spc="-1" strike="noStrike">
              <a:solidFill>
                <a:srgbClr val="ffffff"/>
              </a:solidFill>
              <a:latin typeface="Arial"/>
            </a:endParaRPr>
          </a:p>
        </p:txBody>
      </p:sp>
      <p:sp>
        <p:nvSpPr>
          <p:cNvPr id="163" name="PlaceHolder 2"/>
          <p:cNvSpPr>
            <a:spLocks noGrp="1"/>
          </p:cNvSpPr>
          <p:nvPr>
            <p:ph type="subTitle"/>
          </p:nvPr>
        </p:nvSpPr>
        <p:spPr>
          <a:xfrm>
            <a:off x="684360" y="2852640"/>
            <a:ext cx="7920000" cy="38894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ASPECTOS CONFLICTIVOS DE INTERPRETACIÓN Y REGLAMENTACIÓN</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REQUISITOS SOBRE LOS CRÉDITOS FISCALES</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Arial"/>
              </a:rPr>
              <a:t>Dr. Sergio Armando Simesen de Biel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osición de la CSJN en “Bildown S.A.” (27/12/2011)</a:t>
            </a:r>
            <a:endParaRPr b="0" lang="en-US" sz="3200" spc="-1" strike="noStrike">
              <a:solidFill>
                <a:srgbClr val="ffffff"/>
              </a:solidFill>
              <a:latin typeface="Arial"/>
            </a:endParaRPr>
          </a:p>
        </p:txBody>
      </p:sp>
      <p:sp>
        <p:nvSpPr>
          <p:cNvPr id="181" name="PlaceHolder 2"/>
          <p:cNvSpPr>
            <a:spLocks noGrp="1"/>
          </p:cNvSpPr>
          <p:nvPr>
            <p:ph/>
          </p:nvPr>
        </p:nvSpPr>
        <p:spPr>
          <a:xfrm>
            <a:off x="468360" y="1844640"/>
            <a:ext cx="8207280" cy="489744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 precepto alguno que subordine el derecho a la restitución del IVA al exportador al cumplimiento de las obligaciones sustantivas por parte de los terceros con que él operó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uede el Fisco liberarse de su inexcusable deber de verificar, fiscalizar y cobrar las sumas adeudadas por los contribuyentes, transfiriendo esa responsabilidad hacia un tercero, sin la existencia de una norma legal que así lo disponga.</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1) </a:t>
            </a:r>
            <a:r>
              <a:rPr b="1" lang="es-AR" sz="2000" spc="-1" strike="noStrike">
                <a:solidFill>
                  <a:srgbClr val="ffffff"/>
                </a:solidFill>
                <a:latin typeface="Arial"/>
              </a:rPr>
              <a:t>Argumento que también ha sido expuesto por la Sala III de la Cámara Nacional de Apelaciones en lo Contencioso Administrativo Federal, en “La Luguenze SRL”, 31/10/2012, caso en que se había impugnado el crédito fiscal utilizado, con el único fundamento de la falta de capacidad económica del proveedor para realizar las operaciones cuestionad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7920"/>
            <a:ext cx="821844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t>
            </a:r>
            <a:r>
              <a:rPr b="1" lang="es-AR" sz="3200" spc="-1" strike="noStrike">
                <a:solidFill>
                  <a:srgbClr val="ffffff"/>
                </a:solidFill>
                <a:latin typeface="Arial"/>
              </a:rPr>
              <a:t>Detracción” de importes por el Juez Administrativo: las dilaciones en el procedimiento (arts. 24 y 25 RG 2000/06)</a:t>
            </a:r>
            <a:endParaRPr b="0" lang="en-US" sz="3200" spc="-1" strike="noStrike">
              <a:solidFill>
                <a:srgbClr val="ffffff"/>
              </a:solidFill>
              <a:latin typeface="Arial"/>
            </a:endParaRPr>
          </a:p>
        </p:txBody>
      </p:sp>
      <p:sp>
        <p:nvSpPr>
          <p:cNvPr id="183" name="PlaceHolder 2"/>
          <p:cNvSpPr>
            <a:spLocks noGrp="1"/>
          </p:cNvSpPr>
          <p:nvPr>
            <p:ph/>
          </p:nvPr>
        </p:nvSpPr>
        <p:spPr>
          <a:xfrm>
            <a:off x="457200" y="2421000"/>
            <a:ext cx="8229600" cy="41767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Interposición del Recurso de Apelación (art. 74 DR ley 11.683)</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Nota en disconformidad dentro de lo 15 días hábiles posteriores a la notificació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u="sng">
                <a:solidFill>
                  <a:srgbClr val="ffffff"/>
                </a:solidFill>
                <a:uFillTx/>
                <a:latin typeface="Arial"/>
              </a:rPr>
              <a:t>Limitada a:</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antidad de comprobantes no superior a 50</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El monto vinculado sujeto a análisis sea inferior al 5% de la solicitu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os fuentes permanentes de conflicto: inclusión en la base e-APOC e “inconsistencias asociadas al comportamiento fiscal</a:t>
            </a:r>
            <a:r>
              <a:rPr b="0" lang="es-AR" sz="2400" spc="-1" strike="noStrike">
                <a:solidFill>
                  <a:srgbClr val="ffffff"/>
                </a:solidFill>
                <a:latin typeface="Arial"/>
              </a:rPr>
              <a:t>”</a:t>
            </a:r>
            <a:endParaRPr b="0" lang="en-US" sz="2400" spc="-1" strike="noStrike">
              <a:solidFill>
                <a:srgbClr val="ffffff"/>
              </a:solidFill>
              <a:latin typeface="Arial"/>
            </a:endParaRPr>
          </a:p>
        </p:txBody>
      </p:sp>
      <p:sp>
        <p:nvSpPr>
          <p:cNvPr id="185" name="PlaceHolder 2"/>
          <p:cNvSpPr>
            <a:spLocks noGrp="1"/>
          </p:cNvSpPr>
          <p:nvPr>
            <p:ph/>
          </p:nvPr>
        </p:nvSpPr>
        <p:spPr>
          <a:xfrm>
            <a:off x="395280" y="1700280"/>
            <a:ext cx="8229600" cy="5013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ase e-APOC: “Cooperativa Agropecuaria Unión y Progreso Ltda.”, TFN, Sala D, 10/07/2013.</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t>
            </a:r>
            <a:r>
              <a:rPr b="1" lang="es-AR" sz="2000" spc="-1" strike="noStrike">
                <a:solidFill>
                  <a:srgbClr val="ffffff"/>
                </a:solidFill>
                <a:latin typeface="Arial"/>
              </a:rPr>
              <a:t>Gexim SRL”,TFN, Sala C, 28/02/2014: </a:t>
            </a:r>
            <a:r>
              <a:rPr b="1" i="1" lang="es-AR" sz="2000" spc="-1" strike="noStrike">
                <a:solidFill>
                  <a:srgbClr val="ffffff"/>
                </a:solidFill>
                <a:latin typeface="Arial"/>
              </a:rPr>
              <a:t>“</a:t>
            </a:r>
            <a:r>
              <a:rPr b="1" i="1" lang="es-ES" sz="2000" spc="-1" strike="noStrike">
                <a:solidFill>
                  <a:srgbClr val="ffffff"/>
                </a:solidFill>
                <a:latin typeface="Arial"/>
              </a:rPr>
              <a:t>Que debe concluirse respecto del proveedor analizado que el organismo fiscal no ha logrado</a:t>
            </a:r>
            <a:r>
              <a:rPr b="1" lang="es-ES" sz="2000" spc="-1" strike="noStrike">
                <a:solidFill>
                  <a:srgbClr val="ffffff"/>
                </a:solidFill>
                <a:latin typeface="Arial"/>
              </a:rPr>
              <a:t> </a:t>
            </a:r>
            <a:r>
              <a:rPr b="1" i="1" lang="es-ES" sz="2000" spc="-1" strike="noStrike">
                <a:solidFill>
                  <a:srgbClr val="ffffff"/>
                </a:solidFill>
                <a:latin typeface="Arial"/>
              </a:rPr>
              <a:t>descalificar con pruebas fehacientes, la inexistencia del mismo, como así tampoco que sus facturas fueran apócrifas en lo que se refiere a los períodos involucrados en autos, la actora tomó los recaudos exigidos por las normas para la comprobación de las facturas emitidas por Agroservicio Rosario S.R.L. y vale reiterar aquí que en la base E-apóc fue incorporada la empresa el 24/02/2010, advirtiendo además que es el propio ente fiscal que corroboró el domicilio fiscal de ésta por sus funcionarios, conforme acta de fecha 16 de diciembre de 2008, resultando confuso que casi un mes más tarde (07/01/2009), el informe final de inspección señalara la imposibilidad de la localización de persona alguna en el domicilio fis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Exigencias razonables respecto del cómputo del “crédito fiscal”</a:t>
            </a:r>
            <a:endParaRPr b="0" lang="en-US" sz="4000" spc="-1" strike="noStrike">
              <a:solidFill>
                <a:srgbClr val="ffffff"/>
              </a:solidFill>
              <a:latin typeface="Arial"/>
            </a:endParaRPr>
          </a:p>
        </p:txBody>
      </p:sp>
      <p:sp>
        <p:nvSpPr>
          <p:cNvPr id="187" name="PlaceHolder 2"/>
          <p:cNvSpPr>
            <a:spLocks noGrp="1"/>
          </p:cNvSpPr>
          <p:nvPr>
            <p:ph/>
          </p:nvPr>
        </p:nvSpPr>
        <p:spPr>
          <a:xfrm>
            <a:off x="468360" y="1773000"/>
            <a:ext cx="8229600" cy="4717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currencia del </a:t>
            </a:r>
            <a:r>
              <a:rPr b="1" i="1" lang="es-ES" sz="3200" spc="-1" strike="noStrike" u="sng">
                <a:solidFill>
                  <a:srgbClr val="ffffff"/>
                </a:solidFill>
                <a:uFillTx/>
                <a:latin typeface="Arial"/>
              </a:rPr>
              <a:t>aspecto material</a:t>
            </a:r>
            <a:r>
              <a:rPr b="1" lang="es-ES" sz="3200" spc="-1" strike="noStrike">
                <a:solidFill>
                  <a:srgbClr val="ffffff"/>
                </a:solidFill>
                <a:latin typeface="Arial"/>
              </a:rPr>
              <a:t> (existencia de la operación que da origen al crédito) y del </a:t>
            </a:r>
            <a:r>
              <a:rPr b="1" i="1" lang="es-ES" sz="3200" spc="-1" strike="noStrike" u="sng">
                <a:solidFill>
                  <a:srgbClr val="ffffff"/>
                </a:solidFill>
                <a:uFillTx/>
                <a:latin typeface="Arial"/>
              </a:rPr>
              <a:t>aspecto formal </a:t>
            </a:r>
            <a:r>
              <a:rPr b="1" lang="es-ES" sz="3200" spc="-1" strike="noStrike">
                <a:solidFill>
                  <a:srgbClr val="ffffff"/>
                </a:solidFill>
                <a:latin typeface="Arial"/>
              </a:rPr>
              <a:t>(discriminación del impuesto, cuando correspondiere por expresa disposición leg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 conclusión tiene su basamento principal en la presunción de la falta de pago del impuesto en la etapa anterior (arts. 37 y 41 ley del I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Plazo de pago de las devoluciones</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Se hará efectivo el pago dentro de los 5 días hábiles administrativos inmediatos siguientes a la notificación de la comunicación del Juez Administrativo:</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Siempre que no se registren deudas líquidas y exigibles de tipo impositivo, previsional y/o aduanero a esa fech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lazo meramente ordenato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Acerca de los medios de pago</a:t>
            </a:r>
            <a:endParaRPr b="0" lang="en-US" sz="4000" spc="-1" strike="noStrike">
              <a:solidFill>
                <a:srgbClr val="ffffff"/>
              </a:solidFill>
              <a:latin typeface="Arial"/>
            </a:endParaRPr>
          </a:p>
        </p:txBody>
      </p:sp>
      <p:sp>
        <p:nvSpPr>
          <p:cNvPr id="191"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nexo IV RG 2.000: cumplir con la ley 25.345 y la RG (AFIP) 1.547 (ej. Cheques cruzados y con cláusula “para acreditar en cuenta”)</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plicabilidad de la sentencia “Mera, Miguel Ángel” (CSJN, 19/03/2014) en casos en que se acredita la veracidad de las operacion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Tratándose de un Régimen Especial opcional, el sometimiento voluntario implica aceptar las condiciones establecid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Arial"/>
              </a:rPr>
              <a:t>Un agregado de última hora</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Resolución General 3.668/2014</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Factura tipo “A” con las restricciones del art. 12 de la ley del IV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s exportaciones no constituyen “operaciones gravada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ntecedentes de su reconocimiento por el Fisco</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resentación del F. 8001 también para exportad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125360"/>
            <a:ext cx="82296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Arial"/>
              </a:rPr>
              <a:t>FIN DE LA EXPOSICIÓN</a:t>
            </a:r>
            <a:endParaRPr b="0" lang="en-US" sz="4400" spc="-1" strike="noStrike">
              <a:solidFill>
                <a:srgbClr val="ffffff"/>
              </a:solidFill>
              <a:latin typeface="Arial"/>
            </a:endParaRPr>
          </a:p>
        </p:txBody>
      </p:sp>
      <p:sp>
        <p:nvSpPr>
          <p:cNvPr id="195" name="PlaceHolder 2"/>
          <p:cNvSpPr>
            <a:spLocks noGrp="1"/>
          </p:cNvSpPr>
          <p:nvPr>
            <p:ph/>
          </p:nvPr>
        </p:nvSpPr>
        <p:spPr>
          <a:xfrm>
            <a:off x="468360" y="3141720"/>
            <a:ext cx="8229600" cy="349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Mi especial agradecimiento a los concurrentes y al Consejo Profesional de Ciencias Económicas de la CAB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Arial"/>
              </a:rPr>
              <a:t>Breve presentación del tema</a:t>
            </a:r>
            <a:endParaRPr b="0" lang="en-US" sz="4400" spc="-1" strike="noStrike">
              <a:solidFill>
                <a:srgbClr val="ffffff"/>
              </a:solidFill>
              <a:latin typeface="Arial"/>
            </a:endParaRPr>
          </a:p>
        </p:txBody>
      </p:sp>
      <p:sp>
        <p:nvSpPr>
          <p:cNvPr id="16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l criterio “país de destino” como elección legislativa, </a:t>
            </a:r>
            <a:r>
              <a:rPr b="1" i="1" lang="es-AR" sz="3200" spc="-1" strike="noStrike" u="sng">
                <a:solidFill>
                  <a:srgbClr val="ffffff"/>
                </a:solidFill>
                <a:uFillTx/>
                <a:latin typeface="Arial"/>
              </a:rPr>
              <a:t>implica</a:t>
            </a:r>
            <a:r>
              <a:rPr b="1" lang="es-AR"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xención de las exportacione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Complemento: tasa “cero”</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t>
            </a:r>
            <a:r>
              <a:rPr b="1" lang="es-AR" sz="3200" spc="-1" strike="noStrike">
                <a:solidFill>
                  <a:srgbClr val="ffffff"/>
                </a:solidFill>
                <a:latin typeface="Arial"/>
              </a:rPr>
              <a:t>Recupero” del IVA vinculado con exportaciones</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ermitir los “ajustes de frontera”</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Necesidad de no obstaculizar el recupero y resolverlo en tiempos razon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Gasparri y Cía. S.A.”, CSJN (16/06/1993)</a:t>
            </a:r>
            <a:r>
              <a:rPr b="0" lang="es-ES" sz="4000" spc="-1" strike="noStrike">
                <a:solidFill>
                  <a:srgbClr val="ffffff"/>
                </a:solidFill>
                <a:latin typeface="Arial"/>
              </a:rPr>
              <a:t> </a:t>
            </a:r>
            <a:endParaRPr b="0" lang="en-US" sz="4000" spc="-1" strike="noStrike">
              <a:solidFill>
                <a:srgbClr val="ffffff"/>
              </a:solidFill>
              <a:latin typeface="Arial"/>
            </a:endParaRPr>
          </a:p>
        </p:txBody>
      </p:sp>
      <p:sp>
        <p:nvSpPr>
          <p:cNvPr id="167" name="PlaceHolder 2"/>
          <p:cNvSpPr>
            <a:spLocks noGrp="1"/>
          </p:cNvSpPr>
          <p:nvPr>
            <p:ph/>
          </p:nvPr>
        </p:nvSpPr>
        <p:spPr>
          <a:xfrm>
            <a:off x="539640" y="2133720"/>
            <a:ext cx="8229600" cy="435744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la exención de la exportación globalmente considerada ... excede expresamente el límite del valor añadido por el exportador, para abarcar de modo íntegro el impuesto al valor agregado que hubiera afectado  el costo de la exportación en cualquiera de sus etapas, permitiendo así el logro de una</a:t>
            </a:r>
            <a:r>
              <a:rPr b="1" lang="en-US" sz="2800" spc="-1" strike="noStrike">
                <a:solidFill>
                  <a:srgbClr val="ffffff"/>
                </a:solidFill>
                <a:latin typeface="Arial"/>
              </a:rPr>
              <a:t> </a:t>
            </a:r>
            <a:r>
              <a:rPr b="1" i="1" lang="en-US" sz="2800" spc="-1" strike="noStrike">
                <a:solidFill>
                  <a:srgbClr val="ffffff"/>
                </a:solidFill>
                <a:latin typeface="Arial"/>
              </a:rPr>
              <a:t>posición más favorable de los productos nacionales en el mercado externo al evitar la llamada </a:t>
            </a:r>
            <a:r>
              <a:rPr b="1" lang="en-US" sz="2800" spc="-1" strike="noStrike">
                <a:solidFill>
                  <a:srgbClr val="ffffff"/>
                </a:solidFill>
                <a:latin typeface="Arial"/>
              </a:rPr>
              <a:t>“</a:t>
            </a:r>
            <a:r>
              <a:rPr b="1" lang="en-US" sz="2800" spc="-1" strike="noStrike" u="sng">
                <a:solidFill>
                  <a:srgbClr val="ffffff"/>
                </a:solidFill>
                <a:uFillTx/>
                <a:latin typeface="Arial"/>
              </a:rPr>
              <a:t>exportación  de impuestos</a:t>
            </a:r>
            <a:r>
              <a:rPr b="1" lang="en-US" sz="2800" spc="-1" strike="noStrike">
                <a:solidFill>
                  <a:srgbClr val="ffffff"/>
                </a:solidFill>
                <a:latin typeface="Arial"/>
              </a:rPr>
              <a:t>”</a:t>
            </a:r>
            <a:r>
              <a:rPr b="1" i="1" lang="en-US" sz="2800" spc="-1" strike="noStrike">
                <a:solidFill>
                  <a:srgbClr val="ffffff"/>
                </a:solidFill>
                <a:latin typeface="Arial"/>
              </a:rPr>
              <a:t> y el consecuente encarecimiento de los bienes”.</a:t>
            </a:r>
            <a:r>
              <a:rPr b="1" lang="en-US" sz="2800" spc="-1" strike="noStrike">
                <a:solidFill>
                  <a:srgbClr val="ffffff"/>
                </a:solidFill>
                <a:latin typeface="Arial"/>
              </a:rPr>
              <a:t> (lo subrayado nos pertene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3628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Práctica administrativa: comprobantes “observados” ante la solicitud del exportador</a:t>
            </a:r>
            <a:endParaRPr b="0" lang="en-US" sz="3600" spc="-1" strike="noStrike">
              <a:solidFill>
                <a:srgbClr val="ffffff"/>
              </a:solidFill>
              <a:latin typeface="Arial"/>
            </a:endParaRPr>
          </a:p>
        </p:txBody>
      </p:sp>
      <p:sp>
        <p:nvSpPr>
          <p:cNvPr id="169" name="PlaceHolder 2"/>
          <p:cNvSpPr>
            <a:spLocks noGrp="1"/>
          </p:cNvSpPr>
          <p:nvPr>
            <p:ph/>
          </p:nvPr>
        </p:nvSpPr>
        <p:spPr>
          <a:xfrm>
            <a:off x="468360" y="2060640"/>
            <a:ext cx="8229600" cy="4797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Improcedencia por falta titularidad del impuesto facturado”</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El comprobante ha sido solicitado por otro exportador”</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a:t>
            </a:r>
            <a:r>
              <a:rPr b="1" i="1" lang="es-ES" sz="2000" spc="-1" strike="noStrike" u="sng">
                <a:solidFill>
                  <a:srgbClr val="ffffff"/>
                </a:solidFill>
                <a:uFillTx/>
                <a:latin typeface="Arial"/>
              </a:rPr>
              <a:t>Crédito fiscal no vinculado a la exportación”</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Monto insuficiente declarado en SICORE”</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Consulta Reproweb y retención errónea operación por los  regímenes  correspondientes”</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Con baja provisoria en IVA”</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CUIT reemplazada o CUIT inactiva”</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Comprobantes con CAI incorrecto”</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Comprobante donde el proveedor no declaró el débito fiscal”</a:t>
            </a:r>
            <a:endParaRPr b="0" lang="en-US" sz="2000" spc="-1" strike="noStrike">
              <a:solidFill>
                <a:srgbClr val="ffffff"/>
              </a:solidFill>
              <a:latin typeface="Arial"/>
            </a:endParaRPr>
          </a:p>
          <a:p>
            <a:pPr marL="343080" indent="-3430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Proveedor informado en la base de contribuyentes no confiables”</a:t>
            </a:r>
            <a:endParaRPr b="0" lang="en-US" sz="2000" spc="-1" strike="noStrike">
              <a:solidFill>
                <a:srgbClr val="ffffff"/>
              </a:solidFill>
              <a:latin typeface="Arial"/>
            </a:endParaRPr>
          </a:p>
          <a:p>
            <a:pPr marL="343080" indent="-34308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t>
            </a:r>
            <a:r>
              <a:rPr b="1" lang="es-AR" sz="2000" spc="-1" strike="noStrike">
                <a:solidFill>
                  <a:srgbClr val="ffffff"/>
                </a:solidFill>
                <a:latin typeface="Arial"/>
              </a:rPr>
              <a:t>Omisión de practicar retenciones por pagos de facturas incluidas en la solicitud”</a:t>
            </a:r>
            <a:endParaRPr b="0" lang="en-US" sz="2000" spc="-1" strike="noStrike">
              <a:solidFill>
                <a:srgbClr val="ffffff"/>
              </a:solidFill>
              <a:latin typeface="Arial"/>
            </a:endParaRPr>
          </a:p>
          <a:p>
            <a:pPr marL="343080" indent="-34308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t>
            </a:r>
            <a:r>
              <a:rPr b="1" lang="es-AR" sz="2000" spc="-1" strike="noStrike">
                <a:solidFill>
                  <a:srgbClr val="ffffff"/>
                </a:solidFill>
                <a:latin typeface="Arial"/>
              </a:rPr>
              <a:t>Contribuyente no inscripto en IVA a la fecha de emisión del comproba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Los requisitos del “crédito fiscal” – “Impuesto facturado”</a:t>
            </a:r>
            <a:endParaRPr b="0" lang="en-US" sz="4000" spc="-1" strike="noStrike">
              <a:solidFill>
                <a:srgbClr val="ffffff"/>
              </a:solidFill>
              <a:latin typeface="Arial"/>
            </a:endParaRPr>
          </a:p>
        </p:txBody>
      </p:sp>
      <p:sp>
        <p:nvSpPr>
          <p:cNvPr id="171" name="PlaceHolder 2"/>
          <p:cNvSpPr>
            <a:spLocks noGrp="1"/>
          </p:cNvSpPr>
          <p:nvPr>
            <p:ph/>
          </p:nvPr>
        </p:nvSpPr>
        <p:spPr>
          <a:xfrm>
            <a:off x="45720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que sea imputable al período fiscal en que hubiera sido facturado y discriminado;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que se encuentre facturado y discriminado en la factura o el documento equivalente;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 que la documentación respaldatoria se ajuste a las normas vigentes sobre emisión de comprobantes;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 que sea computable hasta el límite que surge de aplicar a la base imponible la alícuota respectiva;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e) </a:t>
            </a:r>
            <a:r>
              <a:rPr b="1" i="1" lang="es-ES" sz="2400" spc="-1" strike="noStrike" u="sng">
                <a:solidFill>
                  <a:srgbClr val="ffffff"/>
                </a:solidFill>
                <a:uFillTx/>
                <a:latin typeface="Arial"/>
              </a:rPr>
              <a:t>que se vincule con operaciones gravadas</a:t>
            </a:r>
            <a:r>
              <a:rPr b="1" i="1"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 que quien esté en condiciones de efectuar el cómputo sea responsable inscripto frente al IVA; y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 que las operaciones que originan crédito hubieran generado para el vendedor, locador o prestador el débito fiscal resp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Los requisitos del “crédito fiscal” – “Impuesto facturado”</a:t>
            </a:r>
            <a:endParaRPr b="0" lang="en-US" sz="3600" spc="-1" strike="noStrike">
              <a:solidFill>
                <a:srgbClr val="ffffff"/>
              </a:solidFill>
              <a:latin typeface="Arial"/>
            </a:endParaRPr>
          </a:p>
        </p:txBody>
      </p:sp>
      <p:sp>
        <p:nvSpPr>
          <p:cNvPr id="173"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 </a:t>
            </a:r>
            <a:r>
              <a:rPr b="1" lang="es-MX" sz="2400" spc="-1" strike="noStrike" u="sng">
                <a:solidFill>
                  <a:srgbClr val="ffffff"/>
                </a:solidFill>
                <a:uFillTx/>
                <a:latin typeface="Arial"/>
              </a:rPr>
              <a:t>Agregado de la Cámara</a:t>
            </a:r>
            <a:r>
              <a:rPr b="1" lang="es-MX" sz="2400" spc="-1" strike="noStrike">
                <a:solidFill>
                  <a:srgbClr val="ffffff"/>
                </a:solidFill>
                <a:latin typeface="Arial"/>
              </a:rPr>
              <a:t> (“Bunge Argentina S.A., Sala III, 26/09/13)</a:t>
            </a:r>
            <a:r>
              <a:rPr b="1" i="1" lang="es-MX"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rPr>
              <a:t>   “</a:t>
            </a:r>
            <a:r>
              <a:rPr b="1" i="1" lang="es-MX" sz="2400" spc="-1" strike="noStrike">
                <a:solidFill>
                  <a:srgbClr val="ffffff"/>
                </a:solidFill>
                <a:latin typeface="Arial"/>
              </a:rPr>
              <a:t>el contribuyente debe probar, entre otras cosas, la real existencia de las compras efectuadas</a:t>
            </a:r>
            <a:r>
              <a:rPr b="1" i="1" lang="es-ES" sz="2400" spc="-1" strike="noStrike">
                <a:solidFill>
                  <a:srgbClr val="ffffff"/>
                </a:solidFill>
                <a:latin typeface="Arial"/>
              </a:rPr>
              <a:t>; y a su vez para que el contribuyente pueda computar este crédito fiscal, necesariamente tiene que haber existido la generación de un débito fiscal en la etapa anterior por esa misma operación, para el vendedor, locador o prestador, pues se supone que el contribuyente puede tomar en cuenta el crédito así constituido, por haber abonado el IVA en la etapa anterior</a:t>
            </a:r>
            <a:r>
              <a:rPr b="1" lang="es-ES" sz="2400" spc="-1" strike="noStrike">
                <a:solidFill>
                  <a:srgbClr val="ffffff"/>
                </a:solidFill>
                <a:latin typeface="Arial"/>
              </a:rPr>
              <a:t> (conf. doctrina de esta Cámara: Sala IV, in re, “Matarasso Export S.R.L.”,11/12/2007; Sala V, “La Blanquita S.A.”,1/12/2004).</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Arial"/>
              </a:rPr>
              <a:t>Cumplimiento de las obligaciones por los terceros (proveedores)</a:t>
            </a:r>
            <a:endParaRPr b="0" lang="en-US" sz="3600" spc="-1" strike="noStrike">
              <a:solidFill>
                <a:srgbClr val="ffffff"/>
              </a:solidFill>
              <a:latin typeface="Arial"/>
            </a:endParaRPr>
          </a:p>
        </p:txBody>
      </p:sp>
      <p:sp>
        <p:nvSpPr>
          <p:cNvPr id="175" name="PlaceHolder 2"/>
          <p:cNvSpPr>
            <a:spLocks noGrp="1"/>
          </p:cNvSpPr>
          <p:nvPr>
            <p:ph/>
          </p:nvPr>
        </p:nvSpPr>
        <p:spPr>
          <a:xfrm>
            <a:off x="468360" y="1773360"/>
            <a:ext cx="8229600" cy="508464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 </a:t>
            </a:r>
            <a:r>
              <a:rPr b="1" i="1" lang="es-ES" sz="2400" spc="-1" strike="noStrike">
                <a:solidFill>
                  <a:srgbClr val="ffffff"/>
                </a:solidFill>
                <a:latin typeface="Arial"/>
              </a:rPr>
              <a:t>todo lo atinente al cumplimiento de las obligaciones por quien debió ingresar los importes, no es cuestión que competa al reclamante. Es la propia AFIP la que tiene como función ese contralor y para ello cuenta con facultades que le reconoce la legislación. De tal modo, si quien facturó depositó o no los importes correspondientes al impuesto facturado, tal circunstancia resulta indiferente a los efectos de analizar el derecho del actor, salvo que se acredite que existe connivencia entre quienes realizaron las operaciones (extremo no invocado siquiera en la resolución impugnada), por manera que aquel eventual incumplimiento no puede perjudicar el derecho al reintegro del crédito fiscal (esta Cámara, Sala II, causa No. 10.823/00 “Tradigrain c. Estado Nacional -AFIP” (18/10/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Algunos fallos para reflexionar</a:t>
            </a:r>
            <a:endParaRPr b="0" lang="en-US" sz="4000" spc="-1" strike="noStrike">
              <a:solidFill>
                <a:srgbClr val="ffffff"/>
              </a:solidFill>
              <a:latin typeface="Arial"/>
            </a:endParaRPr>
          </a:p>
        </p:txBody>
      </p:sp>
      <p:sp>
        <p:nvSpPr>
          <p:cNvPr id="177"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nte la impugnación de facturas de proveedores sobre los cuales la inspección colectó datos del tipo inexistencia de bienes registrables, de bienes de capital y de declaración de empleados en relación de dependencia, el Tribunal Fiscal de la Nación, entendió que no son elementos suficientes para fundar la tacha de inexistencia de las operaciones correspondientes (“Atanor SCA”, 27/05/13, Sala 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iéndose aportado prueba abundante (acompañamiento de cartas de porte, liquidaciones emitidas por el corredor de cereales, contestación de oficio por parte del corredor reconociendo que las cartas de porte se correspondían con la entrega de cereal en los puertos indicados por el contribuyente, informe pericial contable sobre los registros y contabilidad llevada en sus aspectos formales de acuerdo con la ley, etc.), cabe reconocer la existencia de tales operaciones. Se trata de una interpretación razonable, por ante el conflicto planteado por el Fisco, que se basa en la prueba fehaciente de la real existencia de las operaciones, ésta sí </a:t>
            </a:r>
            <a:r>
              <a:rPr b="1" i="1" lang="es-ES" sz="2000" spc="-1" strike="noStrike">
                <a:solidFill>
                  <a:srgbClr val="ffffff"/>
                </a:solidFill>
                <a:latin typeface="Arial"/>
              </a:rPr>
              <a:t>a cargo del contribuyente </a:t>
            </a:r>
            <a:r>
              <a:rPr b="1" lang="es-ES" sz="2000" spc="-1" strike="noStrike">
                <a:solidFill>
                  <a:srgbClr val="ffffff"/>
                </a:solidFill>
                <a:latin typeface="Arial"/>
              </a:rPr>
              <a:t>(“Reynoso Hnos. e Hijos S.A.”, CNACAF, Sala IV, 21/02/201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476280"/>
            <a:ext cx="813600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osiciones jurisprudenciales sobre el control del cumplimiento fiscal de los proveedores</a:t>
            </a:r>
            <a:endParaRPr b="0" lang="en-US" sz="3200" spc="-1" strike="noStrike">
              <a:solidFill>
                <a:srgbClr val="ffffff"/>
              </a:solidFill>
              <a:latin typeface="Arial"/>
            </a:endParaRPr>
          </a:p>
        </p:txBody>
      </p:sp>
      <p:sp>
        <p:nvSpPr>
          <p:cNvPr id="179" name="PlaceHolder 2"/>
          <p:cNvSpPr>
            <a:spLocks noGrp="1"/>
          </p:cNvSpPr>
          <p:nvPr>
            <p:ph/>
          </p:nvPr>
        </p:nvSpPr>
        <p:spPr>
          <a:xfrm>
            <a:off x="457200" y="2349000"/>
            <a:ext cx="8229600" cy="42483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a:t>
            </a:r>
            <a:r>
              <a:rPr b="1" i="1" lang="es-AR" sz="3200" spc="-1" strike="noStrike">
                <a:solidFill>
                  <a:srgbClr val="ffffff"/>
                </a:solidFill>
                <a:latin typeface="Arial"/>
              </a:rPr>
              <a:t>“línea del control razonable y limitado”: </a:t>
            </a:r>
            <a:r>
              <a:rPr b="1" lang="es-AR" sz="3200" spc="-1" strike="noStrike">
                <a:solidFill>
                  <a:srgbClr val="ffffff"/>
                </a:solidFill>
                <a:latin typeface="Arial"/>
              </a:rPr>
              <a:t>el contribuyente no puede verificar el cumplimiento de las obligaciones de sus proveedore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 </a:t>
            </a:r>
            <a:r>
              <a:rPr b="1" i="1" lang="es-AR" sz="3200" spc="-1" strike="noStrike">
                <a:solidFill>
                  <a:srgbClr val="ffffff"/>
                </a:solidFill>
                <a:latin typeface="Arial"/>
              </a:rPr>
              <a:t>“línea del control del ingreso del tributo por los proveedores” o de la “prueba de la real existencia y veracidad de las operaciones”: ¿irrazonabi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3T20:51:55Z</dcterms:created>
  <dc:creator>ARMANDO</dc:creator>
  <dc:description/>
  <dc:language>en-US</dc:language>
  <cp:lastModifiedBy>Hernán Castillejo</cp:lastModifiedBy>
  <dcterms:modified xsi:type="dcterms:W3CDTF">2014-10-03T16:03:40Z</dcterms:modified>
  <cp:revision>19</cp:revision>
  <dc:subject/>
  <dc:title>El IVA y las exportaciones</dc:title>
</cp:coreProperties>
</file>