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A0C-9C72-40BD-9015-0AB1A1DE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04E-40DA-45E5-A5EC-45D3FE50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77C-6D71-43C4-B94C-D4DB5595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D87-66D0-4E53-BDA1-2C5C7590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6E6-16AD-49F1-B50F-79A437F0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BE4-5C66-4B21-95EA-F2C8C23A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A3C-002A-45A7-8E7B-CF85B676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8F3-838D-42B2-BD8B-E632AF76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ECA-08FB-498D-960A-DE8F4FA0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9ED-29DD-4539-B146-CA2C3D29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47E-4499-49CD-8F11-2AEF94FD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D65-95D1-492B-B3DA-E48CA52B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3400-7AF9-4EEA-AD7A-6DE20EF1EE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032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6° Simposio Tributario CPCECA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212640"/>
            <a:ext cx="756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VA en operaciones transfronteri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rio Volm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1.10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8528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Lugar de consumo de los servicios e intangib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rt. 9 Sexto Directiva CEE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icios tangibles de fácil identificación: sobre inmuebles, activ. culturales, deportivas, científic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icios intangibles: Se atribuirán al lugar en que el destinatario o prestatario tenga establecida su actividad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laraciones: a) dentro de prestaciones de servicios se incluye a las cesiones de derechos de autor, patentes, licencias, marcas y otros derechos similares y b) la definición de tangibles o intangibles no es aplicable a la legislación argentina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91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La Ley Argentina y el Artículo 8° del 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080" y="1413000"/>
            <a:ext cx="903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rtículo 1° inciso b): “las obras, locaciones y prestaciones de servicios incluidas en el artículo 3°, realizadas en el territorio de la Nación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rtículo 3° inciso e): “las locaciones y prestaciones de servicios que se indican a continuación, en cuanto no estuvieran incluidas en los incisos precedentes…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rtículo 3° inciso e) apartado 21: “las locaciones y prestaciones, siempre que se realicen sin relación de dependencia y a título oneroso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La Ley Argentina y el Artículo 8° del D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)   Artículo 8° del DR: “Las prestaciones a que se refiere el punto 21, del inciso e), del artículo 3° de la ley, comprende a todas las obligaciones de dar y/o de hacer, por las cuales un sujeto se obliga a ejecutar a través del ejercicio de su actividad y mediante una retribución determinada, un trabajo o servicio que le permite recibir un benefici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o se encuentran comprendidas en lo dispuesto en el párrafo anterior, las transferencias o cesiones del uso o goce de derechos, excepto cuando las mismas impliquen un servicio financiero o una concesión de explotación industrial o comercial, circunstancias que también determinarán la aplicación del impuesto sobre las prestaciones que las originan cuando estas últimas constituyan obligaciones de no hac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Obligaciones de no hac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llos: “NUÑEZ, Jaime”, TFN ,Sala “C”,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0.12.03 y “PICASSO, Alberto” , TFN, Sal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D”, 21.09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ctamen (DAT) N° 25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esiones de derechos de uso “pu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menterios privados: Fallo (CSJ) “San Buenaventura S.R.L.”, 23.05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sión de marcas: Dictámenes (DAL) N° 56/99 y (DAT) N° 91/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sión de bases de datos en el exterior: Dictamen (DAT) N° 67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Operaciones transfronterizas de intangibles y prestaciones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O: Fracaso parcial del nuevo hecho imponible del Art. 1° inciso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PO: - Adhesión al principio país de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édito fiscal contra operaciones grav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reditación, devolución y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retribuciones por intermediación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La circular (DGI) N° 1288/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Causa “Tecnopel SA”, TFN, Sala “A”, 06.12.99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8:59:44Z</dcterms:created>
  <dc:creator>Guadalupe</dc:creator>
  <dc:description/>
  <dc:language>en-US</dc:language>
  <cp:lastModifiedBy>Hernán Castillejo</cp:lastModifiedBy>
  <dcterms:modified xsi:type="dcterms:W3CDTF">2014-09-30T21:08:28Z</dcterms:modified>
  <cp:revision>7</cp:revision>
  <dc:subject/>
  <dc:title>4° Encuentro Latinoamericano IFA – MUD 2012</dc:title>
</cp:coreProperties>
</file>