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FAF85D-22F9-4446-8DB0-4C448D9C7F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B146EC-04CA-4816-ADD0-E05E74785F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EAB4AF-EC9D-4519-A96C-27217549B3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16D53B-A8E6-400B-928C-D29EF09C3B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662FE-6F36-4124-B700-ED14304F9A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FD48AF-A9A7-4EA8-B42D-0F5F43A8F4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298-B08F-4E7B-9876-7A324527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5D9-E2F6-478E-9669-F815987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319-394E-4747-BD8D-07098A67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FCF-3114-4DA3-960B-98BA440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D71-1929-4BB2-A592-C5A3A88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EC7-A742-4CC5-928F-799D31B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2AF-7FD9-4987-8F77-FAF9642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ABC-74E6-48B7-A75F-456FE5E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489-5321-4905-B6FB-0C96EA9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48A-CD7D-46DE-8025-406B796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DEC-A36D-4FB3-917A-5C1106B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627-43B6-444F-A044-1C0D59B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26/09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4C1592-51EF-4FAC-B90F-9A32FFB1EBB8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5 Marcador de número de diapositiva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DDCA7-D849-4603-81D0-12C7D64A8B6E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6440" y="1439640"/>
            <a:ext cx="822960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La competencia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Tribunal Fiscal de la N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en materia de Seguridad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164000" y="4724280"/>
            <a:ext cx="18716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ahoma"/>
              </a:rPr>
              <a:t>Eduardo A. Váz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35720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291148-2F7F-449B-B4DC-BA376D88F4DF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22400" y="1988640"/>
            <a:ext cx="79423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l control de los actos administ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La relación fisco-contribuyente (en 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l marco jurídico tributario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Las potestades actuales de la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68360" y="1044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39068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5B7C60-C5B1-4907-9ADF-56A618B012D1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06400" y="1868400"/>
            <a:ext cx="82296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l objetivo buscado por el legis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l principio de espec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La naturaleza tributaria de los recursos de la segur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La competencia mediante el recurso de amp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49320"/>
            <a:ext cx="83628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En favor de la compete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35360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5 Marcador de número de diapositiva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A387D-C7B2-4E76-87D9-617AB6C184EF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560" y="1827360"/>
            <a:ext cx="81378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Tratado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fecto suspensivo en sa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Control de actos y facultades de interpre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Sobrecarga de expedientes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(Acordada CFSS 1/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Tribunales administrativos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(Acordada CSJN 14/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La competencia ex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35360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83AFF8-F122-460B-9C48-95AFC8EF431E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Reconocer en forma expresa la competencia del TFN en materia de segur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Restablecer la facultad de ofrecer toda la prueba en instancia ante el T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Adoptar medidas de salvaguarda del crédito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35360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Edu</cp:lastModifiedBy>
  <dcterms:modified xsi:type="dcterms:W3CDTF">2014-09-28T19:58:38Z</dcterms:modified>
  <cp:revision>28</cp:revision>
  <dc:subject/>
  <dc:title>Diapositiva 1</dc:title>
</cp:coreProperties>
</file>