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5B7A-C117-4BB9-B850-C2A261C1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2ACC-3D82-4CC9-B97B-B48C954C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47B-AC35-42B5-A0CA-F5EAA739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6C1-64DA-420F-BE98-E0847BC8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4F6-7FFD-400F-9896-3B8B3C0F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E1E-06F0-4D5E-9DF6-211BC3E5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AB5-75C6-4207-A34E-951B22FB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454-F25F-4F9B-9CAB-E112A18C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D8C6-6F7C-48B9-9B2D-0B89109B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123-C6EA-4E22-B03A-B7AF1DCC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9322-2336-4967-AD40-0F197FE5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D7A9-A36C-4FCD-9C59-38AF4165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895C-4E16-4921-9D59-0FBB7E7F84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resentacion"/>
          <p:cNvPicPr/>
          <p:nvPr/>
        </p:nvPicPr>
        <p:blipFill>
          <a:blip r:embed="rId2"/>
          <a:stretch/>
        </p:blipFill>
        <p:spPr>
          <a:xfrm>
            <a:off x="0" y="6093000"/>
            <a:ext cx="9144000" cy="85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3d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pie-presentacion"/>
          <p:cNvPicPr/>
          <p:nvPr/>
        </p:nvPicPr>
        <p:blipFill>
          <a:blip r:embed="rId1"/>
          <a:stretch/>
        </p:blipFill>
        <p:spPr>
          <a:xfrm>
            <a:off x="0" y="6016680"/>
            <a:ext cx="9144000" cy="855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14200" y="768240"/>
            <a:ext cx="8858520" cy="57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16º Simposio sobre Legislación Tributaria 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Mesa Debate: “Convenio Multilater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dor. Demian Tujsna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dministración Gubernamental de Ingresos Públicos - GC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onsejo Profesional de Cs. Econo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De la Ciudad de Buenos 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 octubre de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Gráfico" descr=""/>
          <p:cNvPicPr/>
          <p:nvPr/>
        </p:nvPicPr>
        <p:blipFill>
          <a:blip r:embed="rId1"/>
          <a:stretch/>
        </p:blipFill>
        <p:spPr>
          <a:xfrm>
            <a:off x="0" y="566640"/>
            <a:ext cx="8717040" cy="5151600"/>
          </a:xfrm>
          <a:prstGeom prst="rect">
            <a:avLst/>
          </a:prstGeom>
          <a:ln w="0">
            <a:noFill/>
          </a:ln>
        </p:spPr>
      </p:pic>
      <p:sp>
        <p:nvSpPr>
          <p:cNvPr id="46" name="6 CuadroTexto"/>
          <p:cNvSpPr/>
          <p:nvPr/>
        </p:nvSpPr>
        <p:spPr>
          <a:xfrm>
            <a:off x="3357720" y="5857920"/>
            <a:ext cx="314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uente: MECON y Gobiernos Provinci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1f497d"/>
                </a:solidFill>
                <a:latin typeface="Arial"/>
              </a:rPr>
              <a:t>La Presión Tributaria en Niveles Record, explicada casi en su totalidad por impuestos en la órbita del Gobierno Nacional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48" name="Object 6"/>
          <p:cNvGraphicFramePr/>
          <p:nvPr/>
        </p:nvGraphicFramePr>
        <p:xfrm>
          <a:off x="468360" y="2060640"/>
          <a:ext cx="8229600" cy="392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39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8 Elipse"/>
          <p:cNvSpPr/>
          <p:nvPr/>
        </p:nvSpPr>
        <p:spPr>
          <a:xfrm>
            <a:off x="1908000" y="3141720"/>
            <a:ext cx="642960" cy="357120"/>
          </a:xfrm>
          <a:prstGeom prst="ellipse">
            <a:avLst/>
          </a:prstGeom>
          <a:noFill/>
          <a:ln w="42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Gill Sans MT"/>
              </a:rPr>
              <a:t>2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Elipse"/>
          <p:cNvSpPr/>
          <p:nvPr/>
        </p:nvSpPr>
        <p:spPr>
          <a:xfrm>
            <a:off x="6300720" y="1844640"/>
            <a:ext cx="935280" cy="357120"/>
          </a:xfrm>
          <a:prstGeom prst="ellipse">
            <a:avLst/>
          </a:prstGeom>
          <a:noFill/>
          <a:ln w="42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Gill Sans MT"/>
              </a:rPr>
              <a:t>39,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908000" y="1773360"/>
            <a:ext cx="1656000" cy="55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Nación +16.9 p.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Provincias +2.8 p.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3564000" y="198900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2268360" y="234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755640" y="1052640"/>
            <a:ext cx="71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as provincias generaron solamente el 16% del aumento de la Presión Tribu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Arial"/>
              </a:rPr>
              <a:t>Dinámica que genera una mayor concentración de recursos en manos del Gobierno Nacional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1f497d"/>
                </a:solidFill>
                <a:latin typeface="Arial"/>
              </a:rPr>
              <a:t>Problemas de distribución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or cada Pesos que se paga de Gana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Un Municipio de Sta Fé recibe UN CIEN MILESIMO de p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 la CABA 4 Milesimos de Peso ($0,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13840" y="1267920"/>
            <a:ext cx="8929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provincias y los municipios viven realidades diferentes desde el punto de vista de los ingresos y de los servicios que deben pre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gresos: un sistema de reparto basado en la coparticipación federal que ha sido desvirtuado por los gobiernos n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2013, la Nación retuvo el 73,1% de los ingresos totale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sólo el 26,9% fue para el resto de las jurisdi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1985 la proporción era 42% para la Nación y 58% para subn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1992 la mayoría de los servicios sociales pasaron a las provincias y a la Ciudad, sin transferir el financiamiento correspondi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ejemplo, los 33 Hospitales de la CABA que antes eran nacionales y hoy son sostenidos por el Gobierno de la Ciu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unicipios haciéndose colaborando activamente con medidas de segur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84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Arial"/>
              </a:rPr>
              <a:t>Contexto: La Necesidad Recaudatoria de los Fiscos Subnacionales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6134040"/>
            <a:ext cx="91440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1f497d"/>
                </a:solidFill>
                <a:latin typeface="Arial"/>
              </a:rPr>
              <a:t>Estamos velando a los</a:t>
            </a:r>
            <a:br>
              <a:rPr sz="4000"/>
            </a:br>
            <a:r>
              <a:rPr b="0" lang="es-AR" sz="4000" spc="-1" strike="noStrike">
                <a:solidFill>
                  <a:srgbClr val="1f497d"/>
                </a:solidFill>
                <a:latin typeface="Arial"/>
              </a:rPr>
              <a:t>Contribuyentes Locales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Vul Track S.A. c/ Provincia de Cor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rac Cooperativa de Provisión de Rectificadores Automotores c/ Pcia. de Cor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resunciones de sustento territorial sin cuantificación del ga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3:32:38Z</dcterms:created>
  <dc:creator>Usuario de Windows</dc:creator>
  <dc:description/>
  <dc:language>en-US</dc:language>
  <cp:lastModifiedBy>veronica kapelusznik</cp:lastModifiedBy>
  <dcterms:modified xsi:type="dcterms:W3CDTF">2014-10-02T01:07:36Z</dcterms:modified>
  <cp:revision>283</cp:revision>
  <dc:subject/>
  <dc:title>Diapositiva 1</dc:title>
</cp:coreProperties>
</file>