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9CE1-E653-4ABA-9155-7B83DE3A5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5DC6-8D38-41AA-9467-4B54DA421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2481-97DF-4F00-AF48-980FD1641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1C5D-376D-48AD-92D4-A76C6C619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EFF0-400D-43C2-810E-D2996024A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A526-944F-40EB-87FE-2188A9D50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1EC0-51E5-49AF-A3D0-5AE058A7C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12D0-343C-4126-8919-DB08AD404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80E7-30BB-48B7-8E98-7897ABA4E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AF39-5166-4D4E-80B0-50180ABEA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05D3-2F82-495B-8406-4B47E6454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3BB6-28A4-487B-A07A-971E441C9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77908-0C9F-4DC2-8D35-451775D8FD4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D3CEF-EDC8-41E8-B4AD-C9C6610409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684360" y="1915920"/>
            <a:ext cx="8229600" cy="26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357920" y="6461280"/>
            <a:ext cx="674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6º Simposio sobre Legislación Tributaria Argentina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B693-A4C5-4B3D-8FF5-8414814CFDC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1619280" y="2276640"/>
            <a:ext cx="5905440" cy="2089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uchas gracia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1B66-5E90-47DE-9E44-A7D83B4E0E1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4360" y="1915920"/>
            <a:ext cx="8229600" cy="26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389960" y="6461280"/>
            <a:ext cx="667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6º Simposio sobre Legislación Tributaria Argentina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CFD0-D1E2-409D-BE31-83A06077E70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4360" y="1915920"/>
            <a:ext cx="8229600" cy="26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354680" y="6461280"/>
            <a:ext cx="674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16º Simposio sobre Legislación Tributaria Argentina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0053-F1F8-4D48-A9B9-A7CB5260E73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4360" y="1915920"/>
            <a:ext cx="8229600" cy="26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54680" y="6461280"/>
            <a:ext cx="674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16º Simposio sobre Legislación Tributaria Argentina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FBA7-CBE0-4E17-9867-8F0934DEC86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4360" y="1915920"/>
            <a:ext cx="8229600" cy="26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354680" y="6461280"/>
            <a:ext cx="674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16º Simposio sobre Legislación Tributaria Argentina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63C9-E3AB-4D51-876F-F620BEFFF93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84360" y="1915920"/>
            <a:ext cx="8229600" cy="26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354680" y="6461280"/>
            <a:ext cx="674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6º Simposio sobre Legislación Tributaria Argentina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BCEB-7FC2-4C80-859E-40790AF49B4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684360" y="1915920"/>
            <a:ext cx="8229600" cy="26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354680" y="6461280"/>
            <a:ext cx="674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6º Simposio sobre Legislación Tributaria Argentina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4F6A-44F3-4612-9476-487F2F7BBDA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684360" y="1915920"/>
            <a:ext cx="8229600" cy="26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345320" y="6461280"/>
            <a:ext cx="674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6º Simposio sobre Legislación Tributaria Argentina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CA6B-BCD1-40F8-B8BE-D6DEE75810B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684360" y="1915920"/>
            <a:ext cx="8229600" cy="26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354680" y="6461280"/>
            <a:ext cx="674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6º Simposio sobre Legislación Tributaria Argentina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E238-D44D-45FE-BD47-327F8CCCCB1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0T17:47:30Z</dcterms:created>
  <dc:creator>ncampregher</dc:creator>
  <dc:description/>
  <dc:language>en-US</dc:language>
  <cp:lastModifiedBy>NSILVA</cp:lastModifiedBy>
  <dcterms:modified xsi:type="dcterms:W3CDTF">2014-09-23T19:18:10Z</dcterms:modified>
  <cp:revision>8</cp:revision>
  <dc:subject/>
  <dc:title>Diapositiva 1</dc:title>
</cp:coreProperties>
</file>