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0E9-3EB7-458F-AC93-33628C8E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9D-EE74-4E7E-8E05-1BB7309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AC2-D16C-47B3-AA35-4F76D7AD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0B7-5492-4BFC-87C6-EEF79DDD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537-6122-45B2-909E-62A7ECA1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998-BB05-4448-B45F-FADDA740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4EF-38E5-4E20-8C16-398793A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B2F-31B0-4EA2-BFC6-B0B5CACA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80F-BBD0-470C-83E4-DC3ADE5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70A-60A9-4B99-91CE-F5E0FB5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731-AEA4-4C53-BBE9-5DA8C7A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7FB-C4CB-4C55-8898-5B476B4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03D-E866-42E6-B13E-A2BB2603A799}" type="slidenum">
              <a:rPr b="0" lang="es-ES_tradnl" sz="14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019840" y="6491160"/>
            <a:ext cx="412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Medium"/>
              </a:rPr>
              <a:t>Dr. Alberto Martín Gorosito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5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Franklin Gothic Medium"/>
              </a:rPr>
              <a:t>DESIGUALDAD EN LA ACTUACION ANTE EL TRIBUNAL FISCAL DE LA NACIO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79280" y="2707560"/>
            <a:ext cx="88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1. El traslado a los representantes fiscales del recurso interpuesto por el responsable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2997000"/>
            <a:ext cx="91440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Control validez actos administración, no autoriza a sustituir a un órgano de otro poder del Estado en función conferida por ser más apto para cumplirla. 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4436280"/>
            <a:ext cx="7993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De Angelis, S. A.”,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 CSN,  01/04/1982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2059920"/>
            <a:ext cx="91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Medium"/>
              </a:rPr>
              <a:t>2. </a:t>
            </a: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El cambio de encuadre de las infracciones sancionadas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0" y="3645000"/>
            <a:ext cx="9144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Tribunal Fiscal: creado para eliminar aberración jurídica L 11.683, discusión cuestiones fiscales funcionarios sean a la vez jueces y parte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Diario de Sesiones de la Cámara de Diputados de la Nación. Período extraordinario del año 1959, sesión del 22 de diciembre de 1959, p. 6345)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717880"/>
            <a:ext cx="91440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Sanciones: multas y otro género de penalidades como comiso, clausura de locales, negativa de entregar estampillas fiscales, etcétera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133360"/>
            <a:ext cx="91440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anción: mal infligido por la Administración como consecuencia de una conducta ilegítima, consistente en la privación de un bien o de un derecho.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Medium"/>
              </a:rPr>
              <a:t>“Cine Press SRL”, </a:t>
            </a:r>
            <a:r>
              <a:rPr b="0" lang="en-US" sz="2200" spc="-1" strike="noStrike">
                <a:solidFill>
                  <a:srgbClr val="000000"/>
                </a:solidFill>
                <a:latin typeface="Franklin Gothic Medium"/>
              </a:rPr>
              <a:t>CCAF, V,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Medium"/>
              </a:rPr>
              <a:t>29/9/2006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03640" y="1267560"/>
            <a:ext cx="91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Medium"/>
              </a:rPr>
              <a:t>3. </a:t>
            </a: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La competencia en materia de sanciones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0" y="1881360"/>
            <a:ext cx="914400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Procedimientos seguidos ante jueces administrativos: aplicables principios para causas judiciales, aquellos organismos deben ofrecer a quienes comparecen ante ellos, un tribunal imparcial y apto ante el cual presentar su caso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3481560"/>
            <a:ext cx="914400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Quedan proscritos los procedimientos que conducen necesariamente a la condena del imputado, por ser apariencia formal de su defensa. </a:t>
            </a:r>
            <a:r>
              <a:rPr b="0" i="1" lang="es-AR" sz="2200" spc="-1" strike="noStrike">
                <a:solidFill>
                  <a:srgbClr val="000000"/>
                </a:solidFill>
                <a:latin typeface="Franklin Gothic Medium"/>
              </a:rPr>
              <a:t>“Parry, Adolfo E.”, </a:t>
            </a: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CSN, 31/08/1942. Fallos 193:408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4994280"/>
            <a:ext cx="914400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Validez de los procedimientos administrativos está supeditada a que las leyes pertinentes dejen expedita la instancia judicial posterior.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 “Fernández Arias, Elena y otros c/Poggio, José (Suc)”, 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CSN 19/09/1960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419640" y="475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Medium"/>
              </a:rPr>
              <a:t>4. </a:t>
            </a: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La competencia en materia de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seguridad social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1877760"/>
            <a:ext cx="91440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Salvar posible error humano de los jueces y garantizar en mayor medida seguridad jurídica.</a:t>
            </a:r>
            <a:r>
              <a:rPr b="0" lang="es-ES_tradnl" sz="2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2997000"/>
            <a:ext cx="91440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Las sanciones por infracciones tributarias, revisten naturaleza penal 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“Usandizaga, Perrone y Juliarena, S. R. L.” 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15/10/1981  Fallos 303:1548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4149360"/>
            <a:ext cx="914400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Sanciones por infracciones de seguridad social revisten naturaleza penal. Requiere garantía doble instancia revisora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32000" y="45360"/>
            <a:ext cx="9144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Franklin Gothic Medium"/>
              </a:rPr>
              <a:t>4. </a:t>
            </a:r>
            <a:r>
              <a:rPr b="1" i="1" lang="es-AR" sz="2300" spc="-1" strike="noStrike">
                <a:solidFill>
                  <a:srgbClr val="000000"/>
                </a:solidFill>
                <a:latin typeface="Franklin Gothic Medium"/>
              </a:rPr>
              <a:t>La competencia en materia de 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3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i="1" lang="es-AR" sz="2300" spc="-1" strike="noStrike">
                <a:solidFill>
                  <a:srgbClr val="000000"/>
                </a:solidFill>
                <a:latin typeface="Franklin Gothic Medium"/>
              </a:rPr>
              <a:t>seguridad social. La doble instancia judicial.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222880"/>
            <a:ext cx="91440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Franklin Gothic Medium"/>
              </a:rPr>
              <a:t>Pacto San José Costa Rica: debidas garantías en materia penal, se aplica en materias que conciernen con </a:t>
            </a:r>
            <a:r>
              <a:rPr b="0" i="1" lang="es-AR" sz="2200" spc="-1" strike="noStrike">
                <a:solidFill>
                  <a:srgbClr val="000000"/>
                </a:solidFill>
                <a:latin typeface="Franklin Gothic Medium"/>
              </a:rPr>
              <a:t>la determinación de derechos y obligaciones de orden civil, laboral, fiscal o de cualquier otro carácter </a:t>
            </a:r>
            <a:r>
              <a:rPr b="1" i="1" lang="es-AR" sz="2200" spc="-1" strike="noStrike">
                <a:solidFill>
                  <a:srgbClr val="000000"/>
                </a:solidFill>
                <a:latin typeface="Franklin Gothic Medium"/>
              </a:rPr>
              <a:t>“Corte Interamericana Derechos Humanos”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213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Franklin Gothic Medium"/>
              </a:rPr>
              <a:t>5. La aplicación de sanciones por organismos jurisdiccionales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2852280"/>
            <a:ext cx="91440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Recomendación X Jornadas Latinoamericanas del Instituto de Derecho Tributario, Quito, Ecuador, 1981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3933360"/>
            <a:ext cx="91440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"Aluar Aluminio Argentina",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 02/12/2013; </a:t>
            </a:r>
            <a:r>
              <a:rPr b="0" i="1" lang="es-ES" sz="2200" spc="-1" strike="noStrike">
                <a:solidFill>
                  <a:srgbClr val="000000"/>
                </a:solidFill>
                <a:latin typeface="Franklin Gothic Medium"/>
              </a:rPr>
              <a:t>"Blanco Eduardo Jorge”, </a:t>
            </a:r>
            <a:r>
              <a:rPr b="0" lang="es-ES" sz="2200" spc="-1" strike="noStrike">
                <a:solidFill>
                  <a:srgbClr val="000000"/>
                </a:solidFill>
                <a:latin typeface="Franklin Gothic Medium"/>
              </a:rPr>
              <a:t>03/12/2013 TFN sala  G, voto minoría Dr. Garbarino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15:28:56Z</dcterms:created>
  <dc:creator>WinuE</dc:creator>
  <dc:description/>
  <dc:language>en-US</dc:language>
  <cp:lastModifiedBy>Hernán Castillejo</cp:lastModifiedBy>
  <dcterms:modified xsi:type="dcterms:W3CDTF">2014-10-03T19:15:10Z</dcterms:modified>
  <cp:revision>46</cp:revision>
  <dc:subject/>
  <dc:title>Jornadas Tributarias  Delegación Junín   Consejo Profesional de Ciencias Económicas  Provincia de Buenos Aires   27 al 30 de agosto 2014</dc:title>
</cp:coreProperties>
</file>