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366-F9E3-4AE7-A680-9AB8C8D0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EF8-A4A1-489D-9FA4-1DD46DFA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56DD-3376-4D02-8B16-8D860B49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936C-FDF2-4038-8035-FFF7F34E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B602-B868-4D31-9033-997141FD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1A66-82E7-445B-846C-AAE4343D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13BF-455C-4DFB-9C45-22E31482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AEC1-E290-4A4D-A891-8AC3A9FA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5EC5-6B5D-40FA-9B99-7C31970F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D31B-7CFE-494C-9316-46CA3857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725E-A858-4684-A12F-020153AF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A301-9434-41A0-9B71-697B2423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7388-5FEB-484C-A390-F7B6B5D2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8FDB-678A-4F79-8046-B3AD6278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42DE-96A6-4835-86B3-268B52D3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FE7D-CD20-4FEE-8B32-7EA5CE7B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B4BB-2E6E-4DED-8638-B3CA155B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FCBC-4647-4B47-BCBF-D4FD1FF7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A3D-E0D1-484E-A5CA-9320D25A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AF2-A374-4450-AF52-A9359F6D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AE7-843B-40FD-B5B8-1AF6C140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108-E599-429D-8960-CC23314A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E34-C510-4C74-8B8B-CA1D8BEE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868-9254-418F-8DE9-F3295A2E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A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856885-4034-44F0-A166-08DC5B4FDFD2}" type="slidenum">
              <a:rPr b="0" lang="es-A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2409484-C0EE-49AE-B703-8745B75E8E7B}" type="slidenum"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0" y="333360"/>
            <a:ext cx="9144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4800" spc="-1" strike="noStrike">
                <a:solidFill>
                  <a:srgbClr val="e5ffff"/>
                </a:solidFill>
                <a:latin typeface="Garamond"/>
              </a:rPr>
              <a:t>CONVENIO MULTILAT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4000" spc="-1" strike="noStrike">
                <a:solidFill>
                  <a:srgbClr val="e5ffff"/>
                </a:solidFill>
                <a:latin typeface="Garamond"/>
              </a:rPr>
              <a:t> </a:t>
            </a:r>
            <a:r>
              <a:rPr b="0" lang="es-AR" sz="4000" spc="-1" strike="noStrike">
                <a:solidFill>
                  <a:srgbClr val="e5ffff"/>
                </a:solidFill>
                <a:latin typeface="Garamond"/>
              </a:rPr>
              <a:t>CONTROVERSIAS PLANTEADAS EN COMISION ARBITR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611280" y="476280"/>
            <a:ext cx="7950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4000" spc="-1" strike="noStrike">
                <a:solidFill>
                  <a:srgbClr val="e5ffff"/>
                </a:solidFill>
                <a:latin typeface="Garamond"/>
              </a:rPr>
              <a:t>PROTOCOLO ADICI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24000" y="1700280"/>
            <a:ext cx="837396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Aplicación en subsid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Solicitud especif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Aplicación Art. 1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514600" y="1676520"/>
            <a:ext cx="5334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8000" spc="-1" strike="noStrike">
                <a:solidFill>
                  <a:srgbClr val="ffffff"/>
                </a:solidFill>
                <a:latin typeface="Garamond"/>
              </a:rPr>
              <a:t>MUCHA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8000" spc="-1" strike="noStrike">
                <a:solidFill>
                  <a:srgbClr val="ffffff"/>
                </a:solidFill>
                <a:latin typeface="Garamond"/>
              </a:rPr>
              <a:t>GRACIA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755640" y="1052640"/>
            <a:ext cx="7743960" cy="5331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1. REGIMEN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755640" y="1989000"/>
            <a:ext cx="7743960" cy="533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2. REGIMENES ESPECIALES</a:t>
            </a: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755640" y="3068640"/>
            <a:ext cx="7743960" cy="533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3. MUNICIP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838080" y="4191120"/>
            <a:ext cx="7743960" cy="5331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4. PROTOCOLO ADI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539640" y="189000"/>
            <a:ext cx="7909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e5ffff"/>
                </a:solidFill>
                <a:latin typeface="Garamond"/>
              </a:rPr>
              <a:t> </a:t>
            </a:r>
            <a:r>
              <a:rPr b="0" lang="es-AR" sz="3000" spc="-1" strike="noStrike">
                <a:solidFill>
                  <a:srgbClr val="e5ffff"/>
                </a:solidFill>
                <a:latin typeface="Garamond"/>
              </a:rPr>
              <a:t>REGIMEN GENERAL GAST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250920" y="981000"/>
            <a:ext cx="86421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Gastos Transporte RGI 7/200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Amortización de Bienes de Uso RGI 8/2008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Cargas Sociales RGI 4/201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Deudores Incobrables RGI 5/201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Descuentos por pronto pago RGI 6/200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UTE Gastos Computables RGI 103/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Diferencias de Cambio RGI 93/200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39640" y="189000"/>
            <a:ext cx="7909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e5ffff"/>
                </a:solidFill>
                <a:latin typeface="Garamond"/>
              </a:rPr>
              <a:t> </a:t>
            </a:r>
            <a:r>
              <a:rPr b="0" lang="es-AR" sz="3000" spc="-1" strike="noStrike">
                <a:solidFill>
                  <a:srgbClr val="e5ffff"/>
                </a:solidFill>
                <a:latin typeface="Garamond"/>
              </a:rPr>
              <a:t>REGIMEN GENERAL GAST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50920" y="1054080"/>
            <a:ext cx="86421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Por su Localización: Personal Servicios Informáticos;  Comercial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Sustento Territor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- Pagina Web, Citio Ofic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- Comisiones Bancarias Inter-sucur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- Impuesto a los Débitos y Créditos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- Comisiones Pagadas a Tarjetas de Crédi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Regalías: Hidrocarburíferas – Derechos de Explot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68360" y="0"/>
            <a:ext cx="80931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3000" spc="-1" strike="noStrike">
                <a:solidFill>
                  <a:srgbClr val="e5ffff"/>
                </a:solidFill>
                <a:latin typeface="Garamond"/>
              </a:rPr>
              <a:t>REGIMEN GENERAL INGRES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50920" y="981000"/>
            <a:ext cx="843588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Computables o no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- Recupero de Gas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- Subsidios al Transpor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- Exportación de Servi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Lugar de Entrega/Destino o Utiliz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- Viaj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- Concesiona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68360" y="0"/>
            <a:ext cx="80931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3000" spc="-1" strike="noStrike">
                <a:solidFill>
                  <a:srgbClr val="e5ffff"/>
                </a:solidFill>
                <a:latin typeface="Garamond"/>
              </a:rPr>
              <a:t>REGIMEN GENERAL INGRES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50920" y="981000"/>
            <a:ext cx="843588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Lugar de Entrega/Domicilio del Adquiren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- Ultimo párrafo del Art. 1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Comercio Electrónico Directo e Indirecto RGI 83/200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Prestación de Servic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- Laborato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- Medicina Prepag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- Procesamiento de da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468360" y="0"/>
            <a:ext cx="80931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3000" spc="-1" strike="noStrike">
                <a:solidFill>
                  <a:srgbClr val="e5ffff"/>
                </a:solidFill>
                <a:latin typeface="Garamond"/>
              </a:rPr>
              <a:t>REGIMENES ESPECIA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50920" y="1484280"/>
            <a:ext cx="84358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Art. 6°:  - Atribución del 10% Adm. RGI 108/2004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- Corredores Viales RGI 109/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- Obras Subcontrat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Art. 8°: Sumatoria Ingresos y Egresos RGI 4/201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Art. 9°: - Acopiadores, Tte. Propio y de Tercer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- Transporte Aéreo, Origen del Via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- Servicios Contratados para Comercializ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68360" y="0"/>
            <a:ext cx="80931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3000" spc="-1" strike="noStrike">
                <a:solidFill>
                  <a:srgbClr val="e5ffff"/>
                </a:solidFill>
                <a:latin typeface="Garamond"/>
              </a:rPr>
              <a:t>REGIMENES ESPECIA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50920" y="1484280"/>
            <a:ext cx="84358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Art. 10°: Consultorías RGI 3/201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Art 11°: Intermediarios o Régimen Gene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Art 13°: - Propio Productor/Tercero Intermedia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- Precio Oficial vs. 85% y 15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- Mera Compra (Sustent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468360" y="0"/>
            <a:ext cx="80931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3600" spc="-1" strike="noStrike">
                <a:solidFill>
                  <a:srgbClr val="e5ffff"/>
                </a:solidFill>
                <a:latin typeface="Garamond"/>
              </a:rPr>
              <a:t>MUNICIP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79280" y="1268280"/>
            <a:ext cx="850752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Local Habilit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Ingresos por Export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Montos Mínimos RGI 12/200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6:32:01Z</dcterms:created>
  <dc:creator>BELEN</dc:creator>
  <dc:description/>
  <dc:language>en-US</dc:language>
  <cp:lastModifiedBy>Usuario</cp:lastModifiedBy>
  <cp:lastPrinted>2014-09-30T20:48:05Z</cp:lastPrinted>
  <dcterms:modified xsi:type="dcterms:W3CDTF">2014-10-02T12:57:21Z</dcterms:modified>
  <cp:revision>74</cp:revision>
  <dc:subject/>
  <dc:title>Diapositiva 1</dc:title>
</cp:coreProperties>
</file>