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AF0D-A70B-4B6B-9295-BFC06EF380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EAE3-C73E-40E5-9F95-EA6EEC394A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EFB-43AD-4834-A3FD-ECDBF846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1EC-CAB9-434E-A715-A3E8042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E5F-B9C4-4C89-8311-E6BECC50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504-C95C-41F9-85AA-87C59D22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599-0718-4F26-8BB4-4DE4A80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7D9-56B0-4A09-AD7A-B4ED0836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C82-B42B-49C7-A673-453EFCA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353-C3D1-4269-9FC3-817596C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674-5BC7-47CE-BCBF-4A494EF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7F5-5FD1-4F02-A9E0-3EFB7C2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9D3-40B9-4F2C-B2C4-0E427F8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E8B-6364-44EB-B6E1-875034C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43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73080" indent="-193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63680" indent="-193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52480" indent="-193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lstStyle>
            <a:lvl1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B29-5E55-4524-8B87-0CB4E549AC3C}" type="datetime">
              <a:rPr b="0" lang="es-ES" sz="10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47C1-9BBF-4C11-8078-08B7B5B392E1}" type="slidenum">
              <a:rPr b="0" lang="es-E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ctr">
            <a:noAutofit/>
          </a:bodyPr>
          <a:p>
            <a:pPr indent="0" algn="ctr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AR" sz="3300" spc="-1" strike="noStrike">
                <a:solidFill>
                  <a:srgbClr val="000000"/>
                </a:solidFill>
                <a:latin typeface="Calibri"/>
              </a:rPr>
              <a:t>IVA EN LA ACTIVIDAD DE LA CONSTRUCCION</a:t>
            </a:r>
            <a:br>
              <a:rPr sz="3300"/>
            </a:br>
            <a:r>
              <a:rPr b="1" lang="es-AR" sz="3300" spc="-1" strike="noStrike">
                <a:solidFill>
                  <a:srgbClr val="000000"/>
                </a:solidFill>
                <a:latin typeface="Calibri"/>
              </a:rPr>
              <a:t>FIDEICOMISOS  NO FINANCIEROS Y ALGUNOS </a:t>
            </a:r>
            <a:br>
              <a:rPr sz="3300"/>
            </a:br>
            <a:r>
              <a:rPr b="1" lang="es-AR" sz="3300" spc="-1" strike="noStrike">
                <a:solidFill>
                  <a:srgbClr val="000000"/>
                </a:solidFill>
                <a:latin typeface="Calibri"/>
              </a:rPr>
              <a:t>TEMAS CONFLICTIV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159696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 fontScale="99000"/>
          </a:bodyPr>
          <a:p>
            <a:pPr marL="288720" indent="-288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Calibri"/>
              </a:rPr>
              <a:t>El objeto del trabajo es el análisis de algunos temas conflictivos del IVA en la industria de la construcción relacionados con la actividad de los Fideicomisos no Financieros, y proponer normas que regulen el funcionamiento de los Fideicomisos inmobiliarios al costo, dándoles certeza tributaria y promocionando su desarroll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5 Marcador de número de diapositiva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5406-C727-494B-90D6-65A1DDF2B757}" type="slidenum">
              <a:rPr b="0" lang="es-E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lantilla"/>
          <p:cNvPicPr/>
          <p:nvPr/>
        </p:nvPicPr>
        <p:blipFill>
          <a:blip r:embed="rId1"/>
          <a:stretch/>
        </p:blipFill>
        <p:spPr>
          <a:xfrm>
            <a:off x="0" y="3997440"/>
            <a:ext cx="9144000" cy="171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logoconsejo"/>
          <p:cNvPicPr/>
          <p:nvPr/>
        </p:nvPicPr>
        <p:blipFill>
          <a:blip r:embed="rId2"/>
          <a:stretch/>
        </p:blipFill>
        <p:spPr>
          <a:xfrm>
            <a:off x="7956720" y="4778280"/>
            <a:ext cx="971280" cy="77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1383120" y="5384880"/>
            <a:ext cx="57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16º Simposio sobre Legislación Tributaria Argentina-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680" y="2854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/>
          </a:bodyPr>
          <a:p>
            <a:pPr marL="291960" indent="-291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eneralidades de la figura del Fideicomiso no Financi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Impuesto al Valor Ag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1-     Dominio y título fiduci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2-     Dominio  fiduciario y título onero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3-     Dominio fiduciario y título gratui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4-     Patrimonio separado, sujeto pasivo y realidad económ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5-     Cesión de derechos del Fiduci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6-     Hecho impon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6.1-    Empresa constructora y propósito de lu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6.2-    Momento de perfeccionamiento del hecho impon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7-     Base Impon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7.1-     Precio Neto grav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8-     Fideicomiso Inmobiliario y Consor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8.1-      Definición  Consorc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.8.2-      Importancia del reemplazo de la figura del consorcio por la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De Fideicomi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3-    Propue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4-    Conclusi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Marcador de número de diapositiva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8D66-90DA-44FA-8572-C4D354F24634}" type="slidenum">
              <a:rPr b="0" lang="es-E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plantilla"/>
          <p:cNvPicPr/>
          <p:nvPr/>
        </p:nvPicPr>
        <p:blipFill>
          <a:blip r:embed="rId1"/>
          <a:stretch/>
        </p:blipFill>
        <p:spPr>
          <a:xfrm>
            <a:off x="0" y="3997440"/>
            <a:ext cx="9144000" cy="171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logoconsejo"/>
          <p:cNvPicPr/>
          <p:nvPr/>
        </p:nvPicPr>
        <p:blipFill>
          <a:blip r:embed="rId2"/>
          <a:stretch/>
        </p:blipFill>
        <p:spPr>
          <a:xfrm>
            <a:off x="7956720" y="4778280"/>
            <a:ext cx="971280" cy="777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"/>
          <p:cNvSpPr/>
          <p:nvPr/>
        </p:nvSpPr>
        <p:spPr>
          <a:xfrm>
            <a:off x="1379520" y="5384880"/>
            <a:ext cx="57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285840"/>
            <a:ext cx="8858160" cy="4643280"/>
          </a:xfrm>
          <a:prstGeom prst="rect">
            <a:avLst/>
          </a:prstGeom>
          <a:noFill/>
          <a:ln w="0">
            <a:noFill/>
          </a:ln>
        </p:spPr>
        <p:txBody>
          <a:bodyPr lIns="77760" rIns="77760" tIns="38880" bIns="38880" anchor="t">
            <a:normAutofit fontScale="93000"/>
          </a:bodyPr>
          <a:p>
            <a:pPr marL="27144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PUE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pongo la definición de una clase de Fideicomiso inclusivo de la figura del Consorcio, agregando el siguiente artículo a la ley 2444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 llama  Fideicomiso de  Condóminos, el  Fideicomiso de Construcción o llamado Inmobiliario que  se constituya  compuesto  por  personas  que  en  el  carácter  de  Fiduciantes le transfieran aportes para la adquisición de un terreno y/o terreno con mejoras, decidiéndose en común la construcción al costo de una cierta cantidad de unidades, las que se afectarán al sistema de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piedad horizontal,  adjudicándose entre aquellos una vez concluidas, en proporción a los aportes efectu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referida adjudicación, no es venta, constituye solamente un acuerdo de partes destinado a la asignación de las unidades construidas ya que la propiedad de las mismas, en el ámbito del Derecho tributario, perteneció siempre a los Fiduciantes, cada uno en proporción a lo aporta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caso de vender la unidad dentro de los tres años de finalizada la obra, se configura el hecho imponible. El Fideicomiso atribuirá mensualmente al o los Fiduciantes la proporción que le corresponda del costo total y del Saldo a favor en el IVA que se encuentra a nombre del “Fideicomiso de Condóminos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caso de vender la unidad dentro de los tres años de finalizada la obra, se configura el hecho imponible. El Fideicomiso atribuirá mensualmente al o los Fiduciantes la proporción que le corresponda del costo total y del Saldo a favor en el IVA que se encuentra a nombre del “Fideicomiso de Condóminos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E2E-96D0-4C67-8B48-2DB60F1D535A}" type="slidenum">
              <a:rPr b="0" lang="es-E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lantilla"/>
          <p:cNvPicPr/>
          <p:nvPr/>
        </p:nvPicPr>
        <p:blipFill>
          <a:blip r:embed="rId1"/>
          <a:stretch/>
        </p:blipFill>
        <p:spPr>
          <a:xfrm>
            <a:off x="0" y="435780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logoconsejo"/>
          <p:cNvPicPr/>
          <p:nvPr/>
        </p:nvPicPr>
        <p:blipFill>
          <a:blip r:embed="rId2"/>
          <a:stretch/>
        </p:blipFill>
        <p:spPr>
          <a:xfrm>
            <a:off x="7956720" y="4778280"/>
            <a:ext cx="971280" cy="777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1379520" y="5384880"/>
            <a:ext cx="57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16º Simposio sobre Legislación Tributaria Argentina-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número de diapositiva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5AD2-00F6-445E-A265-06A294D0EA32}" type="slidenum">
              <a:rPr b="0" lang="es-E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plantilla"/>
          <p:cNvPicPr/>
          <p:nvPr/>
        </p:nvPicPr>
        <p:blipFill>
          <a:blip r:embed="rId1"/>
          <a:stretch/>
        </p:blipFill>
        <p:spPr>
          <a:xfrm>
            <a:off x="0" y="3997440"/>
            <a:ext cx="9144000" cy="1717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consejo"/>
          <p:cNvPicPr/>
          <p:nvPr/>
        </p:nvPicPr>
        <p:blipFill>
          <a:blip r:embed="rId2"/>
          <a:stretch/>
        </p:blipFill>
        <p:spPr>
          <a:xfrm>
            <a:off x="7956720" y="4778280"/>
            <a:ext cx="971280" cy="77796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1619280" y="1897200"/>
            <a:ext cx="5905440" cy="174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31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Usuario</cp:lastModifiedBy>
  <dcterms:modified xsi:type="dcterms:W3CDTF">2014-09-30T17:58:05Z</dcterms:modified>
  <cp:revision>24</cp:revision>
  <dc:subject/>
  <dc:title>Diapositiva 1</dc:title>
</cp:coreProperties>
</file>