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A46-5966-4AED-B768-14BB7A90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6B0-E45F-42B9-893D-0D316669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6C6-797C-48A5-8347-B41FA5E2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CD8-F2CE-4ABF-A1AC-6AEBB185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1EA-D3D7-4584-B1B9-EACB2461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4EA-B816-416F-BF37-0C22B791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542-EF44-45C3-973E-E859EED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88D-B2A9-42E0-B51A-10AB644E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9F2-0C5B-4224-9E56-9FE39199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C5C-ADF9-46BF-8A5D-5F0BE86F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DDB-639A-4EA4-B308-A0E06CEC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BC7-C986-4042-BBC6-2FF216DE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174F-5774-4923-B45B-ADB067C11278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66B4-88B7-4076-8939-691E7BED80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DC2E-0245-4BF9-A640-12F04214C9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45600" cy="3097080"/>
          </a:xfrm>
          <a:prstGeom prst="rect">
            <a:avLst/>
          </a:prstGeom>
          <a:solidFill>
            <a:srgbClr val="1e4649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David"/>
                <a:ea typeface="David"/>
              </a:rPr>
              <a:t>Los indicios inferentes que habilitan presumir el obrar dol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        30/09/14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135792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11A7-99D9-4C1B-9F88-F65F72C280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445600" cy="4248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Veamos… “Existe grave contradicción entre la documentación respaldatoria y la declaración jurada, la grave contradicción es engaño, por lo tanto la declaración es engañosa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35468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6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 3009/14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rot="3621600">
            <a:off x="7130520" y="3886200"/>
            <a:ext cx="1201680" cy="2624040"/>
          </a:xfrm>
          <a:custGeom>
            <a:avLst/>
            <a:gdLst>
              <a:gd name="textAreaLeft" fmla="*/ 160920 w 1201680"/>
              <a:gd name="textAreaRight" fmla="*/ 1040760 w 1201680"/>
              <a:gd name="textAreaTop" fmla="*/ 459000 h 2624040"/>
              <a:gd name="textAreaBottom" fmla="*/ 1902600 h 26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F5DB-1E7B-4C8A-95EA-1B4B9FC947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63040" cy="4248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clusió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e argumento dialéctico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uede ser entendido como suficiente para presumir el dolo, pese a que se haya acreditado el indicio infer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135468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417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3009/14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 rot="13428600">
            <a:off x="344520" y="526680"/>
            <a:ext cx="1201680" cy="2624040"/>
          </a:xfrm>
          <a:custGeom>
            <a:avLst/>
            <a:gdLst>
              <a:gd name="textAreaLeft" fmla="*/ 160920 w 1201680"/>
              <a:gd name="textAreaRight" fmla="*/ 1040760 w 1201680"/>
              <a:gd name="textAreaTop" fmla="*/ 459000 h 2624040"/>
              <a:gd name="textAreaBottom" fmla="*/ 1902600 h 26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6B32-E481-43B0-A3A6-7F119DAFB3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45600" cy="26096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dicios inferente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l a. 47 de la LPF son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suficient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para acreditar el obrar doloso del a. 46, el cual reposa sobre un ardid o enga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135468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  30/09/14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0 CuadroTexto"/>
          <p:cNvSpPr/>
          <p:nvPr/>
        </p:nvSpPr>
        <p:spPr>
          <a:xfrm>
            <a:off x="2627280" y="981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38DF-CEF8-4720-B664-C885749F55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lantilla"/>
          <p:cNvPicPr/>
          <p:nvPr/>
        </p:nvPicPr>
        <p:blipFill>
          <a:blip r:embed="rId1"/>
          <a:stretch/>
        </p:blipFill>
        <p:spPr>
          <a:xfrm>
            <a:off x="0" y="4824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8447040" cy="1584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l Fisco debe probar el obrar doloso para acreditar el elemento subjetivo e imputar el obrar dol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2"/>
          <p:cNvSpPr/>
          <p:nvPr/>
        </p:nvSpPr>
        <p:spPr>
          <a:xfrm>
            <a:off x="134532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49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30/09/14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0 CuadroTexto"/>
          <p:cNvSpPr/>
          <p:nvPr/>
        </p:nvSpPr>
        <p:spPr>
          <a:xfrm>
            <a:off x="2627280" y="981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A71B-2CF4-443D-953A-9F140B4CB6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lantilla"/>
          <p:cNvPicPr/>
          <p:nvPr/>
        </p:nvPicPr>
        <p:blipFill>
          <a:blip r:embed="rId1"/>
          <a:stretch/>
        </p:blipFill>
        <p:spPr>
          <a:xfrm>
            <a:off x="0" y="4824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8445240" cy="26096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i el objetivo es la verdad material, debería aplicarse la teoría de las cargas probatorias dinámicas para evitar que, a pesar de tratarse de una conducta culposa, se impute un obrar dol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2"/>
          <p:cNvSpPr/>
          <p:nvPr/>
        </p:nvSpPr>
        <p:spPr>
          <a:xfrm>
            <a:off x="134532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49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30/09/14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0 CuadroTexto"/>
          <p:cNvSpPr/>
          <p:nvPr/>
        </p:nvSpPr>
        <p:spPr>
          <a:xfrm>
            <a:off x="2627280" y="981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3B9F-3EA8-4169-A4D9-435B9D951C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45600" cy="3816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svirtuado el indicio o no probado el ardid/engaño que sustenta la imputación de fraude, por el principio del </a:t>
            </a:r>
            <a:r>
              <a:rPr b="1" i="1" lang="es-AR" sz="3200" spc="-1" strike="noStrike">
                <a:solidFill>
                  <a:srgbClr val="000000"/>
                </a:solidFill>
                <a:latin typeface="Arial"/>
              </a:rPr>
              <a:t>non bis in idem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, el Fisco se halla impedido  de recalificar la conducta e imputar  omisión culposa, dado que incurriría en doble juzg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135468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 o  T   F  Destuniano                 30/9/14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0 CuadroTexto"/>
          <p:cNvSpPr/>
          <p:nvPr/>
        </p:nvSpPr>
        <p:spPr>
          <a:xfrm>
            <a:off x="2627280" y="981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AF53-0C93-4198-8CD8-9FE9B9E09E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45" name="WordArt 6"/>
          <p:cNvSpPr txBox="1"/>
          <p:nvPr/>
        </p:nvSpPr>
        <p:spPr>
          <a:xfrm>
            <a:off x="1619280" y="2565360"/>
            <a:ext cx="590544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C1DA-764D-4481-A9AE-B4AEE5C8C6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445600" cy="41036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Tema bajo e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La imputación de obrar dolo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35468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49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          30/09/14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12D5-BEC1-4808-A2F5-CE694B52FB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373960" cy="4464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Aspectos de previo pronu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Adhesión a la teoría penal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Sólo puede ser  reprimido quien sea culpable, es decir, aquel a quien acción punible le puede ser atribuida tanto objetiva como subjetivamente (CSJ Fallos 290:202 5° conside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Presupuesto legal: Declaración engañosa / Ocultación maliciosa   + perjuicio fis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389960" y="6461280"/>
            <a:ext cx="66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9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       30/9/14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280D-6EFD-4F16-8422-DAE1C42061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373960" cy="4464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Aspectos de previo pronu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djj engañosa        ddjj inexa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Proscripción del doble juzga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1389960" y="6461280"/>
            <a:ext cx="66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9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         30/9/14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1 Conector recto"/>
          <p:cNvSpPr/>
          <p:nvPr/>
        </p:nvSpPr>
        <p:spPr>
          <a:xfrm>
            <a:off x="4140360" y="2852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3 Conector recto"/>
          <p:cNvSpPr/>
          <p:nvPr/>
        </p:nvSpPr>
        <p:spPr>
          <a:xfrm>
            <a:off x="4140360" y="299736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5 Conector recto"/>
          <p:cNvSpPr/>
          <p:nvPr/>
        </p:nvSpPr>
        <p:spPr>
          <a:xfrm flipH="1">
            <a:off x="4284720" y="2492280"/>
            <a:ext cx="358560" cy="6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5DA0-0338-478A-A060-AC4768D13A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373960" cy="4464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Aspectos de previo pronu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Incumplimiento de un deber material</a:t>
            </a: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s-A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El legislador incorporó un artículo -a. 47- con indicios infe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1389960" y="6461280"/>
            <a:ext cx="66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9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       30/9/14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54DD-DBC2-4772-AF77-088FDC2C98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445600" cy="43214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Aspectos de previo pronu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s-A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Estos indicios  son meramente 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s-A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No contienen el elemento subje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135468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30/09/14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4FA8-D749-487B-8866-9D392D3324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68360" y="1700280"/>
            <a:ext cx="4680000" cy="3744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954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El Fisco ha cometido errores en la imputación de la comisión de la figura del art. 4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¿porqué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135468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 30/09/14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6BAD-1A16-4BE6-AC4E-24E7625200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445600" cy="4248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El silogismo       es un razonamiento deductivo           que consta de dos proposiciones que son premisas y una tercera  denominada conclusión, siendo esta última una inferencia que resulta de las dos primeras</a:t>
            </a: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135468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49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  3009/14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262200">
            <a:off x="7843680" y="41040"/>
            <a:ext cx="1202040" cy="2624040"/>
          </a:xfrm>
          <a:custGeom>
            <a:avLst/>
            <a:gdLst>
              <a:gd name="textAreaLeft" fmla="*/ 160920 w 1202040"/>
              <a:gd name="textAreaRight" fmla="*/ 1041120 w 1202040"/>
              <a:gd name="textAreaTop" fmla="*/ 459000 h 2624040"/>
              <a:gd name="textAreaBottom" fmla="*/ 1902600 h 26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42AB-BC8F-4C3E-9C44-DFD1204E23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445600" cy="4248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977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Aristóteles  llamaba </a:t>
            </a: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epiquerema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 a un argumento silogístico que incluye en su estructura una demostración de alguna de las premisas, incluyó a estos dentro los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argumentos dialéctic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135468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6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Alfredo  T   F  Destuniano                  3009/14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 rot="13687200">
            <a:off x="777240" y="10440"/>
            <a:ext cx="1202040" cy="2624040"/>
          </a:xfrm>
          <a:custGeom>
            <a:avLst/>
            <a:gdLst>
              <a:gd name="textAreaLeft" fmla="*/ 160920 w 1202040"/>
              <a:gd name="textAreaRight" fmla="*/ 1041120 w 1202040"/>
              <a:gd name="textAreaTop" fmla="*/ 459000 h 2624040"/>
              <a:gd name="textAreaBottom" fmla="*/ 1902600 h 26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Hernán Castillejo</cp:lastModifiedBy>
  <dcterms:modified xsi:type="dcterms:W3CDTF">2014-09-29T19:37:58Z</dcterms:modified>
  <cp:revision>27</cp:revision>
  <dc:subject/>
  <dc:title>Diapositiva 1</dc:title>
</cp:coreProperties>
</file>