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ED61-3198-4C78-B8ED-CD00F6EB4563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3 Marcador de número de diapositiva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122D-5279-4082-9CBC-234E80E2BD6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3 Marcador de número de diapositiva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CB4A-D838-4492-B8BE-7B3EA9FEF6C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9520" cy="3463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A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3 Marcador de número de diapositiva"/>
          <p:cNvSpPr/>
          <p:nvPr/>
        </p:nvSpPr>
        <p:spPr>
          <a:xfrm>
            <a:off x="3970440" y="877248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782C-A606-417A-B580-38A1EC4583E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39B7-7EF7-4B7A-A5FD-E8731121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4C5F-C6EA-430F-B319-A340738DA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C6D6-9C99-40F7-A1C7-B3ABA4BC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3A1C-827E-44D2-9EBF-7F49B35D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3A6-2B4C-430A-9C77-CE27AFA8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0B83-E72E-439B-B3A6-0978DAA0B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EBF-553F-404A-B2B7-AF413BFB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6FD5-E0B1-41F9-8777-B15516C6C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85C-807F-48E3-BAB2-E90BBE4E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FB65-E16A-462C-A385-3D5E4A73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05CD-A711-4EB1-AC23-2A4B05A9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7B56-AB60-4A93-A663-7D4780CC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51DD-54C5-4C8A-9741-E524DFC3B32C}" type="datetime">
              <a:rPr b="0" lang="es-ES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Expositor: CPN Dr. Horacio R. Della Roc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54CA-FBBE-412D-AB78-15BB24BB2C3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727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300" spc="-1" strike="noStrike">
                <a:solidFill>
                  <a:srgbClr val="000000"/>
                </a:solidFill>
                <a:latin typeface="Calibri"/>
              </a:rPr>
              <a:t>16º</a:t>
            </a: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 Simposio sobre Legislación Tributaria Argen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5240" y="2707920"/>
            <a:ext cx="6400800" cy="259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2388334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C.P.C.E.C.A.B.A.                    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Comisión Nº1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s-ES" sz="3500" spc="-1" strike="noStrike">
                <a:solidFill>
                  <a:srgbClr val="000000"/>
                </a:solidFill>
                <a:latin typeface="Calibri"/>
              </a:rPr>
              <a:t>Aspectos conflictivos en procedimiento</a:t>
            </a:r>
            <a:r>
              <a:rPr b="0" lang="es-ES" sz="35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ES" sz="3500" spc="-1" strike="noStrike">
                <a:solidFill>
                  <a:srgbClr val="000000"/>
                </a:solidFill>
                <a:latin typeface="Calibri"/>
              </a:rPr>
              <a:t>Presunciones de dolo”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684360" y="551664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52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AA95-893D-4901-9C26-AA8737FF8D0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2 Marcador de contenido"/>
          <p:cNvGrpSpPr/>
          <p:nvPr/>
        </p:nvGrpSpPr>
        <p:grpSpPr>
          <a:xfrm>
            <a:off x="444600" y="1590840"/>
            <a:ext cx="8254800" cy="768240"/>
            <a:chOff x="444600" y="1590840"/>
            <a:chExt cx="8254800" cy="768240"/>
          </a:xfrm>
        </p:grpSpPr>
        <p:pic>
          <p:nvPicPr>
            <p:cNvPr id="120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57200" y="1600200"/>
              <a:ext cx="82296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700" spc="-1" strike="noStrike">
                  <a:solidFill>
                    <a:srgbClr val="000000"/>
                  </a:solidFill>
                  <a:latin typeface="Calibri"/>
                </a:rPr>
                <a:t>Principio de culpabilidad vs. Presunción de inocenci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2 Marcador de contenido"/>
          <p:cNvSpPr/>
          <p:nvPr/>
        </p:nvSpPr>
        <p:spPr>
          <a:xfrm>
            <a:off x="45720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presunción de inocencia constituye un principio co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se estado de inocencia no puede desvirtuarse por meras presunciones con rango norm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figura del artículo 46 exige que el fisco acredite los extremos fácticos de la conducta engañosa o malicio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 Marcador de contenido"/>
          <p:cNvSpPr/>
          <p:nvPr/>
        </p:nvSpPr>
        <p:spPr>
          <a:xfrm>
            <a:off x="468360" y="3933720"/>
            <a:ext cx="82296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C56E-2DDC-4FA6-8E13-166F0E35F58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26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2 Marcador de contenido"/>
          <p:cNvSpPr/>
          <p:nvPr/>
        </p:nvSpPr>
        <p:spPr>
          <a:xfrm>
            <a:off x="458640" y="2343240"/>
            <a:ext cx="8229600" cy="310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No es suficiente que se configure uno de los extremos fácticos legales. Ese hecho debe ser causa, instrumento o suficiente indicativo del dolo utiliz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No es admisible acreditar la materialidad del delito y autoría del acusado mediante pruebas indicia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Ninguna presunción de dolo puede ser co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92A1-B201-427F-B1B9-4563DB32CCB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2 Marcador de contenido"/>
          <p:cNvGrpSpPr/>
          <p:nvPr/>
        </p:nvGrpSpPr>
        <p:grpSpPr>
          <a:xfrm>
            <a:off x="444600" y="1590840"/>
            <a:ext cx="8254800" cy="555480"/>
            <a:chOff x="444600" y="1590840"/>
            <a:chExt cx="8254800" cy="555480"/>
          </a:xfrm>
        </p:grpSpPr>
        <p:pic>
          <p:nvPicPr>
            <p:cNvPr id="132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57200" y="1600200"/>
              <a:ext cx="82296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700" spc="-1" strike="noStrike">
                  <a:solidFill>
                    <a:srgbClr val="000000"/>
                  </a:solidFill>
                  <a:latin typeface="Calibri"/>
                </a:rPr>
                <a:t>Principio de culpabilidad vs. Presunción de inocenci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2 Marcador de contenido"/>
          <p:cNvGrpSpPr/>
          <p:nvPr/>
        </p:nvGrpSpPr>
        <p:grpSpPr>
          <a:xfrm>
            <a:off x="444600" y="1590840"/>
            <a:ext cx="8254800" cy="841320"/>
            <a:chOff x="444600" y="1590840"/>
            <a:chExt cx="8254800" cy="841320"/>
          </a:xfrm>
        </p:grpSpPr>
        <p:pic>
          <p:nvPicPr>
            <p:cNvPr id="137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457200" y="1600200"/>
              <a:ext cx="82296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Otra Pos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2 Marcador de contenido"/>
          <p:cNvSpPr/>
          <p:nvPr/>
        </p:nvSpPr>
        <p:spPr>
          <a:xfrm>
            <a:off x="503280" y="2708280"/>
            <a:ext cx="813744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lvl="1" marL="343080" indent="-3430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Admiten la vigencia del derecho a la presunción de inocencia, pero concluyen que no existe indefensión en los casos en que se permite al contribuyente producir prueba en contra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Consideran que en el ámbito administrativo la presunción de inocencia no debiera ser tan intensa. (Matices y alcances distintos del derecho penal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2 Marcador de contenido"/>
          <p:cNvSpPr/>
          <p:nvPr/>
        </p:nvSpPr>
        <p:spPr>
          <a:xfrm>
            <a:off x="1332000" y="3357720"/>
            <a:ext cx="7581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332000" y="4724280"/>
            <a:ext cx="76532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0210-B62B-4347-B1CE-0A670DC9F9B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44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2 Marcador de contenido"/>
          <p:cNvGrpSpPr/>
          <p:nvPr/>
        </p:nvGrpSpPr>
        <p:grpSpPr>
          <a:xfrm>
            <a:off x="444600" y="1590840"/>
            <a:ext cx="8254800" cy="701640"/>
            <a:chOff x="444600" y="1590840"/>
            <a:chExt cx="8254800" cy="701640"/>
          </a:xfrm>
        </p:grpSpPr>
        <p:pic>
          <p:nvPicPr>
            <p:cNvPr id="147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1600200"/>
              <a:ext cx="82296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Contra postura</a:t>
              </a:r>
              <a:r>
                <a:rPr b="0" lang="es-E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2 Marcador de contenido"/>
          <p:cNvSpPr/>
          <p:nvPr/>
        </p:nvSpPr>
        <p:spPr>
          <a:xfrm>
            <a:off x="641520" y="2154240"/>
            <a:ext cx="8229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2 Marcador de contenido"/>
          <p:cNvSpPr/>
          <p:nvPr/>
        </p:nvSpPr>
        <p:spPr>
          <a:xfrm>
            <a:off x="611280" y="2708280"/>
            <a:ext cx="806436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Esos ciertos matices corresponden a las adaptaciones funcionales pero no a derogaciones de carácter sustan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“matizada” traslación de las garantías constitucionales no puede vaciar de contenido los preceptos constitu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49BE4-86C2-4994-A28A-837B9EFD423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6836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53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2 Marcador de contenido"/>
          <p:cNvGrpSpPr/>
          <p:nvPr/>
        </p:nvGrpSpPr>
        <p:grpSpPr>
          <a:xfrm>
            <a:off x="444600" y="1590840"/>
            <a:ext cx="8254800" cy="768240"/>
            <a:chOff x="444600" y="1590840"/>
            <a:chExt cx="8254800" cy="768240"/>
          </a:xfrm>
        </p:grpSpPr>
        <p:pic>
          <p:nvPicPr>
            <p:cNvPr id="156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57200" y="1600200"/>
              <a:ext cx="82296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Contra pos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2 Marcador de contenido"/>
          <p:cNvSpPr/>
          <p:nvPr/>
        </p:nvSpPr>
        <p:spPr>
          <a:xfrm>
            <a:off x="324000" y="2708280"/>
            <a:ext cx="8280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 Marcador de contenido"/>
          <p:cNvSpPr/>
          <p:nvPr/>
        </p:nvSpPr>
        <p:spPr>
          <a:xfrm>
            <a:off x="324000" y="373536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A949-C3A6-4062-A1B2-69452DA1FCB5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62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1 Rectángulo"/>
          <p:cNvSpPr/>
          <p:nvPr/>
        </p:nvSpPr>
        <p:spPr>
          <a:xfrm>
            <a:off x="477720" y="1812960"/>
            <a:ext cx="813780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peculiar estructura organizativa de la administración, si bien con diferencias respecto de la jurisdicción penal, no puede erigirse como suficiente pretexto para reducir los derechos constitu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 presunción de inocencia debe interpretarse de conformidad con la Declaración Universal de los Derechos Human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2 Marcador de contenido"/>
          <p:cNvGrpSpPr/>
          <p:nvPr/>
        </p:nvGrpSpPr>
        <p:grpSpPr>
          <a:xfrm>
            <a:off x="444600" y="1590840"/>
            <a:ext cx="8254800" cy="701640"/>
            <a:chOff x="444600" y="1590840"/>
            <a:chExt cx="8254800" cy="701640"/>
          </a:xfrm>
        </p:grpSpPr>
        <p:pic>
          <p:nvPicPr>
            <p:cNvPr id="166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57200" y="1600200"/>
              <a:ext cx="8229600" cy="6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Posturas Jurisprudencial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2 Marcador de contenido"/>
          <p:cNvSpPr/>
          <p:nvPr/>
        </p:nvSpPr>
        <p:spPr>
          <a:xfrm>
            <a:off x="611280" y="2781360"/>
            <a:ext cx="822960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Corte Suprema de Justicia de la Na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ribunales Inferior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Tribunales Europe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5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8E5A-5B75-4B79-9A30-4A200904B98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71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2 Marcador de contenido"/>
          <p:cNvGrpSpPr/>
          <p:nvPr/>
        </p:nvGrpSpPr>
        <p:grpSpPr>
          <a:xfrm>
            <a:off x="444600" y="1590840"/>
            <a:ext cx="8254800" cy="768240"/>
            <a:chOff x="444600" y="1590840"/>
            <a:chExt cx="8254800" cy="768240"/>
          </a:xfrm>
        </p:grpSpPr>
        <p:pic>
          <p:nvPicPr>
            <p:cNvPr id="174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457200" y="1600200"/>
              <a:ext cx="82296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Estado actu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2 Marcador de contenido"/>
          <p:cNvSpPr/>
          <p:nvPr/>
        </p:nvSpPr>
        <p:spPr>
          <a:xfrm>
            <a:off x="324000" y="2492280"/>
            <a:ext cx="82803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OGMA: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Naturaleza penal de las infracciones y aplicació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de todos los principios del derecho penal y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ocesal pe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REALIDAD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Las reglas sobre la carga de la prueba que están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en contradicción con la presunción de inoc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324000" y="373536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242-1FAA-45E7-A559-94C62276061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80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2 Marcador de contenido"/>
          <p:cNvGrpSpPr/>
          <p:nvPr/>
        </p:nvGrpSpPr>
        <p:grpSpPr>
          <a:xfrm>
            <a:off x="585720" y="1401840"/>
            <a:ext cx="8253360" cy="744480"/>
            <a:chOff x="585720" y="1401840"/>
            <a:chExt cx="8253360" cy="744480"/>
          </a:xfrm>
        </p:grpSpPr>
        <p:pic>
          <p:nvPicPr>
            <p:cNvPr id="183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585720" y="1401840"/>
              <a:ext cx="825336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96880" y="1413000"/>
              <a:ext cx="82296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800" spc="-1" strike="noStrike">
                  <a:solidFill>
                    <a:srgbClr val="000000"/>
                  </a:solidFill>
                  <a:latin typeface="Calibri"/>
                </a:rPr>
                <a:t>Preguntas para reflexion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2 Marcador de contenido"/>
          <p:cNvSpPr/>
          <p:nvPr/>
        </p:nvSpPr>
        <p:spPr>
          <a:xfrm>
            <a:off x="61128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¿Son un instituto propio del derecho tributari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¿Porqué están en la ley 11.683 y no están en la 24.769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¿Da lo mismo que estén o que no esté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¿Estaban incorporados los Pactos Internacionales de Derechos Humanos a la Constitución Nacional a la fecha de los fallos de la CSJ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Calibri"/>
              </a:rPr>
              <a:t>¿Podrá cambiarse la postur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BEE1-AE49-4129-9C15-DD9450568AAE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88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2 Marcador de contenido"/>
          <p:cNvGrpSpPr/>
          <p:nvPr/>
        </p:nvGrpSpPr>
        <p:grpSpPr>
          <a:xfrm>
            <a:off x="444600" y="1590840"/>
            <a:ext cx="8254800" cy="768240"/>
            <a:chOff x="444600" y="1590840"/>
            <a:chExt cx="8254800" cy="768240"/>
          </a:xfrm>
        </p:grpSpPr>
        <p:pic>
          <p:nvPicPr>
            <p:cNvPr id="191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1600200"/>
              <a:ext cx="82296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Su cuestionamiento constituciona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2 Marcador de contenido"/>
          <p:cNvSpPr/>
          <p:nvPr/>
        </p:nvSpPr>
        <p:spPr>
          <a:xfrm>
            <a:off x="324000" y="2697120"/>
            <a:ext cx="828036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 la luz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El principio de inoc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garantía del artículo 18 de la C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os pactos internac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324000" y="3735360"/>
            <a:ext cx="820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D25C-A38A-476E-A965-6758856AD5D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97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2 Marcador de contenido"/>
          <p:cNvGrpSpPr/>
          <p:nvPr/>
        </p:nvGrpSpPr>
        <p:grpSpPr>
          <a:xfrm>
            <a:off x="444600" y="1590840"/>
            <a:ext cx="8254800" cy="628560"/>
            <a:chOff x="444600" y="1590840"/>
            <a:chExt cx="8254800" cy="628560"/>
          </a:xfrm>
        </p:grpSpPr>
        <p:pic>
          <p:nvPicPr>
            <p:cNvPr id="200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57200" y="1600200"/>
              <a:ext cx="822960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Conclus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2 Marcador de contenido"/>
          <p:cNvSpPr/>
          <p:nvPr/>
        </p:nvSpPr>
        <p:spPr>
          <a:xfrm>
            <a:off x="324000" y="2421000"/>
            <a:ext cx="8280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La presunción de inocencia resulta una garantía insoslayable y debe ser respetada tanto en el procedimiento penal propiamente dicho como en el procedimiento sancionador, ento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2 Marcador de contenido"/>
          <p:cNvSpPr/>
          <p:nvPr/>
        </p:nvSpPr>
        <p:spPr>
          <a:xfrm>
            <a:off x="324000" y="3735360"/>
            <a:ext cx="820872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A33-F182-4A97-BAD2-8469FC01EFE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206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3654360"/>
          <a:ext cx="7777080" cy="1656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“ </a:t>
                      </a: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Las presunciones de dolo o del elemento subjetivo, aún cuando permitan la prueba en contrario, deberían descartarse del régimen sancionatorio pues vulneran el principio de presunción de inocencia.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58ed5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9800" y="2817360"/>
            <a:ext cx="8229600" cy="26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“ </a:t>
            </a: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Se presume, salvo prueba en contrario, que existe la voluntad de producir declaraciones engañosas o de incurrir en ocultaciones maliciosas cuand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a) medie una grave contradicción entre los libros, registraciones,          documentos y demás antecedentes correlativos con los datos que surjan de las declaraciones juradas o con las que deban aportarse en la oportunidad a que se refiere el último párrafo del artículo 11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D596-6A3F-4DB3-8EE3-383A4112538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58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Título"/>
          <p:cNvSpPr/>
          <p:nvPr/>
        </p:nvSpPr>
        <p:spPr>
          <a:xfrm>
            <a:off x="468360" y="1773360"/>
            <a:ext cx="8207280" cy="760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rtículo 47. Ley 11.6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25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alibri"/>
              </a:rPr>
              <a:t>MUCHAS GRACIAS !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B222-8EC2-4CB3-B798-A57A7AE15A4D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212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5720" y="404280"/>
            <a:ext cx="8229600" cy="1065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 CuadroTexto"/>
          <p:cNvSpPr/>
          <p:nvPr/>
        </p:nvSpPr>
        <p:spPr>
          <a:xfrm>
            <a:off x="971640" y="285264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403280" y="4221000"/>
          <a:ext cx="6167520" cy="1113120"/>
        </p:xfrm>
        <a:graphic>
          <a:graphicData uri="http://schemas.openxmlformats.org/drawingml/2006/table">
            <a:tbl>
              <a:tblPr/>
              <a:tblGrid>
                <a:gridCol w="1530360"/>
                <a:gridCol w="4637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11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F1F1-74D6-43A3-B79F-06BB5C2DEF09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65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i="1" lang="es-A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cuando en la documentación indicada en el inciso anterior se consignen datos inexactos que pongan una grave incidencia sobre la determinación de la materia imponib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c) si la inexactitud de las declaraciones juradas o de los elementos documentales que deben servirle  de base proviene de una manifiesta disconformidad con las normas legales y reglamentarias que fueran aplicables al cas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2 Marcador de contenido"/>
          <p:cNvSpPr/>
          <p:nvPr/>
        </p:nvSpPr>
        <p:spPr>
          <a:xfrm>
            <a:off x="468360" y="1773360"/>
            <a:ext cx="8229600" cy="37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 Título"/>
          <p:cNvSpPr/>
          <p:nvPr/>
        </p:nvSpPr>
        <p:spPr>
          <a:xfrm>
            <a:off x="611280" y="1773360"/>
            <a:ext cx="8229600" cy="68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rtículo 47. Ley 11.6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2 Marcador de contenido"/>
          <p:cNvGrpSpPr/>
          <p:nvPr/>
        </p:nvGrpSpPr>
        <p:grpSpPr>
          <a:xfrm>
            <a:off x="444600" y="1474920"/>
            <a:ext cx="8254800" cy="598320"/>
            <a:chOff x="444600" y="1474920"/>
            <a:chExt cx="8254800" cy="598320"/>
          </a:xfrm>
        </p:grpSpPr>
        <p:pic>
          <p:nvPicPr>
            <p:cNvPr id="70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474920"/>
              <a:ext cx="8254800" cy="5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57200" y="1484280"/>
              <a:ext cx="82296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s-ES" sz="2400" spc="-1" strike="noStrike">
                  <a:solidFill>
                    <a:srgbClr val="000000"/>
                  </a:solidFill>
                  <a:latin typeface="Calibri"/>
                </a:rPr>
                <a:t>Artículo 47. Ley 11.68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4 CuadroTexto"/>
          <p:cNvSpPr/>
          <p:nvPr/>
        </p:nvSpPr>
        <p:spPr>
          <a:xfrm>
            <a:off x="1042920" y="3068640"/>
            <a:ext cx="68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CE60-38A1-4428-91F9-E01FE7B592B0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75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492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10 Rectángulo"/>
          <p:cNvSpPr/>
          <p:nvPr/>
        </p:nvSpPr>
        <p:spPr>
          <a:xfrm>
            <a:off x="395280" y="215424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000000"/>
                </a:solidFill>
                <a:latin typeface="Calibri"/>
              </a:rPr>
              <a:t>d) </a:t>
            </a: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en caso de no llevarse o exhibirse libros de contabilidad, registraciones y documentos de comprobación suficientes, cuando ello carezca de justificación en consideración a la naturaleza o volumen de las operaciones o del capital invertido o a la índole de las relaciones jurídicas y económicas establecidas habitualmente a causa del negocio o explotació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000" spc="-1" strike="noStrike">
                <a:solidFill>
                  <a:srgbClr val="000000"/>
                </a:solidFill>
                <a:latin typeface="Calibri"/>
              </a:rPr>
              <a:t>e) Cuando se declaren o hagan valer tributariamente formas o estructuras jurídicas inadecuadas o impropias de las prácticas de comercio, siempre que ello oculte o tergiverse la realidad o finalidad económica de los actos, relaciones o situaciones con incidencia directa sobre la determinación de impuest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2 Marcador de contenido"/>
          <p:cNvGrpSpPr/>
          <p:nvPr/>
        </p:nvGrpSpPr>
        <p:grpSpPr>
          <a:xfrm>
            <a:off x="457200" y="1542960"/>
            <a:ext cx="8253360" cy="919080"/>
            <a:chOff x="457200" y="1542960"/>
            <a:chExt cx="8253360" cy="919080"/>
          </a:xfrm>
        </p:grpSpPr>
        <p:pic>
          <p:nvPicPr>
            <p:cNvPr id="79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57200" y="1542960"/>
              <a:ext cx="8253360" cy="91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68360" y="1557360"/>
              <a:ext cx="82296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</a:rPr>
                <a:t>Cuestiones Previ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4 CuadroTexto"/>
          <p:cNvSpPr/>
          <p:nvPr/>
        </p:nvSpPr>
        <p:spPr>
          <a:xfrm>
            <a:off x="468360" y="263700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l derecho penal tributario es una manifestación del ordenamiento punitivo del estado y le son aplicables todos los principios rectores del derecho pe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No existen diferencias ontológicas o de estructura entre infracciones y del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69AD-E7B4-4C51-B8A6-DD152F5E782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84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2 Marcador de contenido"/>
          <p:cNvGrpSpPr/>
          <p:nvPr/>
        </p:nvGrpSpPr>
        <p:grpSpPr>
          <a:xfrm>
            <a:off x="457200" y="1616040"/>
            <a:ext cx="8253360" cy="816120"/>
            <a:chOff x="457200" y="1616040"/>
            <a:chExt cx="8253360" cy="816120"/>
          </a:xfrm>
        </p:grpSpPr>
        <p:pic>
          <p:nvPicPr>
            <p:cNvPr id="87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57200" y="1616040"/>
              <a:ext cx="8253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6560" y="1628640"/>
              <a:ext cx="82296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</a:rPr>
                <a:t>Cuestiones Previa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4 CuadroTexto"/>
          <p:cNvSpPr/>
          <p:nvPr/>
        </p:nvSpPr>
        <p:spPr>
          <a:xfrm>
            <a:off x="606600" y="3068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6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790E-DE24-4082-A770-F6B807422FF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92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10 CuadroTexto"/>
          <p:cNvSpPr/>
          <p:nvPr/>
        </p:nvSpPr>
        <p:spPr>
          <a:xfrm>
            <a:off x="466560" y="2421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La culpabilidad excede la mera comprobación objetiva y se consagra el principio fundamental de que solo puede ser reprimido quien sea culp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Este principio veda la responsabilidad penal obje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No puede haber pena sin culpabilidad, sea dolo o simple cul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Calibri"/>
              </a:rPr>
              <a:t>Quien acusa debe probar la culpabilidad del impu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916360" y="2924280"/>
            <a:ext cx="3311280" cy="201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.  ACCI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.  TIPIC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.  ANTIJURIDIC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Calibri"/>
              </a:rPr>
              <a:t>.  CULPABIL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5946-B6BA-4C17-8034-D0F555B82833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98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2 Marcador de contenido"/>
          <p:cNvGrpSpPr/>
          <p:nvPr/>
        </p:nvGrpSpPr>
        <p:grpSpPr>
          <a:xfrm>
            <a:off x="444600" y="1779480"/>
            <a:ext cx="8254800" cy="817560"/>
            <a:chOff x="444600" y="1779480"/>
            <a:chExt cx="8254800" cy="817560"/>
          </a:xfrm>
        </p:grpSpPr>
        <p:pic>
          <p:nvPicPr>
            <p:cNvPr id="101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44600" y="1779480"/>
              <a:ext cx="825480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7200" y="1792440"/>
              <a:ext cx="82296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alibri"/>
                </a:rPr>
                <a:t>Estructura del i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923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incipio de culpabi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Principio de inocenc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9F4-5895-4F20-B62B-EC32A957053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06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2 Marcador de contenido"/>
          <p:cNvGrpSpPr/>
          <p:nvPr/>
        </p:nvGrpSpPr>
        <p:grpSpPr>
          <a:xfrm>
            <a:off x="444600" y="1762200"/>
            <a:ext cx="8254800" cy="815760"/>
            <a:chOff x="444600" y="1762200"/>
            <a:chExt cx="8254800" cy="815760"/>
          </a:xfrm>
        </p:grpSpPr>
        <p:pic>
          <p:nvPicPr>
            <p:cNvPr id="109" name="2 Marcador de contenido" descr=""/>
            <p:cNvPicPr/>
            <p:nvPr/>
          </p:nvPicPr>
          <p:blipFill>
            <a:blip r:embed="rId2"/>
            <a:stretch/>
          </p:blipFill>
          <p:spPr>
            <a:xfrm>
              <a:off x="444600" y="1762200"/>
              <a:ext cx="825480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457200" y="1773360"/>
              <a:ext cx="82296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Principio de personalidad de la pe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2 Marcador de contenido"/>
          <p:cNvGrpSpPr/>
          <p:nvPr/>
        </p:nvGrpSpPr>
        <p:grpSpPr>
          <a:xfrm>
            <a:off x="444600" y="1590840"/>
            <a:ext cx="8254800" cy="768240"/>
            <a:chOff x="444600" y="1590840"/>
            <a:chExt cx="8254800" cy="768240"/>
          </a:xfrm>
        </p:grpSpPr>
        <p:pic>
          <p:nvPicPr>
            <p:cNvPr id="112" name="2 Marcador de contenido" descr=""/>
            <p:cNvPicPr/>
            <p:nvPr/>
          </p:nvPicPr>
          <p:blipFill>
            <a:blip r:embed="rId1"/>
            <a:stretch/>
          </p:blipFill>
          <p:spPr>
            <a:xfrm>
              <a:off x="444600" y="1590840"/>
              <a:ext cx="82548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457200" y="1600200"/>
              <a:ext cx="822960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alibri"/>
                </a:rPr>
                <a:t>Presunción de inocencia</a:t>
              </a:r>
              <a:r>
                <a:rPr b="0" lang="es-E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2 Marcador de contenido"/>
          <p:cNvSpPr/>
          <p:nvPr/>
        </p:nvSpPr>
        <p:spPr>
          <a:xfrm>
            <a:off x="457200" y="2852640"/>
            <a:ext cx="822960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atribución subjetiva del ilíc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</a:rPr>
              <a:t>La carga de la prue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7 Marcador de número de diapositiva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618B-3A5F-49A5-B69C-B9A81AB42D12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tretch/>
        </p:blipFill>
        <p:spPr>
          <a:xfrm>
            <a:off x="611280" y="5445000"/>
            <a:ext cx="1247760" cy="1200240"/>
          </a:xfrm>
          <a:prstGeom prst="rect">
            <a:avLst/>
          </a:prstGeom>
          <a:ln w="0">
            <a:noFill/>
          </a:ln>
        </p:spPr>
      </p:pic>
      <p:sp>
        <p:nvSpPr>
          <p:cNvPr id="117" name="9 Marcador de pie de página"/>
          <p:cNvSpPr/>
          <p:nvPr/>
        </p:nvSpPr>
        <p:spPr>
          <a:xfrm>
            <a:off x="2411280" y="6165720"/>
            <a:ext cx="48247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Calibri"/>
              </a:rPr>
              <a:t>Expositor: Dr. CP. Horacio R. Della Roc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3600000"/>
          </a:gradFill>
          <a:ln w="9360">
            <a:solidFill>
              <a:srgbClr val="1f497d"/>
            </a:solidFill>
            <a:miter/>
          </a:ln>
          <a:effectLst>
            <a:outerShdw dist="25305" dir="3011665" blurRad="0" rotWithShape="0">
              <a:srgbClr val="1f497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PRESUNCIONES DE DOL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11:25:06Z</dcterms:created>
  <dc:creator>mdellarocca</dc:creator>
  <dc:description/>
  <dc:language>en-US</dc:language>
  <cp:lastModifiedBy>Consejo</cp:lastModifiedBy>
  <cp:lastPrinted>2014-09-24T15:55:00Z</cp:lastPrinted>
  <dcterms:modified xsi:type="dcterms:W3CDTF">2014-10-09T15:47:48Z</dcterms:modified>
  <cp:revision>42</cp:revision>
  <dc:subject/>
  <dc:title>13º Simposio sobre Legislación Tributaria Argenti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11374966</vt:r8>
  </property>
</Properties>
</file>