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05933-C191-4419-8003-E2BE94006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004EA-BC5C-4BF1-BD69-E7F8497B8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59E5F-8166-454C-8444-08FF41E00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166A1-CD0B-4F68-8E9C-8A9B6A43C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219C2-15D3-4AE4-85CE-C653201A2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7F94A-F7EF-4349-BE64-B61DA4EB4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A8949-8F0C-4B8C-AE6B-EF219787D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BFCA5-E115-4D89-B0E1-9A83E4155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898C8-3153-4B95-87F4-1386852BD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A5F00-D37B-4356-946C-705E62D9A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D2E17-B7EB-4469-84C5-F051BF5D4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28673-7AC2-45C4-8F0F-667BE793C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u="sng">
                <a:solidFill>
                  <a:srgbClr val="898989"/>
                </a:solidFill>
                <a:uFillTx/>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7A94-DD9F-4F49-A4BF-17D179E8D0E9}" type="datetime">
              <a:rPr b="0" lang="es-ES" sz="1200" spc="-1" strike="noStrike" u="sng">
                <a:solidFill>
                  <a:srgbClr val="898989"/>
                </a:solidFill>
                <a:uFillTx/>
                <a:latin typeface="Arial"/>
              </a:rPr>
              <a:t>29/07/26</a:t>
            </a:fld>
            <a:endParaRPr b="0" lang="en-US" sz="1200" spc="-1" strike="noStrike" u="sng">
              <a:solidFill>
                <a:srgbClr val="000000"/>
              </a:solidFill>
              <a:uFillTx/>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u="sng">
                <a:solidFill>
                  <a:srgbClr val="898989"/>
                </a:solidFill>
                <a:uFillTx/>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u="sng">
                <a:solidFill>
                  <a:srgbClr val="898989"/>
                </a:solidFill>
                <a:uFillTx/>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B84B-F491-454B-AA3A-8AE4C287DCFA}"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5"/>
          <p:cNvSpPr/>
          <p:nvPr/>
        </p:nvSpPr>
        <p:spPr>
          <a:xfrm>
            <a:off x="3124080" y="6072120"/>
            <a:ext cx="2895840" cy="63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3" name="Rectangle 4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21B8-05CE-4151-B77F-96CB76A76DD2}"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
        <p:nvSpPr>
          <p:cNvPr id="44" name="PlaceHolder 1"/>
          <p:cNvSpPr>
            <a:spLocks noGrp="1"/>
          </p:cNvSpPr>
          <p:nvPr>
            <p:ph type="title"/>
          </p:nvPr>
        </p:nvSpPr>
        <p:spPr>
          <a:xfrm>
            <a:off x="0" y="16002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Book Antiqua"/>
              </a:rPr>
              <a:t>16° SIMPOSIO TRIBUTARIO CPCECABA – VALIDEZ JURÍDICA DE LAS RESOLUCIONES, CIRCULARES, NOTAS EXTERNAS, INSTRUCCIONES, DICTÁMENES Y DISPOSICIONES</a:t>
            </a:r>
            <a:r>
              <a:rPr b="0" lang="es-ES" sz="2900" spc="-1" strike="noStrike">
                <a:solidFill>
                  <a:srgbClr val="000000"/>
                </a:solidFill>
                <a:latin typeface="Book Antiqua"/>
              </a:rPr>
              <a:t>.</a:t>
            </a:r>
            <a:endParaRPr b="0" lang="en-US" sz="2900" spc="-1" strike="noStrike">
              <a:solidFill>
                <a:srgbClr val="000000"/>
              </a:solidFill>
              <a:latin typeface="Calibri"/>
            </a:endParaRPr>
          </a:p>
        </p:txBody>
      </p:sp>
      <p:sp>
        <p:nvSpPr>
          <p:cNvPr id="45"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XPOSITOR:</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Dr. CP Ricardo M. Chicolino</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CONSTITUYEN FUENTES DEL DERECHO?</a:t>
            </a:r>
            <a:endParaRPr b="0" lang="en-US" sz="28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Incumplimiento del fisco de los dispuesto en las Instrucciones Generales: nulidad de la determinación de oficio.(TFN, C, Banca de Junin SRL, 31/8/11, TFN, C, Paravati Norberto 25/2/05, TFN, C, Osmiber SRL, 20-2-06, TFN, B, Conardi SRL- Julio Mendez Construcciones UTE, 8/11/12, TFN, B, Hidalgo Fernando)</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Instrucciones generales a favor de los contribuyentes: son de cumplimiento obligatorio. No constituyen fuente del derecho (TFN, E, Ayenhue SRL, 1/2/12).</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Carecen de valor jurígeno, por tratarse de disposiciones internas con efectos en el orden jerárquico de la administración, sin carácter obligatorio para los particulares (CNACAF, II, Abrain, Luis A.7/11/13).</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Cuando las IG y/o las Circulares establecen criterios que modifican o ignoran lo dispuesto en la norma de fondo, tanto la doctrina como la jurisprudencia le niegan su consideración como fuente del derecho (CNACAF, II, Radio Victoria SA 7/94, Bunge y Born SA 16/5/95)</a:t>
            </a:r>
            <a:endParaRPr b="0" lang="en-US" sz="2000" spc="-1" strike="noStrike">
              <a:solidFill>
                <a:srgbClr val="000000"/>
              </a:solidFill>
              <a:latin typeface="Calibri"/>
            </a:endParaRPr>
          </a:p>
        </p:txBody>
      </p:sp>
      <p:sp>
        <p:nvSpPr>
          <p:cNvPr id="81"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7FF2-F345-469C-B967-D0FAD2223AD0}"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LOS REGLAMENTOS COMO FUENTE DEL DERECHO</a:t>
            </a:r>
            <a:endParaRPr b="0" lang="en-US" sz="28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7000"/>
          </a:bodyPr>
          <a:p>
            <a:pPr marL="498960" indent="-498960" algn="just">
              <a:lnSpc>
                <a:spcPct val="130000"/>
              </a:lnSpc>
              <a:spcBef>
                <a:spcPts val="649"/>
              </a:spcBef>
              <a:buClr>
                <a:srgbClr val="000000"/>
              </a:buClr>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Book Antiqua"/>
              </a:rPr>
              <a:t>Declaración unilateral (Gordillo agrega para distinguir el acto reglamentario del mero hecho administrativo: es una manifestación o declaración de voluntad, conocimiento o juicio).</a:t>
            </a:r>
            <a:endParaRPr b="0" lang="en-US" sz="2600" spc="-1" strike="noStrike">
              <a:solidFill>
                <a:srgbClr val="000000"/>
              </a:solidFill>
              <a:latin typeface="Calibri"/>
            </a:endParaRPr>
          </a:p>
          <a:p>
            <a:pPr marL="498960" indent="-498960" algn="just">
              <a:lnSpc>
                <a:spcPct val="130000"/>
              </a:lnSpc>
              <a:spcBef>
                <a:spcPts val="649"/>
              </a:spcBef>
              <a:buClr>
                <a:srgbClr val="000000"/>
              </a:buClr>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Book Antiqua"/>
              </a:rPr>
              <a:t>Realizada en ejercicio de la función administrativa </a:t>
            </a:r>
            <a:endParaRPr b="0" lang="en-US" sz="2600" spc="-1" strike="noStrike">
              <a:solidFill>
                <a:srgbClr val="000000"/>
              </a:solidFill>
              <a:latin typeface="Calibri"/>
            </a:endParaRPr>
          </a:p>
          <a:p>
            <a:pPr marL="498960" indent="-498960" algn="just">
              <a:lnSpc>
                <a:spcPct val="130000"/>
              </a:lnSpc>
              <a:spcBef>
                <a:spcPts val="649"/>
              </a:spcBef>
              <a:buClr>
                <a:srgbClr val="000000"/>
              </a:buClr>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Book Antiqua"/>
              </a:rPr>
              <a:t>Produce efectos jurídicos </a:t>
            </a:r>
            <a:endParaRPr b="0" lang="en-US" sz="2600" spc="-1" strike="noStrike">
              <a:solidFill>
                <a:srgbClr val="000000"/>
              </a:solidFill>
              <a:latin typeface="Calibri"/>
            </a:endParaRPr>
          </a:p>
          <a:p>
            <a:pPr marL="498960" indent="-498960" algn="just">
              <a:lnSpc>
                <a:spcPct val="130000"/>
              </a:lnSpc>
              <a:spcBef>
                <a:spcPts val="649"/>
              </a:spcBef>
              <a:buClr>
                <a:srgbClr val="000000"/>
              </a:buClr>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Book Antiqua"/>
              </a:rPr>
              <a:t>Generales en forma directa (esto es lo que distingue el reglamento del acto administrativo).</a:t>
            </a:r>
            <a:endParaRPr b="0" lang="en-US" sz="2600" spc="-1" strike="noStrike">
              <a:solidFill>
                <a:srgbClr val="000000"/>
              </a:solidFill>
              <a:latin typeface="Calibri"/>
            </a:endParaRPr>
          </a:p>
        </p:txBody>
      </p:sp>
      <p:sp>
        <p:nvSpPr>
          <p:cNvPr id="85"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8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E110-5B7B-4754-97F1-C997F152A2CE}"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DIFERENCIAS ENTRE EL REGLAMENTO Y ACTO ADMINSITRATIVO</a:t>
            </a:r>
            <a:endParaRPr b="0" lang="en-US" sz="28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s/DROMI: el reglamento es una declaración de voluntad, conocimiento o juicio, pero agrega además: que importa un proceso de exteriorización intelectual, de carácter unilateral, efectuado en el ejercicio de una función administrativa, que produce efectos jurídicos generales directos.</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La diferencia entre el reglamento y el acto administrativo reside fundamentalmente en los efectos jurídicos que producen. El reglamento es de carácter general, abstracto, indeterminado, impersonal, genera consecuencias de carácter jurídico para un número indeterminado de personas o de casos; en tanto que el acto administrativo produce simplemente efectos jurídicos subjetivos e individuales.</a:t>
            </a:r>
            <a:endParaRPr b="0" lang="en-US" sz="2000" spc="-1" strike="noStrike">
              <a:solidFill>
                <a:srgbClr val="000000"/>
              </a:solidFill>
              <a:latin typeface="Calibri"/>
            </a:endParaRPr>
          </a:p>
        </p:txBody>
      </p:sp>
      <p:sp>
        <p:nvSpPr>
          <p:cNvPr id="8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9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327E-4406-404E-9FC2-AE5981CB03A0}"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NORMAS QUE REVISTEN LA CONDICIÓN DE REGLAMENTO</a:t>
            </a:r>
            <a:endParaRPr b="0" lang="en-US" sz="28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La Disposición N° 446/2009 a la cual nos referimos constituye un “reglamento” que complementa lo dispuesto por el Decreto 618/97, aunque esté destinado a establecer las pautas que deben seguir los funcionarios de la AFIP al momento de dictar las normas detalladas en el Anexo I.</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La Instrucción General N° 6/2007 reviste la condición de un “reglamento” dado que complementa lo dispuesto en el Capítulo VI artículos 38 a 52 de la LPF, aunque en sus formas haya sido dictado por el Administrador Federal a los efectos de establecer las pautas que deben seguir los funcionarios de la administración a los efectos de graduar las sanciones aplicables, establecidas por la Ley 11.683 (t.o. en 1998 y sus modificacion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9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E5F6-D57A-4E32-B0E4-101A7CA956FD}"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CLASIFICACIÓN DE LOS REGLAMENTOS</a:t>
            </a:r>
            <a:endParaRPr b="0" lang="en-US" sz="28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1000"/>
          </a:bodyPr>
          <a:p>
            <a:pPr marL="312120" indent="-31212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La doctrina en general clasifica a los distintos tipos de reglamentos en:</a:t>
            </a:r>
            <a:endParaRPr b="0" lang="en-US" sz="2000" spc="-1" strike="noStrike">
              <a:solidFill>
                <a:srgbClr val="000000"/>
              </a:solidFill>
              <a:latin typeface="Calibri"/>
            </a:endParaRPr>
          </a:p>
          <a:p>
            <a:pPr marL="312120" indent="-31212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a)</a:t>
            </a:r>
            <a:r>
              <a:rPr b="0" lang="es-AR" sz="2000" spc="-1" strike="noStrike">
                <a:solidFill>
                  <a:srgbClr val="000000"/>
                </a:solidFill>
                <a:latin typeface="Book Antiqua"/>
              </a:rPr>
              <a:t>	</a:t>
            </a:r>
            <a:r>
              <a:rPr b="0" lang="es-AR" sz="2000" spc="-1" strike="noStrike">
                <a:solidFill>
                  <a:srgbClr val="000000"/>
                </a:solidFill>
                <a:latin typeface="Book Antiqua"/>
              </a:rPr>
              <a:t>de ejecución (no pueden reglar derechos de los individuos), </a:t>
            </a:r>
            <a:endParaRPr b="0" lang="en-US" sz="2000" spc="-1" strike="noStrike">
              <a:solidFill>
                <a:srgbClr val="000000"/>
              </a:solidFill>
              <a:latin typeface="Calibri"/>
            </a:endParaRPr>
          </a:p>
          <a:p>
            <a:pPr marL="312120" indent="-31212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b)</a:t>
            </a:r>
            <a:r>
              <a:rPr b="0" lang="es-AR" sz="2000" spc="-1" strike="noStrike">
                <a:solidFill>
                  <a:srgbClr val="000000"/>
                </a:solidFill>
                <a:latin typeface="Book Antiqua"/>
              </a:rPr>
              <a:t>	</a:t>
            </a:r>
            <a:r>
              <a:rPr b="0" lang="es-AR" sz="2000" spc="-1" strike="noStrike">
                <a:solidFill>
                  <a:srgbClr val="000000"/>
                </a:solidFill>
                <a:latin typeface="Book Antiqua"/>
              </a:rPr>
              <a:t>“delegados” o de integración (sujetos a confirmación del PL),</a:t>
            </a:r>
            <a:endParaRPr b="0" lang="en-US" sz="2000" spc="-1" strike="noStrike">
              <a:solidFill>
                <a:srgbClr val="000000"/>
              </a:solidFill>
              <a:latin typeface="Calibri"/>
            </a:endParaRPr>
          </a:p>
          <a:p>
            <a:pPr marL="312120" indent="-31212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c)</a:t>
            </a:r>
            <a:r>
              <a:rPr b="0" lang="es-AR" sz="2000" spc="-1" strike="noStrike">
                <a:solidFill>
                  <a:srgbClr val="000000"/>
                </a:solidFill>
                <a:latin typeface="Book Antiqua"/>
              </a:rPr>
              <a:t>	</a:t>
            </a:r>
            <a:r>
              <a:rPr b="0" lang="es-AR" sz="2000" spc="-1" strike="noStrike">
                <a:solidFill>
                  <a:srgbClr val="000000"/>
                </a:solidFill>
                <a:latin typeface="Book Antiqua"/>
              </a:rPr>
              <a:t>de necesidad y urgencia (sujetos a confirmación del PL), </a:t>
            </a:r>
            <a:endParaRPr b="0" lang="en-US" sz="2000" spc="-1" strike="noStrike">
              <a:solidFill>
                <a:srgbClr val="000000"/>
              </a:solidFill>
              <a:latin typeface="Calibri"/>
            </a:endParaRPr>
          </a:p>
          <a:p>
            <a:pPr marL="312120" indent="-31212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d)</a:t>
            </a:r>
            <a:r>
              <a:rPr b="0" lang="es-AR" sz="2000" spc="-1" strike="noStrike">
                <a:solidFill>
                  <a:srgbClr val="000000"/>
                </a:solidFill>
                <a:latin typeface="Book Antiqua"/>
              </a:rPr>
              <a:t>	</a:t>
            </a:r>
            <a:r>
              <a:rPr b="0" lang="es-AR" sz="2000" spc="-1" strike="noStrike">
                <a:solidFill>
                  <a:srgbClr val="000000"/>
                </a:solidFill>
                <a:latin typeface="Book Antiqua"/>
              </a:rPr>
              <a:t>autónomos (no pueden reglar derechos de los individuos), </a:t>
            </a:r>
            <a:endParaRPr b="0" lang="en-US" sz="2000" spc="-1" strike="noStrike">
              <a:solidFill>
                <a:srgbClr val="000000"/>
              </a:solidFill>
              <a:latin typeface="Calibri"/>
            </a:endParaRPr>
          </a:p>
          <a:p>
            <a:pPr marL="312120" indent="-31212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Corresponde destacar que en la práctica los límites que diferencian a unos de otros no son claros.</a:t>
            </a:r>
            <a:endParaRPr b="0" lang="en-US" sz="2000" spc="-1" strike="noStrike">
              <a:solidFill>
                <a:srgbClr val="000000"/>
              </a:solidFill>
              <a:latin typeface="Calibri"/>
            </a:endParaRPr>
          </a:p>
          <a:p>
            <a:pPr marL="312120" indent="-31212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Según lo dispuesto en el inciso 3) del artículo 99 de la CN, el PE bajo pena de nulidad absoluta e insanable no podrá en ningún caso emitir disposiciones de carácter legislativo (CSJN, Video Club Dreams, 318:2, CNAPE, Ubicar SRL, 27/4/10, CNACAF, V, Desmed SA, 22/10/13).</a:t>
            </a:r>
            <a:endParaRPr b="0" lang="en-US" sz="2000" spc="-1" strike="noStrike">
              <a:solidFill>
                <a:srgbClr val="000000"/>
              </a:solidFill>
              <a:latin typeface="Calibri"/>
            </a:endParaRPr>
          </a:p>
        </p:txBody>
      </p:sp>
      <p:sp>
        <p:nvSpPr>
          <p:cNvPr id="97"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9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84D7-8C4F-4A61-8AFC-A50786CB146E}"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CRITERIO GENERAL </a:t>
            </a:r>
            <a:endParaRPr b="0" lang="en-US" sz="28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Es principio general que siempre debe prevalecer el reglamento anterior sobre el acto individual posterior.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El acto individual y el acto reglamentario se refieran a la misma competencia territorial y material.</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Toda decisión individual debe ser conforme a la regla general preestablecida; ello encuentra aplicación bajo una triple forma: </a:t>
            </a:r>
            <a:endParaRPr b="0" lang="en-US" sz="20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La decisión individual debe ser conforme al reglamento dictado por un órgano jerárquicamente superior; </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La decisión individual de un órgano no puede contravenir el reglamento dictado por el mismo órgano que toma la medida individual; un órgano administrativo no puede pues violar sus propias reglamentaciones.</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La decisión individual no puede contravenir al reglamento dictado por un órgano jerárquicamente inferior en los límites de su competenci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1"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10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BFDA-44A8-410A-B037-25125A47C785}"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FUENTES DEL DERECHO QUE REGULAN LA FUNCIÓN ADMINISTRATIVA (S/DROMI)</a:t>
            </a:r>
            <a:endParaRPr b="0" lang="en-US" sz="28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1) Constitución Nacional,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2) Tratados de derechos humano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3) Acuerdo multilateral de la Organización Mundial del Comercio, 4) Otros tratados internacionale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5) Tratados de integración,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6) Normas de organizaciones supraestatale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7) Leyes federale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8) Leyes comune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9) Leyes locale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10) Leyes – convenio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11) Leyes por delegación,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12) Decretos de necesidad y urgencia,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13) Constituciones provinciale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14) Tratados regionale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15) Tratados interprovinciale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16) Tratados provinciales con la nación,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17) Tratados provinciales con entidades o gobiernos extranjero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18) Decreto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19) Decisiones administrativa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20) Acuerdos de gabinete de ministro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21) Reglamentos administrativo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22) Contratos,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23) Principios generales del derecho, y </a:t>
            </a:r>
            <a:endParaRPr b="0" lang="en-US" sz="1000" spc="-1" strike="noStrike">
              <a:solidFill>
                <a:srgbClr val="000000"/>
              </a:solidFill>
              <a:latin typeface="Calibri"/>
            </a:endParaRPr>
          </a:p>
          <a:p>
            <a:pPr marL="343080" indent="-34308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Book Antiqua"/>
              </a:rPr>
              <a:t>24) Jurisprudencia administrativa.</a:t>
            </a:r>
            <a:endParaRPr b="0" lang="en-US" sz="1000" spc="-1" strike="noStrike">
              <a:solidFill>
                <a:srgbClr val="000000"/>
              </a:solidFill>
              <a:latin typeface="Calibri"/>
            </a:endParaRPr>
          </a:p>
        </p:txBody>
      </p:sp>
      <p:sp>
        <p:nvSpPr>
          <p:cNvPr id="105"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a:t>
            </a:r>
            <a:endParaRPr b="0" lang="en-US" sz="12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itor: Dr. Ricardo Miguel Chicolino</a:t>
            </a:r>
            <a:endParaRPr b="0" lang="en-US" sz="1200" spc="-1" strike="noStrike" u="sng">
              <a:solidFill>
                <a:srgbClr val="000000"/>
              </a:solidFill>
              <a:uFillTx/>
              <a:latin typeface="Arial"/>
            </a:endParaRPr>
          </a:p>
        </p:txBody>
      </p:sp>
      <p:sp>
        <p:nvSpPr>
          <p:cNvPr id="10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8768-1507-49F0-8D58-908CEED59DF5}" type="slidenum">
              <a:rPr b="0" lang="es-ES" sz="1000" spc="-1" strike="noStrike" u="sng">
                <a:solidFill>
                  <a:srgbClr val="898989"/>
                </a:solidFill>
                <a:uFillTx/>
                <a:latin typeface="Arial"/>
              </a:rPr>
              <a:t>&lt;number&gt;</a:t>
            </a:fld>
            <a:endParaRPr b="0" lang="en-US" sz="1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REGLAMENTOS DE EJECUCIÓN</a:t>
            </a:r>
            <a:endParaRPr b="0" lang="en-US" sz="28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fontScale="94000"/>
          </a:bodyPr>
          <a:p>
            <a:pPr marL="322200" indent="-322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Book Antiqua"/>
              </a:rPr>
              <a:t>No pueden regular directa o indirectamente derechos de los ciudadanos, habitantes o usuarios.</a:t>
            </a:r>
            <a:endParaRPr b="0" lang="en-US" sz="2400" spc="-1" strike="noStrike">
              <a:solidFill>
                <a:srgbClr val="000000"/>
              </a:solidFill>
              <a:latin typeface="Calibri"/>
            </a:endParaRPr>
          </a:p>
          <a:p>
            <a:pPr marL="322200" indent="-322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Book Antiqua"/>
              </a:rPr>
              <a:t>Se los denomina también reglamentos de subordinación.</a:t>
            </a:r>
            <a:endParaRPr b="0" lang="en-US" sz="2400" spc="-1" strike="noStrike">
              <a:solidFill>
                <a:srgbClr val="000000"/>
              </a:solidFill>
              <a:latin typeface="Calibri"/>
            </a:endParaRPr>
          </a:p>
          <a:p>
            <a:pPr marL="322200" indent="-322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Book Antiqua"/>
              </a:rPr>
              <a:t>CASSAGNE: </a:t>
            </a:r>
            <a:endParaRPr b="0" lang="en-US" sz="2400" spc="-1" strike="noStrike">
              <a:solidFill>
                <a:srgbClr val="000000"/>
              </a:solidFill>
              <a:latin typeface="Calibri"/>
            </a:endParaRPr>
          </a:p>
          <a:p>
            <a:pPr lvl="1" marL="698400" indent="-2685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Las instrucciones de servicios y circulares constituyen una categoría propia de reglamentación y los distingue de los reglamentos en sentido estricto.</a:t>
            </a:r>
            <a:endParaRPr b="0" lang="en-US" sz="2000" spc="-1" strike="noStrike">
              <a:solidFill>
                <a:srgbClr val="000000"/>
              </a:solidFill>
              <a:latin typeface="Calibri"/>
            </a:endParaRPr>
          </a:p>
          <a:p>
            <a:pPr lvl="1" marL="698400" indent="-2685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Instrucciones: son ordenes dictadas para dirigir la actividad, son de cumplimiento obligatorio para los subordinados, y su violación es una falta discriplinaria.</a:t>
            </a:r>
            <a:endParaRPr b="0" lang="en-US" sz="2000" spc="-1" strike="noStrike">
              <a:solidFill>
                <a:srgbClr val="000000"/>
              </a:solidFill>
              <a:latin typeface="Calibri"/>
            </a:endParaRPr>
          </a:p>
          <a:p>
            <a:pPr marL="322200" indent="-322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Book Antiqua"/>
              </a:rPr>
              <a:t>CNACAF, Sala V, Exos SA (Aplicación de la IG 6/2007).</a:t>
            </a:r>
            <a:endParaRPr b="0" lang="en-US" sz="2400" spc="-1" strike="noStrike">
              <a:solidFill>
                <a:srgbClr val="000000"/>
              </a:solidFill>
              <a:latin typeface="Calibri"/>
            </a:endParaRPr>
          </a:p>
          <a:p>
            <a:pPr marL="322200" indent="-322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Book Antiqua"/>
              </a:rPr>
              <a:t>CNACAF, Sala IV, Hípica de Buenos Aires (Aplicación de la IG 4/97).</a:t>
            </a:r>
            <a:endParaRPr b="0" lang="en-US" sz="2400" spc="-1" strike="noStrike">
              <a:solidFill>
                <a:srgbClr val="000000"/>
              </a:solidFill>
              <a:latin typeface="Calibri"/>
            </a:endParaRPr>
          </a:p>
        </p:txBody>
      </p:sp>
      <p:sp>
        <p:nvSpPr>
          <p:cNvPr id="10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11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2112-0C70-425C-8C8C-4B6759BAB42B}"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REGLAMENTOS DE EJECUCIÓN</a:t>
            </a:r>
            <a:endParaRPr b="0" lang="en-US" sz="28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Book Antiqua"/>
              </a:rPr>
              <a:t>La reglamentación no es requisito previo para cumplir la ley, en la medida que de su texto surjan los elementos esenciales que permitan definir el NOT (CNACAF, V,DEVOTO SOLARI, Oscar, 4/5/06).</a:t>
            </a:r>
            <a:endParaRPr b="0" lang="en-US" sz="1700" spc="-1" strike="noStrike">
              <a:solidFill>
                <a:srgbClr val="000000"/>
              </a:solidFill>
              <a:latin typeface="Calibri"/>
            </a:endParaRPr>
          </a:p>
          <a:p>
            <a:pPr marL="335880" indent="-335880" algn="just">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Book Antiqua"/>
              </a:rPr>
              <a:t>Estan vinculados a la propia administración y no a los particulares (están dirigidos a los propios agentes adminstrativos, por ello no son reglamentables por el PE las leyes que no serán ejecutadas por la administración).</a:t>
            </a:r>
            <a:endParaRPr b="0" lang="en-US" sz="1700" spc="-1" strike="noStrike">
              <a:solidFill>
                <a:srgbClr val="000000"/>
              </a:solidFill>
              <a:latin typeface="Calibri"/>
            </a:endParaRPr>
          </a:p>
          <a:p>
            <a:pPr marL="335880" indent="-3358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Book Antiqua"/>
              </a:rPr>
              <a:t>No debe invadir otras materias reglamentarias (cumplen una función ordenatoria).</a:t>
            </a:r>
            <a:endParaRPr b="0" lang="en-US" sz="1700" spc="-1" strike="noStrike">
              <a:solidFill>
                <a:srgbClr val="000000"/>
              </a:solidFill>
              <a:latin typeface="Calibri"/>
            </a:endParaRPr>
          </a:p>
          <a:p>
            <a:pPr marL="335880" indent="-335880" algn="just">
              <a:lnSpc>
                <a:spcPct val="11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Book Antiqua"/>
              </a:rPr>
              <a:t>No debe alterar el espíritu de las normas legales (si es coherente con la letra pero altera el espiritu es ilegítima; pero si se aparta del texto legal y mantiene el espiritu mantiene su validez (CSJN Fallos 269:120, 232:287244:309).</a:t>
            </a:r>
            <a:endParaRPr b="0" lang="en-US" sz="1700" spc="-1" strike="noStrike">
              <a:solidFill>
                <a:srgbClr val="000000"/>
              </a:solidFill>
              <a:latin typeface="Calibri"/>
            </a:endParaRPr>
          </a:p>
          <a:p>
            <a:pPr marL="335880" indent="-335880" algn="just">
              <a:lnSpc>
                <a:spcPct val="2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Book Antiqua"/>
              </a:rPr>
              <a:t>Es facultad principalmente del PE, no del órganos dependientes.</a:t>
            </a:r>
            <a:endParaRPr b="0" lang="en-US" sz="1700" spc="-1" strike="noStrike">
              <a:solidFill>
                <a:srgbClr val="000000"/>
              </a:solidFill>
              <a:latin typeface="Calibri"/>
            </a:endParaRPr>
          </a:p>
          <a:p>
            <a:pPr marL="335880" indent="-3358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11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06FC-01D9-4B40-9DE2-7B9EC5A5E298}"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REGLAMENTOS DELEGADOS O DE INTEGRACIÓN</a:t>
            </a:r>
            <a:endParaRPr b="0" lang="en-US" sz="28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Book Antiqua"/>
              </a:rPr>
              <a:t>Artículo 76 de la CN: “Se prohibe la delegación legislativa en el PE, salvo en materias determinadas de administración o de emergencia pública, con plazo fijado para su ejercicio…”.</a:t>
            </a:r>
            <a:endParaRPr b="0" lang="en-US" sz="2200" spc="-1" strike="noStrike">
              <a:solidFill>
                <a:srgbClr val="000000"/>
              </a:solidFill>
              <a:latin typeface="Calibri"/>
            </a:endParaRPr>
          </a:p>
          <a:p>
            <a:pPr lvl="1" marL="727920" indent="-280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Book Antiqua"/>
              </a:rPr>
              <a:t>El artículo 34 de la LPF autoriza al PE a condicionar el cómputo de los gastos y créditos fiscales a la utilización de determinados medios de pago.</a:t>
            </a:r>
            <a:endParaRPr b="0" lang="en-US" sz="1900" spc="-1" strike="noStrike">
              <a:solidFill>
                <a:srgbClr val="000000"/>
              </a:solidFill>
              <a:latin typeface="Calibri"/>
            </a:endParaRPr>
          </a:p>
          <a:p>
            <a:pPr lvl="1" marL="727920" indent="-280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Book Antiqua"/>
              </a:rPr>
              <a:t>CSJN, Delfino, 1927: existe una distinción fundamental  entre la delegación de poder para hacer la ley y la de conferir cierta autoridad al PE o a un cuerpo administrativo, a fin de reglar los pormenores y detalles necesarios para la ejecución de aquella.</a:t>
            </a:r>
            <a:endParaRPr b="0" lang="en-US" sz="1900" spc="-1" strike="noStrike">
              <a:solidFill>
                <a:srgbClr val="000000"/>
              </a:solidFill>
              <a:latin typeface="Calibri"/>
            </a:endParaRPr>
          </a:p>
          <a:p>
            <a:pPr lvl="1" marL="727920" indent="-280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Book Antiqua"/>
              </a:rPr>
              <a:t>CSJN, Mouviel, 1957: el legislador no puede delegar en el PE o en reparticiones administrativasla total configuración de los delitos ni la libre elección de las penas, pues ello importaríala delegación de facultades que son indelegables.</a:t>
            </a:r>
            <a:endParaRPr b="0" lang="en-US" sz="1900" spc="-1" strike="noStrike">
              <a:solidFill>
                <a:srgbClr val="000000"/>
              </a:solidFill>
              <a:latin typeface="Calibri"/>
            </a:endParaRPr>
          </a:p>
          <a:p>
            <a:pPr marL="335880" indent="-3358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17"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1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3AC9-2058-4EB4-890D-49E4FC46D0FB}"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ANTECEDENTES FÁCTICOS – ROL QUE DESEMPEÑAN LAS NORMAS CITADAS</a:t>
            </a:r>
            <a:endParaRPr b="0" lang="en-US" sz="2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ook Antiqua"/>
              </a:rPr>
              <a:t>Establecer criterios o procedimientos para la aplicación de ciertas normas de rango jurídico superior.</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ook Antiqua"/>
              </a:rPr>
              <a:t>Crear criterios de aplicación “innovativos” no avalados por ninguna norma de rango jurídico superior que justifique su existenci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ook Antiqua"/>
              </a:rPr>
              <a:t>Establecer criterios que guíen el actuar de los funcionarios en el ejercicio de su función fiscalizador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ook Antiqua"/>
              </a:rPr>
              <a:t>Establecer criterios o procedimientos que deben seguir o cumplir, respectivamente, los funcionarios del organismo a los efectos de controlar la determinación de la obligación tributari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ook Antiqua"/>
              </a:rPr>
              <a:t>Establecer los procedimientos que deben cumplir los funcionarios de la administración para dejar claramente probado en el expediente administrativo, las conductas punibles de quienes participaron directa o indirectamente en la determinación de la obligación tributaria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4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25F2-D40F-4A14-94C0-3584220FF1C6}"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REGLAMENTOS AUTÓNOMOS</a:t>
            </a:r>
            <a:endParaRPr b="0" lang="en-US" sz="28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Book Antiqua"/>
              </a:rPr>
              <a:t>No están previstos en la CN, ni en las leyes.</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Book Antiqua"/>
              </a:rPr>
              <a:t>Son dictados para regir una materia en la que no hay normas legales aplicables.</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Book Antiqua"/>
              </a:rPr>
              <a:t>Cuando la CN autoriza al Presidente a emitir los reglamentos que sean necesarios para la ejecución de las leyes se refiere a los de “ejecución”, no a los “autónomos”.</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Book Antiqua"/>
              </a:rPr>
              <a:t>Pueden regir el funcionamiento interno de la administración (organización, atribuciones, etc), pero no limitar derechos de los particulares.</a:t>
            </a:r>
            <a:endParaRPr b="0" lang="en-US" sz="2400" spc="-1" strike="noStrike">
              <a:solidFill>
                <a:srgbClr val="000000"/>
              </a:solidFill>
              <a:latin typeface="Calibri"/>
            </a:endParaRPr>
          </a:p>
        </p:txBody>
      </p:sp>
      <p:sp>
        <p:nvSpPr>
          <p:cNvPr id="121"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12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1B63-0F50-423C-A8D6-46733C94E5DA}"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FORMAS JURÍDICAS ADMINISTRATIVAS</a:t>
            </a:r>
            <a:endParaRPr b="0" lang="en-US" sz="28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Hecho administrativo (actividad material ejecutadas en ejercicio de la función).</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Acto administrativo.</a:t>
            </a:r>
            <a:endParaRPr b="0" lang="en-US" sz="1300" spc="-1" strike="noStrike">
              <a:solidFill>
                <a:srgbClr val="000000"/>
              </a:solidFill>
              <a:latin typeface="Calibri"/>
            </a:endParaRPr>
          </a:p>
          <a:p>
            <a:pPr lvl="1" marL="743040" indent="-28584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Unilateral.</a:t>
            </a:r>
            <a:endParaRPr b="0" lang="en-US" sz="1300" spc="-1" strike="noStrike">
              <a:solidFill>
                <a:srgbClr val="000000"/>
              </a:solidFill>
              <a:latin typeface="Calibri"/>
            </a:endParaRPr>
          </a:p>
          <a:p>
            <a:pPr lvl="1" marL="743040" indent="-28584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Produce efectos jurídicos (TFA PBA, II, Meranol SA 10$/08 los dictamenes de ARBA son actos preparatorios, SCJBA, Fernandez Ofelia 19/6/84).</a:t>
            </a:r>
            <a:endParaRPr b="0" lang="en-US" sz="1300" spc="-1" strike="noStrike">
              <a:solidFill>
                <a:srgbClr val="000000"/>
              </a:solidFill>
              <a:latin typeface="Calibri"/>
            </a:endParaRPr>
          </a:p>
          <a:p>
            <a:pPr lvl="2" marL="1143000" indent="-228600" algn="just">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Directos o indirectos.</a:t>
            </a:r>
            <a:endParaRPr b="0" lang="en-US" sz="1300" spc="-1" strike="noStrike">
              <a:solidFill>
                <a:srgbClr val="000000"/>
              </a:solidFill>
              <a:latin typeface="Calibri"/>
            </a:endParaRPr>
          </a:p>
          <a:p>
            <a:pPr lvl="2" marL="1143000" indent="-228600" algn="just">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Individuales o generales (solo individuales y es lo que los diferencia de los reglamentos).</a:t>
            </a:r>
            <a:endParaRPr b="0" lang="en-US" sz="1300" spc="-1" strike="noStrike">
              <a:solidFill>
                <a:srgbClr val="000000"/>
              </a:solidFill>
              <a:latin typeface="Calibri"/>
            </a:endParaRPr>
          </a:p>
          <a:p>
            <a:pPr lvl="2" marL="1143000" indent="-228600" algn="just">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Actuales o potenciales (actuales).</a:t>
            </a:r>
            <a:endParaRPr b="0" lang="en-US" sz="1300" spc="-1" strike="noStrike">
              <a:solidFill>
                <a:srgbClr val="000000"/>
              </a:solidFill>
              <a:latin typeface="Calibri"/>
            </a:endParaRPr>
          </a:p>
          <a:p>
            <a:pPr lvl="2" marL="1143000" indent="-228600" algn="just">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Internos o externos (producen efectos fuera o dentro del ámbito de la administración)</a:t>
            </a:r>
            <a:endParaRPr b="0" lang="en-US" sz="1300" spc="-1" strike="noStrike">
              <a:solidFill>
                <a:srgbClr val="000000"/>
              </a:solidFill>
              <a:latin typeface="Calibri"/>
            </a:endParaRPr>
          </a:p>
          <a:p>
            <a:pPr lvl="2" marL="1143000" indent="-228600" algn="just">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Públicos o privados (públicos).</a:t>
            </a:r>
            <a:endParaRPr b="0" lang="en-US" sz="1300" spc="-1" strike="noStrike">
              <a:solidFill>
                <a:srgbClr val="000000"/>
              </a:solidFill>
              <a:latin typeface="Calibri"/>
            </a:endParaRPr>
          </a:p>
          <a:p>
            <a:pPr lvl="2" marL="1143000" indent="-228600" algn="just">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Provisionales o definitivos (definitivo porque alude al fondo, caso contrario sonpreparatorios).</a:t>
            </a:r>
            <a:endParaRPr b="0" lang="en-US" sz="1300" spc="-1" strike="noStrike">
              <a:solidFill>
                <a:srgbClr val="000000"/>
              </a:solidFill>
              <a:latin typeface="Calibri"/>
            </a:endParaRPr>
          </a:p>
          <a:p>
            <a:pPr marL="343080" indent="-34308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Vías de hecho administrativas (comportamientos que implican una clara violacion al ordenamiento jurídico).</a:t>
            </a:r>
            <a:endParaRPr b="0" lang="en-US" sz="1300" spc="-1" strike="noStrike">
              <a:solidFill>
                <a:srgbClr val="000000"/>
              </a:solidFill>
              <a:latin typeface="Calibri"/>
            </a:endParaRPr>
          </a:p>
          <a:p>
            <a:pPr lvl="1" marL="743040" indent="-28584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Impugnabilidad (CNACAF, II, Wabro SA c/PEN ME RG 3252 Y 3255/12 y IV, YUDIGAR ARG. SA 16/8/12).</a:t>
            </a:r>
            <a:endParaRPr b="0" lang="en-US" sz="1300" spc="-1" strike="noStrike">
              <a:solidFill>
                <a:srgbClr val="000000"/>
              </a:solidFill>
              <a:latin typeface="Calibri"/>
            </a:endParaRPr>
          </a:p>
          <a:p>
            <a:pPr lvl="1" marL="743040" indent="-28584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Responsabilidad del estado (directa Art. 1109 CC e indirecta Art. 1113 CC).</a:t>
            </a:r>
            <a:endParaRPr b="0" lang="en-US" sz="1300" spc="-1" strike="noStrike">
              <a:solidFill>
                <a:srgbClr val="000000"/>
              </a:solidFill>
              <a:latin typeface="Calibri"/>
            </a:endParaRPr>
          </a:p>
          <a:p>
            <a:pPr lvl="1" marL="743040" indent="-285840" algn="just">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Responsabilidad por los actos propios (principio de la buena fe, todo ciudadano tiene derecho al comportamiento coherente de los otros, sean estos el estado o particulares, CSJN, Chacofi SA c/DPV, 19/10/95).</a:t>
            </a:r>
            <a:endParaRPr b="0" lang="en-US" sz="1300" spc="-1" strike="noStrike">
              <a:solidFill>
                <a:srgbClr val="000000"/>
              </a:solidFill>
              <a:latin typeface="Calibri"/>
            </a:endParaRPr>
          </a:p>
          <a:p>
            <a:pPr marL="343080" indent="-3430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Book Antiqua"/>
              </a:rPr>
              <a:t>Reglamento administrativo (declaración unilateral, en ejercicio de la función, produce efectos genrales en forma directa)</a:t>
            </a:r>
            <a:r>
              <a:rPr b="0" lang="es-AR" sz="1200" spc="-1" strike="noStrike">
                <a:solidFill>
                  <a:srgbClr val="000000"/>
                </a:solidFill>
                <a:latin typeface="Book Antiqua"/>
              </a:rPr>
              <a:t>.</a:t>
            </a:r>
            <a:endParaRPr b="0" lang="en-US" sz="1200" spc="-1" strike="noStrike">
              <a:solidFill>
                <a:srgbClr val="000000"/>
              </a:solidFill>
              <a:latin typeface="Calibri"/>
            </a:endParaRPr>
          </a:p>
        </p:txBody>
      </p:sp>
      <p:sp>
        <p:nvSpPr>
          <p:cNvPr id="125"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12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66D9-6196-41FE-8040-0B034D7427E5}"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CONCLUSIONES</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fontScale="97000"/>
          </a:bodyPr>
          <a:p>
            <a:pPr marL="332640" indent="-3326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Según Disposición N° 446/2009 el DG se reserva la competencia de emitir RG que revisten la condición de actos externos, resolutivo, de alcance general, de cumplimiento obligatorio. Se trata de una norma de carácter reglamentaria, que se constituye en fuente del derecho administrativo.</a:t>
            </a:r>
            <a:endParaRPr b="0" lang="en-US" sz="1600" spc="-1" strike="noStrike">
              <a:solidFill>
                <a:srgbClr val="000000"/>
              </a:solidFill>
              <a:latin typeface="Calibri"/>
            </a:endParaRPr>
          </a:p>
          <a:p>
            <a:pPr marL="332640" indent="-3326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Las Circulares son actos externos no resolutivos, publicables en el B.O. y cuya finalidad consiste en interpretar o aclarar conceptos reglados en las resoluciones generales. S/Hutchinson pueden ser verdaderos reglamentos.</a:t>
            </a:r>
            <a:endParaRPr b="0" lang="en-US" sz="1600" spc="-1" strike="noStrike">
              <a:solidFill>
                <a:srgbClr val="000000"/>
              </a:solidFill>
              <a:latin typeface="Calibri"/>
            </a:endParaRPr>
          </a:p>
          <a:p>
            <a:pPr marL="332640" indent="-3326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Las NE son actos externos no resolutivos, no publicables y dirigidas a los administrados fuera de los procedimientos reglados. Si se publican pueden revestir el carácter de normas reglamentarias.</a:t>
            </a:r>
            <a:endParaRPr b="0" lang="en-US" sz="1600" spc="-1" strike="noStrike">
              <a:solidFill>
                <a:srgbClr val="000000"/>
              </a:solidFill>
              <a:latin typeface="Calibri"/>
            </a:endParaRPr>
          </a:p>
          <a:p>
            <a:pPr marL="332640" indent="-3326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Las IG son normas internas, obligatorias para el desarrollo de sus funciones. </a:t>
            </a:r>
            <a:endParaRPr b="0" lang="en-US" sz="1600" spc="-1" strike="noStrike">
              <a:solidFill>
                <a:srgbClr val="000000"/>
              </a:solidFill>
              <a:latin typeface="Calibri"/>
            </a:endParaRPr>
          </a:p>
          <a:p>
            <a:pPr marL="332640" indent="-3326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Todas conforman el núcleo de los actos jurídicos de contenido normativo o consultivo, que junto con las leyes y reglamentos integran el “bloque de legalidad” que la administración debe respetar por simple mandato constitucional.</a:t>
            </a:r>
            <a:endParaRPr b="0" lang="en-US" sz="1600" spc="-1" strike="noStrike">
              <a:solidFill>
                <a:srgbClr val="000000"/>
              </a:solidFill>
              <a:latin typeface="Calibri"/>
            </a:endParaRPr>
          </a:p>
          <a:p>
            <a:pPr marL="332640" indent="-3326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Además, todos ellos tienen su génesis en la necesidad de la administración tributaria de unificar criterios para lograr un proceder unívoco, genérico e igualitario ante un mismo hecho o situación. </a:t>
            </a:r>
            <a:endParaRPr b="0" lang="en-US" sz="1600" spc="-1" strike="noStrike">
              <a:solidFill>
                <a:srgbClr val="000000"/>
              </a:solidFill>
              <a:latin typeface="Calibri"/>
            </a:endParaRPr>
          </a:p>
          <a:p>
            <a:pPr marL="332640" indent="-3326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1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D972-CBC1-40AD-B87E-51B43B598C02}"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CUESTIONES  QUE SE PLANTEAN</a:t>
            </a:r>
            <a:endParaRPr b="0" lang="en-US" sz="28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fontScale="93000"/>
          </a:bodyPr>
          <a:p>
            <a:pPr marL="318960" indent="-318960" algn="just">
              <a:lnSpc>
                <a:spcPct val="100000"/>
              </a:lnSpc>
              <a:spcBef>
                <a:spcPts val="400"/>
              </a:spcBef>
              <a:buClr>
                <a:srgbClr val="000000"/>
              </a:buClr>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Si trascienden la esfera jurídica de los particulares.</a:t>
            </a:r>
            <a:endParaRPr b="0" lang="en-US" sz="1600" spc="-1" strike="noStrike">
              <a:solidFill>
                <a:srgbClr val="000000"/>
              </a:solidFill>
              <a:latin typeface="Calibri"/>
            </a:endParaRPr>
          </a:p>
          <a:p>
            <a:pPr marL="318960" indent="-3189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b)</a:t>
            </a:r>
            <a:r>
              <a:rPr b="0" lang="es-AR" sz="1600" spc="-1" strike="noStrike">
                <a:solidFill>
                  <a:srgbClr val="000000"/>
                </a:solidFill>
                <a:latin typeface="Book Antiqua"/>
              </a:rPr>
              <a:t>	</a:t>
            </a:r>
            <a:r>
              <a:rPr b="0" lang="es-AR" sz="1600" spc="-1" strike="noStrike">
                <a:solidFill>
                  <a:srgbClr val="000000"/>
                </a:solidFill>
                <a:latin typeface="Book Antiqua"/>
              </a:rPr>
              <a:t>Si generan derechos y recursos a favor de estos.</a:t>
            </a:r>
            <a:endParaRPr b="0" lang="en-US" sz="1600" spc="-1" strike="noStrike">
              <a:solidFill>
                <a:srgbClr val="000000"/>
              </a:solidFill>
              <a:latin typeface="Calibri"/>
            </a:endParaRPr>
          </a:p>
          <a:p>
            <a:pPr marL="318960" indent="-3189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c)</a:t>
            </a:r>
            <a:r>
              <a:rPr b="0" lang="es-AR" sz="1600" spc="-1" strike="noStrike">
                <a:solidFill>
                  <a:srgbClr val="000000"/>
                </a:solidFill>
                <a:latin typeface="Book Antiqua"/>
              </a:rPr>
              <a:t>	</a:t>
            </a:r>
            <a:r>
              <a:rPr b="0" lang="es-AR" sz="1600" spc="-1" strike="noStrike">
                <a:solidFill>
                  <a:srgbClr val="000000"/>
                </a:solidFill>
                <a:latin typeface="Book Antiqua"/>
              </a:rPr>
              <a:t>Si pueden ser impugnados por personas ajenas a la  administración.</a:t>
            </a:r>
            <a:endParaRPr b="0" lang="en-US" sz="1600" spc="-1" strike="noStrike">
              <a:solidFill>
                <a:srgbClr val="000000"/>
              </a:solidFill>
              <a:latin typeface="Calibri"/>
            </a:endParaRPr>
          </a:p>
          <a:p>
            <a:pPr marL="318960" indent="-3189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Lo importante es determinar si:</a:t>
            </a:r>
            <a:endParaRPr b="0" lang="en-US" sz="1600" spc="-1" strike="noStrike">
              <a:solidFill>
                <a:srgbClr val="000000"/>
              </a:solidFill>
              <a:latin typeface="Calibri"/>
            </a:endParaRPr>
          </a:p>
          <a:p>
            <a:pPr lvl="1" marL="690840" indent="-2656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a)</a:t>
            </a:r>
            <a:r>
              <a:rPr b="0" lang="es-AR" sz="1600" spc="-1" strike="noStrike">
                <a:solidFill>
                  <a:srgbClr val="000000"/>
                </a:solidFill>
                <a:latin typeface="Book Antiqua"/>
              </a:rPr>
              <a:t>	</a:t>
            </a:r>
            <a:r>
              <a:rPr b="0" lang="es-AR" sz="1600" spc="-1" strike="noStrike">
                <a:solidFill>
                  <a:srgbClr val="000000"/>
                </a:solidFill>
                <a:latin typeface="Book Antiqua"/>
              </a:rPr>
              <a:t>Si quedan comprendidas en el concepto de acto de contenido general normativo: </a:t>
            </a:r>
            <a:endParaRPr b="0" lang="en-US" sz="1600" spc="-1" strike="noStrike">
              <a:solidFill>
                <a:srgbClr val="000000"/>
              </a:solidFill>
              <a:latin typeface="Calibri"/>
            </a:endParaRPr>
          </a:p>
          <a:p>
            <a:pPr lvl="1" marL="690840" indent="-2656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1.</a:t>
            </a:r>
            <a:r>
              <a:rPr b="0" lang="es-AR" sz="1600" spc="-1" strike="noStrike">
                <a:solidFill>
                  <a:srgbClr val="000000"/>
                </a:solidFill>
                <a:latin typeface="Book Antiqua"/>
              </a:rPr>
              <a:t>	</a:t>
            </a:r>
            <a:r>
              <a:rPr b="0" lang="es-AR" sz="1600" spc="-1" strike="noStrike">
                <a:solidFill>
                  <a:srgbClr val="000000"/>
                </a:solidFill>
                <a:latin typeface="Book Antiqua"/>
              </a:rPr>
              <a:t>Si se les atribuye el rol de reglamento en forma estricta: requieren el cumplimiento del requisito de la publicidad para mantener su eficacia. </a:t>
            </a:r>
            <a:endParaRPr b="0" lang="en-US" sz="1600" spc="-1" strike="noStrike">
              <a:solidFill>
                <a:srgbClr val="000000"/>
              </a:solidFill>
              <a:latin typeface="Calibri"/>
            </a:endParaRPr>
          </a:p>
          <a:p>
            <a:pPr lvl="1" marL="690840" indent="-2656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2.</a:t>
            </a:r>
            <a:r>
              <a:rPr b="0" lang="es-AR" sz="1600" spc="-1" strike="noStrike">
                <a:solidFill>
                  <a:srgbClr val="000000"/>
                </a:solidFill>
                <a:latin typeface="Book Antiqua"/>
              </a:rPr>
              <a:t>	</a:t>
            </a:r>
            <a:r>
              <a:rPr b="0" lang="es-AR" sz="1600" spc="-1" strike="noStrike">
                <a:solidFill>
                  <a:srgbClr val="000000"/>
                </a:solidFill>
                <a:latin typeface="Book Antiqua"/>
              </a:rPr>
              <a:t>Si se les atribuye el rol de reglamento interno: representan la expresión del ejercicio de la potestad jerárquica atenuando el requisito formal de la publicidad </a:t>
            </a:r>
            <a:endParaRPr b="0" lang="en-US" sz="1600" spc="-1" strike="noStrike">
              <a:solidFill>
                <a:srgbClr val="000000"/>
              </a:solidFill>
              <a:latin typeface="Calibri"/>
            </a:endParaRPr>
          </a:p>
          <a:p>
            <a:pPr lvl="1" marL="690840" indent="-2656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b)</a:t>
            </a:r>
            <a:r>
              <a:rPr b="0" lang="es-AR" sz="1600" spc="-1" strike="noStrike">
                <a:solidFill>
                  <a:srgbClr val="000000"/>
                </a:solidFill>
                <a:latin typeface="Book Antiqua"/>
              </a:rPr>
              <a:t>	</a:t>
            </a:r>
            <a:r>
              <a:rPr b="0" lang="es-AR" sz="1600" spc="-1" strike="noStrike">
                <a:solidFill>
                  <a:srgbClr val="000000"/>
                </a:solidFill>
                <a:latin typeface="Book Antiqua"/>
              </a:rPr>
              <a:t>Si constituyen o no fuente del derecho administrativo: pueden señalarse dos posiciones:</a:t>
            </a:r>
            <a:endParaRPr b="0" lang="en-US" sz="1600" spc="-1" strike="noStrike">
              <a:solidFill>
                <a:srgbClr val="000000"/>
              </a:solidFill>
              <a:latin typeface="Calibri"/>
            </a:endParaRPr>
          </a:p>
          <a:p>
            <a:pPr lvl="1" marL="690840" indent="-2656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1.</a:t>
            </a:r>
            <a:r>
              <a:rPr b="0" lang="es-AR" sz="1600" spc="-1" strike="noStrike">
                <a:solidFill>
                  <a:srgbClr val="000000"/>
                </a:solidFill>
                <a:latin typeface="Book Antiqua"/>
              </a:rPr>
              <a:t>	</a:t>
            </a:r>
            <a:r>
              <a:rPr b="0" lang="es-AR" sz="1600" spc="-1" strike="noStrike">
                <a:solidFill>
                  <a:srgbClr val="000000"/>
                </a:solidFill>
                <a:latin typeface="Book Antiqua"/>
              </a:rPr>
              <a:t>La que niega rotundamente esa posibilidad: sostienen que son simples directivas de actuación o indicaciones jerárquicas.</a:t>
            </a:r>
            <a:endParaRPr b="0" lang="en-US" sz="1600" spc="-1" strike="noStrike">
              <a:solidFill>
                <a:srgbClr val="000000"/>
              </a:solidFill>
              <a:latin typeface="Calibri"/>
            </a:endParaRPr>
          </a:p>
          <a:p>
            <a:pPr lvl="1" marL="690840" indent="-2656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2.</a:t>
            </a:r>
            <a:r>
              <a:rPr b="0" lang="es-AR" sz="1600" spc="-1" strike="noStrike">
                <a:solidFill>
                  <a:srgbClr val="000000"/>
                </a:solidFill>
                <a:latin typeface="Book Antiqua"/>
              </a:rPr>
              <a:t>	</a:t>
            </a:r>
            <a:r>
              <a:rPr b="0" lang="es-AR" sz="1600" spc="-1" strike="noStrike">
                <a:solidFill>
                  <a:srgbClr val="000000"/>
                </a:solidFill>
                <a:latin typeface="Book Antiqua"/>
              </a:rPr>
              <a:t>Las que admiten que lo son y que podrían dar lugar a reclamos al menos por parte de los funcionarios de la administración, y en algunos casos a favor de los particulares cuando los afecte el acto administrativo por el cual se cumplen .</a:t>
            </a:r>
            <a:endParaRPr b="0" lang="en-US" sz="1600" spc="-1" strike="noStrike">
              <a:solidFill>
                <a:srgbClr val="000000"/>
              </a:solidFill>
              <a:latin typeface="Calibri"/>
            </a:endParaRPr>
          </a:p>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13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6B31-B235-402C-8001-E7EDE1E5A7F8}"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OPINIONES DOCTRINARIAS</a:t>
            </a:r>
            <a:endParaRPr b="0" lang="en-US" sz="28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Book Antiqua"/>
              </a:rPr>
              <a:t>HUTCHINSON: las circulares que representan aclaraciones o precisiones respecto de la interpretación de aspectos legales o reglamentarios si se publican adquieren la condición de verdaderos reglamentos.</a:t>
            </a:r>
            <a:endParaRPr b="0" lang="en-US" sz="1700" spc="-1" strike="noStrike">
              <a:solidFill>
                <a:srgbClr val="000000"/>
              </a:solidFill>
              <a:latin typeface="Calibri"/>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Book Antiqua"/>
              </a:rPr>
              <a:t>O’DONNELL:  las NE publicadas en el BO , en el boletín del organismo fiscal o en su página web, abandonan su condición de acto interno y rige la presunción del conocimiento de las normas adquiriendo su condición de generalidad. Puede ser invocada por el contribuyente atendiendo a los principios de igualdad y seguridad jurídica.</a:t>
            </a:r>
            <a:endParaRPr b="0" lang="en-US" sz="1700" spc="-1" strike="noStrike">
              <a:solidFill>
                <a:srgbClr val="000000"/>
              </a:solidFill>
              <a:latin typeface="Calibri"/>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Book Antiqua"/>
              </a:rPr>
              <a:t>La integración de dicho acto con la norma reglamentaria lo transforma en un acto administrativo de alcance general de igual rango que las resoluciones interpretativas.</a:t>
            </a:r>
            <a:endParaRPr b="0" lang="en-US" sz="1700" spc="-1" strike="noStrike">
              <a:solidFill>
                <a:srgbClr val="000000"/>
              </a:solidFill>
              <a:latin typeface="Calibri"/>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Book Antiqua"/>
              </a:rPr>
              <a:t>Causa Roberto Vollenweider, JF Río Cuarto, Córdoba (Circular 916/70).</a:t>
            </a:r>
            <a:endParaRPr b="0" lang="en-US" sz="1700" spc="-1" strike="noStrike">
              <a:solidFill>
                <a:srgbClr val="000000"/>
              </a:solidFill>
              <a:latin typeface="Calibri"/>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Book Antiqua"/>
              </a:rPr>
              <a:t>Con las IG deben separarse aquellas que se integran con la norma interpretada (reglamentos), de aquellas que representan ordenes de carácter jerárquicas que requieren de la invocación del administrado a través del planteo de nulidad del acto, la garantía de igualdad, seguridad jurídica y de la teoría de los actos propios o de la invocación del principio de la confianza legítima.</a:t>
            </a:r>
            <a:endParaRPr b="0" lang="en-US" sz="1700" spc="-1" strike="noStrike">
              <a:solidFill>
                <a:srgbClr val="000000"/>
              </a:solidFill>
              <a:latin typeface="Calibri"/>
            </a:endParaRPr>
          </a:p>
        </p:txBody>
      </p:sp>
      <p:sp>
        <p:nvSpPr>
          <p:cNvPr id="137"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13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E0AC-7EB2-4645-8EAA-9C4299F2BEB7}"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1680" y="213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Book Antiqua"/>
              </a:rPr>
              <a:t>EFECTOS DE LA RESOLUCIÓN DE DETERMINACIÓN DE OFICIO Y SU VINCULACIÓN CON LA ESTABILIDAD FISCAL</a:t>
            </a:r>
            <a:endParaRPr b="0" lang="en-US" sz="22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6000"/>
          </a:bodyPr>
          <a:p>
            <a:pPr marL="438840" indent="-438840">
              <a:lnSpc>
                <a:spcPct val="100000"/>
              </a:lnSpc>
              <a:spcBef>
                <a:spcPts val="4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La aceptación del ajuste con la prevista: </a:t>
            </a:r>
            <a:endParaRPr b="0" lang="en-US" sz="2000" spc="-1" strike="noStrike">
              <a:solidFill>
                <a:srgbClr val="000000"/>
              </a:solidFill>
              <a:latin typeface="Calibri"/>
            </a:endParaRPr>
          </a:p>
          <a:p>
            <a:pPr lvl="1" marL="822600" indent="-438840">
              <a:lnSpc>
                <a:spcPct val="100000"/>
              </a:lnSpc>
              <a:spcBef>
                <a:spcPts val="4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Puede ser revisado por la AFIP.</a:t>
            </a:r>
            <a:endParaRPr b="0" lang="en-US" sz="1600" spc="-1" strike="noStrike">
              <a:solidFill>
                <a:srgbClr val="000000"/>
              </a:solidFill>
              <a:latin typeface="Calibri"/>
            </a:endParaRPr>
          </a:p>
          <a:p>
            <a:pPr lvl="1" marL="822600" indent="-438840">
              <a:lnSpc>
                <a:spcPct val="100000"/>
              </a:lnSpc>
              <a:spcBef>
                <a:spcPts val="4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No goza de la estabilidad fiscal del artículo 19 de la LPF.</a:t>
            </a:r>
            <a:endParaRPr b="0" lang="en-US" sz="1600" spc="-1" strike="noStrike">
              <a:solidFill>
                <a:srgbClr val="000000"/>
              </a:solidFill>
              <a:latin typeface="Calibri"/>
            </a:endParaRPr>
          </a:p>
          <a:p>
            <a:pPr lvl="1" marL="822600" indent="-438840">
              <a:lnSpc>
                <a:spcPct val="100000"/>
              </a:lnSpc>
              <a:spcBef>
                <a:spcPts val="4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Reduce la multa al mínimo previsto en el 1° párrafo del artículo 49 de la LPF.</a:t>
            </a:r>
            <a:endParaRPr b="0" lang="en-US" sz="1600" spc="-1" strike="noStrike">
              <a:solidFill>
                <a:srgbClr val="000000"/>
              </a:solidFill>
              <a:latin typeface="Calibri"/>
            </a:endParaRPr>
          </a:p>
          <a:p>
            <a:pPr lvl="1" marL="822600" indent="-438840">
              <a:lnSpc>
                <a:spcPct val="100000"/>
              </a:lnSpc>
              <a:spcBef>
                <a:spcPts val="4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Si el contribuyente no presentó su DDJJ puede reclamar la aplicación del artículo 3.4.2.2. de la IG N° 6/2007.</a:t>
            </a:r>
            <a:endParaRPr b="0" lang="en-US" sz="1600" spc="-1" strike="noStrike">
              <a:solidFill>
                <a:srgbClr val="000000"/>
              </a:solidFill>
              <a:latin typeface="Calibri"/>
            </a:endParaRPr>
          </a:p>
          <a:p>
            <a:pPr marL="438840" indent="-438840">
              <a:lnSpc>
                <a:spcPct val="100000"/>
              </a:lnSpc>
              <a:spcBef>
                <a:spcPts val="4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 </a:t>
            </a:r>
            <a:r>
              <a:rPr b="0" lang="es-AR" sz="2000" spc="-1" strike="noStrike">
                <a:solidFill>
                  <a:srgbClr val="000000"/>
                </a:solidFill>
                <a:latin typeface="Book Antiqua"/>
              </a:rPr>
              <a:t>La aceptación del ajuste con posterioridad a la vista y antes del acto resolutivo:</a:t>
            </a:r>
            <a:endParaRPr b="0" lang="en-US" sz="2000" spc="-1" strike="noStrike">
              <a:solidFill>
                <a:srgbClr val="000000"/>
              </a:solidFill>
              <a:latin typeface="Calibri"/>
            </a:endParaRPr>
          </a:p>
          <a:p>
            <a:pPr lvl="1" marL="822600" indent="-438840">
              <a:lnSpc>
                <a:spcPct val="100000"/>
              </a:lnSpc>
              <a:spcBef>
                <a:spcPts val="4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Suprime el dictado de la resolución determinativa.</a:t>
            </a:r>
            <a:endParaRPr b="0" lang="en-US" sz="1600" spc="-1" strike="noStrike">
              <a:solidFill>
                <a:srgbClr val="000000"/>
              </a:solidFill>
              <a:latin typeface="Calibri"/>
            </a:endParaRPr>
          </a:p>
          <a:p>
            <a:pPr lvl="1" marL="822600" indent="-438840">
              <a:lnSpc>
                <a:spcPct val="100000"/>
              </a:lnSpc>
              <a:spcBef>
                <a:spcPts val="4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Reviste la condición de DDJJ para el contribuyente y D.O. para el fisco.</a:t>
            </a:r>
            <a:endParaRPr b="0" lang="en-US" sz="1600" spc="-1" strike="noStrike">
              <a:solidFill>
                <a:srgbClr val="000000"/>
              </a:solidFill>
              <a:latin typeface="Calibri"/>
            </a:endParaRPr>
          </a:p>
          <a:p>
            <a:pPr lvl="1" marL="822600" indent="-438840">
              <a:lnSpc>
                <a:spcPct val="100000"/>
              </a:lnSpc>
              <a:spcBef>
                <a:spcPts val="4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Reduce la multa al mínimo previsto en el 2° párrafo del artículo 49 de la LPF.</a:t>
            </a:r>
            <a:endParaRPr b="0" lang="en-US" sz="1600" spc="-1" strike="noStrike">
              <a:solidFill>
                <a:srgbClr val="000000"/>
              </a:solidFill>
              <a:latin typeface="Calibri"/>
            </a:endParaRPr>
          </a:p>
          <a:p>
            <a:pPr lvl="1" marL="822600" indent="-438840">
              <a:lnSpc>
                <a:spcPct val="100000"/>
              </a:lnSpc>
              <a:spcBef>
                <a:spcPts val="4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Goza de la estabilidad fiscal prevista en el artículo 19 de la LPF.</a:t>
            </a:r>
            <a:endParaRPr b="0" lang="en-US" sz="1600" spc="-1" strike="noStrike">
              <a:solidFill>
                <a:srgbClr val="000000"/>
              </a:solidFill>
              <a:latin typeface="Calibri"/>
            </a:endParaRPr>
          </a:p>
          <a:p>
            <a:pPr marL="438840" indent="-438840">
              <a:lnSpc>
                <a:spcPct val="100000"/>
              </a:lnSpc>
              <a:spcBef>
                <a:spcPts val="4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El dictado de la resolución determinativa:</a:t>
            </a:r>
            <a:endParaRPr b="0" lang="en-US" sz="2000" spc="-1" strike="noStrike">
              <a:solidFill>
                <a:srgbClr val="000000"/>
              </a:solidFill>
              <a:latin typeface="Calibri"/>
            </a:endParaRPr>
          </a:p>
          <a:p>
            <a:pPr lvl="1" marL="822600" indent="-438840">
              <a:lnSpc>
                <a:spcPct val="100000"/>
              </a:lnSpc>
              <a:spcBef>
                <a:spcPts val="4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Book Antiqua"/>
              </a:rPr>
              <a:t>Concede la estabilidad fiscal prevista en el artículo 19 de la LPF.</a:t>
            </a:r>
            <a:endParaRPr b="0" lang="en-US" sz="1600" spc="-1" strike="noStrike">
              <a:solidFill>
                <a:srgbClr val="000000"/>
              </a:solidFill>
              <a:latin typeface="Calibri"/>
            </a:endParaRPr>
          </a:p>
          <a:p>
            <a:pPr lvl="1" marL="822600" indent="-438840">
              <a:lnSpc>
                <a:spcPct val="100000"/>
              </a:lnSpc>
              <a:spcBef>
                <a:spcPts val="4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1"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14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954D-5679-433A-B2CD-5E81BE52E48B}"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Book Antiqua"/>
              </a:rPr>
              <a:t>FACULTADES DEL ADMINISTRADOR DE LA AFIP – DECRETO 618/97 – DISPOSICIÓN N° 446/2009</a:t>
            </a:r>
            <a:endParaRPr b="0" lang="en-US" sz="25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5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612F-D4E9-4E73-8586-25FAA7DCA489}"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pic>
        <p:nvPicPr>
          <p:cNvPr id="54" name="" descr=""/>
          <p:cNvPicPr/>
          <p:nvPr/>
        </p:nvPicPr>
        <p:blipFill>
          <a:blip r:embed="rId1"/>
          <a:stretch/>
        </p:blipFill>
        <p:spPr>
          <a:xfrm>
            <a:off x="1428840" y="2286000"/>
            <a:ext cx="5987880" cy="329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CARACTERÍSTICAS DE LAS RESOLUCIONES GENERALES.</a:t>
            </a:r>
            <a:endParaRPr b="0" lang="en-US" sz="28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ok Antiqua"/>
              </a:rPr>
              <a:t>Resoluciones Generales (RG): Son actos externos de tipo resolutivos porque generan derechos y/u obligaciones para los sujetos a que están dirigidos, obligatorios, de alcance general porque están dirigidas a un universo indeterminado de sujetos que no pertenecen al organismo fiscal tales como: contribuyentes, agentes de información, de retención y/o percepción, importadores, exportadores, despachantes de aduana, agentes de transporte y administrados en general. Pueden ser de tipo reglamentarias o interpretativas, y las aclaraciones que se dicten sobre estas normas deberán realizarse mediante el dictado de otra RG o de una Circular. Deben publicarse en el Boletín Oficial (BO)</a:t>
            </a:r>
            <a:endParaRPr b="0" lang="en-US" sz="2000" spc="-1" strike="noStrike">
              <a:solidFill>
                <a:srgbClr val="000000"/>
              </a:solidFill>
              <a:latin typeface="Calibri"/>
            </a:endParaRPr>
          </a:p>
        </p:txBody>
      </p:sp>
      <p:sp>
        <p:nvSpPr>
          <p:cNvPr id="57"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5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2CB4-3EEC-488E-B670-E97EF53D56A0}"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CARACTERISTICAS DE LAS RESOLUCIONES.</a:t>
            </a:r>
            <a:endParaRPr b="0" lang="en-US" sz="28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Book Antiqua"/>
              </a:rPr>
              <a:t>Resoluciones (R): son actos externos, también de tipo resolutivo, obligatorios, de alcance particular (afectan a uno o varios sujetos que se encuentran individualizados en el acto), y comprende las respuestas a consultas vinculantes formuladas con los requisitos previsto en la LPF. Se publicarán en el BO sólo si el propio acto lo prevé. También se incluyen en este título a aquellas dictadas en el transcurso del procedimiento determinativo, las que no son objeto de análisis en este trabajo.</a:t>
            </a:r>
            <a:endParaRPr b="0" lang="en-US" sz="2400" spc="-1" strike="noStrike">
              <a:solidFill>
                <a:srgbClr val="000000"/>
              </a:solidFill>
              <a:latin typeface="Calibri"/>
            </a:endParaRPr>
          </a:p>
        </p:txBody>
      </p:sp>
      <p:sp>
        <p:nvSpPr>
          <p:cNvPr id="61"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6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D85C-5AE7-4BC4-B2DD-5A56179FF914}"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CARACTERÍSTICAS DE LAS CIRCULARES</a:t>
            </a:r>
            <a:endParaRPr b="0" lang="en-US" sz="28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Book Antiqua"/>
              </a:rPr>
              <a:t>Son actos externos (dirigidas a sujetos que no son agentes del organismo), de tipo no resolutivos (no generan derechos y/u obligaciones y no son de cumplimiento obligatorio), de alcance general, destinadas a aclarar o precisar aspectos vinculados con la interpretación o aplicación de: leyes, decretos o RG. Deben publicarse en el BO.</a:t>
            </a:r>
            <a:endParaRPr b="0" lang="en-US" sz="3200" spc="-1" strike="noStrike">
              <a:solidFill>
                <a:srgbClr val="000000"/>
              </a:solidFill>
              <a:latin typeface="Calibri"/>
            </a:endParaRPr>
          </a:p>
        </p:txBody>
      </p:sp>
      <p:sp>
        <p:nvSpPr>
          <p:cNvPr id="65"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E3DD-2663-4884-B0F3-354CEC5D621D}"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CARACTERÍSTICAS DE LAS NOTAS EXTERNAS</a:t>
            </a:r>
            <a:endParaRPr b="0" lang="en-US" sz="28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Book Antiqua"/>
              </a:rPr>
              <a:t>Son actos de carácter externo (dirigidas a sujetos que no pertenecen al organismo fiscal), de tipo no resolutivos (no generan derechos y/u obligaciones y no son de cumplimiento obligatorio), de alcance particular (afectan a uno o varios sujetos que se encuentran individualizados en el acto), y formulan una comunicación o requerimiento a los administrados o a otros organismos que no están incluidos en el procedimiento reglado. No se publican en el BO.</a:t>
            </a:r>
            <a:endParaRPr b="0" lang="en-US" sz="2400" spc="-1" strike="noStrike">
              <a:solidFill>
                <a:srgbClr val="000000"/>
              </a:solidFill>
              <a:latin typeface="Calibri"/>
            </a:endParaRPr>
          </a:p>
        </p:txBody>
      </p:sp>
      <p:sp>
        <p:nvSpPr>
          <p:cNvPr id="6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7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30AC-4481-4043-B60B-98607634264D}"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CARACTERÍSTICAS DE LAS INSTRUCCIONES GENERALES</a:t>
            </a:r>
            <a:endParaRPr b="0" lang="en-US" sz="28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Son normas de carácter interno, dirigidas a sujetos que pertenecen al organismo fiscal, de alcance general porque afectan a varios sujetos en forma genérica, que no se encuentran individualizados en el acto, de tipo resolutivos porque son de cumplimiento obligatorio y generan derechos y obligaciones con tales sujetos, y tratan aspectos administrativos y de organización interna. No se publican en el BO.</a:t>
            </a:r>
            <a:endParaRPr b="0" lang="en-US" sz="2800" spc="-1" strike="noStrike">
              <a:solidFill>
                <a:srgbClr val="000000"/>
              </a:solidFill>
              <a:latin typeface="Calibri"/>
            </a:endParaRPr>
          </a:p>
        </p:txBody>
      </p:sp>
      <p:sp>
        <p:nvSpPr>
          <p:cNvPr id="7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7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4170-1164-477F-BA52-81E7A298BFAA}"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CARACTERÍSTICAS DE LAS DISPOSICIONES</a:t>
            </a:r>
            <a:endParaRPr b="0" lang="en-US" sz="28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Book Antiqua"/>
              </a:rPr>
              <a:t>Son normas de carácter interno porque están dirigidas a sujetos que pertenecen al organismo fiscal, de alcance general o particular, de tipo resolutivos, y tratan aspectos administrativos y de organización interna. Se publican en el BO sólo si el propio acto lo prevé.</a:t>
            </a:r>
            <a:endParaRPr b="0" lang="en-US" sz="2800" spc="-1" strike="noStrike">
              <a:solidFill>
                <a:srgbClr val="000000"/>
              </a:solidFill>
              <a:latin typeface="Calibri"/>
            </a:endParaRPr>
          </a:p>
        </p:txBody>
      </p:sp>
      <p:sp>
        <p:nvSpPr>
          <p:cNvPr id="77"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898989"/>
                </a:solidFill>
                <a:uFillTx/>
                <a:latin typeface="Arial"/>
              </a:rPr>
              <a:t>Expositor: Dr. Ricardo Miguel Chicolino</a:t>
            </a:r>
            <a:endParaRPr b="0" lang="en-US" sz="1200" spc="-1" strike="noStrike" u="sng">
              <a:solidFill>
                <a:srgbClr val="000000"/>
              </a:solidFill>
              <a:uFillTx/>
              <a:latin typeface="Arial"/>
            </a:endParaRPr>
          </a:p>
        </p:txBody>
      </p:sp>
      <p:sp>
        <p:nvSpPr>
          <p:cNvPr id="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3E03-D696-42C4-9E6D-067835F5B627}" type="slidenum">
              <a:rPr b="0" lang="es-ES" sz="1200" spc="-1" strike="noStrike" u="sng">
                <a:solidFill>
                  <a:srgbClr val="898989"/>
                </a:solidFill>
                <a:uFillTx/>
                <a:latin typeface="Arial"/>
              </a:rPr>
              <a:t>&lt;number&gt;</a:t>
            </a:fld>
            <a:endParaRPr b="0" lang="en-US" sz="12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20:20:20Z</dcterms:created>
  <dc:creator>Ricardo</dc:creator>
  <dc:description/>
  <dc:language>en-US</dc:language>
  <cp:lastModifiedBy>Consejo</cp:lastModifiedBy>
  <dcterms:modified xsi:type="dcterms:W3CDTF">2014-10-09T15:48:30Z</dcterms:modified>
  <cp:revision>223</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9265511</vt:r8>
  </property>
</Properties>
</file>