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7EE2-B85C-405A-BC4D-EED50F34EEFF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A6FB-436A-48D0-AB91-6F088F3231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00B-5842-4330-A97F-60AD9C8A18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E1ED-9D4C-4216-9AE4-FFF731939F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12CF-ED41-4EFD-A0AB-502FD04D42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1A1E-4D18-4E13-ADE2-355F6D3CCF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D8EF-BCE3-4A84-A50C-AE77C251F3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589D-9A2B-41D4-92AF-29D3B14F82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A6C0-A1A6-4797-B5C1-537BE124EF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0829-15A4-4EA7-8447-8789A14979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2A69-AC3B-4C67-ACAF-57C2EE4609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DBD4-E7A5-442E-A4CB-AAF1C46119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A3DB-B64D-438C-A102-E57F1B23E3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43D8-9DF3-4B35-AA57-E9D029723A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872-5295-44A1-9F18-ED4AD3D2B7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E03C-866D-48D6-A21C-B13A02BB6B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8C1-FE26-4DE1-A3BB-00E6D033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AC1-799D-42EE-BF8D-7898ABB7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92C-E6C2-41BD-98AB-1CFC6DC1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BC7-8747-41A0-A905-C1E681C6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29B-18F3-414B-A4CE-F216B19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BFE-D137-493C-A1C7-52719DE5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D70-8D0D-4FEB-BA9B-4142F0A7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ED1-D66D-41EA-9FD1-4EB8098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F76-7C3F-4459-8CE6-57F1F1A3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EBA-D650-4830-8417-DE5548CE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EA5-3130-457D-9B79-B663D691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EAE-3D24-4827-B696-2D38A7E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16D-12A3-4D5E-8BCE-FDD12D0DB78A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2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2E5B-A612-4C44-9964-379848A98A8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684360" y="476280"/>
            <a:ext cx="770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16º SIMPOSIO SOBRE LEGISLACIÓN</a:t>
            </a:r>
            <a:endParaRPr b="0" lang="en-US" sz="28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TRIBUTARIA ARGENTINA</a:t>
            </a:r>
            <a:endParaRPr b="0" lang="en-US" sz="28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700360" y="5732640"/>
            <a:ext cx="3672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 </a:t>
            </a:r>
            <a:endParaRPr b="0" i="1" lang="en-US" sz="30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71640" y="2492280"/>
            <a:ext cx="727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Cuestiones conflictivas</a:t>
            </a:r>
            <a:endParaRPr b="0" lang="en-US" sz="24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en el procedimiento tributario</a:t>
            </a:r>
            <a:endParaRPr b="0" lang="en-US" sz="24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2" name="5 Rectángulo"/>
          <p:cNvSpPr/>
          <p:nvPr/>
        </p:nvSpPr>
        <p:spPr>
          <a:xfrm>
            <a:off x="2286000" y="566244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. P. Carolina Calel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547640" y="69516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aducidad de planes de facilidades de p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916360" y="3830760"/>
            <a:ext cx="54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99"/>
                </a:solidFill>
                <a:latin typeface="Times New Roman"/>
              </a:rPr>
              <a:t>- No hay acto administ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979640" y="2421000"/>
            <a:ext cx="612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es-ES" sz="2600" spc="-1" strike="noStrike">
                <a:solidFill>
                  <a:srgbClr val="000099"/>
                </a:solidFill>
                <a:latin typeface="Times New Roman"/>
              </a:rPr>
              <a:t>Pantallas”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Times New Roman"/>
              </a:rPr>
              <a:t>- TFN y Cámara: incompet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1 Marcador de pie de página"/>
          <p:cNvSpPr/>
          <p:nvPr/>
        </p:nvSpPr>
        <p:spPr>
          <a:xfrm>
            <a:off x="2571840" y="5950080"/>
            <a:ext cx="4087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00000" y="663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gímenes de promo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00000" y="1628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EMPRESAS PROMOVIDAS. DECAIMIENTO DEL 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Necesidad de dictar determinación de o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Si no se dicta: criterios diver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Posibilidad de encuadrar como sanción o acto 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determin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971640" y="393372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DIFERIMIENTOS. DECA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TFN: incompe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Criterios diver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- Posibilidad de su consideración como 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000099"/>
                </a:solidFill>
                <a:latin typeface="Times New Roman"/>
              </a:rPr>
              <a:t>sanción o acto determin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55640" y="8287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egur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98560" y="262908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99"/>
                </a:solidFill>
                <a:latin typeface="Times New Roman"/>
              </a:rPr>
              <a:t>Argumentos a favor de la 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Necesidad de un nuevo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755640" y="765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constitu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26920" y="17762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rt. 185 ley 11.683. Criterio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ángulo 2"/>
          <p:cNvSpPr/>
          <p:nvPr/>
        </p:nvSpPr>
        <p:spPr>
          <a:xfrm>
            <a:off x="826920" y="2619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Problemas que se plante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piniones doctrinarias. Importancia de los pactos inter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ángulo 4"/>
          <p:cNvSpPr/>
          <p:nvPr/>
        </p:nvSpPr>
        <p:spPr>
          <a:xfrm>
            <a:off x="851400" y="4292640"/>
            <a:ext cx="77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Posición del Dr. Corti. Nota en el Diges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9 Rectángulo"/>
          <p:cNvSpPr/>
          <p:nvPr/>
        </p:nvSpPr>
        <p:spPr>
          <a:xfrm>
            <a:off x="863640" y="501336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Disidencia del Dr. Garbarino en la causa “La Mercantil Andina” TFN Sala E 31/7/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5564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REPETI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68360" y="148752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Diferencia con la dev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ángulo 1"/>
          <p:cNvSpPr/>
          <p:nvPr/>
        </p:nvSpPr>
        <p:spPr>
          <a:xfrm>
            <a:off x="1979640" y="420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000099"/>
                </a:solidFill>
                <a:latin typeface="Times New Roman"/>
              </a:rPr>
              <a:t>Repetición de antic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ángulo 2"/>
          <p:cNvSpPr/>
          <p:nvPr/>
        </p:nvSpPr>
        <p:spPr>
          <a:xfrm>
            <a:off x="1944720" y="3213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Pago y su acred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ángulo 3"/>
          <p:cNvSpPr/>
          <p:nvPr/>
        </p:nvSpPr>
        <p:spPr>
          <a:xfrm>
            <a:off x="1042920" y="233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Situaciones espe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5564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REPETI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47760" y="1827360"/>
            <a:ext cx="67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Pago espontáneo y a reque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ángulo 1"/>
          <p:cNvSpPr/>
          <p:nvPr/>
        </p:nvSpPr>
        <p:spPr>
          <a:xfrm>
            <a:off x="1800360" y="427356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Situa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ángulo 2"/>
          <p:cNvSpPr/>
          <p:nvPr/>
        </p:nvSpPr>
        <p:spPr>
          <a:xfrm>
            <a:off x="1835280" y="34830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Otras pos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3"/>
          <p:cNvSpPr/>
          <p:nvPr/>
        </p:nvSpPr>
        <p:spPr>
          <a:xfrm>
            <a:off x="1835280" y="2708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Doctrina tradicion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564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REPETI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9280" y="1557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egiti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ángulo 1"/>
          <p:cNvSpPr/>
          <p:nvPr/>
        </p:nvSpPr>
        <p:spPr>
          <a:xfrm>
            <a:off x="2160720" y="40575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Agentes de retención y perce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ángulo 2"/>
          <p:cNvSpPr/>
          <p:nvPr/>
        </p:nvSpPr>
        <p:spPr>
          <a:xfrm>
            <a:off x="2195640" y="3213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Responsables por deuda a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ángulo 3"/>
          <p:cNvSpPr/>
          <p:nvPr/>
        </p:nvSpPr>
        <p:spPr>
          <a:xfrm>
            <a:off x="2195640" y="2421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Contribuy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5564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REPETI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908000" y="16095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mpuestos indir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ángulo 2"/>
          <p:cNvSpPr/>
          <p:nvPr/>
        </p:nvSpPr>
        <p:spPr>
          <a:xfrm>
            <a:off x="1979640" y="42037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Presunción de perjuicio en ciertos 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ángulo 3"/>
          <p:cNvSpPr/>
          <p:nvPr/>
        </p:nvSpPr>
        <p:spPr>
          <a:xfrm>
            <a:off x="684360" y="276228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uevo requisito de no traslación. Vigencia y falta de regla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55640" y="549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DECLARACIONES JURADAS RECTIFICATIVAS EN M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247760" y="2924280"/>
            <a:ext cx="67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99"/>
                </a:solidFill>
                <a:latin typeface="Times New Roman"/>
              </a:rPr>
              <a:t>Traslado de saldos a fa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ángulo 1"/>
          <p:cNvSpPr/>
          <p:nvPr/>
        </p:nvSpPr>
        <p:spPr>
          <a:xfrm>
            <a:off x="2232000" y="206064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Errores fácilmente verific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ángulo 2"/>
          <p:cNvSpPr/>
          <p:nvPr/>
        </p:nvSpPr>
        <p:spPr>
          <a:xfrm>
            <a:off x="2050920" y="45626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Rectificativa en menos sin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ángulo 3"/>
          <p:cNvSpPr/>
          <p:nvPr/>
        </p:nvSpPr>
        <p:spPr>
          <a:xfrm>
            <a:off x="161928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ncremento y traslado de quebra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5564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LEY 25.345 O ANTIEV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971640" y="15573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CSJN 19/3/2014 “Mera Miguel Ang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ángulo 2"/>
          <p:cNvSpPr/>
          <p:nvPr/>
        </p:nvSpPr>
        <p:spPr>
          <a:xfrm>
            <a:off x="1476360" y="414972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Posibilidad de prueba en contrario.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Carga de 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ángulo 3"/>
          <p:cNvSpPr/>
          <p:nvPr/>
        </p:nvSpPr>
        <p:spPr>
          <a:xfrm>
            <a:off x="1476360" y="220500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Cuestiones pendie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Necesidad de emitir determinación de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728720" y="7570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99"/>
                </a:solidFill>
                <a:uFillTx/>
                <a:latin typeface="Times New Roman"/>
              </a:rPr>
              <a:t>COMPETENCIA DEL TF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85880" y="1946160"/>
            <a:ext cx="78897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99"/>
                </a:solidFill>
                <a:latin typeface="Times New Roman"/>
              </a:rPr>
              <a:t>Importancia del t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99"/>
                </a:solidFill>
                <a:latin typeface="Times New Roman"/>
              </a:rPr>
              <a:t>- Mantenimiento del efecto suspensiv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3000" spc="-1" strike="noStrike">
                <a:solidFill>
                  <a:srgbClr val="000099"/>
                </a:solidFill>
                <a:latin typeface="Times New Roman"/>
              </a:rPr>
              <a:t>CSJN Distri-Visión 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99"/>
                </a:solidFill>
                <a:latin typeface="Times New Roman"/>
              </a:rPr>
              <a:t>- Discusión referida a la naturaleza de los a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Marcador de pie de página"/>
          <p:cNvSpPr/>
          <p:nvPr/>
        </p:nvSpPr>
        <p:spPr>
          <a:xfrm>
            <a:off x="2714760" y="6165720"/>
            <a:ext cx="4143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55640" y="41904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MODIFICACION DE LA DETERMINACION DE OFICIO EN CONTRA DEL CONTRIB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ángulo 1"/>
          <p:cNvSpPr/>
          <p:nvPr/>
        </p:nvSpPr>
        <p:spPr>
          <a:xfrm>
            <a:off x="1800360" y="400536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Supuestos que abarcan más de un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período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ángulo 2"/>
          <p:cNvSpPr/>
          <p:nvPr/>
        </p:nvSpPr>
        <p:spPr>
          <a:xfrm>
            <a:off x="1835280" y="297828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Existencia de error omisión o dolo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en la exhib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ángulo 3"/>
          <p:cNvSpPr/>
          <p:nvPr/>
        </p:nvSpPr>
        <p:spPr>
          <a:xfrm>
            <a:off x="1835280" y="2330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Determinación de carácter p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5564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STRUCCIONES IN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247760" y="1557360"/>
            <a:ext cx="67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nvocación por parte del contrib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ángulo 2"/>
          <p:cNvSpPr/>
          <p:nvPr/>
        </p:nvSpPr>
        <p:spPr>
          <a:xfrm>
            <a:off x="1547640" y="350028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nstrucciones que sustentan actos ilegít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ángulo 3"/>
          <p:cNvSpPr/>
          <p:nvPr/>
        </p:nvSpPr>
        <p:spPr>
          <a:xfrm>
            <a:off x="1547640" y="25448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Consecuencias en caso de n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55640" y="549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APLICACIÓN SUPLETORIA LEY 19.5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258920" y="1557360"/>
            <a:ext cx="67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Vías de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ángulo 2"/>
          <p:cNvSpPr/>
          <p:nvPr/>
        </p:nvSpPr>
        <p:spPr>
          <a:xfrm>
            <a:off x="1547640" y="35002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Dictamen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ángulo 3"/>
          <p:cNvSpPr/>
          <p:nvPr/>
        </p:nvSpPr>
        <p:spPr>
          <a:xfrm>
            <a:off x="1547640" y="25448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érm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ángulo 1"/>
          <p:cNvSpPr/>
          <p:nvPr/>
        </p:nvSpPr>
        <p:spPr>
          <a:xfrm>
            <a:off x="1816920" y="4581360"/>
            <a:ext cx="55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Estabilidad del act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5564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PRESUNCIONES DE D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247760" y="1827360"/>
            <a:ext cx="670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fectación del principio de presunción de ino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ángulo 2"/>
          <p:cNvSpPr/>
          <p:nvPr/>
        </p:nvSpPr>
        <p:spPr>
          <a:xfrm>
            <a:off x="1547640" y="448956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Cuestiones referidas a su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ángulo 3"/>
          <p:cNvSpPr/>
          <p:nvPr/>
        </p:nvSpPr>
        <p:spPr>
          <a:xfrm>
            <a:off x="1547640" y="319392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ndicios inferentes insuficientes para fundar la presunción de d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55640" y="2773440"/>
            <a:ext cx="770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99"/>
                </a:solidFill>
                <a:latin typeface="Times New Roman"/>
              </a:rPr>
              <a:t>MUCHAS GRACI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42920" y="241452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26920" y="844560"/>
            <a:ext cx="7490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99"/>
                </a:solidFill>
                <a:uFillTx/>
                <a:latin typeface="Times New Roman"/>
              </a:rPr>
              <a:t>Impuesto sobre los combust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99"/>
                </a:solidFill>
                <a:latin typeface="Times New Roman"/>
              </a:rPr>
              <a:t>Art. 7 ley 23.96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99"/>
                </a:solidFill>
                <a:latin typeface="Times New Roman"/>
              </a:rPr>
              <a:t>Intimación y repet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99"/>
                </a:solidFill>
                <a:latin typeface="Times New Roman"/>
              </a:rPr>
              <a:t>CSJN Colorín 2/7/2013 (inciso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99"/>
                </a:solidFill>
                <a:latin typeface="Times New Roman"/>
              </a:rPr>
              <a:t>Otros inci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1 Marcador de pie de página"/>
          <p:cNvSpPr/>
          <p:nvPr/>
        </p:nvSpPr>
        <p:spPr>
          <a:xfrm>
            <a:off x="2714760" y="6237360"/>
            <a:ext cx="4143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071720" y="1187280"/>
            <a:ext cx="70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Ley 25.345 o antieva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ángulo 3"/>
          <p:cNvSpPr/>
          <p:nvPr/>
        </p:nvSpPr>
        <p:spPr>
          <a:xfrm>
            <a:off x="1857240" y="2133720"/>
            <a:ext cx="547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Intimación artículo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ángulo 4"/>
          <p:cNvSpPr/>
          <p:nvPr/>
        </p:nvSpPr>
        <p:spPr>
          <a:xfrm>
            <a:off x="826920" y="2997360"/>
            <a:ext cx="7490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TFN: a favor de la 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Cámara: distintos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99"/>
                </a:solidFill>
                <a:latin typeface="Times New Roman"/>
              </a:rPr>
              <a:t>Corte Suprema: “Mera” no trató el t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ángulo 5"/>
          <p:cNvSpPr/>
          <p:nvPr/>
        </p:nvSpPr>
        <p:spPr>
          <a:xfrm>
            <a:off x="1619280" y="595152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4360" y="97164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timaciones por reintegros de expor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26920" y="21337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FN: Plenario Curtiembre Fontela in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826920" y="333864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Cámara: Salas III, IV y V 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826920" y="44067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Dictamen procuradora Destripet: 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7 Marcador de pie de página"/>
          <p:cNvSpPr/>
          <p:nvPr/>
        </p:nvSpPr>
        <p:spPr>
          <a:xfrm>
            <a:off x="2643120" y="6237360"/>
            <a:ext cx="4071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297080" y="911160"/>
            <a:ext cx="66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olicitud de devolución de créditos fiscales deneg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9640" y="2565360"/>
            <a:ext cx="839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FN: Plenario Curtiembre Fontela no fijó un crit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99"/>
                </a:solidFill>
                <a:latin typeface="Times New Roman"/>
              </a:rPr>
              <a:t>Pronunciamientos diver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68360" y="391464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Cámara: Algunos precedentes in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Marcador de pie de página"/>
          <p:cNvSpPr/>
          <p:nvPr/>
        </p:nvSpPr>
        <p:spPr>
          <a:xfrm>
            <a:off x="2786040" y="6165720"/>
            <a:ext cx="4143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826920" y="395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Actos inescind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4000" y="1417680"/>
            <a:ext cx="824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riterio consolidado a favor de la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4000" y="2637000"/>
            <a:ext cx="792000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tros supuestos de desdoblamiento de ac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Reorgan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Exe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AR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Sociedades civ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lanteos de litispendencia. Consecuencias.</a:t>
            </a:r>
            <a:r>
              <a:rPr b="1" lang="es-E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9 Marcador de pie de página"/>
          <p:cNvSpPr/>
          <p:nvPr/>
        </p:nvSpPr>
        <p:spPr>
          <a:xfrm>
            <a:off x="2714760" y="6093000"/>
            <a:ext cx="41432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324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ter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187280" y="256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Liquidaciones de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476360" y="3841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Repetición de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1 Marcador de pie de página"/>
          <p:cNvSpPr/>
          <p:nvPr/>
        </p:nvSpPr>
        <p:spPr>
          <a:xfrm>
            <a:off x="2627280" y="5950080"/>
            <a:ext cx="4143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6 Rectángulo"/>
          <p:cNvSpPr/>
          <p:nvPr/>
        </p:nvSpPr>
        <p:spPr>
          <a:xfrm>
            <a:off x="2421360" y="146520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Último párrafo artículo 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df"/>
            </a:gs>
            <a:gs pos="50000">
              <a:srgbClr val="ffffff"/>
            </a:gs>
            <a:gs pos="100000">
              <a:srgbClr val="7f7f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042920" y="112536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55640" y="971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aducidad de planes de facilidades de p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1 Marcador de pie de página"/>
          <p:cNvSpPr/>
          <p:nvPr/>
        </p:nvSpPr>
        <p:spPr>
          <a:xfrm>
            <a:off x="2571840" y="6165720"/>
            <a:ext cx="408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º Simposio sobre Legislación Tributaria Argentina C.P. Carolina Cal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ángulo 2"/>
          <p:cNvSpPr/>
          <p:nvPr/>
        </p:nvSpPr>
        <p:spPr>
          <a:xfrm>
            <a:off x="1476360" y="4292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o es sanción. Es condición resolu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In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En general criterio del T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ángulo 3"/>
          <p:cNvSpPr/>
          <p:nvPr/>
        </p:nvSpPr>
        <p:spPr>
          <a:xfrm>
            <a:off x="1403280" y="1989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Dos crite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ángulo 4"/>
          <p:cNvSpPr/>
          <p:nvPr/>
        </p:nvSpPr>
        <p:spPr>
          <a:xfrm>
            <a:off x="1403280" y="256536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Consideración como sa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Competente artículo 159 inciso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Algunos precedentes de Cám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06:56Z</dcterms:created>
  <dc:creator>WinuE</dc:creator>
  <dc:description/>
  <dc:language>en-US</dc:language>
  <cp:lastModifiedBy>Consejo</cp:lastModifiedBy>
  <dcterms:modified xsi:type="dcterms:W3CDTF">2014-10-09T15:33:36Z</dcterms:modified>
  <cp:revision>11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9999064</vt:r8>
  </property>
  <property fmtid="{D5CDD505-2E9C-101B-9397-08002B2CF9AE}" pid="3" name="_AuthorEmail">
    <vt:lpwstr>estudio@calelloconsultores.com.ar</vt:lpwstr>
  </property>
  <property fmtid="{D5CDD505-2E9C-101B-9397-08002B2CF9AE}" pid="4" name="_AuthorEmailDisplayName">
    <vt:lpwstr>Calello Consultores</vt:lpwstr>
  </property>
  <property fmtid="{D5CDD505-2E9C-101B-9397-08002B2CF9AE}" pid="5" name="_EmailSubject">
    <vt:lpwstr>Power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