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camera.wav" ContentType="audio/x-wav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45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44.wmf" ContentType="image/x-wmf"/>
  <Override PartName="/ppt/media/image46.jpeg" ContentType="image/jpeg"/>
  <Override PartName="/ppt/media/image47.jpeg" ContentType="image/jpeg"/>
  <Override PartName="/ppt/media/image43.wmf" ContentType="image/x-wmf"/>
  <Override PartName="/ppt/media/image53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2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2.wmf" ContentType="image/x-wmf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217-8904-4B1A-9DC9-C70419A9C9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8C6-7BA1-40A1-BE18-803D7A8B4A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C0D-5FF6-4791-9AD8-875109D97F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B7D-1F48-4A3A-8692-5F44D67C29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227-75E8-4B96-9CFF-F272723486C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AEC-E610-47B3-A928-E2853507987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DBF-4C18-4A41-AA1A-89FDF8451E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1D0-F8A9-42F5-BDDA-89359C40824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F08-FF99-4114-BB41-4539D3B74BB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AFC-D45D-425D-B649-45AFBD2E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763-37FD-4574-A93E-C5E26D61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FB-A73E-4D8B-AC43-78C5F491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3B7-997E-4B06-922A-9CFF6E8F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AF0-7483-44D9-81C7-322C9794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8E9-BDF1-4CBA-B88C-14238D7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384-3FE5-4F03-8A31-53F36623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38B9-2289-42B2-B4E5-FEE9D76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8CA5-F110-4129-8FB1-6F6CB00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77F-8784-432E-B862-E8B2513C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11D-52A8-4E27-8004-EFF0AD0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01E-EDAF-47F6-8018-3694918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C39-260D-4CE9-B94C-8E03F77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6979-9915-46E5-8A0A-B285394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DDA-D162-4857-ABC4-D1443052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9B7-A748-4D8C-8940-D1658098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A1E-535F-4C45-AE83-76034C77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934-CAAC-4D2D-88FB-46274F31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ECD-16A9-4D27-94BC-BD80948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917-A191-459B-AF14-612C3DD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F92-7924-4FDB-AA7A-F1B4883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3D3-1C95-4194-9D9E-4DA91DB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E1C-E8C9-4A5C-B9A8-EECDC87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BD3-EF85-4083-BB1D-AFC2035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1647-C3AF-4EED-A5EB-8A3919F3AB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DEC1-802D-4F93-A3D4-B3FE818682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hyperlink" Target="http://www.comexsh.com.ar/images/aduana.jpg" TargetMode="External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1.jpeg"/><Relationship Id="rId29" Type="http://schemas.openxmlformats.org/officeDocument/2006/relationships/image" Target="../media/image13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6C6-45D0-4C61-B7F0-50822748B86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www.consejo.org.ar/templates/congresos/images/16simposio_2309.jpg"/>
          <p:cNvPicPr/>
          <p:nvPr/>
        </p:nvPicPr>
        <p:blipFill>
          <a:blip r:embed="rId1"/>
          <a:stretch/>
        </p:blipFill>
        <p:spPr>
          <a:xfrm>
            <a:off x="684360" y="189000"/>
            <a:ext cx="7991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1B5-9BD3-4339-B747-A5931D43C3E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43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752560" y="3552480"/>
            <a:ext cx="5810040" cy="9759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El impuesto bajo análisis …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7956720" y="126828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C5A-3FCA-4DA4-B31B-0AD5F3622D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uesto Inmobili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uesto de Sel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uesto  a los Aut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os Im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nsmisión Gratuita de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uestos sobre la nómina sala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uesto sobre los Ingresos Br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6800" y="314280"/>
            <a:ext cx="8143560" cy="76968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Impuestos Provinciales y de la CAB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129-598B-4B25-8257-49CC72C3CE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98320" y="392040"/>
            <a:ext cx="8108280" cy="10962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Impuesto  Provincial de mayor recaudación </a:t>
            </a: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75%</a:t>
            </a:r>
            <a:br>
              <a:rPr sz="3400"/>
            </a:b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539640" y="2637000"/>
            <a:ext cx="815508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Impuesto sobre los Ingresos Brutos 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611280" y="4941720"/>
            <a:ext cx="8154720" cy="107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Impuesto a las Actividades Económicas 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6 Flecha arriba y abajo"/>
          <p:cNvSpPr/>
          <p:nvPr/>
        </p:nvSpPr>
        <p:spPr>
          <a:xfrm>
            <a:off x="4427640" y="1628640"/>
            <a:ext cx="360360" cy="792360"/>
          </a:xfrm>
          <a:prstGeom prst="upDownArrow">
            <a:avLst>
              <a:gd name="adj1" fmla="val 50000"/>
              <a:gd name="adj2" fmla="val 50013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7 Flecha arriba y abajo"/>
          <p:cNvSpPr/>
          <p:nvPr/>
        </p:nvSpPr>
        <p:spPr>
          <a:xfrm>
            <a:off x="4500720" y="3933720"/>
            <a:ext cx="339480" cy="719280"/>
          </a:xfrm>
          <a:prstGeom prst="upDownArrow">
            <a:avLst>
              <a:gd name="adj1" fmla="val 50000"/>
              <a:gd name="adj2" fmla="val 50046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Grav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arrollo de las actividades económicas con fines de lu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ersonas físicas y juríd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Se aplica en las 23 Provincias y la CAB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s homogéneo (casi) en todas ell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34CC-F175-47C0-9DCE-791E32D233A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Impuesto sobre los Ingresos Brutos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 Marcador de número de diapositiva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20E-25B2-47CA-89FC-D5DFB4333ED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ANd9GcSF2udnDtvhsvT5asVIJTnUnzxIW4a6Fv0LdaEGDYmzwfrtkwg&amp;t=1&amp;h=190&amp;w=196&amp;usg=__vIo6VdZ6cJ7NNNt7fLo2sOqjjyE="/>
          <p:cNvPicPr/>
          <p:nvPr/>
        </p:nvPicPr>
        <p:blipFill>
          <a:blip r:embed="rId1"/>
          <a:stretch/>
        </p:blipFill>
        <p:spPr>
          <a:xfrm>
            <a:off x="2916360" y="2349360"/>
            <a:ext cx="2205000" cy="273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ANd9GcQuVYkvQMbRx2LJiNFo3FVTGDQLY79XG43aT9LNz6mYICs8ObE&amp;t=1&amp;usg=__Tf25jqcfCfPS4wpXCuBxM3NQ-i0="/>
          <p:cNvPicPr/>
          <p:nvPr/>
        </p:nvPicPr>
        <p:blipFill>
          <a:blip r:embed="rId2"/>
          <a:stretch/>
        </p:blipFill>
        <p:spPr>
          <a:xfrm>
            <a:off x="0" y="260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ANd9GcQjHIz7t_uYaqkRE52TV_1wCMgscEkHs_BkotxZ85OnFQqBGA0&amp;t=1&amp;usg=__LUmvnMGa0ak44Bt2fQnsMgzH-Xc="/>
          <p:cNvPicPr/>
          <p:nvPr/>
        </p:nvPicPr>
        <p:blipFill>
          <a:blip r:embed="rId3"/>
          <a:stretch/>
        </p:blipFill>
        <p:spPr>
          <a:xfrm>
            <a:off x="2916360" y="333360"/>
            <a:ext cx="2571480" cy="1708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ANd9GcSJnnp6DBNnaKQKmPzXhPNPJVjw2ttqz4RBzZ4PLdZ5Lc1w5uQ&amp;t=1&amp;h=167&amp;w=223&amp;usg=__U5eLPAUJCBk-T3Cc5v2NxCv8fd8="/>
          <p:cNvPicPr/>
          <p:nvPr/>
        </p:nvPicPr>
        <p:blipFill>
          <a:blip r:embed="rId4"/>
          <a:stretch/>
        </p:blipFill>
        <p:spPr>
          <a:xfrm>
            <a:off x="5508720" y="1989000"/>
            <a:ext cx="3024000" cy="1656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ANd9GcSvdrET_ZVAMifQY2NV_4ZIR3Or2xFIYfd-7w9kvQVkvXDpvew&amp;t=1&amp;usg=__io_1xT5Gu5IcSIyuJe8kFPKgkTQ="/>
          <p:cNvPicPr/>
          <p:nvPr/>
        </p:nvPicPr>
        <p:blipFill>
          <a:blip r:embed="rId5"/>
          <a:stretch/>
        </p:blipFill>
        <p:spPr>
          <a:xfrm>
            <a:off x="5364000" y="4941720"/>
            <a:ext cx="3780000" cy="191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ANd9GcRfN_UIWhVVeYAMZamh2QUNCsRJqsH8VdOHH4NnyLUVXp4GJUg&amp;t=1&amp;usg=__Fz2PWCUcmljUtaJmawNCgukun3U="/>
          <p:cNvPicPr/>
          <p:nvPr/>
        </p:nvPicPr>
        <p:blipFill>
          <a:blip r:embed="rId6"/>
          <a:stretch/>
        </p:blipFill>
        <p:spPr>
          <a:xfrm>
            <a:off x="2771640" y="510552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ANd9GcSPvjWb2DpG51s5aazScVna6RekQdMXMd1MGdBYNn2ymE5mn2g&amp;t=1&amp;usg=__-OIBBOl0PzVTRXiT9Dy06XRiCiU="/>
          <p:cNvPicPr/>
          <p:nvPr/>
        </p:nvPicPr>
        <p:blipFill>
          <a:blip r:embed="rId7"/>
          <a:stretch/>
        </p:blipFill>
        <p:spPr>
          <a:xfrm>
            <a:off x="0" y="2133720"/>
            <a:ext cx="3000240" cy="1523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ANd9GcQICg9d7RmW67srgunb3cgs9XyPB7KFDoGpts2QVmPAU6uB85w&amp;t=1&amp;usg=__BIzMkQP5VrQUR1Zek8FNDFVwM_o="/>
          <p:cNvPicPr/>
          <p:nvPr/>
        </p:nvPicPr>
        <p:blipFill>
          <a:blip r:embed="rId8"/>
          <a:stretch/>
        </p:blipFill>
        <p:spPr>
          <a:xfrm>
            <a:off x="0" y="5300640"/>
            <a:ext cx="2735280" cy="155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ANd9GcSBvbqVWM5i_fOHYLCXkrgPTDHD8HRC797lYsNauM364YGQmzo&amp;t=1&amp;usg=__uR4vk41HxNdHwC-QA4wrsnhiReA="/>
          <p:cNvPicPr/>
          <p:nvPr/>
        </p:nvPicPr>
        <p:blipFill>
          <a:blip r:embed="rId9"/>
          <a:stretch/>
        </p:blipFill>
        <p:spPr>
          <a:xfrm>
            <a:off x="5076720" y="3500280"/>
            <a:ext cx="2895840" cy="1581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1" descr="ANd9GcQ-OJSQ6JNa2M92Xs68FNb0HRm_OXnCM9br5tAaQ6l-N07fbGA&amp;t=1&amp;usg=__pDOqU8sQM-o6dZahgcc6QC9TasA="/>
          <p:cNvPicPr/>
          <p:nvPr/>
        </p:nvPicPr>
        <p:blipFill>
          <a:blip r:embed="rId10"/>
          <a:stretch/>
        </p:blipFill>
        <p:spPr>
          <a:xfrm>
            <a:off x="6516720" y="0"/>
            <a:ext cx="2627280" cy="1847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2" descr="ANd9GcRpdGMIpIitvNiiln6JvMhy7KL8vPmZ2KmtRI_MrMkOmjuNKDs&amp;t=1&amp;h=167&amp;w=223&amp;usg=__pCOoQLpo6CqzmWepzh4jeZzaq8Q="/>
          <p:cNvPicPr/>
          <p:nvPr/>
        </p:nvPicPr>
        <p:blipFill>
          <a:blip r:embed="rId11"/>
          <a:stretch/>
        </p:blipFill>
        <p:spPr>
          <a:xfrm>
            <a:off x="125280" y="360360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3" descr="ANd9GcRwejB3yNxkUhOlc5Vdeg45wTlKIfgCHnNdoXhr4RNxIMd5vjM&amp;t=1&amp;usg=__8sbzDth7rWBa374vMd6jmkizj9Y="/>
          <p:cNvPicPr/>
          <p:nvPr/>
        </p:nvPicPr>
        <p:blipFill>
          <a:blip r:embed="rId12"/>
          <a:stretch/>
        </p:blipFill>
        <p:spPr>
          <a:xfrm>
            <a:off x="7380360" y="3141720"/>
            <a:ext cx="1763640" cy="1819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User\Pictures\fabricas.jpg"/>
          <p:cNvPicPr/>
          <p:nvPr/>
        </p:nvPicPr>
        <p:blipFill>
          <a:blip r:embed="rId13"/>
          <a:stretch/>
        </p:blipFill>
        <p:spPr>
          <a:xfrm>
            <a:off x="5219640" y="0"/>
            <a:ext cx="20480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701-96C7-4072-A107-456ED99893F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182600" y="2017800"/>
          <a:ext cx="7772400" cy="4492440"/>
        </p:xfrm>
        <a:graphic>
          <a:graphicData uri="http://schemas.openxmlformats.org/drawingml/2006/table">
            <a:tbl>
              <a:tblPr/>
              <a:tblGrid>
                <a:gridCol w="1908360"/>
                <a:gridCol w="3273480"/>
                <a:gridCol w="2590560"/>
              </a:tblGrid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  </a:t>
                      </a:r>
                      <a:r>
                        <a:rPr b="1" lang="es-MX" sz="32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/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32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s-MX" sz="32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/</a:t>
                      </a:r>
                      <a:r>
                        <a:rPr b="1" lang="es-MX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Gra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oble Tribu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ribuyente Puro de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Gra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ribuyente Puro de 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hay tributació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MULTIPLE IMPOSICIÓN HORIZONTAL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0C6-2C90-4BFB-A1D6-BA310EBE373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77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599840" y="3481200"/>
            <a:ext cx="5810040" cy="9745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¿ Hay solución 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C:\Users\User\Pictures\reflexionando.jpg"/>
          <p:cNvPicPr/>
          <p:nvPr/>
        </p:nvPicPr>
        <p:blipFill>
          <a:blip r:embed="rId2"/>
          <a:stretch/>
        </p:blipFill>
        <p:spPr>
          <a:xfrm>
            <a:off x="6659640" y="2781360"/>
            <a:ext cx="1914480" cy="2390760"/>
          </a:xfrm>
          <a:prstGeom prst="rect">
            <a:avLst/>
          </a:prstGeom>
          <a:ln w="0">
            <a:noFill/>
          </a:ln>
        </p:spPr>
      </p:pic>
      <p:sp>
        <p:nvSpPr>
          <p:cNvPr id="380" name="Oval 7"/>
          <p:cNvSpPr/>
          <p:nvPr/>
        </p:nvSpPr>
        <p:spPr>
          <a:xfrm>
            <a:off x="7812000" y="126828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34F-A064-4384-805A-9FA961ABA6B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User\Pictures\PIZZA.jpg"/>
          <p:cNvPicPr/>
          <p:nvPr/>
        </p:nvPicPr>
        <p:blipFill>
          <a:blip r:embed="rId1"/>
          <a:stretch/>
        </p:blipFill>
        <p:spPr>
          <a:xfrm>
            <a:off x="2124000" y="2557440"/>
            <a:ext cx="4680000" cy="35355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MECANISMO DE REPARTO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2823-7B3B-4CB9-8225-65C54472B3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86920" y="2128680"/>
            <a:ext cx="6776280" cy="1015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ff"/>
                </a:solidFill>
                <a:latin typeface="Times New Roman"/>
              </a:rPr>
              <a:t>Convenio Multi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1393560" y="3962520"/>
            <a:ext cx="6364800" cy="12380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miter/>
          </a:ln>
          <a:effectLst>
            <a:outerShdw dist="107932" dir="2700000" blurRad="0" rotWithShape="0">
              <a:srgbClr val="cc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d60093"/>
                </a:solidFill>
                <a:latin typeface="BankGothic Md BT"/>
              </a:rPr>
              <a:t>Impuesto sobre los Ingresos Bru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d60093"/>
                </a:solidFill>
                <a:latin typeface="BankGothic Md B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d60093"/>
                </a:solidFill>
                <a:latin typeface="BankGothic Md BT"/>
              </a:rPr>
              <a:t>Tasa relacionada con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A82-682A-4A25-8218-40DF51CEFFB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= Acuer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Multilateral = much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ta de un impuesto homogén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mpuesto sobre los Ingresos Bru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parte no redistribu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dieron utilizarse otros mé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se debe desnaturalizar su es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MECANISMO DE REPARTO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AD68-CD41-4B0A-ABD3-803BC9A5C9A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780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MESA REDONDA 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“CONVENIO MULTILATERAL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 de OCTUBRE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ra. CP Elvira Balb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9" descr="C:\Documents and Settings\FacundoV\Mis documentos\Mis imágenes\mesa redonda.jpg"/>
          <p:cNvPicPr/>
          <p:nvPr/>
        </p:nvPicPr>
        <p:blipFill>
          <a:blip r:embed="rId1"/>
          <a:stretch/>
        </p:blipFill>
        <p:spPr>
          <a:xfrm>
            <a:off x="7093080" y="18900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7 Rectángulo"/>
          <p:cNvSpPr/>
          <p:nvPr/>
        </p:nvSpPr>
        <p:spPr>
          <a:xfrm>
            <a:off x="3132000" y="3141720"/>
            <a:ext cx="3456000" cy="1800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r.  Abog. Enrique Bulit Goñ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r. CP Roberto 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r. CP Demián Tujsna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4B6-477A-4600-A2E5-4BF978C8054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5400" y="1483920"/>
            <a:ext cx="822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bligaciones del Régi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petar algunas pautas para el Impuesto sobre los Ingresos Br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Que continuarán aplicando las normas del convenio multilateral del 18 de agosto de 197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in perjuicio de ulteriores modificaciones o sustituciones de éste, adoptadas por unanimidad de los fiscos adheridos… “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00400" y="317520"/>
            <a:ext cx="8136360" cy="834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Ley de Coparticipación Federal de Impuestos</a:t>
            </a: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Ley nº 23.548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93" name="Picture 1" descr="C:\Documents and Settings\FacundoV\Mis documentos\Mis imágenes\Coser-470x260.jpg"/>
          <p:cNvPicPr/>
          <p:nvPr/>
        </p:nvPicPr>
        <p:blipFill>
          <a:blip r:embed="rId1"/>
          <a:stretch/>
        </p:blipFill>
        <p:spPr>
          <a:xfrm>
            <a:off x="5003640" y="5157720"/>
            <a:ext cx="2953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televisor"/>
          <p:cNvPicPr/>
          <p:nvPr/>
        </p:nvPicPr>
        <p:blipFill>
          <a:blip r:embed="rId1"/>
          <a:stretch/>
        </p:blipFill>
        <p:spPr>
          <a:xfrm>
            <a:off x="0" y="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237494422_ec54b2b0db_o"/>
          <p:cNvPicPr/>
          <p:nvPr/>
        </p:nvPicPr>
        <p:blipFill>
          <a:blip r:embed="rId2"/>
          <a:stretch/>
        </p:blipFill>
        <p:spPr>
          <a:xfrm>
            <a:off x="5148360" y="3716280"/>
            <a:ext cx="3097080" cy="2449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fax1250"/>
          <p:cNvPicPr/>
          <p:nvPr/>
        </p:nvPicPr>
        <p:blipFill>
          <a:blip r:embed="rId3"/>
          <a:stretch/>
        </p:blipFill>
        <p:spPr>
          <a:xfrm>
            <a:off x="539640" y="3645000"/>
            <a:ext cx="3240360" cy="252072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5"/>
          <p:cNvSpPr/>
          <p:nvPr/>
        </p:nvSpPr>
        <p:spPr>
          <a:xfrm>
            <a:off x="2987640" y="1844640"/>
            <a:ext cx="30970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66"/>
                </a:solidFill>
                <a:latin typeface="Impact"/>
              </a:rPr>
              <a:t>1977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2484360" y="260280"/>
            <a:ext cx="4032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66"/>
                </a:solidFill>
                <a:latin typeface="Impact"/>
              </a:rPr>
              <a:t>Convenio Multilate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7" descr="ANd9GcSrrFH5saPomH6myC4SjmSnXJw25NFbXXV4wwi-uITC4Kk9BpexXQ"/>
          <p:cNvPicPr/>
          <p:nvPr/>
        </p:nvPicPr>
        <p:blipFill>
          <a:blip r:embed="rId4"/>
          <a:stretch/>
        </p:blipFill>
        <p:spPr>
          <a:xfrm>
            <a:off x="6467400" y="0"/>
            <a:ext cx="267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941-85A8-44F4-AB47-9A4E3A6F2B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02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3480" y="3336840"/>
            <a:ext cx="5809680" cy="9759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¿ A quién le pag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" descr="C:\Users\User\Pictures\RECAUDACION.jpg"/>
          <p:cNvPicPr/>
          <p:nvPr/>
        </p:nvPicPr>
        <p:blipFill>
          <a:blip r:embed="rId2"/>
          <a:stretch/>
        </p:blipFill>
        <p:spPr>
          <a:xfrm>
            <a:off x="5830920" y="306864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405" name="Oval 7"/>
          <p:cNvSpPr/>
          <p:nvPr/>
        </p:nvSpPr>
        <p:spPr>
          <a:xfrm>
            <a:off x="7956720" y="134136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3F1-9922-4018-A396-A31683CD71D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60240" y="3548880"/>
            <a:ext cx="8131680" cy="910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cc0066"/>
            </a:solidFill>
            <a:round/>
          </a:ln>
          <a:effectLst>
            <a:outerShdw dist="107932" dir="2700000" blurRad="0" rotWithShape="0">
              <a:srgbClr val="d60093">
                <a:alpha val="50000"/>
              </a:srgbClr>
            </a:outerShdw>
          </a:effectLst>
        </p:spPr>
        <p:txBody>
          <a:bodyPr anchor="t">
            <a:normAutofit fontScale="9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60093"/>
                </a:solidFill>
                <a:latin typeface="BankGothic Md BT"/>
              </a:rPr>
              <a:t>UN ÚNICO SUJETO PAS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95440" y="747720"/>
            <a:ext cx="8118000" cy="1031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cc0066"/>
            </a:solidFill>
            <a:round/>
          </a:ln>
          <a:effectLst>
            <a:outerShdw dist="107932" dir="2700000" blurRad="0" rotWithShape="0">
              <a:srgbClr val="d60093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60093"/>
                </a:solidFill>
                <a:latin typeface="BankGothic Md BT"/>
              </a:rPr>
              <a:t>Obligación Jurídica Tributaria</a:t>
            </a:r>
            <a:br>
              <a:rPr sz="4000"/>
            </a:br>
            <a:r>
              <a:rPr b="1" lang="es-AR" sz="3200" spc="-1" strike="noStrike">
                <a:solidFill>
                  <a:srgbClr val="d60093"/>
                </a:solidFill>
                <a:latin typeface="BankGothic Md BT"/>
              </a:rPr>
              <a:t>- atípica-</a:t>
            </a:r>
            <a:r>
              <a:rPr b="0" lang="es-AR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4211640" y="2276640"/>
            <a:ext cx="485640" cy="865080"/>
          </a:xfrm>
          <a:prstGeom prst="upDownArrow">
            <a:avLst>
              <a:gd name="adj1" fmla="val 50000"/>
              <a:gd name="adj2" fmla="val 35461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611280" y="4952880"/>
            <a:ext cx="8229600" cy="1355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miter/>
          </a:ln>
          <a:effectLst>
            <a:outerShdw dist="107932" dir="2700000" blurRad="0" rotWithShape="0">
              <a:srgbClr val="d6009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60093"/>
                </a:solidFill>
                <a:latin typeface="BankGothic Md BT"/>
              </a:rPr>
              <a:t>VARIOS SUJETOS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D84-F2D7-4374-A7DA-B9203EF420D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Diagram 2"/>
          <p:cNvGrpSpPr/>
          <p:nvPr/>
        </p:nvGrpSpPr>
        <p:grpSpPr>
          <a:xfrm>
            <a:off x="579240" y="1118520"/>
            <a:ext cx="7859880" cy="5211360"/>
            <a:chOff x="579240" y="1118520"/>
            <a:chExt cx="7859880" cy="5211360"/>
          </a:xfrm>
        </p:grpSpPr>
        <p:sp>
          <p:nvSpPr>
            <p:cNvPr id="413" name="_s1028"/>
            <p:cNvSpPr/>
            <p:nvPr/>
          </p:nvSpPr>
          <p:spPr>
            <a:xfrm flipH="1" flipV="1">
              <a:off x="3608280" y="2643120"/>
              <a:ext cx="566640" cy="65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029"/>
            <p:cNvSpPr/>
            <p:nvPr/>
          </p:nvSpPr>
          <p:spPr>
            <a:xfrm>
              <a:off x="2593800" y="159480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ffffff"/>
                  </a:solidFill>
                  <a:latin typeface="Tahoma"/>
                </a:rPr>
                <a:t>TIERRA DE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ffffff"/>
                  </a:solidFill>
                  <a:latin typeface="Tahoma"/>
                </a:rPr>
                <a:t>FUEG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030"/>
            <p:cNvSpPr/>
            <p:nvPr/>
          </p:nvSpPr>
          <p:spPr>
            <a:xfrm flipH="1" flipV="1">
              <a:off x="3093480" y="3498480"/>
              <a:ext cx="870120" cy="14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031"/>
            <p:cNvSpPr/>
            <p:nvPr/>
          </p:nvSpPr>
          <p:spPr>
            <a:xfrm>
              <a:off x="1869840" y="280188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ffffff"/>
                  </a:solidFill>
                  <a:latin typeface="Arial"/>
                </a:rPr>
                <a:t>TUCUMA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032"/>
            <p:cNvSpPr/>
            <p:nvPr/>
          </p:nvSpPr>
          <p:spPr>
            <a:xfrm flipH="1">
              <a:off x="3271680" y="4049280"/>
              <a:ext cx="765360" cy="42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033"/>
            <p:cNvSpPr/>
            <p:nvPr/>
          </p:nvSpPr>
          <p:spPr>
            <a:xfrm>
              <a:off x="2120760" y="4176000"/>
              <a:ext cx="1235160" cy="11883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ALT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_s1034"/>
            <p:cNvSpPr/>
            <p:nvPr/>
          </p:nvSpPr>
          <p:spPr>
            <a:xfrm flipH="1">
              <a:off x="4057560" y="4310280"/>
              <a:ext cx="303120" cy="797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_s1035"/>
            <p:cNvSpPr/>
            <p:nvPr/>
          </p:nvSpPr>
          <p:spPr>
            <a:xfrm>
              <a:off x="3230640" y="5072760"/>
              <a:ext cx="123480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NEUQUÉ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036"/>
            <p:cNvSpPr/>
            <p:nvPr/>
          </p:nvSpPr>
          <p:spPr>
            <a:xfrm>
              <a:off x="4782960" y="4310280"/>
              <a:ext cx="301680" cy="798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_s1037"/>
            <p:cNvSpPr/>
            <p:nvPr/>
          </p:nvSpPr>
          <p:spPr>
            <a:xfrm>
              <a:off x="4680000" y="5072760"/>
              <a:ext cx="123480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UB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_s1038"/>
            <p:cNvSpPr/>
            <p:nvPr/>
          </p:nvSpPr>
          <p:spPr>
            <a:xfrm>
              <a:off x="5106960" y="4049280"/>
              <a:ext cx="765000" cy="424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_s1039"/>
            <p:cNvSpPr/>
            <p:nvPr/>
          </p:nvSpPr>
          <p:spPr>
            <a:xfrm>
              <a:off x="5789520" y="4176000"/>
              <a:ext cx="1235160" cy="11883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RRIEN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040"/>
            <p:cNvSpPr/>
            <p:nvPr/>
          </p:nvSpPr>
          <p:spPr>
            <a:xfrm flipV="1">
              <a:off x="5180040" y="3499920"/>
              <a:ext cx="869760" cy="14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_s1041"/>
            <p:cNvSpPr/>
            <p:nvPr/>
          </p:nvSpPr>
          <p:spPr>
            <a:xfrm>
              <a:off x="6040440" y="280188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ATAMAR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_s1042"/>
            <p:cNvSpPr/>
            <p:nvPr/>
          </p:nvSpPr>
          <p:spPr>
            <a:xfrm flipV="1">
              <a:off x="4968720" y="2644560"/>
              <a:ext cx="568440" cy="65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_s1043"/>
            <p:cNvSpPr/>
            <p:nvPr/>
          </p:nvSpPr>
          <p:spPr>
            <a:xfrm>
              <a:off x="5316480" y="159480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BUENO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IRE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044"/>
            <p:cNvSpPr/>
            <p:nvPr/>
          </p:nvSpPr>
          <p:spPr>
            <a:xfrm flipV="1">
              <a:off x="4572000" y="2306880"/>
              <a:ext cx="0" cy="85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_s1045"/>
            <p:cNvSpPr/>
            <p:nvPr/>
          </p:nvSpPr>
          <p:spPr>
            <a:xfrm>
              <a:off x="3954240" y="1118520"/>
              <a:ext cx="1235160" cy="11883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CAB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_s1046"/>
            <p:cNvSpPr/>
            <p:nvPr/>
          </p:nvSpPr>
          <p:spPr>
            <a:xfrm>
              <a:off x="3954240" y="3158280"/>
              <a:ext cx="1235160" cy="11883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7059600" y="146808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 PAMP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7203960" y="347724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S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971640" y="1327680"/>
              <a:ext cx="1203120" cy="1051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A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79240" y="313056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I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1011240" y="500220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DOB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6987960" y="5141160"/>
              <a:ext cx="1235160" cy="11887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N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29"/>
            <p:cNvSpPr/>
            <p:nvPr/>
          </p:nvSpPr>
          <p:spPr>
            <a:xfrm>
              <a:off x="2700360" y="2574360"/>
              <a:ext cx="3959280" cy="2357280"/>
            </a:xfrm>
            <a:prstGeom prst="irregularSeal2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RESPONS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AutoShape 3"/>
          <p:cNvSpPr/>
          <p:nvPr/>
        </p:nvSpPr>
        <p:spPr>
          <a:xfrm>
            <a:off x="539640" y="189000"/>
            <a:ext cx="5184720" cy="70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Es de todos …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8485-3356-478C-A756-0398C1630D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50280" y="2412000"/>
            <a:ext cx="6868800" cy="116964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Organismos de aplicación 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Convenio Multilateral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27440" y="4492440"/>
            <a:ext cx="780984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Comisión Arbitral y Plenaria 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446" name="Oval 7"/>
          <p:cNvSpPr/>
          <p:nvPr/>
        </p:nvSpPr>
        <p:spPr>
          <a:xfrm>
            <a:off x="8028000" y="119700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BF3-453A-4346-BDD3-C5CC17495CF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43080" y="218448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 flipH="1" rot="16200000">
            <a:off x="1929240" y="870120"/>
            <a:ext cx="1600200" cy="1562040"/>
          </a:xfrm>
          <a:custGeom>
            <a:avLst/>
            <a:gdLst>
              <a:gd name="textAreaLeft" fmla="*/ 920160 w 1600200"/>
              <a:gd name="textAreaRight" fmla="*/ 1350000 w 1600200"/>
              <a:gd name="textAreaTop" fmla="*/ 210600 h 1562040"/>
              <a:gd name="textAreaBottom" fmla="*/ 66852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0"/>
          </a:gradFill>
          <a:ln cap="rnd" w="3240">
            <a:solidFill>
              <a:srgbClr val="66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927000" y="3909960"/>
            <a:ext cx="294696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ff"/>
                </a:solidFill>
                <a:latin typeface="Lucida Sans Unicode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ff"/>
                </a:solidFill>
                <a:latin typeface="Lucida Sans Unicode"/>
              </a:rPr>
              <a:t>Jurisdic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7"/>
          <p:cNvSpPr/>
          <p:nvPr/>
        </p:nvSpPr>
        <p:spPr>
          <a:xfrm>
            <a:off x="4876920" y="4121280"/>
            <a:ext cx="990360" cy="57132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SIRP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8"/>
          <p:cNvSpPr/>
          <p:nvPr/>
        </p:nvSpPr>
        <p:spPr>
          <a:xfrm>
            <a:off x="5292720" y="5813280"/>
            <a:ext cx="3151080" cy="64800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rmonizació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ircuitos y Procedimi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9"/>
          <p:cNvSpPr/>
          <p:nvPr/>
        </p:nvSpPr>
        <p:spPr>
          <a:xfrm>
            <a:off x="6372360" y="2624040"/>
            <a:ext cx="990360" cy="57168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SI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7924680" y="4121280"/>
            <a:ext cx="990720" cy="57132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SIF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53160" y="3309840"/>
            <a:ext cx="990720" cy="57168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SIR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2"/>
          <p:cNvSpPr/>
          <p:nvPr/>
        </p:nvSpPr>
        <p:spPr>
          <a:xfrm>
            <a:off x="7086600" y="3309840"/>
            <a:ext cx="990720" cy="57168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SIRCR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3"/>
          <p:cNvSpPr/>
          <p:nvPr/>
        </p:nvSpPr>
        <p:spPr>
          <a:xfrm>
            <a:off x="4500720" y="4876920"/>
            <a:ext cx="1671480" cy="57132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ontrol de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cau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4"/>
          <p:cNvSpPr/>
          <p:nvPr/>
        </p:nvSpPr>
        <p:spPr>
          <a:xfrm>
            <a:off x="7324560" y="4876920"/>
            <a:ext cx="1729080" cy="57132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Explotació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la inform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5"/>
          <p:cNvSpPr/>
          <p:nvPr/>
        </p:nvSpPr>
        <p:spPr>
          <a:xfrm>
            <a:off x="6134040" y="5157720"/>
            <a:ext cx="1366920" cy="571680"/>
          </a:xfrm>
          <a:prstGeom prst="ellipse">
            <a:avLst/>
          </a:prstGeom>
          <a:gradFill rotWithShape="0">
            <a:gsLst>
              <a:gs pos="0">
                <a:srgbClr val="ff91ff"/>
              </a:gs>
              <a:gs pos="50000">
                <a:srgbClr val="ffffff"/>
              </a:gs>
              <a:gs pos="100000">
                <a:srgbClr val="ff9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l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on AF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7"/>
          <p:cNvSpPr/>
          <p:nvPr/>
        </p:nvSpPr>
        <p:spPr>
          <a:xfrm>
            <a:off x="324000" y="2708280"/>
            <a:ext cx="2017440" cy="86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solu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asos concre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8"/>
          <p:cNvSpPr/>
          <p:nvPr/>
        </p:nvSpPr>
        <p:spPr>
          <a:xfrm>
            <a:off x="2482920" y="2708280"/>
            <a:ext cx="2017800" cy="86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Interpretació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99"/>
                </a:solidFill>
                <a:latin typeface="Tahoma"/>
              </a:rPr>
              <a:t>Normas del C.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9"/>
          <p:cNvSpPr/>
          <p:nvPr/>
        </p:nvSpPr>
        <p:spPr>
          <a:xfrm>
            <a:off x="1282680" y="5157720"/>
            <a:ext cx="2235240" cy="86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rmonizació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99"/>
                </a:solidFill>
                <a:latin typeface="Tahoma"/>
              </a:rPr>
              <a:t>Normas Tributa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 rot="5400000">
            <a:off x="5724360" y="869760"/>
            <a:ext cx="1600200" cy="1562400"/>
          </a:xfrm>
          <a:custGeom>
            <a:avLst/>
            <a:gdLst>
              <a:gd name="textAreaLeft" fmla="*/ 920520 w 1600200"/>
              <a:gd name="textAreaRight" fmla="*/ 1350360 w 1600200"/>
              <a:gd name="textAreaTop" fmla="*/ 210600 h 1562400"/>
              <a:gd name="textAreaBottom" fmla="*/ 668880 h 1562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0"/>
          </a:gradFill>
          <a:ln cap="rnd" w="3240">
            <a:solidFill>
              <a:srgbClr val="66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803560" y="3933720"/>
            <a:ext cx="212976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ff"/>
                </a:solidFill>
                <a:latin typeface="Lucida Sans Unicode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ff"/>
                </a:solidFill>
                <a:latin typeface="Lucida Sans Unicode"/>
              </a:rPr>
              <a:t>Oper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3169440" y="500040"/>
            <a:ext cx="2783520" cy="1580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0066"/>
            </a:solidFill>
            <a:miter/>
          </a:ln>
          <a:effectLst>
            <a:outerShdw dist="107932" dir="2700000" blurRad="0" rotWithShape="0">
              <a:srgbClr val="cc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60093"/>
                </a:solidFill>
                <a:latin typeface="BankGothic Md BT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60093"/>
                </a:solidFill>
                <a:latin typeface="BankGothic Md BT"/>
              </a:rPr>
              <a:t>Arbi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d60093"/>
                </a:solidFill>
                <a:latin typeface="BankGothic Md BT"/>
              </a:rPr>
              <a:t>Y Plen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47EE-2474-472F-8023-8738F56E676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744560" y="2617560"/>
            <a:ext cx="6097320" cy="9745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Convenio Multilateral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7440" y="1108080"/>
            <a:ext cx="780984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Organismos de aplicación 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C:\Documents and Settings\FacundoV\Mis documentos\Mis imágenes\ancla salvavidas.jpg"/>
          <p:cNvPicPr/>
          <p:nvPr/>
        </p:nvPicPr>
        <p:blipFill>
          <a:blip r:embed="rId1"/>
          <a:stretch/>
        </p:blipFill>
        <p:spPr>
          <a:xfrm>
            <a:off x="5364000" y="4292640"/>
            <a:ext cx="2067120" cy="2209680"/>
          </a:xfrm>
          <a:prstGeom prst="rect">
            <a:avLst/>
          </a:prstGeom>
          <a:ln w="0">
            <a:noFill/>
          </a:ln>
        </p:spPr>
      </p:pic>
      <p:sp>
        <p:nvSpPr>
          <p:cNvPr id="471" name="11 Elipse"/>
          <p:cNvSpPr/>
          <p:nvPr/>
        </p:nvSpPr>
        <p:spPr>
          <a:xfrm>
            <a:off x="1187280" y="4076640"/>
            <a:ext cx="4321440" cy="129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¿Me salvan  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 hund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F5E-AA13-425F-BCDE-760500F1425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83560" y="3077640"/>
            <a:ext cx="6761880" cy="14943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EL Convenio Multilateral: </a:t>
            </a: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¿ Sirve para alg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477" name="Oval 7"/>
          <p:cNvSpPr/>
          <p:nvPr/>
        </p:nvSpPr>
        <p:spPr>
          <a:xfrm>
            <a:off x="7956720" y="155736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402-95FF-4A11-B37B-F8CEA6EFCB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Evita los conflict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Genera certeza a la hora de distribui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inimiza las superposicion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Garantiza el derecho de defensa de los contribuyentes y de los fisc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Favorece al contribuyente cumplid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Asegura un mecanismo de compensación verdaderamente operativ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        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EL Convenio Multilateral: </a:t>
            </a:r>
            <a:br>
              <a:rPr sz="3400"/>
            </a:b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¿ Sirve para algo?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25A-7AEA-4603-AAC0-8B376DDC760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8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08200" y="2544480"/>
            <a:ext cx="4801680" cy="9759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ff"/>
                </a:solidFill>
                <a:latin typeface="Impact"/>
              </a:rPr>
              <a:t>Presentación del tema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20100505134402-camara-cine"/>
          <p:cNvPicPr/>
          <p:nvPr/>
        </p:nvPicPr>
        <p:blipFill>
          <a:blip r:embed="rId2"/>
          <a:stretch/>
        </p:blipFill>
        <p:spPr>
          <a:xfrm>
            <a:off x="468360" y="400536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laqueta20cine"/>
          <p:cNvPicPr/>
          <p:nvPr/>
        </p:nvPicPr>
        <p:blipFill>
          <a:blip r:embed="rId3"/>
          <a:stretch/>
        </p:blipFill>
        <p:spPr>
          <a:xfrm>
            <a:off x="6659640" y="3645000"/>
            <a:ext cx="2085840" cy="1873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1"/>
          <p:cNvSpPr/>
          <p:nvPr/>
        </p:nvSpPr>
        <p:spPr>
          <a:xfrm>
            <a:off x="2916360" y="5516640"/>
            <a:ext cx="403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Impact"/>
              </a:rPr>
              <a:t>en imágene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4 Marcador de número de diapositiva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9381-E91B-4CB3-BB76-138E2412BBB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3348000" y="5373720"/>
            <a:ext cx="1295280" cy="571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SIRP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5796000" y="2349360"/>
            <a:ext cx="2448000" cy="8654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AGENTE DE RETEN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INTERPROVIN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2987640" y="1916280"/>
            <a:ext cx="1638360" cy="571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AUT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EN CA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5940360" y="3500280"/>
            <a:ext cx="1728720" cy="57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ARBA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250920" y="4797360"/>
            <a:ext cx="1944720" cy="57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MUNICIPA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5076720" y="4797360"/>
            <a:ext cx="1944720" cy="57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FINDE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MAR DEL PL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1908000" y="3357720"/>
            <a:ext cx="990720" cy="571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SIRCR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39640" y="2349360"/>
            <a:ext cx="2735280" cy="787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SUJETO RETEN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MULTILATERALM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619280" y="5589720"/>
            <a:ext cx="1297080" cy="7207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CASITA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33"/>
                </a:solidFill>
                <a:latin typeface="Arial"/>
              </a:rPr>
              <a:t>QUIL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1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584000" cy="1152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"/>
          <p:cNvPicPr/>
          <p:nvPr/>
        </p:nvPicPr>
        <p:blipFill>
          <a:blip r:embed="rId2"/>
          <a:stretch/>
        </p:blipFill>
        <p:spPr>
          <a:xfrm>
            <a:off x="7604280" y="1700280"/>
            <a:ext cx="1539720" cy="730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5" descr="gobrentaspruebaga"/>
          <p:cNvPicPr/>
          <p:nvPr/>
        </p:nvPicPr>
        <p:blipFill>
          <a:blip r:embed="rId3"/>
          <a:stretch/>
        </p:blipFill>
        <p:spPr>
          <a:xfrm>
            <a:off x="468360" y="3068640"/>
            <a:ext cx="1535040" cy="936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6" descr="dgr"/>
          <p:cNvPicPr/>
          <p:nvPr/>
        </p:nvPicPr>
        <p:blipFill>
          <a:blip r:embed="rId4"/>
          <a:stretch/>
        </p:blipFill>
        <p:spPr>
          <a:xfrm>
            <a:off x="5508720" y="1341360"/>
            <a:ext cx="1923840" cy="1079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7" descr="Logo_Afip"/>
          <p:cNvPicPr/>
          <p:nvPr/>
        </p:nvPicPr>
        <p:blipFill>
          <a:blip r:embed="rId5"/>
          <a:stretch/>
        </p:blipFill>
        <p:spPr>
          <a:xfrm>
            <a:off x="7020000" y="5445000"/>
            <a:ext cx="1263600" cy="514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8" descr="logo%20municipalidad"/>
          <p:cNvPicPr/>
          <p:nvPr/>
        </p:nvPicPr>
        <p:blipFill>
          <a:blip r:embed="rId6"/>
          <a:stretch/>
        </p:blipFill>
        <p:spPr>
          <a:xfrm>
            <a:off x="7327800" y="4653000"/>
            <a:ext cx="1816200" cy="447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9" descr="j0212957"/>
          <p:cNvPicPr/>
          <p:nvPr/>
        </p:nvPicPr>
        <p:blipFill>
          <a:blip r:embed="rId7"/>
          <a:stretch/>
        </p:blipFill>
        <p:spPr>
          <a:xfrm>
            <a:off x="2916360" y="1341360"/>
            <a:ext cx="1830240" cy="576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0" descr="j0185604"/>
          <p:cNvPicPr/>
          <p:nvPr/>
        </p:nvPicPr>
        <p:blipFill>
          <a:blip r:embed="rId8"/>
          <a:stretch/>
        </p:blipFill>
        <p:spPr>
          <a:xfrm>
            <a:off x="324000" y="5300640"/>
            <a:ext cx="1353960" cy="1152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1" descr="j0149627"/>
          <p:cNvPicPr/>
          <p:nvPr/>
        </p:nvPicPr>
        <p:blipFill>
          <a:blip r:embed="rId9">
            <a:grayscl/>
            <a:lum bright="70000"/>
          </a:blip>
          <a:stretch/>
        </p:blipFill>
        <p:spPr>
          <a:xfrm>
            <a:off x="7524720" y="3860640"/>
            <a:ext cx="1368360" cy="792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2" descr="j0212219"/>
          <p:cNvPicPr/>
          <p:nvPr/>
        </p:nvPicPr>
        <p:blipFill>
          <a:blip r:embed="rId10">
            <a:grayscl/>
            <a:lum bright="40000"/>
          </a:blip>
          <a:stretch/>
        </p:blipFill>
        <p:spPr>
          <a:xfrm>
            <a:off x="5364000" y="5300640"/>
            <a:ext cx="1314720" cy="11527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3" descr="Ver imagen en tamaño completo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11280" y="4581360"/>
            <a:ext cx="1800360" cy="8636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24"/>
          <p:cNvSpPr/>
          <p:nvPr/>
        </p:nvSpPr>
        <p:spPr>
          <a:xfrm>
            <a:off x="2484360" y="0"/>
            <a:ext cx="5280120" cy="118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cc"/>
                </a:solidFill>
                <a:latin typeface="Century Gothic"/>
              </a:rPr>
              <a:t>Unicidad del Contribuyente</a:t>
            </a: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35" descr="ANd9GcTX7BC3-mlDop2wq_ze2BQar4Zt9EXDrHIvRGpZ1b90mdAsd26KPL9ItJ8"/>
          <p:cNvPicPr/>
          <p:nvPr/>
        </p:nvPicPr>
        <p:blipFill>
          <a:blip r:embed="rId13"/>
          <a:stretch/>
        </p:blipFill>
        <p:spPr>
          <a:xfrm>
            <a:off x="3780000" y="2924280"/>
            <a:ext cx="2016000" cy="14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242040" cy="86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6697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nclusión Prelimina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7" name="Picture 4" descr="E:\47 Jornadas FINANZAS PUBLICAS\pelicula (1).jpg"/>
          <p:cNvPicPr/>
          <p:nvPr/>
        </p:nvPicPr>
        <p:blipFill>
          <a:blip r:embed="rId1"/>
          <a:stretch/>
        </p:blipFill>
        <p:spPr>
          <a:xfrm>
            <a:off x="900000" y="2708280"/>
            <a:ext cx="7775640" cy="3429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6"/>
          <p:cNvSpPr/>
          <p:nvPr/>
        </p:nvSpPr>
        <p:spPr>
          <a:xfrm>
            <a:off x="1619280" y="1413000"/>
            <a:ext cx="5832360" cy="11300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l Convenio Multilate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 puede interpretarse como una fo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 UNA PELICULA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44A-8990-4C73-8AEB-50BB7E247EB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C:\Documents and Settings\FacundoV\Mis documentos\Mis imágenes\orador.jpg"/>
          <p:cNvPicPr/>
          <p:nvPr/>
        </p:nvPicPr>
        <p:blipFill>
          <a:blip r:embed="rId1"/>
          <a:stretch/>
        </p:blipFill>
        <p:spPr>
          <a:xfrm>
            <a:off x="3059280" y="2133720"/>
            <a:ext cx="3047760" cy="30384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Con ustedes : los expositores 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Ya estamos llegando 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802-9C69-44A4-A09D-26CF3907D22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C:\Users\User\Pictures\28532943-ilustracion-del-vector-del-hombre-de-negocios-subir-escaleras.jpg"/>
          <p:cNvPicPr/>
          <p:nvPr/>
        </p:nvPicPr>
        <p:blipFill>
          <a:blip r:embed="rId1"/>
          <a:stretch/>
        </p:blipFill>
        <p:spPr>
          <a:xfrm>
            <a:off x="2556000" y="2060640"/>
            <a:ext cx="3168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bien en cuestiones inherentes al Convenio Multilateral se decide por may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muy importante aspirar a lograr  consen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senso se basa en el diá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fomenta la capacidad de cooperación, aunque la situación sea conflictiv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n ser una solución perfecta , porque la perfección no exis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consenso puede ser la mejor de las soluc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1420-0ACD-4DDD-B27B-0116A26EF3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05440" y="322920"/>
            <a:ext cx="8133120" cy="897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        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Reflexionando ….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n ser una solución perfec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orque la perfección no exis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consenso puede ser la mejor de las solu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33B-8C9E-4370-B899-97BFC8D741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05440" y="322920"/>
            <a:ext cx="8133120" cy="897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          </a:t>
            </a: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Reflexionando ….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1" name="6 Rectángulo"/>
          <p:cNvSpPr/>
          <p:nvPr/>
        </p:nvSpPr>
        <p:spPr>
          <a:xfrm>
            <a:off x="2484360" y="4005360"/>
            <a:ext cx="3743280" cy="2087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C:\Documents and Settings\FacundoV\Mis documentos\Mis imágenes\consenso.jpg"/>
          <p:cNvPicPr/>
          <p:nvPr/>
        </p:nvPicPr>
        <p:blipFill>
          <a:blip r:embed="rId1"/>
          <a:stretch/>
        </p:blipFill>
        <p:spPr>
          <a:xfrm>
            <a:off x="3203640" y="4076640"/>
            <a:ext cx="2286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meta+final"/>
          <p:cNvPicPr/>
          <p:nvPr/>
        </p:nvPicPr>
        <p:blipFill>
          <a:blip r:embed="rId1"/>
          <a:stretch/>
        </p:blipFill>
        <p:spPr>
          <a:xfrm>
            <a:off x="2195640" y="1844640"/>
            <a:ext cx="4824360" cy="3816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racing-le-mans"/>
          <p:cNvPicPr/>
          <p:nvPr/>
        </p:nvPicPr>
        <p:blipFill>
          <a:blip r:embed="rId2"/>
          <a:stretch/>
        </p:blipFill>
        <p:spPr>
          <a:xfrm>
            <a:off x="0" y="0"/>
            <a:ext cx="2735280" cy="2637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gracias"/>
          <p:cNvPicPr/>
          <p:nvPr/>
        </p:nvPicPr>
        <p:blipFill>
          <a:blip r:embed="rId3"/>
          <a:stretch/>
        </p:blipFill>
        <p:spPr>
          <a:xfrm>
            <a:off x="6516720" y="5157720"/>
            <a:ext cx="262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9E8-9A32-48B3-9B8C-2B6366B5EC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66"/>
                </a:solidFill>
                <a:latin typeface="Impact"/>
              </a:rPr>
              <a:t>AGEND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Picture 6" descr="ANd9GcTOcJeSUVufb2i0BpGkKXEmqB145Lkxsn6zoaziaO9LwKUQsITH"/>
          <p:cNvPicPr/>
          <p:nvPr/>
        </p:nvPicPr>
        <p:blipFill>
          <a:blip r:embed="rId1"/>
          <a:stretch/>
        </p:blipFill>
        <p:spPr>
          <a:xfrm>
            <a:off x="6124680" y="189000"/>
            <a:ext cx="3019320" cy="122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752560" y="3552480"/>
            <a:ext cx="5810040" cy="97596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Rosas y espinas del Federalismo Fis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FacundoV\Mis documentos\Mis imágenes\rosa.jpg"/>
          <p:cNvPicPr/>
          <p:nvPr/>
        </p:nvPicPr>
        <p:blipFill>
          <a:blip r:embed="rId2"/>
          <a:stretch/>
        </p:blipFill>
        <p:spPr>
          <a:xfrm>
            <a:off x="971640" y="234936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8229600" y="126828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126-3F47-4B04-AEB2-2F081C49F59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3 Provi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Ciudad Autónoma de Buenos Aires CA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200 Municip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0" descr="mapa-argentina"/>
          <p:cNvPicPr/>
          <p:nvPr/>
        </p:nvPicPr>
        <p:blipFill>
          <a:blip r:embed="rId1"/>
          <a:stretch/>
        </p:blipFill>
        <p:spPr>
          <a:xfrm>
            <a:off x="971640" y="1341360"/>
            <a:ext cx="2786040" cy="511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96800" y="314280"/>
            <a:ext cx="8143560" cy="76968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LA ARGENTINA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E81-9BC0-4004-B9D2-F8CC104218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1483920"/>
            <a:ext cx="822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orma de gobi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tiva republicana fed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conoce tres niveles de gobiern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vi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unicip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400" y="317520"/>
            <a:ext cx="8136360" cy="834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Constitución Nacional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682-CB8C-458A-96E5-47A90DBAC18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5400" y="1483920"/>
            <a:ext cx="822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CN regula sólo dos nive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ación y Provi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testades tributarias origina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N art. 75 inc. 1 y 2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nicip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testades tributarias deriv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400" y="317520"/>
            <a:ext cx="8136360" cy="834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Constitución Nacional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5760" y="1598760"/>
          <a:ext cx="8226360" cy="4497120"/>
        </p:xfrm>
        <a:graphic>
          <a:graphicData uri="http://schemas.openxmlformats.org/drawingml/2006/table">
            <a:tbl>
              <a:tblPr/>
              <a:tblGrid>
                <a:gridCol w="2741400"/>
                <a:gridCol w="2743200"/>
                <a:gridCol w="2741760"/>
              </a:tblGrid>
              <a:tr h="7340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lases de Recursos Tributar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acultad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Gobierno Fed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rovinc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mercio Exteri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clusiva y Excluy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hibi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ibuciones Direc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cepcionalm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ularm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ibuciones Indirec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ularm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ularm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N 1994: Facultad Concurr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 txBox="1"/>
          <p:nvPr/>
        </p:nvSpPr>
        <p:spPr>
          <a:xfrm>
            <a:off x="500400" y="317520"/>
            <a:ext cx="8136360" cy="834120"/>
          </a:xfrm>
          <a:prstGeom prst="rect">
            <a:avLst/>
          </a:prstGeom>
          <a:gradFill rotWithShape="0">
            <a:gsLst>
              <a:gs pos="0">
                <a:srgbClr val="7676ff"/>
              </a:gs>
              <a:gs pos="50000">
                <a:srgbClr val="0000ff"/>
              </a:gs>
              <a:gs pos="100000">
                <a:srgbClr val="7676ff"/>
              </a:gs>
            </a:gsLst>
            <a:lin ang="5400000"/>
          </a:gradFill>
          <a:ln cap="rnd" w="12600">
            <a:solidFill>
              <a:srgbClr val="ffff66"/>
            </a:solidFill>
            <a:custDash>
              <a:ds d="100000" sp="1000"/>
            </a:custDash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66"/>
                </a:solidFill>
                <a:latin typeface="Impact"/>
              </a:rPr>
              <a:t>Potestades tributarias constitucionales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B5F-1DCA-4A3D-9865-E79EB510B3D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161-57DC-4F10-B1DD-108A595DD8F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743200" y="12952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486400" y="1600200"/>
            <a:ext cx="0" cy="22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5486400" y="3886200"/>
            <a:ext cx="42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1195560" y="6172200"/>
            <a:ext cx="141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914400" y="6019920"/>
            <a:ext cx="2811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382680" y="214200"/>
            <a:ext cx="83264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berinto de la Coparticipación </a:t>
            </a:r>
            <a:endParaRPr b="0" lang="en-US" sz="20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371600" y="114300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7900920" y="4405320"/>
            <a:ext cx="1195560" cy="145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8512200" y="4157640"/>
            <a:ext cx="0" cy="2286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1450800" y="6130800"/>
            <a:ext cx="614520" cy="2523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0000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66ccff"/>
                </a:solidFill>
                <a:latin typeface="Arial Narrow"/>
              </a:rPr>
              <a:t>I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914400" y="6207120"/>
            <a:ext cx="2811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V="1">
            <a:off x="8077320" y="114300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2475000" y="45720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8588520" y="1414440"/>
            <a:ext cx="0" cy="304920"/>
          </a:xfrm>
          <a:prstGeom prst="line">
            <a:avLst/>
          </a:prstGeom>
          <a:ln w="28440">
            <a:solidFill>
              <a:srgbClr val="66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2573280" y="2577960"/>
            <a:ext cx="0" cy="609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1201680" y="1143000"/>
            <a:ext cx="0" cy="1447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054080" y="106668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620640" y="2286000"/>
            <a:ext cx="0" cy="137160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838840" y="3867120"/>
            <a:ext cx="1494000" cy="38088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50000">
                <a:srgbClr val="ffffff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Book Antiqua"/>
              </a:rPr>
              <a:t>Previsión 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Book Antiqua"/>
              </a:rPr>
              <a:t>Provincial y Municip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4181400" y="3657600"/>
            <a:ext cx="0" cy="29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606600" y="3657600"/>
            <a:ext cx="3587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210600" y="927000"/>
            <a:ext cx="1400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10960" y="914400"/>
            <a:ext cx="0" cy="3124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200160" y="4049280"/>
            <a:ext cx="131112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1523880" y="403848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1515960" y="4782960"/>
            <a:ext cx="4023000" cy="5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9840" y="2971800"/>
            <a:ext cx="28116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5486400" y="3886200"/>
            <a:ext cx="141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32"/>
          <p:cNvSpPr/>
          <p:nvPr/>
        </p:nvSpPr>
        <p:spPr>
          <a:xfrm>
            <a:off x="4924440" y="2209680"/>
            <a:ext cx="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339840" y="739800"/>
            <a:ext cx="1125360" cy="4572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Gan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4"/>
          <p:cNvSpPr/>
          <p:nvPr/>
        </p:nvSpPr>
        <p:spPr>
          <a:xfrm>
            <a:off x="7902720" y="739800"/>
            <a:ext cx="1125360" cy="4572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Bi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7902720" y="2438280"/>
            <a:ext cx="1125360" cy="4572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Monotrib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36"/>
          <p:cNvSpPr/>
          <p:nvPr/>
        </p:nvSpPr>
        <p:spPr>
          <a:xfrm>
            <a:off x="7902720" y="3043080"/>
            <a:ext cx="1125360" cy="4572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Contrib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Patr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8089920" y="5943600"/>
            <a:ext cx="844560" cy="45720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Ener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Eléc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38"/>
          <p:cNvSpPr/>
          <p:nvPr/>
        </p:nvSpPr>
        <p:spPr>
          <a:xfrm>
            <a:off x="216000" y="4699080"/>
            <a:ext cx="844560" cy="4572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Inter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Segu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9"/>
          <p:cNvSpPr/>
          <p:nvPr/>
        </p:nvSpPr>
        <p:spPr>
          <a:xfrm>
            <a:off x="216000" y="5232240"/>
            <a:ext cx="844560" cy="45720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Cigarril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216000" y="5791320"/>
            <a:ext cx="844560" cy="45720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T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Estadí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7932600" y="4419720"/>
            <a:ext cx="1125720" cy="45720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Combust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3456000" y="5562720"/>
            <a:ext cx="561960" cy="380880"/>
          </a:xfrm>
          <a:custGeom>
            <a:avLst/>
            <a:gdLst>
              <a:gd name="textAreaLeft" fmla="*/ 44640 w 561960"/>
              <a:gd name="textAreaRight" fmla="*/ 517320 w 561960"/>
              <a:gd name="textAreaTop" fmla="*/ 44640 h 380880"/>
              <a:gd name="textAreaBottom" fmla="*/ 336240 h 380880"/>
            </a:gdLst>
            <a:ahLst/>
            <a:rect l="textAreaLeft" t="textAreaTop" r="textAreaRight" b="textAreaBottom"/>
            <a:pathLst>
              <a:path w="318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259" y="21600"/>
                </a:lnTo>
                <a:arcTo wR="3600" hR="3600" stAng="10800000" swAng="5400000"/>
                <a:lnTo>
                  <a:pt x="3185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Via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3"/>
          <p:cNvSpPr/>
          <p:nvPr/>
        </p:nvSpPr>
        <p:spPr>
          <a:xfrm>
            <a:off x="4308480" y="5524560"/>
            <a:ext cx="773280" cy="457200"/>
          </a:xfrm>
          <a:custGeom>
            <a:avLst/>
            <a:gdLst>
              <a:gd name="textAreaLeft" fmla="*/ 53640 w 773280"/>
              <a:gd name="textAreaRight" fmla="*/ 719640 w 77328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365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2921" y="21600"/>
                </a:lnTo>
                <a:arcTo wR="3600" hR="3600" stAng="10800000" swAng="5400000"/>
                <a:lnTo>
                  <a:pt x="3652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Infrae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Eléctr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4"/>
          <p:cNvSpPr/>
          <p:nvPr/>
        </p:nvSpPr>
        <p:spPr>
          <a:xfrm>
            <a:off x="6261120" y="5524560"/>
            <a:ext cx="984240" cy="457200"/>
          </a:xfrm>
          <a:custGeom>
            <a:avLst/>
            <a:gdLst>
              <a:gd name="textAreaLeft" fmla="*/ 53640 w 984240"/>
              <a:gd name="textAreaRight" fmla="*/ 930600 w 98424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464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880" y="21600"/>
                </a:lnTo>
                <a:arcTo wR="3600" hR="3600" stAng="10800000" swAng="5400000"/>
                <a:lnTo>
                  <a:pt x="46480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Fondo Subsidi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de Compens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355680" y="2228760"/>
            <a:ext cx="531720" cy="214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Times New Roman"/>
              </a:rPr>
              <a:t>$M 440/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6"/>
          <p:cNvSpPr/>
          <p:nvPr/>
        </p:nvSpPr>
        <p:spPr>
          <a:xfrm>
            <a:off x="355680" y="1133640"/>
            <a:ext cx="633240" cy="380880"/>
          </a:xfrm>
          <a:prstGeom prst="flowChartDocumen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Detracció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$M</a:t>
            </a:r>
            <a:r>
              <a:rPr b="0" lang="es-A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580/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7"/>
          <p:cNvSpPr/>
          <p:nvPr/>
        </p:nvSpPr>
        <p:spPr>
          <a:xfrm>
            <a:off x="2532240" y="5562720"/>
            <a:ext cx="561960" cy="380880"/>
          </a:xfrm>
          <a:custGeom>
            <a:avLst/>
            <a:gdLst>
              <a:gd name="textAreaLeft" fmla="*/ 44640 w 561960"/>
              <a:gd name="textAreaRight" fmla="*/ 517320 w 561960"/>
              <a:gd name="textAreaTop" fmla="*/ 44640 h 380880"/>
              <a:gd name="textAreaBottom" fmla="*/ 336240 h 380880"/>
            </a:gdLst>
            <a:ahLst/>
            <a:rect l="textAreaLeft" t="textAreaTop" r="textAreaRight" b="textAreaBottom"/>
            <a:pathLst>
              <a:path w="318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259" y="21600"/>
                </a:lnTo>
                <a:arcTo wR="3600" hR="3600" stAng="10800000" swAng="5400000"/>
                <a:lnTo>
                  <a:pt x="3185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FONA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>
            <a:off x="5346720" y="5562720"/>
            <a:ext cx="561960" cy="380880"/>
          </a:xfrm>
          <a:custGeom>
            <a:avLst/>
            <a:gdLst>
              <a:gd name="textAreaLeft" fmla="*/ 44640 w 561960"/>
              <a:gd name="textAreaRight" fmla="*/ 517320 w 561960"/>
              <a:gd name="textAreaTop" fmla="*/ 44640 h 380880"/>
              <a:gd name="textAreaBottom" fmla="*/ 336240 h 380880"/>
            </a:gdLst>
            <a:ahLst/>
            <a:rect l="textAreaLeft" t="textAreaTop" r="textAreaRight" b="textAreaBottom"/>
            <a:pathLst>
              <a:path w="318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259" y="21600"/>
                </a:lnTo>
                <a:arcTo wR="3600" hR="3600" stAng="10800000" swAng="5400000"/>
                <a:lnTo>
                  <a:pt x="3185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Arial Narrow"/>
              </a:rPr>
              <a:t>FED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355680" y="1728720"/>
            <a:ext cx="531720" cy="214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Times New Roman"/>
              </a:rPr>
              <a:t>$M 120/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 flipH="1">
            <a:off x="210600" y="1835280"/>
            <a:ext cx="140040" cy="0"/>
          </a:xfrm>
          <a:prstGeom prst="line">
            <a:avLst/>
          </a:prstGeom>
          <a:ln w="28440">
            <a:solidFill>
              <a:srgbClr val="66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939960" y="1547640"/>
            <a:ext cx="2156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2"/>
          <p:cNvSpPr/>
          <p:nvPr/>
        </p:nvSpPr>
        <p:spPr>
          <a:xfrm>
            <a:off x="1374840" y="2362320"/>
            <a:ext cx="984240" cy="457200"/>
          </a:xfrm>
          <a:custGeom>
            <a:avLst/>
            <a:gdLst>
              <a:gd name="textAreaLeft" fmla="*/ 53640 w 984240"/>
              <a:gd name="textAreaRight" fmla="*/ 930600 w 98424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464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880" y="21600"/>
                </a:lnTo>
                <a:arcTo wR="3600" hR="3600" stAng="10800000" swAng="5400000"/>
                <a:lnTo>
                  <a:pt x="4648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339966"/>
                </a:solidFill>
                <a:latin typeface="Arial Narrow"/>
              </a:rPr>
              <a:t>Provincias s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339966"/>
                </a:solidFill>
                <a:latin typeface="Arial Narrow"/>
              </a:rPr>
              <a:t>Buenos A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1089000" y="1849320"/>
            <a:ext cx="21600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2426760" y="2590920"/>
            <a:ext cx="141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5"/>
          <p:cNvSpPr/>
          <p:nvPr/>
        </p:nvSpPr>
        <p:spPr>
          <a:xfrm>
            <a:off x="1951200" y="3022560"/>
            <a:ext cx="985680" cy="457200"/>
          </a:xfrm>
          <a:custGeom>
            <a:avLst/>
            <a:gdLst>
              <a:gd name="textAreaLeft" fmla="*/ 53640 w 985680"/>
              <a:gd name="textAreaRight" fmla="*/ 932040 w 98568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465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948" y="21600"/>
                </a:lnTo>
                <a:arcTo wR="3600" hR="3600" stAng="10800000" swAng="5400000"/>
                <a:lnTo>
                  <a:pt x="4654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339966"/>
                </a:solidFill>
                <a:latin typeface="Arial Narrow"/>
              </a:rPr>
              <a:t>Exced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339966"/>
                </a:solidFill>
                <a:latin typeface="Arial Narrow"/>
              </a:rPr>
              <a:t>Fondo Conurba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>
            <a:off x="1189080" y="2590920"/>
            <a:ext cx="141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>
            <a:off x="1722600" y="3263760"/>
            <a:ext cx="282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58"/>
          <p:cNvGrpSpPr/>
          <p:nvPr/>
        </p:nvGrpSpPr>
        <p:grpSpPr>
          <a:xfrm>
            <a:off x="703440" y="2895480"/>
            <a:ext cx="1045800" cy="582840"/>
            <a:chOff x="703440" y="2895480"/>
            <a:chExt cx="1045800" cy="582840"/>
          </a:xfrm>
        </p:grpSpPr>
        <p:sp>
          <p:nvSpPr>
            <p:cNvPr id="178" name="AutoShape 59"/>
            <p:cNvSpPr/>
            <p:nvPr/>
          </p:nvSpPr>
          <p:spPr>
            <a:xfrm>
              <a:off x="764640" y="3021120"/>
              <a:ext cx="984600" cy="457200"/>
            </a:xfrm>
            <a:custGeom>
              <a:avLst/>
              <a:gdLst>
                <a:gd name="textAreaLeft" fmla="*/ 53640 w 984600"/>
                <a:gd name="textAreaRight" fmla="*/ 930960 w 98460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4649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42897" y="21600"/>
                  </a:lnTo>
                  <a:arcTo wR="3600" hR="3600" stAng="10800000" swAng="5400000"/>
                  <a:lnTo>
                    <a:pt x="46497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99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339966"/>
                  </a:solidFill>
                  <a:latin typeface="Arial Narrow"/>
                </a:rPr>
                <a:t>Prov. Buenos Ai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339966"/>
                  </a:solidFill>
                  <a:latin typeface="Arial Narrow"/>
                </a:rPr>
                <a:t>Fondo Conurba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60"/>
            <p:cNvSpPr/>
            <p:nvPr/>
          </p:nvSpPr>
          <p:spPr>
            <a:xfrm>
              <a:off x="703440" y="2895480"/>
              <a:ext cx="531720" cy="352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Has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$M 650/añ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Rectangle 61"/>
          <p:cNvSpPr/>
          <p:nvPr/>
        </p:nvSpPr>
        <p:spPr>
          <a:xfrm>
            <a:off x="355680" y="1976400"/>
            <a:ext cx="531720" cy="2142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Times New Roman"/>
              </a:rPr>
              <a:t>$M 20/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>
            <a:off x="1357200" y="1905120"/>
            <a:ext cx="1478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3"/>
          <p:cNvSpPr/>
          <p:nvPr/>
        </p:nvSpPr>
        <p:spPr>
          <a:xfrm>
            <a:off x="1827360" y="1844640"/>
            <a:ext cx="28080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6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2813040" y="2019240"/>
            <a:ext cx="985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5"/>
          <p:cNvSpPr/>
          <p:nvPr/>
        </p:nvSpPr>
        <p:spPr>
          <a:xfrm>
            <a:off x="3419640" y="1957320"/>
            <a:ext cx="2109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64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6"/>
          <p:cNvSpPr/>
          <p:nvPr/>
        </p:nvSpPr>
        <p:spPr>
          <a:xfrm>
            <a:off x="1684440" y="990720"/>
            <a:ext cx="0" cy="685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67"/>
          <p:cNvSpPr/>
          <p:nvPr/>
        </p:nvSpPr>
        <p:spPr>
          <a:xfrm flipV="1">
            <a:off x="1676520" y="1663560"/>
            <a:ext cx="1492200" cy="129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8"/>
          <p:cNvSpPr/>
          <p:nvPr/>
        </p:nvSpPr>
        <p:spPr>
          <a:xfrm>
            <a:off x="3165480" y="1676520"/>
            <a:ext cx="0" cy="32763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9"/>
          <p:cNvSpPr/>
          <p:nvPr/>
        </p:nvSpPr>
        <p:spPr>
          <a:xfrm>
            <a:off x="3165480" y="4995720"/>
            <a:ext cx="3024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0"/>
          <p:cNvSpPr/>
          <p:nvPr/>
        </p:nvSpPr>
        <p:spPr>
          <a:xfrm flipV="1">
            <a:off x="6181560" y="4829040"/>
            <a:ext cx="0" cy="152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1"/>
          <p:cNvSpPr/>
          <p:nvPr/>
        </p:nvSpPr>
        <p:spPr>
          <a:xfrm>
            <a:off x="1828800" y="1609560"/>
            <a:ext cx="2109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2"/>
          <p:cNvSpPr/>
          <p:nvPr/>
        </p:nvSpPr>
        <p:spPr>
          <a:xfrm>
            <a:off x="1922400" y="1143000"/>
            <a:ext cx="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1911240" y="1447920"/>
            <a:ext cx="2079720" cy="468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4"/>
          <p:cNvSpPr/>
          <p:nvPr/>
        </p:nvSpPr>
        <p:spPr>
          <a:xfrm>
            <a:off x="4000680" y="1447920"/>
            <a:ext cx="0" cy="380880"/>
          </a:xfrm>
          <a:prstGeom prst="line">
            <a:avLst/>
          </a:prstGeom>
          <a:ln w="28440">
            <a:solidFill>
              <a:srgbClr val="33cc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75"/>
          <p:cNvSpPr/>
          <p:nvPr/>
        </p:nvSpPr>
        <p:spPr>
          <a:xfrm>
            <a:off x="1530360" y="739800"/>
            <a:ext cx="631800" cy="45720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6"/>
          <p:cNvSpPr/>
          <p:nvPr/>
        </p:nvSpPr>
        <p:spPr>
          <a:xfrm>
            <a:off x="2039760" y="1386000"/>
            <a:ext cx="21132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8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77"/>
          <p:cNvSpPr/>
          <p:nvPr/>
        </p:nvSpPr>
        <p:spPr>
          <a:xfrm>
            <a:off x="3294000" y="1282680"/>
            <a:ext cx="11160" cy="28954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8"/>
          <p:cNvSpPr/>
          <p:nvPr/>
        </p:nvSpPr>
        <p:spPr>
          <a:xfrm flipH="1">
            <a:off x="2962440" y="4178160"/>
            <a:ext cx="357120" cy="0"/>
          </a:xfrm>
          <a:prstGeom prst="line">
            <a:avLst/>
          </a:prstGeom>
          <a:ln w="28440">
            <a:solidFill>
              <a:srgbClr val="cc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9"/>
          <p:cNvSpPr/>
          <p:nvPr/>
        </p:nvSpPr>
        <p:spPr>
          <a:xfrm>
            <a:off x="3530520" y="1282680"/>
            <a:ext cx="0" cy="54612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80"/>
          <p:cNvSpPr/>
          <p:nvPr/>
        </p:nvSpPr>
        <p:spPr>
          <a:xfrm>
            <a:off x="2228760" y="739800"/>
            <a:ext cx="1195560" cy="45720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Cuenta Corr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Banc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81"/>
          <p:cNvSpPr/>
          <p:nvPr/>
        </p:nvSpPr>
        <p:spPr>
          <a:xfrm>
            <a:off x="3424320" y="1511280"/>
            <a:ext cx="2109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2"/>
          <p:cNvSpPr/>
          <p:nvPr/>
        </p:nvSpPr>
        <p:spPr>
          <a:xfrm>
            <a:off x="3195720" y="1646280"/>
            <a:ext cx="2109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7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3"/>
          <p:cNvSpPr/>
          <p:nvPr/>
        </p:nvSpPr>
        <p:spPr>
          <a:xfrm>
            <a:off x="3516480" y="1828800"/>
            <a:ext cx="352080" cy="0"/>
          </a:xfrm>
          <a:prstGeom prst="line">
            <a:avLst/>
          </a:prstGeom>
          <a:ln w="28440">
            <a:solidFill>
              <a:srgbClr val="cc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4"/>
          <p:cNvSpPr/>
          <p:nvPr/>
        </p:nvSpPr>
        <p:spPr>
          <a:xfrm>
            <a:off x="8271000" y="1219320"/>
            <a:ext cx="633240" cy="380880"/>
          </a:xfrm>
          <a:prstGeom prst="flowChartDocumen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Detracció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$250.000/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5"/>
          <p:cNvSpPr/>
          <p:nvPr/>
        </p:nvSpPr>
        <p:spPr>
          <a:xfrm>
            <a:off x="8207280" y="1752480"/>
            <a:ext cx="762120" cy="219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0000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200" spc="-1" strike="noStrike">
                <a:solidFill>
                  <a:srgbClr val="66ccff"/>
                </a:solidFill>
                <a:latin typeface="Arial Narrow"/>
              </a:rPr>
              <a:t>INCUCA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6"/>
          <p:cNvSpPr/>
          <p:nvPr/>
        </p:nvSpPr>
        <p:spPr>
          <a:xfrm>
            <a:off x="7804080" y="205740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87"/>
          <p:cNvSpPr/>
          <p:nvPr/>
        </p:nvSpPr>
        <p:spPr>
          <a:xfrm flipH="1">
            <a:off x="2462040" y="5086440"/>
            <a:ext cx="53467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88"/>
          <p:cNvSpPr/>
          <p:nvPr/>
        </p:nvSpPr>
        <p:spPr>
          <a:xfrm flipV="1">
            <a:off x="4290840" y="4648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89"/>
          <p:cNvSpPr/>
          <p:nvPr/>
        </p:nvSpPr>
        <p:spPr>
          <a:xfrm flipH="1">
            <a:off x="6261120" y="3225960"/>
            <a:ext cx="914400" cy="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0"/>
          <p:cNvSpPr/>
          <p:nvPr/>
        </p:nvSpPr>
        <p:spPr>
          <a:xfrm>
            <a:off x="6607080" y="3151080"/>
            <a:ext cx="285840" cy="29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imes New Roman"/>
              </a:rPr>
              <a:t>1% de 93,73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1"/>
          <p:cNvSpPr/>
          <p:nvPr/>
        </p:nvSpPr>
        <p:spPr>
          <a:xfrm>
            <a:off x="2293920" y="4826160"/>
            <a:ext cx="355680" cy="29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imes New Roman"/>
              </a:rPr>
              <a:t>41,64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imes New Roman"/>
              </a:rPr>
              <a:t>de 93,73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92"/>
          <p:cNvSpPr/>
          <p:nvPr/>
        </p:nvSpPr>
        <p:spPr>
          <a:xfrm flipH="1">
            <a:off x="7314840" y="4057560"/>
            <a:ext cx="4222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93"/>
          <p:cNvSpPr/>
          <p:nvPr/>
        </p:nvSpPr>
        <p:spPr>
          <a:xfrm>
            <a:off x="7426440" y="3990960"/>
            <a:ext cx="28548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6,27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4"/>
          <p:cNvSpPr/>
          <p:nvPr/>
        </p:nvSpPr>
        <p:spPr>
          <a:xfrm>
            <a:off x="4108320" y="4818240"/>
            <a:ext cx="360360" cy="255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imes New Roman"/>
              </a:rPr>
              <a:t>57,36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imes New Roman"/>
              </a:rPr>
              <a:t>de 93,73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95"/>
          <p:cNvSpPr/>
          <p:nvPr/>
        </p:nvSpPr>
        <p:spPr>
          <a:xfrm>
            <a:off x="7808760" y="2057400"/>
            <a:ext cx="2923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96"/>
          <p:cNvSpPr/>
          <p:nvPr/>
        </p:nvSpPr>
        <p:spPr>
          <a:xfrm>
            <a:off x="7161120" y="1100160"/>
            <a:ext cx="0" cy="5810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97"/>
          <p:cNvSpPr/>
          <p:nvPr/>
        </p:nvSpPr>
        <p:spPr>
          <a:xfrm flipH="1">
            <a:off x="4830480" y="1681200"/>
            <a:ext cx="2344680" cy="46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98"/>
          <p:cNvSpPr/>
          <p:nvPr/>
        </p:nvSpPr>
        <p:spPr>
          <a:xfrm>
            <a:off x="4830840" y="1671480"/>
            <a:ext cx="0" cy="152640"/>
          </a:xfrm>
          <a:prstGeom prst="line">
            <a:avLst/>
          </a:prstGeom>
          <a:ln w="28440">
            <a:solidFill>
              <a:srgbClr val="cc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9"/>
          <p:cNvSpPr/>
          <p:nvPr/>
        </p:nvSpPr>
        <p:spPr>
          <a:xfrm>
            <a:off x="7021440" y="1395360"/>
            <a:ext cx="2811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00"/>
          <p:cNvSpPr/>
          <p:nvPr/>
        </p:nvSpPr>
        <p:spPr>
          <a:xfrm>
            <a:off x="6710400" y="739800"/>
            <a:ext cx="1125360" cy="45720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Inter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Pag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1"/>
          <p:cNvSpPr/>
          <p:nvPr/>
        </p:nvSpPr>
        <p:spPr>
          <a:xfrm>
            <a:off x="5838840" y="1143000"/>
            <a:ext cx="0" cy="3808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2"/>
          <p:cNvSpPr/>
          <p:nvPr/>
        </p:nvSpPr>
        <p:spPr>
          <a:xfrm flipH="1">
            <a:off x="4691160" y="1523880"/>
            <a:ext cx="11476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3"/>
          <p:cNvSpPr/>
          <p:nvPr/>
        </p:nvSpPr>
        <p:spPr>
          <a:xfrm>
            <a:off x="4691160" y="1523880"/>
            <a:ext cx="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04"/>
          <p:cNvSpPr/>
          <p:nvPr/>
        </p:nvSpPr>
        <p:spPr>
          <a:xfrm>
            <a:off x="5448240" y="739800"/>
            <a:ext cx="1195560" cy="45720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Gan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Mínima Presu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5"/>
          <p:cNvSpPr/>
          <p:nvPr/>
        </p:nvSpPr>
        <p:spPr>
          <a:xfrm>
            <a:off x="5692680" y="1314360"/>
            <a:ext cx="2826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6"/>
          <p:cNvSpPr/>
          <p:nvPr/>
        </p:nvSpPr>
        <p:spPr>
          <a:xfrm>
            <a:off x="4238640" y="1143000"/>
            <a:ext cx="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7"/>
          <p:cNvSpPr/>
          <p:nvPr/>
        </p:nvSpPr>
        <p:spPr>
          <a:xfrm>
            <a:off x="4092480" y="1268280"/>
            <a:ext cx="2811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8"/>
          <p:cNvSpPr/>
          <p:nvPr/>
        </p:nvSpPr>
        <p:spPr>
          <a:xfrm>
            <a:off x="914400" y="2095560"/>
            <a:ext cx="105408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9"/>
          <p:cNvSpPr/>
          <p:nvPr/>
        </p:nvSpPr>
        <p:spPr>
          <a:xfrm>
            <a:off x="1968480" y="2085840"/>
            <a:ext cx="0" cy="2001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0"/>
          <p:cNvSpPr/>
          <p:nvPr/>
        </p:nvSpPr>
        <p:spPr>
          <a:xfrm>
            <a:off x="1968480" y="2266920"/>
            <a:ext cx="844560" cy="0"/>
          </a:xfrm>
          <a:prstGeom prst="line">
            <a:avLst/>
          </a:prstGeom>
          <a:ln w="28440">
            <a:solidFill>
              <a:srgbClr val="66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11"/>
          <p:cNvSpPr/>
          <p:nvPr/>
        </p:nvSpPr>
        <p:spPr>
          <a:xfrm>
            <a:off x="2827440" y="1905120"/>
            <a:ext cx="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12"/>
          <p:cNvSpPr/>
          <p:nvPr/>
        </p:nvSpPr>
        <p:spPr>
          <a:xfrm>
            <a:off x="2827440" y="2666880"/>
            <a:ext cx="3081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13"/>
          <p:cNvSpPr/>
          <p:nvPr/>
        </p:nvSpPr>
        <p:spPr>
          <a:xfrm>
            <a:off x="5921280" y="265284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14"/>
          <p:cNvSpPr/>
          <p:nvPr/>
        </p:nvSpPr>
        <p:spPr>
          <a:xfrm>
            <a:off x="4430880" y="2362320"/>
            <a:ext cx="0" cy="609480"/>
          </a:xfrm>
          <a:prstGeom prst="line">
            <a:avLst/>
          </a:prstGeom>
          <a:ln w="507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5"/>
          <p:cNvSpPr/>
          <p:nvPr/>
        </p:nvSpPr>
        <p:spPr>
          <a:xfrm>
            <a:off x="4290840" y="2438280"/>
            <a:ext cx="28116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8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16"/>
          <p:cNvSpPr/>
          <p:nvPr/>
        </p:nvSpPr>
        <p:spPr>
          <a:xfrm flipH="1">
            <a:off x="7314840" y="2666880"/>
            <a:ext cx="5634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7"/>
          <p:cNvSpPr/>
          <p:nvPr/>
        </p:nvSpPr>
        <p:spPr>
          <a:xfrm>
            <a:off x="7315200" y="2666880"/>
            <a:ext cx="0" cy="10670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18"/>
          <p:cNvSpPr/>
          <p:nvPr/>
        </p:nvSpPr>
        <p:spPr>
          <a:xfrm flipH="1" flipV="1">
            <a:off x="4743360" y="3705120"/>
            <a:ext cx="2571840" cy="50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19"/>
          <p:cNvSpPr/>
          <p:nvPr/>
        </p:nvSpPr>
        <p:spPr>
          <a:xfrm>
            <a:off x="4756320" y="3719520"/>
            <a:ext cx="0" cy="152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20"/>
          <p:cNvSpPr/>
          <p:nvPr/>
        </p:nvSpPr>
        <p:spPr>
          <a:xfrm>
            <a:off x="5556240" y="3724200"/>
            <a:ext cx="0" cy="685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1"/>
          <p:cNvSpPr/>
          <p:nvPr/>
        </p:nvSpPr>
        <p:spPr>
          <a:xfrm>
            <a:off x="4844880" y="3639960"/>
            <a:ext cx="28116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2"/>
          <p:cNvSpPr/>
          <p:nvPr/>
        </p:nvSpPr>
        <p:spPr>
          <a:xfrm>
            <a:off x="5411880" y="3949560"/>
            <a:ext cx="28080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7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23"/>
          <p:cNvSpPr/>
          <p:nvPr/>
        </p:nvSpPr>
        <p:spPr>
          <a:xfrm flipV="1">
            <a:off x="7175520" y="25142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24"/>
          <p:cNvSpPr/>
          <p:nvPr/>
        </p:nvSpPr>
        <p:spPr>
          <a:xfrm flipV="1">
            <a:off x="7175520" y="2501640"/>
            <a:ext cx="609480" cy="12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25"/>
          <p:cNvSpPr/>
          <p:nvPr/>
        </p:nvSpPr>
        <p:spPr>
          <a:xfrm flipH="1">
            <a:off x="7878600" y="3705120"/>
            <a:ext cx="6336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6"/>
          <p:cNvSpPr/>
          <p:nvPr/>
        </p:nvSpPr>
        <p:spPr>
          <a:xfrm>
            <a:off x="7878600" y="3705120"/>
            <a:ext cx="0" cy="914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27"/>
          <p:cNvSpPr/>
          <p:nvPr/>
        </p:nvSpPr>
        <p:spPr>
          <a:xfrm flipH="1">
            <a:off x="7034040" y="4619520"/>
            <a:ext cx="84456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8"/>
          <p:cNvSpPr/>
          <p:nvPr/>
        </p:nvSpPr>
        <p:spPr>
          <a:xfrm>
            <a:off x="8045280" y="3645000"/>
            <a:ext cx="2858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29"/>
          <p:cNvSpPr/>
          <p:nvPr/>
        </p:nvSpPr>
        <p:spPr>
          <a:xfrm>
            <a:off x="8512200" y="3552840"/>
            <a:ext cx="0" cy="152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30"/>
          <p:cNvSpPr/>
          <p:nvPr/>
        </p:nvSpPr>
        <p:spPr>
          <a:xfrm>
            <a:off x="7948440" y="3809880"/>
            <a:ext cx="1125720" cy="45720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Automo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Gasol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1"/>
          <p:cNvSpPr/>
          <p:nvPr/>
        </p:nvSpPr>
        <p:spPr>
          <a:xfrm>
            <a:off x="1062000" y="4952880"/>
            <a:ext cx="8398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32"/>
          <p:cNvSpPr/>
          <p:nvPr/>
        </p:nvSpPr>
        <p:spPr>
          <a:xfrm flipV="1">
            <a:off x="1890720" y="46483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3"/>
          <p:cNvSpPr/>
          <p:nvPr/>
        </p:nvSpPr>
        <p:spPr>
          <a:xfrm>
            <a:off x="1066680" y="5486400"/>
            <a:ext cx="973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34"/>
          <p:cNvSpPr/>
          <p:nvPr/>
        </p:nvSpPr>
        <p:spPr>
          <a:xfrm flipV="1">
            <a:off x="2030400" y="4648320"/>
            <a:ext cx="0" cy="838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35"/>
          <p:cNvSpPr/>
          <p:nvPr/>
        </p:nvSpPr>
        <p:spPr>
          <a:xfrm>
            <a:off x="1143000" y="4897440"/>
            <a:ext cx="2811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36"/>
          <p:cNvSpPr/>
          <p:nvPr/>
        </p:nvSpPr>
        <p:spPr>
          <a:xfrm>
            <a:off x="1109520" y="5416560"/>
            <a:ext cx="2811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37"/>
          <p:cNvSpPr/>
          <p:nvPr/>
        </p:nvSpPr>
        <p:spPr>
          <a:xfrm>
            <a:off x="1195560" y="6146640"/>
            <a:ext cx="35208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1,3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38"/>
          <p:cNvSpPr/>
          <p:nvPr/>
        </p:nvSpPr>
        <p:spPr>
          <a:xfrm flipH="1">
            <a:off x="7530840" y="5264280"/>
            <a:ext cx="5634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39"/>
          <p:cNvSpPr/>
          <p:nvPr/>
        </p:nvSpPr>
        <p:spPr>
          <a:xfrm flipV="1">
            <a:off x="7526160" y="4714920"/>
            <a:ext cx="0" cy="92376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40"/>
          <p:cNvSpPr/>
          <p:nvPr/>
        </p:nvSpPr>
        <p:spPr>
          <a:xfrm flipH="1">
            <a:off x="7033680" y="4724280"/>
            <a:ext cx="49212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41"/>
          <p:cNvSpPr/>
          <p:nvPr/>
        </p:nvSpPr>
        <p:spPr>
          <a:xfrm flipH="1">
            <a:off x="7526160" y="5640480"/>
            <a:ext cx="56376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2"/>
          <p:cNvSpPr/>
          <p:nvPr/>
        </p:nvSpPr>
        <p:spPr>
          <a:xfrm flipH="1" flipV="1">
            <a:off x="7523280" y="5285880"/>
            <a:ext cx="2880" cy="35244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43"/>
          <p:cNvSpPr/>
          <p:nvPr/>
        </p:nvSpPr>
        <p:spPr>
          <a:xfrm>
            <a:off x="7632720" y="5194440"/>
            <a:ext cx="2858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44"/>
          <p:cNvSpPr/>
          <p:nvPr/>
        </p:nvSpPr>
        <p:spPr>
          <a:xfrm>
            <a:off x="7635960" y="5570640"/>
            <a:ext cx="28728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2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5"/>
          <p:cNvSpPr/>
          <p:nvPr/>
        </p:nvSpPr>
        <p:spPr>
          <a:xfrm>
            <a:off x="8037360" y="4967280"/>
            <a:ext cx="916200" cy="40644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800" spc="-1" strike="noStrike">
                <a:solidFill>
                  <a:srgbClr val="003366"/>
                </a:solidFill>
                <a:latin typeface="Verdana"/>
              </a:rPr>
              <a:t>Gasoil, Diesel-oil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800" spc="-1" strike="noStrike">
                <a:solidFill>
                  <a:srgbClr val="003366"/>
                </a:solidFill>
                <a:latin typeface="Verdana"/>
              </a:rPr>
              <a:t>Kerosene y GN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46"/>
          <p:cNvSpPr/>
          <p:nvPr/>
        </p:nvSpPr>
        <p:spPr>
          <a:xfrm>
            <a:off x="6107040" y="6262560"/>
            <a:ext cx="20163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7"/>
          <p:cNvSpPr/>
          <p:nvPr/>
        </p:nvSpPr>
        <p:spPr>
          <a:xfrm flipH="1">
            <a:off x="7526160" y="5791320"/>
            <a:ext cx="49248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48"/>
          <p:cNvSpPr/>
          <p:nvPr/>
        </p:nvSpPr>
        <p:spPr>
          <a:xfrm>
            <a:off x="7526160" y="5776920"/>
            <a:ext cx="0" cy="6858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49"/>
          <p:cNvSpPr/>
          <p:nvPr/>
        </p:nvSpPr>
        <p:spPr>
          <a:xfrm flipH="1">
            <a:off x="2179440" y="6462720"/>
            <a:ext cx="5360760" cy="144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0"/>
          <p:cNvSpPr/>
          <p:nvPr/>
        </p:nvSpPr>
        <p:spPr>
          <a:xfrm flipV="1">
            <a:off x="6119640" y="6181560"/>
            <a:ext cx="0" cy="66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51"/>
          <p:cNvSpPr/>
          <p:nvPr/>
        </p:nvSpPr>
        <p:spPr>
          <a:xfrm>
            <a:off x="5697360" y="6172200"/>
            <a:ext cx="1168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52"/>
          <p:cNvSpPr/>
          <p:nvPr/>
        </p:nvSpPr>
        <p:spPr>
          <a:xfrm flipV="1">
            <a:off x="5708520" y="594324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3"/>
          <p:cNvSpPr/>
          <p:nvPr/>
        </p:nvSpPr>
        <p:spPr>
          <a:xfrm flipV="1">
            <a:off x="6853320" y="59432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54"/>
          <p:cNvSpPr/>
          <p:nvPr/>
        </p:nvSpPr>
        <p:spPr>
          <a:xfrm>
            <a:off x="5781600" y="6100920"/>
            <a:ext cx="21132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5"/>
          <p:cNvSpPr/>
          <p:nvPr/>
        </p:nvSpPr>
        <p:spPr>
          <a:xfrm>
            <a:off x="6342120" y="6099120"/>
            <a:ext cx="28260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56"/>
          <p:cNvSpPr/>
          <p:nvPr/>
        </p:nvSpPr>
        <p:spPr>
          <a:xfrm>
            <a:off x="8037360" y="5424480"/>
            <a:ext cx="916200" cy="40644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800" spc="-1" strike="noStrike">
                <a:solidFill>
                  <a:srgbClr val="003366"/>
                </a:solidFill>
                <a:latin typeface="Verdana"/>
              </a:rPr>
              <a:t>Naftas, Solventes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800" spc="-1" strike="noStrike">
                <a:solidFill>
                  <a:srgbClr val="003366"/>
                </a:solidFill>
                <a:latin typeface="Verdana"/>
              </a:rPr>
              <a:t>Aguarrás y otr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57"/>
          <p:cNvSpPr/>
          <p:nvPr/>
        </p:nvSpPr>
        <p:spPr>
          <a:xfrm>
            <a:off x="7381800" y="5964120"/>
            <a:ext cx="28116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7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8"/>
          <p:cNvSpPr/>
          <p:nvPr/>
        </p:nvSpPr>
        <p:spPr>
          <a:xfrm flipV="1">
            <a:off x="2179800" y="4648320"/>
            <a:ext cx="0" cy="182880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59"/>
          <p:cNvSpPr/>
          <p:nvPr/>
        </p:nvSpPr>
        <p:spPr>
          <a:xfrm>
            <a:off x="1995480" y="5583240"/>
            <a:ext cx="3603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de 7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0"/>
          <p:cNvSpPr/>
          <p:nvPr/>
        </p:nvSpPr>
        <p:spPr>
          <a:xfrm flipV="1">
            <a:off x="2813040" y="5943600"/>
            <a:ext cx="0" cy="53352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61"/>
          <p:cNvSpPr/>
          <p:nvPr/>
        </p:nvSpPr>
        <p:spPr>
          <a:xfrm>
            <a:off x="2633760" y="6118200"/>
            <a:ext cx="3603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4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de 7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2"/>
          <p:cNvSpPr/>
          <p:nvPr/>
        </p:nvSpPr>
        <p:spPr>
          <a:xfrm>
            <a:off x="3727440" y="6234120"/>
            <a:ext cx="180324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63"/>
          <p:cNvSpPr/>
          <p:nvPr/>
        </p:nvSpPr>
        <p:spPr>
          <a:xfrm flipV="1">
            <a:off x="3727440" y="5943240"/>
            <a:ext cx="0" cy="30492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64"/>
          <p:cNvSpPr/>
          <p:nvPr/>
        </p:nvSpPr>
        <p:spPr>
          <a:xfrm flipV="1">
            <a:off x="5538960" y="5943240"/>
            <a:ext cx="0" cy="30492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65"/>
          <p:cNvSpPr/>
          <p:nvPr/>
        </p:nvSpPr>
        <p:spPr>
          <a:xfrm>
            <a:off x="5429160" y="6067440"/>
            <a:ext cx="216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66"/>
          <p:cNvSpPr/>
          <p:nvPr/>
        </p:nvSpPr>
        <p:spPr>
          <a:xfrm>
            <a:off x="3613320" y="6067440"/>
            <a:ext cx="2156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67"/>
          <p:cNvSpPr/>
          <p:nvPr/>
        </p:nvSpPr>
        <p:spPr>
          <a:xfrm flipV="1">
            <a:off x="4695840" y="5943600"/>
            <a:ext cx="0" cy="533520"/>
          </a:xfrm>
          <a:prstGeom prst="line">
            <a:avLst/>
          </a:prstGeom>
          <a:ln w="28440">
            <a:solidFill>
              <a:srgbClr val="cc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68"/>
          <p:cNvSpPr/>
          <p:nvPr/>
        </p:nvSpPr>
        <p:spPr>
          <a:xfrm>
            <a:off x="4587840" y="6062760"/>
            <a:ext cx="216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69"/>
          <p:cNvSpPr/>
          <p:nvPr/>
        </p:nvSpPr>
        <p:spPr>
          <a:xfrm>
            <a:off x="4583160" y="6281640"/>
            <a:ext cx="216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70"/>
          <p:cNvSpPr/>
          <p:nvPr/>
        </p:nvSpPr>
        <p:spPr>
          <a:xfrm flipH="1">
            <a:off x="7034040" y="4376880"/>
            <a:ext cx="1478160" cy="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71"/>
          <p:cNvSpPr/>
          <p:nvPr/>
        </p:nvSpPr>
        <p:spPr>
          <a:xfrm>
            <a:off x="7324560" y="4307040"/>
            <a:ext cx="2858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72"/>
          <p:cNvSpPr/>
          <p:nvPr/>
        </p:nvSpPr>
        <p:spPr>
          <a:xfrm>
            <a:off x="2813040" y="5334120"/>
            <a:ext cx="3868920" cy="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73"/>
          <p:cNvSpPr/>
          <p:nvPr/>
        </p:nvSpPr>
        <p:spPr>
          <a:xfrm flipV="1">
            <a:off x="2813040" y="5333760"/>
            <a:ext cx="0" cy="22860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174"/>
          <p:cNvSpPr/>
          <p:nvPr/>
        </p:nvSpPr>
        <p:spPr>
          <a:xfrm flipV="1">
            <a:off x="3727440" y="5333760"/>
            <a:ext cx="0" cy="22860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75"/>
          <p:cNvSpPr/>
          <p:nvPr/>
        </p:nvSpPr>
        <p:spPr>
          <a:xfrm flipV="1">
            <a:off x="4691160" y="5333760"/>
            <a:ext cx="0" cy="22860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76"/>
          <p:cNvSpPr/>
          <p:nvPr/>
        </p:nvSpPr>
        <p:spPr>
          <a:xfrm flipV="1">
            <a:off x="5627520" y="5333760"/>
            <a:ext cx="0" cy="22860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77"/>
          <p:cNvSpPr/>
          <p:nvPr/>
        </p:nvSpPr>
        <p:spPr>
          <a:xfrm flipV="1">
            <a:off x="6681960" y="5333760"/>
            <a:ext cx="0" cy="22860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78"/>
          <p:cNvSpPr/>
          <p:nvPr/>
        </p:nvSpPr>
        <p:spPr>
          <a:xfrm flipV="1">
            <a:off x="4691160" y="4495320"/>
            <a:ext cx="0" cy="838440"/>
          </a:xfrm>
          <a:prstGeom prst="line">
            <a:avLst/>
          </a:prstGeom>
          <a:ln w="28440">
            <a:solidFill>
              <a:srgbClr val="333333">
                <a:alpha val="50000"/>
              </a:srgbClr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79"/>
          <p:cNvSpPr/>
          <p:nvPr/>
        </p:nvSpPr>
        <p:spPr>
          <a:xfrm>
            <a:off x="5024520" y="2090880"/>
            <a:ext cx="352440" cy="0"/>
          </a:xfrm>
          <a:prstGeom prst="line">
            <a:avLst/>
          </a:prstGeom>
          <a:ln w="507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80"/>
          <p:cNvSpPr/>
          <p:nvPr/>
        </p:nvSpPr>
        <p:spPr>
          <a:xfrm>
            <a:off x="5556240" y="4405320"/>
            <a:ext cx="1477800" cy="38088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50000">
                <a:srgbClr val="ffffff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Book Antiqua"/>
              </a:rPr>
              <a:t>Previsión Social 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81"/>
          <p:cNvSpPr/>
          <p:nvPr/>
        </p:nvSpPr>
        <p:spPr>
          <a:xfrm>
            <a:off x="3798720" y="1866960"/>
            <a:ext cx="1265400" cy="457200"/>
          </a:xfrm>
          <a:prstGeom prst="flowChartTerminator">
            <a:avLst/>
          </a:prstGeom>
          <a:solidFill>
            <a:srgbClr val="66ccff"/>
          </a:soli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 Narrow"/>
              </a:rPr>
              <a:t>Co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 Narrow"/>
              </a:rPr>
              <a:t>Br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82"/>
          <p:cNvSpPr/>
          <p:nvPr/>
        </p:nvSpPr>
        <p:spPr>
          <a:xfrm>
            <a:off x="6261120" y="1828800"/>
            <a:ext cx="843120" cy="533520"/>
          </a:xfrm>
          <a:custGeom>
            <a:avLst/>
            <a:gdLst>
              <a:gd name="textAreaLeft" fmla="*/ 62640 w 843120"/>
              <a:gd name="textAreaRight" fmla="*/ 780480 w 8431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341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526" y="21600"/>
                </a:lnTo>
                <a:arcTo wR="3600" hR="3600" stAng="10800000" swAng="5400000"/>
                <a:lnTo>
                  <a:pt x="3412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fc7c7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500" spc="-1" strike="noStrike">
                <a:solidFill>
                  <a:srgbClr val="ffff00"/>
                </a:solidFill>
                <a:latin typeface="Arial Narrow"/>
              </a:rPr>
              <a:t>Fdo. Compen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500" spc="-1" strike="noStrike">
                <a:solidFill>
                  <a:srgbClr val="ffff00"/>
                </a:solidFill>
                <a:latin typeface="Arial Narrow"/>
              </a:rPr>
              <a:t>Deseq. Fisca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83"/>
          <p:cNvSpPr/>
          <p:nvPr/>
        </p:nvSpPr>
        <p:spPr>
          <a:xfrm>
            <a:off x="5600880" y="3011400"/>
            <a:ext cx="633240" cy="457200"/>
          </a:xfrm>
          <a:custGeom>
            <a:avLst/>
            <a:gdLst>
              <a:gd name="textAreaLeft" fmla="*/ 53640 w 633240"/>
              <a:gd name="textAreaRight" fmla="*/ 579600 w 63324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299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10" y="21600"/>
                </a:lnTo>
                <a:arcTo wR="3600" hR="3600" stAng="10800000" swAng="5400000"/>
                <a:lnTo>
                  <a:pt x="2991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fc7c7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 Narrow"/>
              </a:rPr>
              <a:t>A.T.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84"/>
          <p:cNvSpPr/>
          <p:nvPr/>
        </p:nvSpPr>
        <p:spPr>
          <a:xfrm>
            <a:off x="3868560" y="3809880"/>
            <a:ext cx="1195560" cy="838440"/>
          </a:xfrm>
          <a:prstGeom prst="flowChartPunchedTape">
            <a:avLst/>
          </a:prstGeom>
          <a:blipFill rotWithShape="0">
            <a:blip r:embed="rId26"/>
            <a:srcRect/>
            <a:stretch/>
          </a:blipFill>
          <a:ln w="12600">
            <a:solidFill>
              <a:srgbClr val="000099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Impact"/>
              </a:rPr>
              <a:t>Provi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85"/>
          <p:cNvSpPr/>
          <p:nvPr/>
        </p:nvSpPr>
        <p:spPr>
          <a:xfrm>
            <a:off x="5211720" y="4572000"/>
            <a:ext cx="343080" cy="0"/>
          </a:xfrm>
          <a:prstGeom prst="line">
            <a:avLst/>
          </a:prstGeom>
          <a:ln w="507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6"/>
          <p:cNvSpPr/>
          <p:nvPr/>
        </p:nvSpPr>
        <p:spPr>
          <a:xfrm>
            <a:off x="5975280" y="2081160"/>
            <a:ext cx="351000" cy="0"/>
          </a:xfrm>
          <a:prstGeom prst="line">
            <a:avLst/>
          </a:prstGeom>
          <a:ln w="507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87"/>
          <p:cNvSpPr/>
          <p:nvPr/>
        </p:nvSpPr>
        <p:spPr>
          <a:xfrm flipH="1">
            <a:off x="5046840" y="2209680"/>
            <a:ext cx="210960" cy="0"/>
          </a:xfrm>
          <a:prstGeom prst="line">
            <a:avLst/>
          </a:prstGeom>
          <a:ln w="507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88"/>
          <p:cNvSpPr/>
          <p:nvPr/>
        </p:nvSpPr>
        <p:spPr>
          <a:xfrm>
            <a:off x="5234040" y="2209680"/>
            <a:ext cx="0" cy="2362320"/>
          </a:xfrm>
          <a:prstGeom prst="line">
            <a:avLst/>
          </a:prstGeom>
          <a:ln w="507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9"/>
          <p:cNvSpPr/>
          <p:nvPr/>
        </p:nvSpPr>
        <p:spPr>
          <a:xfrm>
            <a:off x="5091120" y="2438280"/>
            <a:ext cx="28116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90"/>
          <p:cNvSpPr/>
          <p:nvPr/>
        </p:nvSpPr>
        <p:spPr>
          <a:xfrm>
            <a:off x="1687680" y="3809880"/>
            <a:ext cx="1196640" cy="838440"/>
          </a:xfrm>
          <a:prstGeom prst="flowChartPunchedTape">
            <a:avLst/>
          </a:prstGeom>
          <a:blipFill rotWithShape="0">
            <a:blip r:embed="rId27"/>
            <a:srcRect/>
            <a:stretch/>
          </a:blipFill>
          <a:ln w="12600">
            <a:solidFill>
              <a:srgbClr val="000099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Impact"/>
              </a:rPr>
              <a:t>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91"/>
          <p:cNvSpPr/>
          <p:nvPr/>
        </p:nvSpPr>
        <p:spPr>
          <a:xfrm>
            <a:off x="5076720" y="3243240"/>
            <a:ext cx="5619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92"/>
          <p:cNvSpPr/>
          <p:nvPr/>
        </p:nvSpPr>
        <p:spPr>
          <a:xfrm>
            <a:off x="5305320" y="3176640"/>
            <a:ext cx="1731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3"/>
          <p:cNvSpPr/>
          <p:nvPr/>
        </p:nvSpPr>
        <p:spPr>
          <a:xfrm>
            <a:off x="5384880" y="1905120"/>
            <a:ext cx="633240" cy="380880"/>
          </a:xfrm>
          <a:prstGeom prst="flowChartDocument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Detracció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Impact"/>
              </a:rPr>
              <a:t>$M 45,8/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94"/>
          <p:cNvSpPr/>
          <p:nvPr/>
        </p:nvSpPr>
        <p:spPr>
          <a:xfrm flipH="1">
            <a:off x="3498480" y="3276720"/>
            <a:ext cx="35244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95"/>
          <p:cNvSpPr/>
          <p:nvPr/>
        </p:nvSpPr>
        <p:spPr>
          <a:xfrm>
            <a:off x="3516480" y="3276720"/>
            <a:ext cx="0" cy="68580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96"/>
          <p:cNvSpPr/>
          <p:nvPr/>
        </p:nvSpPr>
        <p:spPr>
          <a:xfrm flipH="1" flipV="1">
            <a:off x="2953800" y="3962160"/>
            <a:ext cx="589320" cy="46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97"/>
          <p:cNvSpPr/>
          <p:nvPr/>
        </p:nvSpPr>
        <p:spPr>
          <a:xfrm>
            <a:off x="3341520" y="3398760"/>
            <a:ext cx="351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41,64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98"/>
          <p:cNvSpPr/>
          <p:nvPr/>
        </p:nvSpPr>
        <p:spPr>
          <a:xfrm>
            <a:off x="4430880" y="3319560"/>
            <a:ext cx="0" cy="6094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9"/>
          <p:cNvSpPr/>
          <p:nvPr/>
        </p:nvSpPr>
        <p:spPr>
          <a:xfrm>
            <a:off x="4253040" y="3576600"/>
            <a:ext cx="35064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57,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200"/>
          <p:cNvSpPr/>
          <p:nvPr/>
        </p:nvSpPr>
        <p:spPr>
          <a:xfrm>
            <a:off x="3798720" y="2971800"/>
            <a:ext cx="1265400" cy="457200"/>
          </a:xfrm>
          <a:prstGeom prst="flowChartTerminator">
            <a:avLst/>
          </a:prstGeom>
          <a:solidFill>
            <a:srgbClr val="66ccff"/>
          </a:soli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 Narrow"/>
              </a:rPr>
              <a:t>Co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 Narrow"/>
              </a:rPr>
              <a:t>N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201"/>
          <p:cNvSpPr/>
          <p:nvPr/>
        </p:nvSpPr>
        <p:spPr>
          <a:xfrm>
            <a:off x="3241800" y="4311720"/>
            <a:ext cx="561960" cy="3808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003366"/>
                </a:solidFill>
                <a:latin typeface="Times New Roman"/>
              </a:rPr>
              <a:t>CA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000" spc="-1" strike="noStrike">
                <a:solidFill>
                  <a:srgbClr val="003366"/>
                </a:solidFill>
                <a:latin typeface="Times New Roman"/>
              </a:rPr>
              <a:t>$M 157/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2"/>
          <p:cNvSpPr/>
          <p:nvPr/>
        </p:nvSpPr>
        <p:spPr>
          <a:xfrm>
            <a:off x="2884320" y="4495680"/>
            <a:ext cx="420840" cy="0"/>
          </a:xfrm>
          <a:prstGeom prst="line">
            <a:avLst/>
          </a:prstGeom>
          <a:ln cap="rnd" w="28440">
            <a:solidFill>
              <a:srgbClr val="cccc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03"/>
          <p:cNvSpPr/>
          <p:nvPr/>
        </p:nvSpPr>
        <p:spPr>
          <a:xfrm>
            <a:off x="378000" y="6437160"/>
            <a:ext cx="16174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000" spc="-1" strike="noStrike">
                <a:solidFill>
                  <a:srgbClr val="003366"/>
                </a:solidFill>
                <a:latin typeface="Verdana"/>
              </a:rPr>
              <a:t>Aníbal Oscar Bert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000" spc="-1" strike="noStrike">
                <a:solidFill>
                  <a:srgbClr val="003366"/>
                </a:solidFill>
                <a:latin typeface="Verdana"/>
              </a:rPr>
              <a:t>versión 2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04"/>
          <p:cNvSpPr/>
          <p:nvPr/>
        </p:nvSpPr>
        <p:spPr>
          <a:xfrm>
            <a:off x="2712960" y="2076480"/>
            <a:ext cx="209520" cy="152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05"/>
          <p:cNvSpPr/>
          <p:nvPr/>
        </p:nvSpPr>
        <p:spPr>
          <a:xfrm>
            <a:off x="633240" y="1523880"/>
            <a:ext cx="0" cy="228600"/>
          </a:xfrm>
          <a:prstGeom prst="line">
            <a:avLst/>
          </a:prstGeom>
          <a:ln w="28440">
            <a:solidFill>
              <a:srgbClr val="66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06"/>
          <p:cNvSpPr/>
          <p:nvPr/>
        </p:nvSpPr>
        <p:spPr>
          <a:xfrm flipV="1">
            <a:off x="870120" y="4419720"/>
            <a:ext cx="817560" cy="9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7"/>
          <p:cNvSpPr/>
          <p:nvPr/>
        </p:nvSpPr>
        <p:spPr>
          <a:xfrm>
            <a:off x="1141560" y="4352760"/>
            <a:ext cx="2808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08"/>
          <p:cNvSpPr/>
          <p:nvPr/>
        </p:nvSpPr>
        <p:spPr>
          <a:xfrm>
            <a:off x="4610160" y="738360"/>
            <a:ext cx="774720" cy="45720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Al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R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209"/>
          <p:cNvSpPr/>
          <p:nvPr/>
        </p:nvSpPr>
        <p:spPr>
          <a:xfrm>
            <a:off x="4502160" y="1371600"/>
            <a:ext cx="0" cy="457200"/>
          </a:xfrm>
          <a:prstGeom prst="line">
            <a:avLst/>
          </a:prstGeom>
          <a:ln cap="rnd" w="28440">
            <a:solidFill>
              <a:srgbClr val="990033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10"/>
          <p:cNvSpPr/>
          <p:nvPr/>
        </p:nvSpPr>
        <p:spPr>
          <a:xfrm>
            <a:off x="5191200" y="1219320"/>
            <a:ext cx="0" cy="152280"/>
          </a:xfrm>
          <a:prstGeom prst="line">
            <a:avLst/>
          </a:prstGeom>
          <a:ln cap="rnd" w="28440">
            <a:solidFill>
              <a:srgbClr val="99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11"/>
          <p:cNvSpPr/>
          <p:nvPr/>
        </p:nvSpPr>
        <p:spPr>
          <a:xfrm flipH="1">
            <a:off x="4501800" y="1371600"/>
            <a:ext cx="703080" cy="0"/>
          </a:xfrm>
          <a:prstGeom prst="line">
            <a:avLst/>
          </a:prstGeom>
          <a:ln cap="rnd" w="28440">
            <a:solidFill>
              <a:srgbClr val="99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212"/>
          <p:cNvSpPr/>
          <p:nvPr/>
        </p:nvSpPr>
        <p:spPr>
          <a:xfrm>
            <a:off x="3489480" y="739800"/>
            <a:ext cx="1055520" cy="45720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Inter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y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13"/>
          <p:cNvSpPr/>
          <p:nvPr/>
        </p:nvSpPr>
        <p:spPr>
          <a:xfrm>
            <a:off x="4761000" y="1295280"/>
            <a:ext cx="2808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214"/>
          <p:cNvSpPr/>
          <p:nvPr/>
        </p:nvSpPr>
        <p:spPr>
          <a:xfrm flipV="1">
            <a:off x="2813040" y="1218960"/>
            <a:ext cx="0" cy="7596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15"/>
          <p:cNvSpPr/>
          <p:nvPr/>
        </p:nvSpPr>
        <p:spPr>
          <a:xfrm flipH="1">
            <a:off x="2813040" y="1295280"/>
            <a:ext cx="703440" cy="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216"/>
          <p:cNvSpPr/>
          <p:nvPr/>
        </p:nvSpPr>
        <p:spPr>
          <a:xfrm>
            <a:off x="1406520" y="5877000"/>
            <a:ext cx="703440" cy="2523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0000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000" spc="-1" strike="noStrike">
                <a:solidFill>
                  <a:srgbClr val="66ccff"/>
                </a:solidFill>
                <a:latin typeface="Arial Narrow"/>
              </a:rPr>
              <a:t>Ministerio Exteri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7"/>
          <p:cNvSpPr/>
          <p:nvPr/>
        </p:nvSpPr>
        <p:spPr>
          <a:xfrm>
            <a:off x="1195560" y="5937120"/>
            <a:ext cx="35208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8,47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18"/>
          <p:cNvSpPr/>
          <p:nvPr/>
        </p:nvSpPr>
        <p:spPr>
          <a:xfrm flipV="1">
            <a:off x="1758960" y="4667040"/>
            <a:ext cx="0" cy="1143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19"/>
          <p:cNvSpPr/>
          <p:nvPr/>
        </p:nvSpPr>
        <p:spPr>
          <a:xfrm flipV="1">
            <a:off x="1065240" y="5820840"/>
            <a:ext cx="706320" cy="32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20"/>
          <p:cNvSpPr/>
          <p:nvPr/>
        </p:nvSpPr>
        <p:spPr>
          <a:xfrm>
            <a:off x="1582560" y="5638680"/>
            <a:ext cx="351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0,23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221"/>
          <p:cNvSpPr/>
          <p:nvPr/>
        </p:nvSpPr>
        <p:spPr>
          <a:xfrm>
            <a:off x="216000" y="4191120"/>
            <a:ext cx="844560" cy="45720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Comer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cc"/>
                </a:solidFill>
                <a:latin typeface="Monotype Corsiva"/>
              </a:rPr>
              <a:t>Exte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0T22:52:49Z</dcterms:created>
  <dc:creator>usuario</dc:creator>
  <dc:description/>
  <dc:language>en-US</dc:language>
  <cp:lastModifiedBy>FacundoV</cp:lastModifiedBy>
  <dcterms:modified xsi:type="dcterms:W3CDTF">2014-10-02T03:04:15Z</dcterms:modified>
  <cp:revision>179</cp:revision>
  <dc:subject/>
  <dc:title>Diapositiva 1</dc:title>
</cp:coreProperties>
</file>