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5BD1-6A86-4234-BCAE-68479293471C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7667-5593-4D52-9187-E1E7A8A3DD8A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0719-BBAC-4A91-B4E7-253CD5A87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22B2-FEDF-4E95-8914-37ABFA98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1BF9-B14A-4B8B-8CEB-74A5D8209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1B59-FD9F-40D6-9B2F-851F64F06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562D9-9DA6-4ACE-86D8-59D6D8560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3D57-F5CF-4EE6-9D5E-931429AA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B681-9E0D-48AA-8203-67335076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F32A-6EDF-4B36-8750-A47F2149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91FB-DD72-4BC1-A607-2EDE86DF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511CD-B9E9-49C9-AA42-92A93C50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E82C-C824-4E8E-A120-118F5288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FB47-ED62-48FA-BF9A-38941E1C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FE55-9857-4673-8426-9FAA18D9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8CDC-CE57-4825-8AF8-2F42D6F6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1C1A-0E24-4648-BDC9-02B624CA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A0EC-ED44-42D7-B376-62003047B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4CDD-31C7-46D7-8869-EF59CE70E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DA96-E4A2-443B-BAE2-D234C4F5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7A2A-E383-4DAD-BE74-1026DF7C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9802-559A-48A4-AC96-8A215954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CC27-13C3-4D33-999A-31DE5554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6124-D697-48AE-96EB-26786469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0AFC-330A-4A2A-BF14-C8EB7062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4AEC-040F-4701-A3E2-F416BCF0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9BDE-9453-480B-A4C8-D030FE05AF56}" type="slidenum">
              <a:rPr b="0" lang="es-A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7724-428F-481C-A26A-11F4F2195804}" type="slidenum">
              <a:rPr b="0" lang="es-A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30240"/>
            <a:ext cx="77724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ahoma"/>
              </a:rPr>
              <a:t>16º Simposio sobre Legislación Tributaria Argentina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ahoma"/>
              </a:rPr>
              <a:t>Comisión Nº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ahoma"/>
              </a:rPr>
              <a:t>“</a:t>
            </a:r>
            <a:r>
              <a:rPr b="1" i="1" lang="en-US" sz="2800" spc="-1" strike="noStrike">
                <a:solidFill>
                  <a:srgbClr val="cc0000"/>
                </a:solidFill>
                <a:latin typeface="Tahoma"/>
              </a:rPr>
              <a:t>Aspectos Conflictivos en el IVA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ahoma"/>
              </a:rPr>
              <a:t>Planteo de los temas a desarrol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svaldo Balá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EB34-EE59-40E5-AEC8-D65DD303081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99"/>
                </a:solidFill>
                <a:latin typeface="Tahoma"/>
              </a:rPr>
              <a:t>Restricciones al cómputo de Créditos Fisc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ey 24.475 (31/03/95). Decreto 733/20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 se consideran vinculadas con las operaciones gravadas determinadas prestaciones, locaciones y compras de cosas mue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icción tributaria. Ajuste “burdo”. Intención evitar maniobras de contribuy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utomóviles. Concepto “similares”.Casos de jurisprud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onto de $ 20.000 vigente desde 200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Osvaldo Balá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3FD6-F1C0-4043-8F64-ACBF64E7EB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99"/>
                </a:solidFill>
                <a:latin typeface="Tahoma"/>
              </a:rPr>
              <a:t>Restricciones al cómputo de créditos fisc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ompra de indumentar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estaciones y locacio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Bares, hoteles, restauran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Tratamiento de consumidores fina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 nota 84/2014 de la AFIP y la RG 36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Osvaldo Balá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6892-8B14-4821-8BE3-3D31EF83C3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99"/>
                </a:solidFill>
                <a:latin typeface="Tahoma"/>
              </a:rPr>
              <a:t>Fideicomisos de constr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ideicomisos de construcción y adjudicación al costo vs. Fideicomisos que venden a tercer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sorcios de construcción integrados por personas físicas. Dictámenes DATJ 43/85 y 47/8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ideicomisos de construcción. Dictámenes DAT 55/2005, 16/2006 y 18/2006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¿Quién es la empresa constructora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Valor de la adjudicación: Costo o valor de plaza? Dictámenes DIALIR 08 Y 09/201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Osvaldo Balá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D5D2-F59A-4BD3-A136-556F439C15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99"/>
                </a:solidFill>
                <a:latin typeface="Tahoma"/>
              </a:rPr>
              <a:t>Fideicomisos de constr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Tahoma"/>
              </a:rPr>
              <a:t>Fallo CNCAF, Sala II, Mariana López, 06/08/2013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Tahoma"/>
              </a:rPr>
              <a:t>¿El Fideicomiso es sólo un vehículo neutro?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Tahoma"/>
              </a:rPr>
              <a:t>¿El fiduciante sólo se habría desprendido transitoriamente de los bienes?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Tahoma"/>
              </a:rPr>
              <a:t>¿Entonces quién es la empresa constructora en el IVA?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Osvaldo Balá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E5D3-B338-4E9C-99CF-83952AA6FA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99"/>
                </a:solidFill>
                <a:latin typeface="Tahoma"/>
              </a:rPr>
              <a:t>IVA y diferencias de camb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Las diferencias de cambio son “cargos financieros o actualizaciones”? Dictamen DAT 24/9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ey del IVA Art. 10 Ley 5º párrafo, punto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¿La diferencia de cambio generada sobre el IVA de la factura original también debe gravarse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osturas contrapuest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Osvaldo Balá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7A2B-EBE8-4A5C-83AE-FD7C708027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99"/>
                </a:solidFill>
                <a:latin typeface="Tahoma"/>
              </a:rPr>
              <a:t>El IVA y la Construcció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l elemento subjetivo en el hecho imponible obras sobre inmueble propio. Art. 5º DR su crít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¿Qué debe entenderse por “construcciones de cualquier naturaleza en el hecho imponible trabajos sobre inmueble ajen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oblemas con la reducción de la tasa del I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¿Qué se entiende por destino viviend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Obras de infraestructu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 Incorporación de materi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Osvaldo Balá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5BD1-1F9E-4B05-9684-2E82629E4BC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99"/>
                </a:solidFill>
                <a:latin typeface="Tahoma"/>
              </a:rPr>
              <a:t>El IVA y la Actividad Agropecuari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ecios a fijar. El Dictamen DAT 164/94. Aclaraciones reglamentari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pción de pago anual. ¿Qué debe entenderse por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“Responsables cuyas operaciones correspondan exclusivamente a la actividad agropecuaria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blemas con la reducción de la alícuota para determinadas actividades agropecuari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G 2300. las distorsiones que origina el régimen de retención y la devolución sistém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Osvaldo Balá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6A81-1D00-4E41-AA33-2C7A4D9126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3 Marcador de número de diapositiva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02F7-FF58-4564-9A95-20A015A1CBC9}" type="slidenum">
              <a:rPr b="0" lang="es-A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1143000" y="1000080"/>
            <a:ext cx="710424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99"/>
                </a:solidFill>
                <a:latin typeface="Berlin Sans FB"/>
              </a:rPr>
              <a:t>¡MUCHAS GRACIAS POR SU PACIENCIA Y ATENCIÓ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0000"/>
                </a:solidFill>
                <a:latin typeface="Berlin Sans FB"/>
              </a:rPr>
              <a:t>Osvaldo Bal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4 Rectángulo"/>
          <p:cNvSpPr/>
          <p:nvPr/>
        </p:nvSpPr>
        <p:spPr>
          <a:xfrm>
            <a:off x="1643040" y="4286160"/>
            <a:ext cx="6072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Osvaldo Balá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8005-65B9-4977-A092-A22CE1599549}" type="slidenum">
              <a:t>17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99"/>
                </a:solidFill>
                <a:latin typeface="Tahoma"/>
              </a:rPr>
              <a:t>Exportaciones de bie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bstáculos en el régimen del Art. 43 2º párrafo de la ley del I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bservaciones a los comprobantes que acreditan el impuesto a recuperar (ver fallo Bildow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plicación restringida del reintegro simplificado para PYMES (Anexo VI RG 2000; cada reintegro no debe exceder de $ 125.00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G 3397: No admisión de solicitudes a quienes registren deudas  líquidas y exigi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Osvaldo Balá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9AAD-7F40-4A41-B6E2-7C717989D8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99"/>
                </a:solidFill>
                <a:latin typeface="Tahoma"/>
              </a:rPr>
              <a:t>Exportaciones de bie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G 3397: “Inconsistencias” ¿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G 3577. Triangulación. No siempre es una maniobr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rrastra el pedido al titulo IV de la RG 2000 (Fiscalización previ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égimen de percepción en gananci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Osvaldo Balá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2246-D78A-40B4-9850-3CC2AB28B5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99"/>
                </a:solidFill>
                <a:latin typeface="Tahoma"/>
              </a:rPr>
              <a:t>Importaciones de servic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eforma del año 1998. Ley 25.06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Imperfeccio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asos en el cual no se aplica la norm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ómputo del Crédito Fiscal en el período siguie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Osvaldo Balá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8A7A-68AB-4418-BC3D-3EBB076578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99"/>
                </a:solidFill>
                <a:latin typeface="Tahoma"/>
              </a:rPr>
              <a:t>Importaciones de servic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acimiento del hecho imponi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Grossing up”. Fallo CSJN “Puentes del Litoral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roblema para los servicios realizados directamente en el país por sujetos del exteri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Osvaldo Balá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9193-4C4B-484E-979D-7736154B9D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99"/>
                </a:solidFill>
                <a:latin typeface="Tahoma"/>
              </a:rPr>
              <a:t>Operaciones transnacion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istinción entre prestaciones de servicios y “cesiones de intangibles puras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a retribuciones por intermediación internacional. Circular 1288/93. Fallos Tecnopel SA y Uniquim S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a sola existencia de una intermediación o permite inferir  la actividad  en el país de la empresa extranje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jor definición de “utilización efectiva en el paí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Osvaldo Balá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431B-4B69-43C8-B1BD-C68EF02FEA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99"/>
                </a:solidFill>
                <a:latin typeface="Tahoma"/>
              </a:rPr>
              <a:t>Señas o anticipos que congelan prec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rigen de la norma. Ley 23.871. Año 199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ala definición legal y ausencia de normas reglamentari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¿Qué significa “congelamiento de precio”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scasa jurisprudencia. Fallo TFN “Equipos SA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Osvaldo Balá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CDCF-E10A-476A-A6D1-0E0765025E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99"/>
                </a:solidFill>
                <a:latin typeface="Tahoma"/>
              </a:rPr>
              <a:t>Señas o anticipos que congelan prec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l problema con las obras sobre inmueble prop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Base imponible. Art. 25 y 45 del DR. RG 707/9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Bienes mue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nflicto entre el último párrafo del Art. 5º y el segundo párrafo del Art. 6º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Osvaldo Balá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3CE8-C987-48F4-9700-7EA0A6EF71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99"/>
                </a:solidFill>
                <a:latin typeface="Tahoma"/>
              </a:rPr>
              <a:t>Quitas concur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Art. 11 y 12 de la ley del IVA. Tratamiento de descuentos, bonificaciones, quitas, devoluciones o rescisiones ,que respecto de los precios netos se logren u otorguen respectivam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Costumbres de plaza. Similitud o diferencia entre quitas concursales y las quitas definidas por la ley del IV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Distintas posturas doctrinari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Dictamen 48/2006 Procurador el Tesoro. Fallos Meluk Import SA CNCACF. En sentido contrario Yali SA TFN Sala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Dictamen de la Procuradora General de la Nacion en Celulosa Campana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Osvaldo Balá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7E5C-8280-49C0-873E-B87A3DE488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7T16:32:18Z</dcterms:created>
  <dc:creator>Osvaldo Balan</dc:creator>
  <dc:description/>
  <dc:language>en-US</dc:language>
  <cp:lastModifiedBy>Hernán Castillejo</cp:lastModifiedBy>
  <dcterms:modified xsi:type="dcterms:W3CDTF">2014-10-03T16:00:45Z</dcterms:modified>
  <cp:revision>127</cp:revision>
  <dc:subject/>
  <dc:title>Diapositiva 1</dc:title>
</cp:coreProperties>
</file>