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C77-E720-4E0C-B8AB-B2F14D47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937-843E-4598-806F-E7C7F048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87D-9A07-40D2-9521-34659A9C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D66-C130-4C7D-B26D-071C02CD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7C4-9375-41A0-A6B9-50437D0E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5B4-5B48-44FF-96CC-7377C1F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DF5-B636-4BA1-9A99-48667531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F04-07D1-4E54-A449-7EE7E21A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895-D98B-43AD-9A7E-C4A44F78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1C1-6E79-4323-B6DA-8DC421F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F98-504E-4164-9FC0-350F65BE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373-1A04-4E3E-BA85-E69468BF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328E-E370-48CB-9A99-D74A96D82A93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C795-E509-42B7-8B72-0FB164B7A2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s-AR" sz="3600" spc="-1" strike="noStrike" u="sng">
                <a:solidFill>
                  <a:srgbClr val="000000"/>
                </a:solidFill>
                <a:uFillTx/>
                <a:latin typeface="Arial"/>
              </a:rPr>
              <a:t>BREVE REPASO DE CIERTAS CUESTIONES CONTROVERTIDAS EN MATERIA DE COMPETENCIA DEL TRIBUNAL FISCAL DE LA NACIÓN”</a:t>
            </a:r>
            <a:br>
              <a:rPr sz="3600"/>
            </a:br>
            <a:br>
              <a:rPr sz="40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Autores: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AGUERREGOYHEN, Karen Daiana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CAROGANA, María del Rosario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GALARZA, Juan Car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792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CD7-1725-4AD9-8AC7-DAA5426F3F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86425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s de naturaleza determinativa dictados sin cumplir la forma de determinación de ofi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ciones en materia de seguridad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ciones que anulan los beneficios impositivos obtenidos de regímenes de promo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ciones que dan por decaídos regímenes de facilidades de p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</a:rPr>
              <a:t>TEMÁTICAS ABORD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89960" y="6461280"/>
            <a:ext cx="66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555-581D-4978-9C34-EC4667DEF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indagar acerca de la naturaleza jurídica del acto administrativo (determinativa- sancionator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e puede condicionar la recurribilidad del acto a meras cuestiones de forma (Ej: actos de naturaleza determinativ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alizar la realidad más allá de la letra de la ley- muchas veces obsole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rpretación amplia de la compete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</a:rPr>
              <a:t>PROBLEM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468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ADF-3948-4F2A-A98C-342604B445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</a:rPr>
              <a:t>CONSECUENCIAS PRÁC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ación de garantías constitucionales (Derecho de defensa- Debido proceso- Propieda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rtidumbre jur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endio jurisdic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érdida de tiempo para el propio Fisco y, en consecuencia, afectación de la Hacienda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5468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979-0D59-4AD8-AE69-38F8CBA099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mbio legislati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rpretación armónica de las normas que rigen la ma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un fallo plenario de la C.N.A.C.F. con relación a la competencia del T.F.N. en materia de caducidad de planes de facilidades de pago, y resoluciones que anulan los beneficios obtenidos de regímenes de promoció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</a:rPr>
              <a:t>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5468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AB1-76B2-48F8-86A2-1F0B8E1E70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1A3-2C6B-4D42-9722-B48BB47DC7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PC-Milagros</cp:lastModifiedBy>
  <dcterms:modified xsi:type="dcterms:W3CDTF">2014-09-29T21:33:41Z</dcterms:modified>
  <cp:revision>16</cp:revision>
  <dc:subject/>
  <dc:title>Diapositiva 1</dc:title>
</cp:coreProperties>
</file>