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3B7-A0C4-4231-AD37-05122785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03C-2944-4D13-8C5B-2EB9A887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84D-037E-462B-9565-EDBA4936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C58-9EEE-42C6-9932-1DF38CBB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F12-7685-4B35-AE29-509760EC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042-F2B6-405D-B9EE-9595C747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8C9-F41C-45CF-BE5C-F3C226C5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CEB-8ADA-48FA-8189-9F2A2938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02F-991C-4235-AAAA-BA093DB9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4EC-C2AF-4ED0-97F5-6190EBF3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7E0-04FA-4B24-895C-C6E3DCB5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AD8-8973-47E5-A1C0-0C8FEA3B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45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67640" y="5229360"/>
            <a:ext cx="97164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5° Simposio sobre Legislación Tributaria Argentin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“El Agente Fiscal Encubierto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Dr. (Abog.)  Fernando PIERR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Dr. (CPN y Abog.) Alejandro GROSSO GRAZIOL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Srta. Paula A. NEI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Agente Encubierto”. Restriccion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SJN, 1990:  “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Fiscal c/Fernández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” [considerando 10]: “Que es criterio de esta Corte qu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l empleo de un agente encubierto para la averiguación de los delito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no es por sí mismo contrario a garantías constitucion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(…) el hecho comprobado de qu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iertos delitos de gravedad se preparan e incluso ejecutan en la esfera de intimida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 los involucrados en ellos, como sucede particularmente con e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áfico de estupefacien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impone reconocer que esos delitos sólo son susceptibles de ser descubiertos y probados si lo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órganos encargados de la prevención logran ser admitidos en el círculo de intimida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 el que ellos tienen lugar. Por tal razón, un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rpretación prudencial de las garantías proces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ntenidas en la Constitución Nacional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ermite aceptar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bajo ciertas restriccion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, el empleo de agentes encubierto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61EA-5C12-4957-B2FE-C0A850FD5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Agente Encubierto”. Medida Preventiv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 incontestable su asimilación al instituto de l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ausura preventi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Otro de los instrumentos que detenta el Fisco en el mencionad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rtículo 35 de la ley N° 11.683, inciso f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 norm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culta al funcionario autorizad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ausurar preventivament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  establecimiento cuando se constate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 situ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gunas de l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ductas tipificadas en el artículo 4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PT 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currentemente exista un grave perjuici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 el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ponsable registre antecedent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 AFIP ha aplicado la clausura preventiva en el entendimiento qu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 medida no constituye una sanción sino un medio para evitar que se continúe cometiendo una infracció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y evitar la desaparición de la documentac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ític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usencia de imparcialidad e independenci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 la decisión de aplicar un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anción de estricto carácter pena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yo perjuicio no podrá ser subsanado por el control judicial posteri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B3D4-4037-4891-AC20-9DBE539D9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Ppio. Innominado “Razonabilida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principio innominado de “razonabilidad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de las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leyes”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 surge de los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artículos 14, 17, 28 y 33 CN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que proclama que los derechos contenidos no son absolutos y que están sujetos a las leyes que reglamentan su ejercici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Es la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Calibri"/>
              </a:rPr>
              <a:t>adecuación o proporcionalidad de los me-dios elegidos en procura del cumplimiento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Calibri"/>
              </a:rPr>
              <a:t> de fin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(Linares): “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axiología jurídica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 se habla de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razonabilidad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 cuando se busca el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fundamento de los valores específicos del plexo axiológico”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Se distingue entre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razonabilidad de ponderación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razonabilidad de selecció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FEFE-1BDC-4002-80D3-09F150FB4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Ppio. Innominado “Razonabilida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Tanto la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endonorma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 como la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perinorma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 se estructuran con un antecedente y consecuent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En la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Calibri"/>
              </a:rPr>
              <a:t>endonorma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, a determinada situación jurídica (Antecedente) se exige una determinada acción u omisión (Consecuente): El contribuyente que obtiene renta por el ejercicio de una actividad económica tiene la obligación de inscripció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En la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Calibri"/>
              </a:rPr>
              <a:t>perinorma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, ante su incumplimiento se aplica una sanción (Consecuente): la no inscripción de quien estuviese obligado hacerlo es sancionado con clausur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Linares entiende que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debe darse cierta igualdad o equivalencia axiológica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entre el antecedente y consecuent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D96C-C27E-4491-9191-A59F04BBE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Ppio. Innominado “Razonabilida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n el presente trabajo se focaliza en la </a:t>
            </a: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razonabilidad de la instrumentación de técnicas alternativas de investigación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. No en el consecuente de la perinorma (sanción de clausura) sino en el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procedimiento elegido por la AFIP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para la constatación de conductas tipificad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l parámetro utilizado por la  jurisprudencia para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analizar la adecuación de los medios utilizado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es el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principio de igualdad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o, en palabras de Linares, la “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razonabilidad de selección”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SJN, 2010:  “</a:t>
            </a: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AFIP c/Intercorp S.R.L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.”: “Que para evaluar la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razonabilidad de la norma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en cuestión corresponde </a:t>
            </a: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examinar también si el medio escogido por el legislador resulta idóneo para alcanzar los fines que se propon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y si la restricción que conlleva guarda proporción con los beneficios que se derivan de aquellos fines.” (Considerando 4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D8AF-E738-4F6A-9F43-FBE5818E1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Jurisprudencia Específic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Cám. Nac. en lo Penal Econ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, Sala B, 09-03-2009, “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Bogado, Stella Maris s/ inf. Ley 11.683)”: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“(…) para determinar la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pertinencia y la validez de la orden del juez administrativo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de ordenar la actuación de un funcionario encubierto </a:t>
            </a: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debe verificarse la existencia previa a aquella orden de los “antecedentes fiscales”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aludidos por la norma en examen, así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como la consideración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de los mismos por el funcionario autorizado para otorgarla”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l Tribunal sostuvo en el citado caso que “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de otorgarse entidad de ‘antecedente fiscal’ a la llamada denuncia anónima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, no podría evitarse que el propio organismo administrativo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pudiera autoestimularse para autorizar a sus funcionarios a actuar de manera encubierta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, situación que inequívocamente no es la pretendida por la disposición legal que se examina(…)”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BB86-A44E-4CF5-93DE-A08746839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Jurisprudencia Específica I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Cám. Nac. en lo Penal Econ.</a:t>
            </a:r>
            <a:r>
              <a:rPr b="0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Sala B, 09-03-2009, “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Bogado, Stella Maris s/ inf. Ley 11.683)”:  [ante denuncia anónima]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“se posibilitaría que la disposición en cuestión tenga como soporte un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dato conjetural a ser verificado y no un elemento cierto y objetivo, esto es, un ‘antecedente fiscal’, …”.       V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Cám. Nac. en lo Penal Econ.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, Sala A, 10-12-2007,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“Pippo SACI s/ infracción ley 11.683”: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esolvió que cuando el artículo 35 inciso g) hace referencia a “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antecedentes fiscales”, no se alude a los antecedentes que pudiera registrar un sujeto por infracciones fiscales anteriore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, sino, por el contrario, “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a toda información o dato obrante en el organismo recaudador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proveniente de denuncias efectuadas por particulares o de cualquier otro origen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158B-008A-4299-A4A7-8D42FC339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Garantía de No Autoincrimin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alibri"/>
              </a:rPr>
              <a:t>Convención Americana sobre Derechos Humanos, art. 8.2.g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, en virtud del cual: “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oda persona inculpada de delito tiene derecho(…) a no ser obligado a declarar contra sí mismo ni a declararse culpable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(…)” ; y el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alibri"/>
              </a:rPr>
              <a:t>art. 14.3.g del Pacto Internacional de Derechos Civiles y Políticos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, cuyo texto dispone que: “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Durante el proceso, toda persona acusada de un delito tendrá derecho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, en plena igualdad, a las siguientes garantías mínimas: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 no ser obligada a declarar contra sí misma ni a confesarse culpable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La garantía alcanza a: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1) La facultad de negarse a declarar; y 2) voluntariedad de la declaración del imputado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. Una interpretación aún más amplia implica que el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inculpado no pueda ser compelido a una activa contribución de las pruebas a su cargo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n el Agente Fedatario Encubierto los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medios empleados -infiltración como técnica investigativa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- resultan pues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irrazonables en relación al fin perseguido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, esto es, la correcta verificación y fiscalización de los deberes formales a cargo de los contribuyent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5BE7-D043-4F39-895B-F16D8BB61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Antecedente L Estupefacientes. L 24.424/95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, art. 6: Incorporase art 31 bis L 23.737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.  Agente encubierto en el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curso de una investigación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por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orden del juez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interviniente a cargo de fuerzas de seguridad en actividad,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si las finalidades de la investigación no pudieran ser logradas de otro mod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abe destacar que la postura que confiere </a:t>
            </a: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naturaleza cautelar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al agente fedatario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xige el cumplimiento de la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verosimilitud del derecho y peligro en la demora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La postura alternativa concedente de </a:t>
            </a: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naturaleza preventiva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a la figura en cuestión otorga un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margen de discrecionalidad al denominado juez administrativ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, con el único fundamento en la existencia de antecedentes fiscal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Sujeto a la </a:t>
            </a: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revisión judicial eficaz y eficient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a los fines del contralor, sino de todos los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conceptos jurídicos indeterminado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establecidos en el artículo 35 inciso g) analizado, como así también respecto del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procedimiento establecido en la citada norm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E67-8A68-4C05-B5B2-CC9F3B57A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LPT (L 26. 944 /05) Art. 35, Inc. 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Antecedentes: L Estupefacientes (24.424/9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Exposición Motivos L 26.944/05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Agente Encubierto: Medida Cautelar, Restricciones, Medida Preventiva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Principio Innominado “Razonabilidad”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Jurisprudencia específic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Agente Fedatario y la garantía de no autoincriminació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Conclusion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7323-CB32-4E93-AEBA-C1E94F593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LPT Art. 35 (L 26.044/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rt 35 (L26.044/04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): La AFIP tendrá amplios poderes para verificar en cualquier momento, inclusive respecto de períodos en curso, por intermedio de sus funcionarios y empleados, el cumplimiento que los obligados o responsables  den a las leyes, (…) , fiscalizando la situación de cualquier presunto responsable. En el desempeño de esta función la AFIP podrá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3979-DD1A-4E71-B405-17F66C970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LPT Art. 35 (L 26.044/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1970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Calibri"/>
              </a:rPr>
              <a:t>Art 35 (L26.044/04) Inc. g</a:t>
            </a: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i="1" lang="es-AR" sz="3000" spc="-1" strike="noStrike">
                <a:solidFill>
                  <a:srgbClr val="000000"/>
                </a:solidFill>
                <a:latin typeface="Calibri"/>
              </a:rPr>
              <a:t>Agente Fedatario</a:t>
            </a: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Autorizar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, mediante orden de </a:t>
            </a: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juez administrativo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, a sus </a:t>
            </a: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funcionarios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que actúen 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en el ejercicio de sus facultades, </a:t>
            </a: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como compradores o locatarios de obras o servicios y constaten el cumplimiento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, por parte de los vendedores o locadores, de la </a:t>
            </a: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obligación de emitir y entregar facturas y comprobantes equivalentes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, con los que documenten las respectivas operaciones, ….”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La orden del juez administrativo </a:t>
            </a: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deberá estar fundada en los antecedentes fiscales 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que respecto de los vendedores y locadores obren en la citada AFIP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1FB1-880C-4F32-8A40-697F608F5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Antecedentes: L Estupefacient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 24.424/95: Exposición Motivos.  Modif. L 23.73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otar o brindar al sistema penal encargado de investigar y sancionar los delitos vinculados con el narcotráfico de los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medios adecuados para mejorar su eficaci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”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 reglamenta la utilización de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gentes encubiertos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, que deberán ser miembros de las fuerzas de seguridad en actividad, y las consecuencias que aparejará su gestión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 deja asimismo en claro que la idoneidad de tales medios -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gente encubierto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y la figura del “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rrepentido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”- “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no debe ir en detrimento de la plena vigencia de los principios, derechos y garantías constitucionales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91C0-3D54-4EA7-A731-61D5E7882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Antecedentes: L Estupefacient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L 24.424/95, art. 6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: Incorporase art 341 bis L 23.737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Artículo 31 bis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: Durante el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Calibri"/>
              </a:rPr>
              <a:t>curso de una investigación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y a los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efect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de comprobar la comisión de algún delito previst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en esta ley o en el artículo 866 del Código Aduanero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de impedir su consumación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de lograr la individualización o detención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de los autores, partícipes o encubridore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o para obtener y asegurar los medios de prueba necesario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Calibri"/>
              </a:rPr>
              <a:t>JUEZ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 por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resolución fundada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podrá disponer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si las finalidades de la investigación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Calibri"/>
              </a:rPr>
              <a:t>no pudieran ser logradas de otro modo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que agentes de las fuerzas de seguridad en actividad, actuando en forma encubierta: (…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07CB-709F-4251-B9FE-B27C3A3385C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L 26.044/05:  Exposición Motivo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endo el objetivo primordial “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tar de mayor capacidad a la AFI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”, mejorando de ese modo las herramientas que dicho ente fiscal tenía a su disposición, en aras 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batir la evasió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diante un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ctividad fiscalizador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materializada mediante l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imulación de compras de bienes y servicio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 ponderó com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ecesaria la presencia del organismo fiscal al momento de perfeccionarse la operació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compra de bienes o servicios-, lo cual justificaría e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cultamiento de la calidad de funcionario fiscalizado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IP afirmó que se trabajaría sólo sobre aquellos casos en los que se reciba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nuncias 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uand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ubiera evidencias de conductas reiterad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ativas a la falta de emisión de facturas o comprobant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4AAC-81DA-4D8F-A117-6C5A33BFC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Agente Encubierto” Medida Cautelar.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 doctrina ha caracterizado a las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facultades enumeradas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en art. 35 como “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autelares o precautorias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”. La instrumentación del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gente fedatario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se basa en la “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eligrosidad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” o “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riesgo eminente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” de incrementar el perjuicio al Fisc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fundamento de la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garantía jurisdiccional cautelar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stá vinculado a una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situación de urgencia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que requiere una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solución inmediata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los efectos de resguardar derech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or tanto, se exige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Verosimilitud del derecho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Fumus bonis iuris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) y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Peligro en la demor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Periculum in mor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o es un método de carácter subsidiario sino el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reemplazo de un método de investigación ordinario por otro más gravoso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l derecho a la intimida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A3E5-4B8D-479F-BD28-CDD717148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Agente Encubierto”. Restriccione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SJN, 2010:  “</a:t>
            </a: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AFIP c/Intercorp S.R.L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.”: “Que las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medidas cautelare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, … , se dictan dentro del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marco de un </a:t>
            </a: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proceso judicial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en el cual el juez sigue teniendo la facultad de convalidarlas o revocarla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. Por ende se recuerda que la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ejecución fiscal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sigue siendo un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proceso ejecutivo de neto corte judicial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donde, merced a la presencia de un magistrado, existe siempre la posibilidad de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revisar lo ocurrido en él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. A esa revisión judicial cabe agregar la posibilidad de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revisión en juicio ordinari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.”(Consid. 40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imparcialidad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es el mayor impedimento para la aceptación de tareas de investigación encubiertas. El denominado “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juez administrativo” autorizante es parte de la Administración fiscal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y, por ende, su accionar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carece de la independencia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que exige nuestra Carta Magna al consagrar el sistema republican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PCE 15° Simposio sobre Legislación Tribut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nte Fedatario Fiscal Art. 35 Inc. 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2BEA-2849-429E-B4ED-10CEAFEE9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1:01:37Z</dcterms:created>
  <dc:creator>WinuE</dc:creator>
  <dc:description/>
  <dc:language>en-US</dc:language>
  <cp:lastModifiedBy>Paula Neira</cp:lastModifiedBy>
  <dcterms:modified xsi:type="dcterms:W3CDTF">2013-08-06T01:19:37Z</dcterms:modified>
  <cp:revision>38</cp:revision>
  <dc:subject/>
  <dc:title>15° Simposio sobre Legislación Tributaria Argentina  “El Agente Encubierto Fiscal”</dc:title>
</cp:coreProperties>
</file>