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FBBE-6144-40B9-AF90-5050436B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861C-2D82-40EE-B7DF-15FCC0E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89EC-81A3-47B9-AC5D-52211ED5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A7C3-AD28-4546-AA23-2B35B4ED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5D54-49BA-44CA-97E8-652031D5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A4B-74E3-4990-8106-FC53A977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BF45-1EE6-4319-AF29-A1C9CF30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9BF-A2D4-49AE-B0B6-78E083D4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0D33-22A3-4E3D-8C3D-955303A3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D8CD-6490-407F-ABB6-29ACF41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AA91-5257-4119-B946-4CB7F2DF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BF86-6BB8-4810-BA32-FF58AA5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479-24BF-4E78-BE10-CA53A2C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B062-1AB5-4F8E-BC2B-F1989E7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C04A-F302-4CF3-B4EC-0941CF7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857C-62DC-45EC-95DD-B8497F9C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EB0C-D6E6-4DC8-A663-C0F982FA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24FA-EA7D-48CD-8908-81CB97C3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0846-6EC0-48D5-834D-E1C96BC4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C9D3-B362-4D47-88FA-AE80AF0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5667-8C40-40DD-8BB8-F747310F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CBDC-9B5C-4ACF-AB56-7AC7C52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7090-8302-4C96-9134-A7F342D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C297-4D0D-4F22-986B-1DB46AB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BE69-57B9-4DDF-ADC9-CFB6CDB7060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d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e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aee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d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ef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aeef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FB1-15ED-4E2A-80F3-D4C67910FC1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4000" spc="-1" strike="noStrike">
                <a:solidFill>
                  <a:srgbClr val="47f775"/>
                </a:solidFill>
                <a:latin typeface="Garamond"/>
              </a:rPr>
              <a:t>UNIFICACIÓN  CÓDIGO CIVIL Y COMERCIAL</a:t>
            </a:r>
            <a:br>
              <a:rPr sz="1100"/>
            </a:br>
            <a:r>
              <a:rPr b="1" lang="es-MX" sz="4000" spc="-1" strike="noStrike">
                <a:solidFill>
                  <a:srgbClr val="eaeefa"/>
                </a:solidFill>
                <a:latin typeface="Garamond"/>
              </a:rPr>
              <a:t>Implicancias en materia societaria</a:t>
            </a:r>
            <a:br>
              <a:rPr sz="4000"/>
            </a:br>
            <a:br>
              <a:rPr sz="4000"/>
            </a:br>
            <a:r>
              <a:rPr b="1" lang="es-MX" sz="3200" spc="-1" strike="noStrike">
                <a:solidFill>
                  <a:srgbClr val="eaeefa"/>
                </a:solidFill>
                <a:latin typeface="Garamond"/>
              </a:rPr>
              <a:t>15° Simposio sobre Legislación </a:t>
            </a:r>
            <a:br>
              <a:rPr sz="3200"/>
            </a:br>
            <a:r>
              <a:rPr b="1" lang="es-MX" sz="3200" spc="-1" strike="noStrike">
                <a:solidFill>
                  <a:srgbClr val="eaeefa"/>
                </a:solidFill>
                <a:latin typeface="Garamond"/>
              </a:rPr>
              <a:t>Tributaria Argentina </a:t>
            </a:r>
            <a:br>
              <a:rPr sz="3200"/>
            </a:br>
            <a:r>
              <a:rPr b="1" lang="es-MX" sz="2800" spc="-1" strike="noStrike">
                <a:solidFill>
                  <a:srgbClr val="eaeefa"/>
                </a:solidFill>
                <a:latin typeface="Garamond"/>
              </a:rPr>
              <a:t>C.P.C.E.C.A.B.A.</a:t>
            </a:r>
            <a:br>
              <a:rPr sz="2000"/>
            </a:br>
            <a:r>
              <a:rPr b="0" lang="es-MX" sz="2000" spc="-1" strike="noStrike">
                <a:solidFill>
                  <a:srgbClr val="eaeefa"/>
                </a:solidFill>
                <a:latin typeface="Garamond"/>
              </a:rPr>
              <a:t>07 al 09-08-2013</a:t>
            </a:r>
            <a:br>
              <a:rPr sz="2000"/>
            </a:br>
            <a:br>
              <a:rPr sz="4000"/>
            </a:br>
            <a:r>
              <a:rPr b="0" lang="es-MX" sz="3600" spc="-1" strike="noStrike">
                <a:solidFill>
                  <a:srgbClr val="eaeefa"/>
                </a:solidFill>
                <a:latin typeface="Garamond"/>
              </a:rPr>
              <a:t>Expositor: Jorge D. Jalfin</a:t>
            </a:r>
            <a:br>
              <a:rPr sz="3600"/>
            </a:br>
            <a:br>
              <a:rPr sz="2800"/>
            </a:br>
            <a:br>
              <a:rPr sz="1200"/>
            </a:br>
            <a:r>
              <a:rPr b="0" lang="es-MX" sz="3200" spc="-1" strike="noStrike">
                <a:solidFill>
                  <a:srgbClr val="eaeefa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eaeef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Contratos Asociativo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42560" y="177300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Restricciones actu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proyec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Contabilidad y Estados Contable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26560" y="2276280"/>
            <a:ext cx="78598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proyec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Sujetos oblig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Exclusio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Introducción</a:t>
            </a:r>
            <a:r>
              <a:rPr b="0" lang="es-MX" sz="4400" spc="-1" strike="noStrike">
                <a:solidFill>
                  <a:srgbClr val="eaeefa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8137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Comisión Redacto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7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ntecede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Proyecto remitido al Congre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7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Cambios introduci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7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Su justific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Comisión Bicamer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7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Situación act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Sociedades unipersonale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Legislación compar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Justificación teór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Principales crític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Divergencias del Proyecto del P.E.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 algn="just">
              <a:lnSpc>
                <a:spcPct val="90000"/>
              </a:lnSpc>
              <a:spcBef>
                <a:spcPts val="700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SAU (sociedad anónima uniperson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- Fiscalización esta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- Directo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- Sindicatu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Sociedades entre cónyuge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Restricciones actu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Justific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Tratamiento proyec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24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Texto legal. Circular AFIP 8/201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Dictámenes AFI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- DAL 110/00; DAT 13/00; DAL 52/0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 algn="just">
              <a:lnSpc>
                <a:spcPct val="90000"/>
              </a:lnSpc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Jurisprud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- Nesci, Ana M. (C.N.C.A.F. - Sala III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- Cecowski, Jorge B. (T.F.N. - Sala 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Sociedades por acciones como socios de otras sociedade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42560" y="177300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Restricciones actu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proyec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Sociedades civiles, irregulares y de hecho. Sociedades simples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Derogación del tipo: sociedades civ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176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Creación de nuevo tipo: sociedades sim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Irregula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De hech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Garamond"/>
              </a:rPr>
              <a:t>Civi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Represen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176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Responsabilidad de los so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176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Adquisición de bienes registr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176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Garamond"/>
              </a:rPr>
              <a:t>Tratamiento tributario genér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Sociedades del art. 49 b) LIG con actividades del art. 79 incs. f) o g)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Tratamiento tribut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No complementa “explotación comerci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Concepto de renta aplic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Criterios de i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Cómputo de exenci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Unidad de determinación societa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Cálculo de retenciones (RG 830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Precedentes de la Administración Fiscal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Concepto de “empresa”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Equiparación a “explotación comerci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Distingo conforme se “lleven libro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Tratamiento en Ingresos Brutos de CA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Dictámen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Dict. (DAT) 49/20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Dict. (DAT) 36/200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Consulta Vinculante (SDGTLI) 38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601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</a:rPr>
              <a:t>Dict. (DAT) 55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MX" sz="9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7f775"/>
                </a:solidFill>
                <a:latin typeface="Garamond"/>
              </a:rPr>
              <a:t>Precedentes profesionales y de jurisprudencia más reciente</a:t>
            </a:r>
            <a:endParaRPr b="1" lang="en-US" sz="4400" spc="-1" strike="noStrike">
              <a:solidFill>
                <a:srgbClr val="eaeefa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6756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Informe 01/2004 del CPCECAB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Fallos “Ramos, Jaime Francisco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T.F.N. - Sala D - 07/02/200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499"/>
              </a:spcBef>
              <a:buClr>
                <a:srgbClr val="47f775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C.N.A.C.A.F. - Sala I - 06/06/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Fallo “Paracha, Jorge D.” - 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T.F.N. – Sala B – 04/12/200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Fallo “Viñals Blake P.D.” - 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T.F.N. – Sala B – 11/12/200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Fallo “Pistrelli Díaz y Asoc.” - 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C.N.A.C.A.F. - Sala IV – 25/08/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66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Garamond"/>
              </a:rPr>
              <a:t>Fallo “Richelet, Martha” - </a:t>
            </a:r>
            <a:r>
              <a:rPr b="1" lang="es-MX" sz="2000" spc="-1" strike="noStrike">
                <a:solidFill>
                  <a:srgbClr val="ffffff"/>
                </a:solidFill>
                <a:latin typeface="Garamond"/>
              </a:rPr>
              <a:t>T.F.N. - Sala B – 19/04/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55:16Z</dcterms:created>
  <dc:creator>Jorge</dc:creator>
  <dc:description/>
  <dc:language>en-US</dc:language>
  <cp:lastModifiedBy>Jorge Jalfin</cp:lastModifiedBy>
  <dcterms:modified xsi:type="dcterms:W3CDTF">2013-08-05T04:12:01Z</dcterms:modified>
  <cp:revision>116</cp:revision>
  <dc:subject/>
  <dc:title>PROYECTO DE LEY    Expte.40-PE-03</dc:title>
</cp:coreProperties>
</file>