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F379-E1CF-4A82-9013-5D7AA886F784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858D-D5D7-4F80-81FD-B5B56CECCB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6CD-3180-4491-B7F3-40DE364948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CA1-497B-4094-B00D-F2BEF5DD15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30E5-C5BC-458E-BC53-662B98A56F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7FF-B5BF-4371-8054-5AC373429E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534-3260-47C5-A313-E2897C6A0A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393-F9BD-4DA8-9473-A4ACB10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93E-E6EE-4730-B34A-35DB0E06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2E8-167F-45E3-8F7E-DF42FEC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54B-1F0E-4D2F-98AE-DB037C1F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5A9-EEFF-411E-9692-17A3FA3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3DF-4BC3-4DCB-9656-71BE2AE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FCB-3CC0-4C5B-90C5-AF9F06D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133-DF5A-4F43-BEA7-AB22682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9E3-CD4E-4D53-8014-93A8847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453-4C51-4536-B9E9-DA94F17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5CE-CC47-4F82-8B01-16EF628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D73-398B-4EF9-98B5-9EBDAEE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015-4D90-45CB-B84A-1C6147E86740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2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555-FE2D-4DB7-8727-DAD6CD94504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4360" y="476280"/>
            <a:ext cx="770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15º SIMPOSIO SOBRE LEGISLACIÓN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TRIBUTARIA ARGENTINA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692440" y="5357880"/>
            <a:ext cx="43797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Carolina Calello</a:t>
            </a:r>
            <a:endParaRPr b="0" i="1" lang="en-US" sz="30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14200" y="1773360"/>
            <a:ext cx="86788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Implicancias del proyecto de Código Civil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y Comercial en cuestiones vinculadas 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al procedimiento tributario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14800" y="642960"/>
            <a:ext cx="30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REPET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76360" y="1773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27280" y="411948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tuación actual: Admisión doctrinaria. Discrepancias jurisprud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56000" y="227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tuación actual: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56000" y="2781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yecto de reforma: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98680" y="354348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Reclamo administ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629080" y="5013360"/>
            <a:ext cx="48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yecto de reforma: incorporación como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1 Marcador de pie de página"/>
          <p:cNvSpPr/>
          <p:nvPr/>
        </p:nvSpPr>
        <p:spPr>
          <a:xfrm>
            <a:off x="2571840" y="5950080"/>
            <a:ext cx="4087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00000" y="692280"/>
            <a:ext cx="727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UESTIONES PROCE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Como ex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Admisión de la acción decla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00000" y="26416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ECLARACIÓN DE OFICIO DE LA PR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Impo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Admisión respecto al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Posibles cuestion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971640" y="476712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VIGENCIA DE LAS MOD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55640" y="54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RESCRIPCION EN MATERIA DE MU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03280" y="17762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APLICACIÓN DEL CODIG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ángulo 2"/>
          <p:cNvSpPr/>
          <p:nvPr/>
        </p:nvSpPr>
        <p:spPr>
          <a:xfrm>
            <a:off x="2303640" y="3645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Problemas que se plant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3"/>
          <p:cNvSpPr/>
          <p:nvPr/>
        </p:nvSpPr>
        <p:spPr>
          <a:xfrm>
            <a:off x="2340000" y="2762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Plazo: 2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ángulo 4"/>
          <p:cNvSpPr/>
          <p:nvPr/>
        </p:nvSpPr>
        <p:spPr>
          <a:xfrm>
            <a:off x="2312280" y="4489560"/>
            <a:ext cx="64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Interrupción por la comisión de otro del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55640" y="54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MPLICANCIAS DE LA REFORMA EN LA LEY 11.6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68360" y="1700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Dispensa de la prescripción. Art. 39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ángulo 2"/>
          <p:cNvSpPr/>
          <p:nvPr/>
        </p:nvSpPr>
        <p:spPr>
          <a:xfrm>
            <a:off x="900000" y="477828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Declaración de oficio. Vinculación con la nulidad del act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ángulo 3"/>
          <p:cNvSpPr/>
          <p:nvPr/>
        </p:nvSpPr>
        <p:spPr>
          <a:xfrm>
            <a:off x="826920" y="24019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Interru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4"/>
          <p:cNvSpPr/>
          <p:nvPr/>
        </p:nvSpPr>
        <p:spPr>
          <a:xfrm>
            <a:off x="1547640" y="292428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Reclamo administrativo previo. Otras interpretaciones. Art. 1 e) apartado 9. LN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99"/>
                </a:solidFill>
                <a:latin typeface="Times New Roman"/>
              </a:rPr>
              <a:t>- Inicio del nuevo cómputo en caso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99"/>
                </a:solidFill>
                <a:latin typeface="Times New Roman"/>
              </a:rPr>
              <a:t>- ¿Plazo de gra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NATOC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8360" y="14875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PROYECCIÓN DEL PRECEDENTE FILC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ángulo 1"/>
          <p:cNvSpPr/>
          <p:nvPr/>
        </p:nvSpPr>
        <p:spPr>
          <a:xfrm>
            <a:off x="1871640" y="420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Proyecto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ángulo 2"/>
          <p:cNvSpPr/>
          <p:nvPr/>
        </p:nvSpPr>
        <p:spPr>
          <a:xfrm>
            <a:off x="1908000" y="34815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Situación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ángulo 3"/>
          <p:cNvSpPr/>
          <p:nvPr/>
        </p:nvSpPr>
        <p:spPr>
          <a:xfrm>
            <a:off x="2340000" y="263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Causa CSJN Val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54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OCTRINA DE LAS CARGAS PROBATORIAS DINÁ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8360" y="15573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Carga de 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ángulo 1"/>
          <p:cNvSpPr/>
          <p:nvPr/>
        </p:nvSpPr>
        <p:spPr>
          <a:xfrm>
            <a:off x="2195640" y="378936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Cargas probatorias diná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ángulo 2"/>
          <p:cNvSpPr/>
          <p:nvPr/>
        </p:nvSpPr>
        <p:spPr>
          <a:xfrm>
            <a:off x="971640" y="278136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Presunción de legitimidad del act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ángulo 3"/>
          <p:cNvSpPr/>
          <p:nvPr/>
        </p:nvSpPr>
        <p:spPr>
          <a:xfrm>
            <a:off x="2340000" y="2133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El artículo 377 del CPC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1854360" y="443700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Su aplicación al procedimiento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ángulo 6"/>
          <p:cNvSpPr/>
          <p:nvPr/>
        </p:nvSpPr>
        <p:spPr>
          <a:xfrm>
            <a:off x="1702800" y="5067360"/>
            <a:ext cx="60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Incorporación de las cargas proba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dinámicas en 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28720" y="476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187280" y="12733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Ámbito provincial y muni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85880" y="227664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l caso “Filcrosa” y su posterior ra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ausas “Ullate” y “Bottoni”, entre o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50920" y="4365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ecepción de la doctrina por los Máximos Tribunales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vi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Marcador de pie de página"/>
          <p:cNvSpPr/>
          <p:nvPr/>
        </p:nvSpPr>
        <p:spPr>
          <a:xfrm>
            <a:off x="2714760" y="6165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26920" y="1871640"/>
            <a:ext cx="7490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NORMAS QUE REGULAN LA PRESCRIPCIÓN EN EL CÓDIGO CIV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Y LAS MODIFICACIONE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1 Marcador de pie de página"/>
          <p:cNvSpPr/>
          <p:nvPr/>
        </p:nvSpPr>
        <p:spPr>
          <a:xfrm>
            <a:off x="2714760" y="623736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71720" y="107172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efinición de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ángulo 3"/>
          <p:cNvSpPr/>
          <p:nvPr/>
        </p:nvSpPr>
        <p:spPr>
          <a:xfrm>
            <a:off x="1857240" y="2643120"/>
            <a:ext cx="547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Defini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ángulo 4"/>
          <p:cNvSpPr/>
          <p:nvPr/>
        </p:nvSpPr>
        <p:spPr>
          <a:xfrm>
            <a:off x="1928880" y="400068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Ausencia de definición en la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ángulo 5"/>
          <p:cNvSpPr/>
          <p:nvPr/>
        </p:nvSpPr>
        <p:spPr>
          <a:xfrm>
            <a:off x="1619280" y="5951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47640" y="765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LAZO DE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18921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Tributos de carácter perió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627280" y="24354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tuación actual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24000" y="3860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Res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92360" y="4292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tuación actual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Marcador de pie de página"/>
          <p:cNvSpPr/>
          <p:nvPr/>
        </p:nvSpPr>
        <p:spPr>
          <a:xfrm>
            <a:off x="2643120" y="6237360"/>
            <a:ext cx="4071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ángulo 1"/>
          <p:cNvSpPr/>
          <p:nvPr/>
        </p:nvSpPr>
        <p:spPr>
          <a:xfrm>
            <a:off x="2700360" y="3284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eforma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2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ángulo 2"/>
          <p:cNvSpPr/>
          <p:nvPr/>
        </p:nvSpPr>
        <p:spPr>
          <a:xfrm>
            <a:off x="2646000" y="521964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eforma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297080" y="401760"/>
            <a:ext cx="66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ÓMPUTO DEL INICIO DEL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9640" y="247320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99"/>
                </a:solidFill>
                <a:latin typeface="Times New Roman"/>
              </a:rPr>
              <a:t>Vencimiento de la obl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342900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as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 Marcador de pie de página"/>
          <p:cNvSpPr/>
          <p:nvPr/>
        </p:nvSpPr>
        <p:spPr>
          <a:xfrm>
            <a:off x="2786040" y="6165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26920" y="189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USPENSIÓN DE LA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24000" y="907920"/>
            <a:ext cx="82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Defin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16040" y="1484280"/>
            <a:ext cx="82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Situación a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4360" y="1989000"/>
            <a:ext cx="310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yecto de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2492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Supuesto de suspensión de la prescripción. Ubicación metod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71640" y="3357720"/>
            <a:ext cx="712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tuación actu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51040" y="386064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Intimación fehacien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spensión por única vez por un añ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71640" y="4724280"/>
            <a:ext cx="657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yecto de refor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9 Marcador de pie de página"/>
          <p:cNvSpPr/>
          <p:nvPr/>
        </p:nvSpPr>
        <p:spPr>
          <a:xfrm>
            <a:off x="2714760" y="6093000"/>
            <a:ext cx="41432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39840" y="5229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Mejora de la redacción y ub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Reducción a seis me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324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TERRUPCIÓN DE LA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92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340000" y="21337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-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338560" y="299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- Proyecto de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17800" y="371628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- Alcances del 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916360" y="429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- Plazo de g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Marcador de pie de página"/>
          <p:cNvSpPr/>
          <p:nvPr/>
        </p:nvSpPr>
        <p:spPr>
          <a:xfrm>
            <a:off x="2627280" y="6165720"/>
            <a:ext cx="4143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"/>
          <p:cNvSpPr/>
          <p:nvPr/>
        </p:nvSpPr>
        <p:spPr>
          <a:xfrm>
            <a:off x="1835280" y="5148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Re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RENUNCIA A LA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03280" y="12715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DISPENSA DE LA PR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ART. 39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ángulo 1"/>
          <p:cNvSpPr/>
          <p:nvPr/>
        </p:nvSpPr>
        <p:spPr>
          <a:xfrm>
            <a:off x="3203640" y="4869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Proyecto de reforma: seis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ángulo 2"/>
          <p:cNvSpPr/>
          <p:nvPr/>
        </p:nvSpPr>
        <p:spPr>
          <a:xfrm>
            <a:off x="3240000" y="429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Situación actual: tres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2340000" y="2762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ángulo 4"/>
          <p:cNvSpPr/>
          <p:nvPr/>
        </p:nvSpPr>
        <p:spPr>
          <a:xfrm>
            <a:off x="2434320" y="348156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06:56Z</dcterms:created>
  <dc:creator>WinuE</dc:creator>
  <dc:description/>
  <dc:language>en-US</dc:language>
  <cp:lastModifiedBy>Hernán Castillejo</cp:lastModifiedBy>
  <dcterms:modified xsi:type="dcterms:W3CDTF">2013-08-06T14:39:30Z</dcterms:modified>
  <cp:revision>6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5749593</vt:r8>
  </property>
  <property fmtid="{D5CDD505-2E9C-101B-9397-08002B2CF9AE}" pid="3" name="_AuthorEmail">
    <vt:lpwstr>carolinacalello@calelloconsultores.com.ar</vt:lpwstr>
  </property>
  <property fmtid="{D5CDD505-2E9C-101B-9397-08002B2CF9AE}" pid="4" name="_AuthorEmailDisplayName">
    <vt:lpwstr>Carolina Calello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