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B7E-3A4C-4B51-8179-CE6CB429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FCA-EF5B-4A13-B961-D5BC3B88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17F-C3A2-46F4-9669-8727A2C8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118-A978-420E-9AC8-05BE714B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6CC-C5AA-4B51-B508-33F7F1D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B7F-D8B4-4EFC-B7E3-CD07D4F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369-9C83-45AF-B7F7-92FE3BE9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6CC-DED5-4537-AC85-6679AC2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9CD-23A0-4206-A95D-A3A9B4D4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BB5-20C6-4A74-A146-5D328BA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250-C855-41CB-8D79-E8A4A7C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C97-2D7D-4B5E-9CF7-9E36145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B4F-8422-4FF0-AFCA-2A6C986C71A3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A21-40C4-4CC1-B4B4-B471941D7C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BF50-E2B9-4D90-8684-EF7EDA6AFAD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ecios de Transferencia en el Contexto de BEPS – Su Impacto e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44604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262673"/>
                </a:solidFill>
                <a:latin typeface="Arial"/>
                <a:ea typeface="Arial"/>
              </a:rPr>
              <a:t>Dr. Hernán H. Sor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B1D-182B-4171-B970-1D819C5C13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ocumento sobre Intan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signación del retorno que generan los intangibles de acuerdo con las funciones, activos y riesgos, relativizando la importancia económica de la titularida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horros por Locación y Características específicas de los mercados no son intangibles, pero deben ser tenidos en cuenta en el análisis de 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écnicas de 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tre otros aspectos significativos y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524-9339-41AA-8C33-9DF26E46FB3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ocumento sobre Intangibles: Perspectiva 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do que no existen normas complementarias ni específicas en Argentina, no surgen mayores contradicciones entre la norma argentina y las pautas o lineamientos de la OCDE. Fallo TFN Aventis Pha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osibles cambios en el comportamiento y visión de los Fiscos, entre ellos la AFIP, en lo que refiere al análisis de transacciones que involucren in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Medidas Especiales para Intangibles Difíciles de Valuar que se aparten del Principio Arm´s Length? Inconsistente con la Legislación v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E055-E95F-4E7F-BBD7-4E2E34C8D67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000000"/>
                </a:solidFill>
                <a:latin typeface="Arial"/>
              </a:rPr>
              <a:t>Profit Splits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(División de Gananci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Profit split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como medio para alcanzar uno de los objetivos principales de BEPS: alinear la asignación de rentas con la creación de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onoce la percepción de subjetividad que este método implica, dada la dificultad de verificar las llaves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B12F-B75A-47E7-9868-DCCAFDC96DE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000000"/>
                </a:solidFill>
                <a:latin typeface="Arial"/>
              </a:rPr>
              <a:t>Profit Splits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(División de Ganancias): Perspectiva 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 receptado por la Ley del Impuesto a las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ficultades/Imposibilidad práctica de aplicación como método de determinación de precios de transfer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200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sted Party local (Art. 9 de la RG 11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200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mpacto Fiscal (ej. Retenciones a Beneficiarios del Exterior, Deducibilidad), Aduanero, Camb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200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ficultades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200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usencia de un Régimen de Acuerdos Anticipados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34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A11E-080C-4167-A54F-BA2221CC7D8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2" name="Picture 14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484-CC37-4D38-9699-4ED6AE1CFE5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ecios de Transferencia en el Contexto de B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pic>
        <p:nvPicPr>
          <p:cNvPr id="52" name="Table 8" descr=""/>
          <p:cNvPicPr/>
          <p:nvPr/>
        </p:nvPicPr>
        <p:blipFill>
          <a:blip r:embed="rId3"/>
          <a:stretch/>
        </p:blipFill>
        <p:spPr>
          <a:xfrm>
            <a:off x="414360" y="1682640"/>
            <a:ext cx="82724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5B2-5F47-41A9-B039-D3CE8333FDD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Documentación de Precios de Transferencia (Acción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Documento Riesgo, Recaracterización y Medidas Especiales (Acciones 8, 9 y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Intangibles (Acción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Intangibles Difíciles de Valuar (Acción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División de Ganancias (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Profit Splits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) en el Contexto de Cadenas Globales de Valor (Acción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rvicios de Bajo Valor Agregado (Acción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cuerdos de Contribución de Costos (Acción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ransacciones Internacionales de 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Commoditie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(Acción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P: Documentos emitidos en el marco de B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6480" y="646128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281F-2F0B-4B1D-BB87-14D65BD27E4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ocumentación de Precios de Trans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27996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64" name="Freeform 17"/>
          <p:cNvSpPr/>
          <p:nvPr/>
        </p:nvSpPr>
        <p:spPr>
          <a:xfrm>
            <a:off x="2422440" y="1798560"/>
            <a:ext cx="3913200" cy="3913200"/>
          </a:xfrm>
          <a:custGeom>
            <a:avLst/>
            <a:gdLst/>
            <a:ahLst/>
            <a:rect l="l" t="t" r="r" b="b"/>
            <a:pathLst>
              <a:path w="3709797" h="3709797">
                <a:moveTo>
                  <a:pt x="1854898" y="0"/>
                </a:moveTo>
                <a:cubicBezTo>
                  <a:pt x="2517590" y="0"/>
                  <a:pt x="3129942" y="353542"/>
                  <a:pt x="3461288" y="927449"/>
                </a:cubicBezTo>
                <a:cubicBezTo>
                  <a:pt x="3792634" y="1501357"/>
                  <a:pt x="3792634" y="2208440"/>
                  <a:pt x="3461288" y="2782348"/>
                </a:cubicBezTo>
                <a:lnTo>
                  <a:pt x="1854899" y="1854899"/>
                </a:lnTo>
                <a:cubicBezTo>
                  <a:pt x="1854899" y="1236599"/>
                  <a:pt x="1854898" y="618300"/>
                  <a:pt x="1854898" y="0"/>
                </a:cubicBezTo>
                <a:close/>
              </a:path>
            </a:pathLst>
          </a:custGeom>
          <a:solidFill>
            <a:srgbClr val="000000">
              <a:alpha val="95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8"/>
          <p:cNvSpPr/>
          <p:nvPr/>
        </p:nvSpPr>
        <p:spPr>
          <a:xfrm>
            <a:off x="2341440" y="1938240"/>
            <a:ext cx="3913200" cy="3913200"/>
          </a:xfrm>
          <a:custGeom>
            <a:avLst/>
            <a:gdLst/>
            <a:ahLst/>
            <a:rect l="l" t="t" r="r" b="b"/>
            <a:pathLst>
              <a:path w="3709797" h="3709797">
                <a:moveTo>
                  <a:pt x="3461288" y="2782348"/>
                </a:moveTo>
                <a:cubicBezTo>
                  <a:pt x="3129942" y="3356256"/>
                  <a:pt x="2517590" y="3709798"/>
                  <a:pt x="1854898" y="3709798"/>
                </a:cubicBezTo>
                <a:cubicBezTo>
                  <a:pt x="1192206" y="3709798"/>
                  <a:pt x="579854" y="3356256"/>
                  <a:pt x="248508" y="2782349"/>
                </a:cubicBezTo>
                <a:lnTo>
                  <a:pt x="1854899" y="1854899"/>
                </a:lnTo>
                <a:lnTo>
                  <a:pt x="3461288" y="2782348"/>
                </a:lnTo>
                <a:close/>
              </a:path>
            </a:pathLst>
          </a:custGeom>
          <a:solidFill>
            <a:srgbClr val="666666">
              <a:alpha val="95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9"/>
          <p:cNvSpPr/>
          <p:nvPr/>
        </p:nvSpPr>
        <p:spPr>
          <a:xfrm>
            <a:off x="2260440" y="1798560"/>
            <a:ext cx="3913200" cy="3913200"/>
          </a:xfrm>
          <a:custGeom>
            <a:avLst/>
            <a:gdLst/>
            <a:ahLst/>
            <a:rect l="l" t="t" r="r" b="b"/>
            <a:pathLst>
              <a:path w="3709797" h="3709797">
                <a:moveTo>
                  <a:pt x="248509" y="2782348"/>
                </a:moveTo>
                <a:cubicBezTo>
                  <a:pt x="-82837" y="2208440"/>
                  <a:pt x="-82837" y="1501357"/>
                  <a:pt x="248509" y="927449"/>
                </a:cubicBezTo>
                <a:cubicBezTo>
                  <a:pt x="579855" y="353541"/>
                  <a:pt x="1192207" y="-1"/>
                  <a:pt x="1854899" y="-1"/>
                </a:cubicBezTo>
                <a:lnTo>
                  <a:pt x="1854899" y="1854899"/>
                </a:lnTo>
                <a:lnTo>
                  <a:pt x="248509" y="2782348"/>
                </a:lnTo>
                <a:close/>
              </a:path>
            </a:pathLst>
          </a:custGeom>
          <a:solidFill>
            <a:srgbClr val="999999">
              <a:alpha val="95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ircular Arrow 20"/>
          <p:cNvSpPr/>
          <p:nvPr/>
        </p:nvSpPr>
        <p:spPr>
          <a:xfrm>
            <a:off x="2190600" y="1609560"/>
            <a:ext cx="4397400" cy="4397400"/>
          </a:xfrm>
          <a:custGeom>
            <a:avLst/>
            <a:gdLst/>
            <a:ahLst/>
            <a:rect l="l" t="t" r="r" b="b"/>
            <a:pathLst>
              <a:path w="4397375" h="4397375">
                <a:moveTo>
                  <a:pt x="2198349" y="149049"/>
                </a:moveTo>
                <a:cubicBezTo>
                  <a:pt x="2897797" y="148933"/>
                  <a:pt x="3549016" y="505507"/>
                  <a:pt x="3925702" y="1094859"/>
                </a:cubicBezTo>
                <a:cubicBezTo>
                  <a:pt x="4302388" y="1684211"/>
                  <a:pt x="4352531" y="2424965"/>
                  <a:pt x="4058705" y="3059704"/>
                </a:cubicBezTo>
                <a:lnTo>
                  <a:pt x="4187369" y="3133989"/>
                </a:lnTo>
                <a:lnTo>
                  <a:pt x="3876902" y="3167605"/>
                </a:lnTo>
                <a:lnTo>
                  <a:pt x="3735559" y="2873136"/>
                </a:lnTo>
                <a:lnTo>
                  <a:pt x="3864171" y="2947390"/>
                </a:lnTo>
                <a:cubicBezTo>
                  <a:pt x="4118199" y="2382307"/>
                  <a:pt x="4068372" y="1726965"/>
                  <a:pt x="3731829" y="1206785"/>
                </a:cubicBezTo>
                <a:cubicBezTo>
                  <a:pt x="3395286" y="686605"/>
                  <a:pt x="2817941" y="372553"/>
                  <a:pt x="2198386" y="372655"/>
                </a:cubicBezTo>
                <a:cubicBezTo>
                  <a:pt x="2198374" y="298120"/>
                  <a:pt x="2198361" y="223584"/>
                  <a:pt x="2198349" y="14904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ircular Arrow 21"/>
          <p:cNvSpPr/>
          <p:nvPr/>
        </p:nvSpPr>
        <p:spPr>
          <a:xfrm>
            <a:off x="2089080" y="1706400"/>
            <a:ext cx="4397400" cy="4397400"/>
          </a:xfrm>
          <a:custGeom>
            <a:avLst/>
            <a:gdLst/>
            <a:ahLst/>
            <a:rect l="l" t="t" r="r" b="b"/>
            <a:pathLst>
              <a:path w="4397375" h="4397375">
                <a:moveTo>
                  <a:pt x="3973577" y="3223766"/>
                </a:moveTo>
                <a:cubicBezTo>
                  <a:pt x="3623848" y="3829311"/>
                  <a:pt x="2989528" y="4214769"/>
                  <a:pt x="2290955" y="4246248"/>
                </a:cubicBezTo>
                <a:cubicBezTo>
                  <a:pt x="1592382" y="4277727"/>
                  <a:pt x="925964" y="3950882"/>
                  <a:pt x="523189" y="3379246"/>
                </a:cubicBezTo>
                <a:lnTo>
                  <a:pt x="394536" y="3453549"/>
                </a:lnTo>
                <a:lnTo>
                  <a:pt x="520614" y="3167850"/>
                </a:lnTo>
                <a:lnTo>
                  <a:pt x="846307" y="3192631"/>
                </a:lnTo>
                <a:lnTo>
                  <a:pt x="717706" y="3266904"/>
                </a:lnTo>
                <a:cubicBezTo>
                  <a:pt x="1080055" y="3769267"/>
                  <a:pt x="1672364" y="4053692"/>
                  <a:pt x="2290979" y="4022386"/>
                </a:cubicBezTo>
                <a:cubicBezTo>
                  <a:pt x="2909594" y="3991080"/>
                  <a:pt x="3470163" y="3648312"/>
                  <a:pt x="3779945" y="3111935"/>
                </a:cubicBezTo>
                <a:lnTo>
                  <a:pt x="3973577" y="322376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>
            <a:off x="2609280" y="3135240"/>
            <a:ext cx="170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Georgia"/>
                <a:ea typeface="Arial"/>
              </a:rPr>
              <a:t>Loca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3"/>
          <p:cNvSpPr/>
          <p:nvPr/>
        </p:nvSpPr>
        <p:spPr>
          <a:xfrm>
            <a:off x="4308480" y="2838600"/>
            <a:ext cx="1816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Georgia"/>
                <a:ea typeface="Arial"/>
              </a:rPr>
              <a:t>Planilla País por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3323880" y="4930920"/>
            <a:ext cx="189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Georgia"/>
                <a:ea typeface="Arial"/>
              </a:rPr>
              <a:t>Ma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ircular Arrow 25"/>
          <p:cNvSpPr/>
          <p:nvPr/>
        </p:nvSpPr>
        <p:spPr>
          <a:xfrm>
            <a:off x="2019240" y="1557360"/>
            <a:ext cx="4397400" cy="4397400"/>
          </a:xfrm>
          <a:custGeom>
            <a:avLst/>
            <a:gdLst/>
            <a:ahLst/>
            <a:rect l="l" t="t" r="r" b="b"/>
            <a:pathLst>
              <a:path w="4397375" h="4397375">
                <a:moveTo>
                  <a:pt x="423649" y="3223507"/>
                </a:moveTo>
                <a:cubicBezTo>
                  <a:pt x="73925" y="2617767"/>
                  <a:pt x="57240" y="1875505"/>
                  <a:pt x="379393" y="1254663"/>
                </a:cubicBezTo>
                <a:cubicBezTo>
                  <a:pt x="701546" y="633821"/>
                  <a:pt x="1318055" y="220121"/>
                  <a:pt x="2014679" y="157327"/>
                </a:cubicBezTo>
                <a:cubicBezTo>
                  <a:pt x="2014687" y="107804"/>
                  <a:pt x="2014694" y="58281"/>
                  <a:pt x="2014702" y="8758"/>
                </a:cubicBezTo>
                <a:lnTo>
                  <a:pt x="2199007" y="260852"/>
                </a:lnTo>
                <a:lnTo>
                  <a:pt x="2014616" y="530463"/>
                </a:lnTo>
                <a:cubicBezTo>
                  <a:pt x="2014624" y="480960"/>
                  <a:pt x="2014633" y="431457"/>
                  <a:pt x="2014641" y="381954"/>
                </a:cubicBezTo>
                <a:cubicBezTo>
                  <a:pt x="1398241" y="444399"/>
                  <a:pt x="855550" y="815132"/>
                  <a:pt x="573241" y="1366631"/>
                </a:cubicBezTo>
                <a:cubicBezTo>
                  <a:pt x="290932" y="1918129"/>
                  <a:pt x="307519" y="2575154"/>
                  <a:pt x="617297" y="3111704"/>
                </a:cubicBezTo>
                <a:lnTo>
                  <a:pt x="423649" y="322350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4166-78B9-4E01-8075-5651C7EFBC0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lanilla País por Paí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46480" y="646128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533520" y="3862440"/>
            <a:ext cx="807696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Notas: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Ingresos: deben excluir pagos recibidos de otras entidades que sean tratados como dividendos en el país pagad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Impuesto a las ganancias pagado (en términos de caja): debe incluir impuestos retenidos pagados por otras entidades (relacionadas o independientes) respecto de los pagos realizado/s a la/s entidad/es .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Impuesto a las ganancias devengado – ejercicio corriente: el impuesto solo debe reflejar las operaciones del ejercicio y no debe incluir impuestos diferidos o previsiones por  posiciones fiscales inciertas.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Georgia"/>
              </a:rPr>
              <a:t>Cantidad de empleados full time: apunta a los empleados full time y puede incluir a los contratistas independie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able 9" descr=""/>
          <p:cNvPicPr/>
          <p:nvPr/>
        </p:nvPicPr>
        <p:blipFill>
          <a:blip r:embed="rId3"/>
          <a:stretch/>
        </p:blipFill>
        <p:spPr>
          <a:xfrm>
            <a:off x="487440" y="1768320"/>
            <a:ext cx="8180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1087-C81D-4F94-BEAA-59B3404236F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Master File, Local File y Planilla País por País: información clave para los Fis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videncia de entidades con rentas significativas (especialmente si estuvieran localizadas en jurisdicciones “no cooperadoras” o de “baja imposición” –bajo impuesto devengado/pagado-), poco o nulo personal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asos típicos que podrían llamar la atención de los fisc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idades de trading (diversas industr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idades de </a:t>
            </a:r>
            <a:r>
              <a:rPr b="0" i="1" lang="es-AR" sz="1600" spc="-1" strike="noStrike">
                <a:solidFill>
                  <a:srgbClr val="000000"/>
                </a:solidFill>
                <a:latin typeface="Arial"/>
              </a:rPr>
              <a:t>procurement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- agente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idades de 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idades que centralicen otras actividades (ej. lea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idades caracterizadas por el grupo como Entrepreneurs o “Principals” e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ntidades que centralizan funciones financieras intragrupo (ej. Cash pool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ehículos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Niveles de utilidad inconsistentes para funciones y mercad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Otras situaciones dónde la utilidad guarde poca relación con la su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676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960D-5AAA-4A98-8425-D62FEFA9E933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Master File, Local File y Planilla País por País: Perspectiva 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vergencia entre “Vinculación” y alcance de la Planilla País por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rupos Alcanzados (Materi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plicabilidad del mecanism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Sanciones? Grupos Multinacionales Locales vs Grupos Multinacionales extranj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lación con otros puntos del Plan de Acción B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BDC9-E67A-4305-A96C-6470B0A6FF5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Riesgo y Recaracte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stancia de las relaciones comerciales y financieras y la caracterización para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reconocimiento de trans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tre otros aspectos significativos y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7570-6BFA-4046-A4A0-58A46722CEB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Riesgo y Recaracterización: Perspectiva 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22360" y="1555920"/>
            <a:ext cx="80769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incipio de la Real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tilización de los Lineamientos de la OCDE como Referenci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rga de la prueba y Recaudos de las determinaciones sobre base pres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345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Leonardo Cucci</cp:lastModifiedBy>
  <dcterms:modified xsi:type="dcterms:W3CDTF">2015-10-08T13:25:59Z</dcterms:modified>
  <cp:revision>28</cp:revision>
  <dc:subject/>
  <dc:title>Diapositiva 1</dc:title>
</cp:coreProperties>
</file>