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EB7-300F-45FF-A217-71D0C5D5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5E9-3205-4413-99DC-9C0177F6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3EA-D5DF-4A4D-A5C6-5776149A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7EB-8E76-425B-8EB3-4C0B1DE3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C19-A6D0-49F3-A3F8-6FA8BA90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3C2-BB77-463A-813A-06C482DC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4B9-2BFB-487B-BE19-5D77C7C8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712-A5CE-4471-84AC-04DA2849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86C-96E4-4027-B4D0-BD35578E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B49-EEBE-40E5-88DF-9B221CF3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3DE-F216-4CF9-AB63-A7E69EA5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0BD-84A3-4CF9-BB4B-49A36C55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B426-E9B5-4B32-AF53-85952829DF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1CBA-18FF-4644-948B-2B4E47666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4360" y="342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Au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Dr. Sergio Armando Simesen de Biel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SITUACIÓN FISCAL DE LAS SOCIEDADES REDUCIDAS A UN SOLO SOCIO EN LA UNIFICACIÓN DE LOS CÓDI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8464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079-8460-42FD-8D37-F21236D4C2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19280" y="2276640"/>
            <a:ext cx="590544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chas graci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635-881D-41D9-B2F1-8AA7AE783A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ara el Derecho argentino, tradicionalmente, no resultó concebible la continuidad de la personalidad jurídica de una sociedad reducida a un solo socio; si, por la causa que fuere, tal situación se presentaba en los hechos, el ordenamiento jurídico nacional tenía prevista la </a:t>
            </a:r>
            <a:r>
              <a:rPr b="1" i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disolución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, tanto de las sociedades comerciales como de las civiles, en un todo coherente con la concepción de que solo habría sociedad cuando la constituyeran dos o más socios (artículos 1 de la ley de Sociedades Comerciales y 1.648 del Código Civi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Un antes y un despu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6480" y="646128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5º Congreso Tribu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8E9-A641-4DD6-9F1D-752C81DCE9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isión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: “Artículo 1.- Hay sociedad si una o más personas en forma organizada conforme a uno de los tipos previstos en esta ley, se obligan a realizar aportes para aplicarlos a la producción o intercambio de bienes o servicios, participando de los beneficios y soportando las pérdidas.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i el tipo social prevé dos clases distintas de socios, los socios deben ser DOS (2) o má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LG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uprimió lo destacado y agregó: “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sociedad unipersonal sólo se podrá constituir como sociedad anónima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. La sociedad unipersonal no puede constituirse por una sociedad unipersonal.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l texto de la Comisión y el finalmente sancio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996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F69-FD6D-446F-8072-4BF7A6A1AD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DUCCIÓN A UN SOLO SOCIO: art. 94 “b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COMISIÓN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: “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 reducción a uno del número de socios no es causal de disolución, imponiendo la transformación de pleno derecho de las sociedades en comandita, simple o por acciones, y de capital e industria, en sociedad de responsabilidad limitada, si no se decidiera otra solución en el término de TRES (3) mes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G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: ídem redacción, salvo el final: “…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n sociedad anónima unipersonal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, si no se decidiera otra solución en el término de TRES (3) meses.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6480" y="646128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5º Congreso Tribu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F1C-CF33-4D90-B30D-EF07EA81F0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Privilegio de las forma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Art. 21 LGS: “La sociedad que no se constituya </a:t>
            </a:r>
            <a:r>
              <a:rPr b="1" i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con sujeción a los tipo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del Capítulo 2, que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omita requisitos esenciales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 que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incumpla con las formalidades exigidas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 por esta ley, se rige por lo dispuesto por esta Sección.”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se mantiene la Socie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Situación fáctica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a) hay un solo “socio”: el “empresario” que adopta soluciones unipersonales; b) no las somete a opinión ni conformidad de socio alguno; c) asume el riesgo de la continuidad del objeto social; d) mantiene las relaciones jurídicas ya asumidas, y e) se responsabiliza de sus efectos, incluso fiscales. La referencia al empresario unipersonal, desde el punto de vista jurídico, encuentra sustento indirectamente en las disposiciones del art. 320 del código un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LTERNATIVA FISCAL: ¿“SOCIEDAD” DEL ARTÍCULO 21 o “EMPRESA UNIPERS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8320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D67-1DFD-4D26-B908-3B4EAE7EA9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Criterio formalista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, los temas a contemplar en I. Gananci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) retiro de las utilidad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) puesta a disposición y retención del 10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)  aplicación del art. 69.1: impuesto de igua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) disposición de fondos a favor de terceros que no fueren en interés de la “empresa”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) asignación de retribución como administrad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¿Hay dos partes en las relaciones citadas? ¿Se puede contratar con uno mism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 el único socio resultante fuere una persona humana residente en el exterior: ¿hay establecimiento permanente o sociedad constituida en el país?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 CUESTIÓN FISCAL BAJO EL EJEMPLO DE UNA SRL DE ÚNICO S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8140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988-28B5-48D6-BFA2-E29F97EE46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n IGMP: hay sujeto pasivo bajo una u otra de las posi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n IBP: en el criterio formalista, responsabilidad sustitutiva (art. 25.1) y retención única y definitiva del 0,50%; en la empresa unipersonal: un “bien” más (Activos – Pasivos) en la declaración del total de los bienes, alícuota progres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n IVA: el elemento objetivo no cambia y para el subjetivo es irrelevante si hay sociedad o empresa uni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n el “Monotributo”: en tanto se admiten como sujetos pasivos a las sociedades de hecho e irregulares de la ley 19.550, siempre que tengan un máximo de tres socios (artículo 2, 1° párrafo, del Anexo de la ley 26.565), no habrán cambios.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n I.I. Brutos: lo relevante es el ejercicio habitual a título oneroso de la actividad gravada en la jurisdicción respe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L TEMA EN OTROS IM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6480" y="646128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BBB-B98B-43F3-9087-3C1BDAE53F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os ejercicios fiscales en curso al 1° de agosto de 2.015 y la forma que asumiría la liquidación del impuesto a las gana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osibilidad que el devenido en “socio único” pudiera adoptar un cambio de fecha de cierre de ejercicio, en tanto resulta obligado a implementar una contabilidad llevada en legal forma, en los términos del artículo 320 del código unif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osibilidad que el único socio subsistente haya iniciado el trámite de disolución por las normas legales anteriores, decida continuar la actividad dejando sin efecto el trámite o que, debiendo haberlo iniciado, no lo hubiere hecho, pues la causal de disolución ha quedado legalmente remo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rt. 100 LG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LGUNAS CUESTIONES A RE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8320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4BB-7EA9-4E28-B673-EF58712AC4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nticipos del I.G. ingresados a nombre de la Sociedad: ¿reimputación? ¿transferenc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b) Ídem de IGMP y de saldos pendientes de utilización provenientes de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) Retenciones y percepciones sufridas por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) Papelería impresa en uso, datos impresos en controladores fi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) Tramitación de baja de la CUIT societaria y alta de la persona humana “único socio” (si no la tuviera 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LGUNOS ASPECTOS OPERATIVOS A RE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8320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452-3652-4903-A7A2-7193CF8957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ARMANDO</cp:lastModifiedBy>
  <dcterms:modified xsi:type="dcterms:W3CDTF">2015-10-05T00:37:44Z</dcterms:modified>
  <cp:revision>19</cp:revision>
  <dc:subject/>
  <dc:title>Diapositiva 1</dc:title>
</cp:coreProperties>
</file>