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48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5272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60280" y="0"/>
            <a:ext cx="295308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20520" y="744120"/>
            <a:ext cx="4971960" cy="37306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7920" y="4724280"/>
            <a:ext cx="4997520" cy="4476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8920"/>
            <a:ext cx="295272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da-DK" sz="1200" spc="-1" strike="noStrike">
                <a:solidFill>
                  <a:srgbClr val="000000"/>
                </a:solidFill>
                <a:latin typeface="Arial"/>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60280" y="9448920"/>
            <a:ext cx="295308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7E0EBC-4B11-4087-9C4F-7E9BB13A7F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20880" y="744480"/>
            <a:ext cx="4971960" cy="3730680"/>
          </a:xfrm>
          <a:prstGeom prst="rect">
            <a:avLst/>
          </a:prstGeom>
          <a:ln w="0">
            <a:noFill/>
          </a:ln>
        </p:spPr>
      </p:sp>
      <p:sp>
        <p:nvSpPr>
          <p:cNvPr id="118" name="PlaceHolder 2"/>
          <p:cNvSpPr>
            <a:spLocks noGrp="1"/>
          </p:cNvSpPr>
          <p:nvPr>
            <p:ph type="body"/>
          </p:nvPr>
        </p:nvSpPr>
        <p:spPr>
          <a:xfrm>
            <a:off x="907920" y="4724280"/>
            <a:ext cx="499752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3 Marcador de pie de página"/>
          <p:cNvSpPr/>
          <p:nvPr/>
        </p:nvSpPr>
        <p:spPr>
          <a:xfrm>
            <a:off x="0" y="9448920"/>
            <a:ext cx="295272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120" name="4 Marcador de número de diapositiva"/>
          <p:cNvSpPr/>
          <p:nvPr/>
        </p:nvSpPr>
        <p:spPr>
          <a:xfrm>
            <a:off x="3860640" y="9448920"/>
            <a:ext cx="29530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DF4FCD-E31B-44C2-853D-21FABFA688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42B83-CC3C-492E-8ADD-F2DABC783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45841-0496-4CE6-AA92-CDD8B091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64398-9C2D-408E-9A1C-720F2C885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F773-9DAE-4349-87E3-469D39456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32D6D-EED5-44EB-92B0-63C35179E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2F4B-C85E-42EA-8E01-F4266A5B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13BF9-8694-4EFC-A0CE-6BFE613B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B10E6-A248-4435-9819-6F37CC6A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E5BA-2E37-48BA-986B-0D0ECBEEC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DEAE-EE7E-4728-84E4-BE16AFD3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7BED-56A9-44C5-A637-EE908925C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35EE-C9DB-4AE2-B640-EEC7B28F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Fernando García- FORUM- Nov 2014</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B92F-822F-4E79-93CB-65F55E796A3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0560" y="2923920"/>
            <a:ext cx="8713800" cy="302580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Tema II: Aspectos fiscales del Código Civil y Comercial</a:t>
            </a:r>
            <a:endParaRPr b="0" lang="en-US" sz="3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El nuevo derecho real de superficie y su tratamiento en el IVA</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utor de trabajo: Dario M. Rajmilovich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Calibri"/>
              </a:rPr>
              <a:t>drajmilovich@estudiorajmilovich.com.ar</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9 de octubre de 2015</a:t>
            </a:r>
            <a:endParaRPr b="0" lang="en-US" sz="2000" spc="-1" strike="noStrike">
              <a:solidFill>
                <a:srgbClr val="000000"/>
              </a:solidFill>
              <a:latin typeface="Calibri"/>
            </a:endParaRPr>
          </a:p>
        </p:txBody>
      </p:sp>
      <p:sp>
        <p:nvSpPr>
          <p:cNvPr id="4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D87D-5868-468E-AB25-14A31D37437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 name="Picture 7" descr="Logo CPCECABA - 70 años"/>
          <p:cNvPicPr/>
          <p:nvPr/>
        </p:nvPicPr>
        <p:blipFill>
          <a:blip r:embed="rId1"/>
          <a:stretch/>
        </p:blipFill>
        <p:spPr>
          <a:xfrm>
            <a:off x="376200" y="260280"/>
            <a:ext cx="3548160" cy="1152720"/>
          </a:xfrm>
          <a:prstGeom prst="rect">
            <a:avLst/>
          </a:prstGeom>
          <a:ln w="0">
            <a:noFill/>
          </a:ln>
        </p:spPr>
      </p:pic>
      <p:sp>
        <p:nvSpPr>
          <p:cNvPr id="51" name="2 Rectángulo"/>
          <p:cNvSpPr/>
          <p:nvPr/>
        </p:nvSpPr>
        <p:spPr>
          <a:xfrm>
            <a:off x="341280" y="1765440"/>
            <a:ext cx="8334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b5998"/>
                </a:solidFill>
                <a:latin typeface="Tahoma"/>
              </a:rPr>
              <a:t>15° Congreso Tributario</a:t>
            </a:r>
            <a:br>
              <a:rPr sz="2000"/>
            </a:br>
            <a:r>
              <a:rPr b="1" lang="es-AR" sz="2000" spc="-1" strike="noStrike">
                <a:solidFill>
                  <a:srgbClr val="3b5998"/>
                </a:solidFill>
                <a:latin typeface="Tahoma"/>
              </a:rPr>
              <a:t>"Dr. C.E. Vicente O. Día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ahoma"/>
              </a:rPr>
              <a:t>Ciudad de Mar del Plata, Hotel Costa Galana, 7 al 9 de octubre de 20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7352-E38D-4A5D-BC6A-8FE9521EA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squemas de planificación fiscal</a:t>
            </a:r>
            <a:endParaRPr b="0" lang="en-US" sz="2000" spc="-1" strike="noStrike">
              <a:solidFill>
                <a:srgbClr val="000000"/>
              </a:solidFill>
              <a:latin typeface="Arial"/>
            </a:endParaRPr>
          </a:p>
        </p:txBody>
      </p:sp>
      <p:sp>
        <p:nvSpPr>
          <p:cNvPr id="9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1 Rectángulo"/>
          <p:cNvSpPr/>
          <p:nvPr/>
        </p:nvSpPr>
        <p:spPr>
          <a:xfrm>
            <a:off x="468360" y="765000"/>
            <a:ext cx="7920000" cy="4930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aso 1</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Premisas: </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Superficiante xx otorga derecho de superficie durante un plazo de 5 años por $ 6.000.000, que percibe un 25% por anticipado ($ 1.500.000) y la diferencia en cuotas trimestrales de $ 225.000.</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El superficiario yy realiza una obra sobre la superficie que destina a alquiler. El costo de la obra es incurrido en el año 1 por un total $ 2.000.000 (IVA = $ 210.000), y el monto del alquiler de $ 9.000.000 por el término de 5 años, con un IVA débito fiscal de $ 1.890.000 ($378.000 por mes). </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yy exhibe saldo a favor de IVA por la suma de $ 500.000</a:t>
            </a: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Al cabo del plazo del derecho de superficie, yy revierte la obra a xx percibiendo $ 80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99AD-3120-4C40-AEDF-AB00FC687F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squemas de planificación fiscal</a:t>
            </a:r>
            <a:endParaRPr b="0" lang="en-US" sz="2000" spc="-1" strike="noStrike">
              <a:solidFill>
                <a:srgbClr val="000000"/>
              </a:solidFill>
              <a:latin typeface="Arial"/>
            </a:endParaRPr>
          </a:p>
        </p:txBody>
      </p:sp>
      <p:sp>
        <p:nvSpPr>
          <p:cNvPr id="10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1 Rectángulo"/>
          <p:cNvSpPr/>
          <p:nvPr/>
        </p:nvSpPr>
        <p:spPr>
          <a:xfrm>
            <a:off x="468360" y="765000"/>
            <a:ext cx="7920000" cy="6132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aso 1. Tratamiento</a:t>
            </a:r>
            <a:r>
              <a:rPr b="0" sz="1600" spc="-1" strike="noStrike">
                <a:solidFill>
                  <a:srgbClr val="000000"/>
                </a:solidFill>
                <a:latin typeface="Arial"/>
                <a:ea typeface="Times New Roman"/>
              </a:rPr>
              <a:t>:</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os cánones superficiarios no están gravados por IVA, de esta forma yy resulta beneficiado al no acumular saldo a favor de IVA al saldo existente ($ 500.000).</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os créditos fiscales IVA de la obra se compensan con los débitos fiscales IVA derivados de su explotación (alquiler).</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a entrega de la obra no genera IVA, ni conlleva pérdida de los créditos fiscales IVA relativos a la inversión en la obra dado que los mismos se vinculan con los ingresos por explotación (alquileres) y no con la reversión de la obra incorporada.</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omentarios</a:t>
            </a:r>
            <a:r>
              <a:rPr b="0" sz="1600" spc="-1" strike="noStrike">
                <a:solidFill>
                  <a:srgbClr val="000000"/>
                </a:solidFill>
                <a:latin typeface="Arial"/>
                <a:ea typeface="Times New Roman"/>
              </a:rPr>
              <a:t>:</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a desgravación de los cánones en el IVA genera una distorsión al diferenciar el tratamiento impositivo respecto del negocio alternativo de la locación del inmueble. Ello es conveniente para superficiarios que exhiben saldos a favor de IVA o revisten la condición de exentos (p.ej. monotributistas).</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a reversión de la obra sin IVA genera un efecto similar en cabeza del superficiante, respecto de la contratación de una obra sobre inmueble propio, no incluido en la concesión de un derecho de superficie.</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F93E-149B-4EEB-A073-893AB114C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squemas de planificación fiscal</a:t>
            </a:r>
            <a:endParaRPr b="0" lang="en-US" sz="2000" spc="-1" strike="noStrike">
              <a:solidFill>
                <a:srgbClr val="000000"/>
              </a:solidFill>
              <a:latin typeface="Arial"/>
            </a:endParaRPr>
          </a:p>
        </p:txBody>
      </p:sp>
      <p:sp>
        <p:nvSpPr>
          <p:cNvPr id="10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1 Rectángulo"/>
          <p:cNvSpPr/>
          <p:nvPr/>
        </p:nvSpPr>
        <p:spPr>
          <a:xfrm>
            <a:off x="468360" y="765000"/>
            <a:ext cx="7920000" cy="562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aso 2</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Premisas</a:t>
            </a:r>
            <a:r>
              <a:rPr b="0" sz="1600" spc="-1" strike="noStrike">
                <a:solidFill>
                  <a:srgbClr val="000000"/>
                </a:solidFill>
                <a:latin typeface="Arial"/>
                <a:ea typeface="Times New Roman"/>
              </a:rPr>
              <a:t>: </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Superficiante xx otorga a yy derecho de superficie durante un plazo de 3 años luego de la conclusión (y aceptación por xx) de las obras por $ 3.000.000, que percibe  en 4 cuotas semestrales de $ 750.000.</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El superficiario yy realiza una obra con destino a vivienda, obteniendo 36 unidades funcionales (UF). Al cabo del término del derecho de superficie, xx recibe 6 UF y renueva el derecho por 2 años adicionales sobre el espacio correspondiente a las 30 UF remanentes.</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yy alquila las 30 UF por el término de 2 años. El costo de las 36 UF asciende a $ 2.000.000 con un IVA crédito fiscal equivalente al 10,5% ($ 210.000), de los cuales $ 35.000 (costo = $ 333.333) corresponden a las 6 UF revertidas a favor de xx y la diferencia de $ 175.000 (costo = $ 1.666.667) a las 30 UF remanentes que yy alquila en el plazo de renovación del derecho.   </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En el año 3 (finalización del primer plazo del derecho de superficie) xx recibe de yy las 6 UF que vende a consumidores finales por la suma de $ 80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83A-6417-41E0-B3B8-A5EF26C11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squemas de planificación fiscal</a:t>
            </a:r>
            <a:endParaRPr b="0" lang="en-US" sz="2000" spc="-1" strike="noStrike">
              <a:solidFill>
                <a:srgbClr val="000000"/>
              </a:solidFill>
              <a:latin typeface="Arial"/>
            </a:endParaRPr>
          </a:p>
        </p:txBody>
      </p:sp>
      <p:sp>
        <p:nvSpPr>
          <p:cNvPr id="11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1 Rectángulo"/>
          <p:cNvSpPr/>
          <p:nvPr/>
        </p:nvSpPr>
        <p:spPr>
          <a:xfrm>
            <a:off x="468360" y="765000"/>
            <a:ext cx="7920000" cy="5312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aso 2. Tratamiento</a:t>
            </a:r>
            <a:r>
              <a:rPr b="0" sz="1600" spc="-1" strike="noStrike">
                <a:solidFill>
                  <a:srgbClr val="000000"/>
                </a:solidFill>
                <a:latin typeface="Arial"/>
                <a:ea typeface="Times New Roman"/>
              </a:rPr>
              <a:t>:</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xx es empresa constructora en los términos de lo previsto por el art.4°, inc.d) LIVA</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No obstante, la concesión del derecho de superficie (excluido de IVA) por un plazo que supera los 3 (tres) años habilita que xx enajene las obras sin IVA </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u="sng">
                <a:solidFill>
                  <a:srgbClr val="000000"/>
                </a:solidFill>
                <a:uFillTx/>
                <a:latin typeface="Arial"/>
                <a:ea typeface="Times New Roman"/>
              </a:rPr>
              <a:t>Comentarios</a:t>
            </a:r>
            <a:r>
              <a:rPr b="0" sz="1600" spc="-1" strike="noStrike">
                <a:solidFill>
                  <a:srgbClr val="000000"/>
                </a:solidFill>
                <a:latin typeface="Arial"/>
                <a:ea typeface="Times New Roman"/>
              </a:rPr>
              <a:t>:</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Si xx hubiera contratado la obra directamente (sin recurrir a la concesión del derecho de superficie) la venta de las 36 UF (en el año de finalización de la obra = año 3 y dos años después = año 5) hubiera generado IVA sobre $ 5.800.000 = $ 609.000, deduciendo como crédito fiscal IVA el IVA de la obra por $ 210.000. Es decir, xx hubiera trasladado un IVA débito fiscal a los compradores por $ 609.000 que incrementa el precio de venta a pagar por las UF ($ 6.409.000)</a:t>
            </a:r>
            <a:endParaRPr b="0" lang="en-US" sz="16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a figura del derecho de superficie, si bien implica la pérdida de los créditos fiscales IVA de la obra en cabeza de xx ($ 210.000), le permite evitar el traslado del débito fiscal IVA a los compradores, incrementando el margen de utilidad de la operación en $ 399.000 (6,9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6D52-A703-4AEF-A1ED-6808CD150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Conclusiones</a:t>
            </a:r>
            <a:endParaRPr b="0" lang="en-US" sz="2000" spc="-1" strike="noStrike">
              <a:solidFill>
                <a:srgbClr val="000000"/>
              </a:solidFill>
              <a:latin typeface="Arial"/>
            </a:endParaRPr>
          </a:p>
        </p:txBody>
      </p:sp>
      <p:sp>
        <p:nvSpPr>
          <p:cNvPr id="11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1 Rectángulo"/>
          <p:cNvSpPr/>
          <p:nvPr/>
        </p:nvSpPr>
        <p:spPr>
          <a:xfrm>
            <a:off x="468360" y="765000"/>
            <a:ext cx="7920000" cy="532440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aprecia en los ejemplos glosados que la nueva figura de derecho de superficie puede utilizarse para evitar el crédito fiscal IVA (frente a la figura alternativa de la locación de inmuebles) o, igualmente, para eludir el débito fiscal IVA (en el caso de la reventa de inmuebles con obras incorporadas contratadas a terceros), lo que distorsiona el funcionamiento del IVA. </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Bajo la legislación actual la nueva figura de derecho de superficie podrá utilizarse para evitar el crédito fiscal IVA (frente a la figura alternativa de la locación de inmuebles) en cabeza de sujetos exentos o con saldo a favor IVA. Igualmente, dicha figura podrá utilizarse para eludir el débito fiscal IVA, en el caso de la venta de inmuebles por empresas constructoras (que contienen obras incorporadas contratadas a terceros), transferencias que de otra manera tributarían IVA.</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mbos supuestos distorsionan el funcionamiento del IVA.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A0CC-306C-4C73-892E-A6806EAB8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l nuevo derecho real de superficie</a:t>
            </a:r>
            <a:endParaRPr b="0" lang="en-US" sz="2000" spc="-1" strike="noStrike">
              <a:solidFill>
                <a:srgbClr val="000000"/>
              </a:solidFill>
              <a:latin typeface="Arial"/>
            </a:endParaRPr>
          </a:p>
        </p:txBody>
      </p:sp>
      <p:sp>
        <p:nvSpPr>
          <p:cNvPr id="5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1 Rectángulo"/>
          <p:cNvSpPr/>
          <p:nvPr/>
        </p:nvSpPr>
        <p:spPr>
          <a:xfrm>
            <a:off x="468360" y="765000"/>
            <a:ext cx="7920000" cy="535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Uno de los grupo de reformas que consagra el nuevo Código Civil y Comercial de la Nación (CCyCN) sancionado por Ley N° 26.994 que genera consecuencias tributarias es el de los derechos reales (Libro Cuarto del CCyCN).</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l art.1887 CCyCN crea nuevos derechos reales, aunque manteniendo el sistema "cerrado" o “numerus clausus” que impide que las partes creen otros derechos reales distintos de los previstos, siendo ellos: </a:t>
            </a:r>
            <a:endParaRPr b="0" lang="en-US" sz="18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propiedad horizontal, </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onjuntos inmobiliarios, </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tiempo compartido, </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ementerios privado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derecho de superficie</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2BA0-6FB5-48DC-8446-2C82F986F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l nuevo derecho real de superficie</a:t>
            </a:r>
            <a:endParaRPr b="0" lang="en-US" sz="2000" spc="-1" strike="noStrike">
              <a:solidFill>
                <a:srgbClr val="000000"/>
              </a:solidFill>
              <a:latin typeface="Arial"/>
            </a:endParaRPr>
          </a:p>
        </p:txBody>
      </p:sp>
      <p:sp>
        <p:nvSpPr>
          <p:cNvPr id="6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1 Rectángulo"/>
          <p:cNvSpPr/>
          <p:nvPr/>
        </p:nvSpPr>
        <p:spPr>
          <a:xfrm>
            <a:off x="468360" y="765000"/>
            <a:ext cx="7920000" cy="6466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ea typeface="Times New Roman"/>
              </a:rPr>
              <a:t>Definición</a:t>
            </a:r>
            <a:r>
              <a:rPr b="0"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rt.2114.- Concepto. El derecho de superficie es un derecho real temporario, que se constituye sobre un inmueble ajeno, que otorga a su titular la facultad de uso, goce y disposición material y jurídica del derecho de plantar, forestar o construir, o sobre lo plantado, forestado o construido en el terreno, el vuelo o el subsuelo, según las modalidades de su ejercicio y plazo de duración establecidos en el título suficiente para su constitución y dentro de lo previsto en este Título y las leyes especiale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trata de un desmembramiento temporal de la propiedad del inmueble, con un plazo máximo de setenta (70) años en caso de construcciones o cincuenta (50) en caso de plantaciones o forestaciones, renovables hasta el cumplimiento del plazo máximo aplicable.</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l objeto básico del derecho de superficie es mantener una edificación de propiedad del superficiario (propiedad superficiaria) en terreno ajeno (de titularidad del superficiante), sobre o bajo su superficie de manera temporal.</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EC24-C083-43A1-8D62-B4DED3334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l nuevo derecho real de superficie</a:t>
            </a:r>
            <a:endParaRPr b="0" lang="en-US" sz="2000" spc="-1" strike="noStrike">
              <a:solidFill>
                <a:srgbClr val="000000"/>
              </a:solidFill>
              <a:latin typeface="Arial"/>
            </a:endParaRPr>
          </a:p>
        </p:txBody>
      </p:sp>
      <p:sp>
        <p:nvSpPr>
          <p:cNvPr id="6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1 Rectángulo"/>
          <p:cNvSpPr/>
          <p:nvPr/>
        </p:nvSpPr>
        <p:spPr>
          <a:xfrm>
            <a:off x="468360" y="765000"/>
            <a:ext cx="792000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ea typeface="Times New Roman"/>
              </a:rPr>
              <a:t>Usos y ventajas</a:t>
            </a:r>
            <a:r>
              <a:rPr b="0"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n la legislación comparada el uso más frecuente de esta figura se verifica en la actividad de la construcción para la cual brinda diversas ventajas:</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 Construir sin invertir en un terreno, ya que se supone que el costo de la superficie es menor que el del inmueble, no solo porque el derecho es temporal, sino también porque la valorización del terreno queda en poder del propietario o titular del derecho de dominio.</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b) Aislar el inmueble de las vicisitudes del negocio constructivo.</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 Es muy atractivo para construcciones "no perdurables" cuyo proyecto económico tenga horizontes económicos de corto o mediano plazo, como puede ser una concesión, puestos de diarios, stands de ferias, etc.</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6E56-3D13-4255-9AD0-E84FF734B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l nuevo derecho real de superficie</a:t>
            </a:r>
            <a:endParaRPr b="0" lang="en-US" sz="2000" spc="-1" strike="noStrike">
              <a:solidFill>
                <a:srgbClr val="000000"/>
              </a:solidFill>
              <a:latin typeface="Arial"/>
            </a:endParaRPr>
          </a:p>
        </p:txBody>
      </p:sp>
      <p:sp>
        <p:nvSpPr>
          <p:cNvPr id="7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1 Rectángulo"/>
          <p:cNvSpPr/>
          <p:nvPr/>
        </p:nvSpPr>
        <p:spPr>
          <a:xfrm>
            <a:off x="468360" y="976320"/>
            <a:ext cx="7920000" cy="5014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d) Desde la perspectiva del superficiario el derecho de superficie es atractivo porque él es propietario de lo que plante, foreste o construya, o en su caso sobre lo plantado, forestado o construido sobre el terreno, vuelo o subsuelo, pudiendo explotarlo dentro del término de duración del derecho (constituir garantía, cederlo, locarlo, darlo en leasing a terceros, afectarlo como bien de uso, etc.)</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 Desde la perspectiva del superficiante o propietario del terreno es atractivo puesto que pasa a ser un mero rentista con un ingreso periódico para el cual no necesita realizar ninguna inversión, ingreso que será mayor al de una locación o usufructo por tratarse de un derecho más completo y con la perspectiva de hacerse propietario de lo construido una vez termine el plazo de la superficie. Adicionalmente, mantiene el derecho de disponer su derecho de propiedad, ya sea a través de la transferencia o a través del gravamen (hipoteca), naturalmente según la valorización que un tercero pueda hacer sobre un inmue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CB36-CB7A-412D-8529-06EB4D704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El nuevo derecho real de superficie</a:t>
            </a:r>
            <a:endParaRPr b="0" lang="en-US" sz="2000" spc="-1" strike="noStrike">
              <a:solidFill>
                <a:srgbClr val="000000"/>
              </a:solidFill>
              <a:latin typeface="Arial"/>
            </a:endParaRPr>
          </a:p>
        </p:txBody>
      </p:sp>
      <p:sp>
        <p:nvSpPr>
          <p:cNvPr id="7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1 Rectángulo"/>
          <p:cNvSpPr/>
          <p:nvPr/>
        </p:nvSpPr>
        <p:spPr>
          <a:xfrm>
            <a:off x="395280" y="836640"/>
            <a:ext cx="7920000" cy="4764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ea typeface="Times New Roman"/>
              </a:rPr>
              <a:t>Elementos definitorio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ha definido a la superficie como el derecho de hacer y mantener una construcción sobre el suelo o el subsuelo de otro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onstituye una derogación del principio de accesión. En su virtud existe, de un lado, el superficiante, dominus soli o dueño del suelo y del otro, se encuentra el superficiario, titular del derecho de superficie y propietario de lo que se edifique, plante o foreste.</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u característica definitoria es la disociación entre la propiedad del terreno y lo edificado (mas propiamente: lo plantado, forestado o construido en el terreno, el vuelo o el subsuelo).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sí el superficiario tiene un auténtico dominio sobre lo edificado separadamente del dominio del terr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B05C-97A3-4762-BD09-FD6B1E163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Tratamiento en el IVA</a:t>
            </a:r>
            <a:endParaRPr b="0" lang="en-US" sz="2000" spc="-1" strike="noStrike">
              <a:solidFill>
                <a:srgbClr val="000000"/>
              </a:solidFill>
              <a:latin typeface="Arial"/>
            </a:endParaRPr>
          </a:p>
        </p:txBody>
      </p:sp>
      <p:sp>
        <p:nvSpPr>
          <p:cNvPr id="8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1 Rectángulo"/>
          <p:cNvSpPr/>
          <p:nvPr/>
        </p:nvSpPr>
        <p:spPr>
          <a:xfrm>
            <a:off x="468360" y="858960"/>
            <a:ext cx="7920000" cy="5330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La constitución y transferencia del derecho real de superficie quedan excluidas del IVA al no estar contemplados en el elenco de hechos imponibles </a:t>
            </a:r>
            <a:endParaRPr b="0" lang="en-US" sz="1800" spc="-1" strike="noStrike">
              <a:solidFill>
                <a:srgbClr val="000000"/>
              </a:solidFill>
              <a:latin typeface="Arial"/>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La entrega de las obras (edificado) por parte del superficiario producto de la extinción del plazo del derecho (reversión) no tributan el IVA por aplicación del principio de unidad, al integrar dicha entrega la operatoria (de causa única y con prestaciones complejas) toda vez que la citada entrega al superficiante reviste una consecuencia directa e inherente que forma parte del régimen legal derecho de superficie, por lo que se aplica el mismo tratamiento tributario de este último (excluido de IVA).</a:t>
            </a:r>
            <a:endParaRPr b="0" lang="en-US" sz="1800" spc="-1" strike="noStrike">
              <a:solidFill>
                <a:srgbClr val="000000"/>
              </a:solidFill>
              <a:latin typeface="Arial"/>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verifica la obligación frente al IVA en los siguientes supuestos:</a:t>
            </a:r>
            <a:endParaRPr b="0" lang="en-US" sz="1800" spc="-1" strike="noStrike">
              <a:solidFill>
                <a:srgbClr val="000000"/>
              </a:solidFill>
              <a:latin typeface="Arial"/>
            </a:endParaRPr>
          </a:p>
          <a:p>
            <a:pPr marL="285840" indent="-285840"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8880" indent="-285840" algn="just">
              <a:lnSpc>
                <a:spcPct val="11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i el superficiario enajena las obras (lo edificado): se configura el hecho imponible previsto en el art.3°, inciso a) LIVA (al derivar de trabajos sobre inmueble aj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63ED-8918-4B6C-BF5E-2F28D871D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Tratamiento en el IVA</a:t>
            </a:r>
            <a:endParaRPr b="0" lang="en-US" sz="2000" spc="-1" strike="noStrike">
              <a:solidFill>
                <a:srgbClr val="000000"/>
              </a:solidFill>
              <a:latin typeface="Arial"/>
            </a:endParaRPr>
          </a:p>
        </p:txBody>
      </p:sp>
      <p:sp>
        <p:nvSpPr>
          <p:cNvPr id="85"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1 Rectángulo"/>
          <p:cNvSpPr/>
          <p:nvPr/>
        </p:nvSpPr>
        <p:spPr>
          <a:xfrm>
            <a:off x="468360" y="765000"/>
            <a:ext cx="7920000" cy="5067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i el superficiante enajena el inmueble una vez revertidas las obras por lo edificado sobre inmueble propio, se configura el hecho imponible previsto en el art.3°, inciso b) LIVA (al derivar de la transferencia de obras realizadas por terceros sobre inmueble propio), salvo que el derecho de superficie se extienda por un plazo de 3 (tres) años o más desde la entrega (y aceptación) de las obras. </a:t>
            </a:r>
            <a:endParaRPr b="0" lang="en-US" sz="1800" spc="-1" strike="noStrike">
              <a:solidFill>
                <a:srgbClr val="000000"/>
              </a:solidFill>
              <a:latin typeface="Arial"/>
            </a:endParaRPr>
          </a:p>
          <a:p>
            <a:pPr marL="285840" indent="-28584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l otorgamiento del derecho de superficie sobre una obra en construcción o una construcción terminada implica la “desafectación” de la obra en los términos del art.11, tercer párrafo LIVA lo que implica la devolución de los créditos fiscales IVA computados por el superficiante en caso de que la fecha de otorgamiento se verifique antes del plazo de 10 (diez) años contados a partir de la fecha de finalización de las obras o de su afectación a la actividad determinante de la condición de sujeto pasivo del responsable, si ésta fuera post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A048-B0DC-46A7-9075-8D67862DB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3"/>
          <p:cNvSpPr/>
          <p:nvPr/>
        </p:nvSpPr>
        <p:spPr>
          <a:xfrm>
            <a:off x="380880" y="365040"/>
            <a:ext cx="80074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Tratamiento en el IVA</a:t>
            </a:r>
            <a:endParaRPr b="0" lang="en-US" sz="2000" spc="-1" strike="noStrike">
              <a:solidFill>
                <a:srgbClr val="000000"/>
              </a:solidFill>
              <a:latin typeface="Arial"/>
            </a:endParaRPr>
          </a:p>
        </p:txBody>
      </p:sp>
      <p:sp>
        <p:nvSpPr>
          <p:cNvPr id="90"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1 Rectángulo"/>
          <p:cNvSpPr/>
          <p:nvPr/>
        </p:nvSpPr>
        <p:spPr>
          <a:xfrm>
            <a:off x="468360" y="765000"/>
            <a:ext cx="7920000" cy="3842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ea typeface="Times New Roman"/>
              </a:rPr>
              <a:t>Evaluación del tratamiento en el IVA</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aprecia que la Ley de IVA discrimina supuestos económicamente sustitutos o cercanos en su función económica, sin justificación técnica en mérito al principio de neutralidad que debería guiar el diseño técnico y legal de la estructura del gravamen.</a:t>
            </a:r>
            <a:endParaRPr b="0" lang="en-US" sz="1800" spc="-1" strike="noStrike">
              <a:solidFill>
                <a:srgbClr val="000000"/>
              </a:solidFill>
              <a:latin typeface="Arial"/>
            </a:endParaRPr>
          </a:p>
          <a:p>
            <a:pPr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n efecto, el canon superficiario es análogo (en su función económica) a la locación de inmuebles, la transferencia del derecho de superficie es análoga a la transferencia del inmueble (con las obras e instalaciones) y la entrega de lo edificado (por el superficiario) es análogo a la venta de obras sobre inmueble prop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4:17:50Z</dcterms:created>
  <dc:creator>Guillermo Poch</dc:creator>
  <dc:description/>
  <dc:language>en-US</dc:language>
  <cp:lastModifiedBy>Dario Rajmilovich</cp:lastModifiedBy>
  <cp:lastPrinted>2003-07-04T20:34:19Z</cp:lastPrinted>
  <dcterms:modified xsi:type="dcterms:W3CDTF">2015-09-29T17:43:36Z</dcterms:modified>
  <cp:revision>550</cp:revision>
  <dc:subject/>
  <dc:title>EFECTOS DE LA INFLACIÓN Y  LA DEVALUACIÓN EN LA TRIBUTACIÓN</dc:title>
</cp:coreProperties>
</file>