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14800" cy="994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34" name="PlaceHolder 1"/>
          <p:cNvSpPr>
            <a:spLocks noGrp="1"/>
          </p:cNvSpPr>
          <p:nvPr>
            <p:ph type="hdr"/>
          </p:nvPr>
        </p:nvSpPr>
        <p:spPr>
          <a:xfrm>
            <a:off x="0" y="0"/>
            <a:ext cx="295272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2"/>
          <p:cNvSpPr>
            <a:spLocks noGrp="1"/>
          </p:cNvSpPr>
          <p:nvPr>
            <p:ph type="dt" idx="40"/>
          </p:nvPr>
        </p:nvSpPr>
        <p:spPr>
          <a:xfrm>
            <a:off x="3860280" y="0"/>
            <a:ext cx="295308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3"/>
          <p:cNvSpPr>
            <a:spLocks noGrp="1"/>
          </p:cNvSpPr>
          <p:nvPr>
            <p:ph type="sldImg"/>
          </p:nvPr>
        </p:nvSpPr>
        <p:spPr>
          <a:xfrm>
            <a:off x="920520" y="744120"/>
            <a:ext cx="4971960" cy="37306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907920" y="4724280"/>
            <a:ext cx="4997520" cy="44769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8" name="PlaceHolder 5"/>
          <p:cNvSpPr>
            <a:spLocks noGrp="1"/>
          </p:cNvSpPr>
          <p:nvPr>
            <p:ph type="ftr" idx="41"/>
          </p:nvPr>
        </p:nvSpPr>
        <p:spPr>
          <a:xfrm>
            <a:off x="0" y="9448920"/>
            <a:ext cx="2952720" cy="49680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da-DK" sz="1200" spc="-1" strike="noStrike">
                <a:solidFill>
                  <a:srgbClr val="000000"/>
                </a:solidFill>
                <a:latin typeface="Arial"/>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da-DK" sz="1200" spc="-1" strike="noStrike">
                <a:solidFill>
                  <a:srgbClr val="000000"/>
                </a:solidFill>
                <a:latin typeface="Arial"/>
              </a:rPr>
              <a:t>Forum F.D. García 20 nov 2014</a:t>
            </a:r>
            <a:endParaRPr b="0" lang="en-US" sz="1200" spc="-1" strike="noStrike">
              <a:solidFill>
                <a:srgbClr val="000000"/>
              </a:solidFill>
              <a:latin typeface="Arial"/>
            </a:endParaRPr>
          </a:p>
        </p:txBody>
      </p:sp>
      <p:sp>
        <p:nvSpPr>
          <p:cNvPr id="539" name="PlaceHolder 6"/>
          <p:cNvSpPr>
            <a:spLocks noGrp="1"/>
          </p:cNvSpPr>
          <p:nvPr>
            <p:ph type="sldNum" idx="42"/>
          </p:nvPr>
        </p:nvSpPr>
        <p:spPr>
          <a:xfrm>
            <a:off x="3860280" y="9448920"/>
            <a:ext cx="2953080" cy="49680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s-ES_tradnl"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D9AB28D-E5BF-4C12-87BB-5A6432F4F77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920880" y="744480"/>
            <a:ext cx="4971960" cy="3730680"/>
          </a:xfrm>
          <a:prstGeom prst="rect">
            <a:avLst/>
          </a:prstGeom>
          <a:ln w="0">
            <a:noFill/>
          </a:ln>
        </p:spPr>
      </p:sp>
      <p:sp>
        <p:nvSpPr>
          <p:cNvPr id="635" name="PlaceHolder 2"/>
          <p:cNvSpPr>
            <a:spLocks noGrp="1"/>
          </p:cNvSpPr>
          <p:nvPr>
            <p:ph type="body"/>
          </p:nvPr>
        </p:nvSpPr>
        <p:spPr>
          <a:xfrm>
            <a:off x="907920" y="4724280"/>
            <a:ext cx="499752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3 Marcador de pie de página"/>
          <p:cNvSpPr/>
          <p:nvPr/>
        </p:nvSpPr>
        <p:spPr>
          <a:xfrm>
            <a:off x="0" y="9448920"/>
            <a:ext cx="295272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da-DK" sz="1200" spc="-1" strike="noStrike">
                <a:solidFill>
                  <a:srgbClr val="000000"/>
                </a:solidFill>
                <a:latin typeface="Arial"/>
              </a:rPr>
              <a:t>Forum F.D. García 20 nov 2014</a:t>
            </a:r>
            <a:endParaRPr b="0" lang="en-US" sz="1200" spc="-1" strike="noStrike">
              <a:solidFill>
                <a:srgbClr val="000000"/>
              </a:solidFill>
              <a:latin typeface="Arial"/>
            </a:endParaRPr>
          </a:p>
        </p:txBody>
      </p:sp>
      <p:sp>
        <p:nvSpPr>
          <p:cNvPr id="637" name="4 Marcador de número de diapositiva"/>
          <p:cNvSpPr/>
          <p:nvPr/>
        </p:nvSpPr>
        <p:spPr>
          <a:xfrm>
            <a:off x="3860640" y="9448920"/>
            <a:ext cx="295308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564343-D59B-4D32-8045-3F4FE983996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20880" y="744480"/>
            <a:ext cx="4971960" cy="3730680"/>
          </a:xfrm>
          <a:prstGeom prst="rect">
            <a:avLst/>
          </a:prstGeom>
          <a:ln w="0">
            <a:noFill/>
          </a:ln>
        </p:spPr>
      </p:sp>
      <p:sp>
        <p:nvSpPr>
          <p:cNvPr id="639" name="PlaceHolder 2"/>
          <p:cNvSpPr>
            <a:spLocks noGrp="1"/>
          </p:cNvSpPr>
          <p:nvPr>
            <p:ph type="body"/>
          </p:nvPr>
        </p:nvSpPr>
        <p:spPr>
          <a:xfrm>
            <a:off x="907920" y="4724280"/>
            <a:ext cx="499752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3 Marcador de pie de página"/>
          <p:cNvSpPr/>
          <p:nvPr/>
        </p:nvSpPr>
        <p:spPr>
          <a:xfrm>
            <a:off x="0" y="9448920"/>
            <a:ext cx="295272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da-DK" sz="1200" spc="-1" strike="noStrike">
                <a:solidFill>
                  <a:srgbClr val="000000"/>
                </a:solidFill>
                <a:latin typeface="Arial"/>
              </a:rPr>
              <a:t>Forum F.D. García 20 nov 2014</a:t>
            </a:r>
            <a:endParaRPr b="0" lang="en-US" sz="1200" spc="-1" strike="noStrike">
              <a:solidFill>
                <a:srgbClr val="000000"/>
              </a:solidFill>
              <a:latin typeface="Arial"/>
            </a:endParaRPr>
          </a:p>
        </p:txBody>
      </p:sp>
      <p:sp>
        <p:nvSpPr>
          <p:cNvPr id="641" name="4 Marcador de número de diapositiva"/>
          <p:cNvSpPr/>
          <p:nvPr/>
        </p:nvSpPr>
        <p:spPr>
          <a:xfrm>
            <a:off x="3860640" y="9448920"/>
            <a:ext cx="295308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2B72F23-1317-46C2-9C2E-284CC5F7D75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20880" y="744480"/>
            <a:ext cx="4971960" cy="3730680"/>
          </a:xfrm>
          <a:prstGeom prst="rect">
            <a:avLst/>
          </a:prstGeom>
          <a:ln w="0">
            <a:noFill/>
          </a:ln>
        </p:spPr>
      </p:sp>
      <p:sp>
        <p:nvSpPr>
          <p:cNvPr id="643" name="PlaceHolder 2"/>
          <p:cNvSpPr>
            <a:spLocks noGrp="1"/>
          </p:cNvSpPr>
          <p:nvPr>
            <p:ph type="body"/>
          </p:nvPr>
        </p:nvSpPr>
        <p:spPr>
          <a:xfrm>
            <a:off x="907920" y="4724280"/>
            <a:ext cx="499752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3 Marcador de pie de página"/>
          <p:cNvSpPr/>
          <p:nvPr/>
        </p:nvSpPr>
        <p:spPr>
          <a:xfrm>
            <a:off x="0" y="9448920"/>
            <a:ext cx="295272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da-DK" sz="1200" spc="-1" strike="noStrike">
                <a:solidFill>
                  <a:srgbClr val="000000"/>
                </a:solidFill>
                <a:latin typeface="Arial"/>
              </a:rPr>
              <a:t>Forum F.D. García 20 nov 2014</a:t>
            </a:r>
            <a:endParaRPr b="0" lang="en-US" sz="1200" spc="-1" strike="noStrike">
              <a:solidFill>
                <a:srgbClr val="000000"/>
              </a:solidFill>
              <a:latin typeface="Arial"/>
            </a:endParaRPr>
          </a:p>
        </p:txBody>
      </p:sp>
      <p:sp>
        <p:nvSpPr>
          <p:cNvPr id="645" name="4 Marcador de número de diapositiva"/>
          <p:cNvSpPr/>
          <p:nvPr/>
        </p:nvSpPr>
        <p:spPr>
          <a:xfrm>
            <a:off x="3860640" y="9448920"/>
            <a:ext cx="295308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01FBA1-CF46-4320-8AFA-4AC2FAB5D8B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920880" y="744480"/>
            <a:ext cx="4971960" cy="3730680"/>
          </a:xfrm>
          <a:prstGeom prst="rect">
            <a:avLst/>
          </a:prstGeom>
          <a:ln w="0">
            <a:noFill/>
          </a:ln>
        </p:spPr>
      </p:sp>
      <p:sp>
        <p:nvSpPr>
          <p:cNvPr id="647" name="PlaceHolder 2"/>
          <p:cNvSpPr>
            <a:spLocks noGrp="1"/>
          </p:cNvSpPr>
          <p:nvPr>
            <p:ph type="body"/>
          </p:nvPr>
        </p:nvSpPr>
        <p:spPr>
          <a:xfrm>
            <a:off x="907920" y="4724280"/>
            <a:ext cx="499752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3 Marcador de pie de página"/>
          <p:cNvSpPr/>
          <p:nvPr/>
        </p:nvSpPr>
        <p:spPr>
          <a:xfrm>
            <a:off x="0" y="9448920"/>
            <a:ext cx="295272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da-DK" sz="1200" spc="-1" strike="noStrike">
                <a:solidFill>
                  <a:srgbClr val="000000"/>
                </a:solidFill>
                <a:latin typeface="Arial"/>
              </a:rPr>
              <a:t>Forum F.D. García 20 nov 2014</a:t>
            </a:r>
            <a:endParaRPr b="0" lang="en-US" sz="1200" spc="-1" strike="noStrike">
              <a:solidFill>
                <a:srgbClr val="000000"/>
              </a:solidFill>
              <a:latin typeface="Arial"/>
            </a:endParaRPr>
          </a:p>
        </p:txBody>
      </p:sp>
      <p:sp>
        <p:nvSpPr>
          <p:cNvPr id="649" name="4 Marcador de número de diapositiva"/>
          <p:cNvSpPr/>
          <p:nvPr/>
        </p:nvSpPr>
        <p:spPr>
          <a:xfrm>
            <a:off x="3860640" y="9448920"/>
            <a:ext cx="295308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A57C2B-A9FF-4B7F-A3A3-6A2010B0816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C217E-D552-4332-B7A6-0586DBA24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389A0-FA3C-480B-9AAB-8EB6B608F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A636E9-7677-4CBA-AA01-3EBAD7FE7B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03ED8E-B28F-41E2-86F3-F8249F574E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33CE01-68AD-44AC-A474-48141041C0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406248-12BD-4866-AE9B-64A368990C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DE6BC7-799F-4698-A810-E3E2BBE37E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993E82-449B-4C55-9614-CBC3E64788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9C0089-CE12-4ABE-9588-F04A2958B2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F23457-E33D-4E76-AABD-7C440BEBDE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D4707F-A8D1-4A33-B1F5-9987A63A0D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6897141-D90A-4A7D-951F-93637AF0185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C9B97-FB30-4CF2-A421-65437B9EC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34E8726-116A-435C-8DC8-7170178AC5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ADADA0-06DA-419C-83EC-B10B30E790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8023DFB-B53E-431F-8753-5AEBB0A337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5443ED0-6683-4EEA-9459-563C3B5899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2930CF-0B89-4157-B158-7E0E98B7FD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F2A679-3353-45C6-94D2-64AD9D2F5D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7F5670-37C6-4CB9-AFB0-F9AF91E0A5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1875DC-EC33-4ED7-AB9B-9347A7312E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395F10-A3BF-4EE4-B92A-7C671A6273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2BDCCD7-A5A3-49CA-84B2-99DE280D93A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7314C-2F3B-474D-B99B-791E4B308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18EEDF4-32BB-4E37-A9E3-DCB44FBF06C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66126E5-C407-436F-885D-C7ECE7170FB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053F9C-CD24-402E-9CBB-49575EAE00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AFC9CAC-52DD-4189-8AB1-A8514B69A9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0448F0-750F-4111-AFAD-E2CFC75CA0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AA3F8A-4976-4546-8B1D-B913714EEA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C6A0213-EF07-4B2D-B237-E17D0BB36F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3099E4-7795-4170-832C-F4A8CC8DC7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19B971-5870-4DA2-8F27-93C4EF37C5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8C653E-DEC2-496E-A2B3-0FEA483A01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C0ED74-8883-4BC7-A7A9-9BDF888357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946F84-E7FC-40C1-91B9-E00F337AC6D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EC6AFC9-E50D-49E5-A18D-3FD4BDDE201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2E79FE6-EB83-4A49-BE2B-92DE009696B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10C838A-9E14-45AC-9F3C-CDBF668DD94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4D312D6-88CA-45FF-A1E2-1003EFC427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2642F9-52EA-4765-B6E8-47CB0C251B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C42F71-C3A6-44D5-A468-D93B53808C7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FE9F5D4-B549-4EB2-8D7F-58C09351FE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2E3512-96B8-487C-9435-D064FE12B17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870C52-D0D0-4C44-9957-EAC7E96BC9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5ED8C-6791-40F2-88E0-ABB2B6417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7ABCCB-F7ED-491C-8394-8657C3F619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50E99A-6C05-4FF2-9C52-DB296191DD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28046F-9458-4D7E-9186-D8701E11E60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2EBEDAF-7E91-4904-8609-3FE762AF46C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C1A2637-F91E-47E5-9A79-AC53196EBAA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DF0549A-9C9D-4745-9021-DF148FD50D3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6378B36-3728-41AF-BBBC-6F078BDD94F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7D37E65-1980-4271-AF8D-83409FD62C2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BF84405-7AF7-4D98-8D30-2122414426F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93898DA-F3C3-4804-B676-5DFAAEAF101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0D632-A1A9-49AA-9202-03ACBCB97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BE0C7BC-911E-41FE-B45E-F8EE512BC88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FABA5A-DAF6-4A13-BC06-4D5B527D171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D675C9-4F6B-44FA-A642-CC71870239F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2849134-023B-41E4-892A-65FB63A487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0CCFFD5-67A1-423D-8DFE-8EB7602179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F1D2607-5612-41AE-AF54-25DBA76C95C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C941013-B138-4B0F-9771-D5F931B2178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DD42C-643E-4F7C-AF40-B5391BF32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F1184-9C9F-4E7B-9DDF-CE5AE9939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D5B31-D444-4BD8-8DAF-2A2D2751E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53C7F-257D-4107-AF79-FA857FDEC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9DBFA-1C9D-42A4-9483-E5F3BBAC4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C083E-2250-4E49-9A3A-792145117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D2A56-E24C-4DF6-8412-F2A7D621C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46433-8CA2-4E2D-9D90-574AB33F3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4323D3-DB5F-407C-AE0A-D22B636745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990B3F-8CD8-431B-B630-61D121598D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4529EA-887E-4D99-AA18-3A301D5998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8C2A8C-C9D1-4A93-9D77-22F1864DCE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BCD198-5D2D-4D9C-B342-EED46F22B8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AD404D-87E4-48C5-8C43-680A66F2B2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E75F1E-4B9D-4A0D-80B8-F65FF65E88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00C67-13C6-4AC7-B581-E1F29326C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5D3FD3-F06C-4DFE-AE68-39380E3D2B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E1D270-726D-4E10-AA89-55CAEF2A96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CE64EB-55BF-4FA2-9EF7-59D27BE700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A7997C-86E8-4943-B155-F5AC0B3F5F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5FEB92-83B4-4BFC-B767-79444A487A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8F3325-1BB3-491D-9704-2FBCC0973E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39973F-668C-429E-BB98-633890363E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915ED8-5F4C-4BAD-8FC7-65C4C8DCD0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34FCDA-21AD-402F-9C27-58ABA7374C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35464B-437F-473E-B691-774A698FEE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AFB99-408E-4670-B8DE-D635D0EF5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BAFE58-7FB7-448A-B600-CF6583030B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3679CB-C2CE-4F4A-8E3C-9552989384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CAB27E-2A5B-4632-B26C-24B88A8504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B3EA08-E8C7-44B3-80B1-298DE23325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2D85C2-2D58-4E79-9FB4-BECF371861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A713EB-83C5-4F8B-94B0-57E930E964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79B988-F82D-4441-94F8-B35B79C381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7E91D7-0412-4220-8951-9EF67056E9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B905DF-8E2E-4920-BD18-EF83A7091F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859BD3-A6E3-425A-B406-C3E927F869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EC786-5924-475C-8A04-B018538E4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7E8CEA-A57D-48F0-85D7-18C2737568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F4DD47-5BB8-4D32-8C8D-EA3F1D6944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881FC4-5955-4440-ABFA-2FFBACB764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7A52FB-6C92-4685-9AC6-969CA915A3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5816AB-FC47-457C-A373-3DB65E6329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11248B-8225-4FB0-81BC-D8681C7E8F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BE24B3-6067-4727-89F0-761736C6FA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733DDB-FA94-4A28-A9CC-8101CD1753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6C495F-3AC8-416F-B9CF-83327D37A6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B4BB85-6008-42E4-B345-FD801AAE08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C413F-70AB-40FF-A51F-CB4173435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86949F-EAD4-48F8-8197-EB0CD15831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F2EF39-B208-4129-A829-B08E7D3416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4E287D-6AF8-4358-9B0E-E8272786A7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2EA555-0163-4129-9F11-93209250CD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BD1817-D33A-458B-9071-9444EA9E55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31B468-A041-41A2-AA41-AE788EA64E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24B249-EC5F-4562-A20F-C835C23EA8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0EE1E5-7DFE-4521-8186-8C89ACA6E2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924A7F-C4B1-4755-8687-E789E58DDA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42F40C-5F10-437B-BDBF-6E97E0CD28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32957-501F-4929-83C9-15875D21C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B78030-9971-4B68-9DCD-CEF206A447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905A28-2DEE-427C-A9E2-3492AC4103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3CBF00-4DEE-43E0-A7F0-90C0BFA2BA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64AD38-B07B-407E-948A-96079A1193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ED0122-FE51-40F7-A4B6-A2648B6EC1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53B959-CA89-42C7-8F82-D818BDA4FC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6FA0EA-F205-4BA8-902D-1443EBDF90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A64C6C-583A-41FC-86DE-B82C530660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76D740-3D5D-4B85-BAE2-11BB338B86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677A7D-EB98-48BD-8452-D88B752828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11BA8-DA8D-46AD-9904-B1753B0F1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8FF3CE-E7B3-4BF2-A609-28DB784AEE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0A3DC3-5FA6-44C2-954F-1CD66D1C30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D1C3F2-ACFE-4210-B7E2-29D9222063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FBFBAB-2F13-461B-8E1B-85F7811D1C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881A5F-93CB-41F6-B285-D50FD25FC2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6FD9D9-58DB-4313-82E8-BF3F7863EC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399F9B-2519-44E6-BCAB-150143963C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39BA8C-964C-4DD6-8496-07FBBCFCB8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F60E91-B3C7-4066-B623-3F258D09CC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556C50-C392-453A-AA5E-A45B640047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3FF2B-1E95-4308-B9C9-72D60200E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3D5C0F-F92E-46B2-A316-EBCBBE0BCC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6868FD-BAA2-4334-824D-255A91430B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5EC850-7A12-4C02-91E1-207BA7BCDF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D94CCC-5BB0-4898-B0CD-80CCB03D55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43FC40-4844-4E6C-9632-F591065B5A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7C7A35-5D15-4164-9F2C-CBFC26FE92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50A1DE-FAF1-4FDE-BA18-8B0415D358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5F28A9-0A01-48FC-B347-14C28CF4E4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B2B31F-761F-4634-8C76-16DEBACD6A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B7865A-09E6-4A44-807A-A2BC3D10C78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Arial"/>
              </a:rPr>
              <a:t>Fernando García- FORUM- Nov 2014</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36D8B-5DC8-41AE-AD00-7CC024C81730}"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477B2-DEAF-420B-BEB9-3BCB304BB6F5}"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A9228-920B-402E-9237-EBC5C69454D2}"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5841-30EE-4929-843D-C27EF1D3A13E}"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5E131-2300-4C96-B09B-D985024A400A}"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B0F88-3C5C-4418-910E-EC272E009AC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51E14-FA3B-4A80-A758-D4B8A6962706}"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9B57B-F521-4F3F-8847-B2296FC4DD49}"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80EEB-C0FA-470A-AD0B-0949FB8B7C5A}"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91E2-F304-4E52-9564-9A72453A53F6}"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83266-6CB3-4F8D-95E5-F66F5A59B108}"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80F2-F340-41D8-A0A9-D2021507FA35}"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DDAD3-205D-4AE0-BEF9-E1FC3070F97A}"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txBox="1"/>
          <p:nvPr/>
        </p:nvSpPr>
        <p:spPr>
          <a:xfrm>
            <a:off x="250560" y="2923920"/>
            <a:ext cx="8713800" cy="302580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Calibri"/>
              </a:rPr>
              <a:t>Tema I: Intercambio de Información Fiscal y BEPS </a:t>
            </a:r>
            <a:endParaRPr b="0" lang="en-US" sz="3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l Proyecto BEPS y el reporte país por país previsto por la Acción 13. ¿Qué sigue?</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Panelista: Dario M. Rajmilovich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0000"/>
                </a:solidFill>
                <a:latin typeface="Calibri"/>
              </a:rPr>
              <a:t>drajmilovich@estudiorajmilovich.com.ar</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8 de octubre de 2015</a:t>
            </a:r>
            <a:endParaRPr b="0" lang="en-US" sz="2000" spc="-1" strike="noStrike">
              <a:solidFill>
                <a:srgbClr val="000000"/>
              </a:solidFill>
              <a:latin typeface="Calibri"/>
            </a:endParaRPr>
          </a:p>
        </p:txBody>
      </p:sp>
      <p:sp>
        <p:nvSpPr>
          <p:cNvPr id="54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006F5-CB7B-4C78-A56C-F4105E0305B5}"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42" name="Picture 7" descr="Logo CPCECABA - 70 años"/>
          <p:cNvPicPr/>
          <p:nvPr/>
        </p:nvPicPr>
        <p:blipFill>
          <a:blip r:embed="rId1"/>
          <a:stretch/>
        </p:blipFill>
        <p:spPr>
          <a:xfrm>
            <a:off x="376200" y="260280"/>
            <a:ext cx="3548160" cy="1152720"/>
          </a:xfrm>
          <a:prstGeom prst="rect">
            <a:avLst/>
          </a:prstGeom>
          <a:ln w="0">
            <a:noFill/>
          </a:ln>
        </p:spPr>
      </p:pic>
      <p:sp>
        <p:nvSpPr>
          <p:cNvPr id="543" name="2 Rectángulo"/>
          <p:cNvSpPr/>
          <p:nvPr/>
        </p:nvSpPr>
        <p:spPr>
          <a:xfrm>
            <a:off x="341280" y="1765440"/>
            <a:ext cx="83343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b5998"/>
                </a:solidFill>
                <a:latin typeface="Tahoma"/>
              </a:rPr>
              <a:t>15° Congreso Tributario</a:t>
            </a:r>
            <a:br>
              <a:rPr sz="2000"/>
            </a:br>
            <a:r>
              <a:rPr b="1" lang="es-AR" sz="2000" spc="-1" strike="noStrike">
                <a:solidFill>
                  <a:srgbClr val="3b5998"/>
                </a:solidFill>
                <a:latin typeface="Tahoma"/>
              </a:rPr>
              <a:t>"Dr. C.E. Vicente O. Día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333333"/>
                </a:solidFill>
                <a:latin typeface="Tahoma"/>
              </a:rPr>
              <a:t>Ciudad de Mar del Plata, Hotel Costa Galana, 7 al 9 de octubre de 201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3 Marcador de número de diapositiva"/>
          <p:cNvSpPr/>
          <p:nvPr/>
        </p:nvSpPr>
        <p:spPr>
          <a:xfrm>
            <a:off x="6594480" y="6286680"/>
            <a:ext cx="2133720" cy="475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19B37-8DCF-45C0-88FC-AF2885E67B1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4"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5" name="Text Box 3"/>
          <p:cNvSpPr/>
          <p:nvPr/>
        </p:nvSpPr>
        <p:spPr>
          <a:xfrm>
            <a:off x="365040" y="476280"/>
            <a:ext cx="839808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ACCIÓN 13 (</a:t>
            </a:r>
            <a:r>
              <a:rPr b="1" lang="es-AR" sz="2000" spc="-1" strike="noStrike">
                <a:solidFill>
                  <a:srgbClr val="000000"/>
                </a:solidFill>
                <a:latin typeface="Arial"/>
                <a:ea typeface="Arial"/>
              </a:rPr>
              <a:t>Reexaminar la documentación de PT)</a:t>
            </a:r>
            <a:endParaRPr b="0" lang="en-US" sz="2000" spc="-1" strike="noStrike">
              <a:solidFill>
                <a:srgbClr val="000000"/>
              </a:solidFill>
              <a:latin typeface="Arial"/>
            </a:endParaRPr>
          </a:p>
        </p:txBody>
      </p:sp>
      <p:sp>
        <p:nvSpPr>
          <p:cNvPr id="586" name="5 Rectángulo"/>
          <p:cNvSpPr/>
          <p:nvPr/>
        </p:nvSpPr>
        <p:spPr>
          <a:xfrm>
            <a:off x="365040" y="876240"/>
            <a:ext cx="8398080" cy="3715560"/>
          </a:xfrm>
          <a:prstGeom prst="rect">
            <a:avLst/>
          </a:prstGeom>
          <a:noFill/>
          <a:ln w="0">
            <a:noFill/>
          </a:ln>
        </p:spPr>
        <p:style>
          <a:lnRef idx="0"/>
          <a:fillRef idx="0"/>
          <a:effectRef idx="0"/>
          <a:fontRef idx="minor"/>
        </p:style>
        <p:txBody>
          <a:bodyPr lIns="90000" rIns="90000" tIns="46800" bIns="46800" anchor="t">
            <a:spAutoFit/>
          </a:bodyPr>
          <a:p>
            <a:pPr algn="just">
              <a:lnSpc>
                <a:spcPts val="15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ea typeface="Arial"/>
              </a:rPr>
              <a:t>Plantilla modelo con información relativa a:</a:t>
            </a:r>
            <a:endParaRPr b="0" lang="en-US" sz="2000" spc="-1" strike="noStrike">
              <a:solidFill>
                <a:srgbClr val="000000"/>
              </a:solidFill>
              <a:latin typeface="Arial"/>
            </a:endParaRPr>
          </a:p>
          <a:p>
            <a:pPr lvl="1" marL="8002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57480" indent="-34308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ea typeface="Arial"/>
              </a:rPr>
              <a:t>Ingresos </a:t>
            </a:r>
            <a:endParaRPr b="0" lang="en-US" sz="2000" spc="-1" strike="noStrike">
              <a:solidFill>
                <a:srgbClr val="000000"/>
              </a:solidFill>
              <a:latin typeface="Arial"/>
            </a:endParaRPr>
          </a:p>
          <a:p>
            <a:pPr lvl="2" marL="1257480" indent="-34308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ea typeface="Arial"/>
              </a:rPr>
              <a:t>Beneficios o pérdidas devengadas</a:t>
            </a:r>
            <a:endParaRPr b="0" lang="en-US" sz="2000" spc="-1" strike="noStrike">
              <a:solidFill>
                <a:srgbClr val="000000"/>
              </a:solidFill>
              <a:latin typeface="Arial"/>
            </a:endParaRPr>
          </a:p>
          <a:p>
            <a:pPr lvl="2" marL="1257480" indent="-34308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ea typeface="Arial"/>
              </a:rPr>
              <a:t>Beneficios acumulados</a:t>
            </a:r>
            <a:endParaRPr b="0" lang="en-US" sz="2000" spc="-1" strike="noStrike">
              <a:solidFill>
                <a:srgbClr val="000000"/>
              </a:solidFill>
              <a:latin typeface="Arial"/>
            </a:endParaRPr>
          </a:p>
          <a:p>
            <a:pPr lvl="2" marL="1257480" indent="-34308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ea typeface="Arial"/>
              </a:rPr>
              <a:t>Impuesto a la renta devengado</a:t>
            </a:r>
            <a:endParaRPr b="0" lang="en-US" sz="2000" spc="-1" strike="noStrike">
              <a:solidFill>
                <a:srgbClr val="000000"/>
              </a:solidFill>
              <a:latin typeface="Arial"/>
            </a:endParaRPr>
          </a:p>
          <a:p>
            <a:pPr lvl="2" marL="1257480" indent="-34308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ea typeface="Arial"/>
              </a:rPr>
              <a:t>Capital</a:t>
            </a:r>
            <a:endParaRPr b="0" lang="en-US" sz="2000" spc="-1" strike="noStrike">
              <a:solidFill>
                <a:srgbClr val="000000"/>
              </a:solidFill>
              <a:latin typeface="Arial"/>
            </a:endParaRPr>
          </a:p>
          <a:p>
            <a:pPr lvl="2" marL="1257480" indent="-34308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ea typeface="Arial"/>
              </a:rPr>
              <a:t>Número de empleados</a:t>
            </a:r>
            <a:endParaRPr b="0" lang="en-US" sz="2000" spc="-1" strike="noStrike">
              <a:solidFill>
                <a:srgbClr val="000000"/>
              </a:solidFill>
              <a:latin typeface="Arial"/>
            </a:endParaRPr>
          </a:p>
          <a:p>
            <a:pPr lvl="2" marL="1257480" indent="-34308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ea typeface="Arial"/>
              </a:rPr>
              <a:t>Activos fij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3 Marcador de número de diapositiva"/>
          <p:cNvSpPr/>
          <p:nvPr/>
        </p:nvSpPr>
        <p:spPr>
          <a:xfrm>
            <a:off x="6594480" y="6286680"/>
            <a:ext cx="2133720" cy="475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8B912-CBF6-4B41-967C-F8F7F7BD8FE1}"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8"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Text Box 3"/>
          <p:cNvSpPr/>
          <p:nvPr/>
        </p:nvSpPr>
        <p:spPr>
          <a:xfrm>
            <a:off x="365040" y="476280"/>
            <a:ext cx="839808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ACCIÓN 13 (</a:t>
            </a:r>
            <a:r>
              <a:rPr b="1" lang="es-AR" sz="2000" spc="-1" strike="noStrike">
                <a:solidFill>
                  <a:srgbClr val="000000"/>
                </a:solidFill>
                <a:latin typeface="Arial"/>
                <a:ea typeface="Arial"/>
              </a:rPr>
              <a:t>Reexaminar la documentación de PT)</a:t>
            </a:r>
            <a:endParaRPr b="0" lang="en-US" sz="2000" spc="-1" strike="noStrike">
              <a:solidFill>
                <a:srgbClr val="000000"/>
              </a:solidFill>
              <a:latin typeface="Arial"/>
            </a:endParaRPr>
          </a:p>
        </p:txBody>
      </p:sp>
      <p:sp>
        <p:nvSpPr>
          <p:cNvPr id="590" name="5 Rectángulo"/>
          <p:cNvSpPr/>
          <p:nvPr/>
        </p:nvSpPr>
        <p:spPr>
          <a:xfrm>
            <a:off x="365040" y="876240"/>
            <a:ext cx="8398080" cy="58449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ea typeface="Arial"/>
              </a:rPr>
              <a:t>Función de la información:</a:t>
            </a:r>
            <a:endParaRPr b="0" lang="en-US" sz="2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ea typeface="Arial"/>
              </a:rPr>
              <a:t>Determinación de riesgos de alto nivel en materia de precios de transferencia. </a:t>
            </a:r>
            <a:endParaRPr b="0" lang="en-US" sz="2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ea typeface="Arial"/>
              </a:rPr>
              <a:t>Evaluación de otros riesgos relacionados con otros BEPS.</a:t>
            </a:r>
            <a:endParaRPr b="0" lang="en-US" sz="2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ea typeface="Arial"/>
              </a:rPr>
              <a:t>Análisis económico y estadístico. </a:t>
            </a:r>
            <a:endParaRPr b="0" lang="en-US" sz="2000" spc="-1" strike="noStrike">
              <a:solidFill>
                <a:srgbClr val="000000"/>
              </a:solidFill>
              <a:latin typeface="Arial"/>
            </a:endParaRPr>
          </a:p>
          <a:p>
            <a:pPr marL="343080" indent="-343080" algn="just">
              <a:lnSpc>
                <a:spcPts val="15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ea typeface="Arial"/>
              </a:rPr>
              <a:t>El trabajo de la OCDE destaca que la información expuesta en las planillas CbC </a:t>
            </a:r>
            <a:endParaRPr b="0" lang="en-US" sz="2000" spc="-1" strike="noStrike">
              <a:solidFill>
                <a:srgbClr val="000000"/>
              </a:solidFill>
              <a:latin typeface="Arial"/>
            </a:endParaRPr>
          </a:p>
          <a:p>
            <a:pPr marL="343080" indent="-343080" algn="just">
              <a:lnSpc>
                <a:spcPts val="15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ea typeface="Arial"/>
              </a:rPr>
              <a:t>No deberían ser utilizadas como un sustituto para un analisis adecuadamente detallado en materia de los precios de transferencia de transacciones individuales, en términos de márgenes y precios basados en un análisis funcional y de comparabilidad completos. </a:t>
            </a:r>
            <a:endParaRPr b="0" lang="en-US" sz="2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ea typeface="Arial"/>
              </a:rPr>
              <a:t>No constituye evidencias conclusivas sobre la falta de adecuación de los precios de transferencia en el seno del grupo MNE, ni pueden ser tomados como base de ajustes basados en una fórmula global de distribución del ingreso (“global formulary apportion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3 Marcador de número de diapositiva"/>
          <p:cNvSpPr/>
          <p:nvPr/>
        </p:nvSpPr>
        <p:spPr>
          <a:xfrm>
            <a:off x="6594480" y="6286680"/>
            <a:ext cx="2133720" cy="475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16984-268F-45C3-B310-EFF8D874124B}"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2"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Text Box 3"/>
          <p:cNvSpPr/>
          <p:nvPr/>
        </p:nvSpPr>
        <p:spPr>
          <a:xfrm>
            <a:off x="611280" y="476280"/>
            <a:ext cx="784836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Arial"/>
              </a:rPr>
              <a:t>ACCIÓN 13 (Reexaminar la documentación de PT)</a:t>
            </a:r>
            <a:endParaRPr b="0" lang="en-US" sz="2000" spc="-1" strike="noStrike">
              <a:solidFill>
                <a:srgbClr val="000000"/>
              </a:solidFill>
              <a:latin typeface="Arial"/>
            </a:endParaRPr>
          </a:p>
        </p:txBody>
      </p:sp>
      <p:sp>
        <p:nvSpPr>
          <p:cNvPr id="594" name="5 Rectángulo"/>
          <p:cNvSpPr/>
          <p:nvPr/>
        </p:nvSpPr>
        <p:spPr>
          <a:xfrm>
            <a:off x="365040" y="876240"/>
            <a:ext cx="8398080" cy="5660280"/>
          </a:xfrm>
          <a:prstGeom prst="rect">
            <a:avLst/>
          </a:prstGeom>
          <a:noFill/>
          <a:ln w="0">
            <a:noFill/>
          </a:ln>
        </p:spPr>
        <p:style>
          <a:lnRef idx="0"/>
          <a:fillRef idx="0"/>
          <a:effectRef idx="0"/>
          <a:fontRef idx="minor"/>
        </p:style>
        <p:txBody>
          <a:bodyPr lIns="90000" rIns="90000" tIns="46800" bIns="46800" anchor="t">
            <a:spAutoFit/>
          </a:bodyPr>
          <a:p>
            <a:pPr algn="just">
              <a:lnSpc>
                <a:spcPts val="15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ea typeface="Arial"/>
              </a:rPr>
              <a:t>Archivo maestro</a:t>
            </a:r>
            <a:endParaRPr b="0" lang="en-US" sz="2200" spc="-1" strike="noStrike">
              <a:solidFill>
                <a:srgbClr val="000000"/>
              </a:solidFill>
              <a:latin typeface="Arial"/>
            </a:endParaRPr>
          </a:p>
          <a:p>
            <a:pPr lvl="1" marL="8002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Estructura organizativa del grupo MNE</a:t>
            </a:r>
            <a:endParaRPr b="0" lang="en-US" sz="2000" spc="-1" strike="noStrike">
              <a:solidFill>
                <a:srgbClr val="000000"/>
              </a:solidFill>
              <a:latin typeface="Arial"/>
            </a:endParaRPr>
          </a:p>
          <a:p>
            <a:pPr lvl="1" marL="8002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Descripción del negocios o negocios de cada unidad</a:t>
            </a:r>
            <a:endParaRPr b="0" lang="en-US" sz="2000" spc="-1" strike="noStrike">
              <a:solidFill>
                <a:srgbClr val="000000"/>
              </a:solidFill>
              <a:latin typeface="Arial"/>
            </a:endParaRPr>
          </a:p>
          <a:p>
            <a:pPr lvl="1" marL="8002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Intangibles</a:t>
            </a:r>
            <a:endParaRPr b="0" lang="en-US" sz="2000" spc="-1" strike="noStrike">
              <a:solidFill>
                <a:srgbClr val="000000"/>
              </a:solidFill>
              <a:latin typeface="Arial"/>
            </a:endParaRPr>
          </a:p>
          <a:p>
            <a:pPr lvl="1" marL="8002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Actividades financieras dentro del grupo MNE</a:t>
            </a:r>
            <a:endParaRPr b="0" lang="en-US" sz="2000" spc="-1" strike="noStrike">
              <a:solidFill>
                <a:srgbClr val="000000"/>
              </a:solidFill>
              <a:latin typeface="Arial"/>
            </a:endParaRPr>
          </a:p>
          <a:p>
            <a:pPr lvl="1" marL="8002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Posición financiera y fiscal de cada unidad del grupo MNE</a:t>
            </a:r>
            <a:endParaRPr b="0" lang="en-US" sz="2000" spc="-1" strike="noStrike">
              <a:solidFill>
                <a:srgbClr val="000000"/>
              </a:solidFill>
              <a:latin typeface="Arial"/>
            </a:endParaRPr>
          </a:p>
          <a:p>
            <a:pPr lvl="1" marL="800280" indent="-343080" algn="just">
              <a:lnSpc>
                <a:spcPts val="15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ea typeface="Arial"/>
              </a:rPr>
              <a:t>Archivo local</a:t>
            </a:r>
            <a:endParaRPr b="0" lang="en-US" sz="2200" spc="-1" strike="noStrike">
              <a:solidFill>
                <a:srgbClr val="000000"/>
              </a:solidFill>
              <a:latin typeface="Arial"/>
            </a:endParaRPr>
          </a:p>
          <a:p>
            <a:pPr lvl="1" marL="8002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ea typeface="Arial"/>
              </a:rPr>
              <a:t>Información relevante en los análisis de precios de transferencia relativos a las transacciones concertadas entre una empresa asociada local y otra empresa en diferentes países (criterio de materialidad)</a:t>
            </a:r>
            <a:endParaRPr b="0" lang="en-US" sz="2000" spc="-1" strike="noStrike">
              <a:solidFill>
                <a:srgbClr val="000000"/>
              </a:solidFill>
              <a:latin typeface="Arial"/>
            </a:endParaRPr>
          </a:p>
          <a:p>
            <a:pPr lvl="1" marL="8002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ea typeface="Arial"/>
              </a:rPr>
              <a:t>Incluye información financiera relevante con respecto a tales transacciones específicas, el análisis de comparabilidad, y la selección y aplicación del método más apropi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3 Marcador de número de diapositiva"/>
          <p:cNvSpPr/>
          <p:nvPr/>
        </p:nvSpPr>
        <p:spPr>
          <a:xfrm>
            <a:off x="6594480" y="6597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F625C-FCBE-41CB-A400-DEE29C01ED09}"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6" name="Rectangle 2"/>
          <p:cNvSpPr/>
          <p:nvPr/>
        </p:nvSpPr>
        <p:spPr>
          <a:xfrm>
            <a:off x="401760" y="333360"/>
            <a:ext cx="838188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Text Box 3"/>
          <p:cNvSpPr/>
          <p:nvPr/>
        </p:nvSpPr>
        <p:spPr>
          <a:xfrm>
            <a:off x="611280" y="476280"/>
            <a:ext cx="784836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Arial"/>
              </a:rPr>
              <a:t>¿ES SUFICIENTE BEPS ?</a:t>
            </a:r>
            <a:endParaRPr b="0" lang="en-US" sz="2000" spc="-1" strike="noStrike">
              <a:solidFill>
                <a:srgbClr val="000000"/>
              </a:solidFill>
              <a:latin typeface="Arial"/>
            </a:endParaRPr>
          </a:p>
        </p:txBody>
      </p:sp>
      <p:sp>
        <p:nvSpPr>
          <p:cNvPr id="598" name="5 Rectángulo"/>
          <p:cNvSpPr/>
          <p:nvPr/>
        </p:nvSpPr>
        <p:spPr>
          <a:xfrm>
            <a:off x="365040" y="876240"/>
            <a:ext cx="8398080" cy="5156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Arial"/>
                <a:ea typeface="Arial"/>
              </a:rPr>
              <a:t>No se modifica el paradigma internacional</a:t>
            </a:r>
            <a:endParaRPr b="0" lang="en-US" sz="2200" spc="-1" strike="noStrike">
              <a:solidFill>
                <a:srgbClr val="000000"/>
              </a:solidFill>
              <a:latin typeface="Arial"/>
            </a:endParaRPr>
          </a:p>
          <a:p>
            <a:pPr marL="343080" indent="-343080" algn="just">
              <a:lnSpc>
                <a:spcPts val="15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Arial"/>
                <a:ea typeface="Arial"/>
              </a:rPr>
              <a:t>las reglas de precios de transferencia (arm´s length y contabilidad separada) se refuerzan (creación de valor, documentación TP)</a:t>
            </a:r>
            <a:endParaRPr b="0" lang="en-US" sz="2200" spc="-1" strike="noStrike">
              <a:solidFill>
                <a:srgbClr val="000000"/>
              </a:solidFill>
              <a:latin typeface="Arial"/>
            </a:endParaRPr>
          </a:p>
          <a:p>
            <a:pPr lvl="1" marL="8002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Arial"/>
                <a:ea typeface="Arial"/>
              </a:rPr>
              <a:t>La tributación en residencia se ratifica (CFC, híbridos) </a:t>
            </a:r>
            <a:endParaRPr b="0" lang="en-US" sz="2200" spc="-1" strike="noStrike">
              <a:solidFill>
                <a:srgbClr val="000000"/>
              </a:solidFill>
              <a:latin typeface="Arial"/>
            </a:endParaRPr>
          </a:p>
          <a:p>
            <a:pPr marL="343080" indent="-343080" algn="just">
              <a:lnSpc>
                <a:spcPts val="15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Arial"/>
                <a:ea typeface="Arial"/>
              </a:rPr>
              <a:t>Muchos de los esquemas de planificación fiscal requerirán de mayor niveles de sustancia.</a:t>
            </a:r>
            <a:endParaRPr b="0" lang="en-US" sz="2200" spc="-1" strike="noStrike">
              <a:solidFill>
                <a:srgbClr val="000000"/>
              </a:solidFill>
              <a:latin typeface="Arial"/>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Arial"/>
                <a:ea typeface="Arial"/>
              </a:rPr>
              <a:t>No obstante, las MNE con presencia global tienen las herramientas para pasar los nuevos tests de sustancia continuando con prácticas de erosión de base y de deslocalización de rent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3 Marcador de número de diapositiva"/>
          <p:cNvSpPr/>
          <p:nvPr/>
        </p:nvSpPr>
        <p:spPr>
          <a:xfrm>
            <a:off x="6594480" y="65530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C0F8-F215-4849-AD4F-EF6FE4DBBE36}"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0"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1" name="Text Box 3"/>
          <p:cNvSpPr/>
          <p:nvPr/>
        </p:nvSpPr>
        <p:spPr>
          <a:xfrm>
            <a:off x="611280" y="476280"/>
            <a:ext cx="784836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S SUFICIENTE BEPS ?</a:t>
            </a:r>
            <a:endParaRPr b="0" lang="en-US" sz="2000" spc="-1" strike="noStrike">
              <a:solidFill>
                <a:srgbClr val="000000"/>
              </a:solidFill>
              <a:latin typeface="Arial"/>
            </a:endParaRPr>
          </a:p>
        </p:txBody>
      </p:sp>
      <p:sp>
        <p:nvSpPr>
          <p:cNvPr id="602" name="5 Rectángulo"/>
          <p:cNvSpPr/>
          <p:nvPr/>
        </p:nvSpPr>
        <p:spPr>
          <a:xfrm>
            <a:off x="365040" y="876240"/>
            <a:ext cx="8398080" cy="1107360"/>
          </a:xfrm>
          <a:prstGeom prst="rect">
            <a:avLst/>
          </a:prstGeom>
          <a:noFill/>
          <a:ln w="0">
            <a:noFill/>
          </a:ln>
        </p:spPr>
        <p:style>
          <a:lnRef idx="0"/>
          <a:fillRef idx="0"/>
          <a:effectRef idx="0"/>
          <a:fontRef idx="minor"/>
        </p:style>
        <p:txBody>
          <a:bodyPr lIns="90000" rIns="90000" tIns="46800" bIns="46800" anchor="t">
            <a:spAutoFit/>
          </a:bodyPr>
          <a:p>
            <a:pPr algn="just">
              <a:lnSpc>
                <a:spcPts val="15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03" name="Picture 2" descr=""/>
          <p:cNvPicPr/>
          <p:nvPr/>
        </p:nvPicPr>
        <p:blipFill>
          <a:blip r:embed="rId1"/>
          <a:stretch/>
        </p:blipFill>
        <p:spPr>
          <a:xfrm>
            <a:off x="971640" y="1504800"/>
            <a:ext cx="7488000" cy="4588200"/>
          </a:xfrm>
          <a:prstGeom prst="rect">
            <a:avLst/>
          </a:prstGeom>
          <a:ln w="0">
            <a:noFill/>
          </a:ln>
        </p:spPr>
      </p:pic>
      <p:sp>
        <p:nvSpPr>
          <p:cNvPr id="604" name="1 CuadroTexto"/>
          <p:cNvSpPr/>
          <p:nvPr/>
        </p:nvSpPr>
        <p:spPr>
          <a:xfrm>
            <a:off x="700200" y="1052640"/>
            <a:ext cx="253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ociedades financier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3 Marcador de número de diapositiva"/>
          <p:cNvSpPr/>
          <p:nvPr/>
        </p:nvSpPr>
        <p:spPr>
          <a:xfrm>
            <a:off x="6594480" y="6286680"/>
            <a:ext cx="2133720" cy="475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B18E4-9440-4451-818A-768E2AAFA455}"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6"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Text Box 3"/>
          <p:cNvSpPr/>
          <p:nvPr/>
        </p:nvSpPr>
        <p:spPr>
          <a:xfrm>
            <a:off x="611280" y="476280"/>
            <a:ext cx="784836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S SUFICIENTE BEPS ?</a:t>
            </a:r>
            <a:endParaRPr b="0" lang="en-US" sz="2000" spc="-1" strike="noStrike">
              <a:solidFill>
                <a:srgbClr val="000000"/>
              </a:solidFill>
              <a:latin typeface="Arial"/>
            </a:endParaRPr>
          </a:p>
        </p:txBody>
      </p:sp>
      <p:sp>
        <p:nvSpPr>
          <p:cNvPr id="608" name="5 Rectángulo"/>
          <p:cNvSpPr/>
          <p:nvPr/>
        </p:nvSpPr>
        <p:spPr>
          <a:xfrm>
            <a:off x="395280" y="998640"/>
            <a:ext cx="8397720" cy="5160960"/>
          </a:xfrm>
          <a:prstGeom prst="rect">
            <a:avLst/>
          </a:prstGeom>
          <a:noFill/>
          <a:ln w="0">
            <a:noFill/>
          </a:ln>
        </p:spPr>
        <p:style>
          <a:lnRef idx="0"/>
          <a:fillRef idx="0"/>
          <a:effectRef idx="0"/>
          <a:fontRef idx="minor"/>
        </p:style>
        <p:txBody>
          <a:bodyPr lIns="90000" rIns="90000" tIns="46800" bIns="46800" anchor="t">
            <a:spAutoFit/>
          </a:bodyPr>
          <a:p>
            <a:pPr algn="just">
              <a:lnSpc>
                <a:spcPts val="15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Calibri"/>
              </a:rPr>
              <a:t>Los requerimientos clave para la elección de la jurisdicción de la sociedad financiera son los siguientes:</a:t>
            </a:r>
            <a:endParaRPr b="0" lang="en-US" sz="18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Calibri"/>
              </a:rPr>
              <a:t> </a:t>
            </a:r>
            <a:endParaRPr b="0" lang="en-US" sz="1800" spc="-1" strike="noStrike">
              <a:solidFill>
                <a:srgbClr val="000000"/>
              </a:solidFill>
              <a:latin typeface="Arial"/>
            </a:endParaRPr>
          </a:p>
          <a:p>
            <a:pPr algn="just">
              <a:lnSpc>
                <a:spcPct val="150000"/>
              </a:lnSpc>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Calibri"/>
              </a:rPr>
              <a:t>Una tasa de impuesto a la renta baja o la posibilidad de construir una tasa sintética baja.</a:t>
            </a:r>
            <a:endParaRPr b="0" lang="en-US" sz="18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Calibri"/>
              </a:rPr>
              <a:t> </a:t>
            </a:r>
            <a:endParaRPr b="0" lang="en-US" sz="1800" spc="-1" strike="noStrike">
              <a:solidFill>
                <a:srgbClr val="000000"/>
              </a:solidFill>
              <a:latin typeface="Arial"/>
            </a:endParaRPr>
          </a:p>
          <a:p>
            <a:pPr algn="just">
              <a:lnSpc>
                <a:spcPct val="150000"/>
              </a:lnSpc>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Calibri"/>
              </a:rPr>
              <a:t>WHT reducidos o nulos con los países de las subsidiarias financiadas (p.ej. a través del acceso a una red de CDI o por aplicación de la legislación doméstica).</a:t>
            </a:r>
            <a:endParaRPr b="0" lang="en-US" sz="18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Calibri"/>
              </a:rPr>
              <a:t> </a:t>
            </a:r>
            <a:endParaRPr b="0" lang="en-US" sz="1800" spc="-1" strike="noStrike">
              <a:solidFill>
                <a:srgbClr val="000000"/>
              </a:solidFill>
              <a:latin typeface="Arial"/>
            </a:endParaRPr>
          </a:p>
          <a:p>
            <a:pPr algn="just">
              <a:lnSpc>
                <a:spcPct val="150000"/>
              </a:lnSpc>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Calibri"/>
              </a:rPr>
              <a:t>Posibilidad de remitir utilidades hasta la controlante libres de WHT o impuestos sobre la distribución de dividendos.</a:t>
            </a:r>
            <a:endParaRPr b="0" lang="en-US" sz="18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Calibri"/>
              </a:rPr>
              <a:t> </a:t>
            </a:r>
            <a:endParaRPr b="0" lang="en-US" sz="1800" spc="-1" strike="noStrike">
              <a:solidFill>
                <a:srgbClr val="000000"/>
              </a:solidFill>
              <a:latin typeface="Arial"/>
            </a:endParaRPr>
          </a:p>
          <a:p>
            <a:pPr algn="just">
              <a:lnSpc>
                <a:spcPct val="150000"/>
              </a:lnSpc>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Calibri"/>
              </a:rPr>
              <a:t>No aplicación de regímenes de transparencia fiscal internacional (CFC) en cabeza de la controla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3 Marcador de número de diapositiva"/>
          <p:cNvSpPr/>
          <p:nvPr/>
        </p:nvSpPr>
        <p:spPr>
          <a:xfrm>
            <a:off x="6594480" y="6286680"/>
            <a:ext cx="2133720" cy="475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73F5C-0C8D-4453-94AB-9BA4290B5D41}"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0"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Text Box 3"/>
          <p:cNvSpPr/>
          <p:nvPr/>
        </p:nvSpPr>
        <p:spPr>
          <a:xfrm>
            <a:off x="539640" y="476280"/>
            <a:ext cx="784872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S SUFICIENTE BEPS ?</a:t>
            </a:r>
            <a:endParaRPr b="0" lang="en-US" sz="2000" spc="-1" strike="noStrike">
              <a:solidFill>
                <a:srgbClr val="000000"/>
              </a:solidFill>
              <a:latin typeface="Arial"/>
            </a:endParaRPr>
          </a:p>
        </p:txBody>
      </p:sp>
      <p:pic>
        <p:nvPicPr>
          <p:cNvPr id="612" name="Picture 2" descr=""/>
          <p:cNvPicPr/>
          <p:nvPr/>
        </p:nvPicPr>
        <p:blipFill>
          <a:blip r:embed="rId1"/>
          <a:stretch/>
        </p:blipFill>
        <p:spPr>
          <a:xfrm>
            <a:off x="826920" y="1641600"/>
            <a:ext cx="6840720" cy="4308480"/>
          </a:xfrm>
          <a:prstGeom prst="rect">
            <a:avLst/>
          </a:prstGeom>
          <a:ln w="0">
            <a:noFill/>
          </a:ln>
        </p:spPr>
      </p:pic>
      <p:sp>
        <p:nvSpPr>
          <p:cNvPr id="613" name="1 CuadroTexto"/>
          <p:cNvSpPr/>
          <p:nvPr/>
        </p:nvSpPr>
        <p:spPr>
          <a:xfrm>
            <a:off x="693720" y="1332000"/>
            <a:ext cx="162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Regímenes 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3 Marcador de número de diapositiva"/>
          <p:cNvSpPr/>
          <p:nvPr/>
        </p:nvSpPr>
        <p:spPr>
          <a:xfrm>
            <a:off x="6594480" y="6286680"/>
            <a:ext cx="2133720" cy="475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F5FB2-5FB7-449D-A39C-BDCA4EBCDA96}"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5"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Text Box 3"/>
          <p:cNvSpPr/>
          <p:nvPr/>
        </p:nvSpPr>
        <p:spPr>
          <a:xfrm>
            <a:off x="611280" y="476280"/>
            <a:ext cx="784836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S SUFICIENTE BEPS ?</a:t>
            </a:r>
            <a:endParaRPr b="0" lang="en-US" sz="2000" spc="-1" strike="noStrike">
              <a:solidFill>
                <a:srgbClr val="000000"/>
              </a:solidFill>
              <a:latin typeface="Arial"/>
            </a:endParaRPr>
          </a:p>
        </p:txBody>
      </p:sp>
      <p:sp>
        <p:nvSpPr>
          <p:cNvPr id="617" name="5 Rectángulo"/>
          <p:cNvSpPr/>
          <p:nvPr/>
        </p:nvSpPr>
        <p:spPr>
          <a:xfrm>
            <a:off x="395280" y="998640"/>
            <a:ext cx="8397720" cy="5160960"/>
          </a:xfrm>
          <a:prstGeom prst="rect">
            <a:avLst/>
          </a:prstGeom>
          <a:noFill/>
          <a:ln w="0">
            <a:noFill/>
          </a:ln>
        </p:spPr>
        <p:style>
          <a:lnRef idx="0"/>
          <a:fillRef idx="0"/>
          <a:effectRef idx="0"/>
          <a:fontRef idx="minor"/>
        </p:style>
        <p:txBody>
          <a:bodyPr lIns="90000" rIns="90000" tIns="46800" bIns="46800" anchor="t">
            <a:spAutoFit/>
          </a:bodyPr>
          <a:p>
            <a:pPr algn="just">
              <a:lnSpc>
                <a:spcPts val="15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Calibri"/>
              </a:rPr>
              <a:t>Los requerimientos clave para la elección de la jurisdicción de la sociedad financiera son los siguientes:</a:t>
            </a:r>
            <a:endParaRPr b="0" lang="en-US" sz="18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Calibri"/>
              </a:rPr>
              <a:t> </a:t>
            </a:r>
            <a:endParaRPr b="0" lang="en-US" sz="1800" spc="-1" strike="noStrike">
              <a:solidFill>
                <a:srgbClr val="000000"/>
              </a:solidFill>
              <a:latin typeface="Arial"/>
            </a:endParaRPr>
          </a:p>
          <a:p>
            <a:pPr algn="just">
              <a:lnSpc>
                <a:spcPct val="150000"/>
              </a:lnSpc>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Calibri"/>
              </a:rPr>
              <a:t>Un régimen de innovation box con tasa de impuesto a la renta baja y el cumplimiento de requisitos de sustancia.</a:t>
            </a:r>
            <a:endParaRPr b="0" lang="en-US" sz="18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Calibri"/>
              </a:rPr>
              <a:t> </a:t>
            </a:r>
            <a:endParaRPr b="0" lang="en-US" sz="1800" spc="-1" strike="noStrike">
              <a:solidFill>
                <a:srgbClr val="000000"/>
              </a:solidFill>
              <a:latin typeface="Arial"/>
            </a:endParaRPr>
          </a:p>
          <a:p>
            <a:pPr algn="just">
              <a:lnSpc>
                <a:spcPct val="150000"/>
              </a:lnSpc>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Calibri"/>
              </a:rPr>
              <a:t>WHT reducidos o nulos con los países de las subsidiarias usuarias del IP (p.ej. a través del acceso a una red de CDI o la Directiva de Regalías de la UE).</a:t>
            </a:r>
            <a:endParaRPr b="0" lang="en-US" sz="18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Calibri"/>
              </a:rPr>
              <a:t> </a:t>
            </a:r>
            <a:endParaRPr b="0" lang="en-US" sz="1800" spc="-1" strike="noStrike">
              <a:solidFill>
                <a:srgbClr val="000000"/>
              </a:solidFill>
              <a:latin typeface="Arial"/>
            </a:endParaRPr>
          </a:p>
          <a:p>
            <a:pPr algn="just">
              <a:lnSpc>
                <a:spcPct val="150000"/>
              </a:lnSpc>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Calibri"/>
              </a:rPr>
              <a:t>Posibilidad de remitir utilidades hasta la controlante libres de WHT o impuestos sobre la distribución de dividendos.</a:t>
            </a:r>
            <a:endParaRPr b="0" lang="en-US" sz="18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Calibri"/>
              </a:rPr>
              <a:t> </a:t>
            </a:r>
            <a:endParaRPr b="0" lang="en-US" sz="1800" spc="-1" strike="noStrike">
              <a:solidFill>
                <a:srgbClr val="000000"/>
              </a:solidFill>
              <a:latin typeface="Arial"/>
            </a:endParaRPr>
          </a:p>
          <a:p>
            <a:pPr algn="just">
              <a:lnSpc>
                <a:spcPct val="150000"/>
              </a:lnSpc>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Calibri"/>
              </a:rPr>
              <a:t>No aplicación de regímenes de transparencia fiscal internacional (CFC) en cabeza de la controla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3 Marcador de número de diapositiva"/>
          <p:cNvSpPr/>
          <p:nvPr/>
        </p:nvSpPr>
        <p:spPr>
          <a:xfrm>
            <a:off x="6594480" y="6286680"/>
            <a:ext cx="2133720" cy="475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FD6EC-12D7-47BC-9C15-CD9188AE4420}"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Text Box 3"/>
          <p:cNvSpPr/>
          <p:nvPr/>
        </p:nvSpPr>
        <p:spPr>
          <a:xfrm>
            <a:off x="611280" y="476280"/>
            <a:ext cx="784836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S SUFICIENTE BEPS ?</a:t>
            </a:r>
            <a:endParaRPr b="0" lang="en-US" sz="2000" spc="-1" strike="noStrike">
              <a:solidFill>
                <a:srgbClr val="000000"/>
              </a:solidFill>
              <a:latin typeface="Arial"/>
            </a:endParaRPr>
          </a:p>
        </p:txBody>
      </p:sp>
      <p:sp>
        <p:nvSpPr>
          <p:cNvPr id="621" name="1 Rectángulo"/>
          <p:cNvSpPr/>
          <p:nvPr/>
        </p:nvSpPr>
        <p:spPr>
          <a:xfrm>
            <a:off x="436680" y="1341360"/>
            <a:ext cx="831204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nfoque de “nexo modificado” en materia de regímenes IP (patent / innovation box).</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Acción 5: reconocimiento de los beneficios en proporción a los gastos incurridos por al entidad beneficiaria, incluyendo costos de adquisición (no pudiendo superar el 30% los costos de adquisición o los servicios de I+D subcontratados (outsourcing) entre empresas vinculada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s decir, los IP desarrollados por otras unidades y las funciones transferidas a otras entidades vinculadas deberían ser insustanciales al desarrollo del IP.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Criterio ya aplicado en Europa (iniciativa de Alemania y Reino Un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3 Marcador de número de diapositiva"/>
          <p:cNvSpPr/>
          <p:nvPr/>
        </p:nvSpPr>
        <p:spPr>
          <a:xfrm>
            <a:off x="6594480" y="6597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3EE4-CBFB-41CE-8A1C-A51FAA201F87}"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Rectangle 2"/>
          <p:cNvSpPr/>
          <p:nvPr/>
        </p:nvSpPr>
        <p:spPr>
          <a:xfrm>
            <a:off x="401760" y="333360"/>
            <a:ext cx="838188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Text Box 3"/>
          <p:cNvSpPr/>
          <p:nvPr/>
        </p:nvSpPr>
        <p:spPr>
          <a:xfrm>
            <a:off x="611280" y="476280"/>
            <a:ext cx="784836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Arial"/>
              </a:rPr>
              <a:t>¿ES SUFICIENTE BEPS ?</a:t>
            </a:r>
            <a:endParaRPr b="0" lang="en-US" sz="2000" spc="-1" strike="noStrike">
              <a:solidFill>
                <a:srgbClr val="000000"/>
              </a:solidFill>
              <a:latin typeface="Arial"/>
            </a:endParaRPr>
          </a:p>
        </p:txBody>
      </p:sp>
      <p:sp>
        <p:nvSpPr>
          <p:cNvPr id="625" name="5 Rectángulo"/>
          <p:cNvSpPr/>
          <p:nvPr/>
        </p:nvSpPr>
        <p:spPr>
          <a:xfrm>
            <a:off x="365040" y="876240"/>
            <a:ext cx="8398080" cy="53758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ea typeface="Arial"/>
              </a:rPr>
              <a:t>Propuesta post-BEPS:</a:t>
            </a:r>
            <a:endParaRPr b="0" lang="en-US" sz="2200" spc="-1" strike="noStrike">
              <a:solidFill>
                <a:srgbClr val="000000"/>
              </a:solidFill>
              <a:latin typeface="Arial"/>
            </a:endParaRPr>
          </a:p>
          <a:p>
            <a:pPr marL="343080" indent="-343080" algn="just">
              <a:lnSpc>
                <a:spcPts val="15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0000"/>
                </a:solidFill>
                <a:latin typeface="Arial"/>
                <a:ea typeface="Arial"/>
              </a:rPr>
              <a:t>Las MNE con determinada dimensión (p.ej. € MM 750)  o explotación de intangibles importantes o únicos, deberían atribuir las utilidades conforme a la regla de contabilidad separada y del operador independiente (reglas de precios de transferencia).</a:t>
            </a:r>
            <a:endParaRPr b="0" lang="en-US" sz="1900" spc="-1" strike="noStrike">
              <a:solidFill>
                <a:srgbClr val="000000"/>
              </a:solidFill>
              <a:latin typeface="Arial"/>
            </a:endParaRPr>
          </a:p>
          <a:p>
            <a:pPr lvl="1" marL="8002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0000"/>
                </a:solidFill>
                <a:latin typeface="Arial"/>
                <a:ea typeface="Arial"/>
              </a:rPr>
              <a:t>No obstante, la distribución de las bases imponibles conforme a esta metodología no debería diferir hasta un margen de tolerancia a consensuar con la distribución de la base mundial (formulary apportionment), de acuerdo a indicadores de actividad:</a:t>
            </a:r>
            <a:endParaRPr b="0" lang="en-US" sz="1900" spc="-1" strike="noStrike">
              <a:solidFill>
                <a:srgbClr val="000000"/>
              </a:solidFill>
              <a:latin typeface="Arial"/>
            </a:endParaRPr>
          </a:p>
          <a:p>
            <a:pPr lvl="3" marL="1714680" indent="-34308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Arial"/>
              </a:rPr>
              <a:t>Pago de salarios y retribuciones de directores</a:t>
            </a:r>
            <a:endParaRPr b="0" lang="en-US" sz="1800" spc="-1" strike="noStrike">
              <a:solidFill>
                <a:srgbClr val="000000"/>
              </a:solidFill>
              <a:latin typeface="Arial"/>
            </a:endParaRPr>
          </a:p>
          <a:p>
            <a:pPr lvl="3" marL="1714680" indent="-34308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Arial"/>
              </a:rPr>
              <a:t>Inversión en activos (bienes de uso, inversiones e intangibles únicos)</a:t>
            </a:r>
            <a:endParaRPr b="0" lang="en-US" sz="1800" spc="-1" strike="noStrike">
              <a:solidFill>
                <a:srgbClr val="000000"/>
              </a:solidFill>
              <a:latin typeface="Arial"/>
            </a:endParaRPr>
          </a:p>
          <a:p>
            <a:pPr lvl="3" marL="1714680" indent="-34308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Arial"/>
              </a:rPr>
              <a:t>Ventas (por destino) sin incluir las rentas financieras y demás rentas pasivas (sí se incluirían las rentas derivadas de la explotación de intangibles vinculados al giro de la actividad de la M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3 Marcador de número de diapositiva"/>
          <p:cNvSpPr/>
          <p:nvPr/>
        </p:nvSpPr>
        <p:spPr>
          <a:xfrm>
            <a:off x="6732720" y="6481800"/>
            <a:ext cx="2133360" cy="476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0ED1E-B5EC-4D28-8950-015DCE8675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5"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Text Box 3"/>
          <p:cNvSpPr/>
          <p:nvPr/>
        </p:nvSpPr>
        <p:spPr>
          <a:xfrm>
            <a:off x="539640" y="365040"/>
            <a:ext cx="784872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ea typeface="Arial"/>
              </a:rPr>
              <a:t>Proyecto BEPS (Base Erosion and Profit Shifting</a:t>
            </a:r>
            <a:r>
              <a:rPr b="1" lang="es-E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547" name="5 Rectángulo"/>
          <p:cNvSpPr/>
          <p:nvPr/>
        </p:nvSpPr>
        <p:spPr>
          <a:xfrm>
            <a:off x="365040" y="876240"/>
            <a:ext cx="8398080" cy="84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8" name="1 Rectángulo"/>
          <p:cNvSpPr/>
          <p:nvPr/>
        </p:nvSpPr>
        <p:spPr>
          <a:xfrm>
            <a:off x="468360" y="765000"/>
            <a:ext cx="7920000" cy="53301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Creciente percepción de los gobiernos, los medios y las ONGs en el sentido que los Estados actualmente pierden sustanciales sumas de recaudación en el impuesto a la renta corporativo debido a la planificación fiscal tendiente a erosionar la base imponible y/o a la relocalización de utilidades hacia jurisdicciones sujetas a un tratamiento fiscal más favorable.</a:t>
            </a:r>
            <a:endParaRPr b="0" lang="en-US" sz="18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Búsqueda de un remedio global  al estado de desfinanciamiento de las economías más desarrolladas</a:t>
            </a:r>
            <a:endParaRPr b="0" lang="en-US" sz="18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Mayor transparencia de las reglas que conforman la tributación internacional (disclosure de esqemas de planificación fiscal internacional, documentación precios de transparencia, competencia fiscal nociva, etc.)</a:t>
            </a:r>
            <a:endParaRPr b="0" lang="en-US" sz="18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Creación de valor (economía digital, intangibles, actividades financieras) </a:t>
            </a:r>
            <a:endParaRPr b="0" lang="en-US" sz="18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Evitar desacoples de productos y entidades híbridas y mecanismos de erosión de base (costos financieros y otros cargos intercompany, treaty shopping (LOF), etc.)</a:t>
            </a:r>
            <a:endParaRPr b="0" lang="en-US" sz="18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Plataforma multilateral (arbitraje, modelos de acuerdos multilaterales entre Autoridades Competentes, informes país-por-país, e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3 Marcador de número de diapositiva"/>
          <p:cNvSpPr/>
          <p:nvPr/>
        </p:nvSpPr>
        <p:spPr>
          <a:xfrm>
            <a:off x="6594480" y="65530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EAD7-E138-4CDE-83C4-6272FEEE47B9}"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7"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Text Box 3"/>
          <p:cNvSpPr/>
          <p:nvPr/>
        </p:nvSpPr>
        <p:spPr>
          <a:xfrm>
            <a:off x="611280" y="476280"/>
            <a:ext cx="784836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Arial"/>
              </a:rPr>
              <a:t>¿ES SUFICIENTE BEPS ?</a:t>
            </a:r>
            <a:endParaRPr b="0" lang="en-US" sz="2000" spc="-1" strike="noStrike">
              <a:solidFill>
                <a:srgbClr val="000000"/>
              </a:solidFill>
              <a:latin typeface="Arial"/>
            </a:endParaRPr>
          </a:p>
        </p:txBody>
      </p:sp>
      <p:sp>
        <p:nvSpPr>
          <p:cNvPr id="629" name="5 Rectángulo"/>
          <p:cNvSpPr/>
          <p:nvPr/>
        </p:nvSpPr>
        <p:spPr>
          <a:xfrm>
            <a:off x="365040" y="876240"/>
            <a:ext cx="8398080" cy="512568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ea typeface="Arial"/>
              </a:rPr>
              <a:t>El margen de tolerancia implica que la distribución de la base mundial de acuerdo al “template” (modificado) no debería diferir por encima de un determinado porcentaje (%) sobre el resultado de los indicadores antes mencionados</a:t>
            </a:r>
            <a:endParaRPr b="0" lang="en-US" sz="2000" spc="-1" strike="noStrike">
              <a:solidFill>
                <a:srgbClr val="000000"/>
              </a:solidFill>
              <a:latin typeface="Arial"/>
            </a:endParaRPr>
          </a:p>
          <a:p>
            <a:pPr lvl="1" marL="8002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ea typeface="Arial"/>
              </a:rPr>
              <a:t>Información obtenida de los CbC (depurados y modificados)</a:t>
            </a:r>
            <a:endParaRPr b="0" lang="en-US" sz="2000" spc="-1" strike="noStrike">
              <a:solidFill>
                <a:srgbClr val="000000"/>
              </a:solidFill>
              <a:latin typeface="Arial"/>
            </a:endParaRPr>
          </a:p>
          <a:p>
            <a:pPr lvl="1" marL="8002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ea typeface="Arial"/>
              </a:rPr>
              <a:t>El excedente sobre los desvíos de tolerancia implica:</a:t>
            </a:r>
            <a:endParaRPr b="0" lang="en-US" sz="2000" spc="-1" strike="noStrike">
              <a:solidFill>
                <a:srgbClr val="000000"/>
              </a:solidFill>
              <a:latin typeface="Arial"/>
            </a:endParaRPr>
          </a:p>
          <a:p>
            <a:pPr lvl="2" marL="1200240" indent="-285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Que la MNE debe ingresar a los países desfavorecidos aplicando una tasa de impuesto mínima (mínimo denominador común) a establecer (p.ej. 10%).</a:t>
            </a:r>
            <a:endParaRPr b="0" lang="en-US" sz="2000" spc="-1" strike="noStrike">
              <a:solidFill>
                <a:srgbClr val="000000"/>
              </a:solidFill>
              <a:latin typeface="Arial"/>
            </a:endParaRPr>
          </a:p>
          <a:p>
            <a:pPr lvl="2" marL="1200240" indent="-2858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Los países donde se produce el excedente pueden ingresar este impuesto en sustitución de las MNE (de esta forma pueden seguir promoviendo la inversión o la actividad en cuestión asumiendo el costo en su presupuesto esta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3 Marcador de número de diapositiva"/>
          <p:cNvSpPr/>
          <p:nvPr/>
        </p:nvSpPr>
        <p:spPr>
          <a:xfrm>
            <a:off x="6594480" y="652464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14C45-B065-4826-8DB9-7A67C73245D6}"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1"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Text Box 3"/>
          <p:cNvSpPr/>
          <p:nvPr/>
        </p:nvSpPr>
        <p:spPr>
          <a:xfrm>
            <a:off x="611280" y="476280"/>
            <a:ext cx="784836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Arial"/>
              </a:rPr>
              <a:t>¿ES SUFICIENTE BEPS ?</a:t>
            </a:r>
            <a:endParaRPr b="0" lang="en-US" sz="2000" spc="-1" strike="noStrike">
              <a:solidFill>
                <a:srgbClr val="000000"/>
              </a:solidFill>
              <a:latin typeface="Arial"/>
            </a:endParaRPr>
          </a:p>
        </p:txBody>
      </p:sp>
      <p:sp>
        <p:nvSpPr>
          <p:cNvPr id="633" name="5 Rectángulo"/>
          <p:cNvSpPr/>
          <p:nvPr/>
        </p:nvSpPr>
        <p:spPr>
          <a:xfrm>
            <a:off x="365040" y="876240"/>
            <a:ext cx="8398080" cy="4629960"/>
          </a:xfrm>
          <a:prstGeom prst="rect">
            <a:avLst/>
          </a:prstGeom>
          <a:noFill/>
          <a:ln w="0">
            <a:noFill/>
          </a:ln>
        </p:spPr>
        <p:style>
          <a:lnRef idx="0"/>
          <a:fillRef idx="0"/>
          <a:effectRef idx="0"/>
          <a:fontRef idx="minor"/>
        </p:style>
        <p:txBody>
          <a:bodyPr lIns="90000" rIns="90000" tIns="46800" bIns="46800" anchor="t">
            <a:spAutoFit/>
          </a:bodyPr>
          <a:p>
            <a:pPr algn="just">
              <a:lnSpc>
                <a:spcPts val="15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ea typeface="Arial"/>
              </a:rPr>
              <a:t>Las bases distribuidas contra las cuales se comparan las bases teóricas (por fórmula) deberían ajustarse para neutralizar regímenes de incentivos fiscales considerados legítimos </a:t>
            </a:r>
            <a:endParaRPr b="0" lang="en-US" sz="2000" spc="-1" strike="noStrike">
              <a:solidFill>
                <a:srgbClr val="000000"/>
              </a:solidFill>
              <a:latin typeface="Arial"/>
            </a:endParaRPr>
          </a:p>
          <a:p>
            <a:pPr lvl="1" marL="8002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ea typeface="Arial"/>
              </a:rPr>
              <a:t>Este esquema de segundo filtro debería aplicarse sobre base multilateral y por adhesión (países miembros y no miembros de OCDE) sobre la misma base que la Convención Multilateral de Asistencia Mutua en Materia Fiscal y CRS. </a:t>
            </a:r>
            <a:endParaRPr b="0" lang="en-US" sz="2000" spc="-1" strike="noStrike">
              <a:solidFill>
                <a:srgbClr val="000000"/>
              </a:solidFill>
              <a:latin typeface="Arial"/>
            </a:endParaRPr>
          </a:p>
          <a:p>
            <a:pPr lvl="1" marL="8002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ea typeface="Arial"/>
              </a:rPr>
              <a:t>Medidas defensivas (símil FATCA) </a:t>
            </a:r>
            <a:endParaRPr b="0" lang="en-US" sz="2000" spc="-1" strike="noStrike">
              <a:solidFill>
                <a:srgbClr val="000000"/>
              </a:solidFill>
              <a:latin typeface="Arial"/>
            </a:endParaRPr>
          </a:p>
          <a:p>
            <a:pPr lvl="1" marL="8002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ea typeface="Arial"/>
              </a:rPr>
              <a:t>Base contable común (NIIF) como “llaves” para distribuir la base mundial </a:t>
            </a:r>
            <a:endParaRPr b="0" lang="en-US" sz="2000" spc="-1" strike="noStrike">
              <a:solidFill>
                <a:srgbClr val="000000"/>
              </a:solidFill>
              <a:latin typeface="Arial"/>
            </a:endParaRPr>
          </a:p>
          <a:p>
            <a:pPr lvl="1" marL="8002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ea typeface="Arial"/>
              </a:rPr>
              <a:t>Control de un organismo técnico en que participen todos los países adheridos al sistema (p.ej. la Secretaría de Coordinación prevista en el Informes Cb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3 Marcador de número de diapositiva"/>
          <p:cNvSpPr/>
          <p:nvPr/>
        </p:nvSpPr>
        <p:spPr>
          <a:xfrm>
            <a:off x="6686640" y="6481800"/>
            <a:ext cx="2133360" cy="476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BE2E4-BDCE-4759-B1ED-5C5F17667D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0"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Text Box 3"/>
          <p:cNvSpPr/>
          <p:nvPr/>
        </p:nvSpPr>
        <p:spPr>
          <a:xfrm>
            <a:off x="611280" y="476280"/>
            <a:ext cx="784836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ea typeface="Arial"/>
              </a:rPr>
              <a:t>Proyecto BEPS (Base Erosion and Profit Shifting</a:t>
            </a:r>
            <a:r>
              <a:rPr b="1" lang="es-ES" sz="2000" spc="-1" strike="noStrike">
                <a:solidFill>
                  <a:srgbClr val="000000"/>
                </a:solidFill>
                <a:latin typeface="Arial"/>
                <a:ea typeface="Arial"/>
              </a:rPr>
              <a:t>)</a:t>
            </a:r>
            <a:endParaRPr b="0" lang="en-US" sz="2000" spc="-1" strike="noStrike">
              <a:solidFill>
                <a:srgbClr val="000000"/>
              </a:solidFill>
              <a:latin typeface="Arial"/>
            </a:endParaRPr>
          </a:p>
        </p:txBody>
      </p:sp>
      <p:graphicFrame>
        <p:nvGraphicFramePr>
          <p:cNvPr id="552" name=""/>
          <p:cNvGraphicFramePr/>
          <p:nvPr/>
        </p:nvGraphicFramePr>
        <p:xfrm>
          <a:off x="539640" y="1052640"/>
          <a:ext cx="8064720" cy="5313240"/>
        </p:xfrm>
        <a:graphic>
          <a:graphicData uri="http://schemas.openxmlformats.org/drawingml/2006/table">
            <a:tbl>
              <a:tblPr/>
              <a:tblGrid>
                <a:gridCol w="2664000"/>
                <a:gridCol w="2808360"/>
                <a:gridCol w="2592360"/>
              </a:tblGrid>
              <a:tr h="7668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Calibri"/>
                        </a:rPr>
                        <a:t>Enfrentando la erosión de bases imponibl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Calibri"/>
                        </a:rPr>
                        <a:t>Jurisdicción fiscal y transparenci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Calibri"/>
                        </a:rPr>
                        <a:t>Precios de transferenci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048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1) Enfrentar los desafíos impositivos de la economía digital</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Calibri"/>
                        </a:rPr>
                        <a:t>5) Combatir las prácticas tributarias nocivas, considerando</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Calibri"/>
                        </a:rPr>
                        <a:t>transparencia y sustancia</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7)</a:t>
                      </a:r>
                      <a:r>
                        <a:rPr b="0" lang="es-AR" sz="1500" spc="-1" strike="noStrike">
                          <a:solidFill>
                            <a:srgbClr val="000000"/>
                          </a:solidFill>
                          <a:latin typeface="Calibri"/>
                        </a:rPr>
                        <a:t>	</a:t>
                      </a:r>
                      <a:r>
                        <a:rPr b="0" lang="es-AR" sz="1500" spc="-1" strike="noStrike">
                          <a:solidFill>
                            <a:srgbClr val="000000"/>
                          </a:solidFill>
                          <a:latin typeface="Calibri"/>
                        </a:rPr>
                        <a:t>Prevenir la elusión artificial del estatus de establecimiento permanente en el país fuente</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0620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Calibri"/>
                        </a:rPr>
                        <a:t>2) Neutralizar los efectos de los desacoples derivados de entidades e instrumentos híbridos</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11) Establecer metodologías para</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recopilar y analizar datos sobre BEPS y acciones para abordarlo</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Calibri"/>
                        </a:rPr>
                        <a:t>8) Asegurar que los resultados de Precios de Transferencia resulten consistentes con la creación de valor. Intangibles</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765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3) Reforzar las regímenes Transparencia Fiscal Internacional (CFC)</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12) Exigir que los contribuyentes</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divulguen sus mecanismos de</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planificación fiscal agresiva</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9) Ídem. Riesgos y Capital</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809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4) Limitar la erosión de base vía las deducciones de intereses y otros pagos financieros</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14) Hacer más eficaces los mecanismos de resolución de controversias</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10) Ídem. Otras transacciones de alto riesgo.</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7796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Calibri"/>
                        </a:rPr>
                        <a:t>6) Prevenir el abuso de Convenios de Doble Imposición</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15) Desarrollar un instrumento</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multilateral</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Calibri"/>
                        </a:rPr>
                        <a:t>13) Reexaminar la documentación de Precios de Transferencia</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3 Marcador de número de diapositiva"/>
          <p:cNvSpPr/>
          <p:nvPr/>
        </p:nvSpPr>
        <p:spPr>
          <a:xfrm>
            <a:off x="6732720" y="6481800"/>
            <a:ext cx="2133360" cy="476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E3DAC-8DF2-481F-B17A-B197856ACC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4"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Text Box 3"/>
          <p:cNvSpPr/>
          <p:nvPr/>
        </p:nvSpPr>
        <p:spPr>
          <a:xfrm>
            <a:off x="539640" y="365040"/>
            <a:ext cx="784872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ea typeface="Arial"/>
              </a:rPr>
              <a:t>Proyecto BEPS (Base Erosion and Profit Shifting</a:t>
            </a:r>
            <a:r>
              <a:rPr b="1" lang="es-E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556" name="5 Rectángulo"/>
          <p:cNvSpPr/>
          <p:nvPr/>
        </p:nvSpPr>
        <p:spPr>
          <a:xfrm>
            <a:off x="365040" y="876240"/>
            <a:ext cx="8398080" cy="84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7" name="1 Rectángulo"/>
          <p:cNvSpPr/>
          <p:nvPr/>
        </p:nvSpPr>
        <p:spPr>
          <a:xfrm>
            <a:off x="468360" y="765000"/>
            <a:ext cx="7920000" cy="5770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2) Neutralizar los efectos de los desacoples derivados de entidades e instrumentos híbridos</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2.1. Medidas internas</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2.2. Medidas en el Modelo de CDI (OCDE): eliminar acceso a beneficios</a:t>
            </a:r>
            <a:endParaRPr b="0" lang="en-US" sz="18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Casos de doble residencia (dual resident entities) </a:t>
            </a:r>
            <a:endParaRPr b="0" lang="en-US" sz="18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Casos de entidades transparentes </a:t>
            </a:r>
            <a:endParaRPr b="0" lang="en-US" sz="1800" spc="-1" strike="noStrike">
              <a:solidFill>
                <a:srgbClr val="000000"/>
              </a:solidFill>
              <a:latin typeface="Arial"/>
            </a:endParaRPr>
          </a:p>
        </p:txBody>
      </p:sp>
      <p:graphicFrame>
        <p:nvGraphicFramePr>
          <p:cNvPr id="558" name=""/>
          <p:cNvGraphicFramePr/>
          <p:nvPr/>
        </p:nvGraphicFramePr>
        <p:xfrm>
          <a:off x="539640" y="1884240"/>
          <a:ext cx="7993080" cy="3416400"/>
        </p:xfrm>
        <a:graphic>
          <a:graphicData uri="http://schemas.openxmlformats.org/drawingml/2006/table">
            <a:tbl>
              <a:tblPr/>
              <a:tblGrid>
                <a:gridCol w="3240360"/>
                <a:gridCol w="2736720"/>
                <a:gridCol w="2016000"/>
              </a:tblGrid>
              <a:tr h="460440">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rPr>
                        <a:t>Mecanismos híbridos</a:t>
                      </a:r>
                      <a:endParaRPr b="0" lang="en-US" sz="1500" spc="-1" strike="noStrike">
                        <a:solidFill>
                          <a:srgbClr val="000000"/>
                        </a:solidFill>
                        <a:latin typeface="Arial"/>
                      </a:endParaRPr>
                    </a:p>
                  </a:txBody>
                  <a:tcPr anchor="t" marL="91440" marR="9144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rPr>
                        <a:t>Normas recomendadas en la ley interna</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208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Respuesta </a:t>
                      </a:r>
                      <a:endParaRPr b="0" lang="en-US" sz="1500" spc="-1" strike="noStrike">
                        <a:solidFill>
                          <a:srgbClr val="000000"/>
                        </a:solidFill>
                        <a:latin typeface="Arial"/>
                      </a:endParaRPr>
                    </a:p>
                  </a:txBody>
                  <a:tcPr anchor="t" marL="91440" marR="9144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Regla defensiva</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58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Deducción no inclusió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Instrumento financiero híbrido</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Negar deducción del pagador</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Incluirlo como ingreso ordinario</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9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Deducción no inclusión pagos a entidad híbrida reversa</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Negar deducción del pagador</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8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Doble deducció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Pago deducible a una entidad híbrida</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Negar la deducción de la matriz</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Negar la deducción del pagador</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8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Doble deducció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Pago deducible por un doble residente</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Negar la deducción del residente</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20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Deducción no inclusión indirecta</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Calibri"/>
                        </a:rPr>
                        <a:t>Negar la deducción del pagador</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3 Marcador de número de diapositiva"/>
          <p:cNvSpPr/>
          <p:nvPr/>
        </p:nvSpPr>
        <p:spPr>
          <a:xfrm>
            <a:off x="6732720" y="6481800"/>
            <a:ext cx="2133360" cy="476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E3E16-425D-4BEE-8C15-0577F567FF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0"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Text Box 3"/>
          <p:cNvSpPr/>
          <p:nvPr/>
        </p:nvSpPr>
        <p:spPr>
          <a:xfrm>
            <a:off x="539640" y="365040"/>
            <a:ext cx="784872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ea typeface="Arial"/>
              </a:rPr>
              <a:t>Proyecto BEPS (Base Erosion and Profit Shifting</a:t>
            </a:r>
            <a:r>
              <a:rPr b="1" lang="es-E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562" name="5 Rectángulo"/>
          <p:cNvSpPr/>
          <p:nvPr/>
        </p:nvSpPr>
        <p:spPr>
          <a:xfrm>
            <a:off x="365040" y="876240"/>
            <a:ext cx="8398080" cy="84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3" name="1 Rectángulo"/>
          <p:cNvSpPr/>
          <p:nvPr/>
        </p:nvSpPr>
        <p:spPr>
          <a:xfrm>
            <a:off x="468360" y="765000"/>
            <a:ext cx="7920000" cy="543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5) Combatir las prácticas tributarias nocivas, considerand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transparencia y sustancia (Foro de Prácticas Fiscales Perjudiciales FHTP)</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5.1. Revisión de los regímenes preferenciales de los países miembros internas</a:t>
            </a:r>
            <a:endParaRPr b="0" lang="en-US" sz="18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Prueba de actividad sustancial</a:t>
            </a:r>
            <a:endParaRPr b="0" lang="en-US" sz="18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Mejora de la transparencia entre las administraciones tributarias</a:t>
            </a:r>
            <a:endParaRPr b="0" lang="en-US" sz="1800" spc="-1" strike="noStrike">
              <a:solidFill>
                <a:srgbClr val="000000"/>
              </a:solidFill>
              <a:latin typeface="Arial"/>
            </a:endParaRPr>
          </a:p>
          <a:p>
            <a:pPr lvl="1" marL="743040" indent="-28584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Desarrollo de marco legal para intercambio de información espontánea y obligatoria entre Fiscos en lo relativo a : (i) resoluciones de los Fisco (tax rulings y otros), y (ii) acuerdos anticipados de precios (APAs)</a:t>
            </a:r>
            <a:endParaRPr b="0" lang="en-US" sz="1600" spc="-1" strike="noStrike">
              <a:solidFill>
                <a:srgbClr val="000000"/>
              </a:solidFill>
              <a:latin typeface="Arial"/>
            </a:endParaRPr>
          </a:p>
          <a:p>
            <a:pPr lvl="1" marL="743040" indent="-28584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Pendiente de definición el formato y el contenidos de la información</a:t>
            </a:r>
            <a:endParaRPr b="0" lang="en-US" sz="16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Se centra en los regímenes de IP (innovation o patent box)</a:t>
            </a:r>
            <a:endParaRPr b="0" lang="en-US" sz="1800" spc="-1" strike="noStrike">
              <a:solidFill>
                <a:srgbClr val="000000"/>
              </a:solidFill>
              <a:latin typeface="Arial"/>
            </a:endParaRPr>
          </a:p>
          <a:p>
            <a:pPr lvl="1" marL="743040" indent="-28584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Enfoque de “nexo” (proporción a los gastos de I+D de cada unidad)</a:t>
            </a:r>
            <a:endParaRPr b="0" lang="en-US" sz="1600" spc="-1" strike="noStrike">
              <a:solidFill>
                <a:srgbClr val="000000"/>
              </a:solidFill>
              <a:latin typeface="Arial"/>
            </a:endParaRPr>
          </a:p>
          <a:p>
            <a:pPr lvl="1" marL="743040" indent="-28584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Límite del 30% en la tercerización de funciones y adquisición de intangibles dentro del grupo controlado</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5.2. Estrategia para ampliar la participación a los países no miembros</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5.3. Mecanismo de seguimiento y revisión continuo de los regímenes preferenci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3 Marcador de número de diapositiva"/>
          <p:cNvSpPr/>
          <p:nvPr/>
        </p:nvSpPr>
        <p:spPr>
          <a:xfrm>
            <a:off x="6732720" y="6481800"/>
            <a:ext cx="2133360" cy="476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DDE2-41D2-42AB-9A20-F25B9113C4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5"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Text Box 3"/>
          <p:cNvSpPr/>
          <p:nvPr/>
        </p:nvSpPr>
        <p:spPr>
          <a:xfrm>
            <a:off x="539640" y="365040"/>
            <a:ext cx="784872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ea typeface="Arial"/>
              </a:rPr>
              <a:t>Proyecto BEPS (Base Erosion and Profit Shifting</a:t>
            </a:r>
            <a:r>
              <a:rPr b="1" lang="es-E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567" name="5 Rectángulo"/>
          <p:cNvSpPr/>
          <p:nvPr/>
        </p:nvSpPr>
        <p:spPr>
          <a:xfrm>
            <a:off x="365040" y="876240"/>
            <a:ext cx="8398080" cy="84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8" name="1 Rectángulo"/>
          <p:cNvSpPr/>
          <p:nvPr/>
        </p:nvSpPr>
        <p:spPr>
          <a:xfrm>
            <a:off x="468360" y="765000"/>
            <a:ext cx="8294760" cy="5385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6) Prevenir el abuso de Convenios de Doble Imposición</a:t>
            </a:r>
            <a:endParaRPr b="0" lang="en-US" sz="18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6.1</a:t>
            </a:r>
            <a:r>
              <a:rPr b="0" sz="1600" spc="-1" strike="noStrike">
                <a:solidFill>
                  <a:srgbClr val="000000"/>
                </a:solidFill>
                <a:latin typeface="Arial"/>
                <a:ea typeface="Times New Roman"/>
              </a:rPr>
              <a:t>. Recomendaciones de cambios al Modelo CDI OCDE sobre reglas para evitar el otorgamiento de beneficios de CDI en circunstancias inadecuadas (treaty shopping).</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a</a:t>
            </a:r>
            <a:r>
              <a:rPr b="0" sz="1600" spc="-1" strike="noStrike">
                <a:solidFill>
                  <a:srgbClr val="000000"/>
                </a:solidFill>
                <a:latin typeface="Arial"/>
                <a:ea typeface="Times New Roman"/>
              </a:rPr>
              <a:t>) La persona trata de eludir las limitaciones previstas en el CDI</a:t>
            </a:r>
            <a:endParaRPr b="0" lang="en-US" sz="16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Times New Roman"/>
              </a:rPr>
              <a:t>Declaración de cada Estado (preámbulo del CDI) en el sentido que la intención es evitar la doble imposición y no crear oportunidades de no tributación (elusión o evasión fiscal), </a:t>
            </a:r>
            <a:endParaRPr b="0" lang="en-US" sz="14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Times New Roman"/>
              </a:rPr>
              <a:t>Reglas anti-abuso: (i) a) Limitación de Beneficios (LOB del Modelo CDI USA) –incluyendo prueba de beneficios derivados- en conjunto con (b) Test del Propósito Principal de las Transacciones (PPT); (ii) solo el PPT, ó (iii) LOB por medio de un mecanismo suplementario relativo a una regla anti-abuso de acuerdos de financiamiento no cubiertos por CDI.</a:t>
            </a:r>
            <a:endParaRPr b="0" lang="en-US" sz="14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Times New Roman"/>
              </a:rPr>
              <a:t>Recomendaciones sobre otras limitaciones del CDI (transferencia de dividendos, elusión de la norma de transferencia indirecta de inmuebles, casos de EP, doble residencia)  </a:t>
            </a:r>
            <a:endParaRPr b="0" lang="en-US" sz="1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b) La persona trata de eludir las disposiciones de la legislación interna utilizando los beneficios del CDI </a:t>
            </a:r>
            <a:endParaRPr b="0" lang="en-US" sz="16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el CDI no restringe gravar a sus residentes, </a:t>
            </a:r>
            <a:endParaRPr b="0" lang="en-US" sz="16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Admisión de los impuestos de salida (exit taxes), etc.</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6.2. La intención de los CDI no es otorgar una doble no-imposición</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6.3. Recomendaciones a los Estados Contratantes para la definición de una política fiscal de tratados antes de entrar en negociación con otro Estad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3 Marcador de número de diapositiva"/>
          <p:cNvSpPr/>
          <p:nvPr/>
        </p:nvSpPr>
        <p:spPr>
          <a:xfrm>
            <a:off x="6732720" y="6481800"/>
            <a:ext cx="2133360" cy="476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19A71-7644-43B4-8490-B5320B513A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0"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Text Box 3"/>
          <p:cNvSpPr/>
          <p:nvPr/>
        </p:nvSpPr>
        <p:spPr>
          <a:xfrm>
            <a:off x="539640" y="365040"/>
            <a:ext cx="784872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ea typeface="Arial"/>
              </a:rPr>
              <a:t>Proyecto BEPS (Base Erosion and Profit Shifting</a:t>
            </a:r>
            <a:r>
              <a:rPr b="1" lang="es-E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572" name="5 Rectángulo"/>
          <p:cNvSpPr/>
          <p:nvPr/>
        </p:nvSpPr>
        <p:spPr>
          <a:xfrm>
            <a:off x="365040" y="876240"/>
            <a:ext cx="8398080" cy="84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3" name="1 Rectángulo"/>
          <p:cNvSpPr/>
          <p:nvPr/>
        </p:nvSpPr>
        <p:spPr>
          <a:xfrm>
            <a:off x="468360" y="765000"/>
            <a:ext cx="8294760" cy="6330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8) Asegurar que los resultados de Precios de Transferencia resulten consistentes con la creación de valor. Intangibles</a:t>
            </a:r>
            <a:endParaRPr b="0" lang="en-US" sz="18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8.1. Modificaciones a los Capítulos I (Principio de valor de mercado) y VI (Consideraciones especiales para intangibles) de las Guías de Precios de Transferencia de OCDE, en lo relativo a:</a:t>
            </a:r>
            <a:endParaRPr b="0" lang="en-US" sz="18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500" spc="-1" strike="noStrike">
                <a:solidFill>
                  <a:srgbClr val="000000"/>
                </a:solidFill>
                <a:latin typeface="Arial"/>
                <a:ea typeface="Times New Roman"/>
              </a:rPr>
              <a:t>Definición de intangibles (incluyendo los “intangibles de marketing”)</a:t>
            </a:r>
            <a:endParaRPr b="0" lang="en-US" sz="15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500" spc="-1" strike="noStrike">
                <a:solidFill>
                  <a:srgbClr val="000000"/>
                </a:solidFill>
                <a:latin typeface="Arial"/>
                <a:ea typeface="Times New Roman"/>
              </a:rPr>
              <a:t>Identificación de operaciones que implican el uso o cesión de intangibles</a:t>
            </a:r>
            <a:endParaRPr b="0" lang="en-US" sz="15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500" spc="-1" strike="noStrike">
                <a:solidFill>
                  <a:srgbClr val="000000"/>
                </a:solidFill>
                <a:latin typeface="Arial"/>
                <a:ea typeface="Times New Roman"/>
              </a:rPr>
              <a:t>Las condiciones de valor de mercado en transacciones que involucren intangibles</a:t>
            </a:r>
            <a:endParaRPr b="0" lang="en-US" sz="1500" spc="-1" strike="noStrike">
              <a:solidFill>
                <a:srgbClr val="000000"/>
              </a:solidFill>
              <a:latin typeface="Arial"/>
            </a:endParaRPr>
          </a:p>
          <a:p>
            <a:pPr algn="just">
              <a:lnSpc>
                <a:spcPts val="15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ea typeface="Times New Roman"/>
              </a:rPr>
              <a:t>8.2. </a:t>
            </a:r>
            <a:r>
              <a:rPr b="0" sz="1800" spc="-1" strike="noStrike">
                <a:solidFill>
                  <a:srgbClr val="000000"/>
                </a:solidFill>
                <a:latin typeface="Arial"/>
                <a:ea typeface="Times New Roman"/>
              </a:rPr>
              <a:t>Guías complementarias sobre métidos de valuación en el caso de intangibles</a:t>
            </a:r>
            <a:endParaRPr b="0" lang="en-US" sz="18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500" spc="-1" strike="noStrike">
                <a:solidFill>
                  <a:srgbClr val="000000"/>
                </a:solidFill>
                <a:latin typeface="Arial"/>
                <a:ea typeface="Times New Roman"/>
              </a:rPr>
              <a:t>Guía sobre propiedad de intangibles (caso del desarrollo de un intangible sin la realización de funciones importantes: no crea un derecho sobre el total de la utilidad del intangible (prorrateo de acuerdo a la creación de valor)</a:t>
            </a:r>
            <a:endParaRPr b="0" lang="en-US" sz="15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500" spc="-1" strike="noStrike">
                <a:solidFill>
                  <a:srgbClr val="000000"/>
                </a:solidFill>
                <a:latin typeface="Arial"/>
                <a:ea typeface="Times New Roman"/>
              </a:rPr>
              <a:t>Guía sobre utilidades y pérdidas relacionadas con eventos no anticipados (unidades que contribuyeron al desarrollo, mejoramiento, mantenimienso y protección del intangible).</a:t>
            </a:r>
            <a:endParaRPr b="0" lang="en-US" sz="15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500" spc="-1" strike="noStrike">
                <a:solidFill>
                  <a:srgbClr val="000000"/>
                </a:solidFill>
                <a:latin typeface="Arial"/>
                <a:ea typeface="Times New Roman"/>
              </a:rPr>
              <a:t>Utilización de técnicas novedosas de valuación y métodos no especificados (p.ej. en casos de intangibles cuya valuación es incierta al momento de la transacción, alcanzando a los modelos de “re-pricing” (Alemania) en caso de transferencia de intangibles a un cost-contribution agreement).</a:t>
            </a:r>
            <a:endParaRPr b="0" lang="en-US" sz="15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3 Marcador de número de diapositiva"/>
          <p:cNvSpPr/>
          <p:nvPr/>
        </p:nvSpPr>
        <p:spPr>
          <a:xfrm>
            <a:off x="6594480" y="6286680"/>
            <a:ext cx="2133720" cy="4759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F8D5E-A15C-4CD3-962A-25692CFB21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5"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Text Box 3"/>
          <p:cNvSpPr/>
          <p:nvPr/>
        </p:nvSpPr>
        <p:spPr>
          <a:xfrm>
            <a:off x="611280" y="476280"/>
            <a:ext cx="784836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ea typeface="Arial"/>
              </a:rPr>
              <a:t>Proyecto BEPS (Base Erosion and Profit Shifting</a:t>
            </a:r>
            <a:r>
              <a:rPr b="1" lang="es-E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577" name="5 Rectángulo"/>
          <p:cNvSpPr/>
          <p:nvPr/>
        </p:nvSpPr>
        <p:spPr>
          <a:xfrm>
            <a:off x="365040" y="876240"/>
            <a:ext cx="8398080" cy="84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8" name="1 Rectángulo"/>
          <p:cNvSpPr/>
          <p:nvPr/>
        </p:nvSpPr>
        <p:spPr>
          <a:xfrm>
            <a:off x="539640" y="1052640"/>
            <a:ext cx="8136000" cy="47631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Estado de los avances de las acciones del proyecto BEPS:</a:t>
            </a:r>
            <a:endParaRPr b="0" lang="en-US" sz="18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Desacoples de híbridos a neutralizar (Acción 2)</a:t>
            </a:r>
            <a:endParaRPr b="0" lang="en-US" sz="18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Treaty shopping y otras formas de abusos de tratado a prevenir (Acción 6)</a:t>
            </a:r>
            <a:endParaRPr b="0" lang="en-US" sz="1800" spc="-1" strike="noStrike">
              <a:solidFill>
                <a:srgbClr val="000000"/>
              </a:solidFill>
              <a:latin typeface="Arial"/>
            </a:endParaRPr>
          </a:p>
          <a:p>
            <a:pPr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Abusos de reglas de precios de transferencia en el área de los intangibles (Acción 8)</a:t>
            </a:r>
            <a:endParaRPr b="0" lang="en-US" sz="1800" spc="-1" strike="noStrike">
              <a:solidFill>
                <a:srgbClr val="000000"/>
              </a:solidFill>
              <a:latin typeface="Arial"/>
            </a:endParaRPr>
          </a:p>
          <a:p>
            <a:pPr algn="just">
              <a:lnSpc>
                <a:spcPct val="115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Reporte país por país para proporcional información a los Gobiernos sobre la alocación global de las utilidades, la actividad económica y los impuestos a la renta de las MNEs (Acción 13)</a:t>
            </a:r>
            <a:endParaRPr b="0" lang="en-US" sz="18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Times New Roman"/>
              </a:rPr>
              <a:t>Asimismo, la OCDE y el G20 han acordado que es factible implementar las Acciones BEPS a través de un instrumento multilateral, han avanzado en el trabajo sobre prácticas fiscales nocivas más efectivamente (Acción 5) y en particular en materia de regímenes IP (Intelectual Property) y consultas vinculantes (tax rulings), y finalmente han alcanzado un entendimiento común sobre los desafios que plantea la economía digital (Acción 1).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3 Marcador de número de diapositiva"/>
          <p:cNvSpPr/>
          <p:nvPr/>
        </p:nvSpPr>
        <p:spPr>
          <a:xfrm>
            <a:off x="6594480" y="6286680"/>
            <a:ext cx="2133720" cy="475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BA8F-E26C-45A5-AE16-16BE887127B7}"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0" name="Rectangle 2"/>
          <p:cNvSpPr/>
          <p:nvPr/>
        </p:nvSpPr>
        <p:spPr>
          <a:xfrm>
            <a:off x="380880" y="333360"/>
            <a:ext cx="8382240" cy="6191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Text Box 3"/>
          <p:cNvSpPr/>
          <p:nvPr/>
        </p:nvSpPr>
        <p:spPr>
          <a:xfrm>
            <a:off x="365040" y="476280"/>
            <a:ext cx="8398080" cy="398880"/>
          </a:xfrm>
          <a:prstGeom prst="rect">
            <a:avLst/>
          </a:prstGeom>
          <a:solidFill>
            <a:srgbClr val="33cccc"/>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ACCIÓN 13 (</a:t>
            </a:r>
            <a:r>
              <a:rPr b="1" lang="es-AR" sz="2000" spc="-1" strike="noStrike">
                <a:solidFill>
                  <a:srgbClr val="000000"/>
                </a:solidFill>
                <a:latin typeface="Arial"/>
                <a:ea typeface="Arial"/>
              </a:rPr>
              <a:t>Reexaminar la documentación de PT)</a:t>
            </a:r>
            <a:endParaRPr b="0" lang="en-US" sz="2000" spc="-1" strike="noStrike">
              <a:solidFill>
                <a:srgbClr val="000000"/>
              </a:solidFill>
              <a:latin typeface="Arial"/>
            </a:endParaRPr>
          </a:p>
        </p:txBody>
      </p:sp>
      <p:sp>
        <p:nvSpPr>
          <p:cNvPr id="582" name="5 Rectángulo"/>
          <p:cNvSpPr/>
          <p:nvPr/>
        </p:nvSpPr>
        <p:spPr>
          <a:xfrm>
            <a:off x="365040" y="876240"/>
            <a:ext cx="8398080" cy="59986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Arial"/>
                <a:ea typeface="Arial"/>
              </a:rPr>
              <a:t>Reportes país por país (CbCR):</a:t>
            </a:r>
            <a:endParaRPr b="0" lang="en-US" sz="2200" spc="-1" strike="noStrike">
              <a:solidFill>
                <a:srgbClr val="000000"/>
              </a:solidFill>
              <a:latin typeface="Arial"/>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Arial"/>
                <a:ea typeface="Arial"/>
              </a:rPr>
              <a:t>Definición de Grupo MNE (consolidación contable, ingresos &gt; € 750 MM anuales al 31/01/2015)</a:t>
            </a:r>
            <a:endParaRPr b="0" lang="en-US" sz="2200" spc="-1" strike="noStrike">
              <a:solidFill>
                <a:srgbClr val="000000"/>
              </a:solidFill>
              <a:latin typeface="Arial"/>
            </a:endParaRPr>
          </a:p>
          <a:p>
            <a:pPr lvl="1" marL="8002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Arial"/>
                <a:ea typeface="Arial"/>
              </a:rPr>
              <a:t>Controlante, Subrogante o Subsidiaria local, según los casos</a:t>
            </a:r>
            <a:endParaRPr b="0" lang="en-US" sz="2200" spc="-1" strike="noStrike">
              <a:solidFill>
                <a:srgbClr val="000000"/>
              </a:solidFill>
              <a:latin typeface="Arial"/>
            </a:endParaRPr>
          </a:p>
          <a:p>
            <a:pPr lvl="1" marL="8002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Arial"/>
                <a:ea typeface="Arial"/>
              </a:rPr>
              <a:t>Modelo de acuerdo multilateral, CDI o TIEA</a:t>
            </a:r>
            <a:endParaRPr b="0" lang="en-US" sz="2200" spc="-1" strike="noStrike">
              <a:solidFill>
                <a:srgbClr val="000000"/>
              </a:solidFill>
              <a:latin typeface="Arial"/>
            </a:endParaRPr>
          </a:p>
          <a:p>
            <a:pPr lvl="1" marL="8002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Arial"/>
                <a:ea typeface="Arial"/>
              </a:rPr>
              <a:t>Países que ya dictaron normativa interna (p.ej.. España) o está en proceso (p.ej. Australia, Reino Unido, Polonia, etc.). </a:t>
            </a:r>
            <a:endParaRPr b="0" lang="en-US" sz="2200" spc="-1" strike="noStrike">
              <a:solidFill>
                <a:srgbClr val="000000"/>
              </a:solidFill>
              <a:latin typeface="Arial"/>
            </a:endParaRPr>
          </a:p>
          <a:p>
            <a:pPr lvl="1" marL="800280" indent="-343080" algn="just">
              <a:lnSpc>
                <a:spcPts val="15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Arial"/>
                <a:ea typeface="Arial"/>
              </a:rPr>
              <a:t>¿Argentina puede requerir la información por Resolución General de AFIP o se requiere una modificación legal?</a:t>
            </a:r>
            <a:endParaRPr b="0" lang="en-US" sz="2200" spc="-1" strike="noStrike">
              <a:solidFill>
                <a:srgbClr val="000000"/>
              </a:solidFill>
              <a:latin typeface="Arial"/>
            </a:endParaRPr>
          </a:p>
          <a:p>
            <a:pPr lvl="1" marL="8002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Arial"/>
                <a:ea typeface="Arial"/>
              </a:rPr>
              <a:t>¿Puede exigir la información CbC de las entidades locales (en los casos que autoriza el paquete de implementación) aun sin tenerla a disposición?</a:t>
            </a:r>
            <a:endParaRPr b="0" lang="en-US" sz="22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5T14:17:50Z</dcterms:created>
  <dc:creator>Guillermo Poch</dc:creator>
  <dc:description/>
  <dc:language>en-US</dc:language>
  <cp:lastModifiedBy>Hernán Castillejo</cp:lastModifiedBy>
  <cp:lastPrinted>2003-07-04T20:34:19Z</cp:lastPrinted>
  <dcterms:modified xsi:type="dcterms:W3CDTF">2015-10-05T23:24:19Z</dcterms:modified>
  <cp:revision>546</cp:revision>
  <dc:subject/>
  <dc:title>EFECTOS DE LA INFLACIÓN Y  LA DEVALUACIÓN EN LA TRIBUTACIÓN</dc:title>
</cp:coreProperties>
</file>