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90B-8F02-43CC-9F7E-35BE6BDB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F6E-12FF-4C51-BED8-FDCF3648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CEC-C048-489F-9F08-4D868BD6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F23-5D28-4301-82A9-85B205D3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047C-34FA-422A-AA9F-33F16058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41F0-F998-4C26-A6A7-30EF8F24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351F-9CC5-40B3-8AC2-77ED43FA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6234-6DD0-44E5-833A-03F0654D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D2FA-97D6-4DEB-83C8-6C48BE32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88A7-9100-486F-BACC-08B4D990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087F-39CA-4D49-A669-41C8A2F4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29D-B651-491C-AAE7-83471D8D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4876-37F5-4BC9-B107-342DB057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7CF4-DD9F-4BC5-BD8E-D543DA1E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8F6A-B71F-4C67-BD35-8413B76E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B3FF-8ADF-4B0E-BD3B-B26DF682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AD30-4836-4619-9BDC-340CE388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74DFA-313E-4114-ADD6-95542289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026E8-91F0-4DA4-8AFB-047377CE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62F4E-2FFD-4BEE-8C37-584A0225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A2F03-3CDB-43D7-A47C-16D54A56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444B9-283C-4F74-961C-61210CA8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BCB-EBD2-453E-B9AF-72D03D35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27296-0E18-4916-AA52-B8913C2C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C183-AD03-4E7A-BA68-6FEBC2D5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919D9-F233-4764-B067-46D62A76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F670A-23C5-402E-A4A9-0A9A395E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D389-E810-4BB1-8ABC-DC7BC153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11C4-FC52-4013-9631-6BA4BCA0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5F3A5-FD8D-4CAF-92BA-1AE9A835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F0E82-D411-4953-A5BC-EB0613E7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19FAD-99BE-4561-9620-2825EF50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F9835-937E-49C4-8FC4-C9A9D896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B30-8646-4184-B00D-233A941C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DEFA0-6EE1-43F2-8C6D-D0067CCA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DC633-D34A-4A40-BA49-8873BF7B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3415C-FA9A-442F-8E64-766BB162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8584B-8D2D-405D-ABF7-00770A81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1E22-9BBA-4C8A-8793-C714F030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7666D-CA0E-4952-A00C-2934F476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B3CD-51D2-4B91-A810-C9D32159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2598C-8452-466C-9BF8-AF1D2A41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C8561-DE1D-4B42-A593-526BD8D7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68D-F477-4917-B168-835D24D1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1F4-2AB9-4DF6-B346-2702BF7F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BEF-32E0-4C8D-83FB-85BAC907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808-012B-4094-880A-533F229E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7B3-0834-49CA-B027-FD2CCA21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44EF-D598-4AF9-8251-DB086F158C4B}" type="datetime">
              <a:rPr b="0" lang="es-ES" sz="9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7861-AF24-47D9-B1FE-FCBB7FCBAF24}" type="slidenum">
              <a:rPr b="0" lang="es-E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58F6-CF9B-4BDF-B67E-60D47895B34D}" type="datetime">
              <a:rPr b="0" lang="es-ES" sz="9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7CC9-53E9-4571-8E9E-EC4C5687B82D}" type="slidenum">
              <a:rPr b="0" lang="es-E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1AF2-58B9-42D4-B3B9-03491BF4F820}" type="datetime">
              <a:rPr b="0" lang="es-ES" sz="9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10CB-C086-45BA-9967-C1D74273C8D3}" type="slidenum">
              <a:rPr b="0" lang="es-E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A705-12B4-4DF2-A877-58E563FB0393}" type="datetime">
              <a:rPr b="0" lang="es-ES" sz="9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8920-5124-4188-B7B7-B5189CC068A0}" type="slidenum">
              <a:rPr b="0" lang="es-E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7592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Trebuchet MS"/>
              </a:rPr>
              <a:t>Tema II</a:t>
            </a:r>
            <a:br>
              <a:rPr sz="3600"/>
            </a:b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Trebuchet MS"/>
              </a:rPr>
              <a:t>Aspectos fiscales del Código Civil y Comercial (Ley 26.994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AD92-8FDC-4662-A559-A99A6DF33FA6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plantilla"/>
          <p:cNvPicPr/>
          <p:nvPr/>
        </p:nvPicPr>
        <p:blipFill>
          <a:blip r:embed="rId1"/>
          <a:stretch/>
        </p:blipFill>
        <p:spPr>
          <a:xfrm>
            <a:off x="14400" y="480384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1"/>
          <p:cNvSpPr/>
          <p:nvPr/>
        </p:nvSpPr>
        <p:spPr>
          <a:xfrm>
            <a:off x="328464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CE51-2F1E-4869-B976-81B2DF73CD29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plantilla"/>
          <p:cNvPicPr/>
          <p:nvPr/>
        </p:nvPicPr>
        <p:blipFill>
          <a:blip r:embed="rId1"/>
          <a:stretch/>
        </p:blipFill>
        <p:spPr>
          <a:xfrm>
            <a:off x="15228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1"/>
          <p:cNvSpPr/>
          <p:nvPr/>
        </p:nvSpPr>
        <p:spPr>
          <a:xfrm>
            <a:off x="328464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262" name="CuadroTexto 1"/>
          <p:cNvSpPr/>
          <p:nvPr/>
        </p:nvSpPr>
        <p:spPr>
          <a:xfrm>
            <a:off x="152280" y="18446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  <a:ea typeface="Arial"/>
              </a:rPr>
              <a:t>ASPECTOS SOCIE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BCE1-80F2-411E-BB85-386E918997C4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plantilla"/>
          <p:cNvPicPr/>
          <p:nvPr/>
        </p:nvPicPr>
        <p:blipFill>
          <a:blip r:embed="rId1"/>
          <a:stretch/>
        </p:blipFill>
        <p:spPr>
          <a:xfrm>
            <a:off x="15228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1"/>
          <p:cNvSpPr/>
          <p:nvPr/>
        </p:nvSpPr>
        <p:spPr>
          <a:xfrm>
            <a:off x="328464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267" name="CuadroTexto 1"/>
          <p:cNvSpPr/>
          <p:nvPr/>
        </p:nvSpPr>
        <p:spPr>
          <a:xfrm>
            <a:off x="-74520" y="2060640"/>
            <a:ext cx="764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  <a:ea typeface="Arial"/>
              </a:rPr>
              <a:t>DERECHOS RE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834F-98AD-4604-ADCE-C06E5707E1FF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plantilla"/>
          <p:cNvPicPr/>
          <p:nvPr/>
        </p:nvPicPr>
        <p:blipFill>
          <a:blip r:embed="rId1"/>
          <a:stretch/>
        </p:blipFill>
        <p:spPr>
          <a:xfrm>
            <a:off x="152280" y="4797360"/>
            <a:ext cx="8991720" cy="20606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1"/>
          <p:cNvSpPr/>
          <p:nvPr/>
        </p:nvSpPr>
        <p:spPr>
          <a:xfrm>
            <a:off x="328464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272" name="CuadroTexto 1"/>
          <p:cNvSpPr/>
          <p:nvPr/>
        </p:nvSpPr>
        <p:spPr>
          <a:xfrm>
            <a:off x="120600" y="213372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  <a:ea typeface="Arial"/>
              </a:rPr>
              <a:t>PRESCRIP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C338-AAE7-4EA1-ABCA-666F56F1D506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plantilla"/>
          <p:cNvPicPr/>
          <p:nvPr/>
        </p:nvPicPr>
        <p:blipFill>
          <a:blip r:embed="rId1"/>
          <a:stretch/>
        </p:blipFill>
        <p:spPr>
          <a:xfrm>
            <a:off x="152280" y="4797360"/>
            <a:ext cx="8991720" cy="20606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1"/>
          <p:cNvSpPr/>
          <p:nvPr/>
        </p:nvSpPr>
        <p:spPr>
          <a:xfrm>
            <a:off x="328464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http://fatimamartinezlopez.files.wordpress.com/2011/03/enloquecido.jpg"/>
          <p:cNvPicPr/>
          <p:nvPr/>
        </p:nvPicPr>
        <p:blipFill>
          <a:blip r:embed="rId3"/>
          <a:stretch/>
        </p:blipFill>
        <p:spPr>
          <a:xfrm>
            <a:off x="1403280" y="189000"/>
            <a:ext cx="61930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54F7-EB85-4A1B-ABCC-4BE70175DC80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plantilla"/>
          <p:cNvPicPr/>
          <p:nvPr/>
        </p:nvPicPr>
        <p:blipFill>
          <a:blip r:embed="rId1"/>
          <a:stretch/>
        </p:blipFill>
        <p:spPr>
          <a:xfrm>
            <a:off x="15228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1"/>
          <p:cNvSpPr/>
          <p:nvPr/>
        </p:nvSpPr>
        <p:spPr>
          <a:xfrm>
            <a:off x="328464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282" name="CuadroTexto 1"/>
          <p:cNvSpPr/>
          <p:nvPr/>
        </p:nvSpPr>
        <p:spPr>
          <a:xfrm>
            <a:off x="138240" y="2014560"/>
            <a:ext cx="76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s-AR" sz="4000" spc="-1" strike="noStrike">
                <a:solidFill>
                  <a:srgbClr val="000000"/>
                </a:solidFill>
                <a:latin typeface="Arial"/>
                <a:ea typeface="Arial"/>
              </a:rPr>
              <a:t>NO TE DES POR VENCI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000" spc="-1" strike="noStrike">
                <a:solidFill>
                  <a:srgbClr val="000000"/>
                </a:solidFill>
                <a:latin typeface="Arial"/>
                <a:ea typeface="Arial"/>
              </a:rPr>
              <a:t>NI AUN VENCIDO</a:t>
            </a:r>
            <a:r>
              <a:rPr b="1" lang="es-AR" sz="4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F9DE-9B2F-49C1-9CE8-F90BB0F0A74B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85" name="WordArt 6"/>
          <p:cNvSpPr txBox="1"/>
          <p:nvPr/>
        </p:nvSpPr>
        <p:spPr>
          <a:xfrm>
            <a:off x="1619280" y="2276640"/>
            <a:ext cx="590544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86" name="Picture 14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287" name="CuadroTexto 1"/>
          <p:cNvSpPr/>
          <p:nvPr/>
        </p:nvSpPr>
        <p:spPr>
          <a:xfrm>
            <a:off x="1587600" y="112068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  <a:ea typeface="Arial"/>
              </a:rPr>
              <a:t>LO MEJ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  <a:ea typeface="Arial"/>
              </a:rPr>
              <a:t>ESTÁ POR VENI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adroTexto 2"/>
          <p:cNvSpPr/>
          <p:nvPr/>
        </p:nvSpPr>
        <p:spPr>
          <a:xfrm>
            <a:off x="1185840" y="3338640"/>
            <a:ext cx="637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  <a:ea typeface="Arial"/>
              </a:rPr>
              <a:t>MUCHAS GRACIAS 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24C6-B9F5-4FCD-91C6-F394DC9DF15F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1"/>
          <p:cNvSpPr/>
          <p:nvPr/>
        </p:nvSpPr>
        <p:spPr>
          <a:xfrm>
            <a:off x="328464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221" name="CuadroTexto 1"/>
          <p:cNvSpPr/>
          <p:nvPr/>
        </p:nvSpPr>
        <p:spPr>
          <a:xfrm>
            <a:off x="2411280" y="1268280"/>
            <a:ext cx="46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  <a:ea typeface="Arial"/>
              </a:rPr>
              <a:t>INTERPRETACION DE LA NORMA TRIBUT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E8C0-13A7-4FBA-B978-5F91BB357A1F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328464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226" name="CuadroTexto 1"/>
          <p:cNvSpPr/>
          <p:nvPr/>
        </p:nvSpPr>
        <p:spPr>
          <a:xfrm>
            <a:off x="2384280" y="1197000"/>
            <a:ext cx="468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  <a:ea typeface="Arial"/>
              </a:rPr>
              <a:t>PRINCIPIO DE LA SIGNIFICACION ECONOM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CA7E-4ED0-4921-9500-3FD0C333C401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plantilla"/>
          <p:cNvPicPr/>
          <p:nvPr/>
        </p:nvPicPr>
        <p:blipFill>
          <a:blip r:embed="rId1"/>
          <a:stretch/>
        </p:blipFill>
        <p:spPr>
          <a:xfrm>
            <a:off x="15228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1"/>
          <p:cNvSpPr/>
          <p:nvPr/>
        </p:nvSpPr>
        <p:spPr>
          <a:xfrm>
            <a:off x="328464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231" name="CuadroTexto 1"/>
          <p:cNvSpPr/>
          <p:nvPr/>
        </p:nvSpPr>
        <p:spPr>
          <a:xfrm>
            <a:off x="2232000" y="19162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  <a:ea typeface="Arial"/>
              </a:rPr>
              <a:t>AUTONO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A167-FC16-40B4-B4F6-85D54BDAC75B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plantilla"/>
          <p:cNvPicPr/>
          <p:nvPr/>
        </p:nvPicPr>
        <p:blipFill>
          <a:blip r:embed="rId1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1"/>
          <p:cNvSpPr/>
          <p:nvPr/>
        </p:nvSpPr>
        <p:spPr>
          <a:xfrm>
            <a:off x="3246480" y="646128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Resultado de imagen para imagenes de autonomia"/>
          <p:cNvPicPr/>
          <p:nvPr/>
        </p:nvPicPr>
        <p:blipFill>
          <a:blip r:embed="rId3"/>
          <a:stretch/>
        </p:blipFill>
        <p:spPr>
          <a:xfrm>
            <a:off x="414360" y="325440"/>
            <a:ext cx="6767640" cy="5408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92E8-302E-4600-AD76-3797A8A9B097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1"/>
          <p:cNvSpPr/>
          <p:nvPr/>
        </p:nvSpPr>
        <p:spPr>
          <a:xfrm>
            <a:off x="328464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Resultado de imagen para imagenes de autonomia juridica"/>
          <p:cNvPicPr/>
          <p:nvPr/>
        </p:nvPicPr>
        <p:blipFill>
          <a:blip r:embed="rId3"/>
          <a:stretch/>
        </p:blipFill>
        <p:spPr>
          <a:xfrm>
            <a:off x="684360" y="549360"/>
            <a:ext cx="691200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4A58-AB8C-404E-B4F8-A9E4F917B2D9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1"/>
          <p:cNvSpPr/>
          <p:nvPr/>
        </p:nvSpPr>
        <p:spPr>
          <a:xfrm>
            <a:off x="328464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sp>
        <p:nvSpPr>
          <p:cNvPr id="246" name="CuadroTexto 1"/>
          <p:cNvSpPr/>
          <p:nvPr/>
        </p:nvSpPr>
        <p:spPr>
          <a:xfrm>
            <a:off x="260280" y="723960"/>
            <a:ext cx="66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  <a:ea typeface="Arial"/>
              </a:rPr>
              <a:t>AUTONOMIA JURID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  <a:ea typeface="Arial"/>
              </a:rPr>
              <a:t>PROPIAMENTE DI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Imagen 2" descr=""/>
          <p:cNvPicPr/>
          <p:nvPr/>
        </p:nvPicPr>
        <p:blipFill>
          <a:blip r:embed="rId3"/>
          <a:stretch/>
        </p:blipFill>
        <p:spPr>
          <a:xfrm>
            <a:off x="457200" y="2492280"/>
            <a:ext cx="706752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D11F-7958-4DC0-B357-3DCBD3EFC3F5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1"/>
          <p:cNvSpPr/>
          <p:nvPr/>
        </p:nvSpPr>
        <p:spPr>
          <a:xfrm>
            <a:off x="328464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Resultado de imagen para imagenes extraterrestres"/>
          <p:cNvPicPr/>
          <p:nvPr/>
        </p:nvPicPr>
        <p:blipFill>
          <a:blip r:embed="rId3"/>
          <a:stretch/>
        </p:blipFill>
        <p:spPr>
          <a:xfrm>
            <a:off x="900000" y="620640"/>
            <a:ext cx="7272360" cy="4040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5290-8BAD-4482-94F4-038E90E3C86C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1"/>
          <p:cNvSpPr/>
          <p:nvPr/>
        </p:nvSpPr>
        <p:spPr>
          <a:xfrm>
            <a:off x="3284640" y="6461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15º Congreso Tribu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Signo70Años_VersiónPreferencial-sinPlaca"/>
          <p:cNvPicPr/>
          <p:nvPr/>
        </p:nvPicPr>
        <p:blipFill>
          <a:blip r:embed="rId2"/>
          <a:stretch/>
        </p:blipFill>
        <p:spPr>
          <a:xfrm>
            <a:off x="7596360" y="5734080"/>
            <a:ext cx="1188720" cy="851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Resultado de imagen para imagenes extraterrestres"/>
          <p:cNvPicPr/>
          <p:nvPr/>
        </p:nvPicPr>
        <p:blipFill>
          <a:blip r:embed="rId3"/>
          <a:stretch/>
        </p:blipFill>
        <p:spPr>
          <a:xfrm>
            <a:off x="539640" y="765000"/>
            <a:ext cx="7993080" cy="3759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Usuario</cp:lastModifiedBy>
  <cp:lastPrinted>2015-10-08T15:37:53Z</cp:lastPrinted>
  <dcterms:modified xsi:type="dcterms:W3CDTF">2015-10-08T18:02:25Z</dcterms:modified>
  <cp:revision>41</cp:revision>
  <dc:subject/>
  <dc:title>Diapositiva 1</dc:title>
</cp:coreProperties>
</file>