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dt" idx="16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282e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d1282e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ftr" idx="17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 type="sldNum" idx="18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F192E-08E4-42F5-BA15-2A3356AA72F7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3 Marcador de número de diapositiva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166BE-52FF-4853-8EE6-C73DE8FBB8E4}" type="slidenum">
              <a:rPr b="0" lang="es-A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9F5F-7FAE-4AF0-A2C9-FA47F5E99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1282e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E2D0-273F-442F-8399-FEF38DAD9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1282e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F7A9-2D4A-44D5-BCE6-62AB44FF6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1282e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8BDC-A7EA-42F5-855C-3CDF3C329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D1258-CEB1-4BD7-B57B-59A881EA1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1282e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F7C2C-71BA-4833-AC10-42B5413B9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1282e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837BD-9F74-4B00-90C5-668641D90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1282e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18113-6698-4B7C-A08C-6D5EFE963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1282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A907E-75F1-4674-8B8D-11E579FC1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9E794-76A3-4DD3-A876-DFEEEE78A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1282e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6FABA-F4F6-492A-A129-97DF14CD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1282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8DC0-00C0-4EE5-B9ED-6B6E66EE2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1282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D683A-28E1-4CD3-AFDA-923494D1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1282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C07DB-61C8-49F6-A139-64BB2A12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1282e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CDB3E-4234-45AD-9608-4DB6AB95D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1282e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A5E27-7201-4A72-A334-CBEE12A07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1282e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0A81D-49AE-4883-B01F-4ADA4D2E1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E3E62-BDF8-4E10-969F-736630805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1282e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1AF44-655C-4588-B72C-6389A187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1282e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53C7B-5F46-4007-A030-43D23D9BA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1282e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CD2D1-CC1C-44AA-85C8-ED28A7523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1282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BE805-F0AE-43BB-8404-FCCF2C7E8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1282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1842-7F5B-4CE0-B2D2-0749F7C7E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53604-234F-4033-BBE5-1DA4C83B1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1282e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60815-6B6B-43DE-9D28-946E5B70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1282e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67FE5-BDC8-470A-A691-7FBAD875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1282e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029B1-52C4-4B37-ABCB-E6C8C4CD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1282e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D6AB1-9F15-4AAE-BEF7-37BCAF529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1282e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7FCFE-B21C-48E1-B82F-C70FE540C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1282e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37E37-802B-44FD-A660-DD31AA375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142CF-98DB-4615-A70F-FE87EAAEC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1282e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37C40-D140-4610-8C3C-7078B5925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1282e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117DC-07EF-464D-A3C3-D18DF42F7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1282e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76B2-4AFC-49F8-BCB8-F43DB2DD3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1282e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D4840-76E6-4B9D-8D21-1E4C089AE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1282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1D512-53A3-4360-88C3-6C4CB52BF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A72FF-E640-4A22-83AE-99EF1634D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1282e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2ECB4-C9FE-4452-AA06-065CF280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1282e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546BF-CD2F-4824-8396-A1EC4574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1282e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3D53F-F6A0-41E3-B294-CF926982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1282e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E1454-D128-440E-974C-32868CC76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1282e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D02D1-408F-4C99-A754-C37655BE8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1282e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1E2BA-2FA8-4665-B8A9-EDFBE9571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57924-DEEC-44F1-B2D0-8E1BA22F5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1282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FA4F-10DD-4031-BB56-30C7659FA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1282e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3DA3D-1206-4A2B-B15F-C88D25FF8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1282e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BEE78-D396-49C0-A316-F5970AA26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1282e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887A8-DCB8-4B13-BA61-F0E07E1C1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1282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606CF-D727-433E-9B4A-0A10016EE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B84D8-4072-4A61-88A7-DC0CD7F46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1282e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DA646-CC93-4D6B-8A04-33FEB1D6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1282e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AF4B7-45DA-4D55-B03B-46EFBAA4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1282e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86CD0-BAF3-4A84-8105-D4DB64F3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1282e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2DD2F-D05B-45E1-93C9-AC99F981B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1282e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606AD-4925-48A1-A874-EA0BEC30B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4C37-0FB9-4682-95DC-2D6F044CD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1282e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5DC28-B273-406E-8236-1E0D4B0FD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1282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AC70-D01E-4B9C-98E8-E36C04EB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1282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F495-1DEA-4239-8539-4993A561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1282e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4245-BB3D-4456-A282-9E2C008F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282e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1282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7a7a7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7a7a7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7a7a7a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7a7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7a7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15490-1C0D-4CF9-AF88-76054BAF38F4}" type="datetime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A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E3D28-FEF0-4CB0-864B-AF79A8985FB2}" type="slidenum">
              <a:rPr b="1" lang="es-A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128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282e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1282e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7a7a7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7a7a7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7a7a7a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7a7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7a7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C790D-B6AC-4C08-A587-CCF9E43169D3}" type="datetime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A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E9669-5FE9-4C2C-AECE-655993CE7BD6}" type="slidenum">
              <a:rPr b="1" lang="es-A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28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6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c8c8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8c8b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8c8b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7a7a7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7a7a7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7a7a7a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7a7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7a7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D0775-D503-4BF0-9D53-B9DC3B4F858B}" type="datetime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A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9629E-5695-4A01-BC11-4612FEB68568}" type="slidenum">
              <a:rPr b="1" lang="es-A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10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128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282e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1282e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7a7a7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7a7a7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7a7a7a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7a7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7a7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9B8CC-5E56-4D16-97DB-3217231DF72E}" type="datetime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A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D6FBD-671A-46BA-B84E-04842E3D42BF}" type="slidenum">
              <a:rPr b="1" lang="es-A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128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282e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1282e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7a7a7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7a7a7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7a7a7a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7a7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7a7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C810F-EC00-4A18-8D14-54169B10B5AD}" type="datetime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A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BBE5C-9B76-4CD3-A3BA-62A72D783BC6}" type="slidenum">
              <a:rPr b="1" lang="es-A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21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AR" sz="2200" spc="-1" strike="noStrike">
                <a:solidFill>
                  <a:srgbClr val="000000"/>
                </a:solidFill>
                <a:latin typeface="Arial"/>
              </a:rPr>
              <a:t>BASES Y LINEAMIENTOS GENERALES PARA UNA FUTURA 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REFORMA TRIBUTARIA</a:t>
            </a:r>
            <a:r>
              <a:rPr b="1" lang="es-AR" sz="22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3200"/>
            </a:b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RÉGIMEN PENAL TRIBUTARIO</a:t>
            </a:r>
            <a:br>
              <a:rPr sz="4900"/>
            </a:br>
            <a:endParaRPr b="0" lang="en-US" sz="3200" spc="-1" strike="noStrike">
              <a:solidFill>
                <a:srgbClr val="d1282e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856800" y="3285720"/>
            <a:ext cx="7643880" cy="23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Arial Black"/>
                <a:ea typeface="Arial"/>
              </a:rPr>
              <a:t>EQUIPO DE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Arial Black"/>
                <a:ea typeface="Arial"/>
              </a:rPr>
              <a:t>DELLA ROCCA, Horacio; GOMEZ Teresa; RODRIGUEZ Ruben; SEMACHOWICZ Esteb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1 Marcador de número de diapositiva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3DE78-CD51-4B36-9811-ECA292E5EECA}" type="slidenum">
              <a:rPr b="1" lang="es-A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900" spc="-1" strike="noStrike">
                <a:solidFill>
                  <a:srgbClr val="7030a0"/>
                </a:solidFill>
                <a:latin typeface="Arial"/>
              </a:rPr>
              <a:t>NUESTRAS PROPUESTAS</a:t>
            </a:r>
            <a:endParaRPr b="0" lang="en-US" sz="4900" spc="-1" strike="noStrike">
              <a:solidFill>
                <a:srgbClr val="d1282e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4920" y="119700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6560" indent="-285480" algn="just">
              <a:lnSpc>
                <a:spcPct val="130000"/>
              </a:lnSpc>
              <a:buClr>
                <a:srgbClr val="7a7a7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recho del contribuyente a la no autoincrimina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285480" algn="just">
              <a:lnSpc>
                <a:spcPct val="130000"/>
              </a:lnSpc>
              <a:buClr>
                <a:srgbClr val="7a7a7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incipio de  “Igualdad de armas”. Presencia defensor jurídico (abogado) y defensor técnico (ciencias económica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285480" algn="just">
              <a:lnSpc>
                <a:spcPct val="130000"/>
              </a:lnSpc>
              <a:buClr>
                <a:srgbClr val="7a7a7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ructurar un sistema que evite la confluencia de dos sentencias contradictor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285480" algn="just">
              <a:lnSpc>
                <a:spcPct val="130000"/>
              </a:lnSpc>
              <a:buClr>
                <a:srgbClr val="7a7a7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ntener el principio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ocietas delinquere non potest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285480" algn="just">
              <a:lnSpc>
                <a:spcPct val="130000"/>
              </a:lnSpc>
              <a:buClr>
                <a:srgbClr val="9b2d1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ntener la inaplicabilidad de una ley penal al fraude sobre tributos locales y provinc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285480" algn="just">
              <a:lnSpc>
                <a:spcPct val="130000"/>
              </a:lnSpc>
              <a:buClr>
                <a:srgbClr val="9b2d1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gularización espontánea permite compatibilizar las exigencias recaudatorias, pero sin convertir al derecho penal en instrumento de recaud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285480" algn="just">
              <a:lnSpc>
                <a:spcPct val="130000"/>
              </a:lnSpc>
              <a:buClr>
                <a:srgbClr val="7a7a7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66560" indent="-285480" algn="just">
              <a:lnSpc>
                <a:spcPct val="130000"/>
              </a:lnSpc>
              <a:buClr>
                <a:srgbClr val="7a7a7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7a7a7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7a7a7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6560" indent="-285480" algn="just">
              <a:lnSpc>
                <a:spcPct val="80000"/>
              </a:lnSpc>
              <a:spcBef>
                <a:spcPts val="476"/>
              </a:spcBef>
              <a:buClr>
                <a:srgbClr val="7a7a7a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66560" indent="-285480">
              <a:lnSpc>
                <a:spcPct val="80000"/>
              </a:lnSpc>
              <a:spcBef>
                <a:spcPts val="476"/>
              </a:spcBef>
              <a:buClr>
                <a:srgbClr val="7a7a7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1 Marcador de número de diapositiva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CD561-BB9E-4FC8-8026-D670F3F70BC2}" type="slidenum">
              <a:rPr b="1" lang="es-A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7030a0"/>
                </a:solidFill>
                <a:latin typeface="Arial"/>
              </a:rPr>
              <a:t>MUCHAS GRACIAS</a:t>
            </a:r>
            <a:endParaRPr b="0" lang="en-US" sz="6000" spc="-1" strike="noStrike">
              <a:solidFill>
                <a:srgbClr val="d1282e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94920" y="119700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6560" indent="-285480" algn="just">
              <a:lnSpc>
                <a:spcPct val="150000"/>
              </a:lnSpc>
              <a:buClr>
                <a:srgbClr val="7a7a7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285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Arial Black"/>
                <a:ea typeface="Arial"/>
              </a:rPr>
              <a:t>EQUIPO DE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6560" indent="-285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6560" indent="-285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030a0"/>
                </a:solidFill>
                <a:latin typeface="Arial Black"/>
                <a:ea typeface="Arial"/>
              </a:rPr>
              <a:t>DELLA ROCCA, Horacio; GOMEZ Teresa; RODRIGUEZ Ruben; SEMACHOWICZ Esteb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7a7a7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6560" indent="-285480" algn="just">
              <a:lnSpc>
                <a:spcPct val="100000"/>
              </a:lnSpc>
              <a:spcBef>
                <a:spcPts val="700"/>
              </a:spcBef>
              <a:buClr>
                <a:srgbClr val="7a7a7a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1 Marcador de número de diapositiva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5DDF9-5862-4A3D-84F5-F6334421EF5E}" type="slidenum">
              <a:rPr b="1" lang="es-A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2" descr="C:\Users\Teresa Gomez\AppData\Local\Microsoft\Windows\Temporary Internet Files\Content.IE5\CRB06NA3\Carita_feliz_alegre_amarilla[1].png"/>
          <p:cNvPicPr/>
          <p:nvPr/>
        </p:nvPicPr>
        <p:blipFill>
          <a:blip r:embed="rId1"/>
          <a:stretch/>
        </p:blipFill>
        <p:spPr>
          <a:xfrm>
            <a:off x="3352680" y="3645000"/>
            <a:ext cx="2438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6600"/>
                </a:solidFill>
                <a:latin typeface="Arial"/>
              </a:rPr>
              <a:t>Reforma ley 26.735 a la ley 24.769.</a:t>
            </a:r>
            <a:endParaRPr b="0" lang="en-US" sz="3200" spc="-1" strike="noStrike">
              <a:solidFill>
                <a:srgbClr val="d1282e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1320" y="1267920"/>
            <a:ext cx="85042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lnSpc>
                <a:spcPct val="100000"/>
              </a:lnSpc>
              <a:buClr>
                <a:srgbClr val="7a7a7a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 han elevado los umbrales mínimos de punibilidad manteniendo el criterio de  la norma precedente en cuanto al establecimiento de montos fij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buClr>
                <a:srgbClr val="7a7a7a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 ha ampliado el ámbito de punibilidad abarcando dentro del tipo penal la evasión de impuestos de naturaleza provinc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buClr>
                <a:srgbClr val="7a7a7a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 ha incorporado como agravante en el inciso d) del artículo 2º cuando se utiliza total o parcialmente facturas o cualquier otro documento equivalente ideológica o materialmente fals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buClr>
                <a:srgbClr val="7a7a7a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 ha incorporado como artículo 12 bis un tipo penal especial para sancionar a quien modificare o adulterare los sistemas informáticos o equipos electrónicos, suministrados u homologados por el Fisco nacional, provincial o de la Ciudad Autónoma de Buenos Aires</a:t>
            </a:r>
            <a:r>
              <a:rPr b="0" lang="es-AR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1 Marcador de número de diapositiva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75C43-9935-47A2-BB16-506FAD160542}" type="slidenum">
              <a:rPr b="1" lang="es-A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6600"/>
                </a:solidFill>
                <a:latin typeface="Arial"/>
              </a:rPr>
              <a:t>Reforma ley 26.735 a la ley 24.769.</a:t>
            </a:r>
            <a:endParaRPr b="0" lang="en-US" sz="3200" spc="-1" strike="noStrike">
              <a:solidFill>
                <a:srgbClr val="d1282e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1320" y="1267920"/>
            <a:ext cx="85042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lnSpc>
                <a:spcPct val="100000"/>
              </a:lnSpc>
              <a:spcBef>
                <a:spcPts val="601"/>
              </a:spcBef>
              <a:buClr>
                <a:srgbClr val="7a7a7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 ha incorporado un régimen sancionatorio para la persona jurídica, cuando el delito se realiza en nombre o con la intervención de dichos suje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spcBef>
                <a:spcPts val="601"/>
              </a:spcBef>
              <a:buClr>
                <a:srgbClr val="7a7a7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 ha eliminado el mecanismo  de extinción de la acción penal por pago, reemplazándolo por un </a:t>
            </a: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 Narrow"/>
                <a:ea typeface="Times New Roman"/>
              </a:rPr>
              <a:t>régimen de presentación espontánea</a:t>
            </a:r>
            <a:r>
              <a:rPr b="1" lang="es-AR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que opera como causal absolutoria sobrevin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spcBef>
                <a:spcPts val="601"/>
              </a:spcBef>
              <a:buClr>
                <a:srgbClr val="7a7a7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spcBef>
                <a:spcPts val="601"/>
              </a:spcBef>
              <a:buClr>
                <a:srgbClr val="7a7a7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 ha derogado el artículo 19, que equiparando la obligación de los funcionarios del organismo- en cuanto a la denuncia de los hechos ilícitos de los que tomen conocimiento- a la que recae sobre el resto de los funcionarios públicos del Estado Na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spcBef>
                <a:spcPts val="601"/>
              </a:spcBef>
              <a:buClr>
                <a:srgbClr val="7a7a7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spcBef>
                <a:spcPts val="499"/>
              </a:spcBef>
              <a:buClr>
                <a:srgbClr val="7a7a7a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7a7a7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1 Marcador de número de diapositiva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FDE01-474D-4C6F-AE78-78B6C49D83E5}" type="slidenum">
              <a:rPr b="1" lang="es-A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6600"/>
                </a:solidFill>
                <a:latin typeface="Arial"/>
              </a:rPr>
              <a:t>Reforma ley 26.735 a la ley 24.769.</a:t>
            </a:r>
            <a:endParaRPr b="0" lang="en-US" sz="3200" spc="-1" strike="noStrike">
              <a:solidFill>
                <a:srgbClr val="d1282e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7a7a7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 mantiene el camino de la ¨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ble vía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¨ en materia procedimental (TFN y JPE). NO se suspende la sustanciación ni la resolución del procedimiento tendiente a la determinación y ejecución de la deuda. Posibilidad de strepitus foris. </a:t>
            </a:r>
            <a:r>
              <a:rPr b="0" i="1" lang="es-A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fr. Ing. Ronza CNACAF (6/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7a7a7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7a7a7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 ha eliminado </a:t>
            </a:r>
            <a:r>
              <a:rPr b="0" lang="es-AR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xpresamente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la posibilidad de aplicar el instituto de la ¨suspensión de juicio a prueba a los delitos  previstos por la ley 24769¨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7a7a7a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7a7a7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1 Marcador de número de diapositiva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2F3D4-5A19-4C7F-B3F0-993668E5A9E5}" type="slidenum">
              <a:rPr b="1" lang="es-A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Anteproyecto Código Penal</a:t>
            </a:r>
            <a:endParaRPr b="0" lang="en-US" sz="3200" spc="-1" strike="noStrike">
              <a:solidFill>
                <a:srgbClr val="d1282e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corporación de los delitos fiscales y previsionales al código penal</a:t>
            </a:r>
            <a:r>
              <a:rPr b="0" lang="es-E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7a7a7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Ha agrupado en un solo artículo (artículo 180), todos los tipos penales establecidos en la los Títulos I (Delitos Tributarios) y II (Delitos relativos a los recursos de la seguridad social) establecidos en la ley 24769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7a7a7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7a7a7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or otro lado, sintetizó en otro artículo (artículo 181) los denominados ¨Delitos Comunes¨ tipificados en el Titulo III de la normativa vigente. En el artículo 182, ha incluido cuestiones que se encontraban dentro del Titulo IV de la ley 24769 (Disposiciones Generale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a7a7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1 Marcador de número de diapositiva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56E54-3B49-4DB4-BE4A-1DA1EEA6CD94}" type="slidenum">
              <a:rPr b="1" lang="es-A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Anteproyecto Código Penal</a:t>
            </a:r>
            <a:endParaRPr b="0" lang="en-US" sz="3200" spc="-1" strike="noStrike">
              <a:solidFill>
                <a:srgbClr val="d1282e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litos contra la Hacienda Pública y la Seguridad Social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7a7a7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o define el bien jurídico. Simplifica los tipos pen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7a7a7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ubraya que la evasión es un fraude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(Evasiones y </a:t>
            </a:r>
            <a:r>
              <a:rPr b="1" i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otros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fraude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7a7a7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specto de la EVASIÓN expresa: Ardid o engaño en perjuicio del Fisc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7a7a7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vadir total o parcialmente el pago de Tribu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7a7a7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Umbral mínimo: 140 salarios mínimos vitales y móviles al tiempo de comisión del hech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7a7a7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or cada tributo y por cada ejercicio 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7a7a7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ujeto activo: “El que”.  Los Contadores marcamos nuestra preocupación ya que preferiríamos que continuara la palabra OBLIG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1 Marcador de número de diapositiva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F2738-7C5A-4010-B5B7-B311CCDADF87}" type="slidenum">
              <a:rPr b="1" lang="es-A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0000"/>
                </a:solidFill>
                <a:latin typeface="Arial"/>
              </a:rPr>
              <a:t>Nuevo Código Procesal Penal ley </a:t>
            </a: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27.063</a:t>
            </a: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d1282e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1320" y="1267920"/>
            <a:ext cx="85042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ARTÍCULO 204.- Obligación de denunciar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Tendrán obligación de denunciar los delitos de acción públ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a. los magistrados y demás </a:t>
            </a:r>
            <a:r>
              <a:rPr b="0" lang="es-A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uncionarios públicos 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que conozcan el hecho en ejercicio de sus funcion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b. los médicos, farmacéuticos o enfermeros, siempre que conozcan el hecho en el ejercicio de su profesión u oficio, salvo que el caso se encuentre bajo el amparo del secreto profesion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c. los escribanos y contadores en los casos de fraude, evasión impositiva, lavado de activos, trata y explotación de person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d. las personas que por disposición de la ley, de la autoridad o por algún acto jurídico tengan a su cargo el manejo, la administración, el cuidado o control de bienes o intereses de una institución, entidad o persona, respecto de los delitos cometidos en perjuicio de ésta o de la masa o patrimonio puesto bajo su cargo o control, siempre que conozcan del hecho por el ejercicio de</a:t>
            </a:r>
            <a:r>
              <a:rPr b="0" lang="es-AR" sz="1800" spc="-1" strike="noStrike">
                <a:solidFill>
                  <a:srgbClr val="808080"/>
                </a:solidFill>
                <a:latin typeface="Arial"/>
                <a:ea typeface="Arial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sus func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En todos estos casos la denuncia no será obligatoria si razonablemente pudiera acarrear la persecución penal propia, la del cónyuge, conviviente o pariente dentro del cuarto grado de consanguinidad o segundo de afinidad, o cuando los hechos hubiesen sido conocidos bajo secreto profesional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1 Marcador de número de diapositiva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C8E1C-B7C0-4EED-BB29-0DC03D497AE8}" type="slidenum">
              <a:rPr b="1" lang="es-A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0000"/>
                </a:solidFill>
                <a:latin typeface="Arial"/>
              </a:rPr>
              <a:t>Nuevo Código Procesal Penal ley </a:t>
            </a: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27.063</a:t>
            </a: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d1282e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01320" y="1267920"/>
            <a:ext cx="85042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499"/>
              </a:spcBef>
              <a:buClr>
                <a:srgbClr val="7a7a7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s una norma que violentaría el principio de legalidad y de razonabilidad, es conveniente alentar a su derog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7a7a7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l hecho de imponerse a los ciudadanos un deber jurídico de denunciar, del que otros ciudadanos quedan excluidos, sin contar, en apariencia al menos, con una justificación razonable, se presenta, en principio, como chocante a la garantía de igual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7a7a7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l CPCECABA esta desarrollando varias acciones, una de ellas es “desarrollar” el concepto de “Secreto Profesional” para darle ímpetu a su contenido. Si bien una definición general podría comprender el criterio que es SECRETO todo aquello que no es PUBLIC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2 Marcador de número de diapositiva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E3F46-CA29-4F4F-BE64-72FD54C7191F}" type="slidenum">
              <a:rPr b="1" lang="es-A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900" spc="-1" strike="noStrike">
                <a:solidFill>
                  <a:srgbClr val="7030a0"/>
                </a:solidFill>
                <a:latin typeface="Arial"/>
              </a:rPr>
              <a:t>NUESTRAS PROPUESTAS</a:t>
            </a:r>
            <a:endParaRPr b="0" lang="en-US" sz="4900" spc="-1" strike="noStrike">
              <a:solidFill>
                <a:srgbClr val="d1282e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01680" y="1341360"/>
            <a:ext cx="86630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lnSpc>
                <a:spcPct val="150000"/>
              </a:lnSpc>
              <a:spcBef>
                <a:spcPts val="499"/>
              </a:spcBef>
              <a:buClr>
                <a:srgbClr val="7a7a7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tervención penal mín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50000"/>
              </a:lnSpc>
              <a:spcBef>
                <a:spcPts val="499"/>
              </a:spcBef>
              <a:buClr>
                <a:srgbClr val="7a7a7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speto a ultranza de las garantías constitucion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50000"/>
              </a:lnSpc>
              <a:spcBef>
                <a:spcPts val="499"/>
              </a:spcBef>
              <a:buClr>
                <a:srgbClr val="7a7a7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eeminencia del “individuo” sobre el propio sistem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50000"/>
              </a:lnSpc>
              <a:spcBef>
                <a:spcPts val="499"/>
              </a:spcBef>
              <a:buClr>
                <a:srgbClr val="7a7a7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otección judicial efectiva. Obtención de la 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otitia criminis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según se trate de actuaciones con prevención penal o prevención administra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50000"/>
              </a:lnSpc>
              <a:spcBef>
                <a:spcPts val="499"/>
              </a:spcBef>
              <a:buClr>
                <a:srgbClr val="7a7a7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definición de los montos de punibilidad. Incorporación de porcentajes para el perfeccionamiento de la configuración delict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50000"/>
              </a:lnSpc>
              <a:spcBef>
                <a:spcPts val="499"/>
              </a:spcBef>
              <a:buClr>
                <a:srgbClr val="7a7a7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iminación del sindico como sujeto administrador de patrimon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50000"/>
              </a:lnSpc>
              <a:spcBef>
                <a:spcPts val="499"/>
              </a:spcBef>
              <a:buClr>
                <a:srgbClr val="7a7a7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iminación del art. 15 en sus tres inci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700"/>
              </a:spcBef>
              <a:buClr>
                <a:srgbClr val="7a7a7a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spcBef>
                <a:spcPts val="499"/>
              </a:spcBef>
              <a:buClr>
                <a:srgbClr val="7a7a7a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7a7a7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1 Marcador de número de diapositiva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2F5CD-5581-45F4-8344-7F4F97B7C866}" type="slidenum">
              <a:rPr b="1" lang="es-A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15:27:19Z</dcterms:created>
  <dc:creator>Nancy</dc:creator>
  <dc:description/>
  <dc:language>en-US</dc:language>
  <cp:lastModifiedBy>Teresa Gomez</cp:lastModifiedBy>
  <dcterms:modified xsi:type="dcterms:W3CDTF">2015-10-04T21:25:51Z</dcterms:modified>
  <cp:revision>50</cp:revision>
  <dc:subject/>
  <dc:title>GRUPO DE TRABAJO REFORMA TRIBUTARIA</dc:title>
</cp:coreProperties>
</file>