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1"/>
          <p:cNvGrpSpPr/>
          <p:nvPr/>
        </p:nvGrpSpPr>
        <p:grpSpPr>
          <a:xfrm>
            <a:off x="0" y="3530160"/>
            <a:ext cx="9131400" cy="3315240"/>
            <a:chOff x="0" y="3530160"/>
            <a:chExt cx="9131400" cy="3315240"/>
          </a:xfrm>
        </p:grpSpPr>
        <p:sp>
          <p:nvSpPr>
            <p:cNvPr id="1" name="Rectangle 2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2449"/>
                </a:spcBef>
                <a:buClr>
                  <a:srgbClr val="ffffff"/>
                </a:buClr>
                <a:buSzPct val="75000"/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0"/>
            <p:cNvGrpSpPr/>
            <p:nvPr/>
          </p:nvGrpSpPr>
          <p:grpSpPr>
            <a:xfrm>
              <a:off x="6400800" y="3530160"/>
              <a:ext cx="2631960" cy="3162600"/>
              <a:chOff x="6400800" y="3530160"/>
              <a:chExt cx="2631960" cy="3162600"/>
            </a:xfrm>
          </p:grpSpPr>
          <p:grpSp>
            <p:nvGrpSpPr>
              <p:cNvPr id="3" name="Group 8"/>
              <p:cNvGrpSpPr/>
              <p:nvPr/>
            </p:nvGrpSpPr>
            <p:grpSpPr>
              <a:xfrm>
                <a:off x="6746760" y="3530160"/>
                <a:ext cx="2286000" cy="3162600"/>
                <a:chOff x="6746760" y="3530160"/>
                <a:chExt cx="2286000" cy="3162600"/>
              </a:xfrm>
            </p:grpSpPr>
            <p:sp>
              <p:nvSpPr>
                <p:cNvPr id="4" name="Freeform 3"/>
                <p:cNvSpPr/>
                <p:nvPr/>
              </p:nvSpPr>
              <p:spPr>
                <a:xfrm>
                  <a:off x="6746760" y="3630600"/>
                  <a:ext cx="2286000" cy="280980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b2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0000"/>
                    </a:lnSpc>
                    <a:spcBef>
                      <a:spcPts val="2449"/>
                    </a:spcBef>
                    <a:buClr>
                      <a:srgbClr val="ffffff"/>
                    </a:buClr>
                    <a:buSzPct val="75000"/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Line 4"/>
                <p:cNvSpPr/>
                <p:nvPr/>
              </p:nvSpPr>
              <p:spPr>
                <a:xfrm flipV="1">
                  <a:off x="6815160" y="5987520"/>
                  <a:ext cx="201600" cy="43524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spcBef>
                      <a:spcPts val="244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Line 5"/>
                <p:cNvSpPr/>
                <p:nvPr/>
              </p:nvSpPr>
              <p:spPr>
                <a:xfrm flipV="1">
                  <a:off x="8077320" y="380160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spcBef>
                      <a:spcPts val="244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Line 6"/>
                <p:cNvSpPr/>
                <p:nvPr/>
              </p:nvSpPr>
              <p:spPr>
                <a:xfrm flipV="1">
                  <a:off x="8210520" y="3530160"/>
                  <a:ext cx="54000" cy="1825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spcBef>
                      <a:spcPts val="244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7"/>
                <p:cNvSpPr/>
                <p:nvPr/>
              </p:nvSpPr>
              <p:spPr>
                <a:xfrm>
                  <a:off x="7054920" y="6450120"/>
                  <a:ext cx="1334880" cy="24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1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80000"/>
                    </a:lnSpc>
                    <a:spcBef>
                      <a:spcPts val="2449"/>
                    </a:spcBef>
                    <a:buClr>
                      <a:srgbClr val="ffffff"/>
                    </a:buClr>
                    <a:buSzPct val="75000"/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Group 29"/>
              <p:cNvGrpSpPr/>
              <p:nvPr/>
            </p:nvGrpSpPr>
            <p:grpSpPr>
              <a:xfrm>
                <a:off x="6400800" y="3825720"/>
                <a:ext cx="2376360" cy="2372040"/>
                <a:chOff x="6400800" y="3825720"/>
                <a:chExt cx="2376360" cy="2372040"/>
              </a:xfrm>
            </p:grpSpPr>
            <p:sp>
              <p:nvSpPr>
                <p:cNvPr id="10" name="Oval 9"/>
                <p:cNvSpPr/>
                <p:nvPr/>
              </p:nvSpPr>
              <p:spPr>
                <a:xfrm>
                  <a:off x="6400800" y="3825720"/>
                  <a:ext cx="2376360" cy="237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ff"/>
                    </a:gs>
                    <a:gs pos="100000">
                      <a:srgbClr val="0000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80000"/>
                    </a:lnSpc>
                    <a:spcBef>
                      <a:spcPts val="2449"/>
                    </a:spcBef>
                    <a:buClr>
                      <a:srgbClr val="ffffff"/>
                    </a:buClr>
                    <a:buSzPct val="75000"/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" name="Group 28"/>
                <p:cNvGrpSpPr/>
                <p:nvPr/>
              </p:nvGrpSpPr>
              <p:grpSpPr>
                <a:xfrm>
                  <a:off x="6400800" y="4073400"/>
                  <a:ext cx="2209680" cy="1760760"/>
                  <a:chOff x="6400800" y="4073400"/>
                  <a:chExt cx="2209680" cy="1760760"/>
                </a:xfrm>
              </p:grpSpPr>
              <p:sp>
                <p:nvSpPr>
                  <p:cNvPr id="12" name="Freeform 10"/>
                  <p:cNvSpPr/>
                  <p:nvPr/>
                </p:nvSpPr>
                <p:spPr>
                  <a:xfrm>
                    <a:off x="6713640" y="4718160"/>
                    <a:ext cx="1440" cy="2196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1"/>
                  <p:cNvSpPr/>
                  <p:nvPr/>
                </p:nvSpPr>
                <p:spPr>
                  <a:xfrm>
                    <a:off x="6751800" y="4767120"/>
                    <a:ext cx="12600" cy="1116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2"/>
                  <p:cNvSpPr/>
                  <p:nvPr/>
                </p:nvSpPr>
                <p:spPr>
                  <a:xfrm>
                    <a:off x="6878520" y="4702320"/>
                    <a:ext cx="81000" cy="7596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3"/>
                  <p:cNvSpPr/>
                  <p:nvPr/>
                </p:nvSpPr>
                <p:spPr>
                  <a:xfrm>
                    <a:off x="6400800" y="4762440"/>
                    <a:ext cx="716040" cy="93204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4"/>
                  <p:cNvSpPr/>
                  <p:nvPr/>
                </p:nvSpPr>
                <p:spPr>
                  <a:xfrm>
                    <a:off x="8053560" y="4995720"/>
                    <a:ext cx="26640" cy="4464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5"/>
                  <p:cNvSpPr/>
                  <p:nvPr/>
                </p:nvSpPr>
                <p:spPr>
                  <a:xfrm>
                    <a:off x="7918560" y="5189400"/>
                    <a:ext cx="108000" cy="15408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6"/>
                  <p:cNvSpPr/>
                  <p:nvPr/>
                </p:nvSpPr>
                <p:spPr>
                  <a:xfrm>
                    <a:off x="8132760" y="5248440"/>
                    <a:ext cx="185760" cy="14904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17"/>
                  <p:cNvSpPr/>
                  <p:nvPr/>
                </p:nvSpPr>
                <p:spPr>
                  <a:xfrm>
                    <a:off x="8485200" y="5551560"/>
                    <a:ext cx="125280" cy="16020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18"/>
                  <p:cNvSpPr/>
                  <p:nvPr/>
                </p:nvSpPr>
                <p:spPr>
                  <a:xfrm>
                    <a:off x="6622920" y="4462560"/>
                    <a:ext cx="61920" cy="10476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19"/>
                  <p:cNvSpPr/>
                  <p:nvPr/>
                </p:nvSpPr>
                <p:spPr>
                  <a:xfrm>
                    <a:off x="6602400" y="4497480"/>
                    <a:ext cx="33480" cy="3816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0"/>
                  <p:cNvSpPr/>
                  <p:nvPr/>
                </p:nvSpPr>
                <p:spPr>
                  <a:xfrm>
                    <a:off x="6553080" y="4435560"/>
                    <a:ext cx="406440" cy="34272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1"/>
                  <p:cNvSpPr/>
                  <p:nvPr/>
                </p:nvSpPr>
                <p:spPr>
                  <a:xfrm>
                    <a:off x="6726240" y="4073400"/>
                    <a:ext cx="1728720" cy="122076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2"/>
                  <p:cNvSpPr/>
                  <p:nvPr/>
                </p:nvSpPr>
                <p:spPr>
                  <a:xfrm>
                    <a:off x="8089920" y="4572000"/>
                    <a:ext cx="149040" cy="24912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3"/>
                  <p:cNvSpPr/>
                  <p:nvPr/>
                </p:nvSpPr>
                <p:spPr>
                  <a:xfrm>
                    <a:off x="7526160" y="5237280"/>
                    <a:ext cx="30240" cy="5688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4"/>
                  <p:cNvSpPr/>
                  <p:nvPr/>
                </p:nvSpPr>
                <p:spPr>
                  <a:xfrm>
                    <a:off x="7753320" y="5297400"/>
                    <a:ext cx="349200" cy="14940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5"/>
                  <p:cNvSpPr/>
                  <p:nvPr/>
                </p:nvSpPr>
                <p:spPr>
                  <a:xfrm>
                    <a:off x="8031240" y="5421240"/>
                    <a:ext cx="374400" cy="35100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6"/>
                  <p:cNvSpPr/>
                  <p:nvPr/>
                </p:nvSpPr>
                <p:spPr>
                  <a:xfrm>
                    <a:off x="8329680" y="5791320"/>
                    <a:ext cx="28440" cy="4284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27"/>
                  <p:cNvSpPr/>
                  <p:nvPr/>
                </p:nvSpPr>
                <p:spPr>
                  <a:xfrm>
                    <a:off x="7023240" y="5389560"/>
                    <a:ext cx="41040" cy="168120"/>
                  </a:xfrm>
                  <a:prstGeom prst="pi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2449"/>
                      </a:spcBef>
                      <a:buClr>
                        <a:srgbClr val="ffffff"/>
                      </a:buClr>
                      <a:buSzPct val="75000"/>
                      <a:buFont typeface="Times New Roman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7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92160" y="6486480"/>
            <a:ext cx="180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8345880" y="648648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532C-E69A-412D-A75D-CD3A787606BF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AutoShape 37"/>
          <p:cNvSpPr/>
          <p:nvPr/>
        </p:nvSpPr>
        <p:spPr>
          <a:xfrm>
            <a:off x="0" y="5451480"/>
            <a:ext cx="1709640" cy="1406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4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ct.gov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06280"/>
            <a:ext cx="7881840" cy="249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00"/>
                </a:solidFill>
                <a:latin typeface="Times New Roman"/>
              </a:rPr>
              <a:t>Tema II</a:t>
            </a:r>
            <a:br>
              <a:rPr sz="4000"/>
            </a:br>
            <a:r>
              <a:rPr b="1" i="1" lang="es-ES" sz="4000" spc="-1" strike="noStrike">
                <a:solidFill>
                  <a:srgbClr val="ffff00"/>
                </a:solidFill>
                <a:latin typeface="Times New Roman"/>
              </a:rPr>
              <a:t>“La imposición a la renta corporativa y la de los dividendos”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13° Congreso Tributa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4 al 6 de octubre del 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Republicana –Mc Conne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iagnóstico: La crisis económica y la desocupación. Solicitan un enfoque innovador: las medidas aplicadas han fracasado. No ven los estímulos como una solución. Hechos: El índice de desocupación mayor que durante la gran depresión, aumento de la nafta y del seguro social, 15 millones de desocup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Republicana –Mc Connell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Propuesta: Reformar el obsoleto C° Fiscal. Rebaja del impuesto corporativo. Mejorando la competitividad internacional y aprobando los tratados de libre comercio pendientes (Colombia, Panamá, Corea del Su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No autorizar pedido del P.E respecto a un incremento del tope del endeudamiento público, en 500.000 millones adicio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Republicana –O- Hat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Señala que el sistema tributario de EE.UU, en su esencia (Renta Mundial y créditos fiscales impuestos extranjeros) data del año 1918 y los tratados vigentes fueron redactados sobre la base del modelo de la Liga de las Naciones de 1928. Recuerda los cambios operados en la economía global y el hecho que en aquellos momentos EE.UU era superavitario y una nación acreedora, y en la actualidad exactamente lo contrari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Republicana-Hatch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l dilema de la tributación internacional: País de la fuente de la ganancia o país de residencia, y como evitar la doble imposición. Las posiciones teóricas (CEN, CIN y CON). Reglas que no distorsionen el comportamiento de los dueños del capi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El problema de las multinacionales de EE.UU: El sistema “obsoleto” penaliza la repatriación de ganancias de F.E. (35% a dicho moment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Capital export neutrality-Capital import neutrality-Capital ownership neutr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Republicana –Mc Connel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Consecuencia: Empresas multinacionales con gran disponibilidad de fondos off shore, deben endeudarse porque la repatriación es altamente onerosa -35%-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Una solución posible: Reformar el regimen fiscal internacional, </a:t>
            </a:r>
            <a:r>
              <a:rPr b="1" lang="es-A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ando el criterio territorial o de fuente. 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as Cías. deben estar en condiciones de ser competitivas a nivel global y el sistema adoptado ser simple, justo y motor del crecimiento econó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ffff"/>
                </a:solidFill>
                <a:latin typeface="Times New Roman"/>
              </a:rPr>
              <a:t>Muchas gracias por su aten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anelistas y Autores de trabaj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r. C.P. Alejandro Alma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r. C.E. Alfredo J. Lamagran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r. C.P. Eduardo O. Melo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r. C.P. Eduardo L. Perel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Cdor. Público Adolfo G. Sepúlveda Zava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r. C.P. Ricardo H. Ko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r. C.P. Luis O. Fernánde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Introducción general</a:t>
            </a: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¿Es necesario un “exordio” para estimular la atenció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Marco de referenc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La imposición separada del ente y los accionistas: El relator y los panelistas. Suficientemente analiz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spectos a tener en cuenta al desarrollar el 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l contexto económico y social a nivel país y a nivel internacio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Las decisiones en esta materia son un claro ejemplo del uso extra fiscal de la herramienta tributari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Aspectos relev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Una definición previa del “modelo económico” propuesto por la conducción política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l contexto económico “global” y el regional en particular. Competencia “tributaria” y atractivo para nuevos inversores o incentivos a la retención de uti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Aspectos relevante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Inactividad legislativa en materia de impuesto a las ganancias. Última reforma, año 1998, ley N° 25.063 (Thin Cap, Precios de Transferencia, etc.) Desconocimiento de la existencia de la inflación a los fines tributario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Un caso práctico bien reciente: La reforma bajo estudio en el Senado de EE.UU (Set. 201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El caso práctico EE.UU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resent Law and Issues in U.S. Taxation of cross-border income (</a:t>
            </a:r>
            <a:r>
              <a:rPr b="0" lang="es-AR" sz="3200" spc="-1" strike="noStrike" u="sng">
                <a:solidFill>
                  <a:srgbClr val="ff0100"/>
                </a:solidFill>
                <a:uFillTx/>
                <a:latin typeface="Times New Roman"/>
                <a:hlinkClick r:id="rId1"/>
              </a:rPr>
              <a:t>www.jct.gov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) Autores: Joint Committee on Tax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Informe del Chairman del Comité de Finanzas Max Baucus(Demócrata/Obam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ropuesta de los Senadores Republicanos Mitch Mc Connell (Por Kentucky) y Orrin Hatch (Por Uta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Demócrata (Obama/Baucus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Diagnóstico: Deficit crónico y tasa de desocupación record en la histori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Propuesta: Mantener statu quo “veteranos, jubilados y clase media. Tasas marginales de Imp. a la renta fueron aumentadas del 33% y el 35% al 36% y 39,6% en las tres últimas décadas. Tasa de imposición a las ganancias de capital y dividendos, 20% inferior a la que tributan los sal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ff00"/>
                </a:solidFill>
                <a:latin typeface="Times New Roman"/>
              </a:rPr>
              <a:t>Propuesta Demócrata (Obama/Baucus) cont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Descarta aumentar el gravamen a la clase media y a los retirados, así como recortar los programas de seguridad social y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Recomienda impuesto a los más ricos (400 contribuyentes, obtienen el 57% de sus ingresos como ganancia de capital) y reconoce que tales ganancias han tributado el impuesto corporativo. Asimismo reducción del gasto público en $ 900 mil millones, creación de puestos de trabajo, expansión económica y revisión normas sobre Operaciones Interna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7T12:33:44Z</dcterms:created>
  <dc:creator>Recanatini, Daniel</dc:creator>
  <dc:description/>
  <dc:language>en-US</dc:language>
  <cp:lastModifiedBy>hcastillejo</cp:lastModifiedBy>
  <cp:lastPrinted>1995-04-30T17:46:24Z</cp:lastPrinted>
  <dcterms:modified xsi:type="dcterms:W3CDTF">2011-09-30T22:19:36Z</dcterms:modified>
  <cp:revision>635</cp:revision>
  <dc:subject>SFAS 52</dc:subject>
  <dc:title>SEMINAR</dc:title>
</cp:coreProperties>
</file>