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F95-FC2C-4628-A0DA-F2C06BDD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EFA-6BBE-45C2-8090-BDE14F1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69B-F96C-4081-9ADE-906FBDDE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410-68C0-4E48-9FDA-730E4E69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5E9-8F35-4000-8968-324E75A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FF7-CB82-4177-8DE2-14A46D1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2A7-CA74-4715-8B84-9D53A897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D73-9CF0-43AC-811A-F870C86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263-96DD-46DA-AAC8-E917E1C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E96-6810-4C26-AA14-7B5AB83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F3D-0BDD-446B-9FA0-E6A7548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A6-0E24-4702-9714-AD66472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DB0-4FCE-4644-AAC5-4A1CBEBC393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357120" y="1000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5 CuadroTexto"/>
          <p:cNvSpPr/>
          <p:nvPr/>
        </p:nvSpPr>
        <p:spPr>
          <a:xfrm>
            <a:off x="142920" y="1357200"/>
            <a:ext cx="892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. Sistema clásico: los dividendos están gravados en cabeza de los accionistas de igual forma que el resto de las ganancias de capi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57120" y="2057400"/>
          <a:ext cx="8358120" cy="4657680"/>
        </p:xfrm>
        <a:graphic>
          <a:graphicData uri="http://schemas.openxmlformats.org/drawingml/2006/table">
            <a:tbl>
              <a:tblPr/>
              <a:tblGrid>
                <a:gridCol w="1994040"/>
                <a:gridCol w="2606760"/>
                <a:gridCol w="2070000"/>
                <a:gridCol w="1687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 retención sobre divide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ública Che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la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él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land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e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CuadroTexto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357120" y="109044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142920" y="1527120"/>
            <a:ext cx="892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2. Modificación al sistema clásico: los dividendos están gravados en cabeza de los accionistas a tasas preferen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57120" y="2382840"/>
          <a:ext cx="8358120" cy="3546360"/>
        </p:xfrm>
        <a:graphic>
          <a:graphicData uri="http://schemas.openxmlformats.org/drawingml/2006/table">
            <a:tbl>
              <a:tblPr/>
              <a:tblGrid>
                <a:gridCol w="1994040"/>
                <a:gridCol w="2606760"/>
                <a:gridCol w="2070000"/>
                <a:gridCol w="1687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 retención sobre divide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r>
                        <a:rPr b="1" lang="es-A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ra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dos U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nama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CuadroTexto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57120" y="109044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142920" y="152712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. Imputación total: los dividendos están gravados en cabeza de los accionistas con un crédito fiscal equivalente al impuesto tributado por la empre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2920" y="2357280"/>
          <a:ext cx="8929800" cy="3434040"/>
        </p:xfrm>
        <a:graphic>
          <a:graphicData uri="http://schemas.openxmlformats.org/drawingml/2006/table">
            <a:tbl>
              <a:tblPr/>
              <a:tblGrid>
                <a:gridCol w="1071360"/>
                <a:gridCol w="1428840"/>
                <a:gridCol w="1714680"/>
                <a:gridCol w="1214280"/>
                <a:gridCol w="1182600"/>
                <a:gridCol w="1073160"/>
                <a:gridCol w="12448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l impuesto personal sobre los dividendos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s con 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impu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j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va Ze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357120" y="109044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142920" y="152712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4. Imputación parcial: los dividendos están gravados en cabeza de los accionistas con un crédito fiscal equivalente a un importe parcial del impuesto total de la empre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2920" y="2357280"/>
          <a:ext cx="8929800" cy="2320920"/>
        </p:xfrm>
        <a:graphic>
          <a:graphicData uri="http://schemas.openxmlformats.org/drawingml/2006/table">
            <a:tbl>
              <a:tblPr/>
              <a:tblGrid>
                <a:gridCol w="1071360"/>
                <a:gridCol w="1428840"/>
                <a:gridCol w="1714680"/>
                <a:gridCol w="1214280"/>
                <a:gridCol w="1182600"/>
                <a:gridCol w="1073160"/>
                <a:gridCol w="12448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l impuesto personal sobre los dividendos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s con 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impu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ino U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CuadroTexto"/>
          <p:cNvSpPr/>
          <p:nvPr/>
        </p:nvSpPr>
        <p:spPr>
          <a:xfrm>
            <a:off x="0" y="50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357120" y="13762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142920" y="191628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5. Inclusión parcial: solo una parte de los dividendos son gravados en cabeza de los accionis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7120" y="2857680"/>
          <a:ext cx="8358120" cy="2214360"/>
        </p:xfrm>
        <a:graphic>
          <a:graphicData uri="http://schemas.openxmlformats.org/drawingml/2006/table">
            <a:tbl>
              <a:tblPr/>
              <a:tblGrid>
                <a:gridCol w="1649520"/>
                <a:gridCol w="2200320"/>
                <a:gridCol w="2638440"/>
                <a:gridCol w="1869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l impuesto personal sobre los dividendos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qu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u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CuadroTexto"/>
          <p:cNvSpPr/>
          <p:nvPr/>
        </p:nvSpPr>
        <p:spPr>
          <a:xfrm>
            <a:off x="0" y="792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357120" y="173340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5 CuadroTexto"/>
          <p:cNvSpPr/>
          <p:nvPr/>
        </p:nvSpPr>
        <p:spPr>
          <a:xfrm>
            <a:off x="142920" y="221472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6. No gravabilidad de los dividendos en cabeza de los accionistas: solo se tributa el impuesto en cabeza de la empre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7120" y="3071880"/>
          <a:ext cx="8358120" cy="1681200"/>
        </p:xfrm>
        <a:graphic>
          <a:graphicData uri="http://schemas.openxmlformats.org/drawingml/2006/table">
            <a:tbl>
              <a:tblPr/>
              <a:tblGrid>
                <a:gridCol w="1649520"/>
                <a:gridCol w="2200320"/>
                <a:gridCol w="2638440"/>
                <a:gridCol w="1869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l impuesto personal sobre los dividendos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ública Eslova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3 CuadroTexto"/>
          <p:cNvSpPr/>
          <p:nvPr/>
        </p:nvSpPr>
        <p:spPr>
          <a:xfrm>
            <a:off x="0" y="649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TAMIENTO DE LAS RENTAS EMPRESARIAS Y DE LOS DIVIDENDOS DE LOS ACCIONISTAS EN LOS SISTEMAS COMPA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357120" y="151920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stemas de integración de la imposición de los dividendos de las empre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142920" y="21621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7. Otros tipos de sistem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57120" y="2928960"/>
          <a:ext cx="8358120" cy="1473120"/>
        </p:xfrm>
        <a:graphic>
          <a:graphicData uri="http://schemas.openxmlformats.org/drawingml/2006/table">
            <a:tbl>
              <a:tblPr/>
              <a:tblGrid>
                <a:gridCol w="1649520"/>
                <a:gridCol w="2200320"/>
                <a:gridCol w="2638440"/>
                <a:gridCol w="1869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sobre las utilidades empres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del impuesto personal sobre los dividendos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ssing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personal n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u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9:25:32Z</dcterms:created>
  <dc:creator>apantarotto</dc:creator>
  <dc:description/>
  <dc:language>en-US</dc:language>
  <cp:lastModifiedBy>hcastillejo</cp:lastModifiedBy>
  <dcterms:modified xsi:type="dcterms:W3CDTF">2011-10-03T21:27:39Z</dcterms:modified>
  <cp:revision>4</cp:revision>
  <dc:subject/>
  <dc:title>Diapositiva 1</dc:title>
</cp:coreProperties>
</file>