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77075" cy="9371013"/>
</p:presentation>
</file>

<file path=ppt/commentAuthors.xml><?xml version="1.0" encoding="utf-8"?>
<p:cmAuthorLst xmlns:p="http://schemas.openxmlformats.org/presentationml/2006/main">
  <p:cmAuthor id="0" name="Usuario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0-11-02T12:31:33.109000000" idx="1">
    <p:pos x="-456" y="-173"/>
    <p:text>Ojo, si usamos el PIB que publica el indec para el 2009, ahí la presión aumentaría, en lugar de bajar,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900640"/>
            <a:ext cx="30672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008240" y="8900640"/>
            <a:ext cx="306684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7CCF626-16A4-41EA-8AE9-F056FD2C0D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9C89FB7-6D5C-482D-AE48-785AA1868C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D34602F-819B-4D7C-94AC-07CE33EE4C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F64007E-9EBC-4216-8CA7-3F73D72AEA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68AA573-63C5-4122-829E-BA47214C70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CEA3743-1C2E-4CAB-B478-EF74D72DBF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B4F572C-29A7-4979-B81E-E0D68DB4F0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053625D-F37A-407B-ACC3-CD0D4CD1EE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815B100-7A9F-4C33-882D-640E4EC56F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CF744CC-1186-4AF9-8EED-D80471EFDF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4008600" y="8901000"/>
            <a:ext cx="3066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5727870-6C2D-43B4-A56D-96350DF77F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FD9-161C-46F5-BD80-70F3D0E7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4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305-61C2-4A99-B914-CE8CE1B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01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01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F3-645E-4FEB-BC0D-A3CDE357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9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4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9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C9D-3BAD-4F52-9DA4-12793C00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4B1-BCB1-48BC-BDCD-86CF2F3C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8B3-DBA7-4509-96A7-13F85DB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FF9-F3D1-4D6D-B3E5-1664EB6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690-FEC6-4874-8F6A-633FF94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8850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EDC-26A7-4C82-9785-46F46CE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FF-0B69-4458-AD82-9B7C34C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01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818-7365-4800-B20A-FD54B3F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1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40C-F099-4A78-81E0-86534BD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B44-66FF-494A-8664-5B1090B391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" name="Picture 8" descr="faja cuerpo informe"/>
            <p:cNvPicPr/>
            <p:nvPr/>
          </p:nvPicPr>
          <p:blipFill>
            <a:blip r:embed="rId2"/>
            <a:srcRect l="380" t="91675" r="0" b="0"/>
            <a:stretch/>
          </p:blipFill>
          <p:spPr>
            <a:xfrm>
              <a:off x="0" y="6751800"/>
              <a:ext cx="914400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" descr="faja cuerpo informe"/>
            <p:cNvPicPr/>
            <p:nvPr/>
          </p:nvPicPr>
          <p:blipFill>
            <a:blip r:embed="rId3"/>
            <a:srcRect l="380" t="91675" r="0" b="0"/>
            <a:stretch/>
          </p:blipFill>
          <p:spPr>
            <a:xfrm>
              <a:off x="0" y="907920"/>
              <a:ext cx="91440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0" descr="faja cuerpo informe"/>
            <p:cNvPicPr/>
            <p:nvPr/>
          </p:nvPicPr>
          <p:blipFill>
            <a:blip r:embed="rId4"/>
            <a:srcRect l="76082" t="37341" r="0" b="13962"/>
            <a:stretch/>
          </p:blipFill>
          <p:spPr>
            <a:xfrm>
              <a:off x="250920" y="404640"/>
              <a:ext cx="180000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1" descr="faja cuerpo informe"/>
            <p:cNvPicPr/>
            <p:nvPr/>
          </p:nvPicPr>
          <p:blipFill>
            <a:blip r:embed="rId5"/>
            <a:srcRect l="60789" t="37341" r="23523" b="23118"/>
            <a:stretch/>
          </p:blipFill>
          <p:spPr>
            <a:xfrm>
              <a:off x="179280" y="0"/>
              <a:ext cx="144000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258560" y="0"/>
            <a:ext cx="7885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E97-479D-4B19-AD98-C6CA962482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aratula blanca 1"/>
          <p:cNvPicPr/>
          <p:nvPr/>
        </p:nvPicPr>
        <p:blipFill>
          <a:blip r:embed="rId1"/>
          <a:srcRect l="0" t="0" r="0" b="46073"/>
          <a:stretch/>
        </p:blipFill>
        <p:spPr>
          <a:xfrm>
            <a:off x="0" y="-127080"/>
            <a:ext cx="9159840" cy="6985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84360" y="4221000"/>
            <a:ext cx="7848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LA PRESION TRIBUTARIA EN ARGENTINA: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evolución reciente y perspectivas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4 de octu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adin Argañaraz</a:t>
            </a:r>
            <a:br>
              <a:rPr sz="20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irector General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88508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flexiones fi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920" y="1424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gentina está, en todo nivel de gobierno, con la máxima presión tributaria efecti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 estructura tributaria actual se concentra en impuestos indirectos, lo que implica una alta regresiv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 su vez, es mayor el peso que han adquirido los tributos “más distorsivos” en la recaudació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l desafío pendiente que tiene Argentina es el de modificar la estructura tributaria actual y, paralelamente, cambiar la distribución de recursos entre niveles de gobier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0" y="1557360"/>
            <a:ext cx="8967960" cy="4535640"/>
          </a:xfrm>
          <a:prstGeom prst="rect">
            <a:avLst/>
          </a:prstGeom>
          <a:ln w="0">
            <a:noFill/>
          </a:ln>
        </p:spPr>
      </p:pic>
      <p:sp>
        <p:nvSpPr>
          <p:cNvPr id="57" name="4 CuadroTexto"/>
          <p:cNvSpPr/>
          <p:nvPr/>
        </p:nvSpPr>
        <p:spPr>
          <a:xfrm>
            <a:off x="2124000" y="44280"/>
            <a:ext cx="72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ecientes niveles de presión tributaria consoli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1BD-FAF6-4595-90B2-D7AC9B77D0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3"/>
          <p:cNvSpPr/>
          <p:nvPr/>
        </p:nvSpPr>
        <p:spPr>
          <a:xfrm>
            <a:off x="250920" y="1197000"/>
            <a:ext cx="842940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errar llave"/>
          <p:cNvSpPr/>
          <p:nvPr/>
        </p:nvSpPr>
        <p:spPr>
          <a:xfrm>
            <a:off x="8532720" y="2225520"/>
            <a:ext cx="142920" cy="771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71840"/>
              <a:gd name="textAreaBottom" fmla="*/ 768240 h 7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20 Grupo"/>
          <p:cNvGrpSpPr/>
          <p:nvPr/>
        </p:nvGrpSpPr>
        <p:grpSpPr>
          <a:xfrm>
            <a:off x="950760" y="2260440"/>
            <a:ext cx="8301240" cy="757440"/>
            <a:chOff x="950760" y="2260440"/>
            <a:chExt cx="8301240" cy="757440"/>
          </a:xfrm>
        </p:grpSpPr>
        <p:sp>
          <p:nvSpPr>
            <p:cNvPr id="62" name="12 Conector recto"/>
            <p:cNvSpPr/>
            <p:nvPr/>
          </p:nvSpPr>
          <p:spPr>
            <a:xfrm>
              <a:off x="950760" y="30178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13 Conector recto"/>
            <p:cNvSpPr/>
            <p:nvPr/>
          </p:nvSpPr>
          <p:spPr>
            <a:xfrm>
              <a:off x="7332840" y="22604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18 Triángulo isósceles"/>
            <p:cNvSpPr/>
            <p:nvPr/>
          </p:nvSpPr>
          <p:spPr>
            <a:xfrm>
              <a:off x="8802720" y="2323800"/>
              <a:ext cx="161640" cy="1936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19 CuadroTexto"/>
            <p:cNvSpPr/>
            <p:nvPr/>
          </p:nvSpPr>
          <p:spPr>
            <a:xfrm>
              <a:off x="8640720" y="2514240"/>
              <a:ext cx="6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0000"/>
                  </a:solidFill>
                  <a:latin typeface="Arial"/>
                </a:rPr>
                <a:t>4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21 CuadroTexto"/>
          <p:cNvSpPr/>
          <p:nvPr/>
        </p:nvSpPr>
        <p:spPr>
          <a:xfrm>
            <a:off x="684360" y="652932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*  Datos para municipios estimados desde 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Rectángulo"/>
          <p:cNvSpPr/>
          <p:nvPr/>
        </p:nvSpPr>
        <p:spPr>
          <a:xfrm>
            <a:off x="1332000" y="1125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caudación Nacional, Provincial y Municipal en % del P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1 CuadroTexto"/>
          <p:cNvSpPr/>
          <p:nvPr/>
        </p:nvSpPr>
        <p:spPr>
          <a:xfrm>
            <a:off x="287280" y="6114960"/>
            <a:ext cx="86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Sin considerar Seguridad Social, el aumento de presión tributaria habría sido del 3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395280" y="1666800"/>
            <a:ext cx="770580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1705680" y="77760"/>
            <a:ext cx="72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ncremento de la presión tributaria por impuesto 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000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05B-35CB-47D5-9F2C-2E8EC567B9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556000" y="1052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umento en puntos porcentuales del P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Sin seguridad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9 Conector recto"/>
          <p:cNvSpPr/>
          <p:nvPr/>
        </p:nvSpPr>
        <p:spPr>
          <a:xfrm>
            <a:off x="687240" y="2311560"/>
            <a:ext cx="75232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-108000" y="2395440"/>
            <a:ext cx="4859280" cy="369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4603680" y="2421000"/>
            <a:ext cx="4576680" cy="3744720"/>
          </a:xfrm>
          <a:prstGeom prst="rect">
            <a:avLst/>
          </a:prstGeom>
          <a:ln w="0">
            <a:noFill/>
          </a:ln>
        </p:spPr>
      </p:pic>
      <p:sp>
        <p:nvSpPr>
          <p:cNvPr id="76" name="3 CuadroTexto"/>
          <p:cNvSpPr/>
          <p:nvPr/>
        </p:nvSpPr>
        <p:spPr>
          <a:xfrm>
            <a:off x="1763640" y="44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rticipación de impuestos directos e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7 Rectángulo"/>
          <p:cNvSpPr/>
          <p:nvPr/>
        </p:nvSpPr>
        <p:spPr>
          <a:xfrm>
            <a:off x="1467360" y="1692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9 Rectángulo"/>
          <p:cNvSpPr/>
          <p:nvPr/>
        </p:nvSpPr>
        <p:spPr>
          <a:xfrm>
            <a:off x="6165360" y="16286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VI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2 Grupo"/>
          <p:cNvGrpSpPr/>
          <p:nvPr/>
        </p:nvGrpSpPr>
        <p:grpSpPr>
          <a:xfrm>
            <a:off x="1476000" y="3499560"/>
            <a:ext cx="5976000" cy="576720"/>
            <a:chOff x="1476000" y="3499560"/>
            <a:chExt cx="5976000" cy="576720"/>
          </a:xfrm>
        </p:grpSpPr>
        <p:cxnSp>
          <p:nvCxnSpPr>
            <p:cNvPr id="80" name="23 Conector recto de flecha"/>
            <p:cNvCxnSpPr/>
            <p:nvPr/>
          </p:nvCxnSpPr>
          <p:spPr>
            <a:xfrm flipV="1">
              <a:off x="1476000" y="3571200"/>
              <a:ext cx="1152720" cy="144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81" name="24 Conector recto de flecha"/>
            <p:cNvCxnSpPr/>
            <p:nvPr/>
          </p:nvCxnSpPr>
          <p:spPr>
            <a:xfrm flipV="1">
              <a:off x="6227640" y="3499560"/>
              <a:ext cx="1224720" cy="577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82" name="9 Rectángulo"/>
          <p:cNvSpPr/>
          <p:nvPr/>
        </p:nvSpPr>
        <p:spPr>
          <a:xfrm>
            <a:off x="3647160" y="112536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sin Seguridad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370480" cy="4364280"/>
          </a:xfrm>
          <a:prstGeom prst="rect">
            <a:avLst/>
          </a:prstGeom>
          <a:ln w="0">
            <a:noFill/>
          </a:ln>
        </p:spPr>
      </p:pic>
      <p:cxnSp>
        <p:nvCxnSpPr>
          <p:cNvPr id="84" name="24 Conector recto de flecha"/>
          <p:cNvCxnSpPr/>
          <p:nvPr/>
        </p:nvCxnSpPr>
        <p:spPr>
          <a:xfrm flipV="1">
            <a:off x="3850920" y="5083920"/>
            <a:ext cx="1369080" cy="793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9 CuadroTexto"/>
          <p:cNvSpPr/>
          <p:nvPr/>
        </p:nvSpPr>
        <p:spPr>
          <a:xfrm>
            <a:off x="1619280" y="7776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rticipación de impuestos “más distorsivos” en la recaudación consolidada Nación + Provi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 Rectángulo"/>
          <p:cNvSpPr/>
          <p:nvPr/>
        </p:nvSpPr>
        <p:spPr>
          <a:xfrm>
            <a:off x="324000" y="98100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sin seguridad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Rectángulo"/>
          <p:cNvSpPr/>
          <p:nvPr/>
        </p:nvSpPr>
        <p:spPr>
          <a:xfrm>
            <a:off x="0" y="141300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mpuestos considerados como más distors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Rectángulo"/>
          <p:cNvSpPr/>
          <p:nvPr/>
        </p:nvSpPr>
        <p:spPr>
          <a:xfrm>
            <a:off x="3745080" y="1365120"/>
            <a:ext cx="56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rechos de expor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mpuesto a los Débitos y Créditos Banc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mpuesto a los Ingresos Br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mpuesto de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-181080" y="1833480"/>
            <a:ext cx="9469440" cy="4764240"/>
          </a:xfrm>
          <a:prstGeom prst="rect">
            <a:avLst/>
          </a:prstGeom>
          <a:ln w="0">
            <a:noFill/>
          </a:ln>
        </p:spPr>
      </p:pic>
      <p:sp>
        <p:nvSpPr>
          <p:cNvPr id="90" name="3 CuadroTexto"/>
          <p:cNvSpPr/>
          <p:nvPr/>
        </p:nvSpPr>
        <p:spPr>
          <a:xfrm>
            <a:off x="1835280" y="44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a contracara de la mayor presión tributaria: creciente tamaño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1332000" y="12700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Gasto Público Consolidado (en % del P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13 Grupo"/>
          <p:cNvGrpSpPr/>
          <p:nvPr/>
        </p:nvGrpSpPr>
        <p:grpSpPr>
          <a:xfrm>
            <a:off x="611280" y="2565360"/>
            <a:ext cx="8353440" cy="934920"/>
            <a:chOff x="611280" y="2565360"/>
            <a:chExt cx="8353440" cy="934920"/>
          </a:xfrm>
        </p:grpSpPr>
        <p:sp>
          <p:nvSpPr>
            <p:cNvPr id="93" name="8 Conector recto"/>
            <p:cNvSpPr/>
            <p:nvPr/>
          </p:nvSpPr>
          <p:spPr>
            <a:xfrm>
              <a:off x="611280" y="35002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10 Conector recto"/>
            <p:cNvSpPr/>
            <p:nvPr/>
          </p:nvSpPr>
          <p:spPr>
            <a:xfrm>
              <a:off x="6731280" y="270972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1 Cerrar llave"/>
            <p:cNvSpPr/>
            <p:nvPr/>
          </p:nvSpPr>
          <p:spPr>
            <a:xfrm>
              <a:off x="7812360" y="2565360"/>
              <a:ext cx="144360" cy="86364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863640"/>
                <a:gd name="textAreaBottom" fmla="*/ 8600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1"/>
                    <a:pt x="10800" y="301"/>
                  </a:cubicBezTo>
                  <a:lnTo>
                    <a:pt x="10800" y="10499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1"/>
                    <a:pt x="10800" y="11101"/>
                  </a:cubicBezTo>
                  <a:lnTo>
                    <a:pt x="10800" y="21299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2 Triángulo isósceles"/>
            <p:cNvSpPr/>
            <p:nvPr/>
          </p:nvSpPr>
          <p:spPr>
            <a:xfrm>
              <a:off x="8174160" y="2874960"/>
              <a:ext cx="161640" cy="195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9 CuadroTexto"/>
            <p:cNvSpPr/>
            <p:nvPr/>
          </p:nvSpPr>
          <p:spPr>
            <a:xfrm>
              <a:off x="8353440" y="2802600"/>
              <a:ext cx="6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0000"/>
                  </a:solidFill>
                  <a:latin typeface="Arial"/>
                </a:rPr>
                <a:t>3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CuadroTexto"/>
          <p:cNvSpPr/>
          <p:nvPr/>
        </p:nvSpPr>
        <p:spPr>
          <a:xfrm>
            <a:off x="1835280" y="44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incipales rubros que explican el incremento en el gasto público 2000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5 CuadroTexto"/>
          <p:cNvSpPr/>
          <p:nvPr/>
        </p:nvSpPr>
        <p:spPr>
          <a:xfrm>
            <a:off x="2411280" y="1197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umento en puntos porcentuales del P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746920" cy="4908600"/>
          </a:xfrm>
          <a:prstGeom prst="rect">
            <a:avLst/>
          </a:prstGeom>
          <a:ln w="0">
            <a:noFill/>
          </a:ln>
        </p:spPr>
      </p:pic>
      <p:sp>
        <p:nvSpPr>
          <p:cNvPr id="101" name="4 Conector recto"/>
          <p:cNvSpPr/>
          <p:nvPr/>
        </p:nvSpPr>
        <p:spPr>
          <a:xfrm>
            <a:off x="1225440" y="2573280"/>
            <a:ext cx="75232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CuadroTexto"/>
          <p:cNvSpPr/>
          <p:nvPr/>
        </p:nvSpPr>
        <p:spPr>
          <a:xfrm>
            <a:off x="1042920" y="2492280"/>
            <a:ext cx="694368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70c0"/>
                </a:solidFill>
                <a:latin typeface="Calibri"/>
              </a:rPr>
              <a:t>¿Qué implicancias tendría ir a una estructura tributaria similar, por ejemplo, a la de Australi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B603-C52C-49FD-8AAA-B65D41F952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OBJETIVO: alcanzar una estructura de recaudación como la de Austral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20080" cy="2158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982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dificaciones necesarias en la Recaudación Tributaria Argen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24b50"/>
                </a:solidFill>
                <a:latin typeface="Calibri"/>
              </a:rPr>
              <a:t>Cambio en % del PIB,</a:t>
            </a:r>
            <a:r>
              <a:rPr b="0" lang="es-ES" sz="1800" spc="-1" strike="noStrike">
                <a:solidFill>
                  <a:srgbClr val="224b5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r jurisdicción y tipo im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1042920" y="4519440"/>
            <a:ext cx="7274160" cy="2149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52280" y="3864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dificaciones necesarias en la Recaudación Tributaria Argen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224b50"/>
                </a:solidFill>
                <a:latin typeface="Calibri"/>
              </a:rPr>
              <a:t>Variación % respecto al nivel actual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or jurisdicción y tipo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Elipse"/>
          <p:cNvSpPr/>
          <p:nvPr/>
        </p:nvSpPr>
        <p:spPr>
          <a:xfrm>
            <a:off x="4427640" y="1773360"/>
            <a:ext cx="64908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Elipse"/>
          <p:cNvSpPr/>
          <p:nvPr/>
        </p:nvSpPr>
        <p:spPr>
          <a:xfrm>
            <a:off x="4356000" y="2781360"/>
            <a:ext cx="64764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1 Elipse"/>
          <p:cNvSpPr/>
          <p:nvPr/>
        </p:nvSpPr>
        <p:spPr>
          <a:xfrm>
            <a:off x="7596360" y="2781360"/>
            <a:ext cx="64764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2 Elipse"/>
          <p:cNvSpPr/>
          <p:nvPr/>
        </p:nvSpPr>
        <p:spPr>
          <a:xfrm>
            <a:off x="5435640" y="2781360"/>
            <a:ext cx="64908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3 Elipse"/>
          <p:cNvSpPr/>
          <p:nvPr/>
        </p:nvSpPr>
        <p:spPr>
          <a:xfrm>
            <a:off x="4427640" y="2276640"/>
            <a:ext cx="64908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4 Elipse"/>
          <p:cNvSpPr/>
          <p:nvPr/>
        </p:nvSpPr>
        <p:spPr>
          <a:xfrm>
            <a:off x="4284720" y="4724280"/>
            <a:ext cx="79200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5 Elipse"/>
          <p:cNvSpPr/>
          <p:nvPr/>
        </p:nvSpPr>
        <p:spPr>
          <a:xfrm>
            <a:off x="4356000" y="5805360"/>
            <a:ext cx="64764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6 Elipse"/>
          <p:cNvSpPr/>
          <p:nvPr/>
        </p:nvSpPr>
        <p:spPr>
          <a:xfrm>
            <a:off x="7596360" y="5805360"/>
            <a:ext cx="64764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7 Elipse"/>
          <p:cNvSpPr/>
          <p:nvPr/>
        </p:nvSpPr>
        <p:spPr>
          <a:xfrm>
            <a:off x="5435640" y="5805360"/>
            <a:ext cx="64908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8 Elipse"/>
          <p:cNvSpPr/>
          <p:nvPr/>
        </p:nvSpPr>
        <p:spPr>
          <a:xfrm>
            <a:off x="4427640" y="5300640"/>
            <a:ext cx="649080" cy="360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0 Rectángulo"/>
          <p:cNvSpPr/>
          <p:nvPr/>
        </p:nvSpPr>
        <p:spPr>
          <a:xfrm>
            <a:off x="7451640" y="4797360"/>
            <a:ext cx="865440" cy="576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30Z</dcterms:created>
  <dc:creator>IARAF</dc:creator>
  <dc:description/>
  <dc:language>en-US</dc:language>
  <cp:lastModifiedBy>hcastillejo</cp:lastModifiedBy>
  <dcterms:modified xsi:type="dcterms:W3CDTF">2011-10-03T17:46:57Z</dcterms:modified>
  <cp:revision>813</cp:revision>
  <dc:subject/>
  <dc:title>Diapositiva 1</dc:title>
</cp:coreProperties>
</file>