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C418-62ED-4F21-A04E-DC782031769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FEB8-2D13-4014-9E34-2095AC80C22E}" type="slidenum">
              <a:rPr b="0" lang="es-E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2A07-F686-4562-BAAA-ED52B8E7A78E}" type="slidenum">
              <a:rPr b="0" lang="es-E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32493-D5AC-4819-B8F1-655C49F6F0ED}" type="slidenum">
              <a:rPr b="0" lang="es-ES" sz="1200" spc="-1" strike="noStrike">
                <a:solidFill>
                  <a:srgbClr val="ffffff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1541-DEDD-4CF3-ADCA-298860CBA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E687-B703-422F-9F06-CF420869E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9327-D581-4438-9FB2-81B1D8087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6FE-6258-431B-9F08-AEEAF438F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5FDD9-0BDF-476F-99B1-AA3B1A88C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4B624-2D37-451A-B7D3-38414FBF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4D98-1B2D-4BAF-96BD-736F06F25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25B0-32A3-44E7-87A6-062533521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2D2C6-BB69-4964-9B7F-6257476A1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B821-5078-4EB2-8AEB-13B8A402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B721C-0F94-4B40-8263-77AADFAA8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BEA2-89F8-43F1-ADE5-6BCF81AC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05B0-9B15-4503-9085-43668FC10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5C09-48B1-4069-A050-132D2A4F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46D7D-351F-4190-A4DF-DB23933E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0800-0F65-4561-B407-69ED781BC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DE79-C140-4B65-9664-C7D8563B3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203B-E585-4CA1-898E-AB29EAF94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AAB9-BFF5-432E-8684-2997C4EB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A104-7143-43A5-B4B4-5F108A9D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9A11D-BA9F-4B3E-B9D3-19F9BEC33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CC8EA-32BD-4DEF-9F33-640A0FCD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220-D484-4BE7-B76B-890E52C8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F72C-078E-4A48-BDF6-503B549FE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orge H Santesteban Hu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5513-97BB-48A6-A464-03043A7750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44"/>
              </a:gs>
              <a:gs pos="100000">
                <a:srgbClr val="00006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orge H Santesteban Hunt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50B83-1512-4034-A1A6-89FDFF8CC5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10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11A8-E8A1-43D4-8A76-D243AF7AD33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572000" y="5638680"/>
            <a:ext cx="4572000" cy="785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Unicode MS"/>
              </a:rPr>
              <a:t>JORGE H. SANTESTEBAN HUNTER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 Unicode MS"/>
              </a:rPr>
              <a:t>C. P. (U.B.A.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6 Rectángulo"/>
          <p:cNvSpPr/>
          <p:nvPr/>
        </p:nvSpPr>
        <p:spPr>
          <a:xfrm>
            <a:off x="486000" y="5643720"/>
            <a:ext cx="2350800" cy="4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omic Sans MS"/>
              </a:rPr>
              <a:t>5 de agosto de 2011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574560" y="1341720"/>
            <a:ext cx="8569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6bd7"/>
                </a:solidFill>
                <a:latin typeface="Verdana"/>
              </a:rPr>
              <a:t>13° Simposio sobre Legislaci</a:t>
            </a:r>
            <a:r>
              <a:rPr b="1" lang="es-ES_tradnl" sz="2000" spc="-1" strike="noStrike">
                <a:solidFill>
                  <a:srgbClr val="006bd7"/>
                </a:solidFill>
                <a:latin typeface="Comic Sans MS"/>
              </a:rPr>
              <a:t>ó</a:t>
            </a:r>
            <a:r>
              <a:rPr b="1" lang="es-ES_tradnl" sz="2000" spc="-1" strike="noStrike">
                <a:solidFill>
                  <a:srgbClr val="006bd7"/>
                </a:solidFill>
                <a:latin typeface="Verdana"/>
              </a:rPr>
              <a:t>n Tributaria Argentina</a:t>
            </a:r>
            <a:endParaRPr b="0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0" y="3072600"/>
            <a:ext cx="91440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bd7"/>
                </a:solidFill>
                <a:latin typeface="Verdana"/>
              </a:rPr>
              <a:t>Mesa Redonda: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bd7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6bd7"/>
                </a:solidFill>
                <a:latin typeface="Comic Sans MS"/>
              </a:rPr>
              <a:t>“</a:t>
            </a:r>
            <a:r>
              <a:rPr b="1" lang="es-ES_tradnl" sz="2400" spc="-1" strike="noStrike">
                <a:solidFill>
                  <a:srgbClr val="006bd7"/>
                </a:solidFill>
                <a:latin typeface="Verdana"/>
              </a:rPr>
              <a:t>Lo que hay que saber profesionalmente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bd7"/>
                </a:solidFill>
                <a:latin typeface="Verdana"/>
              </a:rPr>
              <a:t>sobre el Delito de Lavado de Activos y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bd7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6bd7"/>
                </a:solidFill>
                <a:latin typeface="Verdana"/>
              </a:rPr>
              <a:t>Financiaci</a:t>
            </a:r>
            <a:r>
              <a:rPr b="1" lang="es-ES_tradnl" sz="2400" spc="-1" strike="noStrike">
                <a:solidFill>
                  <a:srgbClr val="006bd7"/>
                </a:solidFill>
                <a:latin typeface="Comic Sans MS"/>
              </a:rPr>
              <a:t>ó</a:t>
            </a:r>
            <a:r>
              <a:rPr b="1" lang="es-ES_tradnl" sz="2400" spc="-1" strike="noStrike">
                <a:solidFill>
                  <a:srgbClr val="006bd7"/>
                </a:solidFill>
                <a:latin typeface="Verdana"/>
              </a:rPr>
              <a:t>n del Terrorismo</a:t>
            </a:r>
            <a:r>
              <a:rPr b="1" lang="es-ES_tradnl" sz="2400" spc="-1" strike="noStrike">
                <a:solidFill>
                  <a:srgbClr val="006bd7"/>
                </a:solidFill>
                <a:latin typeface="Comic Sans MS"/>
              </a:rPr>
              <a:t>”</a:t>
            </a: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2" name="Picture 8" descr="http://www.consejo.org.ar/images2/logoCP_pie.gif"/>
          <p:cNvPicPr/>
          <p:nvPr/>
        </p:nvPicPr>
        <p:blipFill>
          <a:blip r:embed="rId1"/>
          <a:stretch/>
        </p:blipFill>
        <p:spPr>
          <a:xfrm>
            <a:off x="1000080" y="0"/>
            <a:ext cx="7143840" cy="13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Comic Sans MS"/>
              </a:rPr>
              <a:t>ALGUNOS CLIENTES POSIBLES (ART 20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642960"/>
            <a:ext cx="891540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TRANSPORTADORES DE CAUD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PF o PJ. COMPRA VENTA OBRAS DE ARTE, ANTIGUEDADES U OTROS BIENES SUNTUARIOS, FILATELIA, NUMISMATICA, JOYAS O BIENES CON PIEDRAS PRECIO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PERSONAS JURIDICAS QUE RECIBEN DONACIONES O APOR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PF o J EXPLOTEN JUEGOS DE AZ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DESPACHANTES DE ADU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PRODUCTORES, ASESORES, AGENTES, INTERMEDIARIOS, PERITOS Y LIQUIDADORES DE SEGU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AGENTES O CORREDORES INMOBILIARIOS MATRICUL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SOCIEDADES DE CUALQUIER TIPO CON OBJETO CORRETAJE INMOBILI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Comic Sans MS"/>
              </a:rPr>
              <a:t>ALGUNOS CLIENTES POSIBLES (ART 20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28240" y="642600"/>
            <a:ext cx="89154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SOCIACIONES MUTUALES Y COOPERATIVAS (LEYES 20331 Y 20337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PERSONAS FISICAS O JURIDICAS CON HABITUALIDAD EN LA COMPRA VENTA D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AUTOMOVILES – CAMIONES -  MOTOS - OMNIB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TRACTORES - MAQUINARIA VIAL O AGRICO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NAVES – YATES Y SIMILA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AERONAVES Y AERODINOS (HELICOPTERO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PF O J QUE ACTUEN CO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FIDUCIAR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Y LAS PF O J TITULARES DE O VINCULADAS CON CUENTA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mic Sans MS"/>
              </a:rPr>
              <a:t>FIDEICOMIS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mic Sans MS"/>
              </a:rPr>
              <a:t>FIDUCIANT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Comic Sans MS"/>
              </a:rPr>
              <a:t>FIDUCI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LAS PJ QUE ORGANICEN Y REGULEN DEPORTES PROFESIONA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1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8588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cc66"/>
                </a:solidFill>
                <a:latin typeface="Comic Sans MS"/>
              </a:rPr>
              <a:t>ALGUNOS PUNTOS EN COMUN DE LAS RESOLUCIONES UIF 2011 PARA LOS SUJETOS OBLIGADOS</a:t>
            </a:r>
            <a:endParaRPr b="0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79280" y="1213920"/>
            <a:ext cx="896472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OBJETO Y DEFINI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POLITICAS PARA PREVENIR E IMPEDIR L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MANU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OFICIAL DE CUMPLIMIEN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APACITACION DEL PERS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REGISTRO ESCRITO DE ANALISIS Y GESTION DE RIESGO DE O.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IMPLEMENTAR HERRAMIENTAS TECNOLOG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N ALGUNOS CASOS CUENTEN CON AUDITORIA INTER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72400" cy="691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cc66"/>
                </a:solidFill>
                <a:latin typeface="Comic Sans MS"/>
              </a:rPr>
              <a:t>ALGUNOS PUNTOS EN COMUN DE LAS RESOLUCIONES UIF 2011</a:t>
            </a:r>
            <a:endParaRPr b="0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0" y="981000"/>
            <a:ext cx="9144000" cy="54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POLITICA DE IDENTIFICACION CLIEN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INDELEGABILIDAD DE LAS OBLIG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ONTENIDOS MINIMOS SEGÚN ART 21 a) L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PROCEDIMIENTOS REFORZADOS PEPS Y OT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REPORTE SISTEMA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SEGÚN EL TIPO DE S.O. HAY REPORTES MENSUALES (VER RES. UIF 70/201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REPORTE OPERACIONES SOSPECHO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IRCUNSTANCIAS ESPECIALMENTE VALOR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PLAZOS DIFERENTES PARA </a:t>
            </a: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LDA / FD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REGISTRO DE OPERACIONES SOSPECHO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SANCION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5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1" dur="500"/>
                                        <p:tgtEl>
                                          <p:spTgt spid="1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14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B09BC-8C85-41B6-A42C-CD5A05B4C76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07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TERCER PASO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7760" y="1214280"/>
            <a:ext cx="8705880" cy="64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000"/>
                </a:solidFill>
                <a:latin typeface="Comic Sans MS"/>
              </a:rPr>
              <a:t>Inscribirse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en la UIF.  Pagina we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57120" y="1928880"/>
            <a:ext cx="8786880" cy="43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laborar un </a:t>
            </a:r>
            <a:r>
              <a:rPr b="0" lang="es-ES" sz="2800" spc="-1" strike="noStrike">
                <a:solidFill>
                  <a:srgbClr val="ffc000"/>
                </a:solidFill>
                <a:latin typeface="Comic Sans MS"/>
              </a:rPr>
              <a:t>Manual de Control interno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l Estudio Anti lavad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Preparar </a:t>
            </a:r>
            <a:r>
              <a:rPr b="0" lang="es-ES" sz="2800" spc="-1" strike="noStrike">
                <a:solidFill>
                  <a:srgbClr val="ffc000"/>
                </a:solidFill>
                <a:latin typeface="Comic Sans MS"/>
              </a:rPr>
              <a:t>programa global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anti lavado.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1303-F735-4E15-9F72-A66E4529DED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CUARTO PAS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240" y="642960"/>
            <a:ext cx="89154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omplete un </a:t>
            </a:r>
            <a:r>
              <a:rPr b="0" lang="es-ES" sz="2800" spc="-1" strike="noStrike">
                <a:solidFill>
                  <a:srgbClr val="ffc000"/>
                </a:solidFill>
                <a:latin typeface="Comic Sans MS"/>
              </a:rPr>
              <a:t>legajo de cada cliente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alcanzad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stablezca un </a:t>
            </a:r>
            <a:r>
              <a:rPr b="0" lang="es-ES" sz="2800" spc="-1" strike="noStrike">
                <a:solidFill>
                  <a:srgbClr val="ffc000"/>
                </a:solidFill>
                <a:latin typeface="Comic Sans MS"/>
              </a:rPr>
              <a:t>perfil de riesgo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 cada cli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onfeccione </a:t>
            </a:r>
            <a:r>
              <a:rPr b="0" lang="es-ES" sz="2800" spc="-1" strike="noStrike">
                <a:solidFill>
                  <a:srgbClr val="ffc000"/>
                </a:solidFill>
                <a:latin typeface="Comic Sans MS"/>
              </a:rPr>
              <a:t>programas de trabajo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con procedimientos adecuados por rangos de clientes, con base en las normas profesion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termine rango de </a:t>
            </a:r>
            <a:r>
              <a:rPr b="0" lang="es-ES" sz="2800" spc="-1" strike="noStrike">
                <a:solidFill>
                  <a:srgbClr val="ffc000"/>
                </a:solidFill>
                <a:latin typeface="Comic Sans MS"/>
              </a:rPr>
              <a:t>significación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l servicio a presta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Emita y conserve adecuados </a:t>
            </a:r>
            <a:r>
              <a:rPr b="0" lang="es-ES" sz="2800" spc="-1" strike="noStrike">
                <a:solidFill>
                  <a:srgbClr val="ffc000"/>
                </a:solidFill>
                <a:latin typeface="Comic Sans MS"/>
              </a:rPr>
              <a:t>papeles de trabajo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6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3DB97-9027-43AC-AA6B-55A85770342A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QUINTO PAS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928440"/>
            <a:ext cx="8610480" cy="37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istinga entre operación usual, </a:t>
            </a:r>
            <a:r>
              <a:rPr b="0" lang="es-ES" sz="2800" spc="-1" strike="noStrike">
                <a:solidFill>
                  <a:srgbClr val="ffc000"/>
                </a:solidFill>
                <a:latin typeface="Comic Sans MS"/>
              </a:rPr>
              <a:t>inusual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y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sospechos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Identifique e investigue las </a:t>
            </a:r>
            <a:r>
              <a:rPr b="0" lang="es-ES" sz="2800" spc="-1" strike="noStrike">
                <a:solidFill>
                  <a:srgbClr val="ffc000"/>
                </a:solidFill>
                <a:latin typeface="Comic Sans MS"/>
              </a:rPr>
              <a:t>operaciones inusual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3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8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48798-AFC7-4ACB-B4A1-14C60936043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7138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66"/>
                </a:solidFill>
                <a:latin typeface="Comic Sans MS"/>
              </a:rPr>
              <a:t>U.I.F - RESOLUCION 65/2011</a:t>
            </a:r>
            <a:br>
              <a:rPr sz="2400"/>
            </a:br>
            <a:r>
              <a:rPr b="1" lang="es-ES" sz="2400" spc="-1" strike="noStrike">
                <a:solidFill>
                  <a:srgbClr val="ffcc66"/>
                </a:solidFill>
                <a:latin typeface="Comic Sans MS"/>
              </a:rPr>
              <a:t>CAPITULO I. OBJETO Y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Comic Sans MS"/>
              </a:rPr>
              <a:t>DEFINICIONES </a:t>
            </a:r>
            <a:r>
              <a:rPr b="1" i="1" lang="es-ES" sz="2400" spc="-1" strike="noStrike">
                <a:solidFill>
                  <a:srgbClr val="ffc000"/>
                </a:solidFill>
                <a:latin typeface="Comic Sans MS"/>
              </a:rPr>
              <a:t>(art 2º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341360"/>
            <a:ext cx="883908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d55000"/>
                </a:solidFill>
                <a:latin typeface="Comic Sans MS"/>
              </a:rPr>
              <a:t>b)OPERACIONES INUSU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SON AQUELLAS OPERACIONE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TENTADAS O REALIZADA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EN FORMA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AISLADA O REITERADA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SI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JUSTIFICACION ECONOMICA Y/O JURIDICA</a:t>
            </a: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QUE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NO</a:t>
            </a: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 GUARDAN RELACION CON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EL PERFIL ECONOMICO-FINANCIERO DEL CLIENTE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DESVIANDOSE EN LOS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USOS Y COSTUMBRES EN LAS PRACTICAS DE MERCADO</a:t>
            </a:r>
            <a:r>
              <a:rPr b="1" lang="es-ES" sz="2800" spc="-1" strike="noStrike">
                <a:solidFill>
                  <a:srgbClr val="ffcc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YA SEA POR SU FRECUENCIA, HABITUALIDAD, MONTO, COMPLEJIDAD, NATURALEZA Y/O CARACTERISTICAS PARTICULA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58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D4419-C428-4473-BBF3-76E2854B708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7138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66"/>
                </a:solidFill>
                <a:latin typeface="Comic Sans MS"/>
              </a:rPr>
              <a:t>U.I.F - RESOLUCION 65/2011</a:t>
            </a:r>
            <a:br>
              <a:rPr sz="2400"/>
            </a:br>
            <a:r>
              <a:rPr b="1" lang="es-ES" sz="2400" spc="-1" strike="noStrike">
                <a:solidFill>
                  <a:srgbClr val="ffcc66"/>
                </a:solidFill>
                <a:latin typeface="Comic Sans MS"/>
              </a:rPr>
              <a:t>CAPITULO I. OBJETO Y </a:t>
            </a:r>
            <a:r>
              <a:rPr b="1" lang="es-ES" sz="2400" spc="-1" strike="noStrike" u="sng">
                <a:solidFill>
                  <a:srgbClr val="ffffff"/>
                </a:solidFill>
                <a:uFillTx/>
                <a:latin typeface="Comic Sans MS"/>
              </a:rPr>
              <a:t>DEFINICIONES </a:t>
            </a:r>
            <a:r>
              <a:rPr b="1" i="1" lang="es-ES" sz="2400" spc="-1" strike="noStrike">
                <a:solidFill>
                  <a:srgbClr val="ffc000"/>
                </a:solidFill>
                <a:latin typeface="Comic Sans MS"/>
              </a:rPr>
              <a:t>(art 2º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000080"/>
            <a:ext cx="91440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d55000"/>
                </a:solidFill>
                <a:latin typeface="Comic Sans MS"/>
              </a:rPr>
              <a:t>c) OPERACIONES SOSPECHOS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SON AQUELLAS OPERACIONES TENTADAS O REALIZADAS </a:t>
            </a:r>
            <a:r>
              <a:rPr b="1" lang="es-ES" sz="2800" spc="-1" strike="noStrike" u="sng">
                <a:solidFill>
                  <a:srgbClr val="ffc000"/>
                </a:solidFill>
                <a:uFillTx/>
                <a:latin typeface="Comic Sans MS"/>
              </a:rPr>
              <a:t>QUE HABIENDOSE IDENTIFICADO PREVIAMENTE COMO INUSUALES</a:t>
            </a: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,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LUEGO DEL ANALISIS Y EVALUACION REALIZADOS POR EL SUJETO OBLIGADO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LAS MISMAS NO GUARDAN RELACION CON </a:t>
            </a:r>
            <a:r>
              <a:rPr b="1" lang="es-ES" sz="2800" spc="-1" strike="noStrike" u="sng">
                <a:solidFill>
                  <a:srgbClr val="ffc000"/>
                </a:solidFill>
                <a:uFillTx/>
                <a:latin typeface="Comic Sans MS"/>
              </a:rPr>
              <a:t>LAS ACTIVIDADES LÍCITAS DECLARADAS POR EL CLIENTE</a:t>
            </a:r>
            <a:r>
              <a:rPr b="1" lang="es-ES" sz="2800" spc="-1" strike="noStrike">
                <a:solidFill>
                  <a:srgbClr val="ffc000"/>
                </a:solidFill>
                <a:latin typeface="Comic Sans MS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OCASIONANDO SOSPECHA DE LAVADO DE ACTIVOS O AÚN TRATANDOSE DE OPERACIONES RELACIONADAS CON </a:t>
            </a: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CTIVIDADES LÍCITAS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, EXISTA SOSPECHA DE QUE ESTEN VINCULADAS O QUE VAYAN A SER UTILIZADAS PARA LA </a:t>
            </a: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FINANCIACION DEL TERRORISM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C7D3A-A57A-4E73-BF97-9ABF71C84D0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50560" y="0"/>
            <a:ext cx="87138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66"/>
                </a:solidFill>
                <a:latin typeface="Comic Sans MS"/>
              </a:rPr>
              <a:t>U.I.F - RESOLUCION 65/2011</a:t>
            </a:r>
            <a:br>
              <a:rPr sz="2800"/>
            </a:br>
            <a:r>
              <a:rPr b="1" lang="es-ES" sz="2800" spc="-1" strike="noStrike">
                <a:solidFill>
                  <a:srgbClr val="ffcc66"/>
                </a:solidFill>
                <a:latin typeface="Comic Sans MS"/>
              </a:rPr>
              <a:t>CAPITULO I. OBJETO Y </a:t>
            </a:r>
            <a:r>
              <a:rPr b="1" lang="es-ES" sz="2800" spc="-1" strike="noStrike" u="sng">
                <a:solidFill>
                  <a:srgbClr val="ffffff"/>
                </a:solidFill>
                <a:uFillTx/>
                <a:latin typeface="Comic Sans MS"/>
              </a:rPr>
              <a:t>DEFINICIONES </a:t>
            </a:r>
            <a:r>
              <a:rPr b="1" i="1" lang="es-ES" sz="2400" spc="-1" strike="noStrike">
                <a:solidFill>
                  <a:srgbClr val="ffc000"/>
                </a:solidFill>
                <a:latin typeface="Comic Sans MS"/>
              </a:rPr>
              <a:t>(art 2º)</a:t>
            </a: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1773000"/>
            <a:ext cx="9144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Comic Sans MS"/>
              </a:rPr>
              <a:t>ALGUNAS OPERACIONES PUEDEN SER  INUSUALE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00"/>
                </a:solidFill>
                <a:latin typeface="Comic Sans MS"/>
              </a:rPr>
              <a:t>pero…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cc00"/>
                </a:solidFill>
                <a:latin typeface="Comic Sans MS"/>
              </a:rPr>
              <a:t>NO TODA OPERACIÓN INUSUAL ES SOSPECHOS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10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A1D5A-2350-4BA7-A928-C77BD15809D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66"/>
                </a:solidFill>
                <a:latin typeface="Comic Sans MS"/>
              </a:rPr>
              <a:t>CONTADOR = AUDITOR EXTERNO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777240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omic Sans MS"/>
              </a:rPr>
              <a:t>LE INTERESA LO </a:t>
            </a:r>
            <a:r>
              <a:rPr b="1" lang="es-ES_tradnl" sz="2800" spc="-1" strike="noStrike" u="sng">
                <a:solidFill>
                  <a:srgbClr val="ff9900"/>
                </a:solidFill>
                <a:uFillTx/>
                <a:latin typeface="Comic Sans MS"/>
              </a:rPr>
              <a:t>SIGNIFICATIV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y deja constancia de ese “umbral” en l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9900"/>
                </a:solidFill>
                <a:uFillTx/>
                <a:latin typeface="Comic Sans MS"/>
              </a:rPr>
              <a:t>PAPELES DE TRABAJO 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DE RESPAL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SENCIAL PARA PROBAR LA </a:t>
            </a:r>
            <a:r>
              <a:rPr b="0" lang="es-ES_tradnl" sz="3200" spc="-1" strike="noStrike" u="sng">
                <a:solidFill>
                  <a:srgbClr val="ffc000"/>
                </a:solidFill>
                <a:uFillTx/>
                <a:latin typeface="Comic Sans MS"/>
              </a:rPr>
              <a:t>AUSENCIA DE DOLO </a:t>
            </a:r>
            <a:r>
              <a:rPr b="0" lang="es-ES_tradnl" sz="2800" spc="-1" strike="noStrike">
                <a:solidFill>
                  <a:srgbClr val="ffffff"/>
                </a:solidFill>
                <a:latin typeface="Comic Sans MS"/>
              </a:rPr>
              <a:t>EN CASO DE PRETENDER IMPUTARLE  RESPONSABILIDAD EN MATERIA DE </a:t>
            </a:r>
            <a:r>
              <a:rPr b="0" lang="es-ES_tradnl" sz="2800" spc="-1" strike="noStrike">
                <a:solidFill>
                  <a:srgbClr val="ffc000"/>
                </a:solidFill>
                <a:latin typeface="Comic Sans MS"/>
              </a:rPr>
              <a:t>LDA O FD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C5945-49BE-44A4-9EBC-0A5CE020328E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SEXTO PAS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928440"/>
            <a:ext cx="861048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 calificarse como </a:t>
            </a:r>
            <a:r>
              <a:rPr b="0" lang="es-ES" sz="2800" spc="-1" strike="noStrike">
                <a:solidFill>
                  <a:srgbClr val="ff0000"/>
                </a:solidFill>
                <a:latin typeface="Comic Sans MS"/>
              </a:rPr>
              <a:t>sospechosas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r>
              <a:rPr b="0" lang="es-ES" sz="2800" spc="-1" strike="noStrike">
                <a:solidFill>
                  <a:srgbClr val="ffc000"/>
                </a:solidFill>
                <a:latin typeface="Comic Sans MS"/>
              </a:rPr>
              <a:t>Reporte en los plazos establec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 Reportar, lleve </a:t>
            </a:r>
            <a:r>
              <a:rPr b="0" lang="es-ES" sz="2800" spc="-1" strike="noStrike">
                <a:solidFill>
                  <a:srgbClr val="ffc000"/>
                </a:solidFill>
                <a:latin typeface="Comic Sans MS"/>
              </a:rPr>
              <a:t>registro del Repor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e Reportar, </a:t>
            </a:r>
            <a:r>
              <a:rPr b="0" lang="es-ES" sz="2800" spc="-1" strike="noStrike">
                <a:solidFill>
                  <a:srgbClr val="ffc000"/>
                </a:solidFill>
                <a:latin typeface="Comic Sans MS"/>
              </a:rPr>
              <a:t>evaluar el dilema ético de mantener al Client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7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2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B4F41-ABD3-4BDA-A32B-AEEC441107F7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ACTIVIDADES CONTINU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240" y="1285920"/>
            <a:ext cx="89154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000"/>
                </a:solidFill>
                <a:latin typeface="Comic Sans MS"/>
              </a:rPr>
              <a:t>Capacítese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 y extienda la capacitación al personal profesional o afectado a auditorías o colaboración en sindicaturas societarias </a:t>
            </a:r>
            <a:r>
              <a:rPr b="0" lang="es-ES" sz="2800" spc="-1" strike="noStrike">
                <a:solidFill>
                  <a:srgbClr val="ffc000"/>
                </a:solidFill>
                <a:latin typeface="Comic Sans MS"/>
              </a:rPr>
              <a:t>al menos una vez al añ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000"/>
                </a:solidFill>
                <a:latin typeface="Comic Sans MS"/>
              </a:rPr>
              <a:t>Incorpore herramientas tecnológicas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a los procedimient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144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000"/>
                </a:solidFill>
                <a:latin typeface="Comic Sans MS"/>
              </a:rPr>
              <a:t>Incorpore un párrafo en su informe de auditoría o sindicatura societaria, que se refiera a la aplicación de la norm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4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9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4" dur="5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80CF-2C56-4C96-96D4-BCC39BA91D9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66"/>
                </a:solidFill>
                <a:latin typeface="Comic Sans MS"/>
              </a:rPr>
              <a:t>SUJETOS OBLIGADOS</a:t>
            </a:r>
            <a:br>
              <a:rPr sz="3200"/>
            </a:br>
            <a:r>
              <a:rPr b="1" lang="es-ES" sz="3200" spc="-1" strike="noStrike">
                <a:solidFill>
                  <a:srgbClr val="ffcc66"/>
                </a:solidFill>
                <a:latin typeface="Comic Sans MS"/>
              </a:rPr>
              <a:t>DEBER DE INFORMAR </a:t>
            </a:r>
            <a:br>
              <a:rPr sz="3200"/>
            </a:br>
            <a:r>
              <a:rPr b="1" lang="es-ES" sz="3200" spc="-1" strike="noStrike">
                <a:solidFill>
                  <a:srgbClr val="ffcc66"/>
                </a:solidFill>
                <a:latin typeface="Comic Sans MS"/>
              </a:rPr>
              <a:t>ART. 21 LEY 25.246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560" y="2209320"/>
            <a:ext cx="883908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REGLA : </a:t>
            </a:r>
            <a:r>
              <a:rPr b="1" lang="es-ES" sz="3200" spc="-1" strike="noStrike" u="sng">
                <a:solidFill>
                  <a:srgbClr val="ffcc00"/>
                </a:solidFill>
                <a:uFillTx/>
                <a:latin typeface="Comic Sans MS"/>
              </a:rPr>
              <a:t>CONOZCA A SU CL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cc00"/>
                </a:solidFill>
                <a:uFillTx/>
                <a:latin typeface="Comic Sans MS"/>
              </a:rPr>
              <a:t>INFORMAR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3200" spc="-1" strike="noStrike" u="sng">
                <a:solidFill>
                  <a:srgbClr val="ffcc00"/>
                </a:solidFill>
                <a:uFillTx/>
                <a:latin typeface="Comic Sans MS"/>
              </a:rPr>
              <a:t>A LA UIF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 LAS OPERACIONES SOSPECHOS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cc00"/>
                </a:solidFill>
                <a:uFillTx/>
                <a:latin typeface="Comic Sans MS"/>
              </a:rPr>
              <a:t>ABSTENERSE DE REVELAR</a:t>
            </a:r>
            <a:r>
              <a:rPr b="1" lang="es-ES" sz="3200" spc="-1" strike="noStrike">
                <a:solidFill>
                  <a:srgbClr val="ffffff"/>
                </a:solidFill>
                <a:latin typeface="Comic Sans MS"/>
              </a:rPr>
              <a:t> AL CLIENTE O A TERCEROS LAS ACTUACIONES QUE ESTE REALIZAN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5" dur="indefinite" restart="never" nodeType="tmRoot">
          <p:childTnLst>
            <p:seq>
              <p:cTn id="456" dur="indefinite" nodeType="mainSeq">
                <p:childTnLst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6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EC77-F82C-4AD5-A1A2-969EF7D52946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71600" y="5105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cc66"/>
                </a:solidFill>
                <a:latin typeface="Times New Roman"/>
              </a:rPr>
              <a:t>jsantesteban@fibertel.com.ar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WordArt 1027"/>
          <p:cNvSpPr txBox="1"/>
          <p:nvPr/>
        </p:nvSpPr>
        <p:spPr>
          <a:xfrm>
            <a:off x="2057400" y="1828800"/>
            <a:ext cx="5257800" cy="279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MUCHAS GRACIAS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8D99E-03EA-413E-A7A5-A3962420B7F3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78920" y="691920"/>
            <a:ext cx="870588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000"/>
                </a:solidFill>
                <a:latin typeface="Comic Sans MS"/>
              </a:rPr>
              <a:t>Conocimiento previo de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RECOMENDACIONES DEL GAFI (40 + 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LEGISLACION APLICABLE (CODIGO PENAL – parte pertinente , LEYES  25246 – 2668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RESOLUCIONES UIF </a:t>
            </a:r>
            <a:r>
              <a:rPr b="0" lang="es-ES" sz="2400" spc="-1" strike="noStrike">
                <a:solidFill>
                  <a:srgbClr val="ffc000"/>
                </a:solidFill>
                <a:latin typeface="Comic Sans MS"/>
              </a:rPr>
              <a:t>65/11</a:t>
            </a: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 , 11/11, 50/11, 51/11, 70/11 …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5144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Comic Sans MS"/>
              </a:rPr>
              <a:t>RESOLUCION MD 40/2005 CPCECABA o 311/2005 FACPCE , según JURISDICC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PRIMER PASO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CDC5A-4CAB-4511-B049-3B1229A883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684360" y="0"/>
            <a:ext cx="7772400" cy="10159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SPECTOS CENTRALES DE LA LEY 25.246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(con modificaciones Ley 26683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357120" y="981000"/>
            <a:ext cx="8786880" cy="5294160"/>
          </a:xfrm>
          <a:prstGeom prst="rect">
            <a:avLst/>
          </a:prstGeom>
          <a:noFill/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TIPIFICACIÓN DEL DELITO PRECEDENTE </a:t>
            </a:r>
            <a:r>
              <a:rPr b="1" lang="es-ES" sz="1800" spc="-1" strike="noStrike">
                <a:solidFill>
                  <a:srgbClr val="ffc000"/>
                </a:solidFill>
                <a:latin typeface="Comic Sans MS"/>
              </a:rPr>
              <a:t>( “PREFERENTEMENTE…”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230000"/>
              </a:lnSpc>
              <a:spcBef>
                <a:spcPts val="1125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DEFINICIÓN DE SUJETOS OBLIGADOS A INFORMAR</a:t>
            </a:r>
            <a:r>
              <a:rPr b="1" lang="es-ES" sz="1800" spc="-1" strike="noStrike">
                <a:solidFill>
                  <a:srgbClr val="ff9900"/>
                </a:solidFill>
                <a:latin typeface="Comic Sans MS"/>
              </a:rPr>
              <a:t> -  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art 20 </a:t>
            </a:r>
            <a:r>
              <a:rPr b="1" lang="es-ES" sz="1800" spc="-1" strike="noStrike">
                <a:solidFill>
                  <a:srgbClr val="ffc000"/>
                </a:solidFill>
                <a:latin typeface="Comic Sans MS"/>
              </a:rPr>
              <a:t>(INCORPORA NUEVO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23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UNIDAD DE INFORMACIÓN FINANCIERA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230000"/>
              </a:lnSpc>
              <a:spcBef>
                <a:spcPts val="1125"/>
              </a:spcBef>
              <a:buClr>
                <a:srgbClr val="ffc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000"/>
                </a:solidFill>
                <a:latin typeface="Comic Sans MS"/>
              </a:rPr>
              <a:t>(MODIFICA FACULTADES, FINANCIACION Y ELECCION AUTORIDADES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230000"/>
              </a:lnSpc>
              <a:spcBef>
                <a:spcPts val="1125"/>
              </a:spcBef>
              <a:buClr>
                <a:srgbClr val="ff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RÉGIMEN PENAL ADMINISTRATIVO </a:t>
            </a:r>
            <a:r>
              <a:rPr b="1" lang="es-ES" sz="1800" spc="-1" strike="noStrike">
                <a:solidFill>
                  <a:srgbClr val="ffc000"/>
                </a:solidFill>
                <a:latin typeface="Comic Sans MS"/>
              </a:rPr>
              <a:t>( SE MODIFICA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23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OPERACIONES SOSPECHOSAS </a:t>
            </a:r>
            <a:r>
              <a:rPr b="1" lang="es-ES" sz="1800" spc="-1" strike="noStrike">
                <a:solidFill>
                  <a:srgbClr val="ffc000"/>
                </a:solidFill>
                <a:latin typeface="Comic Sans MS"/>
              </a:rPr>
              <a:t>(LAS DEFINE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2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orge H Santesteban Hunter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3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00952-20E8-4B2B-803C-24DD9C9BD8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84360" y="0"/>
            <a:ext cx="7772400" cy="1015920"/>
          </a:xfrm>
          <a:prstGeom prst="rect">
            <a:avLst/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SPECTOS CENTRALES DE LA LEY 25.246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(con modificaciones Ley 26683)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24000" y="981000"/>
            <a:ext cx="8569080" cy="4520520"/>
          </a:xfrm>
          <a:prstGeom prst="rect">
            <a:avLst/>
          </a:prstGeom>
          <a:noFill/>
          <a:ln w="7632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30000"/>
              </a:lnSpc>
              <a:spcBef>
                <a:spcPts val="1125"/>
              </a:spcBef>
              <a:buClr>
                <a:srgbClr val="ffc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INCORPORA 20 BIS, </a:t>
            </a:r>
            <a:r>
              <a:rPr b="1" lang="es-ES" sz="1800" spc="-1" strike="noStrike">
                <a:solidFill>
                  <a:srgbClr val="ffc000"/>
                </a:solidFill>
                <a:latin typeface="Comic Sans MS"/>
              </a:rPr>
              <a:t>(OFICIAL DE CUMPLIMIENTO)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23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r>
              <a:rPr b="1" lang="es-ES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ffffff"/>
                </a:solidFill>
                <a:latin typeface="Comic Sans MS"/>
              </a:rPr>
              <a:t>21 BIS </a:t>
            </a:r>
            <a:r>
              <a:rPr b="1" lang="es-ES" sz="1800" spc="-1" strike="noStrike">
                <a:solidFill>
                  <a:srgbClr val="ffc000"/>
                </a:solidFill>
                <a:latin typeface="Comic Sans MS"/>
              </a:rPr>
              <a:t>(DEFINICION DE CLIENTE E INFORMACION MINIMA A REQUERIR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230000"/>
              </a:lnSpc>
              <a:spcBef>
                <a:spcPts val="1125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23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Comic Sans MS"/>
              </a:rPr>
              <a:t>SUSTITUYE ARTS 23 Y 24 </a:t>
            </a:r>
            <a:r>
              <a:rPr b="1" lang="es-MX" sz="1800" spc="-1" strike="noStrike">
                <a:solidFill>
                  <a:srgbClr val="ffc000"/>
                </a:solidFill>
                <a:latin typeface="Comic Sans MS"/>
              </a:rPr>
              <a:t>(SANCIONES) </a:t>
            </a:r>
            <a:r>
              <a:rPr b="1" lang="es-MX" sz="1800" spc="-1" strike="noStrike">
                <a:solidFill>
                  <a:srgbClr val="ffffff"/>
                </a:solidFill>
                <a:latin typeface="Comic Sans MS"/>
              </a:rPr>
              <a:t>, ARTS 27 </a:t>
            </a:r>
            <a:r>
              <a:rPr b="1" lang="es-MX" sz="1800" spc="-1" strike="noStrike">
                <a:solidFill>
                  <a:srgbClr val="ffc000"/>
                </a:solidFill>
                <a:latin typeface="Comic Sans MS"/>
              </a:rPr>
              <a:t>(FINANCIACION DE LA UIF)</a:t>
            </a:r>
            <a:r>
              <a:rPr b="1" lang="es-MX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ff9900"/>
                </a:solidFill>
                <a:latin typeface="Comic Sans MS"/>
              </a:rPr>
              <a:t> </a:t>
            </a:r>
            <a:r>
              <a:rPr b="1" lang="es-MX" sz="1800" spc="-1" strike="noStrike">
                <a:solidFill>
                  <a:srgbClr val="ffffff"/>
                </a:solidFill>
                <a:latin typeface="Comic Sans MS"/>
              </a:rPr>
              <a:t>Y ART 30 </a:t>
            </a:r>
            <a:r>
              <a:rPr b="1" lang="es-MX" sz="1800" spc="-1" strike="noStrike">
                <a:solidFill>
                  <a:srgbClr val="ffc000"/>
                </a:solidFill>
                <a:latin typeface="Comic Sans MS"/>
              </a:rPr>
              <a:t>(MEDIDAS PROCESALES )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230000"/>
              </a:lnSpc>
              <a:spcBef>
                <a:spcPts val="1125"/>
              </a:spcBef>
              <a:buClr>
                <a:srgbClr val="ffc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4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Jorge H Santesteban Hunter</a:t>
            </a:r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R 65/2011 de la UIF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0" y="1499760"/>
            <a:ext cx="8964720" cy="430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IGENC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GEN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ODO SERVICIO DE AUDITORÍA,SINDICATURA CON EJERCICIOS INICIADOS EL </a:t>
            </a: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1º/1/2011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ESPECÍF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SALVO </a:t>
            </a: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LOS ART 22 Y 23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N RELACION CON EL PLAZO DE REPORTE DE OPERACIONES SOSPECHOSAS </a:t>
            </a: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QUE OPERA DESDE LA PUBLICACION EN EL BOLETIN OFICIAL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7143840" y="60721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5171-1D62-49CD-95C7-0B3F3C310BCE}" type="slidenum">
              <a:rPr b="0" lang="es-A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80CC9-1FE8-4936-B96D-509F742F714B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-360"/>
            <a:ext cx="7545240" cy="125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66"/>
                </a:solidFill>
                <a:latin typeface="Comic Sans MS"/>
              </a:rPr>
              <a:t>U.I.F - RESOLUCION 65/2011</a:t>
            </a:r>
            <a:br>
              <a:rPr sz="2000"/>
            </a:br>
            <a:r>
              <a:rPr b="1" lang="es-ES" sz="2000" spc="-1" strike="noStrike">
                <a:solidFill>
                  <a:srgbClr val="ffcc66"/>
                </a:solidFill>
                <a:latin typeface="Comic Sans MS"/>
              </a:rPr>
              <a:t>CAPITULO IV. REPORTE OPERACIONES SOSPECHOSAS</a:t>
            </a:r>
            <a:endParaRPr b="0" lang="en-US" sz="2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40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. 22 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L PLAZO PARA REPORTAR LOS HECHOS U OPERACIONES SOSPECHOSAS DE </a:t>
            </a: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LDA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SERA DE TREINTA </a:t>
            </a:r>
            <a:r>
              <a:rPr b="1" lang="es-ES" sz="2400" spc="-1" strike="noStrike" u="sng">
                <a:solidFill>
                  <a:srgbClr val="ffc000"/>
                </a:solidFill>
                <a:uFillTx/>
                <a:latin typeface="Comic Sans MS"/>
              </a:rPr>
              <a:t>(30) DIAS A PARTIR DE LA TOMA DE CONOCIMIENTO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c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ART 23.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L PLAZO PARA REPORTAR LOS HECHOS U OPERACIONES SOSPECHOSAS DE </a:t>
            </a:r>
            <a:r>
              <a:rPr b="1" lang="es-ES" sz="2400" spc="-1" strike="noStrike">
                <a:solidFill>
                  <a:srgbClr val="ff0000"/>
                </a:solidFill>
                <a:latin typeface="Comic Sans MS"/>
              </a:rPr>
              <a:t>FDT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SERA DE </a:t>
            </a:r>
            <a:r>
              <a:rPr b="1" lang="es-ES" sz="2400" spc="-1" strike="noStrike" u="sng">
                <a:solidFill>
                  <a:srgbClr val="ff0000"/>
                </a:solidFill>
                <a:uFillTx/>
                <a:latin typeface="Comic Sans MS"/>
              </a:rPr>
              <a:t>CUARENTA Y OCHO (48) HORAS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 PARTIR DE LA TOMA DE CONOCIMIENTO, HABILITANDOSE DIAS Y HORAS INHABILES A TAL EFEC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5 Marcador de número de diapositiva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3E70-4134-4433-A7D6-EF9B7E04076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85880" y="7855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RECONOCER SI ES SUJETO OBLIGADO</a:t>
            </a:r>
            <a:br>
              <a:rPr sz="2800"/>
            </a:br>
            <a:endParaRPr b="0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1571760"/>
            <a:ext cx="914400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d55000"/>
                </a:solidFill>
                <a:latin typeface="Comic Sans MS"/>
              </a:rPr>
              <a:t>e) </a:t>
            </a:r>
            <a:r>
              <a:rPr b="1" lang="es-ES" sz="2400" spc="-1" strike="noStrike" u="sng">
                <a:solidFill>
                  <a:srgbClr val="d55000"/>
                </a:solidFill>
                <a:uFillTx/>
                <a:latin typeface="Comic Sans MS"/>
              </a:rPr>
              <a:t>SUJETO OBLI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66"/>
                </a:solidFill>
                <a:latin typeface="Comic Sans MS"/>
              </a:rPr>
              <a:t>AUDITOR  EXTERNO 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- </a:t>
            </a:r>
            <a:r>
              <a:rPr b="1" lang="es-ES" sz="2400" spc="-1" strike="noStrike">
                <a:solidFill>
                  <a:srgbClr val="ffcc66"/>
                </a:solidFill>
                <a:latin typeface="Comic Sans MS"/>
              </a:rPr>
              <a:t>SINDICO SOCIET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CUANDO SE BRINDEN SERVICIOS 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 -LOS SUJETOS DEL ART 20 LEY 25.246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B - A LOS NO ALCANZADOS PERO QU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) POSEAN UN ACTIVO SUPERIOR A </a:t>
            </a: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$6.000.000.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O</a:t>
            </a:r>
            <a:r>
              <a:rPr b="1" lang="es-ES" sz="2400" spc="-1" strike="noStrike">
                <a:solidFill>
                  <a:srgbClr val="ffc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b) HAYAN </a:t>
            </a: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DUPLICADO SU ACTIVO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O SUS </a:t>
            </a:r>
            <a:r>
              <a:rPr b="1" lang="es-ES" sz="2400" spc="-1" strike="noStrike">
                <a:solidFill>
                  <a:srgbClr val="ffcc00"/>
                </a:solidFill>
                <a:latin typeface="Comic Sans MS"/>
              </a:rPr>
              <a:t>VENTAS</a:t>
            </a: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 EN EL TERMINO DE UN AÑO, CONFORME SURJA DE EECC AUDITADOS. </a:t>
            </a:r>
            <a:r>
              <a:rPr b="1" i="1" lang="es-ES" sz="2400" spc="-1" strike="noStrike">
                <a:solidFill>
                  <a:srgbClr val="ffc000"/>
                </a:solidFill>
                <a:latin typeface="Comic Sans MS"/>
              </a:rPr>
              <a:t>(</a:t>
            </a:r>
            <a:r>
              <a:rPr b="1" i="1" lang="es-ES" sz="1800" spc="-1" strike="noStrike">
                <a:solidFill>
                  <a:srgbClr val="ffc000"/>
                </a:solidFill>
                <a:latin typeface="Comic Sans MS"/>
              </a:rPr>
              <a:t>SUPERANDO LOS $600.000.- PROYECTO FACPCE</a:t>
            </a:r>
            <a:r>
              <a:rPr b="1" i="1" lang="es-ES" sz="2400" spc="-1" strike="noStrike">
                <a:solidFill>
                  <a:srgbClr val="ffc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684360" y="333360"/>
            <a:ext cx="7772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Comic Sans MS"/>
              </a:rPr>
              <a:t>SEGUNDO PASO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66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66"/>
                </a:solidFill>
                <a:latin typeface="Comic Sans MS"/>
              </a:rPr>
              <a:t>ALGUNOS CLIENTES POSIBLES (ART 20)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836280"/>
            <a:ext cx="89154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NTIDADES FINANCIERAS (LEY 2152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OPERADORES DE COMPRA VENTA DIVIS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Comic Sans MS"/>
              </a:rPr>
              <a:t>EMISORES DE TARJETAS DE CREDITO O CHEQUES DE VIAJE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GENTES Y SOC DE BOL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SOCIEDADES GERENTES DE F.C.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GENTES DEL M.A.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TODO INTERMEDIARIO EN CPA VTA TITULOS VALORES EN ORBITA BOLSAS DE COMER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AGENTES INSCRIPTOS EN MERCADOS DE FUTUROS Y OP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EMPRESAS ASEGURADO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Comic Sans MS"/>
              </a:rPr>
              <a:t>REMISORES DE FONDOS Y EMPRESAS PRESTATARIAS O CONCESIONARIAS QUE OPEREN EN GIRO DE DIVISAS , MONEDA O BILLET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4T19:42:14Z</dcterms:created>
  <dc:creator>..</dc:creator>
  <dc:description/>
  <dc:language>en-US</dc:language>
  <cp:lastModifiedBy>hcastillejo</cp:lastModifiedBy>
  <dcterms:modified xsi:type="dcterms:W3CDTF">2011-08-05T22:21:05Z</dcterms:modified>
  <cp:revision>238</cp:revision>
  <dc:subject/>
  <dc:title>Sin título de diapositiva</dc:title>
</cp:coreProperties>
</file>