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BCFA4-54C3-447D-9385-D0086558E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DEA5B-FBD2-401A-9460-BD765173F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91113-7BC2-48EF-8C4E-21E4B1C2F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C8186-0DFA-4E71-9CF6-8DF22ECAB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E04AF-03CE-47CC-AC45-DD999B225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5B50F-B522-44ED-896E-428191CC9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4CE24-0E34-4215-8C15-6DC0757A0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F0CC2-F7C2-4153-A819-F3C599C01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06C4D-5E38-4FC0-AB8A-5B86D5B9F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7E922-6452-4A57-A047-274A3239A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BEC1C-4A49-4071-804B-3FFAEA011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E86CD-61C8-465D-9D24-9CEDDDD9B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AC971-7BE0-492B-84C0-7248D9C67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6E348-FF72-4207-917F-56EF3556F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D016F-C1FC-4423-BEE7-4E208208E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10D86-959A-453B-B56F-8A0E5B448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04A02-D185-4811-BC77-628DE0F0B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C04E-F685-4F8C-85BF-12AF30AE0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BEB30-6186-4486-9757-2BB2C226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3E1F2-49CA-4B68-B480-6FA615BF0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2A7E4-8D3D-454C-9E01-19A60FE18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E10D3-4CB5-472F-8551-E7534EAD5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D36C-AB9F-4CE1-9F47-5CE64C2B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AC0D-80FC-46F7-809D-A72E0EA64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3C0D-7B84-4A04-8648-68E34641CC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8FDF-7A8C-4362-A261-DC24929E1C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nciclopedia-juridica.biz14.com/d/defraudacion/defraudacion.htm" TargetMode="External"/><Relationship Id="rId2" Type="http://schemas.openxmlformats.org/officeDocument/2006/relationships/hyperlink" Target="http://www.enciclopedia-juridica.biz14.com/d/recaudacion/recaudacion.htm"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0033"/>
                </a:solidFill>
                <a:latin typeface="Times New Roman"/>
              </a:rPr>
              <a:t>13° Simposio sobre Legislación Tributaria Argentina</a:t>
            </a:r>
            <a:endParaRPr b="0" lang="en-US" sz="44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misión N° 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ey Penal Tributari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nente: Dr. Daniel G. Pér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ley 17.250 constituye la génesis del problema que observamos. La conducta que se calificaba con “necesidad de castigo inexorable”, representaba, en todo caso una visión absolutamente distinta (incluso sociológicamente hablando) a la que hoy se puede apreciar a la luz de la evolución de la naturaleza de los recursos y de la conduc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Derecho comparad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ey General de Seguridad Social (LGSS) art. 20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ey N° 100, art. 22 de Seguridad Social de la República de Colomb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Derecho comparad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rt. 307 del CP español, según reforma introducida por la ley orgánica 6/95</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bjeto de la </a:t>
            </a:r>
            <a:r>
              <a:rPr b="0" lang="es-ES" sz="2400" spc="-1" strike="noStrike" u="sng">
                <a:solidFill>
                  <a:srgbClr val="990033"/>
                </a:solidFill>
                <a:uFillTx/>
                <a:latin typeface="Arial"/>
                <a:hlinkClick r:id="rId1"/>
              </a:rPr>
              <a:t>defraudación</a:t>
            </a:r>
            <a:r>
              <a:rPr b="0" lang="es-ES" sz="2400" spc="-1" strike="noStrike">
                <a:solidFill>
                  <a:srgbClr val="000000"/>
                </a:solidFill>
                <a:latin typeface="Arial"/>
              </a:rPr>
              <a:t> lo constituyen las </a:t>
            </a:r>
            <a:r>
              <a:rPr b="0" i="1" lang="es-ES" sz="2400" spc="-1" strike="noStrike">
                <a:solidFill>
                  <a:srgbClr val="000000"/>
                </a:solidFill>
                <a:latin typeface="Arial"/>
              </a:rPr>
              <a:t>“…cuotas de la Seguridad Social y demás conceptos de </a:t>
            </a:r>
            <a:r>
              <a:rPr b="0" lang="es-ES" sz="2400" spc="-1" strike="noStrike" u="sng">
                <a:solidFill>
                  <a:srgbClr val="990033"/>
                </a:solidFill>
                <a:uFillTx/>
                <a:latin typeface="Arial"/>
                <a:hlinkClick r:id="rId2"/>
              </a:rPr>
              <a:t>recaudación</a:t>
            </a:r>
            <a:r>
              <a:rPr b="0" i="1" lang="es-ES" sz="2400" spc="-1" strike="noStrike">
                <a:solidFill>
                  <a:srgbClr val="000000"/>
                </a:solidFill>
                <a:latin typeface="Arial"/>
              </a:rPr>
              <a:t> conjunta…”.</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cepto de cuotas, fue abordado por la </a:t>
            </a:r>
            <a:r>
              <a:rPr b="1" lang="es-ES" sz="2400" spc="-1" strike="noStrike">
                <a:solidFill>
                  <a:srgbClr val="000000"/>
                </a:solidFill>
                <a:latin typeface="Arial"/>
              </a:rPr>
              <a:t>Consulta 21/96, de 19 de febrero de 1996 de la Fiscalía General del Estado. </a:t>
            </a:r>
            <a:r>
              <a:rPr b="0" lang="es-ES" sz="2400" spc="-1" strike="noStrike">
                <a:solidFill>
                  <a:srgbClr val="000000"/>
                </a:solidFill>
                <a:latin typeface="Arial"/>
              </a:rPr>
              <a:t>Allí</a:t>
            </a:r>
            <a:r>
              <a:rPr b="1" lang="es-ES" sz="2400" spc="-1" strike="noStrike">
                <a:solidFill>
                  <a:srgbClr val="000000"/>
                </a:solidFill>
                <a:latin typeface="Arial"/>
              </a:rPr>
              <a:t> </a:t>
            </a:r>
            <a:r>
              <a:rPr b="0" lang="es-ES" sz="2400" spc="-1" strike="noStrike">
                <a:solidFill>
                  <a:srgbClr val="000000"/>
                </a:solidFill>
                <a:latin typeface="Arial"/>
              </a:rPr>
              <a:t>se expresó que incluye tanto la cuota empresarial como la obrera (contribuciones como aporte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la medida en que las conductas incriminadas por el ordenamiento penal tributario en grado positivo, no reconozcan su basamento en la estructura de la sociología jurídica, carecen de eficacia, y, en tal sentido, no sólo no cumplen el rol objetivo para el que están planteadas, sino que además obstaculizan la verdadera protección de los bienes que pretenden tutelar. Esta indagación sirve también para corregir el carácter espurio de la norma; es decir, cuando la expresión del cometido se dirige en un sentido, pero en la subjetividad, es otro totalmente opues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500" spc="-1" strike="noStrike">
                <a:solidFill>
                  <a:srgbClr val="330033"/>
                </a:solidFill>
                <a:latin typeface="Times New Roman"/>
              </a:rPr>
              <a:t>La precariedad de ciertos tipos penales. Un enfoque metodológico desde la sociología jurídica</a:t>
            </a:r>
            <a:endParaRPr b="0" lang="en-US" sz="25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ley conden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 constancia y ansi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quien roba una gallin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una estanci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o se vuelve floj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laca y fin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 quien rob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estancia y la gallin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onardo Luis Castellani (1899-198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0033"/>
                </a:solidFill>
                <a:latin typeface="Times New Roman"/>
              </a:rPr>
              <a:t>La precariedad de ciertos tipos penales. Un enfoque metodológico desde la sociología jurídica</a:t>
            </a:r>
            <a:endParaRPr b="0" lang="en-US" sz="24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Desarrollo de la pon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foque conceptual y metodológic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ipo penal elegid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nálisis del tipo penal como conducta incriminada en virtud de las ópticas diversa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lusiones y próximos pasos en la metodolog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Enfoque conceptual y metodológic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abajo como primera etapa de la investigación y no elemento conclusiv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tintos enfoques a través de los aportes de la filosofía y la sociologí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oyección sobre el derecho penal tributar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0033"/>
                </a:solidFill>
                <a:latin typeface="Times New Roman"/>
              </a:rPr>
              <a:t>La precariedad de ciertos tipos penales. Un enfoque metodológico desde la sociología jurídica</a:t>
            </a:r>
            <a:endParaRPr b="0" lang="en-US" sz="24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realidad del derecho es estudiada desde tres ángulos científicos tradicional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validez jurídica, por la ciencia del derecho propiamente dich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justicia, por la filosofía del derech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eficacia por la sociología del derecho</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constatación del derecho realmente vivido en una sociedad. Se establece la correspondencia entre el derecho vigente y el derecho real y verdaderamente aplicado en las relaciones sociales, así como el funcionamiento efectivo de las instituciones juríd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análisis del sustrato sociológico del derecho positivo vigente; es decir, de todos los factores sociales, económicos, culturales y de todo tipo que influyen en la génesis, desarrollo y anulación de las instituciones y normas del ordenamiento juríd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análisis del las connotaciones del derecho positivo en la realidad so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Tipo penal objeto de anális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Apropiación indebida de tributos de la SS (art. 9° L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álisis profundo los elementos del tipo objetivo y subjetivo.</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exo causal entre dichos elementos y fundamentalmente el tema: retención-depósito</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estado de necesidad justificante, como causal excluyente de la antijuridicidad y el  estado de necesidad disculpante o exculpante, como causal excluyente de la culpabilidad; o sea: justificación del estado de necesidad por colisión de inter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0033"/>
                </a:solidFill>
                <a:latin typeface="Times New Roman"/>
              </a:rPr>
              <a:t>La precariedad de ciertos tipos penales. Un enfoque metodológico desde la sociología jurídica</a:t>
            </a:r>
            <a:endParaRPr b="0" lang="en-US" sz="2800" spc="-1" strike="noStrike">
              <a:solidFill>
                <a:srgbClr val="330033"/>
              </a:solidFill>
              <a:latin typeface="Times New Roman"/>
            </a:endParaRPr>
          </a:p>
        </p:txBody>
      </p:sp>
      <p:graphicFrame>
        <p:nvGraphicFramePr>
          <p:cNvPr id="114" name=""/>
          <p:cNvGraphicFramePr/>
          <p:nvPr/>
        </p:nvGraphicFramePr>
        <p:xfrm>
          <a:off x="914400" y="1600200"/>
          <a:ext cx="7772400" cy="4508640"/>
        </p:xfrm>
        <a:graphic>
          <a:graphicData uri="http://schemas.openxmlformats.org/drawingml/2006/table">
            <a:tbl>
              <a:tblPr/>
              <a:tblGrid>
                <a:gridCol w="1111320"/>
                <a:gridCol w="1109520"/>
                <a:gridCol w="1111320"/>
                <a:gridCol w="1108080"/>
                <a:gridCol w="1111320"/>
                <a:gridCol w="1109520"/>
                <a:gridCol w="1111320"/>
              </a:tblGrid>
              <a:tr h="6141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Tamaño</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Cantidad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Empleado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Trabajadores en DDJJ</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Masa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Salarial</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en miles d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Total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Gener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555.14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7.306.17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31.437.19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203.6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3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203.6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493.9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6</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98.8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7,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97.63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2,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484.7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3-5</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12.77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20,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420.8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098.32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6-1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59.18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447.58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6,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285.53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4,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1-25</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45.66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8,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727.5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2.279.1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7,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 de</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0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8.24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4.031.7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55,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21.250.65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0033"/>
                          </a:solidFill>
                          <a:latin typeface="Arial"/>
                        </a:rPr>
                        <a:t>67,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1T15:45:53Z</dcterms:created>
  <dc:creator>DANIEL PEREZ</dc:creator>
  <dc:description/>
  <dc:language>en-US</dc:language>
  <cp:lastModifiedBy>DANIEL PEREZ</cp:lastModifiedBy>
  <dcterms:modified xsi:type="dcterms:W3CDTF">2011-08-03T16:23:54Z</dcterms:modified>
  <cp:revision>38</cp:revision>
  <dc:subject/>
  <dc:title>Diapositiva 1</dc:title>
</cp:coreProperties>
</file>