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BAF87-C27E-4E84-A6BB-9C4CF91FA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3F3C1-CBAE-49C0-866C-22B4345E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10386-959E-4AA7-B962-B7308E614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25A94-105F-4CBD-BDFF-4B34A133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5DC30-FADD-4B18-823C-D6867317C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942E-570F-45B5-A59D-D9B69178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38564-7314-4710-8A44-33FB4988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306A7-7328-48ED-821D-DCCC3508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08AE-2280-437B-9D14-B8B7D9D2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5B21-94EA-44C1-B012-C2565FBC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FE53-79DE-44DD-A83C-CAD1DB2B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81A6B-4511-41F4-876E-3F152C8CE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FB3A-49FB-46B7-BB34-AB09FB4655CB}" type="datetime">
              <a:rPr b="0" lang="es-A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32CD-C6C3-419C-B23D-7B2FAC3CC7E2}"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928440" y="642600"/>
            <a:ext cx="7715160" cy="5357880"/>
          </a:xfrm>
          <a:prstGeom prst="rect">
            <a:avLst/>
          </a:prstGeom>
          <a:noFill/>
          <a:ln w="9360">
            <a:solidFill>
              <a:srgbClr val="000000"/>
            </a:solidFill>
            <a:miter/>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              </a:t>
            </a:r>
            <a:r>
              <a:rPr b="1" lang="es-ES" sz="2400" spc="-1" strike="noStrike">
                <a:solidFill>
                  <a:srgbClr val="000000"/>
                </a:solidFill>
                <a:latin typeface="Calibri"/>
              </a:rPr>
              <a:t>CPCECABA</a:t>
            </a:r>
            <a:endParaRPr b="0" lang="en-US" sz="24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3º SIMPOSIO SOBRE LEGISLACIÓN </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IBUTARIA ARGENTINA</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4 y 5 DE AGOS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MISIÓN Nº 1</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Y PENAL TRIBUTARIA</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Arrepentid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Extinción de la acción pena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La Probatio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La Denuncia                   </a:t>
            </a:r>
            <a:endParaRPr b="0" lang="en-US" sz="20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                                                            </a:t>
            </a:r>
            <a:r>
              <a:rPr b="1" i="1" lang="es-ES" sz="1800" spc="-1" strike="noStrike">
                <a:solidFill>
                  <a:srgbClr val="000000"/>
                </a:solidFill>
                <a:latin typeface="Calibri"/>
              </a:rPr>
              <a:t>GRACIELA N. MANONELLA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A565-C3B4-42E9-99D1-F8CACA28AA1B}"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C080B05-C056-4235-9868-31CA0C4694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89000"/>
            <a:ext cx="8291520" cy="61927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IV. </a:t>
            </a:r>
            <a:r>
              <a:rPr b="1" lang="es-ES" sz="2000" spc="-1" strike="noStrike" u="sng">
                <a:solidFill>
                  <a:srgbClr val="000000"/>
                </a:solidFill>
                <a:uFillTx/>
                <a:latin typeface="Calibri"/>
              </a:rPr>
              <a:t>EXTINCIÓN DE LA ACCIÓN</a:t>
            </a:r>
            <a:endParaRPr b="0" lang="en-US" sz="2000" spc="-1" strike="noStrike">
              <a:solidFill>
                <a:srgbClr val="000000"/>
              </a:solidFill>
              <a:latin typeface="Calibri"/>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alibri"/>
              </a:rPr>
              <a:t>            </a:t>
            </a:r>
            <a:r>
              <a:rPr b="1" lang="es-AR" sz="1800" spc="-1" strike="noStrike" u="sng">
                <a:solidFill>
                  <a:srgbClr val="000000"/>
                </a:solidFill>
                <a:uFillTx/>
                <a:latin typeface="Calibri"/>
              </a:rPr>
              <a:t>Extinción de la acción penal por pago (Art. 16)</a:t>
            </a:r>
            <a:endParaRPr b="0" lang="en-US" sz="1800" spc="-1" strike="noStrike">
              <a:solidFill>
                <a:srgbClr val="000000"/>
              </a:solidFill>
              <a:latin typeface="Calibri"/>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3716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3716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E</a:t>
            </a:r>
            <a:r>
              <a:rPr b="0" lang="es-AR" sz="1600" spc="-1" strike="noStrike">
                <a:solidFill>
                  <a:srgbClr val="000000"/>
                </a:solidFill>
                <a:latin typeface="Calibri"/>
              </a:rPr>
              <a:t>l proyecto del PEN propone derogar la extinción de la acción penal por pago. </a:t>
            </a:r>
            <a:endParaRPr b="0" lang="en-US" sz="1600" spc="-1" strike="noStrike">
              <a:solidFill>
                <a:srgbClr val="000000"/>
              </a:solidFill>
              <a:latin typeface="Calibri"/>
            </a:endParaRPr>
          </a:p>
          <a:p>
            <a:pPr lvl="2" marL="13716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Sin embargo, la posición de la CLP es distinta ya que propone seguir con tal instituto, aunque con algunas modificaciones.</a:t>
            </a: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tal sentido, la idea es modificar el aspecto temporal para la aceptación de la liquidación o determinación de la deuda y la regularización y pago de la misma en forma incondicional y total.</a:t>
            </a: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l límite temporal para ello, en la actualidad es con anterioridad a la formulación del requerimiento fiscal de elevación a juicio, proponiéndose modificar por el plazo de 30 días de notificada la denuncia.</a:t>
            </a: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22C0A61B-075A-479C-91B8-BF685E2B8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Calibri"/>
              </a:rPr>
              <a:t>	</a:t>
            </a:r>
            <a:r>
              <a:rPr b="0" lang="es-AR" sz="6000" spc="-1" strike="noStrike">
                <a:solidFill>
                  <a:srgbClr val="000000"/>
                </a:solidFill>
                <a:latin typeface="Calibri"/>
              </a:rPr>
              <a:t>	</a:t>
            </a:r>
            <a:r>
              <a:rPr b="0" lang="es-AR" sz="3200" spc="-1" strike="noStrike">
                <a:solidFill>
                  <a:srgbClr val="000000"/>
                </a:solidFill>
                <a:latin typeface="Calibri"/>
              </a:rPr>
              <a:t> </a:t>
            </a:r>
            <a:r>
              <a:rPr b="0" lang="es-AR" sz="1600" spc="-1" strike="noStrike">
                <a:solidFill>
                  <a:srgbClr val="000000"/>
                </a:solidFill>
                <a:latin typeface="Calibri"/>
              </a:rPr>
              <a:t>Por un lado, se observa una importante reducción del límite temporal para el pago y, por el otro, que el plazo previsto está unido a la notificación de la denuncia.</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u="sng">
                <a:solidFill>
                  <a:srgbClr val="000000"/>
                </a:solidFill>
                <a:uFillTx/>
                <a:latin typeface="Calibri"/>
              </a:rPr>
              <a:t>La acción penal se extingue, tornándose inocuas tanto para promover como para proseguir el proceso, según las causales que la ley positiva establece.</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A) </a:t>
            </a:r>
            <a:r>
              <a:rPr b="1" lang="es-ES" sz="1600" spc="-1" strike="noStrike" u="sng">
                <a:solidFill>
                  <a:srgbClr val="000000"/>
                </a:solidFill>
                <a:uFillTx/>
                <a:latin typeface="Calibri"/>
              </a:rPr>
              <a:t>Generales</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1) </a:t>
            </a:r>
            <a:r>
              <a:rPr b="1" lang="es-ES" sz="1600" spc="-1" strike="noStrike" u="sng">
                <a:solidFill>
                  <a:srgbClr val="000000"/>
                </a:solidFill>
                <a:uFillTx/>
                <a:latin typeface="Calibri"/>
              </a:rPr>
              <a:t>La muerte del imputado</a:t>
            </a:r>
            <a:r>
              <a:rPr b="0" lang="es-ES" sz="1600" spc="-1" strike="noStrike">
                <a:solidFill>
                  <a:srgbClr val="000000"/>
                </a:solidFill>
                <a:latin typeface="Calibri"/>
              </a:rPr>
              <a:t> (art. 59 inc. 1º, C.P.)</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2) </a:t>
            </a:r>
            <a:r>
              <a:rPr b="1" lang="es-ES" sz="1600" spc="-1" strike="noStrike" u="sng">
                <a:solidFill>
                  <a:srgbClr val="000000"/>
                </a:solidFill>
                <a:uFillTx/>
                <a:latin typeface="Calibri"/>
              </a:rPr>
              <a:t>La amnistía</a:t>
            </a:r>
            <a:r>
              <a:rPr b="0" lang="es-ES" sz="1600" spc="-1" strike="noStrike">
                <a:solidFill>
                  <a:srgbClr val="000000"/>
                </a:solidFill>
                <a:latin typeface="Calibri"/>
              </a:rPr>
              <a:t> (art. 59, inc. 2º C. P.): es una facultad que la Constitución Nacional acuerda al Congreso (art. 75 inc. 20 CN).</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El hecho sigue siendo ilícito y existente, pero no se aplica la pena. Sigue generando responsabilidad civil por las indemnizaciones debidas a los particulares (art. 61, C. P.).</a:t>
            </a: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9BA96789-135A-4C49-BBA1-246E5CC71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r>
              <a:rPr b="0" lang="es-ES" sz="4000" spc="-1" strike="noStrike">
                <a:solidFill>
                  <a:srgbClr val="000000"/>
                </a:solidFill>
                <a:latin typeface="Calibri"/>
              </a:rPr>
              <a:t>	</a:t>
            </a:r>
            <a:r>
              <a:rPr b="0" lang="es-ES" sz="4000" spc="-1" strike="noStrike">
                <a:solidFill>
                  <a:srgbClr val="000000"/>
                </a:solidFill>
                <a:latin typeface="Calibri"/>
              </a:rPr>
              <a:t> </a:t>
            </a:r>
            <a:endParaRPr b="0" lang="en-US" sz="40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Ejemplo de lo expuesto fue la sanción de la Ley Nº 26.476 denominada “Régimen de Regularización Impositiva, Promoción y Protección del Empleo Registrado con prioridad en Pymes y Exteriorización y Repatriación de Capitales”.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ES" sz="1600" spc="-1" strike="noStrike">
                <a:solidFill>
                  <a:srgbClr val="000000"/>
                </a:solidFill>
                <a:latin typeface="Calibri"/>
              </a:rPr>
              <a:t>En la referida ley se estableció que los contribuyentes y responsables de los impuestos y de los recursos de la seguridad social, se podrán acoger por las obligaciones vencidas o infracciones cometidas al 31 de diciembre de 2007 a un régimen de regularización de deudas tributarias y de exención de intereses, multas y demás sanciones que se instituye por la ley dictada (art. 1 Ley 26.476).</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3) </a:t>
            </a:r>
            <a:r>
              <a:rPr b="1" lang="es-ES" sz="1600" spc="-1" strike="noStrike" u="sng">
                <a:solidFill>
                  <a:srgbClr val="000000"/>
                </a:solidFill>
                <a:uFillTx/>
                <a:latin typeface="Calibri"/>
              </a:rPr>
              <a:t>La prescripción</a:t>
            </a:r>
            <a:r>
              <a:rPr b="0" lang="es-ES" sz="1600" spc="-1" strike="noStrike">
                <a:solidFill>
                  <a:srgbClr val="000000"/>
                </a:solidFill>
                <a:latin typeface="Calibri"/>
              </a:rPr>
              <a:t> (art. 59, inc. 3º C.P.): el transcurso del tiempo en los términos previstos por la ley hace extinguir la acción. </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El lapso en el cual se opera la prescripción de la acción penal está fijado en el art. 62, C. P.</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Para los delitos instantáneos, se computa a partir de la medianoche del día en que se cometió, y si fuera delito continuo, desde el momento en que cesó de cometerse (art. 63 C.P.).</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A5EAF7E8-27A8-4DB4-8A7E-6A601108D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gn="just">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Calibri"/>
              </a:rPr>
              <a:t>	</a:t>
            </a:r>
            <a:r>
              <a:rPr b="0" lang="es-ES" sz="6600" spc="-1" strike="noStrike">
                <a:solidFill>
                  <a:srgbClr val="000000"/>
                </a:solidFill>
                <a:latin typeface="Calibri"/>
              </a:rPr>
              <a:t>	</a:t>
            </a:r>
            <a:r>
              <a:rPr b="0" lang="es-ES" sz="6600" spc="-1" strike="noStrike">
                <a:solidFill>
                  <a:srgbClr val="000000"/>
                </a:solidFill>
                <a:latin typeface="Calibri"/>
              </a:rPr>
              <a:t> </a:t>
            </a:r>
            <a:endParaRPr b="0" lang="en-US" sz="6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4) </a:t>
            </a:r>
            <a:r>
              <a:rPr b="1" lang="es-ES" sz="1600" spc="-1" strike="noStrike" u="sng">
                <a:solidFill>
                  <a:srgbClr val="000000"/>
                </a:solidFill>
                <a:uFillTx/>
                <a:latin typeface="Calibri"/>
              </a:rPr>
              <a:t>Cosa juzgada</a:t>
            </a:r>
            <a:r>
              <a:rPr b="0" lang="es-ES" sz="1600" spc="-1" strike="noStrike">
                <a:solidFill>
                  <a:srgbClr val="000000"/>
                </a:solidFill>
                <a:latin typeface="Calibri"/>
              </a:rPr>
              <a:t>: desde el momento mismo en que respecto del hecho y su autor haya habido sentencia firme, la pretensión punitiva no puede ser reiterad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B) </a:t>
            </a:r>
            <a:r>
              <a:rPr b="1" lang="es-ES" sz="1600" spc="-1" strike="noStrike" u="sng">
                <a:solidFill>
                  <a:srgbClr val="000000"/>
                </a:solidFill>
                <a:uFillTx/>
                <a:latin typeface="Calibri"/>
              </a:rPr>
              <a:t>Particulares</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ES" sz="1600" spc="-1" strike="noStrike">
                <a:solidFill>
                  <a:srgbClr val="000000"/>
                </a:solidFill>
                <a:latin typeface="Calibri"/>
              </a:rPr>
              <a:t>1) </a:t>
            </a:r>
            <a:r>
              <a:rPr b="1" lang="es-ES" sz="1600" spc="-1" strike="noStrike" u="sng">
                <a:solidFill>
                  <a:srgbClr val="000000"/>
                </a:solidFill>
                <a:uFillTx/>
                <a:latin typeface="Calibri"/>
              </a:rPr>
              <a:t>Renuncia del agraviado en los delitos de acción privada</a:t>
            </a:r>
            <a:r>
              <a:rPr b="0" lang="es-ES" sz="1600" spc="-1" strike="noStrike">
                <a:solidFill>
                  <a:srgbClr val="000000"/>
                </a:solidFill>
                <a:latin typeface="Calibri"/>
              </a:rPr>
              <a:t>: Sólo perjudicará al renunciante y a sus herederos (arts. 59, inc. 4º y 60 C. P.).</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ES" sz="1600" spc="-1" strike="noStrike">
                <a:solidFill>
                  <a:srgbClr val="000000"/>
                </a:solidFill>
                <a:latin typeface="Calibri"/>
              </a:rPr>
              <a:t>2) </a:t>
            </a:r>
            <a:r>
              <a:rPr b="1" lang="es-ES" sz="1600" spc="-1" strike="noStrike" u="sng">
                <a:solidFill>
                  <a:srgbClr val="000000"/>
                </a:solidFill>
                <a:uFillTx/>
                <a:latin typeface="Calibri"/>
              </a:rPr>
              <a:t>Pago voluntario del monto máximo de la pena de multa prevista como única sanción para el delito de que se trate y de las indemnizaciones a que hubiere lugar</a:t>
            </a:r>
            <a:r>
              <a:rPr b="0" lang="es-ES" sz="1600" spc="-1" strike="noStrike">
                <a:solidFill>
                  <a:srgbClr val="000000"/>
                </a:solidFill>
                <a:latin typeface="Calibri"/>
              </a:rPr>
              <a:t>: (art. 64 C. P.).</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3) </a:t>
            </a:r>
            <a:r>
              <a:rPr b="1" lang="es-ES" sz="1600" spc="-1" strike="noStrike" u="sng">
                <a:solidFill>
                  <a:srgbClr val="000000"/>
                </a:solidFill>
                <a:uFillTx/>
                <a:latin typeface="Calibri"/>
              </a:rPr>
              <a:t>Conciliación y retractación en los juicios por delitos de acción privada</a:t>
            </a:r>
            <a:r>
              <a:rPr b="0" lang="es-ES" sz="1600" spc="-1" strike="noStrike">
                <a:solidFill>
                  <a:srgbClr val="000000"/>
                </a:solidFill>
                <a:latin typeface="Calibri"/>
              </a:rPr>
              <a:t>: se trata en realidad de dos institutos diferentes; el primero es procesal penal regulado en el Código Procesal Penal de la Nación en sus arts. 424 y 425, y el otro es de esencia penal sólo para los procesos especiales de acción privada, siendo los delitos contra el honor (art. 111 C. P.).</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4D32D27D-470A-4A8E-BA9F-B4937996C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En la actual Ley 24.769, su art. 16 establece que en los casos de los arts. 1º y 7º, la acción penal se extinguirá si el obligado acepta la liquidación o la determinación realizada por el organismo recaudador, pagando el monto de la misma en forma incondicional y total.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Esta aceptación la deberá hacer antes de formularse el requerimiento fiscal de elevación a juicio.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El beneficio se otorgará por única vez por cada persona física o de existencia ideal obligad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Ahora bien, según el Proyecto del Poder Ejecutivo (Mensaje 379), la extinción de la acción se derog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En cambio, por el Dictamen de las Comisiones tanto mayoría como minoría, se mantiene pero con modificaciones.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Se incluyen los supuestos de evasión fiscal agravada (art. 2) y evasión previsional (art. 8).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Se modifica el aspecto temporal para la aceptación de la liquidación o determinación de la deud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La regularización y pago de la misma en forma incondicional y total, debe ser dentro de los 30 días de notificada la denunci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El beneficio sigue siendo por única vez.</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C2163590-6B92-4766-82FA-F471D109CE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88640"/>
            <a:ext cx="8229600" cy="61196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	</a:t>
            </a:r>
            <a:r>
              <a:rPr b="1" lang="es-AR" sz="2000" spc="-1" strike="noStrike">
                <a:solidFill>
                  <a:srgbClr val="000000"/>
                </a:solidFill>
                <a:latin typeface="Calibri"/>
              </a:rPr>
              <a:t>	</a:t>
            </a:r>
            <a:endParaRPr b="0" lang="en-US" sz="2000" spc="-1" strike="noStrike">
              <a:solidFill>
                <a:srgbClr val="000000"/>
              </a:solidFill>
              <a:latin typeface="Calibri"/>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                 </a:t>
            </a:r>
            <a:r>
              <a:rPr b="1" lang="es-AR" sz="2000" spc="-1" strike="noStrike">
                <a:solidFill>
                  <a:srgbClr val="000000"/>
                </a:solidFill>
                <a:latin typeface="Calibri"/>
              </a:rPr>
              <a:t>V. </a:t>
            </a:r>
            <a:r>
              <a:rPr b="1" lang="es-AR" sz="2000" spc="-1" strike="noStrike" u="sng">
                <a:solidFill>
                  <a:srgbClr val="000000"/>
                </a:solidFill>
                <a:uFillTx/>
                <a:latin typeface="Calibri"/>
              </a:rPr>
              <a:t>PROBATION</a:t>
            </a:r>
            <a:endParaRPr b="0" lang="en-US" sz="2000" spc="-1" strike="noStrike">
              <a:solidFill>
                <a:srgbClr val="000000"/>
              </a:solidFill>
              <a:latin typeface="Calibri"/>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Calibri"/>
              </a:rPr>
              <a:t>      </a:t>
            </a:r>
            <a:endParaRPr b="0" lang="en-US" sz="2000" spc="-1" strike="noStrike">
              <a:solidFill>
                <a:srgbClr val="000000"/>
              </a:solidFill>
              <a:latin typeface="Calibri"/>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                   </a:t>
            </a:r>
            <a:r>
              <a:rPr b="1" lang="es-AR" sz="1800" spc="-1" strike="noStrike" u="sng">
                <a:solidFill>
                  <a:srgbClr val="000000"/>
                </a:solidFill>
                <a:uFillTx/>
                <a:latin typeface="Calibri"/>
              </a:rPr>
              <a:t>LA PROBATION Y SU APLICACIÓN EN MATERIA PENAL TRIBUTARIA</a:t>
            </a:r>
            <a:endParaRPr b="0" lang="en-US" sz="1800" spc="-1" strike="noStrike">
              <a:solidFill>
                <a:srgbClr val="000000"/>
              </a:solidFill>
              <a:latin typeface="Calibri"/>
            </a:endParaRPr>
          </a:p>
          <a:p>
            <a:pPr lvl="1" marL="99072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Calibri"/>
            </a:endParaRPr>
          </a:p>
          <a:p>
            <a:pPr lvl="1" marL="9907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lvl="1" marL="9907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relación a este tema, la CLP tiene un criterio distinto al proyecto del PEN que, en esta materia, propone derogar la aplicación de la probation en el régimen penal tributario.</a:t>
            </a:r>
            <a:endParaRPr b="0" lang="en-US" sz="1600" spc="-1" strike="noStrike">
              <a:solidFill>
                <a:srgbClr val="000000"/>
              </a:solidFill>
              <a:latin typeface="Calibri"/>
            </a:endParaRPr>
          </a:p>
          <a:p>
            <a:pPr lvl="1" marL="9907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La CLP de la CD, tiene el criterio de no derogar la aplicación de la probation en esta materia, pero si, establece requisitos adicionales para su procedencia.</a:t>
            </a:r>
            <a:endParaRPr b="0" lang="en-US" sz="1600" spc="-1" strike="noStrike">
              <a:solidFill>
                <a:srgbClr val="000000"/>
              </a:solidFill>
              <a:latin typeface="Calibri"/>
            </a:endParaRPr>
          </a:p>
          <a:p>
            <a:pPr lvl="1" marL="99072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tal sentido, la procedencia de la aplicación de la probation, se supedita a la aceptación de la liquidación o determinación realizada por el organismo recaudador, la regularización de la situación impositiva y el pago del monto de la deuda en forma incondicional y total.</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La “probation” o “suspensión de juicio a prueba” es el instituto de derecho      material por el cual un individuo, imputado en un delito de acción pública, bloquea una posible condena, mediante una solicitud de reparar el daño causado, en la medida de sus posibilidades, sometiéndose a normas de conductas establecidas.</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stá legislado en el Código Penal, de forma que el imputado de un delito de acción pública reprimido con pena de reclusión o prisión cuyo máximo no exceda de 3 años, podrá solicitar la suspensión del juicio a prueba.</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EAE8FF53-0E4D-4B22-BB70-57EEB7E9A8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333000"/>
            <a:ext cx="8229600" cy="57927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Calibri"/>
              </a:rPr>
              <a:t>	</a:t>
            </a:r>
            <a:r>
              <a:rPr b="0" lang="es-AR" sz="900" spc="-1" strike="noStrike">
                <a:solidFill>
                  <a:srgbClr val="000000"/>
                </a:solidFill>
                <a:latin typeface="Calibri"/>
              </a:rPr>
              <a:t>	</a:t>
            </a:r>
            <a:endParaRPr b="0" lang="en-US" sz="900" spc="-1" strike="noStrike">
              <a:solidFill>
                <a:srgbClr val="000000"/>
              </a:solidFill>
              <a:latin typeface="Calibri"/>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Respecto del límite temporal como impedimento para su aplicación en materia penal tributaria, es de destacar el plenario “Kosuta” que estableció que la pena sobre la que debe examinarse la procedencia del instituto es que en su máximo en abstracto no exceda de tres años.</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Sin embargo, la doctrina de este plenario fue dejada sin efecto por la CSN en la causa “Acosta”, que estableció que el criterio que limita el beneficio a los delitos con una pena cuyo máximo no supere los tres años se funda en una exégenesis irrazonable que no armoniza con los principios básicos, consagrando una interpretación extensiva de la punibilidad y negando un derecho que la propia ley reconoce.</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alibri"/>
              </a:rPr>
              <a:t>             </a:t>
            </a:r>
            <a:r>
              <a:rPr b="0" lang="es-AR" sz="1600" spc="-1" strike="noStrike">
                <a:solidFill>
                  <a:srgbClr val="000000"/>
                </a:solidFill>
                <a:latin typeface="Calibri"/>
              </a:rPr>
              <a:t>Si bien la sentencia “Acosta” de la CSN no se expidió sobre la procedencia del instituto respecto de los ilícitos tributarios, de sus argumentos se obtiene una regla interpretativa que sirve para determinar su alcance en casos de conflictos normativos.</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u="sng">
                <a:solidFill>
                  <a:srgbClr val="000000"/>
                </a:solidFill>
                <a:uFillTx/>
                <a:latin typeface="Calibri"/>
              </a:rPr>
              <a:t>Por lo tanto, es posible concluir en el sentido que el límite temporal no constituye en la actualidad un impedimento para aplicar la probation en materia penal tributaria</a:t>
            </a:r>
            <a:r>
              <a:rPr b="0" lang="es-AR" sz="1600" spc="-1" strike="noStrike">
                <a:solidFill>
                  <a:srgbClr val="000000"/>
                </a:solidFill>
                <a:latin typeface="Calibri"/>
              </a:rPr>
              <a:t>.</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En segundo lugar, debemos plantearnos la restante cuestión, en relación a lo previsto por el Art. 10 de la ley 24316, en cuanto a que sus disposiciones </a:t>
            </a:r>
            <a:r>
              <a:rPr b="0" lang="es-AR" sz="1600" spc="-1" strike="noStrike" u="sng">
                <a:solidFill>
                  <a:srgbClr val="000000"/>
                </a:solidFill>
                <a:uFillTx/>
                <a:latin typeface="Calibri"/>
              </a:rPr>
              <a:t>no alterarán</a:t>
            </a:r>
            <a:r>
              <a:rPr b="0" lang="es-AR" sz="1600" spc="-1" strike="noStrike">
                <a:solidFill>
                  <a:srgbClr val="000000"/>
                </a:solidFill>
                <a:latin typeface="Calibri"/>
              </a:rPr>
              <a:t> los regímenes especiales dispuestos por la LPT. </a:t>
            </a:r>
            <a:endParaRPr b="0" lang="en-US" sz="16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	</a:t>
            </a:r>
            <a:r>
              <a:rPr b="0" lang="es-A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
        <p:nvSpPr>
          <p:cNvPr id="3" name="PlaceHolder 2"/>
          <p:cNvSpPr>
            <a:spLocks noGrp="1"/>
          </p:cNvSpPr>
          <p:nvPr>
            <p:ph type="sldNum" idx="3"/>
          </p:nvPr>
        </p:nvSpPr>
        <p:spPr/>
        <p:txBody>
          <a:bodyPr/>
          <a:p>
            <a:fld id="{C956B72E-D761-49B5-BB0B-6154EAE79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Respecto de la tesis sobre la no aplicabilidad del instituto, hubo causas, a través de las cuales se denegó la concesión de la probation, en el caso de los delitos tributarios, ya que la exclusión del Art. 10 de la ley 24316 establece que es incompatible con la ley penal tributaria.</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En forma contraria, está la tesis a favor de la aplicación del instituto en otras causas, en los que se hace lugar a la probation, ya que el Art. 10 de la ley 24316 no excluye la aplicación de tal instituto a los delitos tributarios, sino que únicamente aclara que ello no es óbice para que la extinción penal opere por el pago.</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llo, pues ante la falta de una prohibición expresa sobre la inaplicabilidad de la probation a los delitos tributarios, no se puede efectuar una interpretación analógica a fin de excluir a dichos delitos de la aplicación de tal instituto.</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Una solución opuesta, vulneraría el derecho a la igualdad, pues ninguna razón de política criminal justifica que se dispense un trato diferenciado que no esté expresamente previsto en la ley, en lo atinente a la concesión del beneficio.</a:t>
            </a:r>
            <a:endParaRPr b="0" lang="en-US" sz="1600" spc="-1" strike="noStrike">
              <a:solidFill>
                <a:srgbClr val="000000"/>
              </a:solidFill>
              <a:latin typeface="Calibri"/>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7A39511E-A49C-40A2-B4A8-C77B34810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just">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000000"/>
                </a:solidFill>
                <a:latin typeface="Calibri"/>
              </a:rPr>
              <a:t>	</a:t>
            </a:r>
            <a:r>
              <a:rPr b="1" lang="es-AR" sz="5400" spc="-1" strike="noStrike">
                <a:solidFill>
                  <a:srgbClr val="000000"/>
                </a:solidFill>
                <a:latin typeface="Calibri"/>
              </a:rPr>
              <a:t>	</a:t>
            </a:r>
            <a:endParaRPr b="0" lang="en-US" sz="54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                      </a:t>
            </a:r>
            <a:r>
              <a:rPr b="0" lang="es-AR" sz="1600" spc="-1" strike="noStrike">
                <a:solidFill>
                  <a:srgbClr val="000000"/>
                </a:solidFill>
                <a:latin typeface="Calibri"/>
              </a:rPr>
              <a:t>La ley 24.316/94 introdujo en el Código Penal quizá la reforma más trascendente desde 1922; la creación de los institutos del Tratamiento a Prueba (art. 27 Post Sentencia) y de la Suspensión del Proceso (art. 27 bis y art. 76 bis, ter y quater, artículo 64 e inc. e), f) y g) del art. 2 de la ley 22.117).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l objeto del tratamiento a prueba y de la suspensión del proceso, por medio de un tratamiento psicosocial y educativo e individualizado, es que el condenado o imputado advierta las consecuencias de su conducta delictiva y que bajo la guía de equipos profesionales especializados pueda revertirla.</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xisten requisitos </a:t>
            </a:r>
            <a:r>
              <a:rPr b="1" lang="es-AR" sz="1600" spc="-1" strike="noStrike">
                <a:solidFill>
                  <a:srgbClr val="000000"/>
                </a:solidFill>
                <a:latin typeface="Calibri"/>
              </a:rPr>
              <a:t>objetivos</a:t>
            </a:r>
            <a:r>
              <a:rPr b="0" lang="es-AR" sz="1600" spc="-1" strike="noStrike">
                <a:solidFill>
                  <a:srgbClr val="000000"/>
                </a:solidFill>
                <a:latin typeface="Calibri"/>
              </a:rPr>
              <a:t> para otorgar el beneficio: primer delito y delito menor.</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Los requisitos </a:t>
            </a:r>
            <a:r>
              <a:rPr b="1" lang="es-AR" sz="1600" spc="-1" strike="noStrike">
                <a:solidFill>
                  <a:srgbClr val="000000"/>
                </a:solidFill>
                <a:latin typeface="Calibri"/>
              </a:rPr>
              <a:t>subjetivos</a:t>
            </a:r>
            <a:r>
              <a:rPr b="0" lang="es-AR" sz="1600" spc="-1" strike="noStrike">
                <a:solidFill>
                  <a:srgbClr val="000000"/>
                </a:solidFill>
                <a:latin typeface="Calibri"/>
              </a:rPr>
              <a:t> también están en el Código (art. 26) y se refieren a la personalidad del justiciable, a la naturaleza del hecho y a las circunstancias que lo han rodeado.</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Destacamos que en la actualidad esta figura no existe en ningún artículo de la Ley Penal Tributaria, si bien en la práctica se aplica.</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el Proyecto del Poder Ejecutivo se deroga.</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	</a:t>
            </a:r>
            <a:r>
              <a:rPr b="0" lang="es-AR" sz="3200" spc="-1" strike="noStrike">
                <a:solidFill>
                  <a:srgbClr val="000000"/>
                </a:solidFill>
                <a:latin typeface="Calibri"/>
              </a:rPr>
              <a:t>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5D0577A-A62A-4063-952E-314DEB9F7F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el Dictamen de las Comisiones tanto mayoría como minoría, no se deroga, se establecen requisitos. Ellos son:</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1.  La aceptación por parte del imputado de la liquidación o determinación realizada por el organismo recaudador.</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2.  Regularización de la situación impositiva.</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3.  Pago del monto de la deuda en forma incondicional y total.</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60DEC27D-7AEC-46E7-BBE8-EC35EC8332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500040" y="500040"/>
            <a:ext cx="8215200" cy="5857920"/>
          </a:xfrm>
          <a:prstGeom prst="rect">
            <a:avLst/>
          </a:prstGeom>
          <a:noFill/>
          <a:ln w="9360">
            <a:solidFill>
              <a:srgbClr val="000000"/>
            </a:solidFill>
            <a:miter/>
          </a:ln>
        </p:spPr>
        <p:txBody>
          <a:bodyPr anchor="t">
            <a:noAutofit/>
          </a:bodyPr>
          <a:p>
            <a:pPr algn="just">
              <a:lnSpc>
                <a:spcPct val="8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300" spc="-1" strike="noStrike">
                <a:solidFill>
                  <a:srgbClr val="000000"/>
                </a:solidFill>
                <a:latin typeface="Calibri"/>
              </a:rPr>
              <a:t>      </a:t>
            </a:r>
            <a:endParaRPr b="0" lang="en-US" sz="63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             </a:t>
            </a:r>
            <a:r>
              <a:rPr b="1" lang="es-ES" sz="2400" spc="-1" strike="noStrike">
                <a:solidFill>
                  <a:srgbClr val="000000"/>
                </a:solidFill>
                <a:latin typeface="Calibri"/>
              </a:rPr>
              <a:t>I.   </a:t>
            </a:r>
            <a:r>
              <a:rPr b="1" lang="es-ES" sz="2400" spc="-1" strike="noStrike" u="sng">
                <a:solidFill>
                  <a:srgbClr val="000000"/>
                </a:solidFill>
                <a:uFillTx/>
                <a:latin typeface="Calibri"/>
              </a:rPr>
              <a:t>INTRODUCCIÓN</a:t>
            </a:r>
            <a:endParaRPr b="0" lang="en-US" sz="24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endParaRPr b="0" lang="en-US" sz="28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                 </a:t>
            </a:r>
            <a:r>
              <a:rPr b="0" lang="es-AR" sz="1600" spc="-1" strike="noStrike">
                <a:solidFill>
                  <a:srgbClr val="000000"/>
                </a:solidFill>
                <a:latin typeface="Calibri"/>
              </a:rPr>
              <a:t>El régimen penal tributario vigente en nuestro país hace más de 20 años, a partir del dictado de la ley 23771 (año 1990) y luego con la ley 24769 (1997), nos hace reflexionar sobre una serie de modificaciones que deberían introducirse. </a:t>
            </a:r>
            <a:r>
              <a:rPr b="0" lang="es-ES" sz="1600" spc="-1" strike="noStrike">
                <a:solidFill>
                  <a:srgbClr val="000000"/>
                </a:solidFill>
                <a:latin typeface="Calibri"/>
              </a:rPr>
              <a:t>Las Comisiones de Legislación Penal y de Presupuesto y Hacienda han considerado el Mensaje y Proyecto de Ley sobre Régimen Penal Tributario (Ley 24.769 y modificatorias) sobre sanciones a la evasión del pago de tributos al Fisco Nacional y modificaciones al Código Penal. </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Notable cambio de la realidad social acaecido en la segunda mitad del siglo XX, abarcativo de todos los sectores. </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La simple actividad delictiva, ha sido superada ampliamente en muchos casos por lo que ha dado en llamarse “Delincuencia Asociada Organizada”.</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Grupos humanos muy organizados, con fuerte poder económico y hasta político. Ejemplo: narcocriminalidad, delitos del terrorismo, evasiones-estafas y defraudaciones fiscales.</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Este gran cambio ha llevado al Estado moderno, a aceptar la creación del agente encubierto, el sujeto delincuente arrepentido, el delito vigilado, el informante o el testigo protegido.</a:t>
            </a:r>
            <a:endParaRPr b="0" lang="en-US" sz="16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                </a:t>
            </a:r>
            <a:r>
              <a:rPr b="0" lang="es-ES" sz="3600" spc="-1" strike="noStrike">
                <a:solidFill>
                  <a:srgbClr val="000000"/>
                </a:solidFill>
                <a:latin typeface="Calibri"/>
              </a:rPr>
              <a:t>	</a:t>
            </a:r>
            <a:endParaRPr b="0" lang="en-US" sz="3600" spc="-1" strike="noStrike">
              <a:solidFill>
                <a:srgbClr val="000000"/>
              </a:solidFill>
              <a:latin typeface="Calibri"/>
            </a:endParaRPr>
          </a:p>
        </p:txBody>
      </p:sp>
      <p:sp>
        <p:nvSpPr>
          <p:cNvPr id="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D8A3-90B6-4EA1-9095-2D886BC965C3}"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2E875A4-EA23-4934-A3E1-C0EE87271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lvl="1" marL="74304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500" spc="-1" strike="noStrike">
                <a:solidFill>
                  <a:srgbClr val="000000"/>
                </a:solidFill>
                <a:latin typeface="Calibri"/>
              </a:rPr>
              <a:t>	</a:t>
            </a:r>
            <a:r>
              <a:rPr b="1" lang="es-AR" sz="5500" spc="-1" strike="noStrike">
                <a:solidFill>
                  <a:srgbClr val="000000"/>
                </a:solidFill>
                <a:latin typeface="Calibri"/>
              </a:rPr>
              <a:t>	</a:t>
            </a:r>
            <a:endParaRPr b="0" lang="en-US" sz="55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        </a:t>
            </a:r>
            <a:r>
              <a:rPr b="1" lang="es-AR" sz="2000" spc="-1" strike="noStrike">
                <a:solidFill>
                  <a:srgbClr val="000000"/>
                </a:solidFill>
                <a:latin typeface="Calibri"/>
              </a:rPr>
              <a:t>VI. </a:t>
            </a:r>
            <a:r>
              <a:rPr b="1" lang="es-AR" sz="2000" spc="-1" strike="noStrike" u="sng">
                <a:solidFill>
                  <a:srgbClr val="000000"/>
                </a:solidFill>
                <a:uFillTx/>
                <a:latin typeface="Calibri"/>
              </a:rPr>
              <a:t>DENUNCIA</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el actual art. 18 de la Ley Penal Tributaria, su párrafo 3º establece que cuando la denuncia penal fuere formulada por un tercero, el juez remitirá los antecedentes al organismo recaudador que corresponda a fin que inmediatamente dé comienzo al procedimiento de verificación y determinación de la deuda.</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En este caso, el organismo recaudador deberá emitir el acto administrativo en un plazo de 90 días hábiles administrativos, prorrogables a requerimiento fundado de dicho organismo.</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En la actualidad, según el Proyecto del Poder Ejecutivo (Mensaje 379) se extiende el plazo a 120 días.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El Dictamen de las Comisiones, tanto la mayoría como la minoría, concuerdan con dicho plazo.</a:t>
            </a: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Calibri"/>
              </a:rPr>
              <a:t>Denuncia penal (Art. 19)</a:t>
            </a: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Se propone derogar el Art. 19, referido a las denuncias penales, dejándose sin efecto la norma legal que establece el supuesto de no formulación de denuncia y la comunicación al Procurador del Tesoro de la Nación.</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FF7CC3A6-C03B-4501-B3E4-108992E87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	</a:t>
            </a:r>
            <a:r>
              <a:rPr b="0" lang="es-AR" sz="3200" spc="-1" strike="noStrike">
                <a:solidFill>
                  <a:srgbClr val="000000"/>
                </a:solidFill>
                <a:latin typeface="Calibri"/>
              </a:rPr>
              <a:t>	</a:t>
            </a:r>
            <a:endParaRPr b="0" lang="en-US" sz="32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De esta manera, se equipara la obligación de la denuncia a la de los demás funcionarios públicos del Estado Nacional, en cuanto tomen conocimiento de hechos ilícitos.</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Un sector de la doctrina ha considerado que mediante tal modificación propuesta por el PEN, se evita que los funcionarios del organismo recaudador puedan abstenerse de denunciar un hecho y por lo tanto, todo caso de evasión que supere los montos, tendrá que remitirse a la justicia penal, por más que el Fisco considere que no hay delito.</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Desde nuestro punto de vista, la derogación del Art. 19 de la LPT, implica que en tal caso se ha equiparado la situación a los supuestos generales y como el funcionario público debe efectuar la denuncia penal al tomar conocimiento de un delito, nada deberá hacer cuando no tenga la convicción administrativa de tal situación.</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Calibri"/>
              </a:rPr>
              <a:t>Procedimientos administrativos y judiciales (Art. 20)</a:t>
            </a:r>
            <a:endParaRPr b="0" lang="en-US" sz="1600" spc="-1" strike="noStrike">
              <a:solidFill>
                <a:srgbClr val="000000"/>
              </a:solidFill>
              <a:latin typeface="Calibri"/>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Se propone modificar el texto legal de manera que la formulación de la denuncia penal </a:t>
            </a:r>
            <a:r>
              <a:rPr b="0" lang="es-AR" sz="1600" spc="-1" strike="noStrike" u="sng">
                <a:solidFill>
                  <a:srgbClr val="000000"/>
                </a:solidFill>
                <a:uFillTx/>
                <a:latin typeface="Calibri"/>
              </a:rPr>
              <a:t>no suspende</a:t>
            </a:r>
            <a:r>
              <a:rPr b="0" lang="es-AR" sz="1600" spc="-1" strike="noStrike">
                <a:solidFill>
                  <a:srgbClr val="000000"/>
                </a:solidFill>
                <a:latin typeface="Calibri"/>
              </a:rPr>
              <a:t> ni impide la sustanciación y </a:t>
            </a:r>
            <a:r>
              <a:rPr b="0" lang="es-AR" sz="1600" spc="-1" strike="noStrike" u="sng">
                <a:solidFill>
                  <a:srgbClr val="000000"/>
                </a:solidFill>
                <a:uFillTx/>
                <a:latin typeface="Calibri"/>
              </a:rPr>
              <a:t>resolución</a:t>
            </a:r>
            <a:r>
              <a:rPr b="0" lang="es-AR" sz="1600" spc="-1" strike="noStrike">
                <a:solidFill>
                  <a:srgbClr val="000000"/>
                </a:solidFill>
                <a:latin typeface="Calibri"/>
              </a:rPr>
              <a:t> de los procedimientos administrativos, con la intención de diferenciar en forma expresa el hecho imponible del hecho punible.</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	</a:t>
            </a:r>
            <a:r>
              <a:rPr b="0" lang="es-AR" sz="3200" spc="-1" strike="noStrike">
                <a:solidFill>
                  <a:srgbClr val="000000"/>
                </a:solidFill>
                <a:latin typeface="Calibri"/>
              </a:rPr>
              <a:t>	</a:t>
            </a: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4A31027-31CF-49A3-8FE4-18189D7BD8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VII. </a:t>
            </a:r>
            <a:r>
              <a:rPr b="1" lang="es-ES" sz="2000" spc="-1" strike="noStrike" u="sng">
                <a:solidFill>
                  <a:srgbClr val="000000"/>
                </a:solidFill>
                <a:uFillTx/>
                <a:latin typeface="Calibri"/>
              </a:rPr>
              <a:t>LA UTILIZACION Y POSIBLE IDONEIDAD DE LAS NUEVAS TÉCNICAS INVESTIGATIVAS EN LOS DELITOS TRIBUTARIOS.</a:t>
            </a:r>
            <a:endParaRPr b="0" lang="en-US" sz="20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Calibri"/>
              </a:rPr>
              <a:t>      </a:t>
            </a:r>
            <a:r>
              <a:rPr b="0" lang="es-AR" sz="1600" spc="-1" strike="noStrike">
                <a:solidFill>
                  <a:srgbClr val="000000"/>
                </a:solidFill>
                <a:latin typeface="Calibri"/>
              </a:rPr>
              <a:t>El Estado en algunos casos ha confesado hallarse impotente para combatir algunos delitos con los métodos tradicionales. Ello vio germinar la introducción de nuevos institutos que se tradujeran en lo que hoy se denomina "derecho premial“.</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Se define como el conjunto de normas que regulan la actuación de quienes colaboraron con las investigaciones criminales revelando datos de interés para desbaratar organizaciones mafiosas.</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Pero llevado al campo del proceso, para algunos se desestabiliza la relación causal entre delito y pena variando el lógico desarrollo procesal.</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Otros consideran que los arrepentidos o "testigos corona" germinan una armonía aparente en el proceso plagada de un alto costo para el derecho de defens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116E4773-BEA8-4135-847E-8AC1B839E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Calibri"/>
              </a:rPr>
              <a:t>	</a:t>
            </a:r>
            <a:endParaRPr b="0" lang="en-US" sz="60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Otros autores rechazan estas objeciones señalando que la adopción del instituto permite el descubrimiento de estos delitos, que no es posible concebir a la negociación como una suerte de tortura moderna sino de indicarle al imputado un criterio utilitario y, en cuanto a la elección de la pena menor, es un álea que debe afrontar producto de un debate oral.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ES" sz="1600" spc="-1" strike="noStrike">
                <a:solidFill>
                  <a:srgbClr val="000000"/>
                </a:solidFill>
                <a:latin typeface="Calibri"/>
              </a:rPr>
              <a:t>Se concluye que el instituto sería de gran utilidad para la sociedad en lo atingente a delitos de difícil prueba.</a:t>
            </a:r>
            <a:r>
              <a:rPr b="0" lang="es-C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Calibri"/>
              </a:rPr>
              <a:t>	</a:t>
            </a:r>
            <a:r>
              <a:rPr b="0" lang="es-CR" sz="1600" spc="-1" strike="noStrike">
                <a:solidFill>
                  <a:srgbClr val="000000"/>
                </a:solidFill>
                <a:latin typeface="Calibri"/>
              </a:rPr>
              <a:t>	</a:t>
            </a:r>
            <a:r>
              <a:rPr b="0" lang="es-CR" sz="1600" spc="-1" strike="noStrike">
                <a:solidFill>
                  <a:srgbClr val="000000"/>
                </a:solidFill>
                <a:latin typeface="Calibri"/>
              </a:rPr>
              <a:t>Concordamos con aquellos que sostienen que la pena debe ser el producto de un proceso sano y garantista.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1A627CEA-F9C2-44D9-8CEF-C1143DE4E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404640"/>
            <a:ext cx="8229600" cy="6080400"/>
          </a:xfrm>
          <a:prstGeom prst="rect">
            <a:avLst/>
          </a:prstGeom>
          <a:noFill/>
          <a:ln w="0">
            <a:noFill/>
          </a:ln>
        </p:spPr>
        <p:txBody>
          <a:bodyPr lIns="90000" rIns="90000" tIns="46800" bIns="46800" anchor="t">
            <a:normAutofit/>
          </a:bodyPr>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7200" spc="-1" strike="noStrike">
                <a:solidFill>
                  <a:srgbClr val="000000"/>
                </a:solidFill>
                <a:latin typeface="Calibri"/>
              </a:rPr>
              <a:t>	</a:t>
            </a:r>
            <a:r>
              <a:rPr b="1" lang="es-AR" sz="1600" spc="-1" strike="noStrike">
                <a:solidFill>
                  <a:srgbClr val="000000"/>
                </a:solidFill>
                <a:latin typeface="Calibri"/>
              </a:rPr>
              <a:t> </a:t>
            </a:r>
            <a:endParaRPr b="0" lang="en-US" sz="1600" spc="-1" strike="noStrike">
              <a:solidFill>
                <a:srgbClr val="000000"/>
              </a:solidFill>
              <a:latin typeface="Calibri"/>
            </a:endParaRPr>
          </a:p>
          <a:p>
            <a:pPr marL="81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Calibri"/>
              </a:rPr>
              <a:t>                  </a:t>
            </a:r>
            <a:r>
              <a:rPr b="1" lang="es-AR" sz="2000" spc="-1" strike="noStrike">
                <a:solidFill>
                  <a:srgbClr val="000000"/>
                </a:solidFill>
                <a:latin typeface="Calibri"/>
              </a:rPr>
              <a:t>VIII.</a:t>
            </a:r>
            <a:r>
              <a:rPr b="1" lang="es-AR" sz="2000" spc="-1" strike="noStrike" u="sng">
                <a:solidFill>
                  <a:srgbClr val="000000"/>
                </a:solidFill>
                <a:uFillTx/>
                <a:latin typeface="Calibri"/>
              </a:rPr>
              <a:t> CONCLUSIONES FINALES </a:t>
            </a:r>
            <a:endParaRPr b="0" lang="en-US" sz="2000" spc="-1" strike="noStrike">
              <a:solidFill>
                <a:srgbClr val="000000"/>
              </a:solidFill>
              <a:latin typeface="Calibri"/>
            </a:endParaRPr>
          </a:p>
          <a:p>
            <a:pPr marL="81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alibri"/>
            </a:endParaRPr>
          </a:p>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Sin duda las nuevas tecnologías de control e investigación del delito modificaron las reglas tradicionales de acreditación de los hechos con un  concepto y contenido distinto de los medios de prueba.            </a:t>
            </a:r>
            <a:endParaRPr b="0" lang="en-US" sz="1600" spc="-1" strike="noStrike">
              <a:solidFill>
                <a:srgbClr val="000000"/>
              </a:solidFill>
              <a:latin typeface="Calibri"/>
            </a:endParaRPr>
          </a:p>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Consideramos que son necesarias decisiones legislativas complementarias que atiendan al conflicto entre el interés estatal de persecución de delitos y la magnitud de la injerencia sobre la intimidad. </a:t>
            </a:r>
            <a:endParaRPr b="0" lang="en-US" sz="1600" spc="-1" strike="noStrike">
              <a:solidFill>
                <a:srgbClr val="000000"/>
              </a:solidFill>
              <a:latin typeface="Calibri"/>
            </a:endParaRPr>
          </a:p>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Frente a todo lo expuesto debe primar el respeto por las garantías constitucionales. Es decir, que si estas modernas técnicas son reguladas legislativamente y su práctica no choca con dichas garantías, estamos de acuerdo en su incorporación.</a:t>
            </a:r>
            <a:endParaRPr b="0" lang="en-US" sz="1600" spc="-1" strike="noStrike">
              <a:solidFill>
                <a:srgbClr val="000000"/>
              </a:solidFill>
              <a:latin typeface="Calibri"/>
            </a:endParaRPr>
          </a:p>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Ahora bien, no podemos dejar de señalar que el estudio de todo tema -y en el caso que nos ocupa el delito tributario- debe siempre empezarse por el principio. Por ello hacemos votos por una prevención delictual con programas adecuados, ello sin duda nos llevará a resultados valiosos para vivir en un estado democrático.</a:t>
            </a:r>
            <a:endParaRPr b="0" lang="en-US" sz="1600" spc="-1" strike="noStrike">
              <a:solidFill>
                <a:srgbClr val="000000"/>
              </a:solidFill>
              <a:latin typeface="Calibri"/>
            </a:endParaRPr>
          </a:p>
          <a:p>
            <a:pPr marL="812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DF96334C-C033-458C-9394-75613C76D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GRACIAS POR SU </a:t>
            </a:r>
            <a:endParaRPr b="0" lang="en-US" sz="4400" spc="-1" strike="noStrike">
              <a:solidFill>
                <a:srgbClr val="000000"/>
              </a:solidFill>
              <a:latin typeface="Calibri"/>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Calibri"/>
              </a:rPr>
              <a:t>ATENCIÓN</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67B2A5F6-42C4-45E2-BD51-2005961BAC63}"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57200" y="500040"/>
            <a:ext cx="8229600" cy="5626080"/>
          </a:xfrm>
          <a:prstGeom prst="rect">
            <a:avLst/>
          </a:prstGeom>
          <a:noFill/>
          <a:ln w="9360">
            <a:solidFill>
              <a:srgbClr val="0000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1" lang="es-ES" sz="2000" spc="-1" strike="noStrike">
                <a:solidFill>
                  <a:srgbClr val="000000"/>
                </a:solidFill>
                <a:latin typeface="Calibri"/>
              </a:rPr>
              <a:t>II.</a:t>
            </a:r>
            <a:r>
              <a:rPr b="0" lang="es-ES" sz="2000" spc="-1" strike="noStrike">
                <a:solidFill>
                  <a:srgbClr val="000000"/>
                </a:solidFill>
                <a:latin typeface="Calibri"/>
              </a:rPr>
              <a:t> </a:t>
            </a:r>
            <a:r>
              <a:rPr b="1" lang="es-ES" sz="2000" spc="-1" strike="noStrike" u="sng">
                <a:solidFill>
                  <a:srgbClr val="000000"/>
                </a:solidFill>
                <a:uFillTx/>
                <a:latin typeface="Calibri"/>
              </a:rPr>
              <a:t>NUEVAS TÉCNICAS INVESTIGATIVA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Previo a la sanción de la ley 24.424/95 hubo una serie de proyectos de ley que proponían extender las técnicas investigativas para la lucha contra el narcotráfico a todos los delitos del Código Penal. Finalmente estos proyectos no prosperaron pero quedaron como antecedentes que pueden ser reflotados en un nuevo tiempo.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Según el art. 206 </a:t>
            </a:r>
            <a:r>
              <a:rPr b="0" lang="es-ES" sz="1400" spc="-1" strike="noStrike">
                <a:solidFill>
                  <a:srgbClr val="000000"/>
                </a:solidFill>
                <a:latin typeface="Calibri"/>
              </a:rPr>
              <a:t>[1]</a:t>
            </a:r>
            <a:r>
              <a:rPr b="0" lang="es-ES" sz="1600" spc="-1" strike="noStrike">
                <a:solidFill>
                  <a:srgbClr val="000000"/>
                </a:solidFill>
                <a:latin typeface="Calibri"/>
              </a:rPr>
              <a:t> del Código Procesal Penal de la Nación, el juez puede autorizar distintos medios probatorios para llegar a la verdad en la medida en que estos fueran lícitos. </a:t>
            </a:r>
            <a:endParaRPr b="0" lang="en-US" sz="16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0" lang="es-ES" sz="1400" spc="-1" strike="noStrike">
                <a:solidFill>
                  <a:srgbClr val="000000"/>
                </a:solidFill>
                <a:latin typeface="Calibri"/>
              </a:rPr>
              <a:t>	</a:t>
            </a:r>
            <a:endParaRPr b="0" lang="en-US" sz="1400" spc="-1" strike="noStrike">
              <a:solidFill>
                <a:srgbClr val="000000"/>
              </a:solidFill>
              <a:latin typeface="Calibri"/>
            </a:endParaRPr>
          </a:p>
        </p:txBody>
      </p:sp>
      <p:sp>
        <p:nvSpPr>
          <p:cNvPr id="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6187-382A-4497-BB39-79571D9AE9CD}"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18E4416-AA7E-43B1-B36D-55E2453F46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	</a:t>
            </a:r>
            <a:endParaRPr b="0" lang="en-US" sz="4000" spc="-1" strike="noStrike">
              <a:solidFill>
                <a:srgbClr val="000000"/>
              </a:solidFill>
              <a:latin typeface="Calibri"/>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2000" spc="-1" strike="noStrike">
                <a:solidFill>
                  <a:srgbClr val="000000"/>
                </a:solidFill>
                <a:latin typeface="Calibri"/>
              </a:rPr>
              <a:t>III. </a:t>
            </a:r>
            <a:r>
              <a:rPr b="1" lang="es-ES" sz="2000" spc="-1" strike="noStrike" u="sng">
                <a:solidFill>
                  <a:srgbClr val="000000"/>
                </a:solidFill>
                <a:uFillTx/>
                <a:latin typeface="Calibri"/>
              </a:rPr>
              <a:t>EL DELINCUENTE ARREPENTIDO</a:t>
            </a:r>
            <a:endParaRPr b="0" lang="en-US" sz="2000" spc="-1" strike="noStrike">
              <a:solidFill>
                <a:srgbClr val="000000"/>
              </a:solidFill>
              <a:latin typeface="Calibri"/>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Una de las novedades que se pretende introducir con la reforma del régimen penal tributario y previsional, es la figura del arrepentido, esta sería otra de las modificaciones que al proyecto original enviado por el Ejecutivo, le habrían hecho en la Comisión de Legislación Penal de la Cámara de Diputados del Congreso de la Nación.</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En este proyecto se propone incorporar un artículo a la Ley Penal Tributaria, por el cual se autorizaría a reducir excepcionalmente la escala penal aplicando la de la tentativa o limitándola a la mitad, al imputado que, antes del dictado de la sentencia definitiva, colabore eficazmente con la investigación. </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1995 se sanciona la Ley 24.424 modificatoria de la Ley 23.737  (ley de estupefacientes), que con la inclusión del artículo 29 ter., introduce la figura en nuestra legislación penal. </a:t>
            </a:r>
            <a:endParaRPr b="0" lang="en-US" sz="1600" spc="-1" strike="noStrike">
              <a:solidFill>
                <a:srgbClr val="000000"/>
              </a:solidFill>
              <a:latin typeface="Calibri"/>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7E8F45E5-9FAC-49C0-A671-048F487E4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 el año 2000, debido al reclamo producto de los atentados contra la Embajada de Israel en Buenos Aires y la AMIA, se sancionó la Ley 25.241, llamada </a:t>
            </a:r>
            <a:r>
              <a:rPr b="0" i="1" lang="es-AR" sz="1600" spc="-1" strike="noStrike">
                <a:solidFill>
                  <a:srgbClr val="000000"/>
                </a:solidFill>
                <a:latin typeface="Calibri"/>
              </a:rPr>
              <a:t>Ley del Arrepentido</a:t>
            </a:r>
            <a:r>
              <a:rPr b="0" lang="es-AR" sz="1600" spc="-1" strike="noStrike">
                <a:solidFill>
                  <a:srgbClr val="000000"/>
                </a:solidFill>
                <a:latin typeface="Calibri"/>
              </a:rPr>
              <a:t>.</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Como consecuencia del conocido secuestro seguido de muerte de Axel Blumberg y la movilización que este tipo de hechos provocó en la sociedad, entre los años 2003 y 2006 nuestro Código Penal sufrió veintisiete modificaciones, entre ellas las relacionadas con los secuestros extorsivos y la inclusión de la figura del arrepentido para los casos contemplados en los Arts. 142 bis, 145 bis, 145 ter y 170 del Código Penal.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Se cuestiona de esta figura el nombre, pues algunos sostienen que no se trata verdaderamente de alguien que se arrepiente de su hecho y lo confiesa, sino de alguien que ha cometido uno o varios delitos y que negocia con el Estado cierta información a cambio de una reducción en su pena.</a:t>
            </a:r>
            <a:endParaRPr b="0" lang="en-US" sz="1600" spc="-1" strike="noStrike">
              <a:solidFill>
                <a:srgbClr val="000000"/>
              </a:solidFill>
              <a:latin typeface="Calibri"/>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	</a:t>
            </a:r>
            <a:r>
              <a:rPr b="0" lang="es-AR" sz="3200" spc="-1" strike="noStrike">
                <a:solidFill>
                  <a:srgbClr val="000000"/>
                </a:solidFill>
                <a:latin typeface="Calibri"/>
              </a:rPr>
              <a:t>	</a:t>
            </a:r>
            <a:r>
              <a:rPr b="0" lang="es-AR" sz="3200" spc="-1" strike="noStrike">
                <a:solidFill>
                  <a:srgbClr val="000000"/>
                </a:solidFill>
                <a:latin typeface="Calibri"/>
              </a:rPr>
              <a:t>   </a:t>
            </a:r>
            <a:r>
              <a:rPr b="0" lang="es-AR" sz="1600" spc="-1" strike="noStrike">
                <a:solidFill>
                  <a:srgbClr val="000000"/>
                </a:solidFill>
                <a:latin typeface="Calibri"/>
              </a:rPr>
              <a:t>El </a:t>
            </a:r>
            <a:r>
              <a:rPr b="0" i="1" lang="es-AR" sz="1600" spc="-1" strike="noStrike">
                <a:solidFill>
                  <a:srgbClr val="000000"/>
                </a:solidFill>
                <a:latin typeface="Calibri"/>
              </a:rPr>
              <a:t>derecho de defensa</a:t>
            </a:r>
            <a:r>
              <a:rPr b="0" lang="es-AR" sz="1600" spc="-1" strike="noStrike">
                <a:solidFill>
                  <a:srgbClr val="000000"/>
                </a:solidFill>
                <a:latin typeface="Calibri"/>
              </a:rPr>
              <a:t> así como el </a:t>
            </a:r>
            <a:r>
              <a:rPr b="0" i="1" lang="es-AR" sz="1600" spc="-1" strike="noStrike">
                <a:solidFill>
                  <a:srgbClr val="000000"/>
                </a:solidFill>
                <a:latin typeface="Calibri"/>
              </a:rPr>
              <a:t>principio de inocencia</a:t>
            </a:r>
            <a:r>
              <a:rPr b="0" lang="es-AR" sz="1600" spc="-1" strike="noStrike">
                <a:solidFill>
                  <a:srgbClr val="000000"/>
                </a:solidFill>
                <a:latin typeface="Calibri"/>
              </a:rPr>
              <a:t> son derechos que la doctrina entiende se ven afectados por este instituto.</a:t>
            </a:r>
            <a:endParaRPr b="0" lang="en-US" sz="1600" spc="-1" strike="noStrike">
              <a:solidFill>
                <a:srgbClr val="000000"/>
              </a:solidFill>
              <a:latin typeface="Calibri"/>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5811B2B-CD1A-4E9B-8AAB-0F1C009F9C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189000"/>
            <a:ext cx="8229600" cy="5937120"/>
          </a:xfrm>
          <a:prstGeom prst="rect">
            <a:avLst/>
          </a:prstGeom>
          <a:noFill/>
          <a:ln w="9360">
            <a:solidFill>
              <a:srgbClr val="0000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Asimismo, un </a:t>
            </a:r>
            <a:r>
              <a:rPr b="0" i="1" lang="es-AR" sz="1600" spc="-1" strike="noStrike">
                <a:solidFill>
                  <a:srgbClr val="000000"/>
                </a:solidFill>
                <a:latin typeface="Calibri"/>
              </a:rPr>
              <a:t>debido proceso</a:t>
            </a:r>
            <a:r>
              <a:rPr b="0" lang="es-AR" sz="1600" spc="-1" strike="noStrike">
                <a:solidFill>
                  <a:srgbClr val="000000"/>
                </a:solidFill>
                <a:latin typeface="Calibri"/>
              </a:rPr>
              <a:t> tal como lo prevé nuestra Carta Magna (Art. 18 CN) prevé para arribar a una condena la realización de un juicio previo basado en ley anterior al hecho.</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En definitiva se trata del sujeto que estando imputado por la comisión de un delito, mostrándose arrepentido por su pasado, para evitar la pena que pudiera corresponderle u obtener una menor, informa a la autoridad jurisdiccional sobre los extremos que puedan conducir al desbaratamiento de la asociación.</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La ley 24.424/95 incorporó a la ley 23.737, la figura del “arrepentido” como técnica para conocer desde adentro, de la asociación, todo lo que hace a su organización.</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Si esto último se consigue, la ley prevé un premio de disminución de pena o eximición de ella.</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Se deberá distinguir al “arrepentido”, del que se rotula simplemente “informante”, conocido en la jerga como “datero” o “buchón”.</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EF90-FA71-4CB5-BA25-29064AB2B552}"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E2DC3D7-D270-4149-A860-13EE033BB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7200" y="500040"/>
            <a:ext cx="8229600" cy="5626080"/>
          </a:xfrm>
          <a:prstGeom prst="rect">
            <a:avLst/>
          </a:prstGeom>
          <a:noFill/>
          <a:ln w="9360">
            <a:solidFill>
              <a:srgbClr val="000000"/>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A poco que se repase la reciente ley 25.742/03 vemos que el arrepentido se introduce en la legislación nacional, aunque con modalidades propias, que la distingue de sus antecesoras. Así, el agregado al art. 41</a:t>
            </a:r>
            <a:r>
              <a:rPr b="1" lang="es-ES" sz="1600" spc="-1" strike="noStrike">
                <a:solidFill>
                  <a:srgbClr val="000000"/>
                </a:solidFill>
                <a:latin typeface="Calibri"/>
              </a:rPr>
              <a:t> </a:t>
            </a:r>
            <a:r>
              <a:rPr b="0" lang="es-ES" sz="1600" spc="-1" strike="noStrike">
                <a:solidFill>
                  <a:srgbClr val="000000"/>
                </a:solidFill>
                <a:latin typeface="Calibri"/>
              </a:rPr>
              <a:t>del C.P. pero, contrariamente a aquéllas, subordina la aplicación del instituto a dos características bien diferenciadas: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a) El delator debe revestir la calidad de partícipe o encubridor.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b) La persona delatada debe tener un ascendiente en la estructura vertical de la organización respecto del confesor.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Las modalidades que se destacan en el "nuevo arrepentido" señalan que se ha querido evitar la delación de los llamados "perejiles“.</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	</a:t>
            </a:r>
            <a:r>
              <a:rPr b="0" lang="es-ES" sz="1600" spc="-1" strike="noStrike">
                <a:solidFill>
                  <a:srgbClr val="000000"/>
                </a:solidFill>
                <a:latin typeface="Calibri"/>
              </a:rPr>
              <a:t>Por otra parte, la ley no habla de exención total de pena sino de una reducción en las escalas punitivas.</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ES" sz="1600" spc="-1" strike="noStrike">
                <a:solidFill>
                  <a:srgbClr val="000000"/>
                </a:solidFill>
                <a:latin typeface="Calibri"/>
              </a:rPr>
              <a:t>En el campo penal tributario no se cuenta con esta figura, pero debe tenerse presente que en aquellos casos de delitos cometidos por grandes asociaciones podría aplicarse - más allá de que se comparta o no su incorporación-.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6688-1B7A-454D-9CEB-169E73FE4793}"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E52AF56-6784-4B40-9B9B-CE65948C9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9640" y="333360"/>
            <a:ext cx="8229600" cy="636912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endParaRPr b="0" lang="en-US" sz="32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AR" sz="1600" spc="-1" strike="noStrike">
                <a:solidFill>
                  <a:srgbClr val="000000"/>
                </a:solidFill>
                <a:latin typeface="Calibri"/>
              </a:rPr>
              <a:t>Las características que tiene la incorporación de esta figura son:</a:t>
            </a: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Reducción excepcional de la escala penal, aplicando la de la tentativa o limitándola a la mitad.</a:t>
            </a:r>
            <a:endParaRPr b="0" lang="en-US" sz="1600" spc="-1" strike="noStrike">
              <a:solidFill>
                <a:srgbClr val="000000"/>
              </a:solidFill>
              <a:latin typeface="Calibri"/>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La información debe ser esencial para evitar la consumación o continuación del delito, o la perpetración de otro.</a:t>
            </a:r>
            <a:endParaRPr b="0" lang="en-US" sz="1600" spc="-1" strike="noStrike">
              <a:solidFill>
                <a:srgbClr val="000000"/>
              </a:solidFill>
              <a:latin typeface="Calibri"/>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Debe ayudar a esclarecer el hecho objeto de investigación u otros conexos.</a:t>
            </a:r>
            <a:endParaRPr b="0" lang="en-US" sz="1600" spc="-1" strike="noStrike">
              <a:solidFill>
                <a:srgbClr val="000000"/>
              </a:solidFill>
              <a:latin typeface="Calibri"/>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Debe suministrar datos de manifiesta utilidad para acreditar la intervención de otras personas o la recuperación de bienes.</a:t>
            </a:r>
            <a:endParaRPr b="0" lang="en-US" sz="1600" spc="-1" strike="noStrike">
              <a:solidFill>
                <a:srgbClr val="000000"/>
              </a:solidFill>
              <a:latin typeface="Calibri"/>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5.</a:t>
            </a:r>
            <a:r>
              <a:rPr b="0" lang="es-AR" sz="1600" spc="-1" strike="noStrike">
                <a:solidFill>
                  <a:srgbClr val="000000"/>
                </a:solidFill>
                <a:latin typeface="Calibri"/>
              </a:rPr>
              <a:t>	</a:t>
            </a:r>
            <a:r>
              <a:rPr b="0" lang="es-AR" sz="1600" spc="-1" strike="noStrike">
                <a:solidFill>
                  <a:srgbClr val="000000"/>
                </a:solidFill>
                <a:latin typeface="Calibri"/>
              </a:rPr>
              <a:t>El delito en que se encuentre involucrado el beneficiario debe ser más leve que aquél respecto del cual hubiere brindado o aportado su colaboración.</a:t>
            </a:r>
            <a:endParaRPr b="0" lang="en-US" sz="1600" spc="-1" strike="noStrike">
              <a:solidFill>
                <a:srgbClr val="000000"/>
              </a:solidFill>
              <a:latin typeface="Calibri"/>
            </a:endParaRPr>
          </a:p>
          <a:p>
            <a:pPr marL="60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2"/>
          <p:cNvSpPr>
            <a:spLocks noGrp="1"/>
          </p:cNvSpPr>
          <p:nvPr>
            <p:ph type="sldNum" idx="3"/>
          </p:nvPr>
        </p:nvSpPr>
        <p:spPr/>
        <p:txBody>
          <a:bodyPr/>
          <a:p>
            <a:fld id="{130025C1-843D-4DD9-8796-5DF2889CCE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468360" y="260280"/>
            <a:ext cx="8229600" cy="5851440"/>
          </a:xfrm>
          <a:prstGeom prst="rect">
            <a:avLst/>
          </a:prstGeom>
          <a:noFill/>
          <a:ln w="0">
            <a:noFill/>
          </a:ln>
        </p:spPr>
        <p:txBody>
          <a:bodyPr lIns="90000" rIns="90000" tIns="46800" bIns="46800" anchor="t">
            <a:normAutofit/>
          </a:bodyPr>
          <a:p>
            <a:pPr marL="609480" indent="-60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6.</a:t>
            </a:r>
            <a:r>
              <a:rPr b="0" lang="es-AR" sz="1600" spc="-1" strike="noStrike">
                <a:solidFill>
                  <a:srgbClr val="000000"/>
                </a:solidFill>
                <a:latin typeface="Calibri"/>
              </a:rPr>
              <a:t>	</a:t>
            </a:r>
            <a:r>
              <a:rPr b="0" lang="es-AR" sz="1600" spc="-1" strike="noStrike">
                <a:solidFill>
                  <a:srgbClr val="000000"/>
                </a:solidFill>
                <a:latin typeface="Calibri"/>
              </a:rPr>
              <a:t>Debe regularizar su situación impositiva y pagar el monto de la deuda en forma incondicional y total.</a:t>
            </a:r>
            <a:endParaRPr b="0" lang="en-US" sz="1600" spc="-1" strike="noStrike">
              <a:solidFill>
                <a:srgbClr val="000000"/>
              </a:solidFill>
              <a:latin typeface="Calibri"/>
            </a:endParaRPr>
          </a:p>
          <a:p>
            <a:pPr marL="609480" indent="-60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609480" indent="-60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	</a:t>
            </a:r>
            <a:r>
              <a:rPr b="0" lang="es-AR" sz="1600" spc="-1" strike="noStrike">
                <a:solidFill>
                  <a:srgbClr val="000000"/>
                </a:solidFill>
                <a:latin typeface="Calibri"/>
              </a:rPr>
              <a:t>Las personas que se acojan a los beneficios señalados y formulen datos inexactos sobre terceras personas serán reprimidas con prisión de 1 a 3 años.</a:t>
            </a:r>
            <a:endParaRPr b="0" lang="en-US" sz="1600" spc="-1" strike="noStrike">
              <a:solidFill>
                <a:srgbClr val="000000"/>
              </a:solidFill>
              <a:latin typeface="Calibri"/>
            </a:endParaRPr>
          </a:p>
          <a:p>
            <a:pPr marL="609480" indent="-60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 name="PlaceHolder 1"/>
          <p:cNvSpPr>
            <a:spLocks noGrp="1"/>
          </p:cNvSpPr>
          <p:nvPr>
            <p:ph type="sldNum" idx="3"/>
          </p:nvPr>
        </p:nvSpPr>
        <p:spPr/>
        <p:txBody>
          <a:bodyPr/>
          <a:p>
            <a:fld id="{EFFD6054-1D12-4C97-96A4-62504D7B9E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6:44:01Z</dcterms:created>
  <dc:creator>Graciela</dc:creator>
  <dc:description/>
  <dc:language>en-US</dc:language>
  <cp:lastModifiedBy>ebenitez</cp:lastModifiedBy>
  <dcterms:modified xsi:type="dcterms:W3CDTF">2011-08-02T21:06:46Z</dcterms:modified>
  <cp:revision>80</cp:revision>
  <dc:subject/>
  <dc:title>Diapositiva 1</dc:title>
</cp:coreProperties>
</file>