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D704-3255-4B81-A6BF-6C057D46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7405-F93B-426F-9977-20F326B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03E3-84F0-442E-B3EE-1B558B9E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3BF8-41DB-49AD-82AF-C8346374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7BB0-E815-4564-BB86-3DD1F7C7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881D-3885-42A5-94C7-EB82D54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53FE-28B1-4776-8B32-3CE89A41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F6D8-028D-4EAC-A0B2-14F480BB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B99-7625-434F-8A9C-066E296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DE34-F22B-414C-9ECF-4337435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8E4C-9502-4483-9ED9-7BC14D6C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94ED-3B15-4092-9C94-BB04769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604F-C733-4DEF-9040-EB6C8866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4F38-1C32-411E-A397-5F5C1665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AB26-183E-4B33-8427-0FCFFE66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A886-AA6B-4D49-A912-6709B749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33C-82A3-4C9A-B555-03B89549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2551-ED1C-443A-A898-2D8B2876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A968-8924-4B7A-830C-79171883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30E8-6592-475F-9969-E8DEDA28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F777-95E4-4032-96BB-BE86F504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512D-685A-4220-A81B-91B8688B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6531-878D-4DD0-8675-D40ED380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2FE6-4313-4572-A5DB-5F1A452F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F821-DCAA-4474-9196-7B4968CDD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A077-9C02-4861-9233-43397FF054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03280" y="1989000"/>
            <a:ext cx="6624720" cy="1943280"/>
          </a:xfrm>
          <a:prstGeom prst="rect">
            <a:avLst/>
          </a:prstGeom>
          <a:gradFill rotWithShape="0">
            <a:gsLst>
              <a:gs pos="0">
                <a:srgbClr val="35354a"/>
              </a:gs>
              <a:gs pos="50000">
                <a:srgbClr val="7474a2"/>
              </a:gs>
              <a:gs pos="100000">
                <a:srgbClr val="35354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REFORMA DEL </a:t>
            </a:r>
            <a:br>
              <a:rPr sz="3600"/>
            </a:br>
            <a:r>
              <a:rPr b="1" lang="en-US" sz="3600" spc="-1" strike="noStrike">
                <a:solidFill>
                  <a:srgbClr val="dfdef6"/>
                </a:solidFill>
                <a:latin typeface="Arial"/>
              </a:rPr>
              <a:t>SISTEMA TRIBUTARIO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374920" y="522936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GRESO TRIBU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ubre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252539"/>
              </a:gs>
              <a:gs pos="50000">
                <a:srgbClr val="52527c"/>
              </a:gs>
              <a:gs pos="100000">
                <a:srgbClr val="25253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ef6"/>
                </a:solidFill>
                <a:latin typeface="Arial"/>
              </a:rPr>
              <a:t>RECAUDACION TRIBUTARIA: PORCENTAJE DE PARTICIPACION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539640" y="1557360"/>
          <a:ext cx="80647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80647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fdef6"/>
                </a:solidFill>
                <a:latin typeface="Arial"/>
              </a:rPr>
              <a:t>PROBLEMAS DE POLITICA TRIBUTARIA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14120" y="1484280"/>
            <a:ext cx="6109200" cy="5205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Regresividad versus progres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335240" y="2276640"/>
            <a:ext cx="6129000" cy="5205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fecto  redistributivo  del  ingre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042920" y="3141720"/>
            <a:ext cx="5761080" cy="9471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Evasión  fiscal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42920" y="4076640"/>
            <a:ext cx="5832720" cy="9471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Gastos  tributari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19280" y="4869000"/>
            <a:ext cx="5834160" cy="5205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Derechos de exportación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68360" y="5734080"/>
            <a:ext cx="5832720" cy="9471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50000">
                <a:srgbClr val="dfdef6"/>
              </a:gs>
              <a:gs pos="100000">
                <a:srgbClr val="66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Impuestos distorsivos</a:t>
            </a:r>
            <a:r>
              <a:rPr b="0" lang="es-ES" sz="2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IMULOS A LA INVERSION  - LEY 25.9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INTEGRO DEL 15% PLAN JEFES Y JEFAS DE HOG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INTEGRO DE IV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(3% tarjetas de crédito y 5% compras con tarjeta de débito). Costo fiscal $ 1.000 mill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DUCCION DEL COSTO DEL IMPUESTO A LOS DEBITOS Y CREDITOS BANCARI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(Dto. 1364/04: Reducción de alícuota en 0,1%o en las operaciones de débitos en cta. cte. cuyo importe se destina a la compra de letras BCRA. Cómputo parcial de la sumas liquidadas como crédito de Impuestos a las Ganancias, Gcia. Mínima Presunta o Contribución Especial sobre Capital de Cooperativas-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DUCCION DE LA ALICUOTA DEL IV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PROD. AGROPECUARIOS Y FERTILIZANTES DEL 21% AL 10,5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BATE DEL EMPLEO EN NEGRO: LEY 25.865 MONOTRIBUTO, EMPLEO DOMESTICO  LEY 26.063, Título VI, CORRESPONSABILIDAD GREMIAL, LEY PYM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76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fdef6"/>
                </a:solidFill>
                <a:latin typeface="Arial"/>
              </a:rPr>
              <a:t>QUE SE HIZO EN ESTE PERIODO ?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UCCION DE LA EVASION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UCCIÓN DE GASTOS TRIBU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STRUMENTACIÓN DE SISTEMAS DE PAGOS A CUEN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MPUESTO SOBRE LAS RETRIBUCIONES DE LOS JUE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fdef6"/>
                </a:solidFill>
                <a:latin typeface="Arial"/>
              </a:rPr>
              <a:t>SENDERO DE REFORMAS POSIBL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640720" cy="5904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3200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RECAUDACION: IMPUESTOS, SEG.SOC. Y ADUANA</a:t>
            </a:r>
            <a:endParaRPr b="0" lang="en-US" sz="26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8785080" cy="4316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ON: IMPUESTOS, SEG.SOC. Y ADU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8496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5619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RECAUDACION: IMPUESTOS, SEG.SOC. Y ADUANA</a:t>
            </a:r>
            <a:endParaRPr b="0" lang="en-US" sz="26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90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RECAUDACION: IMPUESTOS, SEG.SOC. Y ADU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24000" y="981000"/>
            <a:ext cx="5543640" cy="576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EN PESOS Y EN DOLA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600200"/>
          <a:ext cx="85690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00200"/>
                    <a:ext cx="85690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260280"/>
            <a:ext cx="9144000" cy="576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RECAUDACION: IMPUESTOS, SEG.SOC. Y ADUA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124000" y="981000"/>
            <a:ext cx="5543640" cy="57636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fdef6"/>
                </a:solidFill>
                <a:latin typeface="Arial"/>
              </a:rPr>
              <a:t>EN % PB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57200" y="1685880"/>
          <a:ext cx="8229600" cy="46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85880"/>
                    <a:ext cx="82296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449280" y="1911240"/>
            <a:ext cx="900000" cy="39888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% P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"/>
          <p:cNvGraphicFramePr/>
          <p:nvPr/>
        </p:nvGraphicFramePr>
        <p:xfrm>
          <a:off x="395280" y="1484280"/>
          <a:ext cx="843588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84280"/>
                    <a:ext cx="84358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2917800" y="530064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02160" y="522936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64000" y="5661000"/>
            <a:ext cx="144360" cy="14436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48360" y="5445000"/>
            <a:ext cx="215640" cy="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89440" y="458136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4000" y="4941720"/>
            <a:ext cx="216000" cy="216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78160" y="393372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81440" y="350028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5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80000" y="4365720"/>
            <a:ext cx="287280" cy="6476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940360" y="3933720"/>
            <a:ext cx="71640" cy="1440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013440" y="299736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372360" y="3357720"/>
            <a:ext cx="71280" cy="136656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445080" y="249228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32720" y="2852640"/>
            <a:ext cx="0" cy="151308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05440" y="371628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10160" y="486900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308720" y="4076640"/>
            <a:ext cx="0" cy="21600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165800" y="328464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67640" y="3645000"/>
            <a:ext cx="73080" cy="5047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381800" y="285264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85080" y="3213000"/>
            <a:ext cx="73080" cy="50508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742160" y="4221000"/>
            <a:ext cx="63180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172360" y="4076280"/>
            <a:ext cx="0" cy="1429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596360" y="4723920"/>
            <a:ext cx="0" cy="1429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79280" y="274680"/>
            <a:ext cx="8785440" cy="70632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ef6"/>
                </a:solidFill>
                <a:latin typeface="Arial"/>
              </a:rPr>
              <a:t>EVOLUCION DE LA RECAUD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39640" y="1628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millones de 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459640" y="2852640"/>
            <a:ext cx="68436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459640" y="3284640"/>
            <a:ext cx="68436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44000" y="3068640"/>
            <a:ext cx="215640" cy="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8244000" y="3573000"/>
            <a:ext cx="144360" cy="1429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459640" y="2349360"/>
            <a:ext cx="68436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459640" y="1916280"/>
            <a:ext cx="684360" cy="337320"/>
          </a:xfrm>
          <a:prstGeom prst="rect">
            <a:avLst/>
          </a:prstGeom>
          <a:solidFill>
            <a:srgbClr val="525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8317080" y="2565000"/>
            <a:ext cx="142560" cy="14292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388360" y="2204640"/>
            <a:ext cx="216000" cy="71640"/>
          </a:xfrm>
          <a:prstGeom prst="line">
            <a:avLst/>
          </a:prstGeom>
          <a:ln w="19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431640"/>
          </a:xfrm>
          <a:prstGeom prst="rect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O DE LA ADMINISTRACION PUBLICA EN % PB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9280" y="5373720"/>
            <a:ext cx="122400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8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649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6093000"/>
            <a:ext cx="1655640" cy="337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def6"/>
                </a:solidFill>
                <a:latin typeface="Verdana"/>
              </a:rPr>
              <a:t>1% 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8360" y="5734080"/>
            <a:ext cx="485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763640" y="6093000"/>
            <a:ext cx="1366920" cy="337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def6"/>
                </a:solidFill>
                <a:latin typeface="Verdana"/>
              </a:rPr>
              <a:t>2% 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24000" y="5734080"/>
            <a:ext cx="48600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35280" y="5373720"/>
            <a:ext cx="107928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8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859280" y="5734080"/>
            <a:ext cx="48600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373720"/>
            <a:ext cx="122400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64000" y="5734080"/>
            <a:ext cx="485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667640" y="5373720"/>
            <a:ext cx="129528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Act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028000" y="5734080"/>
            <a:ext cx="485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704000" y="6093000"/>
            <a:ext cx="1440000" cy="307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def6"/>
                </a:solidFill>
                <a:latin typeface="Verdana"/>
              </a:rPr>
              <a:t>12-14% PB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42160" cy="432612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3276720" y="5373720"/>
            <a:ext cx="107928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9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643280" y="5373720"/>
            <a:ext cx="1079640" cy="36036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192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6093000"/>
            <a:ext cx="1222200" cy="337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def6"/>
                </a:solidFill>
                <a:latin typeface="Verdana"/>
              </a:rPr>
              <a:t>5% 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276720" y="6093000"/>
            <a:ext cx="1224000" cy="337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fdef6"/>
                </a:solidFill>
                <a:latin typeface="Verdana"/>
              </a:rPr>
              <a:t>16% 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516720" y="5734080"/>
            <a:ext cx="485640" cy="216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4720" y="6093000"/>
            <a:ext cx="1441440" cy="3070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fdef6"/>
                </a:solidFill>
                <a:latin typeface="Verdana"/>
              </a:rPr>
              <a:t>14-17% PB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00720" y="6521400"/>
            <a:ext cx="10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P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80360" y="1125360"/>
            <a:ext cx="647640" cy="4320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"/>
          <p:cNvGraphicFramePr/>
          <p:nvPr/>
        </p:nvGraphicFramePr>
        <p:xfrm>
          <a:off x="179280" y="187200"/>
          <a:ext cx="8785080" cy="6670800"/>
        </p:xfrm>
        <a:graphic>
          <a:graphicData uri="http://schemas.openxmlformats.org/drawingml/2006/table">
            <a:tbl>
              <a:tblPr/>
              <a:tblGrid>
                <a:gridCol w="2796120"/>
                <a:gridCol w="1096560"/>
                <a:gridCol w="1096200"/>
                <a:gridCol w="1095120"/>
                <a:gridCol w="901440"/>
                <a:gridCol w="899640"/>
                <a:gridCol w="900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ON ACTU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LLONES DE PE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% DEL PI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anc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1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0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.2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enes Person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VA Neto de Reembolos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.3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2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3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estos Intern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5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nancia Mínima Presun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echos de Importació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5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echos de Export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.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0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sa de Estadíst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s Naft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7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s Otr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7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bustibles Fondo Vi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diodifu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otributo Imposi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ergía Eléctr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icional Cigarrill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éditos y Débitos Banc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2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9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ros Impuest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total Tributa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.1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.5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.8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,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ibu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9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5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2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.0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.0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9.0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,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,5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0:01:31Z</dcterms:created>
  <dc:creator>A500</dc:creator>
  <dc:description/>
  <dc:language>en-US</dc:language>
  <cp:lastModifiedBy>FABI</cp:lastModifiedBy>
  <dcterms:modified xsi:type="dcterms:W3CDTF">2006-10-06T16:19:50Z</dcterms:modified>
  <cp:revision>3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9791761</vt:r8>
  </property>
  <property fmtid="{D5CDD505-2E9C-101B-9397-08002B2CF9AE}" pid="3" name="_AuthorEmail">
    <vt:lpwstr>sambito@ciudad.com.ar</vt:lpwstr>
  </property>
  <property fmtid="{D5CDD505-2E9C-101B-9397-08002B2CF9AE}" pid="4" name="_AuthorEmailDisplayName">
    <vt:lpwstr>Fabiana Sambanca</vt:lpwstr>
  </property>
  <property fmtid="{D5CDD505-2E9C-101B-9397-08002B2CF9AE}" pid="5" name="_EmailSubject">
    <vt:lpwstr>exposicion</vt:lpwstr>
  </property>
</Properties>
</file>