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E9D9-3754-4596-9FE2-A1D64D95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990-4092-4CC1-ACD9-03E6F150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17A-4F0C-4CA1-9C14-2A70D895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39B2-D1FC-468A-8865-D8773914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F17-4ECF-4436-93A8-E6ECE514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DF75-3D1C-41AD-826F-72B0B31A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4B4-9E16-4C51-89BA-610C1287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1EE-E383-4ACD-8CD0-EDB23959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5A7-20E6-4FC3-9B93-3EA661F3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0C0C-7376-44CD-B358-7AB6AC11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A33A-F849-4C6F-8EBC-BABC5A68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7E3-F9E8-4BE5-AD5B-8CEB36E8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05A5-0A46-43CB-B018-E77862A0F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209680" y="380880"/>
            <a:ext cx="119376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00"/>
                </a:solidFill>
                <a:latin typeface="Times New Roman"/>
              </a:rPr>
              <a:t>La política tributaria en países emergentes</a:t>
            </a:r>
            <a:br>
              <a:rPr sz="3800"/>
            </a:br>
            <a:br>
              <a:rPr sz="3800"/>
            </a:b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Daniel Artana Ph. D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52578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 Congreso Tributa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ejo Profesional de Ciencias Económicas C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 del Plata, 6 de octubre de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662280" y="442800"/>
          <a:ext cx="3127320" cy="125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62280" y="442800"/>
                    <a:ext cx="312732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588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61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839080" cy="59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rgentina actual está por sobre su tendencia histórica en términos de presión tributari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79680" y="253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4582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879560"/>
            <a:ext cx="9144000" cy="3098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486400" y="2743200"/>
            <a:ext cx="6858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77320" y="2743200"/>
            <a:ext cx="6858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3505320"/>
            <a:ext cx="6858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77320" y="3505320"/>
            <a:ext cx="6858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4419720"/>
            <a:ext cx="609480" cy="30456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153280" y="4419720"/>
            <a:ext cx="685800" cy="30456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6858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rgentina: Presión tributaria crec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50224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cuadro excluye los aportes a las AFJP y los impuestos municipales que deben sumarse para comparar con otros paí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 MT Extra Bold"/>
              </a:rPr>
              <a:t>Limitantes a la política fiscal en países en desarroll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Una economía pequeña y abierta no puede “exportar” sus impuestos al resto del 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Los impuestos al capital que superan a los que rigen en el resto del mundo terminan siendo trasladados a los factores menos móv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Precios de los bienes arbitr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Costo del capital tambié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Alta elusión y alta evasión impiden lograr un sistema equitativo (horizontal y verticalment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Menor profundidad financi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Menor aper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Menor transpar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4803840" cy="334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80384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357800" y="0"/>
          <a:ext cx="4762440" cy="35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7800" y="0"/>
                    <a:ext cx="476244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0" y="3251160"/>
          <a:ext cx="4762440" cy="36068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251160"/>
                    <a:ext cx="476244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540320" y="3181320"/>
          <a:ext cx="4599000" cy="3668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40320" y="3181320"/>
                    <a:ext cx="459900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 Presión Tributaria Actual, ¿es excesiva?  Comparación Internacion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849240"/>
          <a:ext cx="7619760" cy="57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49240"/>
                    <a:ext cx="7619760" cy="57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819520" y="3276720"/>
            <a:ext cx="685800" cy="2286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zones para que la presión tributaria crezca con el nivel de desarroll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ey de Wagner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manda de bienes públicos crece con el ingr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íses desarrollados tienen poblaciones más viejas y demandan más gasto en seguridad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yor Informalidad (Artana et al, 2003 y Lledo et al 2003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spcAft>
                <a:spcPts val="90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Ganancias de ser formales, e.g. acceso al crédito y respeto a los contratos son bajas (Gordon y Li, 20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Globalización obliga a sustituir impuestos de fácil recaudación (y distorsivos) por otros como IVA y Ganancias que son más difíciles de controlar (Aizenman y Jinjarak, 200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- FIEL 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zones para que la presión tributaria crezca con el nivel de desarroll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bilidades institucionales y dependencia de la ayuda internacional reducen incentivos a recaudar (Lledo et al, 200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yor corrupción (Keen y Simone, 2004) y favoritismo político en la distribución (Alesina y Angeletos, 2003) generan menos incentivos a pag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yor uso de impuesto inflacionario (Keen y Simone, 2004) que no aparece registrado en las estadísticas fis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- FIEL 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tividad del IV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00320" y="895320"/>
            <a:ext cx="70974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00320" y="4753080"/>
            <a:ext cx="7097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00320" y="4110120"/>
            <a:ext cx="7097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00320" y="3467160"/>
            <a:ext cx="7097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00320" y="2824200"/>
            <a:ext cx="7097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00320" y="2181240"/>
            <a:ext cx="7097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00320" y="1538280"/>
            <a:ext cx="7097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00320" y="895320"/>
            <a:ext cx="7097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0320" y="895320"/>
            <a:ext cx="7097400" cy="45007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0320" y="895320"/>
            <a:ext cx="1440" cy="45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25440" y="539604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25440" y="475308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25440" y="411012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25440" y="346716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5440" y="282420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25440" y="218124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25440" y="153828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25440" y="89532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00320" y="5396040"/>
            <a:ext cx="7097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300320" y="5396040"/>
            <a:ext cx="1440" cy="7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482920" y="5396040"/>
            <a:ext cx="1440" cy="7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665520" y="5396040"/>
            <a:ext cx="1440" cy="7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848120" y="5396040"/>
            <a:ext cx="1800" cy="7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031080" y="5396040"/>
            <a:ext cx="1440" cy="7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215120" y="5396040"/>
            <a:ext cx="1800" cy="7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8397720" y="5396040"/>
            <a:ext cx="1800" cy="7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19720" y="2408400"/>
            <a:ext cx="96840" cy="95040"/>
          </a:xfrm>
          <a:custGeom>
            <a:avLst/>
            <a:gdLst/>
            <a:ahLst/>
            <a:rect l="l" t="t" r="r" b="b"/>
            <a:pathLst>
              <a:path w="185" h="179">
                <a:moveTo>
                  <a:pt x="93" y="0"/>
                </a:moveTo>
                <a:lnTo>
                  <a:pt x="185" y="89"/>
                </a:lnTo>
                <a:lnTo>
                  <a:pt x="93" y="179"/>
                </a:lnTo>
                <a:lnTo>
                  <a:pt x="0" y="89"/>
                </a:lnTo>
                <a:lnTo>
                  <a:pt x="9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56240" y="2565360"/>
            <a:ext cx="96840" cy="95400"/>
          </a:xfrm>
          <a:custGeom>
            <a:avLst/>
            <a:gdLst/>
            <a:ahLst/>
            <a:rect l="l" t="t" r="r" b="b"/>
            <a:pathLst>
              <a:path w="185" h="180">
                <a:moveTo>
                  <a:pt x="93" y="0"/>
                </a:moveTo>
                <a:lnTo>
                  <a:pt x="185" y="90"/>
                </a:lnTo>
                <a:lnTo>
                  <a:pt x="93" y="180"/>
                </a:lnTo>
                <a:lnTo>
                  <a:pt x="0" y="90"/>
                </a:lnTo>
                <a:lnTo>
                  <a:pt x="9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65800" y="1158840"/>
            <a:ext cx="98640" cy="95400"/>
          </a:xfrm>
          <a:custGeom>
            <a:avLst/>
            <a:gdLst/>
            <a:ahLst/>
            <a:rect l="l" t="t" r="r" b="b"/>
            <a:pathLst>
              <a:path w="185" h="179">
                <a:moveTo>
                  <a:pt x="92" y="0"/>
                </a:moveTo>
                <a:lnTo>
                  <a:pt x="185" y="90"/>
                </a:lnTo>
                <a:lnTo>
                  <a:pt x="92" y="179"/>
                </a:lnTo>
                <a:lnTo>
                  <a:pt x="0" y="90"/>
                </a:lnTo>
                <a:lnTo>
                  <a:pt x="92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35680" y="2690640"/>
            <a:ext cx="98280" cy="95400"/>
          </a:xfrm>
          <a:custGeom>
            <a:avLst/>
            <a:gdLst/>
            <a:ahLst/>
            <a:rect l="l" t="t" r="r" b="b"/>
            <a:pathLst>
              <a:path w="185" h="180">
                <a:moveTo>
                  <a:pt x="92" y="0"/>
                </a:moveTo>
                <a:lnTo>
                  <a:pt x="185" y="90"/>
                </a:lnTo>
                <a:lnTo>
                  <a:pt x="92" y="180"/>
                </a:lnTo>
                <a:lnTo>
                  <a:pt x="0" y="90"/>
                </a:lnTo>
                <a:lnTo>
                  <a:pt x="92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10160" y="1652760"/>
            <a:ext cx="96840" cy="95040"/>
          </a:xfrm>
          <a:custGeom>
            <a:avLst/>
            <a:gdLst/>
            <a:ahLst/>
            <a:rect l="l" t="t" r="r" b="b"/>
            <a:pathLst>
              <a:path w="185" h="179">
                <a:moveTo>
                  <a:pt x="92" y="0"/>
                </a:moveTo>
                <a:lnTo>
                  <a:pt x="185" y="90"/>
                </a:lnTo>
                <a:lnTo>
                  <a:pt x="92" y="179"/>
                </a:lnTo>
                <a:lnTo>
                  <a:pt x="0" y="90"/>
                </a:lnTo>
                <a:lnTo>
                  <a:pt x="92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10160" y="2373480"/>
            <a:ext cx="96840" cy="95040"/>
          </a:xfrm>
          <a:custGeom>
            <a:avLst/>
            <a:gdLst/>
            <a:ahLst/>
            <a:rect l="l" t="t" r="r" b="b"/>
            <a:pathLst>
              <a:path w="185" h="179">
                <a:moveTo>
                  <a:pt x="92" y="0"/>
                </a:moveTo>
                <a:lnTo>
                  <a:pt x="185" y="90"/>
                </a:lnTo>
                <a:lnTo>
                  <a:pt x="92" y="179"/>
                </a:lnTo>
                <a:lnTo>
                  <a:pt x="0" y="90"/>
                </a:lnTo>
                <a:lnTo>
                  <a:pt x="92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35680" y="2639880"/>
            <a:ext cx="98280" cy="95400"/>
          </a:xfrm>
          <a:custGeom>
            <a:avLst/>
            <a:gdLst/>
            <a:ahLst/>
            <a:rect l="l" t="t" r="r" b="b"/>
            <a:pathLst>
              <a:path w="185" h="180">
                <a:moveTo>
                  <a:pt x="92" y="0"/>
                </a:moveTo>
                <a:lnTo>
                  <a:pt x="185" y="90"/>
                </a:lnTo>
                <a:lnTo>
                  <a:pt x="92" y="180"/>
                </a:lnTo>
                <a:lnTo>
                  <a:pt x="0" y="90"/>
                </a:lnTo>
                <a:lnTo>
                  <a:pt x="92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88160" y="2451240"/>
            <a:ext cx="96840" cy="95040"/>
          </a:xfrm>
          <a:custGeom>
            <a:avLst/>
            <a:gdLst/>
            <a:ahLst/>
            <a:rect l="l" t="t" r="r" b="b"/>
            <a:pathLst>
              <a:path w="185" h="179">
                <a:moveTo>
                  <a:pt x="93" y="0"/>
                </a:moveTo>
                <a:lnTo>
                  <a:pt x="185" y="90"/>
                </a:lnTo>
                <a:lnTo>
                  <a:pt x="93" y="179"/>
                </a:lnTo>
                <a:lnTo>
                  <a:pt x="0" y="90"/>
                </a:lnTo>
                <a:lnTo>
                  <a:pt x="9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19720" y="1530360"/>
            <a:ext cx="96840" cy="95400"/>
          </a:xfrm>
          <a:custGeom>
            <a:avLst/>
            <a:gdLst/>
            <a:ahLst/>
            <a:rect l="l" t="t" r="r" b="b"/>
            <a:pathLst>
              <a:path w="185" h="180">
                <a:moveTo>
                  <a:pt x="93" y="0"/>
                </a:moveTo>
                <a:lnTo>
                  <a:pt x="185" y="90"/>
                </a:lnTo>
                <a:lnTo>
                  <a:pt x="93" y="180"/>
                </a:lnTo>
                <a:lnTo>
                  <a:pt x="0" y="90"/>
                </a:lnTo>
                <a:lnTo>
                  <a:pt x="9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81760" y="2892600"/>
            <a:ext cx="98280" cy="95040"/>
          </a:xfrm>
          <a:custGeom>
            <a:avLst/>
            <a:gdLst/>
            <a:ahLst/>
            <a:rect l="l" t="t" r="r" b="b"/>
            <a:pathLst>
              <a:path w="185" h="180">
                <a:moveTo>
                  <a:pt x="93" y="0"/>
                </a:moveTo>
                <a:lnTo>
                  <a:pt x="185" y="90"/>
                </a:lnTo>
                <a:lnTo>
                  <a:pt x="93" y="180"/>
                </a:lnTo>
                <a:lnTo>
                  <a:pt x="0" y="90"/>
                </a:lnTo>
                <a:lnTo>
                  <a:pt x="9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99160" y="1897200"/>
            <a:ext cx="98280" cy="95040"/>
          </a:xfrm>
          <a:custGeom>
            <a:avLst/>
            <a:gdLst/>
            <a:ahLst/>
            <a:rect l="l" t="t" r="r" b="b"/>
            <a:pathLst>
              <a:path w="185" h="179">
                <a:moveTo>
                  <a:pt x="93" y="0"/>
                </a:moveTo>
                <a:lnTo>
                  <a:pt x="185" y="89"/>
                </a:lnTo>
                <a:lnTo>
                  <a:pt x="93" y="179"/>
                </a:lnTo>
                <a:lnTo>
                  <a:pt x="0" y="89"/>
                </a:lnTo>
                <a:lnTo>
                  <a:pt x="9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10160" y="2548080"/>
            <a:ext cx="96840" cy="95040"/>
          </a:xfrm>
          <a:custGeom>
            <a:avLst/>
            <a:gdLst/>
            <a:ahLst/>
            <a:rect l="l" t="t" r="r" b="b"/>
            <a:pathLst>
              <a:path w="185" h="179">
                <a:moveTo>
                  <a:pt x="92" y="0"/>
                </a:moveTo>
                <a:lnTo>
                  <a:pt x="185" y="89"/>
                </a:lnTo>
                <a:lnTo>
                  <a:pt x="92" y="179"/>
                </a:lnTo>
                <a:lnTo>
                  <a:pt x="0" y="89"/>
                </a:lnTo>
                <a:lnTo>
                  <a:pt x="92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10160" y="2712960"/>
            <a:ext cx="96840" cy="93600"/>
          </a:xfrm>
          <a:custGeom>
            <a:avLst/>
            <a:gdLst/>
            <a:ahLst/>
            <a:rect l="l" t="t" r="r" b="b"/>
            <a:pathLst>
              <a:path w="185" h="179">
                <a:moveTo>
                  <a:pt x="92" y="0"/>
                </a:moveTo>
                <a:lnTo>
                  <a:pt x="185" y="89"/>
                </a:lnTo>
                <a:lnTo>
                  <a:pt x="92" y="179"/>
                </a:lnTo>
                <a:lnTo>
                  <a:pt x="0" y="89"/>
                </a:lnTo>
                <a:lnTo>
                  <a:pt x="92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99160" y="1871640"/>
            <a:ext cx="98280" cy="95400"/>
          </a:xfrm>
          <a:custGeom>
            <a:avLst/>
            <a:gdLst/>
            <a:ahLst/>
            <a:rect l="l" t="t" r="r" b="b"/>
            <a:pathLst>
              <a:path w="185" h="179">
                <a:moveTo>
                  <a:pt x="93" y="0"/>
                </a:moveTo>
                <a:lnTo>
                  <a:pt x="185" y="89"/>
                </a:lnTo>
                <a:lnTo>
                  <a:pt x="93" y="179"/>
                </a:lnTo>
                <a:lnTo>
                  <a:pt x="0" y="89"/>
                </a:lnTo>
                <a:lnTo>
                  <a:pt x="9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5800" y="1619280"/>
            <a:ext cx="98640" cy="95400"/>
          </a:xfrm>
          <a:custGeom>
            <a:avLst/>
            <a:gdLst/>
            <a:ahLst/>
            <a:rect l="l" t="t" r="r" b="b"/>
            <a:pathLst>
              <a:path w="185" h="179">
                <a:moveTo>
                  <a:pt x="92" y="0"/>
                </a:moveTo>
                <a:lnTo>
                  <a:pt x="185" y="89"/>
                </a:lnTo>
                <a:lnTo>
                  <a:pt x="92" y="179"/>
                </a:lnTo>
                <a:lnTo>
                  <a:pt x="0" y="89"/>
                </a:lnTo>
                <a:lnTo>
                  <a:pt x="92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10160" y="2641680"/>
            <a:ext cx="96840" cy="95040"/>
          </a:xfrm>
          <a:custGeom>
            <a:avLst/>
            <a:gdLst/>
            <a:ahLst/>
            <a:rect l="l" t="t" r="r" b="b"/>
            <a:pathLst>
              <a:path w="185" h="179">
                <a:moveTo>
                  <a:pt x="92" y="0"/>
                </a:moveTo>
                <a:lnTo>
                  <a:pt x="185" y="89"/>
                </a:lnTo>
                <a:lnTo>
                  <a:pt x="92" y="179"/>
                </a:lnTo>
                <a:lnTo>
                  <a:pt x="0" y="89"/>
                </a:lnTo>
                <a:lnTo>
                  <a:pt x="92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45240" y="2003400"/>
            <a:ext cx="98280" cy="95400"/>
          </a:xfrm>
          <a:custGeom>
            <a:avLst/>
            <a:gdLst/>
            <a:ahLst/>
            <a:rect l="l" t="t" r="r" b="b"/>
            <a:pathLst>
              <a:path w="186" h="180">
                <a:moveTo>
                  <a:pt x="93" y="0"/>
                </a:moveTo>
                <a:lnTo>
                  <a:pt x="186" y="90"/>
                </a:lnTo>
                <a:lnTo>
                  <a:pt x="93" y="180"/>
                </a:lnTo>
                <a:lnTo>
                  <a:pt x="0" y="90"/>
                </a:lnTo>
                <a:lnTo>
                  <a:pt x="9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81760" y="1949400"/>
            <a:ext cx="98280" cy="95400"/>
          </a:xfrm>
          <a:custGeom>
            <a:avLst/>
            <a:gdLst/>
            <a:ahLst/>
            <a:rect l="l" t="t" r="r" b="b"/>
            <a:pathLst>
              <a:path w="185" h="179">
                <a:moveTo>
                  <a:pt x="93" y="0"/>
                </a:moveTo>
                <a:lnTo>
                  <a:pt x="185" y="89"/>
                </a:lnTo>
                <a:lnTo>
                  <a:pt x="93" y="179"/>
                </a:lnTo>
                <a:lnTo>
                  <a:pt x="0" y="89"/>
                </a:lnTo>
                <a:lnTo>
                  <a:pt x="9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56240" y="2187720"/>
            <a:ext cx="96840" cy="95040"/>
          </a:xfrm>
          <a:custGeom>
            <a:avLst/>
            <a:gdLst/>
            <a:ahLst/>
            <a:rect l="l" t="t" r="r" b="b"/>
            <a:pathLst>
              <a:path w="185" h="180">
                <a:moveTo>
                  <a:pt x="93" y="0"/>
                </a:moveTo>
                <a:lnTo>
                  <a:pt x="185" y="90"/>
                </a:lnTo>
                <a:lnTo>
                  <a:pt x="93" y="180"/>
                </a:lnTo>
                <a:lnTo>
                  <a:pt x="0" y="90"/>
                </a:lnTo>
                <a:lnTo>
                  <a:pt x="9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5240" y="2085840"/>
            <a:ext cx="98280" cy="93960"/>
          </a:xfrm>
          <a:custGeom>
            <a:avLst/>
            <a:gdLst/>
            <a:ahLst/>
            <a:rect l="l" t="t" r="r" b="b"/>
            <a:pathLst>
              <a:path w="186" h="179">
                <a:moveTo>
                  <a:pt x="93" y="0"/>
                </a:moveTo>
                <a:lnTo>
                  <a:pt x="186" y="89"/>
                </a:lnTo>
                <a:lnTo>
                  <a:pt x="93" y="179"/>
                </a:lnTo>
                <a:lnTo>
                  <a:pt x="0" y="89"/>
                </a:lnTo>
                <a:lnTo>
                  <a:pt x="9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81760" y="1515960"/>
            <a:ext cx="98280" cy="95400"/>
          </a:xfrm>
          <a:custGeom>
            <a:avLst/>
            <a:gdLst/>
            <a:ahLst/>
            <a:rect l="l" t="t" r="r" b="b"/>
            <a:pathLst>
              <a:path w="185" h="179">
                <a:moveTo>
                  <a:pt x="93" y="0"/>
                </a:moveTo>
                <a:lnTo>
                  <a:pt x="185" y="89"/>
                </a:lnTo>
                <a:lnTo>
                  <a:pt x="93" y="179"/>
                </a:lnTo>
                <a:lnTo>
                  <a:pt x="0" y="89"/>
                </a:lnTo>
                <a:lnTo>
                  <a:pt x="9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81760" y="2487600"/>
            <a:ext cx="98280" cy="93600"/>
          </a:xfrm>
          <a:custGeom>
            <a:avLst/>
            <a:gdLst/>
            <a:ahLst/>
            <a:rect l="l" t="t" r="r" b="b"/>
            <a:pathLst>
              <a:path w="185" h="179">
                <a:moveTo>
                  <a:pt x="93" y="0"/>
                </a:moveTo>
                <a:lnTo>
                  <a:pt x="185" y="90"/>
                </a:lnTo>
                <a:lnTo>
                  <a:pt x="93" y="179"/>
                </a:lnTo>
                <a:lnTo>
                  <a:pt x="0" y="90"/>
                </a:lnTo>
                <a:lnTo>
                  <a:pt x="9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56240" y="1595520"/>
            <a:ext cx="96840" cy="93600"/>
          </a:xfrm>
          <a:custGeom>
            <a:avLst/>
            <a:gdLst/>
            <a:ahLst/>
            <a:rect l="l" t="t" r="r" b="b"/>
            <a:pathLst>
              <a:path w="185" h="179">
                <a:moveTo>
                  <a:pt x="93" y="0"/>
                </a:moveTo>
                <a:lnTo>
                  <a:pt x="185" y="90"/>
                </a:lnTo>
                <a:lnTo>
                  <a:pt x="93" y="179"/>
                </a:lnTo>
                <a:lnTo>
                  <a:pt x="0" y="90"/>
                </a:lnTo>
                <a:lnTo>
                  <a:pt x="9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65800" y="1508040"/>
            <a:ext cx="98640" cy="93600"/>
          </a:xfrm>
          <a:custGeom>
            <a:avLst/>
            <a:gdLst/>
            <a:ahLst/>
            <a:rect l="l" t="t" r="r" b="b"/>
            <a:pathLst>
              <a:path w="185" h="179">
                <a:moveTo>
                  <a:pt x="92" y="0"/>
                </a:moveTo>
                <a:lnTo>
                  <a:pt x="185" y="90"/>
                </a:lnTo>
                <a:lnTo>
                  <a:pt x="92" y="179"/>
                </a:lnTo>
                <a:lnTo>
                  <a:pt x="0" y="90"/>
                </a:lnTo>
                <a:lnTo>
                  <a:pt x="92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91000" y="2709720"/>
            <a:ext cx="98640" cy="95400"/>
          </a:xfrm>
          <a:custGeom>
            <a:avLst/>
            <a:gdLst/>
            <a:ahLst/>
            <a:rect l="l" t="t" r="r" b="b"/>
            <a:pathLst>
              <a:path w="185" h="179">
                <a:moveTo>
                  <a:pt x="93" y="0"/>
                </a:moveTo>
                <a:lnTo>
                  <a:pt x="185" y="90"/>
                </a:lnTo>
                <a:lnTo>
                  <a:pt x="93" y="179"/>
                </a:lnTo>
                <a:lnTo>
                  <a:pt x="0" y="90"/>
                </a:lnTo>
                <a:lnTo>
                  <a:pt x="9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29280" y="1244520"/>
            <a:ext cx="96840" cy="95400"/>
          </a:xfrm>
          <a:custGeom>
            <a:avLst/>
            <a:gdLst/>
            <a:ahLst/>
            <a:rect l="l" t="t" r="r" b="b"/>
            <a:pathLst>
              <a:path w="185" h="179">
                <a:moveTo>
                  <a:pt x="92" y="0"/>
                </a:moveTo>
                <a:lnTo>
                  <a:pt x="185" y="89"/>
                </a:lnTo>
                <a:lnTo>
                  <a:pt x="92" y="179"/>
                </a:lnTo>
                <a:lnTo>
                  <a:pt x="0" y="89"/>
                </a:lnTo>
                <a:lnTo>
                  <a:pt x="92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19720" y="3322800"/>
            <a:ext cx="96840" cy="95040"/>
          </a:xfrm>
          <a:prstGeom prst="rect">
            <a:avLst/>
          </a:prstGeom>
          <a:solidFill>
            <a:srgbClr val="ff0000"/>
          </a:solidFill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80080" y="3286080"/>
            <a:ext cx="98280" cy="936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10160" y="1992240"/>
            <a:ext cx="96840" cy="954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35680" y="3701880"/>
            <a:ext cx="98280" cy="954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25760" y="3467160"/>
            <a:ext cx="98640" cy="9504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89240" y="4152960"/>
            <a:ext cx="98640" cy="9504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89240" y="3727440"/>
            <a:ext cx="98640" cy="954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25760" y="3300480"/>
            <a:ext cx="98640" cy="9504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89240" y="3727440"/>
            <a:ext cx="98640" cy="954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89240" y="3227400"/>
            <a:ext cx="98640" cy="936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99160" y="2454120"/>
            <a:ext cx="98280" cy="954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3600" y="4513320"/>
            <a:ext cx="98640" cy="936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16200" y="3708360"/>
            <a:ext cx="98640" cy="954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10160" y="2917800"/>
            <a:ext cx="96840" cy="954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92760" y="3056040"/>
            <a:ext cx="96840" cy="9504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1440" y="3903840"/>
            <a:ext cx="98640" cy="936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848120" y="1339560"/>
            <a:ext cx="2367000" cy="1622520"/>
          </a:xfrm>
          <a:prstGeom prst="line">
            <a:avLst/>
          </a:prstGeom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482920" y="2360160"/>
            <a:ext cx="4257720" cy="2374920"/>
          </a:xfrm>
          <a:prstGeom prst="line">
            <a:avLst/>
          </a:prstGeom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63280" y="526716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3280" y="462456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63280" y="398160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63280" y="333864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63280" y="26956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9880" y="205272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9880" y="140976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9880" y="76680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02760" y="56008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85360" y="56008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15040" y="560088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98000" y="560088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0600" y="560088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63200" y="560088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45800" y="560088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08960" y="5977080"/>
            <a:ext cx="185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ícuotas Gene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-1305000" y="2828520"/>
            <a:ext cx="350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audación de IVA / Consumo 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4520" y="6278400"/>
            <a:ext cx="7511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86120" y="6442200"/>
            <a:ext cx="96840" cy="91800"/>
          </a:xfrm>
          <a:custGeom>
            <a:avLst/>
            <a:gdLst/>
            <a:ahLst/>
            <a:rect l="l" t="t" r="r" b="b"/>
            <a:pathLst>
              <a:path w="181" h="174">
                <a:moveTo>
                  <a:pt x="91" y="0"/>
                </a:moveTo>
                <a:lnTo>
                  <a:pt x="181" y="87"/>
                </a:lnTo>
                <a:lnTo>
                  <a:pt x="91" y="174"/>
                </a:lnTo>
                <a:lnTo>
                  <a:pt x="0" y="87"/>
                </a:lnTo>
                <a:lnTo>
                  <a:pt x="91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65760" y="6402240"/>
            <a:ext cx="92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ón Europ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67560" y="6442200"/>
            <a:ext cx="95040" cy="918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960" y="6402240"/>
            <a:ext cx="87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noamér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1320" y="3397320"/>
            <a:ext cx="555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57320" y="3416400"/>
            <a:ext cx="29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Arg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00"/>
                </a:solidFill>
                <a:latin typeface="Times New Roman"/>
              </a:rPr>
              <a:t>El sistema tributario debería: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5562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2276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Distorsionar lo menos posible la asignación de recur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Ayudar a mejorar la distribución del ingreso en conjunto con la política de ga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Ser simple, tanto para la DGI como para el contribuy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Ser predec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PERO ESTOS OBJETIVOS COLISIONAN ENTRE S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Además, se deben contemplar las particularidades de cada país (informalidad, nivel de ahorro, desemple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aca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tividad del IV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9067680" cy="6095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048120" y="2819520"/>
            <a:ext cx="304560" cy="15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1905120"/>
            <a:ext cx="304560" cy="15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152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rticipación del IVA en la recaudación to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iste una relación entre estructura tributaria y nivel de desarrollo económico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íses menos desarrollados tienden a basar su recaudación 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uesto a las ganancias corporativas más que pers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anceles (economías más cerrad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uestos al consum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uesto inflaciona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íses más desarrollados tienden a utilizar en mayor medida el impuesto a la renta pers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embargo, las diferencias son mayormente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uncionamient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 no de diseñ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ón: países menos desarrollados estructuras tributarias más “ineficientes” (¿qué causa qué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- FIEL 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762120" y="1066680"/>
          <a:ext cx="7686720" cy="52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8672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019920" y="1981080"/>
            <a:ext cx="1143000" cy="198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22096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erencia de 12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763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demás, la presión tributaria del sector formal es mayor. Ejemplo de Argent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tor informal: 40% de la economía de Negocios (estimación FI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380880" y="685800"/>
          <a:ext cx="8534520" cy="258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534520" cy="25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0" y="3886200"/>
          <a:ext cx="9601200" cy="1930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86200"/>
                    <a:ext cx="960120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1600200" y="304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stamos Comparand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33526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s Diferencias se deben Principalmente 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00"/>
                </a:solidFill>
                <a:latin typeface="Times New Roman"/>
              </a:rPr>
              <a:t>La economía política de la reforma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5562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814"/>
              </a:spcBef>
              <a:spcAft>
                <a:spcPts val="814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imes New Roman"/>
              </a:rPr>
              <a:t>Es necesario reformar el sistema tributari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814"/>
              </a:spcBef>
              <a:spcAft>
                <a:spcPts val="814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imes New Roman"/>
              </a:rPr>
              <a:t>Trabajo reciente del BID (Stein et al, 2006) argumenta que reformas tributarias son difíciles de concretar porqu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814"/>
              </a:spcBef>
              <a:spcAft>
                <a:spcPts val="814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imes New Roman"/>
              </a:rPr>
              <a:t>Muchos actores afectados por los impuestos hacen que acuerdos cooperativos sean difíci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814"/>
              </a:spcBef>
              <a:spcAft>
                <a:spcPts val="814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imes New Roman"/>
              </a:rPr>
              <a:t>Incentivos a comportamiento oportunista (evado/eludo igual accedo a los beneficios del gasto público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814"/>
              </a:spcBef>
              <a:spcAft>
                <a:spcPts val="814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imes New Roman"/>
              </a:rPr>
              <a:t>Eficacia depende también de la agencia recaudadora; no sólo del diseño del sistema tributari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814"/>
              </a:spcBef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00"/>
                </a:solidFill>
                <a:latin typeface="Times New Roman"/>
              </a:rPr>
              <a:t>La economía política de la reforma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5562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814"/>
              </a:spcBef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imes New Roman"/>
              </a:rPr>
              <a:t>Per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814"/>
              </a:spcBef>
              <a:spcAft>
                <a:spcPts val="814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imes New Roman"/>
              </a:rPr>
              <a:t>IVA ha reemplazado a impuestos a las ventas en cascad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814"/>
              </a:spcBef>
              <a:spcAft>
                <a:spcPts val="814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imes New Roman"/>
              </a:rPr>
              <a:t>Globalización puso límites a las tasas que se pueden cobrar, lo que obligó a ampliar las bases imponib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814"/>
              </a:spcBef>
              <a:spcAft>
                <a:spcPts val="814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imes New Roman"/>
              </a:rPr>
              <a:t>Sistema tributario es visib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814"/>
              </a:spcBef>
              <a:spcAft>
                <a:spcPts val="814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imes New Roman"/>
              </a:rPr>
              <a:t>Los que pagan son grupo de presión activ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814"/>
              </a:spcBef>
              <a:spcAft>
                <a:spcPts val="814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imes New Roman"/>
              </a:rPr>
              <a:t>Reforma tributaria no requiere gran número de profesionales en el Estado para hacerl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814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209680" y="380880"/>
            <a:ext cx="119376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00"/>
                </a:solidFill>
                <a:latin typeface="Times New Roman"/>
              </a:rPr>
              <a:t>La política tributaria en países emergentes</a:t>
            </a:r>
            <a:br>
              <a:rPr sz="3800"/>
            </a:br>
            <a:br>
              <a:rPr sz="3800"/>
            </a:b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Daniel Artana Ph. D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52578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 Congreso Tributa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ejo Profesional de Ciencias Económicas C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 del Plata, 6 de octubre de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662280" y="442800"/>
          <a:ext cx="3127320" cy="125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62280" y="442800"/>
                    <a:ext cx="312732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00"/>
                </a:solidFill>
                <a:latin typeface="Times New Roman"/>
              </a:rPr>
              <a:t>¿Algunos consensos profesionales?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5562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2276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IVA generalizado con pocas exenciones y alícuota unifor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2276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Impuestos al consumo adicionales para gravar “mal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2276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Impuesto a las ganancias de las personas provee la progresividad, con alícuota marginal máxima alineada con la tasa del impuesto a las ganancias de las empresas, con pocas exen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2276"/>
              </a:spcBef>
              <a:spcAft>
                <a:spcPts val="12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Menos consenso sobre cómo gravar a las ganancias de capital y a los ingresos del traba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76"/>
              </a:spcBef>
              <a:spcAft>
                <a:spcPts val="12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endencias recientes en el mund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ás énfasis en eficiencia que en equ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nque: se ha sacrificado eficiencia por viabilidad administrativa e institucional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sfuerzos por simplificar el sistema tribut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925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VA: principal impuesto al consumo, importancia creciente en el mund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- FIEL 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00"/>
                </a:solidFill>
                <a:latin typeface="Times New Roman"/>
              </a:rPr>
              <a:t>Tasa del IVA (promedio por región)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458200" cy="3535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4400" y="5257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278320"/>
            <a:ext cx="914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sa promedio LATAM pasó del 12% en 1975 al 15% en 2003/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00"/>
                </a:solidFill>
                <a:latin typeface="Times New Roman"/>
              </a:rPr>
              <a:t>Impuesto a las ganancia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990720"/>
          <a:ext cx="8458200" cy="240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45820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28600" y="3505320"/>
            <a:ext cx="87631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mpuesto a las ganancias desde 0.5 PBI per cápita en EEUU y Europa. En Latinoamérica desde 2 ó 3 PBI per cápi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tasa marginal máxima en Latinoamérica se redujo de 49% en 1986 a 28% en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tasa del impuesto a las ganancias de las empresas en Latinomérica se redujo de 41% en 1986 a 28% en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endencia similar en los países desarroll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asa marginal máxima impuesto a las ganancias de las personas en los países de la OEC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314360"/>
            <a:ext cx="822960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vergencia en la tasa impuesto a las ganancias de las empresa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5700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38080" y="1371600"/>
            <a:ext cx="685800" cy="3505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34520" y="2971800"/>
            <a:ext cx="228600" cy="1219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001000" cy="6188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15:04:00Z</dcterms:created>
  <dc:creator>Fiel</dc:creator>
  <dc:description/>
  <dc:language>en-US</dc:language>
  <cp:lastModifiedBy>artana</cp:lastModifiedBy>
  <dcterms:modified xsi:type="dcterms:W3CDTF">2006-10-02T19:33:29Z</dcterms:modified>
  <cp:revision>68</cp:revision>
  <dc:subject/>
  <dc:title>Costos de Cumplimiento</dc:title>
</cp:coreProperties>
</file>